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9.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1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move the slide</a:t>
            </a:r>
            <a:endParaRPr b="0" lang="en-US" sz="3600" spc="-1" strike="noStrike">
              <a:solidFill>
                <a:srgbClr val="222222"/>
              </a:solidFill>
              <a:latin typeface="Arial"/>
            </a:endParaRPr>
          </a:p>
        </p:txBody>
      </p:sp>
      <p:sp>
        <p:nvSpPr>
          <p:cNvPr id="27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14"/>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1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D396-4AB7-4D69-B419-78216EB0B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FA45-3910-43CA-8DB2-3A5C5BDF3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2857680" y="514440"/>
            <a:ext cx="3429000" cy="2571840"/>
          </a:xfrm>
          <a:prstGeom prst="rect">
            <a:avLst/>
          </a:prstGeom>
          <a:ln w="0">
            <a:noFill/>
          </a:ln>
        </p:spPr>
      </p:sp>
      <p:sp>
        <p:nvSpPr>
          <p:cNvPr id="50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3C16E88-C7A0-4F5E-9E66-FB7BEB0F59B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9"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reats to Information 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make sound decisions about information security, create policies, and enforce them, management must be informed of the various kinds of threats facing the organization, its applications, data and information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threat is an object, person, or other entity that represents a constant danger to an ass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better understand the numerous threats facing the organization, a categorization scheme has been developed allowing us to group threats by their respective activ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verall security is improving according to surve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2009 Computer Security Institute/Federal Bureau of Investigation (CSI/FBI) survey on Computer Crime and Security Survey found:</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US" sz="1200" spc="-1" strike="noStrike">
                <a:solidFill>
                  <a:srgbClr val="000000"/>
                </a:solidFill>
                <a:latin typeface="Calibri"/>
                <a:ea typeface="Lucida Sans Unicode"/>
              </a:rPr>
              <a:t>64 percent of organizations had malware infection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14 percent indicated system penetration by an outsider</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CD1749C-20B8-408B-BC60-6E8F6B2492D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2"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1"/>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Lucida Sans Unicod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9B7AEAF-C84F-4CDC-9A9B-828C6F81113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5"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1"/>
          <p:cNvSpPr>
            <a:spLocks noGrp="1"/>
          </p:cNvSpPr>
          <p:nvPr>
            <p:ph type="body"/>
          </p:nvPr>
        </p:nvSpPr>
        <p:spPr>
          <a:xfrm>
            <a:off x="1219320" y="3257640"/>
            <a:ext cx="6705360" cy="3192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ompromises to Intellectual Prop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y organizations create or support the development of intellectual property as part of their business ope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tellectual property is defined as “the ownership of ideas and control over the tangible or virtual representation of those id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tellectual property for an organization includes trade secrets, copyrights, trademarks, and pat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nce intellectual property (IP) has been defined and properly identified, breaches to IP constitute a threat to the security of this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ost common IP breaches involve the unlawful use or duplication of software-based intellectual property, known as software pira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addition to the laws surrounding software piracy, two watchdog organizations investigate allegations of software abuse: Software &amp; Information Industry Association (SIIA), formerly the Software Publishers Association, and the Business Software Alliance (B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nforcement of copyright violations, piracy, and the like has been attempted through a number of technical security mechanisms, including digital watermarks, embedded co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B600B93-7466-486A-B276-C4572736203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8"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1"/>
          <p:cNvSpPr>
            <a:spLocks noGrp="1"/>
          </p:cNvSpPr>
          <p:nvPr>
            <p:ph type="body"/>
          </p:nvPr>
        </p:nvSpPr>
        <p:spPr>
          <a:xfrm>
            <a:off x="1219320" y="3257280"/>
            <a:ext cx="6705360" cy="686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Software Att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eliberate software attacks occur when an individual or group designs software to attack an unsuspecting system. Most of this software is referred to as malicious code or malicious software, or sometimes mal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software components or programs are designed to damage, destroy, or deny service to the target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me of the more common instances of malicious code are viruses and worms, Trojan horses, logic bombs, back doors, and denial-of-services att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mputer viruses are segments of code that perform malicious a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ode behaves very much like a virus pathogen attacking animals and plants, using the cell’s own replication machinery to propagate and att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de attaches itself to the existing program and takes control of that program’s access to the targeted compu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virus-controlled target program then carries out the virus’s plan by replicating itself into additional targeted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macro virus is embedded in the automatically executing macro code, common in office productivity software like word processors, spread sheets, and database appli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boot virus infects the key operating systems files located in a computer’s boot se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orms - Malicious programs that replicate themselves constantly without requiring another program to provide a safe environment for replication. Worms can continue replicating themselves until they completely fill available resources, such as memory, hard drive space, and network bandwid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rojan horses - Software programs that hide their true nature and reveal their designed </a:t>
            </a:r>
            <a:r>
              <a:rPr b="0" lang="en-US" sz="1200" spc="-1" strike="noStrike">
                <a:solidFill>
                  <a:srgbClr val="000000"/>
                </a:solidFill>
                <a:latin typeface="Calibri"/>
                <a:ea typeface="Lucida Sans Unicode"/>
              </a:rPr>
              <a:t>behavior</a:t>
            </a:r>
            <a:r>
              <a:rPr b="0" lang="en-GB" sz="1200" spc="-1" strike="noStrike">
                <a:solidFill>
                  <a:srgbClr val="000000"/>
                </a:solidFill>
                <a:latin typeface="Calibri"/>
                <a:ea typeface="Lucida Sans Unicode"/>
              </a:rPr>
              <a:t> only when activated. Trojan horses are frequently disguised as helpful, interesting, or necessary pieces of software, such as readme.exe files often included with shareware or freeware pack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ack door or Trap door - A virus or worm can have a payload that installs a back door or trap door component in a system. This allows the attacker to access the system at will with special privile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olymorphism - A threat that changes its apparent shape over time, representing a new threat not detectable by techniques that are looking for a preconfigured signature. These threats actually evolve, changing their size and appearance to elude detection by antivirus software programs, making detection more of a chall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Virus and Worm Hoaxes - As frustrating as viruses and worms are, perhaps more time and money is spent on resolving virus hoaxes. Well-meaning people spread the viruses and worms when they send e-mails warning of fictitious or virus laden thr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579A16C-BB44-4298-A74F-ED5138D0FDD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2857680" y="514440"/>
            <a:ext cx="3429000" cy="2571840"/>
          </a:xfrm>
          <a:prstGeom prst="rect">
            <a:avLst/>
          </a:prstGeom>
          <a:ln w="0">
            <a:noFill/>
          </a:ln>
        </p:spPr>
      </p:sp>
      <p:sp>
        <p:nvSpPr>
          <p:cNvPr id="542"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6B2978A-D0AD-4056-9594-7778611F461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4"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otential Deviations in Quality of Service by Service Provi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ategory represents situations in which a product or services are not delivered to the organization as exp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organization’s information system depends on the successful operation of many interdependent support systems including power grids, telecom networks, parts suppliers, service vendors, and even the janitorial staff and garbage haul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ternet service, communications, and power irregularities are three sets of service issues that dramatically affect the availability of information and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2857680" y="514440"/>
            <a:ext cx="3429000" cy="2571840"/>
          </a:xfrm>
          <a:prstGeom prst="rect">
            <a:avLst/>
          </a:prstGeom>
          <a:ln w="0">
            <a:noFill/>
          </a:ln>
        </p:spPr>
      </p:sp>
      <p:sp>
        <p:nvSpPr>
          <p:cNvPr id="54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ternet Service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or organizations that rely heavily on the Internet and the Web to support continued operations, the threat of the potential loss of Internet service can lead to considerable loss in the availability of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y organizations have sales staff and telecommuters working at remote lo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an organization places its Web servers in the care of a Web hosting provider, that outsourcer assumes responsibility for all Internet services as well as for the hardware and operating system software used to operate the Web s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ommunications and Other Service Provider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ther utility services can impact organizations as we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mong these are telephone, water, wastewater, trash pickup, cable television, natural or propane gas, and custodial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hreat of loss of these services can lead to the inability of an organization to function proper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91619-B790-41DC-82A5-8A08C2B82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A1B3DCF-1A90-4FA0-A0E9-20842464F55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0"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ower Irregula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hreat of irregularities from power utilities is common and can lead to fluctuations such as power excesses, power shortages, and power los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U.S., buildings are “fed” 120-volt, 60-cycle power usually through 15 and 20 amp circui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Voltage levels  can:</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spike – momentary increase or surge – prolonged increase</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sag – momentary low voltage, or brownout – prolonged drop</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fault – momentary loss of power, or blackout – prolonged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ince sensitive electronic equipment, especially networking equipment, computers, and computer-based systems are susceptible to fluctuations, controls can be applied to manage power qu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C760931-3086-4F79-A20B-3DB1AEB09DF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3"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PlaceHolder 1"/>
          <p:cNvSpPr>
            <a:spLocks noGrp="1"/>
          </p:cNvSpPr>
          <p:nvPr>
            <p:ph type="body"/>
          </p:nvPr>
        </p:nvSpPr>
        <p:spPr>
          <a:xfrm>
            <a:off x="1219320" y="3257280"/>
            <a:ext cx="6705360" cy="4290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Espionage or Tresp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threat represents a well-known and broad category of electronic and human activities that breach the confidentiality of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an unauthorized individual gains access to the information an organization is trying to protect, that act is categorized as a deliberate act of espionage or tresp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information gatherers employ techniques that cross the threshold of what is legal and/or ethical, they enter the world of industrial espion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stances of shoulder surfing occur at computer terminals, desks, ATM machines, public phones, or other places where a person is accessing confidential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hreat of trespass can lead to unauthorized real or virtual actions that enable information gatherers to enter premises or systems they have not been authorized to 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ntrols are sometimes implemented to mark the boundaries of an organization’s virtual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boundaries give notice to trespassers that they are encroaching on the organization’s cyber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lassic perpetrator of deliberate acts of espionage or trespass is the hac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gritty world of reality, a hacker uses skill, guile, or fraud to attempt to bypass the controls placed around information that is the property of someone else. The hacker frequently spends long hours examining the types and structures of the targeted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98BAA1A-BA33-455A-BD4A-3337020A141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05"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pon completion of this chapter, you should be able to:</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Understand the business need for information security</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Understand a successful information security program is the responsibility of an organization’s general management and IT management</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Understand the threats posed to information security and the more common attacks associated with those thr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2902493-F201-4786-9F4D-AD23F516514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2857680" y="514440"/>
            <a:ext cx="3429000" cy="2571840"/>
          </a:xfrm>
          <a:prstGeom prst="rect">
            <a:avLst/>
          </a:prstGeom>
          <a:ln w="0">
            <a:noFill/>
          </a:ln>
        </p:spPr>
      </p:sp>
      <p:sp>
        <p:nvSpPr>
          <p:cNvPr id="557"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2D3C2A8-70BA-420B-994C-6EF949D2933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2857680" y="514440"/>
            <a:ext cx="3429000" cy="2571840"/>
          </a:xfrm>
          <a:prstGeom prst="rect">
            <a:avLst/>
          </a:prstGeom>
          <a:ln w="0">
            <a:noFill/>
          </a:ln>
        </p:spPr>
      </p:sp>
      <p:sp>
        <p:nvSpPr>
          <p:cNvPr id="560"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2A98AA7-BEF2-498B-92C5-AC69AD66A34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62"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body"/>
          </p:nvPr>
        </p:nvSpPr>
        <p:spPr>
          <a:xfrm>
            <a:off x="1219320" y="3257640"/>
            <a:ext cx="6705360" cy="4024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Espionage or Trespas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generally two skill levels among hack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irst is the expert hacker, who develops software scripts and codes exploits used by the second category, the novice, or unskilled hac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expert hacker is usually a master of several programming languages, networking protocols, and operating systems and also exhibits a mastery of the technical environment of the chosen target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However, expert hackers have now become bored with directly attacking systems and have turned to writing soft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oftware they are writing are automated exploits that allow novice hackers to become script kiddies, hackers of limited skill who use expert-written software to exploit a system but do not fully understand or appreciate the systems they h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a result of preparation and continued vigilance, attacks conducted by scripts are usually predictable and can be adequately defended again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other terms for system rule brea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erm cracker is now commonly associated with an individual who “cracks” or removes the software protection from an application designed to prevent unauthorized dupl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phreaker hacks the public telephone network to make free calls, disrupt services, and generally wreak havo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B9C2D14-C00C-44AC-BC28-406A272FD18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65"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1"/>
          <p:cNvSpPr>
            <a:spLocks noGrp="1"/>
          </p:cNvSpPr>
          <p:nvPr>
            <p:ph type="body"/>
          </p:nvPr>
        </p:nvSpPr>
        <p:spPr>
          <a:xfrm>
            <a:off x="1219320" y="3257640"/>
            <a:ext cx="6705360" cy="4024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Espionage or Trespas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generally two skill levels among hack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irst is the expert hacker, who develops software scripts and codes exploits used by the second category, the novice, or unskilled hac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expert hacker is usually a master of several programming languages, networking protocols, and operating systems and also exhibits a mastery of the technical environment of the chosen target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However, expert hackers have now become bored with directly attacking systems and have turned to writing soft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oftware they are writing are automated exploits that allow novice hackers to become script kiddies, hackers of limited skill who use expert-written software to exploit a system but do not fully understand or appreciate the systems they h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a result of preparation and continued vigilance, attacks conducted by scripts are usually predictable and can be adequately defended again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other terms for system rule brea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erm cracker is now commonly associated with an individual who “cracks” or removes the software protection from an application designed to prevent unauthorized dupl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phreaker hacks the public telephone network to make free calls, disrupt services, and generally wreak hav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861EB11-9376-4E5C-A685-93F666F1311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68"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Forces of Na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orces of nature, force majeure, or acts of God pose the most dangerous threats, because they are unexpected and can occur with very little war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threats can disrupt not only the lives of individuals, but also the storage, transmission, and use of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include fire, flood, earthquake, lightning, landslide or mudslide, tornado or severe windstorm, hurricane or typhoon, tsunami, electrostatic discharge, and dust contamin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ince it is not possible to avoid many of these threats, management must implement controls to limit damage and also prepare contingency plans for continued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81383DF-D071-465E-ABE3-5D1262AD142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71"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otential Acts of Human Error or Fail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ategory includes the possibility of acts performed without intent or malicious purpose by an individual who is an employee of an organiz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experience, improper training, the making of incorrect assumptions, and other circumstances can cause probl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mployees constitute one of the greatest threats to information security, as the individuals closest to the organizational d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mployee mistakes can easily lead to the following: revelation of classified data, entry of erroneous data, accidental deletion or modification of data, storage of data in unprotected areas, and failure to protect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y threats can be prevented with controls, ranging from simple procedures, such as requiring the user to type a critical command twice, to more complex procedures, such as the verification of commands by a second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281B6A5-110A-42C6-A1E7-6B130F0363D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74"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1"/>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Lucida Sans Unicod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6020063-7FC7-4488-B224-884E785AC9D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2857680" y="514440"/>
            <a:ext cx="3429000" cy="2571840"/>
          </a:xfrm>
          <a:prstGeom prst="rect">
            <a:avLst/>
          </a:prstGeom>
          <a:ln w="0">
            <a:noFill/>
          </a:ln>
        </p:spPr>
      </p:sp>
      <p:sp>
        <p:nvSpPr>
          <p:cNvPr id="578"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CD6869E-6337-440D-88AA-6AD32EB7995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80"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Information Extor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hreat of information extortion is the possibility of an attacker or formerly trusted insider stealing information from a computer system and demanding compensation for its return or for an agreement to not disclose th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xtortion is common in credit card number thef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2857680" y="514440"/>
            <a:ext cx="3429000" cy="2571840"/>
          </a:xfrm>
          <a:prstGeom prst="rect">
            <a:avLst/>
          </a:prstGeom>
          <a:ln w="0">
            <a:noFill/>
          </a:ln>
        </p:spPr>
      </p:sp>
      <p:sp>
        <p:nvSpPr>
          <p:cNvPr id="58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issing, Inadequate, or In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ng, inadequate, or incomplete organizational policy or planning makes an organization vulnerable to loss, damage, or disclosure of information assets when other threats lead to attacks. Information security is, at its core, a management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ng, inadequate, or incomplete controls—that is, security safeguards and information asset protection controls that are missing, misconfigured, antiquated, or poorly designed or managed—make an organization more likely to suffer losses when other threats lead to attacks.</a:t>
            </a:r>
            <a:endParaRPr b="0" lang="en-US" sz="1200" spc="-1" strike="noStrike">
              <a:solidFill>
                <a:srgbClr val="000000"/>
              </a:solidFill>
              <a:latin typeface="Calibri"/>
            </a:endParaRPr>
          </a:p>
        </p:txBody>
      </p:sp>
      <p:sp>
        <p:nvSpPr>
          <p:cNvPr id="58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40CEB-D333-47E3-A940-229F255E1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2857680" y="514440"/>
            <a:ext cx="3429000" cy="2571840"/>
          </a:xfrm>
          <a:prstGeom prst="rect">
            <a:avLst/>
          </a:prstGeom>
          <a:ln w="0">
            <a:noFill/>
          </a:ln>
        </p:spPr>
      </p:sp>
      <p:sp>
        <p:nvSpPr>
          <p:cNvPr id="508" name="PlaceHolder 2"/>
          <p:cNvSpPr>
            <a:spLocks noGrp="1"/>
          </p:cNvSpPr>
          <p:nvPr>
            <p:ph type="body"/>
          </p:nvPr>
        </p:nvSpPr>
        <p:spPr>
          <a:xfrm>
            <a:off x="914400" y="3257640"/>
            <a:ext cx="7315200" cy="3085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Differentiate threats to information systems from attacks against information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E5CC-AD9A-4CD7-8FCC-BBABF5626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1B282A5-1C4F-4FAE-8172-5C04495BF40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86"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Sabotage or Vandal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qually popular today is the assault on the electronic face of an organization, its Web s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is category of threat involves the deliberate sabotage of a computer system or business, or acts of vandalism to either destroy an asset or damage the image of an organization.</a:t>
            </a:r>
            <a:r>
              <a:rPr b="0" lang="en-GB" sz="1200" spc="-1" strike="noStrike">
                <a:solidFill>
                  <a:srgbClr val="000000"/>
                </a:solidFill>
                <a:latin typeface="Calibri"/>
                <a:ea typeface="Lucida Sans Unicode"/>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threats can range from petty vandalism by employees to organized sabotage against an organiz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rganizations frequently rely on image to support the generation of revenue, so if an organization’s Web site is defaced, a drop in consumer confidence is probable, reducing the organization’s sales and net wo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mpared to Web site defacement, vandalism within a network is more malicious in intent and less pub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day, security experts are noticing a rise in another form of online vandalism in what are described as hacktivist or cyberactivist operations. A more extreme version is referred to as cyberterror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367E1B4-BEA6-4105-8EBC-19FC58D5132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2857680" y="514440"/>
            <a:ext cx="3429000" cy="2571840"/>
          </a:xfrm>
          <a:prstGeom prst="rect">
            <a:avLst/>
          </a:prstGeom>
          <a:ln w="0">
            <a:noFill/>
          </a:ln>
        </p:spPr>
      </p:sp>
      <p:sp>
        <p:nvSpPr>
          <p:cNvPr id="590"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7201C3A-1861-45E8-B9B4-7F60A5E4881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92"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Th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ft is the illegal taking of another’s property. Within an organization, that property can be physical, electronic, or intellec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value of information suffers when it is copied and taken away without the owner’s knowled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hysical theft can be controlled quite easily. A wide variety of measures can be used from simple locked doors to trained security personnel and the installation of alarm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lectronic theft, however, is a more complex problem to manage and control.  Organizations may not even know it has occur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4205CD1-3E6A-43B9-BB64-97CEAAE443D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95"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echnical Hardware Failures or E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echnical hardware failures or errors occur when a manufacturer distributes to users equipment containing a known or unknown fla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defects can cause the system to perform outside of expected parameters, resulting in unreliable service or lack of avail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me errors are terminal, in that they result in the unrecoverable loss of the equipment. Some errors are intermittent, in that they only periodically manifest themselves, resulting in faults that are not easily repe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F2A9D53-703C-4AAB-9723-9491E789D75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98"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echnical Software Failures or E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ategory of threats comes from purchasing software with unknown, hidden faul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Large quantities of computer code are written, debugged, published, and sold only to determine that not all bugs were resol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metimes, unique combinations of certain software and hardware reveal new bu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metimes, these items aren’t errors but are purposeful shortcuts left by programmers for honest or dishonest reas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24FDB54-744B-4D62-9D87-E63D3B10824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01"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echnological Obsolesc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the infrastructure becomes antiquated or outdated, it leads to unreliable and untrustworthy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agement must recognize that when technology becomes outdated, there is a risk of loss of data integrity to threats and atta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deally, proper planning by management should prevent the risks from technology obsolesce, but when obsolescence is identified, management must take immediate a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B09115C-82A2-47C6-98DC-53591A62B99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04"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attack is the deliberate act that exploits vulner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is accomplished by a threat agent to damage or steal an organization’s information or physical ass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exploit is a technique to compromise a system. Vulnerability is an identified weakness of a controlled system whose controls are not present or are no longer effective. An attack is then the use of an exploit to achieve the compromise of a controll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Malicious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kind of attack includes the execution of viruses, worms, Trojan horses, and active Web scripts with the intent to destroy or steal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tate of the art in attacking systems in 2002 is the multivector w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attack programs use up to six known attack vectors to exploit a variety of vulnerabilities in commonly found information system de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BF92976-F945-4AF4-A6D2-00EC70585B1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2857680" y="514440"/>
            <a:ext cx="3429000" cy="2571840"/>
          </a:xfrm>
          <a:prstGeom prst="rect">
            <a:avLst/>
          </a:prstGeom>
          <a:ln w="0">
            <a:noFill/>
          </a:ln>
        </p:spPr>
      </p:sp>
      <p:sp>
        <p:nvSpPr>
          <p:cNvPr id="608"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8464021-DA60-471C-B500-F6D6E3A85B5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10"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 Descri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ack Doors - Using a known or previously unknown and newly discovered access mechanism, an attacker can gain access to a system or network re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assword Crack - Attempting to reverse calculate a passw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rute Force - The application of computing and network resources to try every possible combination of options of a passw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ictionary - The dictionary password attack narrows the field by selecting specific accounts to attack and uses a list of commonly used passwords (the dictionary) to guess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B916471-AF59-41D9-8BEF-5FE5F4D0F40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13"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 Description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enial-of-Service (DoS) - The attacker sends a large number of connection or information requests to a target. So many requests are made that the target system cannot handle them successfully along with other, legitimate requests for service. This may result in a system crash or merely an inability to perform ordinary fun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istributed Denial-of-Service (DDoS) - An attack in which a coordinated stream of requests is launched against a target from many locations at the same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B56DA4E-D696-4B42-B01F-5138D34E05E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1"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formation security is unlike any other aspect of information technology. It is an arena where the primary mission is to ensure things stay the way they 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f there were no threats to information and systems, we could focus on improving systems that support the information, resulting in vast improvements in ease of use and useful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irst phase, investigation, provides an overview of the environment in which security must operate and the problems that security must addr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1A811A8-39AC-4EE7-9504-8E66200B945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2857680" y="514440"/>
            <a:ext cx="3429000" cy="2571840"/>
          </a:xfrm>
          <a:prstGeom prst="rect">
            <a:avLst/>
          </a:prstGeom>
          <a:ln w="0">
            <a:noFill/>
          </a:ln>
        </p:spPr>
      </p:sp>
      <p:sp>
        <p:nvSpPr>
          <p:cNvPr id="617"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99FEF08-2A04-42CA-8F25-8915C0AB821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19"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 Description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poofing - A technique used to gain unauthorized access to computers, whereby the intruder sends messages to a computer with an IP address indicating that the message is coming from a trusted h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in-the-Middle - In the man-in-the-middle or TCP hijacking attack, an attacker sniffs packets from the network, modifies them, and inserts them back into the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pam - Unsolicited commercial e-mail. While many consider spam a nuisance rather than an attack, it is emerging as a vector for some atta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il Bombing - Another form of e-mail attack that is also a DoS, in which an attacker routes large quantities of e-mail to the target.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B2D57DB-F36B-4E77-9003-9F948FB5AA7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2857680" y="514440"/>
            <a:ext cx="3429000" cy="2571840"/>
          </a:xfrm>
          <a:prstGeom prst="rect">
            <a:avLst/>
          </a:prstGeom>
          <a:ln w="0">
            <a:noFill/>
          </a:ln>
        </p:spPr>
      </p:sp>
      <p:sp>
        <p:nvSpPr>
          <p:cNvPr id="623"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9DBB417-C13B-4998-AA06-FE508B3B336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2857680" y="514440"/>
            <a:ext cx="3429000" cy="2571840"/>
          </a:xfrm>
          <a:prstGeom prst="rect">
            <a:avLst/>
          </a:prstGeom>
          <a:ln w="0">
            <a:noFill/>
          </a:ln>
        </p:spPr>
      </p:sp>
      <p:sp>
        <p:nvSpPr>
          <p:cNvPr id="626"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7989655-D7C9-4441-8B56-6B29A6C4F4A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28"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 Description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niffers - A program and/or device that can monitor data travelling over a network. Sniffers can be used both for legitimate network management functions and for stealing information from a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hishing - A</a:t>
            </a:r>
            <a:r>
              <a:rPr b="0" lang="en-US" sz="1200" spc="-1" strike="noStrike">
                <a:solidFill>
                  <a:srgbClr val="000000"/>
                </a:solidFill>
                <a:latin typeface="Calibri"/>
                <a:ea typeface="Lucida Sans Unicode"/>
              </a:rPr>
              <a:t>n attempt to gain personal or financial information from an individual, usually by posing as a legitimate e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Pharming – “The redirection of legitimate Web traffic (e.g., browser requests) to an illegitimate site for the purpose of obtaining privat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4AC40A5-6551-4B6D-A424-C18E0548B59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2857680" y="514440"/>
            <a:ext cx="3429000" cy="2571840"/>
          </a:xfrm>
          <a:prstGeom prst="rect">
            <a:avLst/>
          </a:prstGeom>
          <a:ln w="0">
            <a:noFill/>
          </a:ln>
        </p:spPr>
      </p:sp>
      <p:sp>
        <p:nvSpPr>
          <p:cNvPr id="632"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DB60612-BE43-4034-8753-1FF25786DDA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34"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 Description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cial Engineering - Within the context of information security, the process of using social skills to convince people to reveal access credentials or other valuable information to the attac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a:r>
            <a:r>
              <a:rPr b="0" lang="en-GB" sz="1200" spc="-1" strike="noStrike">
                <a:solidFill>
                  <a:srgbClr val="000000"/>
                </a:solidFill>
                <a:latin typeface="Calibri"/>
                <a:ea typeface="Lucida Sans Unicode"/>
              </a:rPr>
              <a:t>People are the weakest link. You can have the best technology; firewalls, intrusion-detection systems, biometric devices...and somebody can call an unsuspecting employee. That's all she wrote, baby. They got everyth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iming Attack - Relatively new, works by exploring the contents of a Web browser’s cache. This could allow the designer to collect information to access to password-protected sites. Another attack by the same name involves attempting to intercept cryptographic elements to determine keys and encryption algorith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244AB81-9C10-417B-898E-3A1A2864C36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2857680" y="514440"/>
            <a:ext cx="3429000" cy="2571840"/>
          </a:xfrm>
          <a:prstGeom prst="rect">
            <a:avLst/>
          </a:prstGeom>
          <a:ln w="0">
            <a:noFill/>
          </a:ln>
        </p:spPr>
      </p:sp>
      <p:sp>
        <p:nvSpPr>
          <p:cNvPr id="638" name="PlaceHolder 2"/>
          <p:cNvSpPr>
            <a:spLocks noGrp="1"/>
          </p:cNvSpPr>
          <p:nvPr>
            <p:ph type="body"/>
          </p:nvPr>
        </p:nvSpPr>
        <p:spPr>
          <a:xfrm>
            <a:off x="1219320" y="3257280"/>
            <a:ext cx="6705360" cy="3019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DA110F8-C246-49B8-8113-D40A44F3216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2857680" y="514440"/>
            <a:ext cx="3429000" cy="2571840"/>
          </a:xfrm>
          <a:prstGeom prst="rect">
            <a:avLst/>
          </a:prstGeom>
          <a:ln w="0">
            <a:noFill/>
          </a:ln>
        </p:spPr>
      </p:sp>
      <p:sp>
        <p:nvSpPr>
          <p:cNvPr id="641" name="PlaceHolder 2"/>
          <p:cNvSpPr>
            <a:spLocks noGrp="1"/>
          </p:cNvSpPr>
          <p:nvPr>
            <p:ph type="body"/>
          </p:nvPr>
        </p:nvSpPr>
        <p:spPr>
          <a:xfrm>
            <a:off x="1219320" y="3257280"/>
            <a:ext cx="6705360" cy="3019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3E5C841-FA9F-463D-857F-870EF29B38D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2857680" y="514440"/>
            <a:ext cx="3429000" cy="2571840"/>
          </a:xfrm>
          <a:prstGeom prst="rect">
            <a:avLst/>
          </a:prstGeom>
          <a:ln w="0">
            <a:noFill/>
          </a:ln>
        </p:spPr>
      </p:sp>
      <p:sp>
        <p:nvSpPr>
          <p:cNvPr id="644" name="PlaceHolder 2"/>
          <p:cNvSpPr>
            <a:spLocks noGrp="1"/>
          </p:cNvSpPr>
          <p:nvPr>
            <p:ph type="body"/>
          </p:nvPr>
        </p:nvSpPr>
        <p:spPr>
          <a:xfrm>
            <a:off x="1219320" y="3257280"/>
            <a:ext cx="6705360" cy="3019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F9F4FF8-717B-44F2-AF72-73D10E04F73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4"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Business Needs First, Technology Needs L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formation security performs four important functions for an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1. Protects the organization’s ability to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2. Enables the safe operation of applications implemented on the organization’s I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3. Protects the data the organization collects and u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4. Safeguards the technology assets in use at the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9A7E5DD-FADD-46F3-BED0-4C91C74D4F1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2857680" y="514440"/>
            <a:ext cx="3429000" cy="2571840"/>
          </a:xfrm>
          <a:prstGeom prst="rect">
            <a:avLst/>
          </a:prstGeom>
          <a:ln w="0">
            <a:noFill/>
          </a:ln>
        </p:spPr>
      </p:sp>
      <p:sp>
        <p:nvSpPr>
          <p:cNvPr id="647" name="PlaceHolder 2"/>
          <p:cNvSpPr>
            <a:spLocks noGrp="1"/>
          </p:cNvSpPr>
          <p:nvPr>
            <p:ph type="body"/>
          </p:nvPr>
        </p:nvSpPr>
        <p:spPr>
          <a:xfrm>
            <a:off x="1219320" y="3257280"/>
            <a:ext cx="6705360" cy="3019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C538FA4-731B-4FF7-AE36-2FFE737644E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2857680" y="514440"/>
            <a:ext cx="3429000" cy="2571840"/>
          </a:xfrm>
          <a:prstGeom prst="rect">
            <a:avLst/>
          </a:prstGeom>
          <a:ln w="0">
            <a:noFill/>
          </a:ln>
        </p:spPr>
      </p:sp>
      <p:sp>
        <p:nvSpPr>
          <p:cNvPr id="650" name="PlaceHolder 2"/>
          <p:cNvSpPr>
            <a:spLocks noGrp="1"/>
          </p:cNvSpPr>
          <p:nvPr>
            <p:ph type="body"/>
          </p:nvPr>
        </p:nvSpPr>
        <p:spPr>
          <a:xfrm>
            <a:off x="1219320" y="3257280"/>
            <a:ext cx="6705360" cy="3019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2EC948D-8829-4A8C-B6F0-22E4EED06BF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2857680" y="514440"/>
            <a:ext cx="3429000" cy="2571840"/>
          </a:xfrm>
          <a:prstGeom prst="rect">
            <a:avLst/>
          </a:prstGeom>
          <a:ln w="0">
            <a:noFill/>
          </a:ln>
        </p:spPr>
      </p:sp>
      <p:sp>
        <p:nvSpPr>
          <p:cNvPr id="653" name="PlaceHolder 2"/>
          <p:cNvSpPr>
            <a:spLocks noGrp="1"/>
          </p:cNvSpPr>
          <p:nvPr>
            <p:ph type="body"/>
          </p:nvPr>
        </p:nvSpPr>
        <p:spPr>
          <a:xfrm>
            <a:off x="1219320" y="3257280"/>
            <a:ext cx="6705360" cy="3019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08113A5-38A7-414F-9D6B-D1C69772E3D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2857680" y="514440"/>
            <a:ext cx="3429000" cy="2571840"/>
          </a:xfrm>
          <a:prstGeom prst="rect">
            <a:avLst/>
          </a:prstGeom>
          <a:ln w="0">
            <a:noFill/>
          </a:ln>
        </p:spPr>
      </p:sp>
      <p:sp>
        <p:nvSpPr>
          <p:cNvPr id="656" name="PlaceHolder 2"/>
          <p:cNvSpPr>
            <a:spLocks noGrp="1"/>
          </p:cNvSpPr>
          <p:nvPr>
            <p:ph type="body"/>
          </p:nvPr>
        </p:nvSpPr>
        <p:spPr>
          <a:xfrm>
            <a:off x="1219320" y="3257280"/>
            <a:ext cx="6705360" cy="3019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69EEE33-3ADE-48B5-8AA5-6248CC62F9A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2857680" y="514440"/>
            <a:ext cx="3429000" cy="2571840"/>
          </a:xfrm>
          <a:prstGeom prst="rect">
            <a:avLst/>
          </a:prstGeom>
          <a:ln w="0">
            <a:noFill/>
          </a:ln>
        </p:spPr>
      </p:sp>
      <p:sp>
        <p:nvSpPr>
          <p:cNvPr id="659"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A4D035B-2428-4B7D-A223-515D0CBAC3C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2857680" y="514440"/>
            <a:ext cx="3429000" cy="2571840"/>
          </a:xfrm>
          <a:prstGeom prst="rect">
            <a:avLst/>
          </a:prstGeom>
          <a:ln w="0">
            <a:noFill/>
          </a:ln>
        </p:spPr>
      </p:sp>
      <p:sp>
        <p:nvSpPr>
          <p:cNvPr id="662"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A53ABB3-98F3-4C71-A1FB-0382E7CE918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7"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rotecting the Ability of the Organization to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oth general management and IR management are responsible for implementing information security to protect the ability of the organization to fun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a:r>
            <a:r>
              <a:rPr b="0" lang="en-GB" sz="1200" spc="-1" strike="noStrike">
                <a:solidFill>
                  <a:srgbClr val="000000"/>
                </a:solidFill>
                <a:latin typeface="Calibri"/>
                <a:ea typeface="Lucida Sans Unicode"/>
              </a:rPr>
              <a:t>Information security is a management issue in addition to a technical issue, it is a people issue in addition to the technical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assist management in addressing the needs for information security, communities of interest must communicate in terms of business impact and the cost of business interruption and avoid arguments expressed only in technical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39C419D-5D2B-49AF-B1E7-172C66E6FDB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0"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Enabling the Safe Operation of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day’s organizations are under immense pressure to create and operate integrated, efficient, and capable appli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modern organization needs to create an environment that safeguards applications using the organization’s IT systems, particularly the environment of the organization’s infra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nce the infrastructure is in place, management must understand it has not abdicated to the IT department its responsibility to make choices and enforce decisions, but must continue to oversee the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9CB0391-0905-4802-BF36-2E36BB2F84D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3"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rotecting Data that Organizations Collect and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y organizations realize that one of their most valuable assets is their data, because without data, an organization loses its record of transactions and/or its ability to deliver value to its custom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rotecting data in motion and data at rest are both critical aspects of information secu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effective information security program is essential to the protection of the integrity and value of the organization’s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74A8E1B-365E-4A80-8BEC-8AA24ED401A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6"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afeguarding the Technology Assets in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perform effectively, organizations must add secure infrastructure services based on the size and scope of the enterpr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an organization grows and more capabilities are needed, additional security services may have to be provided lo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Likewise, as the organization’s network grows to accommodate changing needs, more robust technology solutions may be needed to replace security programs the organization has outgr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E299C9-9473-4130-B99B-FCF708E32E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285785-A7D5-478D-986A-31F9A2AD66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B91D95-0788-4A44-BE95-CB1DB73BD8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5"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6"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7"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8"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9"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FEAAC0-D7BC-459E-96C3-C6F23EC419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2"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4"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6"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7"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1"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2"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3"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3A23AB-F793-49FC-ABC5-A7613F9618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5"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7"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1"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3"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4"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6"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7"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8"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9"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1"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2"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3"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4"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5"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6"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8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2F852C-E8A6-4B1F-B290-CD1EDB121B4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4A6346-82EC-4FAF-ACAE-A35016C1E5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FFEC3C-BD04-4246-A062-D18C88722B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ED5FE5-1466-41DD-BF57-057B4A8550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BD20DA-9E25-4DF7-8B40-3573A6E2105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01388F-63AD-43EB-9EF0-799A68D0A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86AF7C-43A1-4B26-8998-28FD539FE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B3436C-9317-4BCA-BA7E-E5E4DF599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16F8B-9FFF-46E7-937F-A7EDEDBF7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9B64F-096C-4D62-85EE-9FECD2F796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C7D5FC-2999-4709-AB6F-4AF6D579E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A7A3EB-18BD-4E60-BBA7-2E5BF1199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9EE045-1AFB-4629-9F1F-6E8C43A927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842365-547A-4F96-B343-7BEA488727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E4D606A-C527-4AB9-B38E-9C4901766B3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765C38-66CA-4486-BD1B-B3EC1A10461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8AAA43-6AB3-40A6-A6E6-4E33FBA56F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9F7B564-428F-4972-80CC-0B3FAFEF0FF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2F12A3-ED47-492C-87B5-485C6292BE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DADAF9D-9846-4081-AD55-B8A17282BFB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452F986-B34C-457E-B4CE-48BBBC12D9E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32369A-A197-46B8-A8E9-9B2864588E4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590CDE-0FE1-45B5-97E6-BE6E7237AB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B6C0FE-CFDE-439C-8A29-C14F319245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D34FD67-27C8-487E-83B9-7DB1B7BF6D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A8CFDAD-F3BA-4221-976C-20D7F15E8E1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C8FEB9-7D88-445B-A75F-7A4AF4F8FE0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ABD7FE5-8893-439F-A9A4-6AD21661849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113AEC3-9025-4237-845A-40EEE21C1D8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9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8652593B-AC64-4F82-8FD7-EF6BDA80BFB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B087F0A4-EB44-4EC0-A618-C8D84A770D8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72AF9934-662E-4172-9CAF-491177546DA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sldNum" idx="9"/>
          </p:nvPr>
        </p:nvSpPr>
        <p:spPr/>
        <p:txBody>
          <a:bodyPr/>
          <a:p>
            <a:fld id="{9C692C15-A754-448A-AF47-C4AED32AD47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sldNum" idx="9"/>
          </p:nvPr>
        </p:nvSpPr>
        <p:spPr/>
        <p:txBody>
          <a:bodyPr/>
          <a:p>
            <a:fld id="{D08B2D76-5BD6-4EBA-9F47-13388494C61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999696E3-7745-41FC-810F-018878FD20B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62BD9283-069E-4C27-B38D-7C2B2A23322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6E402505-A99E-4869-B9DC-E2BA928651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5E2AA3-55B2-4CDE-940D-88BB6086DE9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2178C77E-364C-4C70-93AA-77371D0FA00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sldNum" idx="9"/>
          </p:nvPr>
        </p:nvSpPr>
        <p:spPr/>
        <p:txBody>
          <a:bodyPr/>
          <a:p>
            <a:fld id="{4B51BBCB-C23E-40B9-8016-F9DE65799CC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sldNum" idx="9"/>
          </p:nvPr>
        </p:nvSpPr>
        <p:spPr/>
        <p:txBody>
          <a:bodyPr/>
          <a:p>
            <a:fld id="{D22F7DC6-0E28-4766-AEF4-EDE87BBC79E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2991485-3156-4799-8D2B-88E91D0725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3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CE9634C-CF0C-499F-8EFF-11CAA8096F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54C750A-1356-460E-9CD2-DE31C969AE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36E5605-138D-4919-B7AD-5D2D2D80DD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B32C70B-2278-4EC6-8C9E-665B8BF1F5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0DCB3CF-1E2B-481F-82D6-110B42A9C2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AD85C8-82DF-4EDD-A84A-91AEFDA6EC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94759D-D131-467C-9B03-CD2DA376CF3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023EC8E-43CA-4BA7-8F84-EBB2DF9775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86E933-0174-4DF8-A96A-8565DD50A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FF5F3DD-988F-41BD-BC71-A34A394A98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C5FD980-6EBB-49F3-996B-E537B04CB2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1750557-D73C-48E6-8192-5897F750A9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936236-049C-4F00-98D9-9EA21ED455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2" name="PlaceHolder 3"/>
          <p:cNvSpPr>
            <a:spLocks noGrp="1"/>
          </p:cNvSpPr>
          <p:nvPr>
            <p:ph type="ftr" idx="1"/>
          </p:nvPr>
        </p:nvSpPr>
        <p:spPr>
          <a:xfrm>
            <a:off x="533520" y="6324120"/>
            <a:ext cx="586728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Principals of Information Security, Fourth Editio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0574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E160-C36D-4F9A-8A9E-4537E7776F5A}"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78"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16"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D6F4C-9AE2-4309-87A5-07BFEED9044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17"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Visual Basic: Programming with Visual Basic 2008Guide to Microsoft Virtual PC 2005 and Virtual Server 2007</a:t>
            </a:r>
            <a:endParaRPr b="0" lang="en-US" sz="2400" spc="-1" strike="noStrike">
              <a:solidFill>
                <a:srgbClr val="000000"/>
              </a:solidFill>
              <a:latin typeface="Times New Roman"/>
            </a:endParaRPr>
          </a:p>
        </p:txBody>
      </p:sp>
      <p:sp>
        <p:nvSpPr>
          <p:cNvPr id="118"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5104-51DF-4EE1-BE3B-C38A76B875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56" name="PlaceHolder 2"/>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9710-38ED-4FEC-8728-33E60EDE9B9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57"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192E-65EA-4624-A29E-A4B5B8D570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96" name="PlaceHolder 2"/>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7E06-818D-47AE-8E73-25A07447569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234" name="PlaceHolder 2"/>
          <p:cNvSpPr>
            <a:spLocks noGrp="1"/>
          </p:cNvSpPr>
          <p:nvPr>
            <p:ph type="dt" idx="10"/>
          </p:nvPr>
        </p:nvSpPr>
        <p:spPr>
          <a:xfrm>
            <a:off x="380988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5D12-D1EC-4F14-953E-879197E18CA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6" name="PlaceHolder 4"/>
          <p:cNvSpPr>
            <a:spLocks noGrp="1"/>
          </p:cNvSpPr>
          <p:nvPr>
            <p:ph type="ftr" idx="12"/>
          </p:nvPr>
        </p:nvSpPr>
        <p:spPr>
          <a:xfrm>
            <a:off x="685440" y="617220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Architecture, Sixth Editio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1066320"/>
            <a:ext cx="80010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2222"/>
                </a:solidFill>
                <a:latin typeface="Arial"/>
              </a:rPr>
              <a:t>Principals of Information Security, </a:t>
            </a:r>
            <a:br>
              <a:rPr sz="4400"/>
            </a:br>
            <a:r>
              <a:rPr b="1" lang="en-US" sz="4400" spc="-1" strike="noStrike">
                <a:solidFill>
                  <a:srgbClr val="222222"/>
                </a:solidFill>
                <a:latin typeface="Arial"/>
              </a:rPr>
              <a:t>Fourth Edition</a:t>
            </a:r>
            <a:endParaRPr b="0" lang="en-US" sz="4400" spc="-1" strike="noStrike">
              <a:solidFill>
                <a:srgbClr val="222222"/>
              </a:solidFill>
              <a:latin typeface="Arial"/>
            </a:endParaRPr>
          </a:p>
        </p:txBody>
      </p:sp>
      <p:sp>
        <p:nvSpPr>
          <p:cNvPr id="281" name="PlaceHolder 2"/>
          <p:cNvSpPr>
            <a:spLocks noGrp="1"/>
          </p:cNvSpPr>
          <p:nvPr>
            <p:ph type="subTitle"/>
          </p:nvPr>
        </p:nvSpPr>
        <p:spPr>
          <a:xfrm>
            <a:off x="609120" y="3429000"/>
            <a:ext cx="8077320" cy="1447920"/>
          </a:xfrm>
          <a:prstGeom prst="rect">
            <a:avLst/>
          </a:prstGeom>
          <a:noFill/>
          <a:ln w="0">
            <a:noFill/>
          </a:ln>
        </p:spPr>
        <p:txBody>
          <a:bodyPr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Chapter 2</a:t>
            </a:r>
            <a:endParaRPr b="0" lang="en-US" sz="3400" spc="-1" strike="noStrike">
              <a:solidFill>
                <a:srgbClr val="222222"/>
              </a:solidFill>
              <a:latin typeface="Arial"/>
            </a:endParaRPr>
          </a:p>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The Need for Security</a:t>
            </a:r>
            <a:endParaRPr b="0" lang="en-US" sz="3400" spc="-1" strike="noStrike">
              <a:solidFill>
                <a:srgbClr val="222222"/>
              </a:solidFill>
              <a:latin typeface="Arial"/>
            </a:endParaRPr>
          </a:p>
        </p:txBody>
      </p:sp>
      <p:pic>
        <p:nvPicPr>
          <p:cNvPr id="282" name="Picture 3" descr="Cengage_1.jpg"/>
          <p:cNvPicPr/>
          <p:nvPr/>
        </p:nvPicPr>
        <p:blipFill>
          <a:blip r:embed="rId1"/>
          <a:stretch/>
        </p:blipFill>
        <p:spPr>
          <a:xfrm>
            <a:off x="0" y="0"/>
            <a:ext cx="3666960" cy="914400"/>
          </a:xfrm>
          <a:prstGeom prst="rect">
            <a:avLst/>
          </a:prstGeom>
          <a:ln w="0">
            <a:noFill/>
          </a:ln>
        </p:spPr>
      </p:pic>
      <p:pic>
        <p:nvPicPr>
          <p:cNvPr id="283" name="Picture 3" descr=""/>
          <p:cNvPicPr/>
          <p:nvPr/>
        </p:nvPicPr>
        <p:blipFill>
          <a:blip r:embed="rId2"/>
          <a:stretch/>
        </p:blipFill>
        <p:spPr>
          <a:xfrm>
            <a:off x="3962520" y="4800600"/>
            <a:ext cx="518148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hreats</a:t>
            </a:r>
            <a:endParaRPr b="0" lang="en-US" sz="3600" spc="-1" strike="noStrike">
              <a:solidFill>
                <a:srgbClr val="222222"/>
              </a:solidFill>
              <a:latin typeface="Arial"/>
            </a:endParaRPr>
          </a:p>
        </p:txBody>
      </p:sp>
      <p:sp>
        <p:nvSpPr>
          <p:cNvPr id="31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reat: an object, person, or other entity that represents a constant danger to an asse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agement must be informed of the different threats facing the organiza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verall security is improving</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2009 CSI/FBI survey foun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64 percent of organizations had malware infectio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14 percent indicated system penetration by an outsider</a:t>
            </a:r>
            <a:endParaRPr b="0" lang="en-US" sz="2400" spc="-1" strike="noStrike">
              <a:solidFill>
                <a:srgbClr val="222222"/>
              </a:solidFill>
              <a:latin typeface="Arial"/>
            </a:endParaRPr>
          </a:p>
        </p:txBody>
      </p:sp>
      <p:sp>
        <p:nvSpPr>
          <p:cNvPr id="31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1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6624-1869-4983-90BE-D468279371C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2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8EB8-F841-414A-83E0-CF8D0EF9C39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22" name="Picture 7" descr=""/>
          <p:cNvPicPr/>
          <p:nvPr/>
        </p:nvPicPr>
        <p:blipFill>
          <a:blip r:embed="rId1"/>
          <a:stretch/>
        </p:blipFill>
        <p:spPr>
          <a:xfrm>
            <a:off x="534960" y="152280"/>
            <a:ext cx="8228160" cy="5410440"/>
          </a:xfrm>
          <a:prstGeom prst="rect">
            <a:avLst/>
          </a:prstGeom>
          <a:ln w="0">
            <a:noFill/>
          </a:ln>
        </p:spPr>
      </p:pic>
      <p:sp>
        <p:nvSpPr>
          <p:cNvPr id="323" name="Rectangle 7"/>
          <p:cNvSpPr/>
          <p:nvPr/>
        </p:nvSpPr>
        <p:spPr>
          <a:xfrm>
            <a:off x="2170080" y="5638680"/>
            <a:ext cx="44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2-1 Threats to Information Security</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1"/>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25" name="Slide Number Placeholder 2"/>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B0A1-9166-4F28-B864-FB87012660F3}"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pic>
        <p:nvPicPr>
          <p:cNvPr id="326" name="Picture 2" descr=""/>
          <p:cNvPicPr/>
          <p:nvPr/>
        </p:nvPicPr>
        <p:blipFill>
          <a:blip r:embed="rId1"/>
          <a:stretch/>
        </p:blipFill>
        <p:spPr>
          <a:xfrm>
            <a:off x="555480" y="76320"/>
            <a:ext cx="7979040" cy="5979960"/>
          </a:xfrm>
          <a:prstGeom prst="rect">
            <a:avLst/>
          </a:prstGeom>
          <a:ln w="0">
            <a:noFill/>
          </a:ln>
        </p:spPr>
      </p:pic>
      <p:sp>
        <p:nvSpPr>
          <p:cNvPr id="327" name="Rectangle 4"/>
          <p:cNvSpPr/>
          <p:nvPr/>
        </p:nvSpPr>
        <p:spPr>
          <a:xfrm>
            <a:off x="2834280" y="6031080"/>
            <a:ext cx="347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 World Internet usage</a:t>
            </a:r>
            <a:r>
              <a:rPr b="0" lang="en-US" sz="1800" spc="-1" strike="noStrike" baseline="30000">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ompromises to Intellectual Property</a:t>
            </a:r>
            <a:endParaRPr b="0" lang="en-US" sz="3600" spc="-1" strike="noStrike">
              <a:solidFill>
                <a:srgbClr val="222222"/>
              </a:solidFill>
              <a:latin typeface="Arial"/>
            </a:endParaRPr>
          </a:p>
        </p:txBody>
      </p:sp>
      <p:sp>
        <p:nvSpPr>
          <p:cNvPr id="329" name=""/>
          <p:cNvSpPr txBox="1"/>
          <p:nvPr/>
        </p:nvSpPr>
        <p:spPr>
          <a:xfrm>
            <a:off x="533520" y="1676520"/>
            <a:ext cx="8076960" cy="4572000"/>
          </a:xfrm>
          <a:prstGeom prst="rect">
            <a:avLst/>
          </a:prstGeom>
          <a:noFill/>
          <a:ln w="0">
            <a:noFill/>
          </a:ln>
        </p:spPr>
        <p:txBody>
          <a:bodyPr anchor="t">
            <a:normAutofit fontScale="95000"/>
          </a:bodyPr>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tellectual property (IP): “ownership of ideas and control over the tangible or virtual representation of those ideas” </a:t>
            </a:r>
            <a:endParaRPr b="0" lang="en-US" sz="26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most common IP breaches involve software piracy</a:t>
            </a:r>
            <a:endParaRPr b="0" lang="en-US" sz="26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wo watchdog organizations investigate software abuse:</a:t>
            </a:r>
            <a:endParaRPr b="0" lang="en-US" sz="2600" spc="-1" strike="noStrike">
              <a:solidFill>
                <a:srgbClr val="222222"/>
              </a:solidFill>
              <a:latin typeface="Arial"/>
            </a:endParaRPr>
          </a:p>
          <a:p>
            <a:pPr lvl="1" marL="705600" indent="-2714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oftware &amp; Information Industry Association (SIIA) </a:t>
            </a:r>
            <a:endParaRPr b="0" lang="en-US" sz="2400" spc="-1" strike="noStrike">
              <a:solidFill>
                <a:srgbClr val="222222"/>
              </a:solidFill>
              <a:latin typeface="Arial"/>
            </a:endParaRPr>
          </a:p>
          <a:p>
            <a:pPr lvl="1" marL="705600" indent="-2714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usiness Software Alliance (BSA)</a:t>
            </a:r>
            <a:r>
              <a:rPr b="0" lang="ar-SA" sz="2400" spc="-1" strike="noStrike">
                <a:solidFill>
                  <a:srgbClr val="222222"/>
                </a:solidFill>
                <a:latin typeface="Arial"/>
              </a:rPr>
              <a:t>‏</a:t>
            </a:r>
            <a:endParaRPr b="0" lang="en-US" sz="24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nforcement of copyright law has been attempted with technical security mechanisms</a:t>
            </a:r>
            <a:endParaRPr b="0" lang="en-US" sz="2600" spc="-1" strike="noStrike">
              <a:solidFill>
                <a:srgbClr val="222222"/>
              </a:solidFill>
              <a:latin typeface="Arial"/>
            </a:endParaRPr>
          </a:p>
        </p:txBody>
      </p:sp>
      <p:sp>
        <p:nvSpPr>
          <p:cNvPr id="33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3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2059-F57F-4B12-AB7F-54617A8B498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eliberate Software Attacks</a:t>
            </a:r>
            <a:endParaRPr b="0" lang="en-US" sz="3600" spc="-1" strike="noStrike">
              <a:solidFill>
                <a:srgbClr val="222222"/>
              </a:solidFill>
              <a:latin typeface="Arial"/>
            </a:endParaRPr>
          </a:p>
        </p:txBody>
      </p:sp>
      <p:sp>
        <p:nvSpPr>
          <p:cNvPr id="33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licious software (malware) designed to damage, destroy, or deny service to target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cludes: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Virus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or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rojan hors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Logic bombs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ack door or trap door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olymorphic threa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Virus and worm hoaxes</a:t>
            </a:r>
            <a:endParaRPr b="0" lang="en-US" sz="2400" spc="-1" strike="noStrike">
              <a:solidFill>
                <a:srgbClr val="222222"/>
              </a:solidFill>
              <a:latin typeface="Arial"/>
            </a:endParaRPr>
          </a:p>
        </p:txBody>
      </p:sp>
      <p:sp>
        <p:nvSpPr>
          <p:cNvPr id="33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3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52A0-3943-439A-A323-B1A310373AC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3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3357-5346-405E-BE56-18DEB3F1B55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38" name="Picture 7" descr=""/>
          <p:cNvPicPr/>
          <p:nvPr/>
        </p:nvPicPr>
        <p:blipFill>
          <a:blip r:embed="rId1"/>
          <a:stretch/>
        </p:blipFill>
        <p:spPr>
          <a:xfrm>
            <a:off x="539640" y="228600"/>
            <a:ext cx="8147160" cy="5489640"/>
          </a:xfrm>
          <a:prstGeom prst="rect">
            <a:avLst/>
          </a:prstGeom>
          <a:ln w="0">
            <a:noFill/>
          </a:ln>
        </p:spPr>
      </p:pic>
      <p:sp>
        <p:nvSpPr>
          <p:cNvPr id="339" name="Rectangle 7"/>
          <p:cNvSpPr/>
          <p:nvPr/>
        </p:nvSpPr>
        <p:spPr>
          <a:xfrm>
            <a:off x="2824920" y="5791320"/>
            <a:ext cx="330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4 Trojan Horse Attack</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eviations in Quality of Service</a:t>
            </a:r>
            <a:endParaRPr b="0" lang="en-US" sz="3600" spc="-1" strike="noStrike">
              <a:solidFill>
                <a:srgbClr val="222222"/>
              </a:solidFill>
              <a:latin typeface="Arial"/>
            </a:endParaRPr>
          </a:p>
        </p:txBody>
      </p:sp>
      <p:sp>
        <p:nvSpPr>
          <p:cNvPr id="34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cludes situations where products or services are not delivered as expec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ystem depends on many interdependent support systems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ternet service, communications, and power irregularities dramatically affect availability of information and systems</a:t>
            </a:r>
            <a:endParaRPr b="0" lang="en-US" sz="2600" spc="-1" strike="noStrike">
              <a:solidFill>
                <a:srgbClr val="222222"/>
              </a:solidFill>
              <a:latin typeface="Arial"/>
            </a:endParaRPr>
          </a:p>
        </p:txBody>
      </p:sp>
      <p:sp>
        <p:nvSpPr>
          <p:cNvPr id="34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4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56EF2-A795-44E5-B69B-C5DDB903B6A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eviations in Quality of Service (cont’d.)</a:t>
            </a:r>
            <a:endParaRPr b="0" lang="en-US" sz="3600" spc="-1" strike="noStrike">
              <a:solidFill>
                <a:srgbClr val="222222"/>
              </a:solidFill>
              <a:latin typeface="Arial"/>
            </a:endParaRPr>
          </a:p>
        </p:txBody>
      </p:sp>
      <p:sp>
        <p:nvSpPr>
          <p:cNvPr id="345" name=""/>
          <p:cNvSpPr txBox="1"/>
          <p:nvPr/>
        </p:nvSpPr>
        <p:spPr>
          <a:xfrm>
            <a:off x="533520" y="1676520"/>
            <a:ext cx="815328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ternet service issu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ternet service provider (ISP) failures can considerably undermine availability of inform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Outsourced Web hosting provider assumes responsibility for all Internet services as well as hardware and Web site operating system software</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mmunications and other service provider issu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Other utility services affect organizations: telephone, water, wastewater, trash pickup, etc.</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Loss of these services can affect organization’s ability to function</a:t>
            </a:r>
            <a:endParaRPr b="0" lang="en-US" sz="2400" spc="-1" strike="noStrike">
              <a:solidFill>
                <a:srgbClr val="222222"/>
              </a:solidFill>
              <a:latin typeface="Arial"/>
            </a:endParaRPr>
          </a:p>
        </p:txBody>
      </p:sp>
      <p:sp>
        <p:nvSpPr>
          <p:cNvPr id="34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4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E0D6-C06A-4AC2-849B-AF29278BCE4C}"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eviations in Quality of Service (cont’d.)</a:t>
            </a:r>
            <a:endParaRPr b="0" lang="en-US" sz="3600" spc="-1" strike="noStrike">
              <a:solidFill>
                <a:srgbClr val="222222"/>
              </a:solidFill>
              <a:latin typeface="Arial"/>
            </a:endParaRPr>
          </a:p>
        </p:txBody>
      </p:sp>
      <p:sp>
        <p:nvSpPr>
          <p:cNvPr id="34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ower irregulariti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monplac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Organizations with inadequately conditioned power are susceptibl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ntrols can be applied to manage power qual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luctuations (short or prolonged)</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22222"/>
                </a:solidFill>
                <a:latin typeface="Arial"/>
              </a:rPr>
              <a:t>Excesses (spikes or surges) – voltage increase</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22222"/>
                </a:solidFill>
                <a:latin typeface="Arial"/>
              </a:rPr>
              <a:t>Shortages (sags or brownouts) – low voltage</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22222"/>
                </a:solidFill>
                <a:latin typeface="Arial"/>
              </a:rPr>
              <a:t>Losses (faults or blackouts) – loss of power</a:t>
            </a:r>
            <a:endParaRPr b="0" lang="en-US" sz="2200" spc="-1" strike="noStrike">
              <a:solidFill>
                <a:srgbClr val="222222"/>
              </a:solidFill>
              <a:latin typeface="Arial"/>
            </a:endParaRPr>
          </a:p>
        </p:txBody>
      </p:sp>
      <p:sp>
        <p:nvSpPr>
          <p:cNvPr id="35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5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878A-C66E-4A39-80BC-42846088C8F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spionage or Trespass</a:t>
            </a:r>
            <a:endParaRPr b="0" lang="en-US" sz="3600" spc="-1" strike="noStrike">
              <a:solidFill>
                <a:srgbClr val="222222"/>
              </a:solidFill>
              <a:latin typeface="Arial"/>
            </a:endParaRPr>
          </a:p>
        </p:txBody>
      </p:sp>
      <p:sp>
        <p:nvSpPr>
          <p:cNvPr id="35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ccess of protected information by unauthorized individual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etitive intelligence (legal) vs. industrial </a:t>
            </a:r>
            <a:br>
              <a:rPr sz="2600"/>
            </a:br>
            <a:r>
              <a:rPr b="0" lang="en-GB" sz="2600" spc="-1" strike="noStrike">
                <a:solidFill>
                  <a:srgbClr val="222222"/>
                </a:solidFill>
                <a:latin typeface="Arial"/>
              </a:rPr>
              <a:t>espionage (illegal)</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houlder surfing can occur anywhere a person accesses confidential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ntrols let trespassers know they are encroaching on organization’s cyberspa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Hackers use skill, guile, or fraud to bypass controls protecting others’ information</a:t>
            </a:r>
            <a:endParaRPr b="0" lang="en-US" sz="2600" spc="-1" strike="noStrike">
              <a:solidFill>
                <a:srgbClr val="222222"/>
              </a:solidFill>
              <a:latin typeface="Arial"/>
            </a:endParaRPr>
          </a:p>
        </p:txBody>
      </p:sp>
      <p:sp>
        <p:nvSpPr>
          <p:cNvPr id="35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5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E1220-9B6E-4261-8512-1D82CE72B3E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earning Objectives</a:t>
            </a:r>
            <a:endParaRPr b="0" lang="en-US" sz="3600" spc="-1" strike="noStrike">
              <a:solidFill>
                <a:srgbClr val="222222"/>
              </a:solidFill>
              <a:latin typeface="Arial"/>
            </a:endParaRPr>
          </a:p>
        </p:txBody>
      </p:sp>
      <p:sp>
        <p:nvSpPr>
          <p:cNvPr id="28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pon completion of this material, you should be able to:</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monstrate that organizations have a business need for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xplain why a successful information security program is the responsibility of both an organization’s general management and IT management</a:t>
            </a:r>
            <a:endParaRPr b="0" lang="en-US" sz="2400" spc="-1" strike="noStrike">
              <a:solidFill>
                <a:srgbClr val="222222"/>
              </a:solidFill>
              <a:latin typeface="Arial"/>
            </a:endParaRPr>
          </a:p>
        </p:txBody>
      </p:sp>
      <p:sp>
        <p:nvSpPr>
          <p:cNvPr id="28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28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F61A-73B8-4016-95F5-248896EF8A2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5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91E15-B22E-440C-8583-D6C789E4AF7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58" name="Picture 5" descr=""/>
          <p:cNvPicPr/>
          <p:nvPr/>
        </p:nvPicPr>
        <p:blipFill>
          <a:blip r:embed="rId1"/>
          <a:stretch/>
        </p:blipFill>
        <p:spPr>
          <a:xfrm>
            <a:off x="993600" y="76320"/>
            <a:ext cx="7236000" cy="5638680"/>
          </a:xfrm>
          <a:prstGeom prst="rect">
            <a:avLst/>
          </a:prstGeom>
          <a:ln w="0">
            <a:noFill/>
          </a:ln>
        </p:spPr>
      </p:pic>
      <p:sp>
        <p:nvSpPr>
          <p:cNvPr id="359" name="Rectangle 5"/>
          <p:cNvSpPr/>
          <p:nvPr/>
        </p:nvSpPr>
        <p:spPr>
          <a:xfrm>
            <a:off x="3066840" y="571500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5 Shoulder Surfing</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6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A7F3-6020-4617-B0AE-565FF1F6278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62" name="Picture 5" descr=""/>
          <p:cNvPicPr/>
          <p:nvPr/>
        </p:nvPicPr>
        <p:blipFill>
          <a:blip r:embed="rId1"/>
          <a:stretch/>
        </p:blipFill>
        <p:spPr>
          <a:xfrm>
            <a:off x="380880" y="762120"/>
            <a:ext cx="8312400" cy="4267080"/>
          </a:xfrm>
          <a:prstGeom prst="rect">
            <a:avLst/>
          </a:prstGeom>
          <a:ln w="0">
            <a:noFill/>
          </a:ln>
        </p:spPr>
      </p:pic>
      <p:sp>
        <p:nvSpPr>
          <p:cNvPr id="363" name="Rectangle 5"/>
          <p:cNvSpPr/>
          <p:nvPr/>
        </p:nvSpPr>
        <p:spPr>
          <a:xfrm>
            <a:off x="3065040" y="5105520"/>
            <a:ext cx="28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6 Hacker Profiles</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spionage or Trespas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6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xpert hacker</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velops software scripts and program exploi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ually a master of many skil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ill often create attack software and share with other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nskilled hacker</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any more unskilled hackers than expert hacke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e expertly written software to exploit a system</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o not usually fully understand the systems they hack</a:t>
            </a:r>
            <a:endParaRPr b="0" lang="en-US" sz="2400" spc="-1" strike="noStrike">
              <a:solidFill>
                <a:srgbClr val="222222"/>
              </a:solidFill>
              <a:latin typeface="Arial"/>
            </a:endParaRPr>
          </a:p>
        </p:txBody>
      </p:sp>
      <p:sp>
        <p:nvSpPr>
          <p:cNvPr id="36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6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E4663-3061-41C6-A8A7-E680530083B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spionage or Trespas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6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ther terms for system rule breaker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racker: “cracks” or removes software protection designed to prevent unauthorized duplic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hreaker: hacks the public telephone network</a:t>
            </a:r>
            <a:endParaRPr b="0" lang="en-US" sz="2400" spc="-1" strike="noStrike">
              <a:solidFill>
                <a:srgbClr val="222222"/>
              </a:solidFill>
              <a:latin typeface="Arial"/>
            </a:endParaRPr>
          </a:p>
        </p:txBody>
      </p:sp>
      <p:sp>
        <p:nvSpPr>
          <p:cNvPr id="37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7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E057-5734-40BD-BAA3-746279CD480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Forces of Nature </a:t>
            </a:r>
            <a:endParaRPr b="0" lang="en-US" sz="3600" spc="-1" strike="noStrike">
              <a:solidFill>
                <a:srgbClr val="222222"/>
              </a:solidFill>
              <a:latin typeface="Arial"/>
            </a:endParaRPr>
          </a:p>
        </p:txBody>
      </p:sp>
      <p:sp>
        <p:nvSpPr>
          <p:cNvPr id="37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orces of nature are among the most dangerous threa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isrupt not only individual lives, but also storage, transmission, and use of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s must implement controls to limit damage and prepare contingency plans for continued operations</a:t>
            </a:r>
            <a:endParaRPr b="0" lang="en-US" sz="2600" spc="-1" strike="noStrike">
              <a:solidFill>
                <a:srgbClr val="222222"/>
              </a:solidFill>
              <a:latin typeface="Arial"/>
            </a:endParaRPr>
          </a:p>
        </p:txBody>
      </p:sp>
      <p:sp>
        <p:nvSpPr>
          <p:cNvPr id="37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7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A309-8FD8-42F4-9CAA-C6B0B58FBF5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Human Error or Failure </a:t>
            </a:r>
            <a:endParaRPr b="0" lang="en-US" sz="3600" spc="-1" strike="noStrike">
              <a:solidFill>
                <a:srgbClr val="222222"/>
              </a:solidFill>
              <a:latin typeface="Arial"/>
            </a:endParaRPr>
          </a:p>
        </p:txBody>
      </p:sp>
      <p:sp>
        <p:nvSpPr>
          <p:cNvPr id="37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cludes acts performed without malicious int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auses includ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experienc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mproper train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correct assumption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mployees are among the greatest threats to an organization’s data</a:t>
            </a:r>
            <a:endParaRPr b="0" lang="en-US" sz="2600" spc="-1" strike="noStrike">
              <a:solidFill>
                <a:srgbClr val="222222"/>
              </a:solidFill>
              <a:latin typeface="Arial"/>
            </a:endParaRPr>
          </a:p>
        </p:txBody>
      </p:sp>
      <p:sp>
        <p:nvSpPr>
          <p:cNvPr id="37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7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0271-75B9-4C17-A868-469CF95F0E3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Human Error or Failure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8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mployee mistakes can easily lead to: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Revelation of classified data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try of erroneous data</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ccidental data deletion or modific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ata storage in unprotected area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ailure to protect information</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y of these threats can be prevented with controls</a:t>
            </a:r>
            <a:endParaRPr b="0" lang="en-US" sz="2600" spc="-1" strike="noStrike">
              <a:solidFill>
                <a:srgbClr val="222222"/>
              </a:solidFill>
              <a:latin typeface="Arial"/>
            </a:endParaRPr>
          </a:p>
        </p:txBody>
      </p:sp>
      <p:sp>
        <p:nvSpPr>
          <p:cNvPr id="38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8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FF1A-BC4C-48C4-9517-F2D494B6717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8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8BAF-8523-4DD5-8C53-0A8AB1771A1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86" name="Picture 5" descr=""/>
          <p:cNvPicPr/>
          <p:nvPr/>
        </p:nvPicPr>
        <p:blipFill>
          <a:blip r:embed="rId1"/>
          <a:stretch/>
        </p:blipFill>
        <p:spPr>
          <a:xfrm>
            <a:off x="838080" y="304920"/>
            <a:ext cx="7315200" cy="5476680"/>
          </a:xfrm>
          <a:prstGeom prst="rect">
            <a:avLst/>
          </a:prstGeom>
          <a:ln w="0">
            <a:noFill/>
          </a:ln>
        </p:spPr>
      </p:pic>
      <p:sp>
        <p:nvSpPr>
          <p:cNvPr id="387" name="Rectangle 5"/>
          <p:cNvSpPr/>
          <p:nvPr/>
        </p:nvSpPr>
        <p:spPr>
          <a:xfrm>
            <a:off x="2303640" y="5867280"/>
            <a:ext cx="438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8 Acts of Human Error or Failure</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formation Extortion  </a:t>
            </a:r>
            <a:endParaRPr b="0" lang="en-US" sz="3600" spc="-1" strike="noStrike">
              <a:solidFill>
                <a:srgbClr val="222222"/>
              </a:solidFill>
              <a:latin typeface="Arial"/>
            </a:endParaRPr>
          </a:p>
        </p:txBody>
      </p:sp>
      <p:sp>
        <p:nvSpPr>
          <p:cNvPr id="38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tacker steals information from computer system and demands compensation for its return or nondisclosur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monly done in credit card number theft</a:t>
            </a:r>
            <a:endParaRPr b="0" lang="en-US" sz="2600" spc="-1" strike="noStrike">
              <a:solidFill>
                <a:srgbClr val="222222"/>
              </a:solidFill>
              <a:latin typeface="Arial"/>
            </a:endParaRPr>
          </a:p>
        </p:txBody>
      </p:sp>
      <p:sp>
        <p:nvSpPr>
          <p:cNvPr id="39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9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05E9-7D76-448D-9F82-C109358379E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issing, Inadequate, or Incomplete</a:t>
            </a:r>
            <a:endParaRPr b="0" lang="en-US" sz="3600" spc="-1" strike="noStrike">
              <a:solidFill>
                <a:srgbClr val="222222"/>
              </a:solidFill>
              <a:latin typeface="Arial"/>
            </a:endParaRPr>
          </a:p>
        </p:txBody>
      </p:sp>
      <p:sp>
        <p:nvSpPr>
          <p:cNvPr id="39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 policy or planning, can make organizations vulnerable to loss, damage, or disclosure of information asse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ith controls, can make an organization more likely to suffer losses when other threats lead to attacks</a:t>
            </a:r>
            <a:endParaRPr b="0" lang="en-US" sz="2600" spc="-1" strike="noStrike">
              <a:solidFill>
                <a:srgbClr val="222222"/>
              </a:solidFill>
              <a:latin typeface="Arial"/>
            </a:endParaRPr>
          </a:p>
        </p:txBody>
      </p:sp>
      <p:sp>
        <p:nvSpPr>
          <p:cNvPr id="394"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95"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B4B5-908E-4898-8073-19A076A1577B}"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earning Objectives (cont’d.)</a:t>
            </a:r>
            <a:endParaRPr b="0" lang="en-US" sz="3600" spc="-1" strike="noStrike">
              <a:solidFill>
                <a:srgbClr val="222222"/>
              </a:solidFill>
              <a:latin typeface="Arial"/>
            </a:endParaRPr>
          </a:p>
        </p:txBody>
      </p:sp>
      <p:sp>
        <p:nvSpPr>
          <p:cNvPr id="289" name=""/>
          <p:cNvSpPr txBox="1"/>
          <p:nvPr/>
        </p:nvSpPr>
        <p:spPr>
          <a:xfrm>
            <a:off x="533520" y="1676520"/>
            <a:ext cx="8076960" cy="4572000"/>
          </a:xfrm>
          <a:prstGeom prst="rect">
            <a:avLst/>
          </a:prstGeom>
          <a:noFill/>
          <a:ln w="0">
            <a:noFill/>
          </a:ln>
        </p:spPr>
        <p:txBody>
          <a:bodyPr anchor="t">
            <a:normAutofit/>
          </a:bodyPr>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dentify the threats posed to information security and the more common attacks associated with those threats, and differentiate threats to the information within systems from attacks against the information within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scribe the issues facing software developers, as well as the most common errors made by developers, and explain how software development programs can create software that is more secure and reliable</a:t>
            </a:r>
            <a:endParaRPr b="0" lang="en-US" sz="2400" spc="-1" strike="noStrike">
              <a:solidFill>
                <a:srgbClr val="222222"/>
              </a:solidFill>
              <a:latin typeface="Arial"/>
            </a:endParaRPr>
          </a:p>
        </p:txBody>
      </p:sp>
      <p:sp>
        <p:nvSpPr>
          <p:cNvPr id="290"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291"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F553-E409-441D-A98A-3CC05C58B175}"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abotage or Vandalism</a:t>
            </a:r>
            <a:endParaRPr b="0" lang="en-US" sz="3600" spc="-1" strike="noStrike">
              <a:solidFill>
                <a:srgbClr val="222222"/>
              </a:solidFill>
              <a:latin typeface="Arial"/>
            </a:endParaRPr>
          </a:p>
        </p:txBody>
      </p:sp>
      <p:sp>
        <p:nvSpPr>
          <p:cNvPr id="39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reats can range from petty vandalism to organized sabotag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eb site defacing can erode consumer confidence, dropping sales and organization’s net worth</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reat of hacktivist or cyberactivist operations rising</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yberterrorism: much more sinister form of hacking</a:t>
            </a:r>
            <a:endParaRPr b="0" lang="en-US" sz="2600" spc="-1" strike="noStrike">
              <a:solidFill>
                <a:srgbClr val="222222"/>
              </a:solidFill>
              <a:latin typeface="Arial"/>
            </a:endParaRPr>
          </a:p>
        </p:txBody>
      </p:sp>
      <p:sp>
        <p:nvSpPr>
          <p:cNvPr id="39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9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94C3-2ACF-4E30-B948-34934C79CA1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0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A0E9-8E22-435D-88F6-99E43893B23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402" name="Picture 5" descr=""/>
          <p:cNvPicPr/>
          <p:nvPr/>
        </p:nvPicPr>
        <p:blipFill>
          <a:blip r:embed="rId1"/>
          <a:stretch/>
        </p:blipFill>
        <p:spPr>
          <a:xfrm>
            <a:off x="1976400" y="98280"/>
            <a:ext cx="5796000" cy="5372280"/>
          </a:xfrm>
          <a:prstGeom prst="rect">
            <a:avLst/>
          </a:prstGeom>
          <a:ln w="0">
            <a:noFill/>
          </a:ln>
        </p:spPr>
      </p:pic>
      <p:sp>
        <p:nvSpPr>
          <p:cNvPr id="403" name="Rectangle 5"/>
          <p:cNvSpPr/>
          <p:nvPr/>
        </p:nvSpPr>
        <p:spPr>
          <a:xfrm>
            <a:off x="2905200" y="5715000"/>
            <a:ext cx="364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9 Cyber Activists Wanted</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heft</a:t>
            </a:r>
            <a:endParaRPr b="0" lang="en-US" sz="3600" spc="-1" strike="noStrike">
              <a:solidFill>
                <a:srgbClr val="222222"/>
              </a:solidFill>
              <a:latin typeface="Arial"/>
            </a:endParaRPr>
          </a:p>
        </p:txBody>
      </p:sp>
      <p:sp>
        <p:nvSpPr>
          <p:cNvPr id="40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llegal taking of another’s physical, electronic, or intellectual proper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hysical theft is controlled relatively easil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lectronic theft is more complex problem; evidence of crime not readily apparent</a:t>
            </a:r>
            <a:endParaRPr b="0" lang="en-US" sz="2600" spc="-1" strike="noStrike">
              <a:solidFill>
                <a:srgbClr val="222222"/>
              </a:solidFill>
              <a:latin typeface="Arial"/>
            </a:endParaRPr>
          </a:p>
        </p:txBody>
      </p:sp>
      <p:sp>
        <p:nvSpPr>
          <p:cNvPr id="40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0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FCFE-F890-4DD2-BAA0-202CF529FFE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echnical Hardware Failures or Errors</a:t>
            </a:r>
            <a:endParaRPr b="0" lang="en-US" sz="3600" spc="-1" strike="noStrike">
              <a:solidFill>
                <a:srgbClr val="222222"/>
              </a:solidFill>
              <a:latin typeface="Arial"/>
            </a:endParaRPr>
          </a:p>
        </p:txBody>
      </p:sp>
      <p:sp>
        <p:nvSpPr>
          <p:cNvPr id="40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ccur when manufacturer distributes equipment containing flaws to user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an cause system to perform outside of expected parameters, resulting in unreliable or poor servi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ome errors are terminal; some are intermittent</a:t>
            </a:r>
            <a:endParaRPr b="0" lang="en-US" sz="2600" spc="-1" strike="noStrike">
              <a:solidFill>
                <a:srgbClr val="222222"/>
              </a:solidFill>
              <a:latin typeface="Arial"/>
            </a:endParaRPr>
          </a:p>
        </p:txBody>
      </p:sp>
      <p:sp>
        <p:nvSpPr>
          <p:cNvPr id="41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1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A314-C352-4325-8ED4-56CB32D446E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echnical Software Failures or Errors</a:t>
            </a:r>
            <a:endParaRPr b="0" lang="en-US" sz="3600" spc="-1" strike="noStrike">
              <a:solidFill>
                <a:srgbClr val="222222"/>
              </a:solidFill>
              <a:latin typeface="Arial"/>
            </a:endParaRPr>
          </a:p>
        </p:txBody>
      </p:sp>
      <p:sp>
        <p:nvSpPr>
          <p:cNvPr id="41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urchased software that contains unrevealed faul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binations of certain software and hardware can reveal new software bug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ntire Web sites dedicated to documenting bugs</a:t>
            </a:r>
            <a:endParaRPr b="0" lang="en-US" sz="2600" spc="-1" strike="noStrike">
              <a:solidFill>
                <a:srgbClr val="222222"/>
              </a:solidFill>
              <a:latin typeface="Arial"/>
            </a:endParaRPr>
          </a:p>
        </p:txBody>
      </p:sp>
      <p:sp>
        <p:nvSpPr>
          <p:cNvPr id="41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1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7EA6-2036-49F5-A761-C9F1674CF37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echnological Obsolescence </a:t>
            </a:r>
            <a:endParaRPr b="0" lang="en-US" sz="3600" spc="-1" strike="noStrike">
              <a:solidFill>
                <a:srgbClr val="222222"/>
              </a:solidFill>
              <a:latin typeface="Arial"/>
            </a:endParaRPr>
          </a:p>
        </p:txBody>
      </p:sp>
      <p:sp>
        <p:nvSpPr>
          <p:cNvPr id="41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ntiquated/outdated infrastructure can lead to unreliable, untrustworthy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per managerial planning should prevent technology obsolesce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T plays large role</a:t>
            </a:r>
            <a:endParaRPr b="0" lang="en-US" sz="2600" spc="-1" strike="noStrike">
              <a:solidFill>
                <a:srgbClr val="222222"/>
              </a:solidFill>
              <a:latin typeface="Arial"/>
            </a:endParaRPr>
          </a:p>
        </p:txBody>
      </p:sp>
      <p:sp>
        <p:nvSpPr>
          <p:cNvPr id="41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1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27FA-84CC-4C3E-B514-ABDF60D7F01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a:t>
            </a:r>
            <a:endParaRPr b="0" lang="en-US" sz="3600" spc="-1" strike="noStrike">
              <a:solidFill>
                <a:srgbClr val="222222"/>
              </a:solidFill>
              <a:latin typeface="Arial"/>
            </a:endParaRPr>
          </a:p>
        </p:txBody>
      </p:sp>
      <p:sp>
        <p:nvSpPr>
          <p:cNvPr id="42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tack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cts or actions that exploits vulnerability (i.e., an identified weakness) in controlled system</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ccomplished by threat agent that damages or steals organization’s information</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alicious code: includes execution of viruses, worms, Trojan horses, and active Web scripts with intent to destroy or steal inform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Hoaxes: transmission of a virus hoax with a real virus attached; more devious form of attack</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2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2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A53A-B2B2-4B8D-A6B8-BD193C1A978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2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3A6D-268C-4AB8-B14C-EEEC31FD70D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
        <p:nvSpPr>
          <p:cNvPr id="426" name="Text Box 2"/>
          <p:cNvSpPr/>
          <p:nvPr/>
        </p:nvSpPr>
        <p:spPr>
          <a:xfrm>
            <a:off x="1738800" y="2784600"/>
            <a:ext cx="152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ea typeface="Lucida Sans Unicode"/>
              </a:rPr>
              <a:t>New Table</a:t>
            </a:r>
            <a:endParaRPr b="0" lang="en-US" sz="2400" spc="-1" strike="noStrike">
              <a:solidFill>
                <a:srgbClr val="000000"/>
              </a:solidFill>
              <a:latin typeface="Arial"/>
            </a:endParaRPr>
          </a:p>
        </p:txBody>
      </p:sp>
      <p:pic>
        <p:nvPicPr>
          <p:cNvPr id="427" name="Picture 8" descr=""/>
          <p:cNvPicPr/>
          <p:nvPr/>
        </p:nvPicPr>
        <p:blipFill>
          <a:blip r:embed="rId1"/>
          <a:stretch/>
        </p:blipFill>
        <p:spPr>
          <a:xfrm>
            <a:off x="54000" y="304920"/>
            <a:ext cx="9036000" cy="5181480"/>
          </a:xfrm>
          <a:prstGeom prst="rect">
            <a:avLst/>
          </a:prstGeom>
          <a:ln w="0">
            <a:noFill/>
          </a:ln>
        </p:spPr>
      </p:pic>
      <p:sp>
        <p:nvSpPr>
          <p:cNvPr id="428" name="Rectangle 8"/>
          <p:cNvSpPr/>
          <p:nvPr/>
        </p:nvSpPr>
        <p:spPr>
          <a:xfrm>
            <a:off x="2435400" y="5486400"/>
            <a:ext cx="387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2-2 Attack Replication Vectors</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30"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ack door: gaining access to system or network using known or previously unknown/newly discovered access mechanism</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assword crack: attempting to reverse calculate a password</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rute force: trying every possible combination of options of a password</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ctionary: selects specific accounts to attack and uses commonly used passwords (i.e., the dictionary) to guide guess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p:txBody>
      </p:sp>
      <p:sp>
        <p:nvSpPr>
          <p:cNvPr id="431"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3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DA34-1235-4F39-B2E7-C1C710DEDA8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34"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nial-of-service (DoS): attacker sends large number of connection or information requests to a target</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22222"/>
                </a:solidFill>
                <a:latin typeface="Arial"/>
              </a:rPr>
              <a:t>Target system cannot handle successfully along with other, legitimate service requests</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22222"/>
                </a:solidFill>
                <a:latin typeface="Arial"/>
              </a:rPr>
              <a:t>May result in system crash or inability to perform ordinary functions</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stributed denial-of-service (DDoS): coordinated stream of requests is launched against target from many locations simultaneously</a:t>
            </a:r>
            <a:endParaRPr b="0" lang="en-US" sz="2400" spc="-1" strike="noStrike">
              <a:solidFill>
                <a:srgbClr val="222222"/>
              </a:solidFill>
              <a:latin typeface="Arial"/>
            </a:endParaRPr>
          </a:p>
        </p:txBody>
      </p:sp>
      <p:sp>
        <p:nvSpPr>
          <p:cNvPr id="43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3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611B-1352-4B2A-897F-B84EF425426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troduction</a:t>
            </a:r>
            <a:endParaRPr b="0" lang="en-US" sz="3600" spc="-1" strike="noStrike">
              <a:solidFill>
                <a:srgbClr val="222222"/>
              </a:solidFill>
              <a:latin typeface="Arial"/>
            </a:endParaRPr>
          </a:p>
        </p:txBody>
      </p:sp>
      <p:sp>
        <p:nvSpPr>
          <p:cNvPr id="29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imary mission of information security is to ensure systems and contents stay the sam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f no threats existed, resources could be focused on improving systems, resulting in vast improvements in ease of use and usefulnes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tacks on information systems are a daily occurrence</a:t>
            </a:r>
            <a:endParaRPr b="0" lang="en-US" sz="2600" spc="-1" strike="noStrike">
              <a:solidFill>
                <a:srgbClr val="222222"/>
              </a:solidFill>
              <a:latin typeface="Arial"/>
            </a:endParaRPr>
          </a:p>
        </p:txBody>
      </p:sp>
      <p:sp>
        <p:nvSpPr>
          <p:cNvPr id="29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29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D276-A556-4DC2-814B-C1E7AD02ED9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3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4021-7097-4237-B7FD-BA8922253BF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439" name="Picture 5" descr=""/>
          <p:cNvPicPr/>
          <p:nvPr/>
        </p:nvPicPr>
        <p:blipFill>
          <a:blip r:embed="rId1"/>
          <a:stretch/>
        </p:blipFill>
        <p:spPr>
          <a:xfrm>
            <a:off x="469800" y="0"/>
            <a:ext cx="8217000" cy="6218280"/>
          </a:xfrm>
          <a:prstGeom prst="rect">
            <a:avLst/>
          </a:prstGeom>
          <a:ln w="0">
            <a:noFill/>
          </a:ln>
        </p:spPr>
      </p:pic>
      <p:sp>
        <p:nvSpPr>
          <p:cNvPr id="440" name="Rectangle 5"/>
          <p:cNvSpPr/>
          <p:nvPr/>
        </p:nvSpPr>
        <p:spPr>
          <a:xfrm>
            <a:off x="2572200" y="6019920"/>
            <a:ext cx="39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1 Denial-of-Service Attacks</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42"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poofing: technique used to gain unauthorized access; intruder assumes a trusted IP addres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an-in-the-middle: attacker monitors network packets, modifies them, and inserts them back into network</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pam: unsolicited commercial e-mail; more a nuisance than an attack, though is emerging as a vector for some attack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ail bombing: also a DoS; attacker routes large quantities of e-mail to target</a:t>
            </a:r>
            <a:endParaRPr b="0" lang="en-US" sz="2400" spc="-1" strike="noStrike">
              <a:solidFill>
                <a:srgbClr val="222222"/>
              </a:solidFill>
              <a:latin typeface="Arial"/>
            </a:endParaRPr>
          </a:p>
        </p:txBody>
      </p:sp>
      <p:sp>
        <p:nvSpPr>
          <p:cNvPr id="44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4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1BFC-2B8E-4BD0-BE56-EE5432DCA94A}"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4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2775-732A-4851-96B4-4128CC48978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447" name="Picture 5" descr=""/>
          <p:cNvPicPr/>
          <p:nvPr/>
        </p:nvPicPr>
        <p:blipFill>
          <a:blip r:embed="rId1"/>
          <a:stretch/>
        </p:blipFill>
        <p:spPr>
          <a:xfrm>
            <a:off x="152280" y="0"/>
            <a:ext cx="8855280" cy="5943600"/>
          </a:xfrm>
          <a:prstGeom prst="rect">
            <a:avLst/>
          </a:prstGeom>
          <a:ln w="0">
            <a:noFill/>
          </a:ln>
        </p:spPr>
      </p:pic>
      <p:sp>
        <p:nvSpPr>
          <p:cNvPr id="448" name="Rectangle 5"/>
          <p:cNvSpPr/>
          <p:nvPr/>
        </p:nvSpPr>
        <p:spPr>
          <a:xfrm>
            <a:off x="3366360" y="595476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2 IP Spoofing</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5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1CBD-5403-437D-BF05-093C4A93234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
        <p:nvSpPr>
          <p:cNvPr id="451" name="Rectangle 6"/>
          <p:cNvSpPr/>
          <p:nvPr/>
        </p:nvSpPr>
        <p:spPr>
          <a:xfrm>
            <a:off x="2607480" y="6031080"/>
            <a:ext cx="39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3 Man-in-the-Middle Attack</a:t>
            </a:r>
            <a:endParaRPr b="0" lang="en-US" sz="1800" spc="-1" strike="noStrike">
              <a:solidFill>
                <a:srgbClr val="000000"/>
              </a:solidFill>
              <a:latin typeface="Arial"/>
            </a:endParaRPr>
          </a:p>
        </p:txBody>
      </p:sp>
      <p:pic>
        <p:nvPicPr>
          <p:cNvPr id="452" name="Picture 7" descr=""/>
          <p:cNvPicPr/>
          <p:nvPr/>
        </p:nvPicPr>
        <p:blipFill>
          <a:blip r:embed="rId1"/>
          <a:stretch/>
        </p:blipFill>
        <p:spPr>
          <a:xfrm>
            <a:off x="304920" y="0"/>
            <a:ext cx="8235720" cy="61308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54"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niffers: program or device that monitors data traveling over network; can be used both for legitimate purposes and for stealing information from a network</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hishing: an attempt to gain personal/financial information from individual, usually by posing as legitimate ent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harming: redirection of legitimate Web traffic (e.g., browser requests) to illegitimate site for the purpose of obtaining private information</a:t>
            </a:r>
            <a:endParaRPr b="0" lang="en-US" sz="2400" spc="-1" strike="noStrike">
              <a:solidFill>
                <a:srgbClr val="222222"/>
              </a:solidFill>
              <a:latin typeface="Arial"/>
            </a:endParaRPr>
          </a:p>
        </p:txBody>
      </p:sp>
      <p:sp>
        <p:nvSpPr>
          <p:cNvPr id="45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5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D3B5-739F-43F4-B087-F043F9DC4CE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5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33D4-A45A-449C-A4FD-D77CE746563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459" name="Picture 5" descr=""/>
          <p:cNvPicPr/>
          <p:nvPr/>
        </p:nvPicPr>
        <p:blipFill>
          <a:blip r:embed="rId1"/>
          <a:stretch/>
        </p:blipFill>
        <p:spPr>
          <a:xfrm>
            <a:off x="1314360" y="152280"/>
            <a:ext cx="7459920" cy="5943600"/>
          </a:xfrm>
          <a:prstGeom prst="rect">
            <a:avLst/>
          </a:prstGeom>
          <a:ln w="0">
            <a:noFill/>
          </a:ln>
        </p:spPr>
      </p:pic>
      <p:sp>
        <p:nvSpPr>
          <p:cNvPr id="460" name="Rectangle 5"/>
          <p:cNvSpPr/>
          <p:nvPr/>
        </p:nvSpPr>
        <p:spPr>
          <a:xfrm>
            <a:off x="2209680" y="5954760"/>
            <a:ext cx="50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4 Example of a Nigerian 4-1-9 Fraud</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62" name=""/>
          <p:cNvSpPr txBox="1"/>
          <p:nvPr/>
        </p:nvSpPr>
        <p:spPr>
          <a:xfrm>
            <a:off x="533520" y="1676520"/>
            <a:ext cx="8076960" cy="4572000"/>
          </a:xfrm>
          <a:prstGeom prst="rect">
            <a:avLst/>
          </a:prstGeom>
          <a:noFill/>
          <a:ln w="0">
            <a:noFill/>
          </a:ln>
        </p:spPr>
        <p:txBody>
          <a:bodyPr anchor="t">
            <a:normAutofit fontScale="96000"/>
          </a:bodyPr>
          <a:p>
            <a:pPr marL="329040" indent="-3290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 (cont’d.)</a:t>
            </a:r>
            <a:endParaRPr b="0" lang="en-US" sz="26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ocial engineering: using social skills to convince people to reveal access credentials or other valuable information to attacker</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t>
            </a:r>
            <a:r>
              <a:rPr b="0" lang="en-GB" sz="2400" spc="-1" strike="noStrike">
                <a:solidFill>
                  <a:srgbClr val="222222"/>
                </a:solidFill>
                <a:latin typeface="Arial"/>
              </a:rPr>
              <a:t>People are the weakest link. You can have the best technology; firewalls, intrusion-detection systems, biometric devices ... and somebody can call an unsuspecting employee. That's all she wrote, baby. They got everything.”  — Kevin Mitnick</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iming attack: relatively new; works by exploring contents of a Web browser’s cache to create malicious cookie</a:t>
            </a:r>
            <a:endParaRPr b="0" lang="en-US" sz="2400" spc="-1" strike="noStrike">
              <a:solidFill>
                <a:srgbClr val="222222"/>
              </a:solidFill>
              <a:latin typeface="Arial"/>
            </a:endParaRPr>
          </a:p>
        </p:txBody>
      </p:sp>
      <p:sp>
        <p:nvSpPr>
          <p:cNvPr id="46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6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3026-1486-4295-B4F5-F8A38EFB15B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cure Software Development</a:t>
            </a:r>
            <a:endParaRPr b="0" lang="en-US" sz="3600" spc="-1" strike="noStrike">
              <a:solidFill>
                <a:srgbClr val="222222"/>
              </a:solidFill>
              <a:latin typeface="Arial"/>
            </a:endParaRPr>
          </a:p>
        </p:txBody>
      </p:sp>
      <p:sp>
        <p:nvSpPr>
          <p:cNvPr id="466"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y information security issues discussed here are caused by software elements of syst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evelopment of software and systems is often accomplished using methodology such as Systems Development Life Cycle (SDLC)</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y organizations recognize need for security objectives in SDLC and have included procedures to create more secure softwar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is software development approach known as Software Assurance (SA)</a:t>
            </a:r>
            <a:r>
              <a:rPr b="0" lang="ar-SA" sz="2600" spc="-1" strike="noStrike">
                <a:solidFill>
                  <a:srgbClr val="222222"/>
                </a:solidFill>
                <a:latin typeface="Arial"/>
              </a:rPr>
              <a:t>‏</a:t>
            </a:r>
            <a:endParaRPr b="0" lang="en-US" sz="2600" spc="-1" strike="noStrike">
              <a:solidFill>
                <a:srgbClr val="222222"/>
              </a:solidFill>
              <a:latin typeface="Arial"/>
            </a:endParaRPr>
          </a:p>
        </p:txBody>
      </p:sp>
      <p:sp>
        <p:nvSpPr>
          <p:cNvPr id="467"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6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63C1-27A1-48EC-9373-5AA82F0C609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Assurance and the SA Common Body of Knowledge</a:t>
            </a:r>
            <a:endParaRPr b="0" lang="en-US" sz="3600" spc="-1" strike="noStrike">
              <a:solidFill>
                <a:srgbClr val="222222"/>
              </a:solidFill>
              <a:latin typeface="Arial"/>
            </a:endParaRPr>
          </a:p>
        </p:txBody>
      </p:sp>
      <p:sp>
        <p:nvSpPr>
          <p:cNvPr id="470"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ational effort underway to create common body of knowledge focused on secure software developm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Department of Defense and Department of Homeland Security supported Software Assurance Initiative, which resulted in publication of Secure Software Assurance (SwA) Common Body of Knowledge (CBK)</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wA CBK serves as a strongly recommended guide to developing more secure applications</a:t>
            </a:r>
            <a:endParaRPr b="0" lang="en-US" sz="2600" spc="-1" strike="noStrike">
              <a:solidFill>
                <a:srgbClr val="222222"/>
              </a:solidFill>
              <a:latin typeface="Arial"/>
            </a:endParaRPr>
          </a:p>
        </p:txBody>
      </p:sp>
      <p:sp>
        <p:nvSpPr>
          <p:cNvPr id="471"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7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3E9F-D142-4E01-ADBF-4A4F6DCCDDB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Design Principles</a:t>
            </a:r>
            <a:endParaRPr b="0" lang="en-US" sz="3600" spc="-1" strike="noStrike">
              <a:solidFill>
                <a:srgbClr val="222222"/>
              </a:solidFill>
              <a:latin typeface="Arial"/>
            </a:endParaRPr>
          </a:p>
        </p:txBody>
      </p:sp>
      <p:sp>
        <p:nvSpPr>
          <p:cNvPr id="474"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Good software development results in secure products that meet all design specifica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ome commonplace security principl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Keep design simple and small</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ccess decisions by permission not exclus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very access to every object checked for autho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sign depends on possession of keys/password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tection mechanisms require two keys to unlock</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grams/users utilize only necessary privileges</a:t>
            </a:r>
            <a:endParaRPr b="0" lang="en-US" sz="2400" spc="-1" strike="noStrike">
              <a:solidFill>
                <a:srgbClr val="222222"/>
              </a:solidFill>
              <a:latin typeface="Arial"/>
            </a:endParaRPr>
          </a:p>
        </p:txBody>
      </p:sp>
      <p:sp>
        <p:nvSpPr>
          <p:cNvPr id="47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7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867C-DBF6-4D16-A0E3-C7775FE69A6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Business Needs First</a:t>
            </a:r>
            <a:endParaRPr b="0" lang="en-US" sz="3600" spc="-1" strike="noStrike">
              <a:solidFill>
                <a:srgbClr val="222222"/>
              </a:solidFill>
              <a:latin typeface="Arial"/>
            </a:endParaRPr>
          </a:p>
        </p:txBody>
      </p:sp>
      <p:sp>
        <p:nvSpPr>
          <p:cNvPr id="29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performs four important functions for an organizati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tects ability to func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ables safe operation of applications implemented on its IT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tects data the organization collects and us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afeguards technology assets in use</a:t>
            </a:r>
            <a:endParaRPr b="0" lang="en-US" sz="2400" spc="-1" strike="noStrike">
              <a:solidFill>
                <a:srgbClr val="222222"/>
              </a:solidFill>
              <a:latin typeface="Arial"/>
            </a:endParaRPr>
          </a:p>
        </p:txBody>
      </p:sp>
      <p:sp>
        <p:nvSpPr>
          <p:cNvPr id="29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29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8DA4-872F-4D4E-BCBA-D6E96B09B2C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Design Principles (cont’d.)</a:t>
            </a:r>
            <a:endParaRPr b="0" lang="en-US" sz="3600" spc="-1" strike="noStrike">
              <a:solidFill>
                <a:srgbClr val="222222"/>
              </a:solidFill>
              <a:latin typeface="Arial"/>
            </a:endParaRPr>
          </a:p>
        </p:txBody>
      </p:sp>
      <p:sp>
        <p:nvSpPr>
          <p:cNvPr id="478"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ome commonplace security principles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inimize mechanisms common to multiple use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Human interface must be easy to use so users routinely/automatically use protection mechanisms</a:t>
            </a:r>
            <a:endParaRPr b="0" lang="en-US" sz="2400" spc="-1" strike="noStrike">
              <a:solidFill>
                <a:srgbClr val="222222"/>
              </a:solidFill>
              <a:latin typeface="Arial"/>
            </a:endParaRPr>
          </a:p>
        </p:txBody>
      </p:sp>
      <p:sp>
        <p:nvSpPr>
          <p:cNvPr id="47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8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3AA4-3750-4A9A-88B7-46377A4FDCC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Development Security Problems</a:t>
            </a:r>
            <a:endParaRPr b="0" lang="en-US" sz="3600" spc="-1" strike="noStrike">
              <a:solidFill>
                <a:srgbClr val="222222"/>
              </a:solidFill>
              <a:latin typeface="Arial"/>
            </a:endParaRPr>
          </a:p>
        </p:txBody>
      </p:sp>
      <p:sp>
        <p:nvSpPr>
          <p:cNvPr id="482"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blem areas in software developmen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uffer overru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mand injec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ross-site script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ailure to handle erro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ailure to protect network traffic</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ailure to store and protect data securel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ailure to use cryptographically strong random numbers</a:t>
            </a:r>
            <a:endParaRPr b="0" lang="en-US" sz="2400" spc="-1" strike="noStrike">
              <a:solidFill>
                <a:srgbClr val="222222"/>
              </a:solidFill>
              <a:latin typeface="Arial"/>
            </a:endParaRPr>
          </a:p>
        </p:txBody>
      </p:sp>
      <p:sp>
        <p:nvSpPr>
          <p:cNvPr id="48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8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72A1-12B3-40C2-94AA-A0003EBD0C1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Development Security Problem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86"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blem areas in software development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ormat string probl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eglecting change control</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mproper file acces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mproper use of SSL</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formation leakag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teger bugs (overflows/underflows)</a:t>
            </a:r>
            <a:r>
              <a:rPr b="0" lang="ar-SA" sz="2400" spc="-1" strike="noStrike">
                <a:solidFill>
                  <a:srgbClr val="222222"/>
                </a:solidFill>
                <a:latin typeface="Arial"/>
              </a:rPr>
              <a: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Race conditio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QL injec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p:txBody>
      </p:sp>
      <p:sp>
        <p:nvSpPr>
          <p:cNvPr id="487"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8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2E5D-0500-4C19-9967-DD745EC8FA6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Development Security Problem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90"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blem areas in software development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rusting network address resolu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nauthenticated key exchang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e of magic URLs and hidden for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e of weak password-based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oor usability</a:t>
            </a:r>
            <a:endParaRPr b="0" lang="en-US" sz="2400" spc="-1" strike="noStrike">
              <a:solidFill>
                <a:srgbClr val="222222"/>
              </a:solidFill>
              <a:latin typeface="Arial"/>
            </a:endParaRPr>
          </a:p>
        </p:txBody>
      </p:sp>
      <p:sp>
        <p:nvSpPr>
          <p:cNvPr id="491"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9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842D-07CD-4DAC-97C7-389CDE498F0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a:t>
            </a:r>
            <a:endParaRPr b="0" lang="en-US" sz="3600" spc="-1" strike="noStrike">
              <a:solidFill>
                <a:srgbClr val="222222"/>
              </a:solidFill>
              <a:latin typeface="Arial"/>
            </a:endParaRPr>
          </a:p>
        </p:txBody>
      </p:sp>
      <p:sp>
        <p:nvSpPr>
          <p:cNvPr id="494" name=""/>
          <p:cNvSpPr txBox="1"/>
          <p:nvPr/>
        </p:nvSpPr>
        <p:spPr>
          <a:xfrm>
            <a:off x="533520" y="1676520"/>
            <a:ext cx="8076960" cy="4572000"/>
          </a:xfrm>
          <a:prstGeom prst="rect">
            <a:avLst/>
          </a:prstGeom>
          <a:noFill/>
          <a:ln w="0">
            <a:noFill/>
          </a:ln>
        </p:spPr>
        <p:txBody>
          <a:bodyPr anchor="t">
            <a:normAutofit fontScale="98000"/>
          </a:bodyPr>
          <a:p>
            <a:pPr marL="335880" indent="-3358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nlike any other aspect of IT, information security’s primary mission to ensure things stay the way they are</a:t>
            </a:r>
            <a:endParaRPr b="0" lang="en-US" sz="2600" spc="-1" strike="noStrike">
              <a:solidFill>
                <a:srgbClr val="222222"/>
              </a:solidFill>
              <a:latin typeface="Arial"/>
            </a:endParaRPr>
          </a:p>
          <a:p>
            <a:pPr marL="335880" indent="-3358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performs four important functions:</a:t>
            </a:r>
            <a:endParaRPr b="0" lang="en-US" sz="2600" spc="-1" strike="noStrike">
              <a:solidFill>
                <a:srgbClr val="222222"/>
              </a:solidFill>
              <a:latin typeface="Arial"/>
            </a:endParaRPr>
          </a:p>
          <a:p>
            <a:pPr lvl="1" marL="727920" indent="-280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tects organization’s ability to function</a:t>
            </a:r>
            <a:endParaRPr b="0" lang="en-US" sz="2400" spc="-1" strike="noStrike">
              <a:solidFill>
                <a:srgbClr val="222222"/>
              </a:solidFill>
              <a:latin typeface="Arial"/>
            </a:endParaRPr>
          </a:p>
          <a:p>
            <a:pPr lvl="1" marL="727920" indent="-280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ables safe operation of applications implemented on organization’s IT systems</a:t>
            </a:r>
            <a:endParaRPr b="0" lang="en-US" sz="2400" spc="-1" strike="noStrike">
              <a:solidFill>
                <a:srgbClr val="222222"/>
              </a:solidFill>
              <a:latin typeface="Arial"/>
            </a:endParaRPr>
          </a:p>
          <a:p>
            <a:pPr lvl="1" marL="727920" indent="-280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tects data the organization collects and uses</a:t>
            </a:r>
            <a:endParaRPr b="0" lang="en-US" sz="2400" spc="-1" strike="noStrike">
              <a:solidFill>
                <a:srgbClr val="222222"/>
              </a:solidFill>
              <a:latin typeface="Arial"/>
            </a:endParaRPr>
          </a:p>
          <a:p>
            <a:pPr lvl="1" marL="727920" indent="-280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afeguards the technology assets in use at the organization</a:t>
            </a:r>
            <a:endParaRPr b="0" lang="en-US" sz="2400" spc="-1" strike="noStrike">
              <a:solidFill>
                <a:srgbClr val="222222"/>
              </a:solidFill>
              <a:latin typeface="Arial"/>
            </a:endParaRPr>
          </a:p>
        </p:txBody>
      </p:sp>
      <p:sp>
        <p:nvSpPr>
          <p:cNvPr id="49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9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1502-EB4E-49DA-BCFF-C6DD27D8F52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 (cont’d.)</a:t>
            </a:r>
            <a:endParaRPr b="0" lang="en-US" sz="3600" spc="-1" strike="noStrike">
              <a:solidFill>
                <a:srgbClr val="222222"/>
              </a:solidFill>
              <a:latin typeface="Arial"/>
            </a:endParaRPr>
          </a:p>
        </p:txBody>
      </p:sp>
      <p:sp>
        <p:nvSpPr>
          <p:cNvPr id="498"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reat: object, person, or other entity representing a constant danger to an asse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agement effectively protects its information through policy, education, training, and technology control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tack: a deliberate act that exploits vulnerabil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e systems require secure software</a:t>
            </a:r>
            <a:endParaRPr b="0" lang="en-US" sz="2600" spc="-1" strike="noStrike">
              <a:solidFill>
                <a:srgbClr val="222222"/>
              </a:solidFill>
              <a:latin typeface="Arial"/>
            </a:endParaRPr>
          </a:p>
        </p:txBody>
      </p:sp>
      <p:sp>
        <p:nvSpPr>
          <p:cNvPr id="49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50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4356-F62A-438C-8015-2D666962F0E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otecting the Functionality of an Organization</a:t>
            </a:r>
            <a:endParaRPr b="0" lang="en-US" sz="3600" spc="-1" strike="noStrike">
              <a:solidFill>
                <a:srgbClr val="222222"/>
              </a:solidFill>
              <a:latin typeface="Arial"/>
            </a:endParaRPr>
          </a:p>
        </p:txBody>
      </p:sp>
      <p:sp>
        <p:nvSpPr>
          <p:cNvPr id="30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agement (general and IT) responsible for implement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is both management issue and people issu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 should address information security in terms of business impact and cost </a:t>
            </a:r>
            <a:endParaRPr b="0" lang="en-US" sz="2600" spc="-1" strike="noStrike">
              <a:solidFill>
                <a:srgbClr val="222222"/>
              </a:solidFill>
              <a:latin typeface="Arial"/>
            </a:endParaRPr>
          </a:p>
        </p:txBody>
      </p:sp>
      <p:sp>
        <p:nvSpPr>
          <p:cNvPr id="30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0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A7B2-C24C-4105-95D7-5B60E86C973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nabling the Safe Operation of Applications</a:t>
            </a:r>
            <a:endParaRPr b="0" lang="en-US" sz="3600" spc="-1" strike="noStrike">
              <a:solidFill>
                <a:srgbClr val="222222"/>
              </a:solidFill>
              <a:latin typeface="Arial"/>
            </a:endParaRPr>
          </a:p>
        </p:txBody>
      </p:sp>
      <p:sp>
        <p:nvSpPr>
          <p:cNvPr id="30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 needs environments that safeguard applications using IT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agement must continue to oversee infrastructure once in place—not relegate to IT department</a:t>
            </a:r>
            <a:endParaRPr b="0" lang="en-US" sz="2600" spc="-1" strike="noStrike">
              <a:solidFill>
                <a:srgbClr val="222222"/>
              </a:solidFill>
              <a:latin typeface="Arial"/>
            </a:endParaRPr>
          </a:p>
        </p:txBody>
      </p:sp>
      <p:sp>
        <p:nvSpPr>
          <p:cNvPr id="30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0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46D89-DC58-4443-8C09-BAA18A23058A}"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otecting Data that Organizations Collect and Use</a:t>
            </a:r>
            <a:endParaRPr b="0" lang="en-US" sz="3600" spc="-1" strike="noStrike">
              <a:solidFill>
                <a:srgbClr val="222222"/>
              </a:solidFill>
              <a:latin typeface="Arial"/>
            </a:endParaRPr>
          </a:p>
        </p:txBody>
      </p:sp>
      <p:sp>
        <p:nvSpPr>
          <p:cNvPr id="30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 without data, loses its record of transactions and/or ability to deliver value to customer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tecting data in motion and data at rest are both critical aspects of information security</a:t>
            </a:r>
            <a:endParaRPr b="0" lang="en-US" sz="2600" spc="-1" strike="noStrike">
              <a:solidFill>
                <a:srgbClr val="222222"/>
              </a:solidFill>
              <a:latin typeface="Arial"/>
            </a:endParaRPr>
          </a:p>
        </p:txBody>
      </p:sp>
      <p:sp>
        <p:nvSpPr>
          <p:cNvPr id="31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1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CAD5-8446-41F7-B567-FD213C79BBB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afeguarding Technology Assets in Organizations</a:t>
            </a:r>
            <a:endParaRPr b="0" lang="en-US" sz="3600" spc="-1" strike="noStrike">
              <a:solidFill>
                <a:srgbClr val="222222"/>
              </a:solidFill>
              <a:latin typeface="Arial"/>
            </a:endParaRPr>
          </a:p>
        </p:txBody>
      </p:sp>
      <p:sp>
        <p:nvSpPr>
          <p:cNvPr id="31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s must have secure infrastructure services based on size and scope of enterpris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dditional security services may be needed as organization grow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ore robust solutions may be needed to replace security programs the organization has outgrown</a:t>
            </a:r>
            <a:endParaRPr b="0" lang="en-US" sz="2600" spc="-1" strike="noStrike">
              <a:solidFill>
                <a:srgbClr val="222222"/>
              </a:solidFill>
              <a:latin typeface="Arial"/>
            </a:endParaRPr>
          </a:p>
        </p:txBody>
      </p:sp>
      <p:sp>
        <p:nvSpPr>
          <p:cNvPr id="31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1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7A77-7BEE-4AA3-AE35-373026804DD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1:24:19Z</dcterms:created>
  <dc:creator/>
  <dc:description/>
  <dc:language>en-US</dc:language>
  <cp:lastModifiedBy>Hp</cp:lastModifiedBy>
  <dcterms:modified xsi:type="dcterms:W3CDTF">2012-09-20T03:08:32Z</dcterms:modified>
  <cp:revision>62</cp:revision>
  <dc:subject/>
  <dc:title>Principals of Information Security,  Fourth Edition</dc:title>
</cp:coreProperties>
</file>