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7B13-B2A0-469A-8A81-E8791568C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821B-A15F-4790-B265-E6D3DF21D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E521-8FBA-41A2-9F89-15BDCCDEA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1B2F-C071-408F-8659-9EDC2AE45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AD1A-7AEE-40E8-BDE8-569AB931D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1A51-930A-4CB5-91D6-216D978D2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68FD-62AE-480F-AB35-323861A4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5F61-10E9-4BEE-BBD4-E995C6800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FFF5-1860-47B7-8733-A7C9FEB2C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B105-254B-4A7B-A2C8-044248C7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E06E-6DA2-48A7-9418-5BDF02742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D6C-AE70-44D5-A475-C13B233E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E5BE-537A-48F1-BBAE-1FB85B2DB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A328-19ED-47A3-8F60-B764CA73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91A-FE7A-49A4-AE14-FBEE28F7F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FE6A-3B8C-470B-A8F6-34B5D7EE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23EF-30F9-4906-9037-52B6E06B3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DBC-B2FA-438D-9CD5-24A484BE0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80BE-465F-498F-AD1A-2E814435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FF9-82BC-4D19-A5B1-35521834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07BD-552A-4849-A637-518B38D1F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14DE-C7D0-4DD8-9893-0EA30387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3849-82A6-4D76-AEEB-180EEDE62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3754-AE76-4E71-8512-79D89CD5C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CB3-5F15-4B9F-A35C-8FF6B51A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931-0D4F-462E-B58D-C56659F7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2366-35DC-43EE-9329-DC657650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2989-77D2-4937-B4AA-606E24D7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53A3-E920-4338-94F0-B8800E8FF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5F1-0972-496A-87EB-49BA18E82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6E1-8161-4CDD-B47C-C97A58A5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07D3-A76D-4E41-A871-76B37C53E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58FA-94AB-4232-887A-8EC34C1A8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467B-6991-440E-AC7F-AD0C7AFE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E68D-B3DC-48BF-9F8E-D90D127BA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BF65-B9E4-4029-9946-6B5D9C1B6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F35-E810-4682-AE82-6783EE24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8378-B8A0-459F-8CFC-243EBD3A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A329-9BFD-4F6C-81C6-AEB8A0610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33D-4A8D-46B9-A9B1-F6916D373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A25-411E-479C-AE0E-966470F52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469C-189A-4B3D-AE3D-64B1EB3B9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C7AF-F860-4F85-B57A-75ECBEFB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C401-7890-42E8-9EA5-2B557E28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B8A-CA0F-4C15-A66C-323222C73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0512-F4F2-49FD-9CE0-85269D62C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0906-78E4-445F-B1A2-036BF701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56F7-F104-4E48-9124-30275273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D09B-710C-46A6-A76A-D37D71DB8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4A03-CCF4-4471-85D0-BAC90DDED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C7944-9895-4B9C-9395-541235E0A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C0A2-2B66-48FE-83B2-41A05D397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BC606-1224-4821-87B6-69C1A19B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D5D5C-09FD-4FC0-A646-788E6103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EEE4-E60A-41BC-898A-2E3041E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5EAE3-BD56-439E-9334-8F24CE2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DF398-AC2A-4ED3-B597-8BC3DDD2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ED2B1-5848-4FDE-B2F9-9B4FBCAE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E42EB-E643-4CE1-8AAF-2AF9F3E9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13DCB-E33A-47D4-98D7-ABBDF6D39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6A844-F30F-4F8C-810B-9C6EA94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5B86-5102-4F20-8681-C79C3617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67848-E52F-4138-889E-464D3099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6D953-7389-43DB-BE97-107428A1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02226-238B-45DD-A2E2-6E248008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5D369-9B2F-4443-933C-BBB6F82B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E9418-08E6-47D6-ADA2-8A760DBA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5E3B5-A25D-47BA-938B-309E82DE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058DC-5FCC-43DE-9BF8-37E085E7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A8017-A05E-4D32-8B18-40527A31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75E5-17C7-428F-9C1B-93D1FF23D6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FFF4EB-100E-4027-A933-3E9107F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29345-1D70-42F8-9AE5-2600439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E20A3-103D-4112-AB4C-CB8AF8D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6218D-DA12-4B9B-B607-52F1115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63596-96A2-42A4-8782-F940385B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5EEBB-83AF-48AC-BD70-8B64329E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08541-5396-4AD9-9DF7-7C6B007E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FF6C-2F16-40B4-AED6-897A46FAC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A247-9745-400D-BDC7-DCC67CF2A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2030-F1F5-44D4-84C4-79BA982B9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6E0B-CD44-44B8-89C6-BC8483206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6FC3-C2E2-4623-86F0-640C7FCD1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236AD-5751-44BC-9CA1-2775919B24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C274-8E78-4D27-943A-67EA086694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3731-2234-4683-859E-F84B2FCB04EF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D45-B76B-4674-BE48-F57603E0289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4159-7B84-44E4-A0D4-120508531A49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DE43-B5B7-4540-A452-83C3929ED7C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Two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The Development of Enterprise Resource Planning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4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ard economic times of the late 1980s and early 1990s caused many companies to downsize and reorganiz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imulus to ERP develo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efficiencies caused by the functional model of business organiz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los of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mits the exchange of information between the lower operating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E189-150D-4BA0-A5DA-F677DEA8608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2  Information and material flows in a functional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FCA7-9920-466A-B9A0-15597BB2A2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8" descr="Z:\Chimborazo\ERP Project\Art\C8084_02\C8084_ch02_f02.bmp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model led to top-heavy and overstaffed organizations incapable of reacting quickly to chan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cess business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flows between the operating levels without top management’s involv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rther impetus for adopting ERP systems has come from compliance with the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companies to substantiate internal controls on all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1366-AECA-40A1-9636-EA25055A665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’s Impetus to Adopt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62120" y="57150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3  Information and material flows in a process business 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060-7DBB-4CB5-BC3A-7BB52CB4DA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7" descr="Z:\Chimborazo\ERP Project\Art\C8084_02\C8084_ch02_f03.bmp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Software Emerges: SAP and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72: five former IBM systems analysts in Mannheim, Germany formed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Systemanalyse und Programmentwicklung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Systems Analysis and Program Development, or SA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’s goa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standard software product that could be configured to meet the needs of each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available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s working on computer screens, rather than with voluminous printed outpu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8EA-6E8E-4379-9DA9-F49CADBC57E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uring their work for German chemical company ICI, Plattner and Hopp had developed the idea of modular software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ftware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modul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ividual programs that can be purchased, installed, and run separately, but that all extract data from the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2: SAP released its R/2 mainframe ERP software pack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D07C-4B70-4A0C-BBF6-E5EC83958D4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egins Developing Software Modu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0s: sales grew rapidly; SAP extended its software’s capabilities and expanded into international mark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88, SAP had established subsidiaries in numerous foreign countr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58F1-374C-45D9-9480-2DCCB849E5E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R/3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88: SAP began development of it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/3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 to take advantage of client-server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1992: first version of SAP R/3 rel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 system was designed using an open architecture approa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Open architectur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third-party software companies encouraged to develop add-on software products that can be integrated with existing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9150-888A-4D7B-984A-61378A60E58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1990s: Year 2000 (or Y2K) problem motivated many companies to move to ERP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 AG had 22,000 employees in 50 countries and 10 million users at 30,000 installations around the wor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2000, SAP’s competition in the ERP marke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ate 2004: Oracle succeeded in its bid to take over 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1BE1-0B88-4916-928F-982FA1A085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d by David Duffield, a former IBM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day, PeopleSoft, under Oracle, is a popular software choice for managing human resources and financial activities at univers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rac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’s biggest competi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gan in 1977 as Software Development Laboratories (SDL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unders: Larry Ellison, Bob Miner, and Ed O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2072-78D4-47A8-9434-79ADD66C148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083F-C89B-424E-A6AB-337976A51F9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factors that led to the development of Enterprise Resource Planning (ERP)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the distinguishing modular characteristic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cuss the pros and cons of implementing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mmarize ongoing developments in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test versions of ERP systems by SAP and other companies allow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ll business areas to access the same databas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limination of redundant data and communications lag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ata to be entered once and then used throughout the organiz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7AD4-90A8-4535-B71F-B81B7EBF1E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571500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4  Data flow within an integrated information 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836A-15FA-48BB-9A76-A9230FEB413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7" descr="Z:\Chimborazo\ERP Project\Art\C8084_02\C8084_ch02_f04.bmp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Distribution (SD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terials Management (M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ning (PP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ality Management (Q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lant Maintenance (P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et Management (AM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6B1E-1C4C-48EC-9608-BAA1291B3F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SAP ERP system: SAP ECC 6.0 (Enterprise Central Component 6.0)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uman Resources (HR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ject System (PS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 (FI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ling (CO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orkflow (WF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B3FA-19E0-4FD3-ACE0-24CDC50CF0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w Directions in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457200" y="5715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5 Modules within the SAP ERP integrated information systems environment (Courtesy of SAP A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D56-2499-4C61-BA2C-32B8DCA88BA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7" descr="Z:\Chimborazo\ERP Project\Art\C8084_02\C8084_ch02_f05.bmp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all companies that use SAP use all of the SAP ERP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’s level of data integration is highest when it uses one vendor to supply all of its mo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figuration options allow the company to customize the modules it has chosen to fit the company’s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45EE-7A58-4003-ADBC-3DA17F5D907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pecific ranges that define transaction limi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has defined the tolerance group methodology as its method for placing limits on an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figuration allows the company to further tailor tolerance group method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42BB-2D52-484A-853E-2B5F0997314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57200" y="5715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6  A customization example: tolerance groups to set transaction lim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480-8F64-48BF-AED4-3B6C9AF80B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7" descr="Z:\Chimborazo\ERP Project\Art\C8084_02\C8084_ch02_f06.bmp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ERP Software Implement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eatures of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rst software that could deliver real-time ERP integ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ability by large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gh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on of data up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bility of best pract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Best practice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SAP’s software designers choose the best, most efficient ways in which business processes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should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be handl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0B22-A04A-425B-867F-70D562C17FA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1998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of the Fortune 500 companies had already installed ERP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vendors refocused their marketing efforts on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ll-in-O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ingle package containing specific, preconfigured bundles of SAP ERP tailored for particular indus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be installed more quickly than the standard ERP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27F-E392-499C-B20E-83D0A39AEE1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CD39-5D00-438F-8C83-5F02F276DD5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fficient, integrated information systems are very important for companies to be competi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 Enterprise Resource Planning (ERP) system can help integrate a company’s oper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s as a company-wide computing environ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ludes a database that is shared by all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deliver consistent data across all business functions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Midsized Compan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pplication hos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rd-party company provides the hardware and software suppor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ERP systems like SAP more appealing to midsized compan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nd Oracle are facing competition from smaller providers of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57B-910E-4E30-BE4B-D99244CD63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sponses of the Software to the Changing Mark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mid-1990s, many companies complained about the difficulty of implementing SAP R/3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esponded by developing Accelerated SAP (ASAP) implementation method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ses the implementation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continues to extend capabilities of SAP ERP with additional, separate products that run on separate hardware and extract data from the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299C-42C7-43DD-8116-AE850B505E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oosing Consultants and Vendo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person cannot fully understand a single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fore choosing a software vendor, most compan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udy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e an external team of software consultants to help choose the right software vendor(s) and the best approach to implementing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26CD-0791-4365-BC1D-334168ADDCA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ignificance and Benefits of ERP Software and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re efficient business processes that cost less than those in unintegrated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sier global integ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s people and data while eliminating the need to update and repair many separate computer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llows management to manage operations, not just monitor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n dramatically reduce costs and improve operational efficien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BC96-8AFA-4BE5-BA55-C37E8E697D9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Questions About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1DCF-4DE2-4AAC-BB84-8621295B1B8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Much Does an ERP System Cos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ze of the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rresponds to the size of the company it serv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 for new hardware that is capable of running complex ERP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ultants’ and analysts’ f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 for implem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uses disruption of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sts both time and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76E-FF41-4D1A-AB1F-124F4C06E3C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hould Every Business Buy an ERP Packag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of a business’s operations, and some segments of its operations, might not be a good match with the constraints of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times, a company is not ready for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 difficulties result when management does not fully understand its current business processes and cannot make implementation decisions in a timely mann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7C51-9170-49BC-8520-704F9547221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s ERP Software Inflexibl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people claim that ERP systems, especially the SAP ERP system, are rigi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ptions for customization offered by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erous configuration options that help businesses customize the software to fit their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grammers can write specific routines using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Advanced Business Application Programming (ABAP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an ERP system is in place, trying to reconfigure it while retaining data integrity is expensive and time-consum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605D-4A13-4094-ACE3-34F4FCE7299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eliminates redundant efforts and duplicated data; can generate savings in operations expen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can help produce goods and services more quick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 that doesn’t implement an ERP system might be forced out of business by competitors that have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moothly running ERP system can save a company’s personnel, suppliers, distributors, and customers much frust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5CA3-3BDC-496A-A90E-D996EB48EE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Return Can a Company Expect from Its ERP Investment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st savings and increased revenues occur over many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put an exact dollar figure to the amount accrued from the original ERP inves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implementations take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business factors may be affecting the company’s costs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fficult to isolate the impact of the ERP system alon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provide real-tim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mprove external customer commun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7D7E-0587-4102-9EE6-BBFC87D628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volution of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ilos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systems configuration used until recent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had unintegrated information systems that supported only the activities of individual business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rrent ERP systems evolved as a result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dvancement of hardware and software techn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ment of a vision of integrated information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engineering of companies to shift from a functional focus to a business process focu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131E-4A95-4DE8-B5F0-65CBC0CF042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w Long Does It Take to See a Return on an ERP Investment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turn on investment (ROI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ssessment of an investment project’s valu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lculated by dividing the value of the project’s benefits by the project’s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’s ROI can be difficult to calcul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erstone Research stud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63 percent of companies that performed the calculation reported a positive ROI for ER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st companies felt that nonfinancial goals were the reason behind their ERP install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76E-9AF4-4846-9214-73676BEB2D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7" descr="http://www.entrepreneur.com/i/images/misc/roi.jpg"/>
          <p:cNvPicPr/>
          <p:nvPr/>
        </p:nvPicPr>
        <p:blipFill>
          <a:blip r:embed="rId1"/>
          <a:stretch/>
        </p:blipFill>
        <p:spPr>
          <a:xfrm>
            <a:off x="5638680" y="2971800"/>
            <a:ext cx="2952720" cy="87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blindly hoping that new software will cure fundamental business problems that are not curable by any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not taking enough time for a proper analysis during planning and implementation ph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ecutives and IT managers skimping on employee education and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210-1DBB-4AAD-AE24-E593CEB6FBD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ually, a bumpy rollout and low ROI are caused by </a:t>
            </a:r>
            <a:r>
              <a:rPr b="0" i="1" lang="en-US" sz="2600" spc="-1" strike="noStrike">
                <a:solidFill>
                  <a:srgbClr val="222222"/>
                </a:solidFill>
                <a:latin typeface="Arial"/>
              </a:rPr>
              <a:t>peopl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nd misguided expectations, not computer malfunctions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not placing ownership or accountability for the implementation project on the personnel who will operate the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nless a large project such as an ERP installation is promoted from the top down, it is doomed to f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implementation brings a tremendous amount of change for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B161-976B-49D8-9207-C1EBBED95F9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Do Some Companies Have More Success with ERP Than Others?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r many users, it takes years before they can take advantage of many of an ERP system’s capabil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st ERP installations do generate retur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8E8D-E9ED-4BC9-A06C-CF561E0571E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Continuing Evolution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derstanding the social and business implications of new technologies is not eas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have been in common use only since the mid-199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vendors are working to solve adaptability problems that plague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20B9-560F-4C48-8C47-659AB3AC893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peed and power of computing hardware increased exponentially, while cost and size decreas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rly client-server architecture provided the conceptual framework for multiple users sharing common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creasingly sophisticated software facilitated integration, especially in two areas: A/F and manufacturing resource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F1FB-AF65-4EFC-926D-95076191B4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rowth of business size, complexity, and competition made business managers demand more efficient and competitive information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AG produced a complex, modular ERP program called R/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uld integrate a company’s entire business by using a common database that linked all oper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R/3, now called SAP ERP, is modular software offering modules for Sales and Distribution, Materials Management, Production Planning, Quality Management, and other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8D7-4B79-4307-881C-41907038DB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is expensive to purchase and time-consuming to implement, and it requires significant employee training—but the payoffs can be spectacula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some companies, ROI may not be immediate or even calcu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erts anticipate that ERP’s future focus will be on managing customer relationships, improving planning and decision making, and linking operations to the Internet and other applications through service-oriented archite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5A4-F9AC-421E-A249-D6DA7DD538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 hardware and software developed rapidly in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rst practical business computers were the mainframe computers of the 196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ver time, computers got faster, smaller, and cheap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ore’s La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transistors that could be built into a computer chip doubled every 18 month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8FF3-FF6D-47E5-A459-64682CB00F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7DC0-646E-414A-9E87-3A104363D4A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Z:\Chimborazo\ERP Project\Art\C8084_02\C8084_ch02_f01.bmp"/>
          <p:cNvPicPr/>
          <p:nvPr/>
        </p:nvPicPr>
        <p:blipFill>
          <a:blip r:embed="rId1"/>
          <a:stretch/>
        </p:blipFill>
        <p:spPr>
          <a:xfrm>
            <a:off x="533520" y="1676520"/>
            <a:ext cx="7772400" cy="40478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304920" y="57913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-1  The actual increase in transistors on a chip approximates Moore’s La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Hardware and Software Develop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cements in computer softwa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70s: relational database software develo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vide businesses the ability to store, retrieve, and analyze large volumes of data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80s: spreadsheet software became popul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Managers can easily perform complex business analy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30C9-475F-414A-92C8-E7E90796ACD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arly Attempts to Share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telecommunications developments allowed users to share data and peripherals on local net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lient-server archite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end of the 1980s, the hardware needed to support development of ERP systems was in pla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y the mid-1980s,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atabase management system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B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) required to manage development of complex ERP software exis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B101-3C40-4C3E-AB74-20C56379BB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nufacturing Root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ufacturing software developed during the 1960s and 1970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olved from simple inventory-tracking systems to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terial requirements planning (MRP)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lectronic data interchange (ED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irect computer-to-computer exchange of standard business docu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ed companies to handle the purchasing process electronic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F115-ADF7-4D1F-A630-E9C5BF5765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2-21T21:35:24Z</dcterms:modified>
  <cp:revision>574</cp:revision>
  <dc:subject/>
  <dc:title>Chapter 2</dc:title>
</cp:coreProperties>
</file>