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6D09-3D10-4570-BCA3-9490BC27C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E2F3-5CA4-4565-ACDC-E82847325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ADC6-BDE6-448D-AD23-65BB9E7C0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8EFC-0391-47C2-921D-200563317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549F-09D9-4FAB-B1DB-CEE239569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4EE4-FC66-49C3-8BC3-86F26CEC6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25D9-8366-4AE6-B97B-22FD2229A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B35D-2F1A-4FC0-802C-A9E081F41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17C4-EBFA-418A-BFDD-F80454279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275B-25E0-47B3-BF68-C3475AC52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5B47-A155-4526-A82B-5E38DD28F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9AE8-74CF-4D95-853A-7F3B9EFA5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E0D9-18ED-47E3-B05A-829003C18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7421-975A-4F35-8968-5C168D033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0842-D1DC-4EAD-82D3-CE1B1961B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DF48-341E-4D34-84C6-62777FCFB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B082-8BC1-4708-B509-6423B83F6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7B55-4030-4725-9D31-D16F0D6CE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A545-C8AC-41CB-9BD3-A447B4CA6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0DAB-4D0E-46EE-A1C2-4C9659D6E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18C7-265C-4CA1-95AB-721F568BB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38FD-49AF-490C-B2F2-447FD90F6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99C8-94DF-4E83-8247-6EDAAB201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E859-A549-462E-A811-334AC3DE4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823C-E6EA-4ADD-89D7-D23FE52C0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53DF-3819-4571-8BA3-A09B48166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4DC3-1B48-4EC8-AB51-AEAB4EADC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644D-026E-4F0F-A28F-E4C4E6838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A214-07B3-4635-82EE-640A898C7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1389-7134-4CF6-8E70-8AD0185C2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2CFA-631B-46BC-BB93-705FD43AC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E1D4-39FD-472D-A2EC-3744984E1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35CE-85F4-41B1-B5EA-2E5D82E03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71BC-5C80-437C-AA46-EDBFC72DA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2078-1958-4E1B-A0AC-1FE245D81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54CB-836F-4D63-B20E-6EB80D209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6401-BD3B-49AB-B99C-8466A5162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9BED-A40E-4BA2-B876-F93B0916F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CD9B-2884-4139-8B03-6C72CC797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CF25-632A-4944-A3D6-EBFEE19D4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BFAC-246A-4D33-BCD6-35D4DC685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E85B-0053-468D-AFAA-B72D71C43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1215-F664-4ECD-83BE-087EB4976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5720-CE8E-43AD-B5AC-0A94CCDF8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9647-3BA2-4EC2-A449-3953CECD2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9BF4-5AE0-4184-B414-4CE3163B4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8469-B1AC-4E8E-A0CB-AC7A4FDCA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AB3C-14E7-4F61-B2F0-9F615C774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375F3-E064-4FDC-AD48-AD7061BFA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D85E-133E-4ADA-9554-41C1C6C67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3278B-835D-4D4A-A269-B0E5F71E5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680E-BF94-44C6-ABAD-C0111977E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D04C9-1812-446E-8D14-174148DB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923A1-DBDD-4389-8616-D4F667F4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067B0-6676-4C2A-B57D-1A2FD066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1BCA0-6F59-4CE3-AFA1-E90F7D3A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D24C3-1026-4000-AE5E-5BDBA722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BCF83-968E-4319-93B9-74F5F588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61EC9-845B-4140-AEBB-A87FE2E6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039BE-68DC-42DB-932E-2E5B274FB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F9943-ABA6-4B30-AD70-E06666A4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25E9C-6C9B-4537-8891-1185DBA7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48571-AFD9-4248-8CB9-2A8F2952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A76A3-0242-4E5F-AC3A-7E40E4BB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DA440-1CD0-4138-83CE-5E985168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83341-8810-4B64-866B-96158F55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FF2AF-77C9-486A-829E-A0BA7464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1E799-CC7E-4662-9674-95D8527C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65742-DEAB-49DF-99BA-D06ADFC6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75A4E-2EE0-4BFB-BF01-28936458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05C0F-37A2-4A74-B3B7-CEB6FBBEC4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950B4-FCF9-4985-96AF-7D6E1441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26712-2AA2-4830-B253-D89AF283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ED57C-CC45-49C1-84FD-D0B56D23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0BDF4-4444-4AC9-A06D-CC3A10B2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20FD5-70B7-44E2-9C27-9F155B86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B4383-C7D7-401A-83C0-EDD38D46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ADAA3-F9CF-4799-99CC-11D6B4D8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1621-1F3D-4CD7-B3AE-F07B58FA7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52DD5-54B8-423E-A0E0-30E8D10F4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67D6-5A36-493A-8697-04AD0AF26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7809B-F65B-4A94-BA65-C99E5C7C9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21A1-0D3A-432C-BB19-7757E8BC4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747AF-80C3-473C-8D10-316DF215F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6D6C-D990-480E-919E-7C0E9DC5A44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9724-0774-4EB1-A3CE-063C435D1CC4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E358-C4E8-4BB9-906C-C3EF3847684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30D9-9C86-4F42-90C0-94A2F9BE0DB5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86EA-E3DF-47C5-B609-C504421E2B0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our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Two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The Development of Enterprise Resource Planning System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4" descr="Z:\Chimborazo\ERP Project\Art\Cengage Icon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’s Impetus to Adopt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ard economic times of the late 1980s and early 1990s caused many companies to downsize and reorgani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imulus to ERP develop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efficiencies caused by the functional model of business organiz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ilos of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imits the exchange of information between the lower operating leve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0CE7-3044-4A46-88DB-540FC342F66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’s Impetus to Adopt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57200" y="571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2  Information and material flows in a functional business 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B1C5-CE75-436A-8D16-FA86E31109D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8" descr="Z:\Chimborazo\ERP Project\Art\C8084_02\C8084_ch02_f02.bmp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’s Impetus to Adopt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al model led to top-heavy and overstaffed organizations incapable of reacting quickly to chan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cess business mod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formation flows between the operating levels without top management’s involve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rther impetus for adopting ERP systems has come from compliance with the Sarbanes-Oxley Act of 200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quires companies to substantiate internal controls on all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3CFB-3137-4B9B-B998-662DDE95306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’s Impetus to Adopt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62120" y="571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3  Information and material flows in a process business 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CCB2-54C9-4369-BDE5-C044B9D202F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7" descr="Z:\Chimborazo\ERP Project\Art\C8084_02\C8084_ch02_f03.bmp"/>
          <p:cNvPicPr/>
          <p:nvPr/>
        </p:nvPicPr>
        <p:blipFill>
          <a:blip r:embed="rId1"/>
          <a:stretch/>
        </p:blipFill>
        <p:spPr>
          <a:xfrm>
            <a:off x="533520" y="1828800"/>
            <a:ext cx="82296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Software Emerges: SAP and R/3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72: five former IBM systems analysts in Mannheim, Germany formed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Systemanalyse und Programmentwicklung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(Systems Analysis and Program Development, or SAP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’s goal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 a standard software product that could be configured to meet the needs of each compan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 available in real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rs working on computer screens, rather than with voluminous printed outpu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CE42-C9AD-4BAA-BCF2-AE70A400E02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Begins Developing Software Modu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uring their work for German chemical company ICI, Plattner and Hopp had developed the idea of modular software develop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ftwar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module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dividual programs that can be purchased, installed, and run separately, but that all extract data from the common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82: SAP released its R/2 mainframe ERP software packa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2312-9623-4258-BE3B-B29A018B426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Begins Developing Software Modu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80s: sales grew rapidly; SAP extended its software’s capabilities and expanded into international marke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1988, SAP had established subsidiaries in numerous foreign countr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384B-946A-4C73-BC8A-FE843CB03DF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R/3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88: SAP began development of its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/3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ystem to take advantage of client-server technolog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92: first version of SAP R/3 releas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R/3 system was designed using an open architecture approach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Open architectur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third-party software companies encouraged to develop add-on software products that can be integrated with existing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23DD-8FBA-4D9C-BF72-6D8E0F482F2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te 1990s: Year 2000 (or Y2K) problem motivated many companies to move to ERP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2000, SAP AG had 22,000 employees in 50 countries and 10 million users at 30,000 installations around the worl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2000, SAP’s competition in the ERP market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ac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opleSof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te 2004: Oracle succeeded in its bid to take over PeopleSof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0CF8-36D1-4430-BB5B-FCC0E5156B2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opleSof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unded by David Duffield, a former IBM employe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day, PeopleSoft, under Oracle, is a popular software choice for managing human resources and financial activities at universit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rac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P’s biggest competi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egan in 1977 as Software Development Laboratories (SDL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unders: Larry Ellison, Bob Miner, and Ed Oa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5CFB-6422-46B6-8744-B4ADF02215C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65FF-14B9-4811-9BEE-37E6B3B01EF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dentify the factors that led to the development of Enterprise Resource Planning (ERP)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scribe the distinguishing modular characteristics of ERP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scuss the pros and cons of implementing an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mmarize ongoing developments in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atest versions of ERP systems by SAP and other companies allow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ll business areas to access the same databas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limination of redundant data and communications lag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ata to be entered once and then used throughout the organiza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BEAA-E05E-4669-B7C6-92387C24872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447920" y="571500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4  Data flow within an integrated information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EE4B-46C5-47B3-B86E-2851DA52311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7" descr="Z:\Chimborazo\ERP Project\Art\C8084_02\C8084_ch02_f04.bmp"/>
          <p:cNvPicPr/>
          <p:nvPr/>
        </p:nvPicPr>
        <p:blipFill>
          <a:blip r:embed="rId1"/>
          <a:stretch/>
        </p:blipFill>
        <p:spPr>
          <a:xfrm>
            <a:off x="1295280" y="1600200"/>
            <a:ext cx="64771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rrent SAP ERP system: SAP ECC 6.0 (Enterprise Central Component 6.0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and Distribution (SD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terials Management (MM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Planning (PP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Quality Management (QM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lant Maintenance (PM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sset Management (AM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A328-6BE3-44E6-AD22-1D84D8059B8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rrent SAP ERP system: SAP ECC 6.0 (Enterprise Central Component 6.0) (cont’d.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uman Resources (HR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ject System (PS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ancial Accounting (FI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rolling (CO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orkflow (WF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D3E2-82E7-4B29-860C-C6BCE7965C2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457200" y="5715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5 Modules within the SAP ERP integrated information systems environment (Courtesy of SAP A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E007-91C5-47DA-A3AC-33209E9C8C5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7" descr="Z:\Chimborazo\ERP Project\Art\C8084_02\C8084_ch02_f05.bmp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ERP Software Implement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ot all companies that use SAP use all of the SAP ERP modu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y’s level of data integration is highest when it uses one vendor to supply all of its modu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ation options allow the company to customize the modules it has chosen to fit the company’s need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281E-12FE-4EEC-9B32-C8D0B186B89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ERP Software Implement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lerance grou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pecific ranges that define transaction limi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P has defined the tolerance group methodology as its method for placing limits on an employe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figuration allows the company to further tailor tolerance group methodolog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E908-9BA9-4B82-8B54-B3FD953BF7F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ERP Software Implement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457200" y="571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6  A customization example: tolerance groups to set transaction lim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FFA0-A0BA-4FF9-BA82-22E59EC1788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7" descr="Z:\Chimborazo\ERP Project\Art\C8084_02\C8084_ch02_f06.bmp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ERP Software Implement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eatures of SAP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rst software that could deliver real-time ERP integ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ability by large compan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gh co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utomation of data upda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pplicability of best pract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Best practices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: SAP’s software designers choose the best, most efficient ways in which business processes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should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be handl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BB98-1645-4CB7-A50E-0CC398C399F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for Midsized Compan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199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st of the Fortune 500 companies had already installed ERP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vendors refocused their marketing efforts on midsized compan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All-in-On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ingle package containing specific, preconfigured bundles of SAP ERP tailored for particular industr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be installed more quickly than the standard ERP produ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5479-888C-4FE5-B53D-35B539F171D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DC0E-34DF-416D-A664-E60B5424B62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fficient, integrated information systems are very important for companies to be competitiv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 Enterprise Resource Planning (ERP) system can help integrate a company’s opera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ts as a company-wide computing environ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cludes a database that is shared by all functional are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deliver consistent data across all business functions in real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for Midsized Compani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pplication hos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ird-party company provides the hardware and software suppor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es ERP systems like SAP more appealing to midsized compan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and Oracle are facing competition from smaller providers of ERP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0237-7181-4FE1-A547-C3F2419C83E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sponses of the Software to the Changing Marke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mid-1990s, many companies complained about the difficulty of implementing SAP R/3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responded by developing Accelerated SAP (ASAP) implementation methodolog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ses the implementation pro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continues to extend capabilities of SAP ERP with additional, separate products that run on separate hardware and extract data from the SAP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2B8D-D3AD-4374-A286-4375694B4CF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hoosing Consultants and Vendor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e person cannot fully understand a single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fore choosing a software vendor, most compani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udy their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re an external team of software consultants to help choose the right software vendor(s) and the best approach to implementing ER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5345-AD79-4E7C-B391-A2582E07000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ignificance and Benefits of ERP Software and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re efficient business processes that cost less than those in unintegrated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sier global integ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tegrates people and data while eliminating the need to update and repair many separate computer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llows management to manage operations, not just monitor th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n dramatically reduce costs and improve operational efficienc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182C-D9EA-44C5-B3E8-A58160D9DDE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Questions About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ow much does an ERP system cost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ould every business buy an ERP package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s ERP software inflexible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at return can a company expect from its ERP investment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ow long does it take to see a return on an ERP investment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y do some companies have more success with ERP than others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8D79-B52F-4D8B-8E44-E11DB0BF788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w Much Does an ERP System Cost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ze of the ERP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rresponds to the size of the company it serv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 for new hardware that is capable of running complex ERP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sultants’ and analysts’ f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ime for implement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uses disruption of busin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rain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sts both time and mone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1D0E-305D-4B48-81D4-51F46E7DD99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hould Every Business Buy an ERP Package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me of a business’s operations, and some segments of its operations, might not be a good match with the constraints of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metimes, a company is not ready for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implementation difficulties result when management does not fully understand its current business processes and cannot make implementation decisions in a timely mann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1575-6894-46B6-8AD5-7FFE1661E81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s ERP Software Inflexible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y people claim that ERP systems, especially the SAP ERP system, are rigi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ptions for customization offered by SAP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umerous configuration options that help businesses customize the software to fit their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grammers can write specific routines using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Advanced Business Application Programming (ABAP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ce an ERP system is in place, trying to reconfigure it while retaining data integrity is expensive and time-consum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8597-B633-40EF-8B7B-AD861860AD3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Return Can a Company Expect from Its ERP Investment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eliminates redundant efforts and duplicated data; can generate savings in operations expen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 can help produce goods and services more quickl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y that doesn’t implement an ERP system might be forced out of business by competitors that have an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moothly running ERP system can save a company’s personnel, suppliers, distributors, and customers much frust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EF41-7B12-4A39-8762-B8614351E7B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Return Can a Company Expect from Its ERP Investment?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st savings and increased revenues occur over many yea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fficult to put an exact dollar figure to the amount accrued from the original ERP invest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implementations take ti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ther business factors may be affecting the company’s costs and profitabil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fficult to isolate the impact of the ERP system alon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s provide real-tim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mprove external customer commun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0F09-DDCB-49E1-ADE1-5A38F4AC7BC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Evolution of Information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ilos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formation systems configuration used until recent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nies had unintegrated information systems that supported only the activities of individual business functional are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rrent ERP systems evolved as a result of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dvancement of hardware and software technolog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ment of a vision of integrated information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engineering of companies to shift from a functional focus to a business process focu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FC71-5F4E-4A88-83E0-C38BC55CFE0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w Long Does It Take to See a Return on an ERP Investment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turn on investment (ROI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ssessment of an investment project’s valu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lculated by dividing the value of the project’s benefits by the project’s co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’s ROI can be difficult to calcula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erstone Research stud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63 percent of companies that performed the calculation reported a positive ROI for ER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st companies felt that nonfinancial goals were the reason behind their ERP install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4C6E-8517-4BB2-8D04-FD785A8E510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7" descr="http://www.entrepreneur.com/i/images/misc/roi.jpg"/>
          <p:cNvPicPr/>
          <p:nvPr/>
        </p:nvPicPr>
        <p:blipFill>
          <a:blip r:embed="rId1"/>
          <a:stretch/>
        </p:blipFill>
        <p:spPr>
          <a:xfrm>
            <a:off x="5638680" y="2971800"/>
            <a:ext cx="2952720" cy="876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y Do Some Companies Have More Success with ERP Than Other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ually, a bumpy rollout and low ROI are caused by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peopl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blems and misguided expectations, not computer malfun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ecutives blindly hoping that new software will cure fundamental business problems that are not curable by any softwa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ecutives and IT managers not taking enough time for a proper analysis during planning and implementation ph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ecutives and IT managers skimping on employee education and trai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52B9-A6F4-4356-B2F3-E39D7FDBF91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y Do Some Companies Have More Success with ERP Than Others?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ually, a bumpy rollout and low ROI are caused by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peopl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blems and misguided expectations, not computer malfunctions (cont’d.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nies not placing ownership or accountability for the implementation project on the personnel who will operate the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nless a large project such as an ERP installation is promoted from the top down, it is doomed to fai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implementation brings a tremendous amount of change for us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50B9-83F1-48AF-9759-F90DE6E539F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y Do Some Companies Have More Success with ERP Than Others?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r many users, it takes years before they can take advantage of many of an ERP system’s capabilit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st ERP installations do generate retur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CB5F-66F9-4CAA-94CD-1E41BBD8716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Continuing Evolution of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derstanding the social and business implications of new technologies is not eas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s have been in common use only since the mid-1990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vendors are working to solve adaptability problems that plague custo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9DE6-A1B3-4869-8799-40A2E66C1D2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peed and power of computing hardware increased exponentially, while cost and size decreas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rly client-server architecture provided the conceptual framework for multiple users sharing common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creasingly sophisticated software facilitated integration, especially in two areas: A/F and manufacturing resource plann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04BE-5E93-4F67-97DE-B3888FC01C3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rowth of business size, complexity, and competition made business managers demand more efficient and competitive information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AG produced a complex, modular ERP program called R/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uld integrate a company’s entire business by using a common database that linked all oper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R/3, now called SAP ERP, is modular software offering modules for Sales and Distribution, Materials Management, Production Planning, Quality Management, and other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9547-EFE7-4695-9F16-2406F2F4F69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oftware is expensive to purchase and time-consuming to implement, and it requires significant employee training—but the payoffs can be spectacula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 some companies, ROI may not be immediate or even calcul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perts anticipate that ERP’s future focus will be on managing customer relationships, improving planning and decision making, and linking operations to the Internet and other applications through service-oriented architectu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FD46-126B-422C-84B4-FBD9D2476E8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uter Hardware and Software Develop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uter hardware and software developed rapidly in the 1960s and 1970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rst practical business computers were the mainframe computers of the 1960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ver time, computers got faster, smaller, and cheap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ore’s Law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umber of transistors that could be built into a computer chip doubled every 18 month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ECCD-363B-41B9-ABF0-B4EE2D62CD8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uter Hardware and Software Develop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FDF0-C5EF-4124-99F2-2CA4539E06E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2" descr="Z:\Chimborazo\ERP Project\Art\C8084_02\C8084_ch02_f01.bmp"/>
          <p:cNvPicPr/>
          <p:nvPr/>
        </p:nvPicPr>
        <p:blipFill>
          <a:blip r:embed="rId1"/>
          <a:stretch/>
        </p:blipFill>
        <p:spPr>
          <a:xfrm>
            <a:off x="533520" y="1676520"/>
            <a:ext cx="7772400" cy="40478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304920" y="57913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1  The actual increase in transistors on a chip approximates Moore’s Law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uter Hardware and Software Develop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dvancements in computer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1970s: relational database software develop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vide businesses the ability to store, retrieve, and analyze large volumes of data 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1980s: spreadsheet software became popula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Managers can easily perform complex business analy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B952-7CFD-488B-BCCD-BE73F213094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arly Attempts to Share Resour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the mid-1980s, telecommunications developments allowed users to share data and peripherals on local networ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Client-server architectu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the end of the 1980s, the hardware needed to support development of ERP systems was in pla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the mid-1980s,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atabase management system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BM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) required to manage development of complex ERP software exist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11D0-1089-4121-B39B-11B560C2AD1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Manufacturing Roots of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ufacturing software developed during the 1960s and 1970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volved from simple inventory-tracking systems to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material requirements planning (MRP)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lectronic data interchange (EDI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rect computer-to-computer exchange of standard business docum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ed companies to handle the purchasing process electronical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DFB4-2246-4D3B-86CE-863609E88C1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4-02-21T21:35:24Z</dcterms:modified>
  <cp:revision>574</cp:revision>
  <dc:subject/>
  <dc:title>Chapter 2</dc:title>
</cp:coreProperties>
</file>