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0E343-947A-4182-8100-C9B4BAF24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464E5-5107-44CA-93B4-58D03263A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3BF5-3F72-451F-BF57-81C1F86B4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6985-FA29-4E3E-91D8-741987E24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D18F6-5467-48D3-8FD0-CA73B85694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2EE5C-9661-412B-9B6D-B26A66D2E2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A48BE-71A5-412E-8FBF-FE643C9C59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9C1D3-2591-427D-A93F-180233610B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40ECA-C11B-4D55-BAD7-E63F4152B0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1E1CD-F973-4F3A-A503-132EE73A2E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194A7-0B7A-4ED2-8A96-CED109BA6D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2ECEE-F076-444F-B740-86F14356E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E7496-9918-47F5-B6BB-1B9378D8A2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EEFFA-4567-441F-A673-36C2173790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8F5BB-BEF0-4617-8BDA-0014DA97DF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108F3-2B27-4A09-9882-A6AA941273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31909-3574-4A21-AE9D-F714F4BF48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5757-7309-4F65-875A-E65183127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CA57D-E6FA-4F3C-A832-527B23C8A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D9D8-A7CF-46A9-A3BB-06A6B8741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01D0-40E4-45D7-803D-F3F4F66B9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9969-9236-4407-8CDA-274C6D904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0714-0C2B-4A4E-AADD-FAD736C80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2B98-C0B8-433D-B156-F35E0C7B3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5F6A19A8-D139-479C-BC85-51EC606FF0C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AA4CF46F-FB87-41D6-BF12-E9A903EEA4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raphs, Charts, and Tables – Describing Your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3FFB0-128F-404D-91BC-F9B67EFC26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istogram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lass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v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hown on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rizontal ax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on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ertic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s of the appropriate heights can be used to represent the number of observations within each cl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graph is called 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44D7-E27B-4975-A57C-7CD41956C6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2057400"/>
            <a:ext cx="8458200" cy="4572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2438280"/>
          <a:ext cx="6502680" cy="387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8280"/>
                    <a:ext cx="650268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00400" y="6019920"/>
            <a:ext cx="243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Mid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isto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91160" y="1521000"/>
            <a:ext cx="85140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3733920"/>
            <a:ext cx="1752480" cy="1917720"/>
          </a:xfrm>
          <a:prstGeom prst="rect">
            <a:avLst/>
          </a:prstGeom>
          <a:solidFill>
            <a:srgbClr val="ffffd5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aps between bars, since continuou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B0147-FA5A-48E2-8528-635336F3042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Questions for Grouping Dat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o Clas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wide should each interval b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w many classes should be us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should the endpoints of th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vals be determ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swered by trial and error, subject to user ju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al is to create a distribution that is neither too 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g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 nor too 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to appropriately show the pattern of variation in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45DC-43BE-43FD-AE4D-FAC8DF17A7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Many Class Intervals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(Narrow class interv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yield a very jagged distribution with gaps from empty clas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give a poor indication of how frequency varies across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w (Wide class interv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compress variation too much and yield a blocky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obscure important patterns of vari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943600" y="4227480"/>
          <a:ext cx="3200400" cy="20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227480"/>
                    <a:ext cx="320040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943600" y="2166840"/>
          <a:ext cx="3200400" cy="204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166840"/>
                    <a:ext cx="3200400" cy="20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553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X axis labels are upper class endpo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16F9-109B-4988-AC5C-C70415654B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752480"/>
            <a:ext cx="7162920" cy="2362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General Guidelin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ber of Data Points       Number of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 50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5 -  7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50 – 100                               6 - 10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100 – 250                               7 - 12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over  250                             10 - 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widths can typically be reduced as the number of observations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s with numerous observations are more likely to be smooth and have gaps filled since data are plenti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737E-1AA0-4E77-86DD-06DE766F0B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00200" y="4419720"/>
            <a:ext cx="5562720" cy="11430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ass Width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width is the distance between the lowest possible value and the highest possible value for a frequency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733920"/>
            <a:ext cx="5181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nimum class width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449568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rgest Value - Smallest Valu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952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umber of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4648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6000"/>
          </a:bodyPr>
          <a:p>
            <a:pPr marL="307800" indent="-307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  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952880"/>
            <a:ext cx="4191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1A75-796B-4260-AD65-EAE3440243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istograms in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38680" y="45720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ols/Data Anal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5334120" cy="4819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6386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411480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580920" y="5257800"/>
            <a:ext cx="2133720" cy="685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1FD56-4CA1-40F1-9FB6-E5AEA9AE2E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724280" y="2438280"/>
            <a:ext cx="381024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oose Histogr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267080" cy="2190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00600" y="3433680"/>
            <a:ext cx="4124160" cy="3035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800600" y="198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98108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49568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85640" y="2743200"/>
            <a:ext cx="2438280" cy="685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505320" y="6019560"/>
            <a:ext cx="1447560" cy="75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952880"/>
            <a:ext cx="3809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6000"/>
          </a:bodyPr>
          <a:p>
            <a:pPr marL="307800" indent="-307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put data and bin rang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 Chart Outpu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267080" y="4191120"/>
            <a:ext cx="2133720" cy="9144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304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istograms in Excel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77BCE-CA2C-4184-8CC4-6567F96C33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em and Leaf Diagram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96640"/>
            <a:ext cx="7772400" cy="3465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way to see distribution details in a data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 Separate the sorted data s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into leading digits (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the trailing digits (th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ea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33E8A-BBC6-4F97-BEA4-EC6A11A15B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876920" y="3352680"/>
            <a:ext cx="1600200" cy="228600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7920" y="380520"/>
            <a:ext cx="4203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, use the 10’s digit for the stem un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1160" y="1521000"/>
            <a:ext cx="85140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809880"/>
            <a:ext cx="3505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is show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is show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4114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5105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1981080"/>
            <a:ext cx="53352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1981080"/>
            <a:ext cx="53352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38680" y="33526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6920" y="3429000"/>
            <a:ext cx="152388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   Le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B220-BF02-4CEA-AC8C-8609102BA6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7000"/>
          </a:bodyPr>
          <a:p>
            <a:pPr marL="31104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a frequency distribution both manually and with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and interpret a 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nd interpret bar charts, pie charts, and stem-and-leaf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and interpret data in line charts and scatter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DAC75-8BFA-49E7-998C-538972A202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1960" y="380520"/>
            <a:ext cx="4203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26668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Stem-and-leaf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1160" y="1521000"/>
            <a:ext cx="85140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71800" y="3352680"/>
          <a:ext cx="3124080" cy="2819520"/>
        </p:xfrm>
        <a:graphic>
          <a:graphicData uri="http://schemas.openxmlformats.org/drawingml/2006/table">
            <a:tbl>
              <a:tblPr/>
              <a:tblGrid>
                <a:gridCol w="914400"/>
                <a:gridCol w="220968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3 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4  4  6  7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2  5  7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3  4 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971800" y="373392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34290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C79B-3E0D-4556-A1EA-E4861179AA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800600" y="3048120"/>
            <a:ext cx="1752480" cy="22096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Using other stem uni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100’s digit as the 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 off the 10’s digit to form the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13 would become             6     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76 would become             7     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24 becomes                  12      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35053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04812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124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    Le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BB0D2-A714-4C02-9780-1457E389F8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raphing Categorical Dat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417920" y="266544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1752480"/>
            <a:ext cx="2968560" cy="94212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egor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133720" y="3045960"/>
            <a:ext cx="4646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3962520"/>
            <a:ext cx="1596960" cy="94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0240" y="3046320"/>
            <a:ext cx="144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3962520"/>
            <a:ext cx="2283120" cy="94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eto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30481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3962520"/>
            <a:ext cx="1673280" cy="94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299D-A463-48A6-8B39-4C23F2B004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r and Pie Char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charts and Pie charts are often used for qualitative (category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 of bar or size of pie slice shows the frequency or percentage for each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2B81-6641-4834-B977-B96B40A8F3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195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i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505320" y="2362320"/>
          <a:ext cx="563868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362320"/>
                    <a:ext cx="56386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43800" y="5029200"/>
            <a:ext cx="1447920" cy="9414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ercentages are rounded to the nearest 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1523880"/>
            <a:ext cx="5181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Investment Portfol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2362320"/>
            <a:ext cx="1143000" cy="670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3429000"/>
            <a:ext cx="758880" cy="637560"/>
          </a:xfrm>
          <a:prstGeom prst="rect">
            <a:avLst/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 1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029200"/>
            <a:ext cx="914400" cy="63756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ds 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2971800"/>
            <a:ext cx="990720" cy="64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2362320"/>
            <a:ext cx="4038840" cy="231192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ment        Amount       Percen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thousands $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              46.5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42.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.0               29.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15.5                14.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ings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0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362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2362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28954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43434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5105520"/>
            <a:ext cx="2895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Variables are Qualit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066680" y="426708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8A7C-DDF6-430E-AF18-AA3012557E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r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9480" y="1752480"/>
          <a:ext cx="800100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80010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4830-8EC4-48B5-8DD2-9C489EF351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areto Dia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6094440" y="3491280"/>
            <a:ext cx="3048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% inves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line grap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-861120" y="3452040"/>
            <a:ext cx="373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invested in each category (bar grap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1600200"/>
          <a:ext cx="6019920" cy="45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01992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0177-3EEB-4CC1-9143-BF1A3324BB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r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209680" y="1828800"/>
          <a:ext cx="6853320" cy="41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828800"/>
                    <a:ext cx="68533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52280" y="1905120"/>
          <a:ext cx="2210040" cy="3467160"/>
        </p:xfrm>
        <a:graphic>
          <a:graphicData uri="http://schemas.openxmlformats.org/drawingml/2006/table">
            <a:tbl>
              <a:tblPr/>
              <a:tblGrid>
                <a:gridCol w="1105200"/>
                <a:gridCol w="11048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ays re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57200" y="5486400"/>
            <a:ext cx="1581120" cy="92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9CD9F-7F8D-4F89-ADCF-161E5D26D3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abulating and Graphing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variate Categorical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86804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in thousands of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0040" y="2668680"/>
            <a:ext cx="8455320" cy="3339360"/>
          </a:xfrm>
          <a:prstGeom prst="rect">
            <a:avLst/>
          </a:prstGeom>
          <a:solidFill>
            <a:srgbClr val="ffffd9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estment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nvestor A          </a:t>
            </a:r>
            <a:r>
              <a:rPr b="1" lang="en-US" sz="2000" spc="-1" strike="noStrike">
                <a:solidFill>
                  <a:srgbClr val="d8af00"/>
                </a:solidFill>
                <a:latin typeface="Arial"/>
              </a:rPr>
              <a:t>Investor 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Investor C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tegor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4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7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32.0                 4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19.0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5.5                 20                 13.5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6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8                   7.0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147                 67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3276720"/>
            <a:ext cx="8458200" cy="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266688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66688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266688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3800" y="2666880"/>
            <a:ext cx="0" cy="327672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7960" y="5257800"/>
            <a:ext cx="8448840" cy="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4C81F-3C9A-4C45-88A4-B08483B00E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abulating and Graphing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variate Categorical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de by side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676520" y="2209680"/>
          <a:ext cx="70866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09680"/>
                    <a:ext cx="7086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29A0-BEF6-456C-9DB0-D15ACBD3E9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requency Distribu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Frequency Distrib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equency distribution is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st or a 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ing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lues of a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a set of ranges within which the data falls)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rresponding freque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which each value occurs (or frequencies with which data falls within each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0A41-A73B-40D7-9564-AE634A3C2B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00400" y="2133720"/>
            <a:ext cx="3505320" cy="60948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de-by-Sid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es by quarter for three sales territori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828800" y="2514600"/>
          <a:ext cx="6448320" cy="39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644832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286000" y="1905120"/>
            <a:ext cx="4495680" cy="89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CD30-104A-4CD5-8AFA-408FA9693C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ne cha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values of one variable vs.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ime is traditionally shown on the horizontal ax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catter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points for bivariat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 variable is measured on the vertical axis and the other variable is measured on the horizontal ax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228600"/>
            <a:ext cx="779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 Charts and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Diagram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14349-75B7-4FC1-BB0A-271064A2BF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981080" y="1828800"/>
          <a:ext cx="686772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68677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04920" y="1828800"/>
          <a:ext cx="1600200" cy="436392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</a:tblGrid>
              <a:tr h="468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2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lation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08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6F8D-DC8D-4937-8DD8-6662A67D3A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Dia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057400" y="1752480"/>
          <a:ext cx="693432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693432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52280" y="2133720"/>
          <a:ext cx="1905120" cy="3593880"/>
        </p:xfrm>
        <a:graphic>
          <a:graphicData uri="http://schemas.openxmlformats.org/drawingml/2006/table">
            <a:tbl>
              <a:tblPr/>
              <a:tblGrid>
                <a:gridCol w="939960"/>
                <a:gridCol w="9651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ume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0589-7E01-4462-A4C4-BA4484FEB3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6560" y="2362320"/>
          <a:ext cx="84488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362320"/>
                    <a:ext cx="84488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9B91D-9C84-4F0F-B2CC-4AD8978C47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3520" y="2362320"/>
          <a:ext cx="84484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4484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75D0-C680-4C4E-A58C-0D4A013BA96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2362320"/>
          <a:ext cx="84488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4488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9960C-C34F-453C-BF90-FBE3D097EE7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 in raw form are usually not easy to use for decision making -- Some type of organization is need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e4a8"/>
                </a:solidFill>
                <a:latin typeface="Symbol"/>
                <a:ea typeface="Symbol"/>
              </a:rPr>
              <a:t>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e4a8"/>
                </a:solidFill>
                <a:latin typeface="Symbol"/>
                <a:ea typeface="Symbol"/>
              </a:rPr>
              <a:t>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iques reviewed in this chapte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equency Distributions and Histo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r Charts and Pie Cha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em and Leaf Dia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Charts and Scatter Dia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4F905-A7CE-4B15-89E2-C9BD4FE54F6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Why Use Frequency Distributions?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315200" cy="3846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equency distribution is a way to summariz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ribution condenses the raw data into a more useful form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llows for a quick visual interpretation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0D6C-00E3-4A11-A376-CD9A562EF9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Frequency Distribution: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Data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Discrete dat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possible values are coun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438280"/>
            <a:ext cx="236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 advertiser asks 200 customers how many days per week they read the daily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038480" y="2362320"/>
          <a:ext cx="4267440" cy="381132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ays rea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5181480"/>
            <a:ext cx="1886040" cy="11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02D1-1E70-4394-815F-3085694C68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lative Frequenc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ive Frequ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hat proportion is in each categ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38080" y="2209680"/>
          <a:ext cx="6400800" cy="386892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ays rea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lativ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7467480" y="29718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620120" y="2743200"/>
                <a:ext cx="1315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6629400" y="3048120"/>
            <a:ext cx="990720" cy="152280"/>
          </a:xfrm>
          <a:prstGeom prst="left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3657600"/>
            <a:ext cx="1676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% of the people in the sample report that they read the newspaper 0 days per w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91520" y="5511960"/>
            <a:ext cx="1581120" cy="9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E0AC-6DB5-47DE-9E7C-4DF481D27E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57400" y="4114800"/>
            <a:ext cx="52578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Frequency Distribution: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tinuous Data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4367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uous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take on any value in som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manufacturer of insulation randomly selects 20 winter days and records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aily 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6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, 35, 17, 21, 24, 37, 26, 46, 58, 3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, 13, 12, 38, 41, 43, 44, 27, 53,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emperature is a continuous variable because it cou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measured to any degree of precision desi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B6346-C490-45E4-A661-C1F515FD9F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2209680"/>
            <a:ext cx="8153640" cy="3812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rouping Data by Class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lvl="1" marL="69372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rt raw data in ascending ord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5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12, 13, 17, 21, 24, 24, 26, 27, 27, 30, 32, 35, 37, 38, 41, 43, 44, 46, 53, 5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range: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8 - 12 = 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number of classes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usually between 5 and 2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class width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46/5 then round off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lass boundaries: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0, 20, 30, 40,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class midpoints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5, 25, 35, 45,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observations &amp; assign to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197C-0CA0-4AF0-8CF5-959BD8F68A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requency Distribution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514600"/>
            <a:ext cx="6400800" cy="388620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002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in ordered arr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1160" y="3733920"/>
            <a:ext cx="58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048120"/>
            <a:ext cx="0" cy="33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3048120"/>
            <a:ext cx="6270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as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3809880"/>
            <a:ext cx="642312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0 but under 20             3                  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.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0 but under 3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6                   .3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30 but under 4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5                   .2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40 but under 50             4                   .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50 but under 6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2                   .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20                 1.00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048120"/>
            <a:ext cx="0" cy="33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3048120"/>
            <a:ext cx="162252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l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5200" y="5943600"/>
            <a:ext cx="596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2514600"/>
            <a:ext cx="627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3048120"/>
            <a:ext cx="58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838E-8984-4AF3-BA07-088627A3774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dc:language>en-US</dc:language>
  <cp:lastModifiedBy>dy</cp:lastModifiedBy>
  <cp:lastPrinted>1998-11-22T23:37:53Z</cp:lastPrinted>
  <dcterms:modified xsi:type="dcterms:W3CDTF">2004-06-18T15:32:39Z</dcterms:modified>
  <cp:revision>60</cp:revision>
  <dc:subject>Chapter 2</dc:subject>
  <dc:title>Business Statistics: A Decision-Making Approach, 6th edition</dc:title>
</cp:coreProperties>
</file>