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0B7B-8B33-4CE3-B50C-F08C9D0BD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1E42-0A27-4230-B916-E86CE07E4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E847B-1D4F-4771-BF31-ECF7113CE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E361-881B-4109-B00D-D2EDAE7B5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4CEDB-761F-47DD-8721-141D6C5146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CF1F3-64E7-4321-BF95-9A9C2907BA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82C03-04C6-48B3-9357-51B3641088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8222A-6359-4AFA-AE82-DCF51738E0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D3519-C03A-4E56-ADA0-D5A99631FA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602ED-468A-4BB4-8BFE-240CBECDEE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6CD66-5DBB-43C8-8A2B-075476BDC5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692C7-D755-4D59-89F8-A99099EFA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CDBA3-1AF8-4DBC-8F85-B8209B1476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CBF75-417A-41B8-8CC3-772B6714B7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98490-84EE-4FEC-8A2B-26474794B0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E403C-6B9B-4765-82E3-6CA58A8C9E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39C92-2E46-4F48-9498-ED34EE8B0C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6A37-DEAD-4515-9DD2-1A0470558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ED95-1D47-4F00-B585-44AC6C3A1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D72C1-3832-443E-A6C2-D72C22A8C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415F1-E934-4AB5-BFB6-6AB4ADD49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ACE2-121D-45EA-82A4-1CA53A180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E4A50-8339-44E8-B3C7-7C6E8DF1E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C18D-56B8-4E37-8731-5F0C4052B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ABCDBE6A-7508-402A-B7C3-39831D9CBB8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9BBE565C-89DF-4277-8A53-32AF03888C0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raphs, Charts, and Tables – Describing Your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F8E82-9CA0-4FFC-AA31-506AC1F072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istogram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lass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v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hown on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rizontal ax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on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ertic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s of the appropriate heights can be used to represent the number of observations within each cl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graph is called 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3A0E-CCA2-4970-864E-F2A8B8EAAB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2057400"/>
            <a:ext cx="8458200" cy="4572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2438280"/>
          <a:ext cx="6502680" cy="387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8280"/>
                    <a:ext cx="650268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00400" y="6019920"/>
            <a:ext cx="243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Mid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isto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91160" y="1521000"/>
            <a:ext cx="85140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3733920"/>
            <a:ext cx="1752480" cy="1917720"/>
          </a:xfrm>
          <a:prstGeom prst="rect">
            <a:avLst/>
          </a:prstGeom>
          <a:solidFill>
            <a:srgbClr val="ffffd5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aps between bars, since continuou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8B538-69DA-4472-9699-DF3C4F05C73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Questions for Grouping Dat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o Clas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wide should each interval b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w many classes should be us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should the endpoints of th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vals be determ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swered by trial and error, subject to user ju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al is to create a distribution that is neither too 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g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 nor too 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to appropriately show the pattern of variation in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CA081-6714-4F82-B9FF-F0B6150F10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Many Class Intervals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(Narrow class interv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yield a very jagged distribution with gaps from empty clas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give a poor indication of how frequency varies across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w (Wide class interv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compress variation too much and yield a blocky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obscure important patterns of vari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943600" y="4227480"/>
          <a:ext cx="3200400" cy="20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227480"/>
                    <a:ext cx="320040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943600" y="2166840"/>
          <a:ext cx="3200400" cy="204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166840"/>
                    <a:ext cx="3200400" cy="20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553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X axis labels are upper class endpo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CADDA-A05D-428D-84FE-A296281A6A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752480"/>
            <a:ext cx="7162920" cy="2362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General Guidelin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ber of Data Points       Number of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 50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5 -  7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50 – 100                               6 - 10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100 – 250                               7 - 12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over  250                             10 - 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widths can typically be reduced as the number of observations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s with numerous observations are more likely to be smooth and have gaps filled since data are plenti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DF9A2-1A7C-4389-AA57-F002CF1796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00200" y="4419720"/>
            <a:ext cx="5562720" cy="11430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ass Width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width is the distance between the lowest possible value and the highest possible value for a frequency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733920"/>
            <a:ext cx="5181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nimum class width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449568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rgest Value - Smallest Valu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952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umber of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4648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6000"/>
          </a:bodyPr>
          <a:p>
            <a:pPr marL="307800" indent="-307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  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952880"/>
            <a:ext cx="4191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283E-6B41-4B78-B3FD-928659E634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istograms in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38680" y="45720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ols/Data Anal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5334120" cy="4819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6386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411480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580920" y="5257800"/>
            <a:ext cx="2133720" cy="685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1F62-A904-4742-8A62-AD9966E41B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724280" y="2438280"/>
            <a:ext cx="381024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oose Histogr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267080" cy="2190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00600" y="3433680"/>
            <a:ext cx="4124160" cy="3035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800600" y="198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98108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49568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85640" y="2743200"/>
            <a:ext cx="2438280" cy="685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505320" y="6019560"/>
            <a:ext cx="1447560" cy="75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952880"/>
            <a:ext cx="3809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6000"/>
          </a:bodyPr>
          <a:p>
            <a:pPr marL="307800" indent="-307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put data and bin rang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 Chart Outpu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267080" y="4191120"/>
            <a:ext cx="2133720" cy="9144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304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istograms in Excel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2E51B-07B2-4D6D-86F8-A1C0DF2367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em and Leaf Diagram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96640"/>
            <a:ext cx="7772400" cy="3465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way to see distribution details in a data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 Separate the sorted data s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into leading digits (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the trailing digits (th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ea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7FA0-FBE2-4C84-BA85-959173454D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876920" y="3352680"/>
            <a:ext cx="1600200" cy="228600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7920" y="380520"/>
            <a:ext cx="4203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, use the 10’s digit for the stem un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1160" y="1521000"/>
            <a:ext cx="85140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809880"/>
            <a:ext cx="3505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is show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is show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4114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5105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1981080"/>
            <a:ext cx="53352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1981080"/>
            <a:ext cx="53352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38680" y="33526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6920" y="3429000"/>
            <a:ext cx="152388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   Le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1653-0784-42F5-B1B7-CD181D7D2C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7000"/>
          </a:bodyPr>
          <a:p>
            <a:pPr marL="31104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a frequency distribution both manually and with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and interpret a 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nd interpret bar charts, pie charts, and stem-and-leaf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and interpret data in line charts and scatter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0131-DCD1-48A0-A53A-F23E1E3300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1960" y="380520"/>
            <a:ext cx="4203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26668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Stem-and-leaf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1160" y="1521000"/>
            <a:ext cx="85140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71800" y="3352680"/>
          <a:ext cx="3124080" cy="2819520"/>
        </p:xfrm>
        <a:graphic>
          <a:graphicData uri="http://schemas.openxmlformats.org/drawingml/2006/table">
            <a:tbl>
              <a:tblPr/>
              <a:tblGrid>
                <a:gridCol w="914400"/>
                <a:gridCol w="220968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3 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4  4  6  7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2  5  7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3  4 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971800" y="373392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34290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87EF7-3F1A-4A9E-A536-64FA4250B3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800600" y="3048120"/>
            <a:ext cx="1752480" cy="22096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Using other stem uni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100’s digit as the 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 off the 10’s digit to form the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13 would become             6     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76 would become             7     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24 becomes                  12      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35053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04812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124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    Le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A80E-286A-47F4-97BA-E8F371D7E3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raphing Categorical Dat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417920" y="266544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1752480"/>
            <a:ext cx="2968560" cy="94212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egor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133720" y="3045960"/>
            <a:ext cx="4646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3962520"/>
            <a:ext cx="1596960" cy="94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0240" y="3046320"/>
            <a:ext cx="144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3962520"/>
            <a:ext cx="2283120" cy="94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eto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30481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3962520"/>
            <a:ext cx="1673280" cy="94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4C00-114A-428B-B0D7-982326719E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r and Pie Char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charts and Pie charts are often used for qualitative (category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 of bar or size of pie slice shows the frequency or percentage for each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BA73-CA1F-4C43-A9CD-2E51BB9CDC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195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i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505320" y="2362320"/>
          <a:ext cx="563868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362320"/>
                    <a:ext cx="56386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43800" y="5029200"/>
            <a:ext cx="1447920" cy="9414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ercentages are rounded to the nearest 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1523880"/>
            <a:ext cx="5181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Investment Portfol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2362320"/>
            <a:ext cx="1143000" cy="670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3429000"/>
            <a:ext cx="758880" cy="637560"/>
          </a:xfrm>
          <a:prstGeom prst="rect">
            <a:avLst/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 1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029200"/>
            <a:ext cx="914400" cy="63756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ds 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2971800"/>
            <a:ext cx="990720" cy="64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2362320"/>
            <a:ext cx="4038840" cy="231192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ment        Amount       Percen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thousands $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              46.5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42.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.0               29.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15.5                14.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ings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0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362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2362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28954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43434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5105520"/>
            <a:ext cx="2895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Variables are Qualit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066680" y="426708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44A70-D49D-46A1-9FEE-14599F712C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r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9480" y="1752480"/>
          <a:ext cx="800100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80010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18A5D-FC4B-4C0C-89AB-657838B812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areto Dia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6094440" y="3491280"/>
            <a:ext cx="3048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% inves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line grap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-861120" y="3452040"/>
            <a:ext cx="373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invested in each category (bar grap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1600200"/>
          <a:ext cx="6019920" cy="45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01992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7D9A-1163-46F8-A3DD-74A6BA3E9C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r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209680" y="1828800"/>
          <a:ext cx="6853320" cy="41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828800"/>
                    <a:ext cx="68533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52280" y="1905120"/>
          <a:ext cx="2210040" cy="3467160"/>
        </p:xfrm>
        <a:graphic>
          <a:graphicData uri="http://schemas.openxmlformats.org/drawingml/2006/table">
            <a:tbl>
              <a:tblPr/>
              <a:tblGrid>
                <a:gridCol w="1105200"/>
                <a:gridCol w="11048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ays re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57200" y="5486400"/>
            <a:ext cx="1581120" cy="92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5E39-2320-4414-B722-2D09D8DC79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abulating and Graphing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variate Categorical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86804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in thousands of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0040" y="2668680"/>
            <a:ext cx="8455320" cy="3339360"/>
          </a:xfrm>
          <a:prstGeom prst="rect">
            <a:avLst/>
          </a:prstGeom>
          <a:solidFill>
            <a:srgbClr val="ffffd9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estment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nvestor A          </a:t>
            </a:r>
            <a:r>
              <a:rPr b="1" lang="en-US" sz="2000" spc="-1" strike="noStrike">
                <a:solidFill>
                  <a:srgbClr val="d8af00"/>
                </a:solidFill>
                <a:latin typeface="Arial"/>
              </a:rPr>
              <a:t>Investor 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Investor C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tegor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4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7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32.0                 4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19.0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5.5                 20                 13.5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6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8                   7.0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147                 67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3276720"/>
            <a:ext cx="8458200" cy="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266688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66688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266688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3800" y="2666880"/>
            <a:ext cx="0" cy="327672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7960" y="5257800"/>
            <a:ext cx="8448840" cy="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74F4-05A3-4763-86A9-33313E5E9E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abulating and Graphing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variate Categorical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de by side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676520" y="2209680"/>
          <a:ext cx="70866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09680"/>
                    <a:ext cx="7086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C3CC-B8E3-4044-9667-5A96B36910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requency Distribu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Frequency Distrib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equency distribution is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st or a 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ing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lues of a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a set of ranges within which the data falls)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rresponding freque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which each value occurs (or frequencies with which data falls within each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C0D2-E397-4D02-806A-BF97AA5B2B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00400" y="2133720"/>
            <a:ext cx="3505320" cy="60948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de-by-Sid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es by quarter for three sales territori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828800" y="2514600"/>
          <a:ext cx="6448320" cy="39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644832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286000" y="1905120"/>
            <a:ext cx="4495680" cy="89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FB14-0520-4C3A-A246-69427308E7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ne cha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values of one variable vs.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ime is traditionally shown on the horizontal ax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catter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points for bivariat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 variable is measured on the vertical axis and the other variable is measured on the horizontal ax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228600"/>
            <a:ext cx="779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 Charts and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Diagram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1EBC-52F4-47D8-8349-B63527E222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981080" y="1828800"/>
          <a:ext cx="686772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68677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04920" y="1828800"/>
          <a:ext cx="1600200" cy="436392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</a:tblGrid>
              <a:tr h="468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2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lation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08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B31D2-ECED-4B1D-A0EB-89047C5269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Dia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057400" y="1752480"/>
          <a:ext cx="693432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693432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52280" y="2133720"/>
          <a:ext cx="1905120" cy="3593880"/>
        </p:xfrm>
        <a:graphic>
          <a:graphicData uri="http://schemas.openxmlformats.org/drawingml/2006/table">
            <a:tbl>
              <a:tblPr/>
              <a:tblGrid>
                <a:gridCol w="939960"/>
                <a:gridCol w="9651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ume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A49E-87D1-4262-A73B-B7FBD56E897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6560" y="2362320"/>
          <a:ext cx="84488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362320"/>
                    <a:ext cx="84488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A3D2-481A-44A5-9CFC-8501389FCD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3520" y="2362320"/>
          <a:ext cx="84484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4484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4E4C-7DA9-4F1B-A282-82BF9A3EEC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2362320"/>
          <a:ext cx="84488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4488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C1E0-13D0-46FD-8ED1-A1251252F2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 in raw form are usually not easy to use for decision making -- Some type of organization is need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e4a8"/>
                </a:solidFill>
                <a:latin typeface="Symbol"/>
                <a:ea typeface="Symbol"/>
              </a:rPr>
              <a:t>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e4a8"/>
                </a:solidFill>
                <a:latin typeface="Symbol"/>
                <a:ea typeface="Symbol"/>
              </a:rPr>
              <a:t>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iques reviewed in this chapte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equency Distributions and Histo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r Charts and Pie Cha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em and Leaf Dia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Charts and Scatter Dia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9E2FE-371F-4EEC-8168-8FD7E77BA3D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Why Use Frequency Distributions?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315200" cy="3846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equency distribution is a way to summariz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ribution condenses the raw data into a more useful form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llows for a quick visual interpretation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4B2F9-8131-4B6B-B43F-D0164FA682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Frequency Distribution: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Data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Discrete dat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possible values are coun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438280"/>
            <a:ext cx="236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 advertiser asks 200 customers how many days per week they read the daily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038480" y="2362320"/>
          <a:ext cx="4267440" cy="381132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ays rea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5181480"/>
            <a:ext cx="1886040" cy="11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6B50-F6B2-44D3-8869-1511DD24AB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lative Frequenc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ive Frequ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hat proportion is in each categ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38080" y="2209680"/>
          <a:ext cx="6400800" cy="386892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ays rea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lativ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7467480" y="29718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620120" y="2743200"/>
                <a:ext cx="1315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6629400" y="3048120"/>
            <a:ext cx="990720" cy="152280"/>
          </a:xfrm>
          <a:prstGeom prst="left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3657600"/>
            <a:ext cx="1676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% of the people in the sample report that they read the newspaper 0 days per w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91520" y="5511960"/>
            <a:ext cx="1581120" cy="9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65FF7-3502-4D9D-ADE1-31E3D74108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57400" y="4114800"/>
            <a:ext cx="52578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Frequency Distribution: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tinuous Data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4367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uous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take on any value in som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manufacturer of insulation randomly selects 20 winter days and records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aily 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6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, 35, 17, 21, 24, 37, 26, 46, 58, 3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, 13, 12, 38, 41, 43, 44, 27, 53,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emperature is a continuous variable because it cou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measured to any degree of precision desi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6ADFB-A50D-4763-B485-032927FAF0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2209680"/>
            <a:ext cx="8153640" cy="3812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rouping Data by Class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lvl="1" marL="69372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rt raw data in ascending ord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5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12, 13, 17, 21, 24, 24, 26, 27, 27, 30, 32, 35, 37, 38, 41, 43, 44, 46, 53, 5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range: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8 - 12 = 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number of classes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usually between 5 and 2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class width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46/5 then round off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lass boundaries: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0, 20, 30, 40,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class midpoints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5, 25, 35, 45,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observations &amp; assign to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88EB-C615-4E7C-B3AC-AA2C763BBA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requency Distribution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514600"/>
            <a:ext cx="6400800" cy="388620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002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in ordered arr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1160" y="3733920"/>
            <a:ext cx="58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048120"/>
            <a:ext cx="0" cy="33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3048120"/>
            <a:ext cx="6270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as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3809880"/>
            <a:ext cx="642312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0 but under 20             3                  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.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0 but under 3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6                   .3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30 but under 4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5                   .2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40 but under 50             4                   .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50 but under 6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2                   .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20                 1.00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048120"/>
            <a:ext cx="0" cy="33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3048120"/>
            <a:ext cx="162252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l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5200" y="5943600"/>
            <a:ext cx="596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2514600"/>
            <a:ext cx="627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3048120"/>
            <a:ext cx="58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8DA5-18A3-4D4E-906F-11D1CEBECC9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dc:language>en-US</dc:language>
  <cp:lastModifiedBy>dy</cp:lastModifiedBy>
  <cp:lastPrinted>1998-11-22T23:37:53Z</cp:lastPrinted>
  <dcterms:modified xsi:type="dcterms:W3CDTF">2004-06-18T15:32:39Z</dcterms:modified>
  <cp:revision>60</cp:revision>
  <dc:subject>Chapter 2</dc:subject>
  <dc:title>Business Statistics: A Decision-Making Approach, 6th edition</dc:title>
</cp:coreProperties>
</file>