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10.png" ContentType="image/png"/>
  <Override PartName="/ppt/media/image28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4B0E-BEFB-4698-8F62-DA9519E8D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15F2-0F0F-4062-9113-1A947C958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D5FF6-6E31-431D-9548-5B7C0C0DE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E689-2E74-4728-9236-9C86E0E20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10496-7E2A-4A7E-AB20-890CD929FC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0262D-3DB1-406E-8454-021A36CD2C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15A6A-4E38-4F36-9E91-8932C817A7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5DDB0-28DB-4AEB-B2D3-22D17AE3DA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9A23F-3A34-49B0-A151-798BDF95A8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D3A00-F519-4898-B96C-6505264887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2ED89-39C6-4C68-A397-09188DD09B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2077-CB23-42D1-B5DA-D76BC2DB6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49E7B-AA17-43BB-9F10-4F2B810D84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AE515-DAED-45F5-8651-918CC8ADEB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B8E71-7FEC-40ED-ADFB-70B60C5752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7956D-FF87-40FE-BDCA-04CBCB6F59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0FCFC-1CFD-4C60-95BE-32BF8C2DB5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469D-4D91-4BFC-BEA0-64443BF7FE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7C15-8C8E-46C2-8AD2-7A168AB779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B28-67F6-4A4A-9F9D-8FBAFB0B7C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50C4-397A-429E-9634-0A4157E567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E2C-F106-4974-8381-D1C3B4BA51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D4F4F-6DC0-45F2-A17D-18B9B8498D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AB08-EE31-4F16-82FE-441D95A0BB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5ACA-8217-40C9-8AF8-4F79D9D2FE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D766-82F3-42A1-82DA-1B2278F8F0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657-BF26-44BF-9334-1A5FF90E62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1BA-E204-4A3B-99A5-C31F1729CE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39D-D292-4AAB-BAB5-2DA4B3DE61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54A-68A0-4C29-91F6-F046E321D2E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180F2-B605-4E48-9A33-460882EE1A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1AF96-361A-41FF-AB93-78ACBF05B7F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0757A-564D-4EE4-9CF5-0468E1231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1EC2-271C-46C8-995E-4D6304002C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18000-A9CD-4EAE-B62D-C986F09D7A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D3E4E-EF53-45AB-9010-621D0B7BFA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050F0-1547-4D97-883C-CE79E25242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24D7E-A685-41F9-A374-6E94E11D862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2CA00-4DF4-433F-9148-9D52A3A309B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7DF9D-6F6B-42F2-AE12-35C949B83E3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B1694-B9F4-497C-BD71-951D3ACFFD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D69F6-FE1C-460E-8420-03B09B2852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3A4A3-4F4A-48CB-92EC-6FFB3B177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CABB-3883-4BFE-AABF-D77EF1CBB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C5C8D-E44B-436D-A8B0-ADD069078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CEF2-81ED-4E1F-9979-8008A1AC5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6185-1C43-4690-9A5C-A11A10436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F97F-2DF3-447B-8DE8-7B6A214FB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3632-EE06-4B27-812B-137A767007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069E-2785-4DE8-B935-AC4234BC4D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1820-5581-4DE5-B536-BCC64E02BF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CEF3-5649-45F3-901A-917A9178F95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03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 Design &amp; ERD Modell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8F5F-D88B-4982-98D4-C640AB1D03C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9E96-8BAB-46FE-9100-0CC367EC604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Relationship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cursive Relationshi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ationship type where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ame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entity type participates more than once in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fferent roles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ationships may be given role names to indicate purpose that each participating entity type plays in a relationship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2052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300B-5B41-4F6E-A7DB-2C20DB5E477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9250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Binary relationship called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P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Ow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2" name="Picture 5" descr="DS3-Figure 11-06"/>
          <p:cNvPicPr/>
          <p:nvPr/>
        </p:nvPicPr>
        <p:blipFill>
          <a:blip r:embed="rId1"/>
          <a:stretch/>
        </p:blipFill>
        <p:spPr>
          <a:xfrm>
            <a:off x="609480" y="1905120"/>
            <a:ext cx="7791480" cy="1692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CFB1-E0DD-4361-BFB1-36D8803E3CF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Ternary relationship called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Register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6" name="Picture 5" descr="DS3-Figure 11-07"/>
          <p:cNvPicPr/>
          <p:nvPr/>
        </p:nvPicPr>
        <p:blipFill>
          <a:blip r:embed="rId1"/>
          <a:stretch/>
        </p:blipFill>
        <p:spPr>
          <a:xfrm>
            <a:off x="609480" y="1905120"/>
            <a:ext cx="7315200" cy="26492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8641-7CB4-463F-9FC8-E2384C0B7FE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Quaternary relationship called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rrang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0" name="Picture 5" descr="DS3-Figure 11-08"/>
          <p:cNvPicPr/>
          <p:nvPr/>
        </p:nvPicPr>
        <p:blipFill>
          <a:blip r:embed="rId1"/>
          <a:stretch/>
        </p:blipFill>
        <p:spPr>
          <a:xfrm>
            <a:off x="685800" y="1752480"/>
            <a:ext cx="7162920" cy="35942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F9A3-96D0-458F-8EA1-FF48474A835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Entities associated through two distinct relationships with role nam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4" name="Picture 5" descr="DS3-Figure 11-10"/>
          <p:cNvPicPr/>
          <p:nvPr/>
        </p:nvPicPr>
        <p:blipFill>
          <a:blip r:embed="rId1"/>
          <a:stretch/>
        </p:blipFill>
        <p:spPr>
          <a:xfrm>
            <a:off x="990720" y="1600200"/>
            <a:ext cx="6095880" cy="46782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CC10-401E-4D3E-B33E-A7B65900728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perty of an entity or a relationship typ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Doma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et of allowable values for one or more attribut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80C1-3F5A-4856-9525-BA34FDD1255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imple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composed of a single component with an independent exist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mposite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composed of multiple components, each with an independent exist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EBB9-0B5E-45B6-90AF-D078344EDC9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ingle-valued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ttribute that holds a single value for each occurrence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ulti-valued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ttribute that holds multiple values for each occurrence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C86F-E745-4F66-AE89-7CC8F4F8866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rived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ttribute that represents a value that is derivable from value of a related attribute, or set of attributes, not necessarily in the same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4B7D-21BF-4CEC-A218-1CF1F85950C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ndidate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nimal set of attributes that uniquely identifies each occurrence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imary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andidate key selected to uniquely identify each occurrence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mposite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candidate key that consists of two or more attribut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E428-7508-408F-9A65-206C7F94DD7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12 - 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w to use Entity–Relationship (ER) modeling in database design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asic concepts associated with ER model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matic technique for displaying ER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w to identify and resolve problems with ER models called connection trap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cepts of Enhanced ER (EER) mode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straints on Specialization / Generaliz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609B-41E7-43D9-B8CF-7B7D55AFBAF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R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iagram of 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and 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Branch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entities and their 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38" name="Picture 1032" descr="DS3-Figure 11-11"/>
          <p:cNvPicPr/>
          <p:nvPr/>
        </p:nvPicPr>
        <p:blipFill>
          <a:blip r:embed="rId1"/>
          <a:stretch/>
        </p:blipFill>
        <p:spPr>
          <a:xfrm>
            <a:off x="533520" y="1752480"/>
            <a:ext cx="7543800" cy="39625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033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BC52-175E-45C5-953D-499F7592904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ntity Typ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trong Entity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tity type that is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t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existence-dependent on some other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Weak Entity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tity type that is existence-dependent on some other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0CC8-BB2C-447B-A248-65A63221AF8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trong entity type called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Cli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and weak entity type called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Preferenc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46" name="Picture 8" descr="DS3-Figure 11-12"/>
          <p:cNvPicPr/>
          <p:nvPr/>
        </p:nvPicPr>
        <p:blipFill>
          <a:blip r:embed="rId1"/>
          <a:stretch/>
        </p:blipFill>
        <p:spPr>
          <a:xfrm>
            <a:off x="990720" y="1905120"/>
            <a:ext cx="6324480" cy="36097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B33E-0A70-4EFA-80F9-FF700C07EB1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Relationship called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dvertis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with 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50" name="Picture 5" descr="DS3-Figure 11-13"/>
          <p:cNvPicPr/>
          <p:nvPr/>
        </p:nvPicPr>
        <p:blipFill>
          <a:blip r:embed="rId1"/>
          <a:stretch/>
        </p:blipFill>
        <p:spPr>
          <a:xfrm>
            <a:off x="914400" y="1828800"/>
            <a:ext cx="6858000" cy="38386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220F-CB4D-4585-9D84-7176D2912E8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43120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Main type of constraint on relationships is called </a:t>
            </a:r>
            <a:r>
              <a:rPr b="0" i="1" lang="en-GB" sz="2800" spc="-1" strike="noStrike">
                <a:solidFill>
                  <a:srgbClr val="ff0000"/>
                </a:solidFill>
                <a:latin typeface="Times New Roman"/>
              </a:rPr>
              <a:t>multiplicity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Multiplicity - </a:t>
            </a:r>
            <a:r>
              <a:rPr b="0" lang="en-AU" sz="2800" spc="-1" strike="noStrike">
                <a:solidFill>
                  <a:srgbClr val="ff0000"/>
                </a:solidFill>
                <a:latin typeface="Times New Roman"/>
              </a:rPr>
              <a:t>number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 (or range) of possible </a:t>
            </a:r>
            <a:r>
              <a:rPr b="0" lang="en-AU" sz="2800" spc="-1" strike="noStrike">
                <a:solidFill>
                  <a:srgbClr val="ff0000"/>
                </a:solidFill>
                <a:latin typeface="Times New Roman"/>
              </a:rPr>
              <a:t>occurrences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 of </a:t>
            </a:r>
            <a:r>
              <a:rPr b="0" lang="en-AU" sz="2800" spc="-1" strike="noStrike">
                <a:solidFill>
                  <a:srgbClr val="ff0000"/>
                </a:solidFill>
                <a:latin typeface="Times New Roman"/>
              </a:rPr>
              <a:t>an entity type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 that may </a:t>
            </a:r>
            <a:r>
              <a:rPr b="0" lang="en-AU" sz="2800" spc="-1" strike="noStrike">
                <a:solidFill>
                  <a:srgbClr val="ff0000"/>
                </a:solidFill>
                <a:latin typeface="Times New Roman"/>
              </a:rPr>
              <a:t>relate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 to a single occurrence of </a:t>
            </a:r>
            <a:r>
              <a:rPr b="0" lang="en-AU" sz="2800" spc="-1" strike="noStrike">
                <a:solidFill>
                  <a:srgbClr val="ff0000"/>
                </a:solidFill>
                <a:latin typeface="Times New Roman"/>
              </a:rPr>
              <a:t>an associated entity type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ff0000"/>
                </a:solidFill>
                <a:latin typeface="Times New Roman"/>
              </a:rPr>
              <a:t>through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 a particular </a:t>
            </a:r>
            <a:r>
              <a:rPr b="0" lang="en-AU" sz="2800" spc="-1" strike="noStrike">
                <a:solidFill>
                  <a:srgbClr val="ff0000"/>
                </a:solidFill>
                <a:latin typeface="Times New Roman"/>
              </a:rPr>
              <a:t>relationship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sociat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 pair of integer numbers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in, max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 with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ach participation of an entity type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 relationship typ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R, where 0 ≤ min ≤ max and max ≥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Represents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use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olicies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(called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business rules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1D09-418A-459C-90C3-94BA0611C2A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most common degree for relationships is binar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inary relationships are generally referred to as being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-to-one (1:1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-to-many (1:*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ny-to-many (*:*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BCE0-94C8-41E3-8579-0A4430A5CF9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7338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ultiplicity is made up of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wo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types of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striction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on relationships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cardinality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participation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AC32-55E9-4164-B3C1-1F48B8EBFAA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1760" y="15573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rdinality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scribes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maximum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number of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possible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lationship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occurrences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for an entity 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rticipating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in a given relationship 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articip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termines whether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all or only some entity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occurrences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participate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in a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relationship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1016-D0FC-4A72-BED6-58900BD038C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Multiplicity as cardinality and participation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70" name="Picture 1029" descr="DS3-Figure 11-18"/>
          <p:cNvPicPr/>
          <p:nvPr/>
        </p:nvPicPr>
        <p:blipFill>
          <a:blip r:embed="rId1"/>
          <a:stretch/>
        </p:blipFill>
        <p:spPr>
          <a:xfrm>
            <a:off x="1523880" y="1523880"/>
            <a:ext cx="5791320" cy="4627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AB9F-F4D9-4C3F-9F28-AD6B2FB9668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Manages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Branch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typ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74" name="Picture 7" descr="DS3-Figure 11-14a"/>
          <p:cNvPicPr/>
          <p:nvPr/>
        </p:nvPicPr>
        <p:blipFill>
          <a:blip r:embed="rId1"/>
          <a:stretch/>
        </p:blipFill>
        <p:spPr>
          <a:xfrm>
            <a:off x="685800" y="1905120"/>
            <a:ext cx="7391520" cy="38862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B9AA-8936-4CEC-8E20-EF863E31879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oncepts of the ER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 typ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ship type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D114-BFD3-4F02-8BDA-701B1462E14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Manag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Branch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(1:1) relationship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78" name="Picture 8" descr="DS3-Figure 11-14b"/>
          <p:cNvPicPr/>
          <p:nvPr/>
        </p:nvPicPr>
        <p:blipFill>
          <a:blip r:embed="rId1"/>
          <a:stretch/>
        </p:blipFill>
        <p:spPr>
          <a:xfrm>
            <a:off x="609480" y="1752480"/>
            <a:ext cx="7010640" cy="35816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7714-9F42-4660-9229-003E35AA48B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Oversees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PropertyForR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typ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82" name="Picture 9" descr="DS3-Figure 11-15a"/>
          <p:cNvPicPr/>
          <p:nvPr/>
        </p:nvPicPr>
        <p:blipFill>
          <a:blip r:embed="rId1"/>
          <a:stretch/>
        </p:blipFill>
        <p:spPr>
          <a:xfrm>
            <a:off x="609480" y="1752480"/>
            <a:ext cx="7239240" cy="36576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700D-BEAF-475B-A2EF-178576CB07F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Overse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PropertyForR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(1:*) relationship typ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86" name="Picture 8" descr="DS3-Figure 11-15b"/>
          <p:cNvPicPr/>
          <p:nvPr/>
        </p:nvPicPr>
        <p:blipFill>
          <a:blip r:embed="rId1"/>
          <a:stretch/>
        </p:blipFill>
        <p:spPr>
          <a:xfrm>
            <a:off x="685800" y="1828800"/>
            <a:ext cx="7238880" cy="3581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020D-FE29-4DC8-8AEB-EFB4465D7B7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Newspaper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dvertis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PropertyForRent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typ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90" name="Picture 7" descr="DS3-Figure 11-16a"/>
          <p:cNvPicPr/>
          <p:nvPr/>
        </p:nvPicPr>
        <p:blipFill>
          <a:blip r:embed="rId1"/>
          <a:stretch/>
        </p:blipFill>
        <p:spPr>
          <a:xfrm>
            <a:off x="685800" y="1676520"/>
            <a:ext cx="7010280" cy="40226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CA2A-EABD-487D-AB79-1CA89AA2FAE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Newspaper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dvertis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PropertyForR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(*:*) relationship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94" name="Picture 8" descr="DS3-Figure 11-16b"/>
          <p:cNvPicPr/>
          <p:nvPr/>
        </p:nvPicPr>
        <p:blipFill>
          <a:blip r:embed="rId1"/>
          <a:stretch/>
        </p:blipFill>
        <p:spPr>
          <a:xfrm>
            <a:off x="685800" y="1752480"/>
            <a:ext cx="7391520" cy="3581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A3AA-0B60-4E0F-B0D0-7AF55E52094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ummary of multiplicity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99" name="Picture 6" descr="DS3-Table 11-01"/>
          <p:cNvPicPr/>
          <p:nvPr/>
        </p:nvPicPr>
        <p:blipFill>
          <a:blip r:embed="rId1"/>
          <a:srcRect l="85" t="12512" r="0" b="0"/>
          <a:stretch/>
        </p:blipFill>
        <p:spPr>
          <a:xfrm>
            <a:off x="468360" y="1773360"/>
            <a:ext cx="7991280" cy="328932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035A-5E21-4D53-B471-89B8DF2C7D7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ER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iagram of Branch user views of </a:t>
            </a:r>
            <a:r>
              <a:rPr b="1" i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reamHom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03" name="Picture 8" descr="DS3-Figure 11-01"/>
          <p:cNvPicPr/>
          <p:nvPr/>
        </p:nvPicPr>
        <p:blipFill>
          <a:blip r:embed="rId1"/>
          <a:stretch/>
        </p:blipFill>
        <p:spPr>
          <a:xfrm>
            <a:off x="762120" y="1447920"/>
            <a:ext cx="7122960" cy="51498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990720" y="92160"/>
            <a:ext cx="6845040" cy="6375240"/>
          </a:xfrm>
          <a:prstGeom prst="rect">
            <a:avLst/>
          </a:prstGeom>
          <a:ln w="0">
            <a:noFill/>
          </a:ln>
        </p:spPr>
      </p:pic>
      <p:sp>
        <p:nvSpPr>
          <p:cNvPr id="306" name="Slide Number Placeholder 2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2FA1-3249-42A9-B3FE-4AB860CDC94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7729-A0E0-4CFA-8A70-298181D6CEB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roblems with ER Mod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blems may arise when designing a conceptual data model called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connection trap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Often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due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a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misinterpretation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of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meaning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of certain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lationship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wo main types of connection traps are called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fan traps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nd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chasm trap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FC4F-B80A-43E2-B4BC-9B84F9983E7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roblems with ER Mod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Fan Tra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here a model represents a relationship between entity types, but pathway between certain entity occurrences is ambiguou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07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hasm Tra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here a model suggests the existence of a relationship between entity types, but pathway does not exist between certain entity occurrenc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D256-CFE6-4151-BFE3-040E12FF94E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ntity Typ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oup of objects 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ith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e properties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 identified by enterprise as having an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ependent existence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 occurr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niquely identifiable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ject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an entity type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30C5-3863-43A0-997D-939F5A22B9A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 Example of a Fan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17" name="Picture 8" descr="DS3-Figure 11-19a"/>
          <p:cNvPicPr/>
          <p:nvPr/>
        </p:nvPicPr>
        <p:blipFill>
          <a:blip r:embed="rId1"/>
          <a:stretch/>
        </p:blipFill>
        <p:spPr>
          <a:xfrm>
            <a:off x="380880" y="2133720"/>
            <a:ext cx="8229600" cy="102528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EBB3-1272-4EB6-B00B-F9369F539FF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ER Model with Fan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At which branch office does staff number SG37 work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22" name="Picture 8" descr="DS3-Figure 11-19b"/>
          <p:cNvPicPr/>
          <p:nvPr/>
        </p:nvPicPr>
        <p:blipFill>
          <a:blip r:embed="rId1"/>
          <a:stretch/>
        </p:blipFill>
        <p:spPr>
          <a:xfrm>
            <a:off x="685800" y="1981080"/>
            <a:ext cx="7696080" cy="285768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FE3B-0C76-42A6-B61A-F5479D231F2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structuring ER model to remove Fan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26" name="Picture 8" descr="DS3-Figure 11-20a"/>
          <p:cNvPicPr/>
          <p:nvPr/>
        </p:nvPicPr>
        <p:blipFill>
          <a:blip r:embed="rId1"/>
          <a:stretch/>
        </p:blipFill>
        <p:spPr>
          <a:xfrm>
            <a:off x="533520" y="1905120"/>
            <a:ext cx="7848360" cy="236196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9FF3-821B-474E-A7B4-1E16B45EE7B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Restructured ER Model with Fan Trap Removed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G37 works at branch B003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31" name="Picture 9" descr="DS3-Figure 11-20b"/>
          <p:cNvPicPr/>
          <p:nvPr/>
        </p:nvPicPr>
        <p:blipFill>
          <a:blip r:embed="rId1"/>
          <a:stretch/>
        </p:blipFill>
        <p:spPr>
          <a:xfrm>
            <a:off x="533520" y="1828800"/>
            <a:ext cx="7619760" cy="282888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58CD-8100-4BC1-846C-F47371971A6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 Example of a Chasm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35" name="Picture 9" descr="DS3-Figure 11-21a"/>
          <p:cNvPicPr/>
          <p:nvPr/>
        </p:nvPicPr>
        <p:blipFill>
          <a:blip r:embed="rId1"/>
          <a:stretch/>
        </p:blipFill>
        <p:spPr>
          <a:xfrm>
            <a:off x="457200" y="2057400"/>
            <a:ext cx="8305920" cy="1143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2C2E-03E8-41D5-8DD4-502FC0EB232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ER Model with Chasm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 which branch office is property PA14 available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0" name="Picture 8" descr="DS3-Figure 11-21b"/>
          <p:cNvPicPr/>
          <p:nvPr/>
        </p:nvPicPr>
        <p:blipFill>
          <a:blip r:embed="rId1"/>
          <a:stretch/>
        </p:blipFill>
        <p:spPr>
          <a:xfrm>
            <a:off x="609480" y="1752480"/>
            <a:ext cx="7467840" cy="27054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F2B2-0BD9-447E-A0F1-15B28DAF22E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R Model restructured to remove Chasm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44" name="Picture 9" descr="DS3-Figure 11-22a"/>
          <p:cNvPicPr/>
          <p:nvPr/>
        </p:nvPicPr>
        <p:blipFill>
          <a:blip r:embed="rId1"/>
          <a:stretch/>
        </p:blipFill>
        <p:spPr>
          <a:xfrm>
            <a:off x="685800" y="1905120"/>
            <a:ext cx="7543800" cy="24256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4F32-ECA1-4496-A0CC-D0994F7E7AF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Restructured ER Model with Chasm Trap Removed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48" name="Picture 9" descr="DS3-Figure 11-22b"/>
          <p:cNvPicPr/>
          <p:nvPr/>
        </p:nvPicPr>
        <p:blipFill>
          <a:blip r:embed="rId1"/>
          <a:stretch/>
        </p:blipFill>
        <p:spPr>
          <a:xfrm>
            <a:off x="1066680" y="1600200"/>
            <a:ext cx="5943600" cy="45626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hanced Entity-Relationship Model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344C-FC79-4039-9818-6575089BF7F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 (EER)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nhanced ER (EER) mod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reated to desig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re accurate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atabase schemas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flect the data properties and constraints more precisel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re complex requirements than traditional applic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5C31-D1CB-4B30-A643-3EEB165D845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42E3-8A77-4EE7-838A-927849E04CB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xamples of Entity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9" name="Picture 6" descr="DS3-Figure 11-02"/>
          <p:cNvPicPr/>
          <p:nvPr/>
        </p:nvPicPr>
        <p:blipFill>
          <a:blip r:embed="rId1"/>
          <a:stretch/>
        </p:blipFill>
        <p:spPr>
          <a:xfrm>
            <a:off x="1600200" y="1752480"/>
            <a:ext cx="4038480" cy="35402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ubclasses, Superclasses, and Inheritanc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ER model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clude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ll ER modeling concep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 addition, EER include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ubclasse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uperclass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pecializatio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generaliz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ategory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nion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ttribut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relationshi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herita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4C0A-7CD7-40D3-BF29-A56BE846377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ubclasses, Superclasses, and Inheritanc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ubtyp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ubclas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f an entity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ubgroupings of entities that are meaningfu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presented explicitly because of their significance to the database applic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ype inherita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ubclass entity inherits all attributes and relationships of supercla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800D-20B2-4654-B09C-6744E6D746D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816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Utilizing Specialization and Generalization in Refining Conceptual Schema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68000" y="1628640"/>
            <a:ext cx="82170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pecialization proce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tart with entity type then define subclasses by successive specializ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op-down conceptual refinement proce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erta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ttribute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ma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y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but not all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f the supercla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om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lationshi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types may b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articipated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nly b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mber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f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ubcla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D11D-2AA7-46CE-81CA-B116E0BEA37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verse process of abstra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Generaliz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nto a single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uperclas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riginal entity types are special subclass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Generalization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ces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fining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eneralized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ntity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yp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from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ive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ntity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yp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lization proce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volve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ottom-up conceptual synthes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3BA4-B1DD-4413-A670-4D2D8E44DFE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onstraints on Specialization and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y be several or one subcla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termine entity subtype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dicate-defined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(or c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ndition-defined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ttribute-defined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specializ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r-defin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3B2F-597D-4A0D-A782-86F885ADC06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05800" cy="6120000"/>
          </a:xfrm>
          <a:prstGeom prst="rect">
            <a:avLst/>
          </a:prstGeom>
          <a:ln w="0">
            <a:noFill/>
          </a:ln>
        </p:spPr>
      </p:pic>
      <p:sp>
        <p:nvSpPr>
          <p:cNvPr id="372" name="Slide Number Placeholder 2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7FE8-1967-44F0-BCC2-B6C225CDB56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onstraints on Specialization and Generalization (cont’d.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14240" y="1356840"/>
            <a:ext cx="8143920" cy="492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sjointness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constrai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pecifies that the subclasses of the specialization must be disjoi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sjoint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 entity can be a member of at most one of the subclasses of the specializa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verlap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at is the same entity may be a member of more than one subclass of the specializa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pletenes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(or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otalnes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strai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Every entity in the superclass must be a member of some subclass in the specialization/generalization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ay b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otal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arti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isjointness and completeness constraints ar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depend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8E99-C90E-4E53-B7E4-6DE512A109D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pecialization and Generalization Hierarchies</a:t>
            </a:r>
            <a:br>
              <a:rPr sz="3200"/>
            </a:b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and Lattic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28280"/>
            <a:ext cx="8228160" cy="41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pecialization hierarchy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very subclas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articipate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s a subclas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 only on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class/subclas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sults in a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ree structure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r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trict hierarch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pecialization latti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ubclass can be a subclass 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re than one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ass/subclas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92CE-4BF9-4ADA-9C5D-F2DC273BBF6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390080" cy="6008760"/>
          </a:xfrm>
          <a:prstGeom prst="rect">
            <a:avLst/>
          </a:prstGeom>
          <a:ln w="0">
            <a:noFill/>
          </a:ln>
        </p:spPr>
      </p:pic>
      <p:sp>
        <p:nvSpPr>
          <p:cNvPr id="380" name="Slide Number Placeholder 2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BFAB-41C1-4102-BBC7-8969D71A33A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7772400" cy="100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Modeling of UNION Types Using Categori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34640" y="1483920"/>
            <a:ext cx="772812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nion type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r a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presents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ngl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superclass/subclas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lationshi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with more than one supercla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ubclas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present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llectio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bject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that is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ubse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f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stinc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ntity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yp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ttribut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heritanc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work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lectiv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ategory can be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otal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artia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ome modeling methodologies do not have union typ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FFDB-65FB-4563-AD9E-9FDC2665EBD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F000-5315-4611-BCA4-0D3F955F313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ship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ship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et of meaningful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sociations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mong entity typ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ship occurr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niquely identifiable association, which includes one occurrence from each participating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0716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Design Choices for Specialization/Generalization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78920" y="1628640"/>
            <a:ext cx="8713800" cy="45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 all subclasses of a specialization/generalization hav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ew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specific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ttribute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specific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an b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rged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nto the superclas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place with one or more type attributes that specify the subclass or subclasses that each entity belongs t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3E43-10D7-4908-BAB0-9C1D13672B3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Times New Roman"/>
              </a:rPr>
              <a:t>ER Diagrams, Naming Conventions</a:t>
            </a: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416720" cy="5216400"/>
          </a:xfrm>
          <a:prstGeom prst="rect">
            <a:avLst/>
          </a:prstGeom>
          <a:ln w="0">
            <a:noFill/>
          </a:ln>
        </p:spPr>
      </p:pic>
      <p:sp>
        <p:nvSpPr>
          <p:cNvPr id="18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75E1-0C22-4568-9D2D-B39A6B23172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38B3-1C19-48BF-86AB-D8DC3F45414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ship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gree of a Relationshi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umber of participating entities in  relationship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ationship of degree 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 is unary (recursive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wo is bina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ree is terna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our is quaternar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AB15-B412-4986-BEEB-E3D77F45E45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ecursive relationship called </a:t>
            </a:r>
            <a:r>
              <a:rPr b="1" i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Supervises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with role nam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94" name="Picture 5" descr="DS3-Figure 11-09"/>
          <p:cNvPicPr/>
          <p:nvPr/>
        </p:nvPicPr>
        <p:blipFill>
          <a:blip r:embed="rId1"/>
          <a:stretch/>
        </p:blipFill>
        <p:spPr>
          <a:xfrm>
            <a:off x="762120" y="1828800"/>
            <a:ext cx="6933960" cy="31971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2T14:58:02Z</dcterms:created>
  <dc:creator>Thomas Connolly and Carolyn Begg</dc:creator>
  <dc:description>Transparencies for Chapter 11 of textbook
Database Systems: A Practical Approach to Design, Implementation, and Management</dc:description>
  <dc:language>en-US</dc:language>
  <cp:lastModifiedBy>Administrator</cp:lastModifiedBy>
  <cp:lastPrinted>1998-06-24T16:37:58Z</cp:lastPrinted>
  <dcterms:modified xsi:type="dcterms:W3CDTF">2013-02-16T12:44:55Z</dcterms:modified>
  <cp:revision>121</cp:revision>
  <dc:subject>Database Systems</dc:subject>
  <dc:title>Chapter 11</dc:title>
</cp:coreProperties>
</file>