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30.wmf" ContentType="image/x-wmf"/>
  <Override PartName="/ppt/media/image10.png" ContentType="image/png"/>
  <Override PartName="/ppt/media/image28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74766-27A5-4D77-A360-BD90243359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44D26-8442-40E4-8938-7A903394CD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0E8AA-DCCE-4A55-B798-F95748C662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EFE3B-8DF2-421B-A714-709778AAC1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96D5D-CE3B-4877-9959-A4AE4D4BC68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49B6A-29E2-447C-AA0C-8BFE1FC109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112F0-952A-46C8-82B0-B76EEE45A1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CC735-0885-479C-A416-0A2E993B43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57FDC-766E-4B86-BA4A-A1247F4C00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D73AC-BA1C-4664-AE38-1E13B960CC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43416-F528-43D3-BDC0-448F37B652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A25AA-667A-447F-BA7D-A1336563D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7D339-B5E3-433D-9B1B-8E2DD04C07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FDE37-192E-4AC0-9DA2-89F72CD574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A046B-20C2-4CB5-A52D-0A48411B69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9B3DE-B20F-488D-B987-DE70E311C8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26482-6B70-4025-9D4E-0FB5B44D5F2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9970-B232-40A5-A0F6-7DBAEBA2889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E0AD-3BB1-45A6-824B-3E4AD57C9F1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D744-CED2-499D-B042-EC7D8F6DFB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B69A-E951-499D-B751-D346AAD1738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4B6D-CB08-4A0F-91CF-E39E40BC18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C38C8-5103-4624-B237-3AD0CABDCE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3E0A-8CCF-4F6B-ABD1-08EDAF5817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C4BE-14B1-4C0F-97C9-3CC775CE8F2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9480-0DA1-44F1-B093-3751ADA873C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6405-BA16-4292-997B-6100AF98F43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606E-A587-4672-B913-F20F681AE8E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D652-A0FE-425E-9796-6D51CE713F8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748A-D460-435A-B343-2C393009BD5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5350C5-9A30-439D-89BA-9D6C4396CCF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5DE7D-38A8-4D93-853F-97E71A5224B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61CF4-42B1-4A45-B323-FAD832148B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F44BD-B445-4860-9140-47A73B0A119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4EE58-2D24-4C33-B02E-CD862437D35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82AB3-5A93-4CBF-B3C2-E2306DF446D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F0AA5-01C7-4680-8069-6E8AC7AD061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6BDBC-9B1B-49A4-A60E-669386627D8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A3158-E86B-49ED-B9C6-53EB0A00AA8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BA4BF-967A-4031-B894-46BB47E39FC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8CA87-DE50-44E8-BA99-7B2C06C6CBC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2312D-6E40-4D70-AB2E-CF24D441924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20C618-FEFE-4BC0-B210-D0327A08B3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3362B-A8C3-4232-BB65-E335BDFCC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27B7E-EDA3-42E2-8C8B-DBAF7AB673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ADFEC-9A7D-45B3-90BD-633B232356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6AF9C-9DA9-4CC9-8657-46E91D0DEF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2BD92-DC2B-4BAE-B768-D97BCA2AF0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13F0-BA5E-4F2B-8698-0903552996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1A42-24FF-4119-8662-A7EF8BC981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4F61-BD65-420E-86A4-B631D75FE6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cc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9AE0-5202-4BEC-8B75-9494FD6EF03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c6c6c"/>
            </a:gs>
            <a:gs pos="50000">
              <a:srgbClr val="eaeaea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27000" y="3429000"/>
            <a:ext cx="79740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Chapter 03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nceptual Design &amp; ERD Modell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1131-72BD-4EB8-8A80-DA61DE9D738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8251-6607-4A95-9C00-668B6F10A46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Relationship Typ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cursive Relationshi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lationship type where </a:t>
            </a:r>
            <a:r>
              <a:rPr b="1" i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ame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entity type participates more than once in </a:t>
            </a:r>
            <a:r>
              <a:rPr b="1" i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fferent roles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lationships may be given role names to indicate purpose that each participating entity type plays in a relationship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" name="Text Box 2052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6B22-4FEF-4E9D-9F59-92F39686190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9250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Binary relationship called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P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Own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02" name="Picture 5" descr="DS3-Figure 11-06"/>
          <p:cNvPicPr/>
          <p:nvPr/>
        </p:nvPicPr>
        <p:blipFill>
          <a:blip r:embed="rId1"/>
          <a:stretch/>
        </p:blipFill>
        <p:spPr>
          <a:xfrm>
            <a:off x="609480" y="1905120"/>
            <a:ext cx="7791480" cy="16920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562E8-A591-4640-8B4D-6D3C0EF81E0B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Ternary relationship called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Register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06" name="Picture 5" descr="DS3-Figure 11-07"/>
          <p:cNvPicPr/>
          <p:nvPr/>
        </p:nvPicPr>
        <p:blipFill>
          <a:blip r:embed="rId1"/>
          <a:stretch/>
        </p:blipFill>
        <p:spPr>
          <a:xfrm>
            <a:off x="609480" y="1905120"/>
            <a:ext cx="7315200" cy="26492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C36E-2F64-4A11-AD01-841D4460AEF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Quaternary relationship called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Arrang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10" name="Picture 5" descr="DS3-Figure 11-08"/>
          <p:cNvPicPr/>
          <p:nvPr/>
        </p:nvPicPr>
        <p:blipFill>
          <a:blip r:embed="rId1"/>
          <a:stretch/>
        </p:blipFill>
        <p:spPr>
          <a:xfrm>
            <a:off x="685800" y="1752480"/>
            <a:ext cx="7162920" cy="35942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D617-04A7-485E-810A-3407AF3B173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Entities associated through two distinct relationships with role nam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14" name="Picture 5" descr="DS3-Figure 11-10"/>
          <p:cNvPicPr/>
          <p:nvPr/>
        </p:nvPicPr>
        <p:blipFill>
          <a:blip r:embed="rId1"/>
          <a:stretch/>
        </p:blipFill>
        <p:spPr>
          <a:xfrm>
            <a:off x="990720" y="1600200"/>
            <a:ext cx="6095880" cy="467820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3C99-094B-4FD6-9E85-400768199F6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ttribut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tribut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roperty of an entity or a relationship typ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tribute Domai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et of allowable values for one or more attribute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2F2A-399B-465B-AF3F-F1BD2A60E19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ttribut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imple Attribut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tribute composed of a single component with an independent existenc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mposite Attribut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tribute composed of multiple components, each with an independent existenc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4051-173C-4B06-B8D3-F2122DCA6EF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ttribut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ingle-valued Attribut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ttribute that holds a single value for each occurrence of an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Multi-valued Attribut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ttribute that holds multiple values for each occurrence of an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3E69-9B0E-4127-ACA9-560A84D041A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ttribut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erived Attribut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ttribute that represents a value that is derivable from value of a related attribute, or set of attributes, not necessarily in the same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053A-EF90-4108-9C2D-FF941591507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Key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andidate Ke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inimal set of attributes that uniquely identifies each occurrence of an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rimary Ke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andidate key selected to uniquely identify each occurrence of an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omposite Ke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 candidate key that consists of two or more attribute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Text Box 102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982A-9C0D-44CA-838F-CB15339D48A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hapter 12 - Objectiv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ow to use Entity–Relationship (ER) modeling in database design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asic concepts associated with ER model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agrammatic technique for displaying ER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How to identify and resolve problems with ER models called connection trap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cepts of Enhanced ER (EER) model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Constraints on Specialization / Generaliz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98F7F-4B76-4879-AA8F-47EEE182A29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ER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diagram of 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Staf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and 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Branch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entities and their attribut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38" name="Picture 1032" descr="DS3-Figure 11-11"/>
          <p:cNvPicPr/>
          <p:nvPr/>
        </p:nvPicPr>
        <p:blipFill>
          <a:blip r:embed="rId1"/>
          <a:stretch/>
        </p:blipFill>
        <p:spPr>
          <a:xfrm>
            <a:off x="533520" y="1752480"/>
            <a:ext cx="7543800" cy="396252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1033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1982-8032-4D4B-9E95-3B975141241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Entity Typ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trong Entity Typ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ntity type that is </a:t>
            </a:r>
            <a:r>
              <a:rPr b="1" i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not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existence-dependent on some other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Weak Entity Typ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ntity type that is existence-dependent on some other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CD522-9724-404D-BECA-010FD9363D3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Strong entity type called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Client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and weak entity type called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Preference</a:t>
            </a: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46" name="Picture 8" descr="DS3-Figure 11-12"/>
          <p:cNvPicPr/>
          <p:nvPr/>
        </p:nvPicPr>
        <p:blipFill>
          <a:blip r:embed="rId1"/>
          <a:stretch/>
        </p:blipFill>
        <p:spPr>
          <a:xfrm>
            <a:off x="990720" y="1905120"/>
            <a:ext cx="6324480" cy="360972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9E35-30EB-4C88-9CBE-433FF7F57A2F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Relationship called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Advertise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with attribut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50" name="Picture 5" descr="DS3-Figure 11-13"/>
          <p:cNvPicPr/>
          <p:nvPr/>
        </p:nvPicPr>
        <p:blipFill>
          <a:blip r:embed="rId1"/>
          <a:stretch/>
        </p:blipFill>
        <p:spPr>
          <a:xfrm>
            <a:off x="914400" y="1828800"/>
            <a:ext cx="6858000" cy="38386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20F8F-1FAB-4D44-8F3D-846ED2CA591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tructural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431200" cy="46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Main type of constraint on relationships is called </a:t>
            </a:r>
            <a:r>
              <a:rPr b="0" i="1" lang="en-GB" sz="2800" spc="-1" strike="noStrike">
                <a:solidFill>
                  <a:srgbClr val="ff0000"/>
                </a:solidFill>
                <a:latin typeface="Times New Roman"/>
              </a:rPr>
              <a:t>multiplicity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Multiplicity - </a:t>
            </a:r>
            <a:r>
              <a:rPr b="0" lang="en-AU" sz="2800" spc="-1" strike="noStrike">
                <a:solidFill>
                  <a:srgbClr val="ff0000"/>
                </a:solidFill>
                <a:latin typeface="Times New Roman"/>
              </a:rPr>
              <a:t>number</a:t>
            </a: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 (or range) of possible </a:t>
            </a:r>
            <a:r>
              <a:rPr b="0" lang="en-AU" sz="2800" spc="-1" strike="noStrike">
                <a:solidFill>
                  <a:srgbClr val="ff0000"/>
                </a:solidFill>
                <a:latin typeface="Times New Roman"/>
              </a:rPr>
              <a:t>occurrences</a:t>
            </a: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 of </a:t>
            </a:r>
            <a:r>
              <a:rPr b="0" lang="en-AU" sz="2800" spc="-1" strike="noStrike">
                <a:solidFill>
                  <a:srgbClr val="ff0000"/>
                </a:solidFill>
                <a:latin typeface="Times New Roman"/>
              </a:rPr>
              <a:t>an entity type</a:t>
            </a: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 that may </a:t>
            </a:r>
            <a:r>
              <a:rPr b="0" lang="en-AU" sz="2800" spc="-1" strike="noStrike">
                <a:solidFill>
                  <a:srgbClr val="ff0000"/>
                </a:solidFill>
                <a:latin typeface="Times New Roman"/>
              </a:rPr>
              <a:t>relate</a:t>
            </a: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 to a single occurrence of </a:t>
            </a:r>
            <a:r>
              <a:rPr b="0" lang="en-AU" sz="2800" spc="-1" strike="noStrike">
                <a:solidFill>
                  <a:srgbClr val="ff0000"/>
                </a:solidFill>
                <a:latin typeface="Times New Roman"/>
              </a:rPr>
              <a:t>an associated entity type</a:t>
            </a: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AU" sz="2800" spc="-1" strike="noStrike">
                <a:solidFill>
                  <a:srgbClr val="ff0000"/>
                </a:solidFill>
                <a:latin typeface="Times New Roman"/>
              </a:rPr>
              <a:t>through</a:t>
            </a: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 a particular </a:t>
            </a:r>
            <a:r>
              <a:rPr b="0" lang="en-AU" sz="2800" spc="-1" strike="noStrike">
                <a:solidFill>
                  <a:srgbClr val="ff0000"/>
                </a:solidFill>
                <a:latin typeface="Times New Roman"/>
              </a:rPr>
              <a:t>relationship</a:t>
            </a:r>
            <a:r>
              <a:rPr b="0" lang="en-AU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ssociat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a pair of integer numbers 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in, max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) with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ach participation of an entity type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 relationship typ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R, where 0 ≤ min ≤ max and max ≥ 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Represents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 user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policies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 (called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business rules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245F-7E09-4F5D-99CF-80BDED2CAE8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tructural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 most common degree for relationships is binary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Binary relationships are generally referred to as being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ne-to-one (1:1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ne-to-many (1:*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any-to-many (*:*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9" name="Text Box 102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45FA-03B1-45F3-8ADC-007AFE94130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Structural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62120" y="1557360"/>
            <a:ext cx="7338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Multiplicity is made up of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two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types of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restrictions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on relationships: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cardinality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and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participation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Text Box 102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8FAB-9219-48CE-B384-9813E3F8C0B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Structural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1760" y="155736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ts val="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ardinality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escribes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</a:rPr>
              <a:t>maximum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number of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</a:rPr>
              <a:t>possible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relationship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</a:rPr>
              <a:t>occurrences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</a:rPr>
              <a:t>for an entity 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rticipating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</a:rPr>
              <a:t>in a given relationship 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articip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etermines whether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</a:rPr>
              <a:t>all or only some entity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occurrences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</a:rPr>
              <a:t>participate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in a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</a:rPr>
              <a:t>relationship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5685-157A-41E9-BA91-9B2E3F7B126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Multiplicity as cardinality and participation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70" name="Picture 1029" descr="DS3-Figure 11-18"/>
          <p:cNvPicPr/>
          <p:nvPr/>
        </p:nvPicPr>
        <p:blipFill>
          <a:blip r:embed="rId1"/>
          <a:stretch/>
        </p:blipFill>
        <p:spPr>
          <a:xfrm>
            <a:off x="1523880" y="1523880"/>
            <a:ext cx="5791320" cy="462780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103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08AA-1EF3-4954-BED2-2F512284FD5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Semantic net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Staff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Manages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Branch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relationship type</a:t>
            </a: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74" name="Picture 7" descr="DS3-Figure 11-14a"/>
          <p:cNvPicPr/>
          <p:nvPr/>
        </p:nvPicPr>
        <p:blipFill>
          <a:blip r:embed="rId1"/>
          <a:stretch/>
        </p:blipFill>
        <p:spPr>
          <a:xfrm>
            <a:off x="685800" y="1905120"/>
            <a:ext cx="7391520" cy="38862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AE792-A664-4172-9C70-5657F6B7ADB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Concepts of the ER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ntity typ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lationship types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tribut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77C1-FFD1-4485-A068-875DB0B10D0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Multiplicity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Staff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Manage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 Branch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(1:1) relationship</a:t>
            </a: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78" name="Picture 8" descr="DS3-Figure 11-14b"/>
          <p:cNvPicPr/>
          <p:nvPr/>
        </p:nvPicPr>
        <p:blipFill>
          <a:blip r:embed="rId1"/>
          <a:stretch/>
        </p:blipFill>
        <p:spPr>
          <a:xfrm>
            <a:off x="609480" y="1752480"/>
            <a:ext cx="7010640" cy="35816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CCB6-9ECE-4687-B014-D37C710994B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Semantic net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Staff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Oversees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PropertyForRent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relationship typ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82" name="Picture 9" descr="DS3-Figure 11-15a"/>
          <p:cNvPicPr/>
          <p:nvPr/>
        </p:nvPicPr>
        <p:blipFill>
          <a:blip r:embed="rId1"/>
          <a:stretch/>
        </p:blipFill>
        <p:spPr>
          <a:xfrm>
            <a:off x="609480" y="1752480"/>
            <a:ext cx="7239240" cy="365760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75A9-0051-4656-8BFA-EE928EB0CAE0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Multiplicity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Staff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Oversee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 PropertyForRent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(1:*) relationship type</a:t>
            </a: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86" name="Picture 8" descr="DS3-Figure 11-15b"/>
          <p:cNvPicPr/>
          <p:nvPr/>
        </p:nvPicPr>
        <p:blipFill>
          <a:blip r:embed="rId1"/>
          <a:stretch/>
        </p:blipFill>
        <p:spPr>
          <a:xfrm>
            <a:off x="685800" y="1828800"/>
            <a:ext cx="7238880" cy="35812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1310-F10D-47B5-BF87-99661638119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38224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Semantic net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Newspaper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Advertise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 PropertyForRent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relationship type</a:t>
            </a: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90" name="Picture 7" descr="DS3-Figure 11-16a"/>
          <p:cNvPicPr/>
          <p:nvPr/>
        </p:nvPicPr>
        <p:blipFill>
          <a:blip r:embed="rId1"/>
          <a:stretch/>
        </p:blipFill>
        <p:spPr>
          <a:xfrm>
            <a:off x="685800" y="1676520"/>
            <a:ext cx="7010280" cy="402264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8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44F9-2898-4DD7-BB9F-4A0158A55FE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Multiplicity of 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Newspaper </a:t>
            </a:r>
            <a:r>
              <a:rPr b="1" i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Advertises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Arial"/>
              </a:rPr>
              <a:t> PropertyForRent</a:t>
            </a:r>
            <a:r>
              <a:rPr b="1" lang="en-AU" sz="3200" spc="-1" strike="noStrike">
                <a:solidFill>
                  <a:srgbClr val="3a21ef"/>
                </a:solidFill>
                <a:latin typeface="Times New Roman"/>
                <a:ea typeface="Times New Roman"/>
              </a:rPr>
              <a:t> (*:*) relationship</a:t>
            </a: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94" name="Picture 8" descr="DS3-Figure 11-16b"/>
          <p:cNvPicPr/>
          <p:nvPr/>
        </p:nvPicPr>
        <p:blipFill>
          <a:blip r:embed="rId1"/>
          <a:stretch/>
        </p:blipFill>
        <p:spPr>
          <a:xfrm>
            <a:off x="685800" y="1752480"/>
            <a:ext cx="7391520" cy="35816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D94B-CB6B-4D8E-B0C9-1F34AD9FF0E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ummary of multiplicity constraint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99" name="Picture 6" descr="DS3-Table 11-01"/>
          <p:cNvPicPr/>
          <p:nvPr/>
        </p:nvPicPr>
        <p:blipFill>
          <a:blip r:embed="rId1"/>
          <a:srcRect l="85" t="12512" r="0" b="0"/>
          <a:stretch/>
        </p:blipFill>
        <p:spPr>
          <a:xfrm>
            <a:off x="468360" y="1773360"/>
            <a:ext cx="7991280" cy="328932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7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2909-ECA4-4A89-942B-1C28F86318D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80"/>
                </a:solidFill>
                <a:latin typeface="Times New Roman"/>
              </a:rPr>
              <a:t>ER </a:t>
            </a: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iagram of Branch user views of </a:t>
            </a:r>
            <a:r>
              <a:rPr b="1" i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DreamHom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03" name="Picture 8" descr="DS3-Figure 11-01"/>
          <p:cNvPicPr/>
          <p:nvPr/>
        </p:nvPicPr>
        <p:blipFill>
          <a:blip r:embed="rId1"/>
          <a:stretch/>
        </p:blipFill>
        <p:spPr>
          <a:xfrm>
            <a:off x="762120" y="1447920"/>
            <a:ext cx="7122960" cy="51498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990720" y="92160"/>
            <a:ext cx="6845040" cy="6375240"/>
          </a:xfrm>
          <a:prstGeom prst="rect">
            <a:avLst/>
          </a:prstGeom>
          <a:ln w="0">
            <a:noFill/>
          </a:ln>
        </p:spPr>
      </p:pic>
      <p:sp>
        <p:nvSpPr>
          <p:cNvPr id="306" name="Slide Number Placeholder 2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7222-4F37-49BC-97B0-38A338FF43B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F242-2E01-4255-B4DC-09B86A812E53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Problems with ER Model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Problems may arise when designing a conceptual data model called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connection traps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Often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due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a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misinterpretation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of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meaning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of certain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relationships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Two main types of connection traps are called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fan traps</a:t>
            </a:r>
            <a:r>
              <a:rPr b="1" i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nd </a:t>
            </a:r>
            <a:r>
              <a:rPr b="1" i="1" lang="en-GB" sz="2800" spc="-1" strike="noStrike">
                <a:solidFill>
                  <a:srgbClr val="ff0000"/>
                </a:solidFill>
                <a:latin typeface="Times New Roman"/>
              </a:rPr>
              <a:t>chasm traps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EBE69-BFA1-4308-AC15-D4B197071A7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Problems with ER Model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Fan Tra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Where a model represents a relationship between entity types, but pathway between certain entity occurrences is ambiguou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07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Chasm Tra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Where a model suggests the existence of a relationship between entity types, but pathway does not exist between certain entity occurrence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A8A3-C953-41E1-AEA3-900043610CD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Entity Typ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ntity typ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roup of objects 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with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me properties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,  identified by enterprise as having an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dependent existence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ntity occurre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Uniquely identifiable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ject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f an entity type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8277-A2C1-4D14-A976-065E7310FB0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n Example of a Fan Trap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17" name="Picture 8" descr="DS3-Figure 11-19a"/>
          <p:cNvPicPr/>
          <p:nvPr/>
        </p:nvPicPr>
        <p:blipFill>
          <a:blip r:embed="rId1"/>
          <a:stretch/>
        </p:blipFill>
        <p:spPr>
          <a:xfrm>
            <a:off x="380880" y="2133720"/>
            <a:ext cx="8229600" cy="102528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4941-0EFE-4368-92D7-CC734D511F8A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emantic Net of ER Model with Fan Trap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Times New Roman"/>
              </a:rPr>
              <a:t>At which branch office does staff number SG37 work?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22" name="Picture 8" descr="DS3-Figure 11-19b"/>
          <p:cNvPicPr/>
          <p:nvPr/>
        </p:nvPicPr>
        <p:blipFill>
          <a:blip r:embed="rId1"/>
          <a:stretch/>
        </p:blipFill>
        <p:spPr>
          <a:xfrm>
            <a:off x="685800" y="1981080"/>
            <a:ext cx="7696080" cy="285768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803E-AAB2-4FB4-8CE4-4D3FCC959E9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structuring ER model to remove Fan Trap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26" name="Picture 8" descr="DS3-Figure 11-20a"/>
          <p:cNvPicPr/>
          <p:nvPr/>
        </p:nvPicPr>
        <p:blipFill>
          <a:blip r:embed="rId1"/>
          <a:stretch/>
        </p:blipFill>
        <p:spPr>
          <a:xfrm>
            <a:off x="533520" y="1905120"/>
            <a:ext cx="7848360" cy="236196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DF5B0-56FA-4C93-AEDB-521DCE25801E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emantic Net of Restructured ER Model with Fan Trap Removed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SG37 works at branch B003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31" name="Picture 9" descr="DS3-Figure 11-20b"/>
          <p:cNvPicPr/>
          <p:nvPr/>
        </p:nvPicPr>
        <p:blipFill>
          <a:blip r:embed="rId1"/>
          <a:stretch/>
        </p:blipFill>
        <p:spPr>
          <a:xfrm>
            <a:off x="533520" y="1828800"/>
            <a:ext cx="7619760" cy="282888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9C87-E06E-4E1E-B7F9-83CA4CE2A58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An Example of a Chasm Trap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35" name="Picture 9" descr="DS3-Figure 11-21a"/>
          <p:cNvPicPr/>
          <p:nvPr/>
        </p:nvPicPr>
        <p:blipFill>
          <a:blip r:embed="rId1"/>
          <a:stretch/>
        </p:blipFill>
        <p:spPr>
          <a:xfrm>
            <a:off x="457200" y="2057400"/>
            <a:ext cx="8305920" cy="114300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B583C-3922-407C-9FAD-598E8EA71B1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2296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emantic Net of ER Model with Chasm Trap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At which branch office is property PA14 available?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40" name="Picture 8" descr="DS3-Figure 11-21b"/>
          <p:cNvPicPr/>
          <p:nvPr/>
        </p:nvPicPr>
        <p:blipFill>
          <a:blip r:embed="rId1"/>
          <a:stretch/>
        </p:blipFill>
        <p:spPr>
          <a:xfrm>
            <a:off x="609480" y="1752480"/>
            <a:ext cx="7467840" cy="27054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9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05ADB-9718-45E7-9E7A-AD16E33D58B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76312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ER Model restructured to remove Chasm Trap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44" name="Picture 9" descr="DS3-Figure 11-22a"/>
          <p:cNvPicPr/>
          <p:nvPr/>
        </p:nvPicPr>
        <p:blipFill>
          <a:blip r:embed="rId1"/>
          <a:stretch/>
        </p:blipFill>
        <p:spPr>
          <a:xfrm>
            <a:off x="685800" y="1905120"/>
            <a:ext cx="7543800" cy="242568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F25D-420B-4D27-A1AF-93EC00FF364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Semantic Net of Restructured ER Model with Chasm Trap Removed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348" name="Picture 9" descr="DS3-Figure 11-22b"/>
          <p:cNvPicPr/>
          <p:nvPr/>
        </p:nvPicPr>
        <p:blipFill>
          <a:blip r:embed="rId1"/>
          <a:stretch/>
        </p:blipFill>
        <p:spPr>
          <a:xfrm>
            <a:off x="1066680" y="1600200"/>
            <a:ext cx="5943600" cy="456264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10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Line 2"/>
          <p:cNvSpPr/>
          <p:nvPr/>
        </p:nvSpPr>
        <p:spPr>
          <a:xfrm>
            <a:off x="27000" y="3429000"/>
            <a:ext cx="797400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nhanced Entity-Relationship Model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1637-9B0A-4541-B40A-AEEBCBC9E3B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The (EER) Model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Enhanced ER (EER) mod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reated to design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more accurate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atabase schemas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Reflect the data properties and constraints more precisely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ore complex requirements than traditional applic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5FD5-B1CB-47A5-8FE5-9C00FF888651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51FD-50D6-4286-B4C9-79729E6CC0AC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Examples of Entity Typ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79" name="Picture 6" descr="DS3-Figure 11-02"/>
          <p:cNvPicPr/>
          <p:nvPr/>
        </p:nvPicPr>
        <p:blipFill>
          <a:blip r:embed="rId1"/>
          <a:stretch/>
        </p:blipFill>
        <p:spPr>
          <a:xfrm>
            <a:off x="1600200" y="1752480"/>
            <a:ext cx="4038480" cy="354024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7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ubclasses, Superclasses, and Inheritanc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ER model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clude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ll ER modeling concept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In addition, EER includes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ubclasse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uperclass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pecialization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generaliz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ategory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nion typ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ttribut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relationship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nherita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DB7C-2B73-419E-BA66-8D9E3C70246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ubclasses, Superclasses, and Inheritance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ubtyp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ubclas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of an entity typ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ubgroupings of entities that are meaningfu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epresented explicitly because of their significance to the database applic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ype inherita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ubclass entity inherits all attributes and relationships of superclas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4FFD-1E9E-48F4-A449-A253B7B7346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8160" cy="81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Utilizing Specialization and Generalization in Refining Conceptual Schema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68000" y="1628640"/>
            <a:ext cx="8217000" cy="48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pecialization proces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tart with entity type then define subclasses by successive specializ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op-down conceptual refinement proces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ertai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ttribute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ma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pply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to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om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but not all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ntitie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of the superclas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om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lationship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types may b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articipated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only b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ember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of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ubclas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B04F-FB57-48E6-866F-D711DBD7BBF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Generaliz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everse process of abstrac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Generaliz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into a single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uperclass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Original entity types are special subclass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Generalization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oces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of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fining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eneralized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ntity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yp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from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iven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ntity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yp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neralization proces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nvolve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ottom-up conceptual synthesi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72AB-F70F-4787-91CF-888F347224D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onstraints on Specialization and Generalization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May be several or one subclas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etermine entity subtype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dicate-defined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(or c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ondition-defined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ttribute-defined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specializatio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ser-defined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0A2C-4BB2-45BC-9BD3-9EF49EBF581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605800" cy="6120000"/>
          </a:xfrm>
          <a:prstGeom prst="rect">
            <a:avLst/>
          </a:prstGeom>
          <a:ln w="0">
            <a:noFill/>
          </a:ln>
        </p:spPr>
      </p:pic>
      <p:sp>
        <p:nvSpPr>
          <p:cNvPr id="372" name="Slide Number Placeholder 2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CA82-FFC9-4B1D-BB10-DC47FF1250F5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Constraints on Specialization and Generalization (cont’d.)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14240" y="1356840"/>
            <a:ext cx="8143920" cy="492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isjointness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constrai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pecifies that the subclasses of the specialization must be disjoi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isjoint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an entity can be a member of at most one of the subclasses of the specializatio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Overlap 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that is the same entity may be a member of more than one subclass of the specializatio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ompletenes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(or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otalnes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)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onstrai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Every entity in the superclass must be a member of some subclass in the specialization/generalization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051560" indent="-210240">
              <a:spcBef>
                <a:spcPts val="499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May be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otal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artia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isjointness and completeness constraints ar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dependen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E1BB-E42A-4D97-A4AB-09DF940A399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Specialization and Generalization Hierarchies</a:t>
            </a:r>
            <a:br>
              <a:rPr sz="3200"/>
            </a:b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and Lattic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628280"/>
            <a:ext cx="8228160" cy="41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pecialization hierarchy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very subclas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articipate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as a subclas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 only on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class/subclas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lationshi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esults in a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ree structure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or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trict hierarch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pecialization latti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ubclass can be a subclass i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ore than one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lass/subclas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lationshi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81A5-E839-48C9-B83F-ADFEC024E98D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3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7390080" cy="6008760"/>
          </a:xfrm>
          <a:prstGeom prst="rect">
            <a:avLst/>
          </a:prstGeom>
          <a:ln w="0">
            <a:noFill/>
          </a:ln>
        </p:spPr>
      </p:pic>
      <p:sp>
        <p:nvSpPr>
          <p:cNvPr id="380" name="Slide Number Placeholder 2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238A9-FA3B-4CF5-8925-FCCA1380B40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266760"/>
            <a:ext cx="7772400" cy="100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Modeling of UNION Types Using Categori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34640" y="1483920"/>
            <a:ext cx="772812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Union type 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or a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atego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epresents 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ingl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superclass/subclas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lationship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with more than one superclas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ubclas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present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llection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of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bjects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that is 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ubset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of th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NION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of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istinct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ntity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yp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Attribut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heritanc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works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or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elective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l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ategory can be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otal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artia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ome modeling methodologies do not have union type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4A783-75AA-462E-87EE-7C42681282F2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BAACF-175C-4C24-8289-C74CB7CFBDC7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ship Typ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lationship typ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et of meaningful </a:t>
            </a:r>
            <a:r>
              <a:rPr b="1" lang="en-A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ssociations</a:t>
            </a: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among entity types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Relationship occurrenc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Uniquely identifiable association, which includes one occurrence from each participating entity type.</a:t>
            </a: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507160" cy="73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Design Choices for Specialization/Generalization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78920" y="1628640"/>
            <a:ext cx="8713800" cy="45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If all subclasses of a specialization/generalization hav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ew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specific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ttributes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an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o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 specific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lationship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Can b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erged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 into the superclass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Replace with one or more type attributes that specify the subclass or subclasses that each entity belongs to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B3395-D961-40DB-ACC8-42937F0D8E64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80"/>
                </a:solidFill>
                <a:latin typeface="Times New Roman"/>
              </a:rPr>
              <a:t>ER Diagrams, Naming Conventions</a:t>
            </a:r>
            <a:endParaRPr b="0" lang="en-US" sz="36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7416720" cy="5216400"/>
          </a:xfrm>
          <a:prstGeom prst="rect">
            <a:avLst/>
          </a:prstGeom>
          <a:ln w="0">
            <a:noFill/>
          </a:ln>
        </p:spPr>
      </p:pic>
      <p:sp>
        <p:nvSpPr>
          <p:cNvPr id="187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F98C-08FE-4091-9463-F4C1883AC386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BE79-AF79-43D3-8C77-E1CAA3245A09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a21ef"/>
                </a:solidFill>
                <a:latin typeface="Times New Roman"/>
              </a:rPr>
              <a:t>Relationship Typ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Degree of a Relationship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Number of participating entities in  relationship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Relationship of degree :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one is unary (recursive)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wo is bina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ree is ternar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our is quaternary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A5B2-7660-45BC-8C74-A9445142FAB8}" type="slidenum">
              <a:rPr b="0" lang="en-GB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Recursive relationship called </a:t>
            </a:r>
            <a:r>
              <a:rPr b="1" i="1" lang="en-AU" sz="3200" spc="-1" strike="noStrike">
                <a:solidFill>
                  <a:srgbClr val="000080"/>
                </a:solidFill>
                <a:latin typeface="Times New Roman"/>
                <a:ea typeface="Arial"/>
              </a:rPr>
              <a:t>Supervises</a:t>
            </a:r>
            <a:r>
              <a:rPr b="1" lang="en-AU" sz="32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with role names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194" name="Picture 5" descr="DS3-Figure 11-09"/>
          <p:cNvPicPr/>
          <p:nvPr/>
        </p:nvPicPr>
        <p:blipFill>
          <a:blip r:embed="rId1"/>
          <a:stretch/>
        </p:blipFill>
        <p:spPr>
          <a:xfrm>
            <a:off x="762120" y="1828800"/>
            <a:ext cx="6933960" cy="31971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6"/>
          <p:cNvSpPr/>
          <p:nvPr/>
        </p:nvSpPr>
        <p:spPr>
          <a:xfrm>
            <a:off x="3124080" y="64008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66"/>
                </a:solidFill>
                <a:latin typeface="Times New Roman"/>
              </a:rPr>
              <a:t>Pearson Education © 200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2T14:58:02Z</dcterms:created>
  <dc:creator>Thomas Connolly and Carolyn Begg</dc:creator>
  <dc:description>Transparencies for Chapter 11 of textbook
Database Systems: A Practical Approach to Design, Implementation, and Management</dc:description>
  <dc:language>en-US</dc:language>
  <cp:lastModifiedBy>Administrator</cp:lastModifiedBy>
  <cp:lastPrinted>1998-06-24T16:37:58Z</cp:lastPrinted>
  <dcterms:modified xsi:type="dcterms:W3CDTF">2013-02-16T12:44:55Z</dcterms:modified>
  <cp:revision>121</cp:revision>
  <dc:subject>Database Systems</dc:subject>
  <dc:title>Chapter 11</dc:title>
</cp:coreProperties>
</file>