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7700" cy="9283700"/>
  <p:custShowLst>
    <p:custShow name="Custom Show 1" id="0">
      <p:sldLst>
        <p:sld r:id="rId26"/>
        <p:sld r:id="rId7"/>
        <p:sld r:id="rId23"/>
        <p:sld r:id="rId10"/>
        <p:sld r:id="rId12"/>
        <p:sld r:id="rId31"/>
        <p:sld r:id="rId14"/>
        <p:sld r:id="rId25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300CA3-D601-47DA-AE30-24CBC01B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F4C28B-BB45-441E-A6EE-64012729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E8A836-FB92-4DE7-8135-504CBBB7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CF91D3-A38D-4F7D-81DA-135571E8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FD6F24-94C6-4129-BC8E-E84DF061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462D4C-C70B-4124-BA06-B755BD9F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D17AD5-8B51-4E3D-AA86-47065F67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C5574B-581B-4E2B-B358-5C75353A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4A7987-0180-4549-A59E-4DBFE41E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8AD758-1042-4A40-A024-1C52B87B1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299118-B88B-4624-A39D-241695F0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F1A311-F577-42AB-BF6A-DA80CCC8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8CFA96-8B11-4ED4-93CA-C71D1BB1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4F4689-1F2E-4056-90DB-38064EBB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CF713D-E7AC-45F2-B25B-6749A6A6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F4787E-F4DB-4E44-8A2E-E371C5ED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3E1109-182D-4845-9416-1D436596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D67C7A-68D6-41BD-B2CF-B09C4F19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F960A3-1D21-45A6-AD6E-368EB3BA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D29C0F-5B21-4E63-9946-67EB2378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0E5A22-8136-4653-A0C9-554AF297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3C8FCA-FD49-4190-9E6E-25BAA4C5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C2DAB1-5969-40A9-9DED-01ADE814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5332BE-5F7C-4C0D-BE72-C69D5262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7E31BB-A8DA-4718-A060-ED4D1119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99E4E5-BC2F-4D15-B0DC-F11917B0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0476F7-7729-46CB-BFEB-A393FC93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1D43-F693-4845-B0C0-BDAC4385C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7441-60FF-4E01-9614-686AD9F01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6173-8203-4D93-B942-9EF672693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F44B-AA8E-4A75-919B-B25C0328D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4D5-D951-47D3-A89E-89F740B7E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EB7-206A-4ED6-AE5B-54BE0093D8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64C-9536-4D56-954C-51AB3B192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8E9-966A-408F-9197-644E398FB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CC8-C50B-4439-84B3-11EC87C79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D18-78E9-4E2D-A2D3-EADAAA9018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0F4-F7A5-437E-82C9-2CD7E704F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692A-D8AD-43A6-9E2A-0DD073A3E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F07-6BB0-48C8-AE1D-87385021F9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E5D-682E-46AE-87B5-97DB4EFCB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022-4566-47AC-8162-1CE0FCE09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F52-3C9C-490F-B0E2-E3E827FE55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230-3F7E-4DBE-A592-23BD2E973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2146-3EE0-43F3-A58D-B3A9CA34D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55BD-AB1E-4019-9F43-6CB7F6835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1238-7483-4171-86E4-780FCA1C2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0926-46F3-4337-B837-937EFB60B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679F-76FA-4DB0-987F-5C86E7FFA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D677-AAC0-4AE0-94E4-99A7A727C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E676-D40A-49BB-8782-E0681A267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952-247F-421B-B905-673AC1B0E6D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4983B929-D25C-47E5-8D40-BBFF35F01012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16F-A9F7-4EB0-A3F0-14D2BAFC1DB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Intro to 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9848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30200" y="3969360"/>
            <a:ext cx="2952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 algn="ctr"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uples with A=B and D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ctr">
              <a:spcBef>
                <a:spcPts val="1001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=B and D &gt;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522600" y="1176480"/>
            <a:ext cx="2092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Columns (Attribute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13352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782640" y="3811680"/>
            <a:ext cx="30099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(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4411800" y="1192320"/>
            <a:ext cx="27921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732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Cartesian Prod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8480" y="1305000"/>
            <a:ext cx="6826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the “natural join” 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19000" y="3654360"/>
            <a:ext cx="7029360" cy="996120"/>
            <a:chOff x="819000" y="3654360"/>
            <a:chExt cx="7029360" cy="996120"/>
          </a:xfrm>
        </p:grpSpPr>
        <p:sp>
          <p:nvSpPr>
            <p:cNvPr id="137" name="Rectangle 5"/>
            <p:cNvSpPr/>
            <p:nvPr/>
          </p:nvSpPr>
          <p:spPr>
            <a:xfrm>
              <a:off x="819000" y="365436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 flipV="1" rot="16200000">
              <a:off x="998640" y="413424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2913120" y="1170000"/>
            <a:ext cx="4276800" cy="4641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 rot="5400000">
            <a:off x="1790280" y="4146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in-3.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0160" y="795240"/>
            <a:ext cx="6686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5" name="Picture 3" descr="2"/>
          <p:cNvPicPr/>
          <p:nvPr/>
        </p:nvPicPr>
        <p:blipFill>
          <a:blip r:embed="rId1"/>
          <a:stretch/>
        </p:blipFill>
        <p:spPr>
          <a:xfrm>
            <a:off x="2633760" y="1971720"/>
            <a:ext cx="3876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7" name="Picture 3" descr="2"/>
          <p:cNvPicPr/>
          <p:nvPr/>
        </p:nvPicPr>
        <p:blipFill>
          <a:blip r:embed="rId1"/>
          <a:stretch/>
        </p:blipFill>
        <p:spPr>
          <a:xfrm>
            <a:off x="1911240" y="1854360"/>
            <a:ext cx="532152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9" name="Picture 3" descr="2"/>
          <p:cNvPicPr/>
          <p:nvPr/>
        </p:nvPicPr>
        <p:blipFill>
          <a:blip r:embed="rId1"/>
          <a:stretch/>
        </p:blipFill>
        <p:spPr>
          <a:xfrm>
            <a:off x="3618000" y="2500200"/>
            <a:ext cx="19065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1" name="Picture 3" descr="2"/>
          <p:cNvPicPr/>
          <p:nvPr/>
        </p:nvPicPr>
        <p:blipFill>
          <a:blip r:embed="rId1"/>
          <a:stretch/>
        </p:blipFill>
        <p:spPr>
          <a:xfrm>
            <a:off x="2639880" y="1971720"/>
            <a:ext cx="3864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3" name="Picture 3" descr="2"/>
          <p:cNvPicPr/>
          <p:nvPr/>
        </p:nvPicPr>
        <p:blipFill>
          <a:blip r:embed="rId1"/>
          <a:stretch/>
        </p:blipFill>
        <p:spPr>
          <a:xfrm>
            <a:off x="3139920" y="2506680"/>
            <a:ext cx="2862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Picture 3" descr="2"/>
          <p:cNvPicPr/>
          <p:nvPr/>
        </p:nvPicPr>
        <p:blipFill>
          <a:blip r:embed="rId1"/>
          <a:stretch/>
        </p:blipFill>
        <p:spPr>
          <a:xfrm>
            <a:off x="1482840" y="1674720"/>
            <a:ext cx="61768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7" name="Picture 3" descr="2"/>
          <p:cNvPicPr/>
          <p:nvPr/>
        </p:nvPicPr>
        <p:blipFill>
          <a:blip r:embed="rId1"/>
          <a:stretch/>
        </p:blipFill>
        <p:spPr>
          <a:xfrm>
            <a:off x="2625840" y="1628640"/>
            <a:ext cx="389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9" name="Picture 3" descr="2"/>
          <p:cNvPicPr/>
          <p:nvPr/>
        </p:nvPicPr>
        <p:blipFill>
          <a:blip r:embed="rId1"/>
          <a:stretch/>
        </p:blipFill>
        <p:spPr>
          <a:xfrm>
            <a:off x="2633760" y="2817720"/>
            <a:ext cx="3876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1" name="Picture 3" descr="2"/>
          <p:cNvPicPr/>
          <p:nvPr/>
        </p:nvPicPr>
        <p:blipFill>
          <a:blip r:embed="rId1"/>
          <a:stretch/>
        </p:blipFill>
        <p:spPr>
          <a:xfrm>
            <a:off x="3833640" y="1986120"/>
            <a:ext cx="1476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Picture 3" descr="2"/>
          <p:cNvPicPr/>
          <p:nvPr/>
        </p:nvPicPr>
        <p:blipFill>
          <a:blip r:embed="rId1"/>
          <a:stretch/>
        </p:blipFill>
        <p:spPr>
          <a:xfrm>
            <a:off x="2017800" y="1954080"/>
            <a:ext cx="51069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5" name="Picture 3" descr="2"/>
          <p:cNvPicPr/>
          <p:nvPr/>
        </p:nvPicPr>
        <p:blipFill>
          <a:blip r:embed="rId1"/>
          <a:stretch/>
        </p:blipFill>
        <p:spPr>
          <a:xfrm>
            <a:off x="3846600" y="2828880"/>
            <a:ext cx="14493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3040" y="1219320"/>
            <a:ext cx="712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owed values for each attribute is called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values are (normally) required to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at is, indi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al valu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member of ever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ll value causes complications in the definition of many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 Schema and Ins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 name, 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, given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…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relation is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upl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0800" y="4400640"/>
            <a:ext cx="74041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alues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 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a relation are specified by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present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3360" y="12240"/>
            <a:ext cx="80769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 are Unordere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98480" y="1077840"/>
            <a:ext cx="77360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tuples is irrelevant (tuples may be stored in an arbitrary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unordere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1905120" y="2208240"/>
            <a:ext cx="4952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80773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consists of multipl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an enterprise is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design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-ID, name, dept_name, salary, studen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information (e.g., two students have the same instru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null values  (e.g., represent an student with no advi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theory (Chapter 7) deals with how to design “good” relational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0040" y="1077480"/>
            <a:ext cx="79786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ke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ufficient to identify a unique tuple of each possibl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nd {ID,name} are both superkey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didate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candidate keys is selected to b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: Value in one relation must appear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ma Diagram for University Databas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38040" y="735120"/>
            <a:ext cx="8529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Wesam A. Hatamleh</cp:lastModifiedBy>
  <cp:lastPrinted>2005-01-10T21:51:57Z</cp:lastPrinted>
  <dcterms:modified xsi:type="dcterms:W3CDTF">2016-01-28T11:56:40Z</dcterms:modified>
  <cp:revision>163</cp:revision>
  <dc:subject/>
  <dc:title>Chapter 1:  Introduction</dc:title>
</cp:coreProperties>
</file>