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7700" cy="9283700"/>
  <p:custShowLst>
    <p:custShow name="Custom Show 1" id="0">
      <p:sldLst>
        <p:sld r:id="rId26"/>
        <p:sld r:id="rId7"/>
        <p:sld r:id="rId23"/>
        <p:sld r:id="rId10"/>
        <p:sld r:id="rId12"/>
        <p:sld r:id="rId31"/>
        <p:sld r:id="rId14"/>
        <p:sld r:id="rId25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29814D-3715-49D9-A285-916DE142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32887E-6C23-4C95-8406-3B716898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612C5-E7CE-4076-A55B-2FF9F83E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581493-44D4-46CF-BBD1-4B04939A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0A2331-D68B-4113-B89C-95ADDA5E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B38E40-26A4-41C8-AE03-8B12BC18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3D75E9-1870-48C2-AD22-E2B807B1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3DC5A8-8EA2-42B5-8560-EED4D9B8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ECCB76-D175-4DE3-9C1E-7269AC2A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907C4B-AEBB-4DC1-A3FE-713E130B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772F7D-EFB4-4DF0-B137-3EA43FD6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15BB76-E33B-44F3-87D7-20D9B535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5313EF-5229-40D3-BB4B-FE09C0AD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CA3108-8851-48D7-81FC-62227B5E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E13F6D-A97F-4702-B2A5-462D4C67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5DAF0E-5B08-473F-9998-574F7D5AE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25ABD4-15D0-451C-89F9-65B6369A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03CDB7-A245-4CBF-9CD7-27BAB495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3654BA-A9F5-4322-8649-F6F57EE9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13EB17-C86B-4596-857D-F93D03A2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C75C73-63D3-40CD-9B1C-A36EAC8F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271082-771E-4F5F-B6AC-F1067CE1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17C62F-DC31-42D7-B2D9-B4173A4E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EF189D-0D4C-4FD5-92DC-A8506CB1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AA8649-B694-4FA2-A634-043C060D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D90883-C86E-4120-B195-DB9CCBDB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C3FEC6-6DC3-4824-8F04-7B5E2424F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15FA-07F6-4370-9E88-39CAC6645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B01A-7724-4936-9625-8D53DB2B8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A153-4AED-4239-AE05-A6C909EA5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3C54-96B6-4A49-8054-C9B24EC9E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C22-A246-4E55-B488-220A584A75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F61-F5C1-4927-8730-8AB07D0F73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5D8-892F-4BA8-9F78-FCC9F26756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20D-EE60-4C2A-8976-7DCD48E35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CFC-346C-40CF-86BB-6A1FDF8B6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D03-9B21-415A-A2BC-D15C1E50B9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0DA-1581-4288-B309-7EE5D1F54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305C-67EC-4774-AA32-73B466190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62E-8C9A-4421-8ECE-56FAA4D49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3FC-2A9A-4B7D-BCA0-4FAF1EB759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9CF-91D3-42D0-AE27-67A8AFFBA3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093-4D01-4402-A19C-59EB74075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CD1-6786-4946-880B-9104939C7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3FF7-B356-4CB6-BA90-2C6B2A918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6300-C5AD-4CB8-9D7F-77C986C4B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A5EC-0E19-44BE-9C56-CBFCDB24B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8C51-A058-49A0-9A71-75D31EB3F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109A-18AF-467F-B049-6F2823D7C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2115-432F-4919-9B34-B9EECB2AA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46C6-D2C8-407B-850E-F5B1F8BB4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5E7-D8CF-4531-918B-149A105196D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21BCACEE-3EC8-4DA3-9292-195BC8633304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D73-B6F9-4ABB-852D-AB5A6D4EFB4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Intro to 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9848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30200" y="3969360"/>
            <a:ext cx="2952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 algn="ctr"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uples with A=B and D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ctr">
              <a:spcBef>
                <a:spcPts val="1001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=B and D &gt;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522600" y="1176480"/>
            <a:ext cx="2092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Columns (Attribute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13352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782640" y="3811680"/>
            <a:ext cx="30099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(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4411800" y="1192320"/>
            <a:ext cx="27921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732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Cartesian Prod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8480" y="1305000"/>
            <a:ext cx="6826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the “natural join” 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19000" y="3654360"/>
            <a:ext cx="7029360" cy="996120"/>
            <a:chOff x="819000" y="3654360"/>
            <a:chExt cx="7029360" cy="996120"/>
          </a:xfrm>
        </p:grpSpPr>
        <p:sp>
          <p:nvSpPr>
            <p:cNvPr id="137" name="Rectangle 5"/>
            <p:cNvSpPr/>
            <p:nvPr/>
          </p:nvSpPr>
          <p:spPr>
            <a:xfrm>
              <a:off x="819000" y="365436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 flipV="1" rot="16200000">
              <a:off x="998640" y="413424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2913120" y="1170000"/>
            <a:ext cx="4276800" cy="4641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 rot="5400000">
            <a:off x="1790280" y="4146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in-3.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0160" y="795240"/>
            <a:ext cx="6686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5" name="Picture 3" descr="2"/>
          <p:cNvPicPr/>
          <p:nvPr/>
        </p:nvPicPr>
        <p:blipFill>
          <a:blip r:embed="rId1"/>
          <a:stretch/>
        </p:blipFill>
        <p:spPr>
          <a:xfrm>
            <a:off x="2633760" y="1971720"/>
            <a:ext cx="3876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7" name="Picture 3" descr="2"/>
          <p:cNvPicPr/>
          <p:nvPr/>
        </p:nvPicPr>
        <p:blipFill>
          <a:blip r:embed="rId1"/>
          <a:stretch/>
        </p:blipFill>
        <p:spPr>
          <a:xfrm>
            <a:off x="1911240" y="1854360"/>
            <a:ext cx="532152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9" name="Picture 3" descr="2"/>
          <p:cNvPicPr/>
          <p:nvPr/>
        </p:nvPicPr>
        <p:blipFill>
          <a:blip r:embed="rId1"/>
          <a:stretch/>
        </p:blipFill>
        <p:spPr>
          <a:xfrm>
            <a:off x="3618000" y="2500200"/>
            <a:ext cx="19065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1" name="Picture 3" descr="2"/>
          <p:cNvPicPr/>
          <p:nvPr/>
        </p:nvPicPr>
        <p:blipFill>
          <a:blip r:embed="rId1"/>
          <a:stretch/>
        </p:blipFill>
        <p:spPr>
          <a:xfrm>
            <a:off x="2639880" y="1971720"/>
            <a:ext cx="3864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3" name="Picture 3" descr="2"/>
          <p:cNvPicPr/>
          <p:nvPr/>
        </p:nvPicPr>
        <p:blipFill>
          <a:blip r:embed="rId1"/>
          <a:stretch/>
        </p:blipFill>
        <p:spPr>
          <a:xfrm>
            <a:off x="3139920" y="2506680"/>
            <a:ext cx="2862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Picture 3" descr="2"/>
          <p:cNvPicPr/>
          <p:nvPr/>
        </p:nvPicPr>
        <p:blipFill>
          <a:blip r:embed="rId1"/>
          <a:stretch/>
        </p:blipFill>
        <p:spPr>
          <a:xfrm>
            <a:off x="1482840" y="1674720"/>
            <a:ext cx="61768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7" name="Picture 3" descr="2"/>
          <p:cNvPicPr/>
          <p:nvPr/>
        </p:nvPicPr>
        <p:blipFill>
          <a:blip r:embed="rId1"/>
          <a:stretch/>
        </p:blipFill>
        <p:spPr>
          <a:xfrm>
            <a:off x="2625840" y="1628640"/>
            <a:ext cx="389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9" name="Picture 3" descr="2"/>
          <p:cNvPicPr/>
          <p:nvPr/>
        </p:nvPicPr>
        <p:blipFill>
          <a:blip r:embed="rId1"/>
          <a:stretch/>
        </p:blipFill>
        <p:spPr>
          <a:xfrm>
            <a:off x="2633760" y="2817720"/>
            <a:ext cx="3876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1" name="Picture 3" descr="2"/>
          <p:cNvPicPr/>
          <p:nvPr/>
        </p:nvPicPr>
        <p:blipFill>
          <a:blip r:embed="rId1"/>
          <a:stretch/>
        </p:blipFill>
        <p:spPr>
          <a:xfrm>
            <a:off x="3833640" y="1986120"/>
            <a:ext cx="1476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Picture 3" descr="2"/>
          <p:cNvPicPr/>
          <p:nvPr/>
        </p:nvPicPr>
        <p:blipFill>
          <a:blip r:embed="rId1"/>
          <a:stretch/>
        </p:blipFill>
        <p:spPr>
          <a:xfrm>
            <a:off x="2017800" y="1954080"/>
            <a:ext cx="51069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5" name="Picture 3" descr="2"/>
          <p:cNvPicPr/>
          <p:nvPr/>
        </p:nvPicPr>
        <p:blipFill>
          <a:blip r:embed="rId1"/>
          <a:stretch/>
        </p:blipFill>
        <p:spPr>
          <a:xfrm>
            <a:off x="3846600" y="2828880"/>
            <a:ext cx="14493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3040" y="1219320"/>
            <a:ext cx="712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owed values for each attribute is called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values are (normally) required to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at is, indi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al valu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member of ever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ll value causes complications in the definition of many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 Schema and Ins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 name, 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, given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…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relation is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upl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0800" y="4400640"/>
            <a:ext cx="74041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alues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 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a relation are specified by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present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3360" y="12240"/>
            <a:ext cx="80769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 are Unordere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98480" y="1077840"/>
            <a:ext cx="77360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tuples is irrelevant (tuples may be stored in an arbitrary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unordere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1905120" y="2208240"/>
            <a:ext cx="4952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80773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consists of multipl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an enterprise is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design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-ID, name, dept_name, salary, studen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information (e.g., two students have the same instru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null values  (e.g., represent an student with no advi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theory (Chapter 7) deals with how to design “good” relational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0040" y="1077480"/>
            <a:ext cx="79786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ke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ufficient to identify a unique tuple of each possibl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nd {ID,name} are both superkey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didate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candidate keys is selected to b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: Value in one relation must appear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ma Diagram for University Databas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38040" y="735120"/>
            <a:ext cx="8529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Wesam A. Hatamleh</cp:lastModifiedBy>
  <cp:lastPrinted>2005-01-10T21:51:57Z</cp:lastPrinted>
  <dcterms:modified xsi:type="dcterms:W3CDTF">2016-01-28T11:56:40Z</dcterms:modified>
  <cp:revision>163</cp:revision>
  <dc:subject/>
  <dc:title>Chapter 1:  Introduction</dc:title>
</cp:coreProperties>
</file>