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4CBA-7D52-4EDD-83FC-1E97B20CB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5B12-5DBF-4346-8499-C38F5104A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E30BBF9-8226-4565-8BFD-783E7DA9BDF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52324FB-40FC-40FC-A586-352681DDB0D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914400" y="4343040"/>
            <a:ext cx="5029200" cy="552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elevant U.S. Laws - General Computer Crim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puter Fraud and Abuse Act of 1986 is the cornerstone of many computer-related federal laws and enforcement eff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amended in October 1996 with the National Information Infrastructure Protection Act of 1996, which modified several sections of the CFA and increased the penalties for selected cr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A Patriot Act of 2001 modified a wide range of existing laws to provide law enforcement agencies with a broader latitude of actions to combat terrorism-related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munication Act of 1934 was revised by the Telecommunications Deregulation and Competition Act of 1996, which attempts to modernize the archaic terminology of the older 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much-needed updates of terminology were included as part of the Communications Decency Act (C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DA was immediately ensnared in a thorny legal debate over the attempt to define indecency, and ultimately rejected by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law that is of critical importance for the information security profession is the Computer Security Act of 19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one of the first attempts to protect federal computer systems by establishing minimum acceptable security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ational Bureau of Standards, in cooperation with the National Security Agency, became responsible for developing these security standards an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C1F3D67-F684-4075-8696-741AB48C476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sue of privacy has become one of the hottest topics in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bility to collect information on an individual, combine facts from separate sources, and merge it with other information has resulted in databases of information that were previously impossible to set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ggregation of data from multiple sources permits unethical organizations to build databases of facts with frightening cap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F9D91D3-1A26-4DA6-8AFD-BBCBC79B622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914400" y="4343040"/>
            <a:ext cx="5029200" cy="901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 of Customer Inform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of Customer Information Section of Common Carrier regulation specifies that any proprietary information shall be used explicitly for providing services, and not for any marketing purpos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stipulates that carriers cannot disclose this information except when necessary to provide their servic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nly other exception is when a customer requests the disclosure of information, and then the disclosure is restricted to that customer’s information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Privacy Act of 1974 regulates the government in the protection of individual privacy and was created to insure that government agencies protect the privacy of individuals’ and businesses’ information and to hold those agencies responsible if any portion of this information is released without permi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lectronic Communications Privacy Act of 1986 regulates the interception of wire, electronic, and oral communications. The ECPA works in conjunction with the Fourth Amendment of the US Constitution, which provides protections from unlawful search and seizur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Health Insurance Portability &amp; Accountability Act Of 1996 (HIPAA), also known as the Kennedy-Kassebaum Act, impacts all health-care organizations including small doctor practices, health clinics, life insurers and universities, as well as some organizations which have self-insured employee health program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requires organizations that retain health-care information to use information security mechanisms to protect this information, as well as policies and procedures to maintain this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a comprehensive assessment of the organization's information security systems, policies, and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no specification of particular security technologies for each of the security requirements; only that security must be implemented to ensure the privacy of the health-ca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standards of HIPAA severely restrict the dissemination and distribution of private health information without documented con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ndards provide patients the right to know who has access to their information and who has accessed it and also restrict the use of health information to the minimum required for the healthcare services require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nancial Services Modernization Act or Gramm-Leach-Bliley Act of 1999 requires all financial institutions to disclose their privacy policies on the sharing of nonpublic personal inform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due notice to customers so that they can request that their information not be shared with third parti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ensures that the privacy policies in effect in an organization are fully disclosed when a customer initiates a business relationship, as well as distributed at least annually for the duration of the professional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7C4D626-2FD2-4E1D-AB89-694C4E9272A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50491C3-171A-4991-A12E-1FBFCAF0C4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xport And Espionag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n attempt to protect American ingenuity, intellectual property, and competitive advantage, Congress passed the </a:t>
            </a:r>
            <a:r>
              <a:rPr b="1" lang="en-GB" sz="1200" spc="-1" strike="noStrike">
                <a:solidFill>
                  <a:srgbClr val="000000"/>
                </a:solidFill>
                <a:latin typeface="Calibri"/>
                <a:ea typeface="Lucida Sans Unicode"/>
              </a:rPr>
              <a:t>Economic Espionage Act</a:t>
            </a:r>
            <a:r>
              <a:rPr b="0" lang="en-GB" sz="1200" spc="-1" strike="noStrike">
                <a:solidFill>
                  <a:srgbClr val="000000"/>
                </a:solidFill>
                <a:latin typeface="Calibri"/>
                <a:ea typeface="Lucida Sans Unicode"/>
              </a:rPr>
              <a:t> (EEA) in 1996. This law attempts to prevent trade secrets from being illegally sh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t>
            </a:r>
            <a:r>
              <a:rPr b="1" lang="en-GB" sz="1200" spc="-1" strike="noStrike">
                <a:solidFill>
                  <a:srgbClr val="000000"/>
                </a:solidFill>
                <a:latin typeface="Calibri"/>
                <a:ea typeface="Lucida Sans Unicode"/>
              </a:rPr>
              <a:t>Security And Freedom Through Encryption Act</a:t>
            </a:r>
            <a:r>
              <a:rPr b="0" lang="en-GB" sz="1200" spc="-1" strike="noStrike">
                <a:solidFill>
                  <a:srgbClr val="000000"/>
                </a:solidFill>
                <a:latin typeface="Calibri"/>
                <a:ea typeface="Lucida Sans Unicode"/>
              </a:rPr>
              <a:t> </a:t>
            </a:r>
            <a:r>
              <a:rPr b="1" lang="en-GB" sz="1200" spc="-1" strike="noStrike">
                <a:solidFill>
                  <a:srgbClr val="000000"/>
                </a:solidFill>
                <a:latin typeface="Calibri"/>
                <a:ea typeface="Lucida Sans Unicode"/>
              </a:rPr>
              <a:t>of 1997</a:t>
            </a:r>
            <a:r>
              <a:rPr b="0" lang="en-GB" sz="1200" spc="-1" strike="noStrike">
                <a:solidFill>
                  <a:srgbClr val="000000"/>
                </a:solidFill>
                <a:latin typeface="Calibri"/>
                <a:ea typeface="Lucida Sans Unicode"/>
              </a:rPr>
              <a:t> (SAFE) was an attempt by Congress to provide guidance on the use of encryption and provided measures of public protection from government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49DF3C3-A51E-476E-AD38-3FD537E4B84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9BA1887-A60A-49D5-9CD5-CA1F6C571A2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the student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Describe the functions of and relationships among laws, regulations, and professional organizations in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between laws and ethic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dentify major national laws that affect the practice of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xplain the role of culture as it applies to ethics in information security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57FF89D-0A6B-43C4-94AE-3FE25F61ABF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U.S. Copyright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recognized as a protected asset in the U.S. U.S. copyright law extends this right to the published word, including electronic form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air use of copyrighted materials includes the use to support news reporting, teaching, scholarship, and a number of other related permissions, so long as the purpose of the use is for educational or library purposes, not for profit, and is not excess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97269B5-16F5-45C0-9553-D6EE9DD7605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1035BD5-6BAA-4529-8F40-83F4CF7BEE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reedom of Information Act of 1966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reedom of Information Act provides any person with the right to request access to federal agency records or information not determined to be a matter of national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 government agencies are required to disclose any requested information on receipt of a written re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exceptions for information that is protected from disclosure, and the act does not apply to state or local government agencies or to private businesses or individuals, although many states have their own version of the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9BF3123-5AEC-4A16-8A1C-96B49339A77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tate &amp; Loc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national and international restrictions placed on an organization in the use of computer technology, each state or locality may have a number of laws and regulations that impact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the information security professional to understand state laws and regulations and insure the organization’s security policies and procedures comply with those laws and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CB8E55D-B94E-4649-B7FE-2248891267B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A779303-80FB-40F0-8224-56AD5EC78E9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Laws and Legal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ecently the Council of Europe drafted the European Council Cyber-Crime Convention, designed to create an international task force to oversee a range of security functions associated with Internet activities and to standardize technology laws across international bor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attempts to improve the effectiveness of international investigations into breaches of technology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nvention is well received by advocates of intellectual property rights with its emphasis on copyright infringement prosec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557E9BA-7E9D-43DE-A564-E2DD96A2013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FD43F56-E73E-4CB6-A1FE-E1F507A568B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igital Millennium Copyright Act (DMCA)</a:t>
            </a:r>
            <a:r>
              <a:rPr b="1"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igital Millennium Copyright Act (DMCA) is the U.S. version of an international effort to reduce the impact of copyright, trademark, and privacy infringement especially through the removal of technological copyright protection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uropean Union also put forward Directive 95/46/EC that increases protection of individuals with regard to the processing of personal data and the free movement of such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nited Kingdom has already implemented a version of this directive called the Databas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3345546-A9F1-45F4-B328-C8F3538702A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future information security professional, it is vital that you understand the scope of an organization’s legal and ethical responsi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inimize liabilities and reduce risks from electronic, physical threats and reduce the losses from legal action, the information security practitioner must understand the current legal environment, stay current as new laws and regulations emerge, and watch for issues that need attention.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2322825-42DF-49A7-BA61-16186F0D971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al Concepts in Information Securit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The Ten Commandments of Computer Ethics from The Computer Ethics Institut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Thou shalt not use a computer to harm other peopl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Thou shalt not interfere with other people's computer work.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Thou shalt not snoop around in other people's computer fil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Thou shalt not use a computer to ste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5. Thou shalt not use a computer to bear false witnes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6. Thou shalt not copy or use proprietary software for which you have not pai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7. Thou shalt not use other people's computer resources without authorization or proper compens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8. Thou shalt not appropriate other people's intellectual outpu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9. Thou shalt think about the social consequences of the program you are writing or the system you are designing.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0. Thou shalt always use a computer in ways that insure consideration and respect for your fellow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93406A7-5B2E-468E-BEF2-2F332E40BD5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ultural Differences in Ethical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regard to computer use, differences in cultures cause problems in determining what is ethical and what is not eth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tudies of ethical sensitivity to computer use reveal that individuals of different nationalities have different perspectives on eth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fficulties arise when one nationality’s ethical behavior contradicts that of another nation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3E469BD-0B25-48D8-BEC2-DD668D58E39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s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must be trained and kept aware in a number of topics related to information security, not the least of which is the expected behaviors of an ethical employ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important in areas of information security, as many employees may not have the formal technical training to understand that their behavior is unethical or even illegal. Proper ethical and legal training is vital to creating an informed, well prepared, and low-risk system u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3E223A9-DA05-4D82-A00B-0888FD6F528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terrence To Unethical and Illegal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terrence is the best method for preventing an illegal or unethical activity. Laws, policies, and technical controls are all examples of deterr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it is generally agreed that laws and policies and their associated penalties only deter if three conditions are present.</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ear of penalty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being caught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penalty being administ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01FF44F-1188-44BF-B4AE-0FC091B275A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des Of Ethics, Certifications, and Professional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professional organizations have established codes of conduct and/or codes of ethics that members are expected to fo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des of ethics can have a positive effect on an individual’s judgment regarding computer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having a code of ethics is not enough, because many employers do not encourage their employees to join these professional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security professionals to act ethically and according to the policies and procedures of their employer, their professional organization, and the laws of socie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07C0902-5D63-4903-85CB-CA7F4282DE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ssociation of Computing Machiner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 (www.acm.org) is a respected professional society, originally established in 1947 as “the world's first educational and scientific computing socie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s code of ethics requires members to perform their duties in a manner befitting an ethical computing profession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contains specific references to protecting the confidentiality of information, causing no harm, protecting the privacy of others, and respecting the intellectual property and copyrights of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AC86BA2-D048-4FF5-9D17-0945ADC2B69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Information Systems Security Certification Consortium</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www.isc2.org) is a nonprofit organization that focuses on the development and implementation of information security certifications and credential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of ethics put forth by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is primarily designed for information security professionals who have earned a certification from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focuses on four mandatory canon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 society, the commonwealth, and the infrastructure;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t honorably, honestly, justly, responsibly, and legally;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vide diligent and competent service to principals; and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dvance and protect the prof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DC0E2E6-BA73-4287-9264-C048C59C97D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ystem Administration, Networking, and Security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ystem Administration, Networking, and Security Institute, or SANS (www.sans.org), is a professional organization with a large membership dedicated to the protection of information an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ANS offers a set of certifications called the Global Information Assurance Certification or GIA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690F7B0-6B82-4B5A-8383-747D4FE45FC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ystems Audit and Control Associ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formation Systems Audit and Control Association or ISACA (www.isaca.org) is a professional association with a focus on auditing, control, and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though it does not focus exclusively on information security, the Certified Information Systems Auditor or CISA certification does contain many information security componen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ACA also has a code of ethics for its professionals. It requires many of the same high standards for ethical performance as the other organizations and cert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003A60E-58FB-4CDC-AC34-FA6789BA1E0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99E9CD1-F682-4AEE-A834-B1C3FDAF5F9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aw and Ethics in Information Security</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individuals we elect to trade some aspects of personal freedom for social order.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ws are rules adopted for determining expected behavior in modern society and are drawn from ethics, which define socially acceptable behavior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thics in turn are based on cultural mores: fixed moral attitudes or customs of a particular group.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thics are recognized as universal among cultures.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D52145C-571B-40C7-B4BA-16C10AC8701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U.S. FEDERAL AGENCIES</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Bureau of Investigation’s National Infrastructure Protection Center (NIPC) (www.nipc.gov) was established in 1998 and serves as the U.S. government's focal point for threat assessment, warning, investigation, and response for threats or attacks against critical U.S. infrastructures.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key part of the NIPC’s efforts to educate, train, inform, and involve the business and public sector in information security is the National InfraGard Program.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stablished in January of 2001, the National InfraGard Program began as a cooperative effort between the FBI’s Cleveland Field Office and local technology professional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federal agency is the National Security Agency (NSA). The NSA is “the Nation's cryptologic organization. It coordinates, directs, and performs highly specialized activities to protect U.S. information systems and produce foreign intelligence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SA is responsible for signal intelligence and information system securit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 Secret Service is a department within the Department of the Treasur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ret Service is also charged with the detection and arrest of any person committing a U.S. federal offense relating to computer fraud and false identification crime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represents an extension of the original mission of protecting U.S. currency-related issues to areas of communications fraud and abuse.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867147E-255D-43D1-A0E9-156FA1C20C8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E330905-AFD1-4B37-9938-31EDF71922E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70E1BF7-5212-4309-A136-3064C92A226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905D0D3-701B-4628-8727-23C7FE076DE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156BFBF-3450-49AD-87DA-431302F2E30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95F918C-34B9-4A23-8DCD-BBDD7908DF7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BD7836B-2A3F-41AA-8154-DD987EFEFF4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ypes of Law</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ivil law</a:t>
            </a:r>
            <a:r>
              <a:rPr b="0" lang="en-GB" sz="1200" spc="-1" strike="noStrike">
                <a:solidFill>
                  <a:srgbClr val="000000"/>
                </a:solidFill>
                <a:latin typeface="Calibri"/>
                <a:ea typeface="Lucida Sans Unicode"/>
              </a:rPr>
              <a:t> represents a wide variety of laws that are recorded in volumes of legal “code” available for review by the average citizen.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minal law</a:t>
            </a:r>
            <a:r>
              <a:rPr b="0" lang="en-GB" sz="1200" spc="-1" strike="noStrike">
                <a:solidFill>
                  <a:srgbClr val="000000"/>
                </a:solidFill>
                <a:latin typeface="Calibri"/>
                <a:ea typeface="Lucida Sans Unicode"/>
              </a:rPr>
              <a:t> addresses violations harmful to society and is actively enforced through prosecution by the state.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rt law</a:t>
            </a:r>
            <a:r>
              <a:rPr b="0" lang="en-GB" sz="1200" spc="-1" strike="noStrike">
                <a:solidFill>
                  <a:srgbClr val="000000"/>
                </a:solidFill>
                <a:latin typeface="Calibri"/>
                <a:ea typeface="Lucida Sans Unicode"/>
              </a:rPr>
              <a:t> allows individuals to seek recourse against others in the event of personal, physical, or financial injury.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te law</a:t>
            </a:r>
            <a:r>
              <a:rPr b="0" lang="en-GB" sz="1200" spc="-1" strike="noStrike">
                <a:solidFill>
                  <a:srgbClr val="000000"/>
                </a:solidFill>
                <a:latin typeface="Calibri"/>
                <a:ea typeface="Lucida Sans Unicode"/>
              </a:rPr>
              <a:t> regulates the relationship between the individual and the organization, and encompasses family law, commercial law, and labor law.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ublic law</a:t>
            </a:r>
            <a:r>
              <a:rPr b="0" lang="en-GB" sz="1200" spc="-1" strike="noStrike">
                <a:solidFill>
                  <a:srgbClr val="000000"/>
                </a:solidFill>
                <a:latin typeface="Calibri"/>
                <a:ea typeface="Lucida Sans Unicode"/>
              </a:rPr>
              <a:t> regulates the structure and administration of government agencies and their relationships with citizens, employees, and other governments, providing careful checks and balances. Examples of public law include criminal, administrative, and constitutional law.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47FDA4-8E6A-4069-BEF8-7C2F3D82D4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C1052-7B8B-42C6-BE5A-527CC9C8FF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8211F6-EAF2-491A-872B-AA064BB9F1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1ED46F-B726-4D16-AA6E-A7F6F512EC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22E48-51CC-4293-8AB6-78F3C3C5C1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1C2BC-C356-49EF-978B-58DAC4CF12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0048B-605F-4FC9-9818-405B41605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B10207-AC0F-4E9B-A559-8FD5D6EB0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10C81-D329-48B5-A9D3-94AB93590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DB024-1410-44EB-9183-F61758F163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95A15-7B87-44F8-BD41-60F27D954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A68A6-E98A-4D67-93AB-48D3250969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02A9A-1822-4FFF-8663-67DB5B884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62790-4FCF-4AFF-A5A0-CB968FD14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F06CB-FA86-4040-97E4-CBA41F848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B95CE-093F-4E25-B7FB-B8C90E169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F4980-5129-4993-AE6F-5C7DA39C0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60D541-9914-49B9-A17C-BC83AA3DF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2CFF63-9E11-4330-BF38-EB5933B6F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4BF884-8EFA-4A71-89D2-A133A9E8EC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10553D-DE59-4ED2-B95B-60569456B4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B02072-2CA6-48E8-BF0D-6F3D5D98F0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1BF782-156A-48B0-BCC2-0D6C4C8FC2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0F6A5D-F4F4-4C42-8EED-22B1F5C87D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B9A70D-8782-4092-848B-907681CBA9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D232D1-5A26-40A6-8ECD-60C3F87F5F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28B859-706C-4473-AF04-A01346706D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D4B633-BB06-48F5-8D3A-5B43BCCC9E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295D1D-00FF-40DD-9D08-3F2338E65E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C6A122-0183-40AC-8CF5-571B516304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FFF5D2-2B2A-4BA1-8A73-AB1D17905F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0CC835-8F06-40B0-A76D-31AD1DA5AE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F3AA0B8-962C-486A-861A-8A3A1612B6B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4036F5-8B74-441D-9E16-BF27C7A1A1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50F5324C-E344-460A-9CBF-5A91F8FF3F2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C85527A3-054B-417B-AA16-98F62C5EA2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402E9640-692D-447D-B06D-AC470C37A1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0E32736C-7ECA-49D2-961D-3E6FDA444BB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F8D9EE85-F40D-46A3-A71F-B7F9FAA254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007A071C-6A93-4002-82D7-B97CF0C362F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2D1A3E4F-0625-4F10-842D-12C9E7C9F9E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DB82C1FD-10C5-45B8-B20B-A5909F0A93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ED3859-FA66-4654-85D9-A41F95F644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23C4A1A3-488C-410B-8361-79DB90D45A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5A8C98A4-5BC8-41B8-B465-C0E34E91F78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63636A39-814B-4BBB-A971-AB8E042AFB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83891F7-487A-4DF5-A20C-7163A0B69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18E468-4BFF-4EAD-9CD8-FBF1416E74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D5AA6B-4072-4866-8E0A-49AC8E11D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51FD06-8FAD-4371-AFE2-D3AD3CAAB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531B96-BA26-43AB-A3BD-A1DC08034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858DC3-284F-4E18-9E81-6841A6361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B69DE2-6DA4-4DD3-8D4E-8B285FFE2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2D6E7-CBB7-41E3-B6C2-C5CC265520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4AF954-54DD-4F4E-8620-B2E6CFFA2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770E7C-DAED-4064-8026-F81DB30EF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C8D13A-B72F-4CF5-BE7A-047FAD700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3691C87-9FAE-49A9-AC65-9CCA90D0F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7A8273-399D-416F-9FDC-FFD62FE77F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8DB4FE-BB93-42EF-B130-34CC27EF1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5F1A-ECC6-429B-BF3D-B6CD54C9A8B3}"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CB8B-52BD-4699-B0ED-2AE1D5D2948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A313-40AD-4BF1-A9F2-F47FF25256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4222-F9A4-4DE7-9D5C-F31C91E5B1F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7FB4-3287-48B7-9D3B-001AA30362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E5DE-A34D-4FC3-B07F-326673EF81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8DC1-00B2-406D-BF17-D4CC897ADE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al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2004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3</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Legal, Ethical, and Professional</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ssues in Information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rcRect l="0" t="-1074" r="0" b="7781"/>
          <a:stretch/>
        </p:blipFill>
        <p:spPr>
          <a:xfrm>
            <a:off x="3809880" y="5045040"/>
            <a:ext cx="533412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elevant U.S. Laws</a:t>
            </a:r>
            <a:endParaRPr b="0" lang="en-US" sz="3600" spc="-1" strike="noStrike">
              <a:solidFill>
                <a:srgbClr val="222222"/>
              </a:solidFill>
              <a:latin typeface="Arial"/>
            </a:endParaRPr>
          </a:p>
        </p:txBody>
      </p:sp>
      <p:sp>
        <p:nvSpPr>
          <p:cNvPr id="31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ited States has been a leader in the development and implementation of information security legisl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legislation contributes to a more reliable business environment and a stable econom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has demonstrated understanding of problems facing the information security field; has specified penalties for individuals and organizations failing to follow requirements set forth in U.S. civil statutes</a:t>
            </a:r>
            <a:endParaRPr b="0" lang="en-US" sz="26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CC87-A4DE-4746-A01C-030C8F2E8B2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a:t>
            </a:r>
            <a:endParaRPr b="0" lang="en-US" sz="3600" spc="-1" strike="noStrike">
              <a:solidFill>
                <a:srgbClr val="222222"/>
              </a:solidFill>
              <a:latin typeface="Arial"/>
            </a:endParaRPr>
          </a:p>
        </p:txBody>
      </p:sp>
      <p:sp>
        <p:nvSpPr>
          <p:cNvPr id="321"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Fraud and Abuse Act of 1986 (CFA Act): </a:t>
            </a:r>
            <a:r>
              <a:rPr b="0" lang="en-US" sz="2600" spc="-1" strike="noStrike">
                <a:solidFill>
                  <a:srgbClr val="222222"/>
                </a:solidFill>
                <a:latin typeface="Arial"/>
              </a:rPr>
              <a:t>cornerstone of many computer-related federal laws and enforcement efforts</a:t>
            </a:r>
            <a:r>
              <a:rPr b="0" lang="ar-SA" sz="2600" spc="-1" strike="noStrike">
                <a:solidFill>
                  <a:srgbClr val="222222"/>
                </a:solidFill>
                <a:latin typeface="Arial"/>
              </a:rPr>
              <a:t>‏</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Information Infrastructure Protection Act of 1996: </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dified several sections of the previous act and increased the penalties for selected crimes</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verity of penalties judged on the purpose</a:t>
            </a:r>
            <a:endParaRPr b="0" lang="en-US" sz="24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urposes of commercial advantage</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rivate financial gain</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 furtherance of a criminal act</a:t>
            </a:r>
            <a:endParaRPr b="0" lang="en-US" sz="2200" spc="-1" strike="noStrike">
              <a:solidFill>
                <a:srgbClr val="222222"/>
              </a:solidFill>
              <a:latin typeface="Arial"/>
            </a:endParaRPr>
          </a:p>
        </p:txBody>
      </p:sp>
      <p:sp>
        <p:nvSpPr>
          <p:cNvPr id="3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3DB3-EB14-4DE9-AC02-699528372C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 (cont’d.)</a:t>
            </a:r>
            <a:endParaRPr b="0" lang="en-US" sz="3600" spc="-1" strike="noStrike">
              <a:solidFill>
                <a:srgbClr val="222222"/>
              </a:solidFill>
              <a:latin typeface="Arial"/>
            </a:endParaRPr>
          </a:p>
        </p:txBody>
      </p:sp>
      <p:sp>
        <p:nvSpPr>
          <p:cNvPr id="325" name=""/>
          <p:cNvSpPr txBox="1"/>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Act of 2001: </a:t>
            </a:r>
            <a:r>
              <a:rPr b="0" lang="en-US" sz="2600" spc="-1" strike="noStrike">
                <a:solidFill>
                  <a:srgbClr val="222222"/>
                </a:solidFill>
                <a:latin typeface="Arial"/>
              </a:rPr>
              <a:t>provides law enforcement agencies with broader latitude in order to combat terrorism-related activiti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Improvement and Reauthorization Act: </a:t>
            </a:r>
            <a:r>
              <a:rPr b="0" lang="en-US" sz="2600" spc="-1" strike="noStrike">
                <a:solidFill>
                  <a:srgbClr val="222222"/>
                </a:solidFill>
                <a:latin typeface="Arial"/>
              </a:rPr>
              <a:t>made permanent fourteen of the sixteen expanded powers of the Department of Homeland Security and the FBI in investigating terrorist activity</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Act of 1987: </a:t>
            </a:r>
            <a:r>
              <a:rPr b="0" lang="en-US" sz="2600" spc="-1" strike="noStrike">
                <a:solidFill>
                  <a:srgbClr val="222222"/>
                </a:solidFill>
                <a:latin typeface="Arial"/>
              </a:rPr>
              <a:t>one of the first attempts to protect federal computer systems by establishing minimum acceptable security practic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AA4B-996C-41B7-9D9C-E7802BC6687A}"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a:t>
            </a:r>
            <a:endParaRPr b="0" lang="en-US" sz="3600" spc="-1" strike="noStrike">
              <a:solidFill>
                <a:srgbClr val="222222"/>
              </a:solidFill>
              <a:latin typeface="Arial"/>
            </a:endParaRPr>
          </a:p>
        </p:txBody>
      </p:sp>
      <p:sp>
        <p:nvSpPr>
          <p:cNvPr id="32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ne of the hottest topics in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s a “state of being free from unsanctioned intrus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bility to aggregate data from multiple sources allows creation of information databases previously imposs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number of statutes addressing an individual’s right to privacy has grown</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1F94-7ACB-4F34-9E2A-62F12DB37FA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Regula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vacy of Customer Information Section of the common carrier regul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Privacy Act of 1974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lectronic Communications Privacy Act of 198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ealth Insurance Portability and Accountability Act of 1996 (HIPAA), aka Kennedy-Kassebaum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inancial Services Modernization Act, or Gramm-Leach-Bliley Act of 1999</a:t>
            </a:r>
            <a:endParaRPr b="0" lang="en-US" sz="24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73D8-AF13-4E82-A693-423C76902D7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Trade Commission: “occurring when someone uses your personally identifying information, like your name, Social Security number, or credit card number, without your permission, to commit fraud or other crim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raud And Related Activity In Connection With Identification Documents, Authentication Features, And Information</a:t>
            </a:r>
            <a:r>
              <a:rPr b="0" lang="en-GB" sz="2400" spc="-1" strike="noStrike">
                <a:solidFill>
                  <a:srgbClr val="222222"/>
                </a:solidFill>
                <a:latin typeface="Arial"/>
              </a:rPr>
              <a:t>	</a:t>
            </a:r>
            <a:r>
              <a:rPr b="0" lang="en-GB" sz="2400" spc="-1" strike="noStrike">
                <a:solidFill>
                  <a:srgbClr val="222222"/>
                </a:solidFill>
                <a:latin typeface="Arial"/>
              </a:rPr>
              <a:t> (Title 18, U.S.C. § 1028)</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33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4FDB-B4A2-4B19-BFA9-A3EB3D10427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someone suspects 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o the three dominant consumer reporting companies that your identity is threaten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coun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lose compromised account</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ispute accounts opened without permission</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gister your concern with the F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he incident to either your local police or police in the location where the identity theft occurred</a:t>
            </a:r>
            <a:endParaRPr b="0" lang="en-US" sz="2400" spc="-1" strike="noStrike">
              <a:solidFill>
                <a:srgbClr val="222222"/>
              </a:solidFill>
              <a:latin typeface="Arial"/>
            </a:endParaRPr>
          </a:p>
        </p:txBody>
      </p:sp>
      <p:sp>
        <p:nvSpPr>
          <p:cNvPr id="3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6B4F-F59A-4545-82CD-B71FEAC2BB09}"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ealth Insurance Portability and Accountability Act of 1996 (HIPAA)</a:t>
            </a:r>
            <a:endParaRPr b="0" lang="en-US" sz="3600" spc="-1" strike="noStrike">
              <a:solidFill>
                <a:srgbClr val="222222"/>
              </a:solidFill>
              <a:latin typeface="Arial"/>
            </a:endParaRPr>
          </a:p>
        </p:txBody>
      </p:sp>
      <p:sp>
        <p:nvSpPr>
          <p:cNvPr id="34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tects the confidentiality and security of health care data by establishing and enforcing standards and by standardizing electronic data interchan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sumer control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oundaries on the use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ability for the privacy of private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alance of public responsibility for the use of medical information for the greater good measured against impact to the individu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urity of health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ED23-5C54-44C3-9229-A8F8B9C956B3}"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xport and Espionage Laws</a:t>
            </a:r>
            <a:endParaRPr b="0" lang="en-US" sz="3600" spc="-1" strike="noStrike">
              <a:solidFill>
                <a:srgbClr val="222222"/>
              </a:solidFill>
              <a:latin typeface="Arial"/>
            </a:endParaRPr>
          </a:p>
        </p:txBody>
      </p:sp>
      <p:sp>
        <p:nvSpPr>
          <p:cNvPr id="34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conomic Espionage Act of 1996 (EEA)</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nd Freedom Through Encryption Act of 1999 (SAFE)</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acts include provisions  about encryption th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inforce the right to use or sell encryption algorithms, without concern of key registr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hibit the federal government from requiring i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ke it not probable cause in criminal activ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lax export restri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dditional penalties for using it in a crime</a:t>
            </a:r>
            <a:endParaRPr b="0" lang="en-US" sz="24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BF97-3727-48E7-A294-1B83D253048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1754-66E7-4CFB-ADA2-DA02916A879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4" name="Picture 5" descr=""/>
          <p:cNvPicPr/>
          <p:nvPr/>
        </p:nvPicPr>
        <p:blipFill>
          <a:blip r:embed="rId1"/>
          <a:stretch/>
        </p:blipFill>
        <p:spPr>
          <a:xfrm>
            <a:off x="371520" y="304920"/>
            <a:ext cx="8163000" cy="5029200"/>
          </a:xfrm>
          <a:prstGeom prst="rect">
            <a:avLst/>
          </a:prstGeom>
          <a:ln w="0">
            <a:noFill/>
          </a:ln>
        </p:spPr>
      </p:pic>
      <p:sp>
        <p:nvSpPr>
          <p:cNvPr id="355" name="Rectangle 5"/>
          <p:cNvSpPr/>
          <p:nvPr/>
        </p:nvSpPr>
        <p:spPr>
          <a:xfrm>
            <a:off x="2993040" y="5638680"/>
            <a:ext cx="352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 Export and Espionag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functions of and relationships among laws, regulations, and professional organizations in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fferentiate between laws and ethic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major national laws that affect the practice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the role of culture as it applies to ethics in information security</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F72B-61C0-48DD-8672-ED286A4ECDE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U.S. Copyright Law </a:t>
            </a:r>
            <a:endParaRPr b="0" lang="en-US" sz="3600" spc="-1" strike="noStrike">
              <a:solidFill>
                <a:srgbClr val="222222"/>
              </a:solidFill>
              <a:latin typeface="Arial"/>
            </a:endParaRPr>
          </a:p>
        </p:txBody>
      </p:sp>
      <p:sp>
        <p:nvSpPr>
          <p:cNvPr id="35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recognized as protected asset in the U.S.; copyright law extends to electronic form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th proper acknowledgment, permissible to include portions of others’ work as refer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pyright Office Web site: www.copyright.gov</a:t>
            </a:r>
            <a:endParaRPr b="0" lang="en-US" sz="2600" spc="-1" strike="noStrike">
              <a:solidFill>
                <a:srgbClr val="222222"/>
              </a:solidFill>
              <a:latin typeface="Arial"/>
            </a:endParaRPr>
          </a:p>
        </p:txBody>
      </p:sp>
      <p:sp>
        <p:nvSpPr>
          <p:cNvPr id="35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48CF-26D4-4A64-AAD2-266208E3B41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inancial Reporting</a:t>
            </a:r>
            <a:endParaRPr b="0" lang="en-US" sz="3600" spc="-1" strike="noStrike">
              <a:solidFill>
                <a:srgbClr val="222222"/>
              </a:solidFill>
              <a:latin typeface="Arial"/>
            </a:endParaRPr>
          </a:p>
        </p:txBody>
      </p:sp>
      <p:sp>
        <p:nvSpPr>
          <p:cNvPr id="36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arbanes-Oxley Act of 2002</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ffects executive management of publicly traded corporations and public accounting fi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eks to improve reliability and accuracy of financial reporting and increase the accountability of corporate govern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nalties for noncompliance range from fines to jail te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iability assurance will require additional emphasis on confidentiality and integrity </a:t>
            </a:r>
            <a:endParaRPr b="0" lang="en-US" sz="2600" spc="-1" strike="noStrike">
              <a:solidFill>
                <a:srgbClr val="222222"/>
              </a:solidFill>
              <a:latin typeface="Arial"/>
            </a:endParaRPr>
          </a:p>
        </p:txBody>
      </p:sp>
      <p:sp>
        <p:nvSpPr>
          <p:cNvPr id="36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1ACB-0B55-4F57-800C-FB3082AE6ED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reedom of Information Act of 1966 (FOIA) </a:t>
            </a:r>
            <a:endParaRPr b="0" lang="en-US" sz="3600" spc="-1" strike="noStrike">
              <a:solidFill>
                <a:srgbClr val="222222"/>
              </a:solidFill>
              <a:latin typeface="Arial"/>
            </a:endParaRPr>
          </a:p>
        </p:txBody>
      </p:sp>
      <p:sp>
        <p:nvSpPr>
          <p:cNvPr id="3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llows access to federal agency records or information not determined to be matter of national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government agencies required to disclose any requested information upon receipt of written reque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information protected from disclosure</a:t>
            </a:r>
            <a:endParaRPr b="0" lang="en-US" sz="26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0028-5B56-4EC6-B8C3-B6B7F42403A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tate and Local Regulations</a:t>
            </a:r>
            <a:endParaRPr b="0" lang="en-US" sz="3600" spc="-1" strike="noStrike">
              <a:solidFill>
                <a:srgbClr val="222222"/>
              </a:solidFill>
              <a:latin typeface="Arial"/>
            </a:endParaRPr>
          </a:p>
        </p:txBody>
      </p:sp>
      <p:sp>
        <p:nvSpPr>
          <p:cNvPr id="36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rictions on organizational computer technology use exist at international, national, state, local leve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essional responsible for understanding state regulations and ensuring organization is compliant with regulations</a:t>
            </a:r>
            <a:endParaRPr b="0" lang="en-US" sz="2600" spc="-1" strike="noStrike">
              <a:solidFill>
                <a:srgbClr val="222222"/>
              </a:solidFill>
              <a:latin typeface="Arial"/>
            </a:endParaRPr>
          </a:p>
        </p:txBody>
      </p:sp>
      <p:sp>
        <p:nvSpPr>
          <p:cNvPr id="3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8E4F-616F-4A81-BA6F-0C91D07DE01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ernational Laws and Legal Bodies</a:t>
            </a:r>
            <a:endParaRPr b="0" lang="en-US" sz="3600" spc="-1" strike="noStrike">
              <a:solidFill>
                <a:srgbClr val="222222"/>
              </a:solidFill>
              <a:latin typeface="Arial"/>
            </a:endParaRPr>
          </a:p>
        </p:txBody>
      </p:sp>
      <p:sp>
        <p:nvSpPr>
          <p:cNvPr id="373" name="PlaceHolder 2"/>
          <p:cNvSpPr>
            <a:spLocks noGrp="1"/>
          </p:cNvSpPr>
          <p:nvPr>
            <p:ph/>
          </p:nvPr>
        </p:nvSpPr>
        <p:spPr>
          <a:xfrm>
            <a:off x="533520" y="1676520"/>
            <a:ext cx="8076960" cy="4572000"/>
          </a:xfrm>
          <a:prstGeom prst="rect">
            <a:avLst/>
          </a:prstGeom>
          <a:noFill/>
          <a:ln w="0">
            <a:noFill/>
          </a:ln>
        </p:spPr>
        <p:txBody>
          <a:bodyPr anchor="t">
            <a:normAutofit fontScale="97000"/>
          </a:bodyPr>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organizations do business on the Internet, they do business globall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fessionals must be sensitive to laws and ethical values of many different cultures, societies, and countries</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cause of political complexities of relationships among nations and differences in culture, there are few international laws relating to privacy and information securit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se international laws are important but are limited in their enforceability</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534E-7690-455C-B3F6-A9DC1D6D0C9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uropean Council Cyber-Crime Convention</a:t>
            </a:r>
            <a:endParaRPr b="0" lang="en-US" sz="3600" spc="-1" strike="noStrike">
              <a:solidFill>
                <a:srgbClr val="222222"/>
              </a:solidFill>
              <a:latin typeface="Arial"/>
            </a:endParaRPr>
          </a:p>
        </p:txBody>
      </p:sp>
      <p:sp>
        <p:nvSpPr>
          <p:cNvPr id="37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stablishes international task force overseeing Internet security functions for standardized international technology la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empts to improve effectiveness of international investigations into breaches of technology law</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ll received by intellectual property rights advocates due to emphasis on copyright infringement prosec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cks realistic provisions for enforcement</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E5E0-4BFA-4BFD-8FEC-E2B4CD16C9C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a:t>
            </a:r>
            <a:endParaRPr b="0" lang="en-US" sz="3600" spc="-1" strike="noStrike">
              <a:solidFill>
                <a:srgbClr val="222222"/>
              </a:solidFill>
              <a:latin typeface="Arial"/>
            </a:endParaRPr>
          </a:p>
        </p:txBody>
      </p:sp>
      <p:sp>
        <p:nvSpPr>
          <p:cNvPr id="3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d by World Trade Organization (WTO)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significant international effort to protect intellectual property righ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utlines requirements for governmental oversight and legislation providing minimum levels of protection for intellectual property</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CC10-E8BF-4F9E-869B-B16FC455BB5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 (cont’d.)</a:t>
            </a:r>
            <a:endParaRPr b="0" lang="en-US" sz="3600" spc="-1" strike="noStrike">
              <a:solidFill>
                <a:srgbClr val="222222"/>
              </a:solidFill>
              <a:latin typeface="Arial"/>
            </a:endParaRPr>
          </a:p>
        </p:txBody>
      </p:sp>
      <p:sp>
        <p:nvSpPr>
          <p:cNvPr id="3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greement covers fiv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 of basic principles of trading system and international intellectual property agreemen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Giving adequate protection to intellectual property righ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forcement of those rights by countries in their own territor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ttling intellectual property disput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ansitional arrangements while new system is being introduced</a:t>
            </a:r>
            <a:endParaRPr b="0" lang="en-US" sz="2400" spc="-1" strike="noStrike">
              <a:solidFill>
                <a:srgbClr val="222222"/>
              </a:solidFill>
              <a:latin typeface="Arial"/>
            </a:endParaRPr>
          </a:p>
        </p:txBody>
      </p:sp>
      <p:sp>
        <p:nvSpPr>
          <p:cNvPr id="38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D668-F68D-41F6-9E79-060E42537963}"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igital Millennium Copyright Act (DMCA)</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9" name="PlaceHolder 2"/>
          <p:cNvSpPr>
            <a:spLocks noGrp="1"/>
          </p:cNvSpPr>
          <p:nvPr>
            <p:ph/>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ntribution to international effort to reduce impact of copyright, trademark, and privacy infringement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response to European Union Directive 95/46/EC,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hibits </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ircumvention of protections and countermeasure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ufacture and trafficking of devices used to circumvent such protection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hibits altering information attached or imbedded in copyrighted material</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cludes ISPs from some copyright infringement</a:t>
            </a:r>
            <a:endParaRPr b="0" lang="en-US" sz="26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B54D-D124-443D-92CD-C91778B5E40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Information Security</a:t>
            </a:r>
            <a:endParaRPr b="0" lang="en-US" sz="3600" spc="-1" strike="noStrike">
              <a:solidFill>
                <a:srgbClr val="222222"/>
              </a:solidFill>
              <a:latin typeface="Arial"/>
            </a:endParaRPr>
          </a:p>
        </p:txBody>
      </p:sp>
      <p:sp>
        <p:nvSpPr>
          <p:cNvPr id="3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Professional groups have explicit rules governing ethical behavior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T and IT security do not have binding codes of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fessional associations and certification agencies work to establish codes of ethic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prescribe ethical condu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 not always have the ability to ban violators from practice in field</a:t>
            </a:r>
            <a:endParaRPr b="0" lang="en-US" sz="2400" spc="-1" strike="noStrike">
              <a:solidFill>
                <a:srgbClr val="222222"/>
              </a:solidFill>
              <a:latin typeface="Arial"/>
            </a:endParaRPr>
          </a:p>
        </p:txBody>
      </p:sp>
      <p:sp>
        <p:nvSpPr>
          <p:cNvPr id="39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61FF-1DB5-4805-AB9C-6783375C878A}"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You must understand scope of an organization’s legal and ethical responsibil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minimize liabilities/reduce risks, the information security practitioner mus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derstand current legal environ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tay current with laws and regulation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tch for new issues that emerge </a:t>
            </a:r>
            <a:endParaRPr b="0" lang="en-US" sz="2400" spc="-1" strike="noStrike">
              <a:solidFill>
                <a:srgbClr val="222222"/>
              </a:solidFill>
              <a:latin typeface="Arial"/>
            </a:endParaRPr>
          </a:p>
        </p:txBody>
      </p:sp>
      <p:sp>
        <p:nvSpPr>
          <p:cNvPr id="2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D3DE-AD34-4579-942E-95300CD3624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9FD9-0D32-492E-885B-8F28D777EDB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98" name="Picture 5" descr=""/>
          <p:cNvPicPr/>
          <p:nvPr/>
        </p:nvPicPr>
        <p:blipFill>
          <a:blip r:embed="rId1"/>
          <a:stretch/>
        </p:blipFill>
        <p:spPr>
          <a:xfrm>
            <a:off x="636480" y="457200"/>
            <a:ext cx="7898040" cy="5486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al Differences Across Cultures</a:t>
            </a:r>
            <a:endParaRPr b="0" lang="en-US" sz="3600" spc="-1" strike="noStrike">
              <a:solidFill>
                <a:srgbClr val="222222"/>
              </a:solidFill>
              <a:latin typeface="Arial"/>
            </a:endParaRPr>
          </a:p>
        </p:txBody>
      </p:sp>
      <p:sp>
        <p:nvSpPr>
          <p:cNvPr id="4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differences create difficulty in determining what is and is not ethic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iculties arise when one nationality’s ethical behavior conflicts with ethics of another national group</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cenarios are grouped in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License Infring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llicit U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suse of Corporate Resourc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es have different views on the scenarios</a:t>
            </a:r>
            <a:endParaRPr b="0" lang="en-US" sz="2600" spc="-1" strike="noStrike">
              <a:solidFill>
                <a:srgbClr val="222222"/>
              </a:solidFill>
              <a:latin typeface="Arial"/>
            </a:endParaRPr>
          </a:p>
        </p:txBody>
      </p:sp>
      <p:sp>
        <p:nvSpPr>
          <p:cNvPr id="40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610E-C0E0-4D96-AD47-FC0B70E2F92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Education</a:t>
            </a:r>
            <a:endParaRPr b="0" lang="en-US" sz="3600" spc="-1" strike="noStrike">
              <a:solidFill>
                <a:srgbClr val="222222"/>
              </a:solidFill>
              <a:latin typeface="Arial"/>
            </a:endParaRPr>
          </a:p>
        </p:txBody>
      </p:sp>
      <p:sp>
        <p:nvSpPr>
          <p:cNvPr id="4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riding factor in levelling ethical perceptions within a small population is educ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must be trained in expected behaviors of an ethical employee, especially in areas of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ethical training is vital to creating informed, well prepared, and low-risk system user</a:t>
            </a:r>
            <a:endParaRPr b="0" lang="en-US" sz="2600" spc="-1" strike="noStrike">
              <a:solidFill>
                <a:srgbClr val="222222"/>
              </a:solidFill>
              <a:latin typeface="Arial"/>
            </a:endParaRPr>
          </a:p>
        </p:txBody>
      </p:sp>
      <p:sp>
        <p:nvSpPr>
          <p:cNvPr id="40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B92B-F499-4264-A229-A0E11D52432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terring Unethical and Illegal Behavior</a:t>
            </a:r>
            <a:endParaRPr b="0" lang="en-US" sz="3600" spc="-1" strike="noStrike">
              <a:solidFill>
                <a:srgbClr val="222222"/>
              </a:solidFill>
              <a:latin typeface="Arial"/>
            </a:endParaRPr>
          </a:p>
        </p:txBody>
      </p:sp>
      <p:sp>
        <p:nvSpPr>
          <p:cNvPr id="4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e general causes of unethical and illegal behavior: ignorance, accident,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terrence: best method for preventing an illegal or unethical activity; e.g., laws, policies, technical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and policies only deter if three conditions are pres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ar of penal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being caugh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penalty being administered</a:t>
            </a:r>
            <a:endParaRPr b="0" lang="en-US" sz="2400" spc="-1" strike="noStrike">
              <a:solidFill>
                <a:srgbClr val="222222"/>
              </a:solidFill>
              <a:latin typeface="Arial"/>
            </a:endParaRPr>
          </a:p>
        </p:txBody>
      </p:sp>
      <p:sp>
        <p:nvSpPr>
          <p:cNvPr id="40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CD24-A3A0-4809-A9CB-17E1FF5CC5F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des of Ethics and Professional Organizations</a:t>
            </a:r>
            <a:endParaRPr b="0" lang="en-US" sz="3600" spc="-1" strike="noStrike">
              <a:solidFill>
                <a:srgbClr val="222222"/>
              </a:solidFill>
              <a:latin typeface="Arial"/>
            </a:endParaRPr>
          </a:p>
        </p:txBody>
      </p:sp>
      <p:sp>
        <p:nvSpPr>
          <p:cNvPr id="4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professional organizations have established codes of conduct/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des of ethics can have positive effect; unfortunately, many employers do not encourage joining these professional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ponsibility of security professionals to act ethically and according to policies of employer, professional organization, and laws of society</a:t>
            </a:r>
            <a:endParaRPr b="0" lang="en-US" sz="2600" spc="-1" strike="noStrike">
              <a:solidFill>
                <a:srgbClr val="222222"/>
              </a:solidFill>
              <a:latin typeface="Arial"/>
            </a:endParaRPr>
          </a:p>
        </p:txBody>
      </p:sp>
      <p:sp>
        <p:nvSpPr>
          <p:cNvPr id="41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F44C-6B7E-441B-AE0C-74D07FBC4E7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a:t>
            </a:r>
            <a:endParaRPr b="0" lang="en-US" sz="3600" spc="-1" strike="noStrike">
              <a:solidFill>
                <a:srgbClr val="222222"/>
              </a:solidFill>
              <a:latin typeface="Arial"/>
            </a:endParaRPr>
          </a:p>
        </p:txBody>
      </p:sp>
      <p:sp>
        <p:nvSpPr>
          <p:cNvPr id="41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ociation of Computing Machinery (ACM)</a:t>
            </a:r>
            <a:r>
              <a:rPr b="0" lang="ar-SA" sz="2600" spc="-1" strike="noStrike">
                <a:solidFill>
                  <a:srgbClr val="222222"/>
                </a:solidFill>
                <a:latin typeface="Arial"/>
              </a:rPr>
              <a:t>‏</a:t>
            </a:r>
            <a:r>
              <a:rPr b="0" lang="ar-SA" sz="2600" spc="-1" strike="noStrike">
                <a:solidFill>
                  <a:srgbClr val="222222"/>
                </a:solidFill>
                <a:latin typeface="Arial"/>
              </a:rPr>
              <a: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stablished in 1947 as “the world's first educational and scientific computing socie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contains references to protecting information confidentiality, causing no harm, protecting others’ privacy, and respecting others’ intellectual property</a:t>
            </a:r>
            <a:endParaRPr b="0" lang="en-US" sz="2400" spc="-1" strike="noStrike">
              <a:solidFill>
                <a:srgbClr val="222222"/>
              </a:solidFill>
              <a:latin typeface="Arial"/>
            </a:endParaRPr>
          </a:p>
        </p:txBody>
      </p:sp>
      <p:sp>
        <p:nvSpPr>
          <p:cNvPr id="41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79C9-17CB-478A-9C5F-BBC0DCB7663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ational Information Systems Security Certification Consortium, Inc. (ISC)</a:t>
            </a:r>
            <a:r>
              <a:rPr b="0" lang="en-GB" sz="2600" spc="-1" strike="noStrike" baseline="30000">
                <a:solidFill>
                  <a:srgbClr val="222222"/>
                </a:solidFill>
                <a:latin typeface="Arial"/>
              </a:rPr>
              <a:t>2</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organization focusing on development and implementation of information security certifications and credenti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primarily designed for information security professionals who have certification from (ISC)</a:t>
            </a:r>
            <a:r>
              <a:rPr b="0" lang="en-GB" sz="2400" spc="-1" strike="noStrike" baseline="30000">
                <a:solidFill>
                  <a:srgbClr val="222222"/>
                </a:solidFill>
                <a:latin typeface="Arial"/>
              </a:rPr>
              <a:t>2</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focuses on four mandatory canon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FAF3-D957-4FB9-B4FE-A59B3093D31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 Administration, Networking, and Security Institute (SANS)</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organization with a large membership dedicated to protection of information an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NS offers set of certifications called Global Information Assurance Certification (GIAC)</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42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914B-690B-44A5-9571-21604C3D933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Audit and Control Association (ISAC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association with focus on auditing, control, and security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centrates on providing IT control practices and standa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ACA has code of ethics for its professionals</a:t>
            </a:r>
            <a:endParaRPr b="0" lang="en-US" sz="2400" spc="-1" strike="noStrike">
              <a:solidFill>
                <a:srgbClr val="222222"/>
              </a:solidFill>
              <a:latin typeface="Arial"/>
            </a:endParaRPr>
          </a:p>
        </p:txBody>
      </p:sp>
      <p:sp>
        <p:nvSpPr>
          <p:cNvPr id="42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BB7A-CE62-416A-B5AF-BD920578179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3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Security Association (ISS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society of information security (IS)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y mission to bring together qualified IS practitioners for information exchange and educational develop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motes code of ethics similar to (ISC)</a:t>
            </a:r>
            <a:r>
              <a:rPr b="0" lang="en-GB" sz="2400" spc="-1" strike="noStrike" baseline="30000">
                <a:solidFill>
                  <a:srgbClr val="222222"/>
                </a:solidFill>
                <a:latin typeface="Arial"/>
              </a:rPr>
              <a:t>2</a:t>
            </a:r>
            <a:r>
              <a:rPr b="0" lang="en-GB" sz="2400" spc="-1" strike="noStrike">
                <a:solidFill>
                  <a:srgbClr val="222222"/>
                </a:solidFill>
                <a:latin typeface="Arial"/>
              </a:rPr>
              <a:t>, ISACA, and ACM</a:t>
            </a:r>
            <a:endParaRPr b="0" lang="en-US" sz="2400" spc="-1" strike="noStrike">
              <a:solidFill>
                <a:srgbClr val="222222"/>
              </a:solidFill>
              <a:latin typeface="Arial"/>
            </a:endParaRPr>
          </a:p>
        </p:txBody>
      </p:sp>
      <p:sp>
        <p:nvSpPr>
          <p:cNvPr id="43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7419-AE80-4B36-9C1E-3666AF11681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aw and Ethics in Information Security</a:t>
            </a:r>
            <a:endParaRPr b="0" lang="en-US" sz="3600" spc="-1" strike="noStrike">
              <a:solidFill>
                <a:srgbClr val="222222"/>
              </a:solidFill>
              <a:latin typeface="Arial"/>
            </a:endParaRPr>
          </a:p>
        </p:txBody>
      </p:sp>
      <p:sp>
        <p:nvSpPr>
          <p:cNvPr id="2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societal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mores: fixed moral attitudes or customs of a particular group; ethics based on the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carry sanctions of a governing authority; ethics do not</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F381-F105-4384-8C20-2E1AAA3275E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a:t>
            </a:r>
            <a:endParaRPr b="0" lang="en-US" sz="3600" spc="-1" strike="noStrike">
              <a:solidFill>
                <a:srgbClr val="222222"/>
              </a:solidFill>
              <a:latin typeface="Arial"/>
            </a:endParaRPr>
          </a:p>
        </p:txBody>
      </p:sp>
      <p:sp>
        <p:nvSpPr>
          <p:cNvPr id="436" name="PlaceHolder 2"/>
          <p:cNvSpPr>
            <a:spLocks noGrp="1"/>
          </p:cNvSpPr>
          <p:nvPr>
            <p:ph/>
          </p:nvPr>
        </p:nvSpPr>
        <p:spPr>
          <a:xfrm>
            <a:off x="533520" y="160020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partment of Homeland Security (DHS)</a:t>
            </a:r>
            <a:r>
              <a:rPr b="0" lang="ar-SA" sz="2600" spc="-1" strike="noStrike">
                <a:solidFill>
                  <a:srgbClr val="222222"/>
                </a:solidFill>
                <a:latin typeface="Arial"/>
              </a:rPr>
              <a:t>‏</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de up of five directorates, or divi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ssion is to protect the people as well as the physical and informational assets of the US</a:t>
            </a:r>
            <a:endParaRPr b="0" lang="en-US" sz="2400" spc="-1" strike="noStrike">
              <a:solidFill>
                <a:srgbClr val="222222"/>
              </a:solidFill>
              <a:latin typeface="Arial"/>
            </a:endParaRPr>
          </a:p>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deral Bureau of Investigation’s National InfraGard Program</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n intrusion alert networ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 secure Web site for communication about suspicious activity or intru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onsors local chapter activitie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perates a help desk for questions</a:t>
            </a:r>
            <a:endParaRPr b="0" lang="en-US" sz="2400" spc="-1" strike="noStrike">
              <a:solidFill>
                <a:srgbClr val="222222"/>
              </a:solidFill>
              <a:latin typeface="Arial"/>
            </a:endParaRPr>
          </a:p>
        </p:txBody>
      </p:sp>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54B0-E84A-4FB6-90C2-D0157ED4DF3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 (cont’d.)</a:t>
            </a:r>
            <a:endParaRPr b="0" lang="en-US" sz="3600" spc="-1" strike="noStrike">
              <a:solidFill>
                <a:srgbClr val="222222"/>
              </a:solidFill>
              <a:latin typeface="Arial"/>
            </a:endParaRPr>
          </a:p>
        </p:txBody>
      </p:sp>
      <p:sp>
        <p:nvSpPr>
          <p:cNvPr id="44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Security Agency (NS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s the Nation’s cryptologic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tects US informatio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duces foreign intelligence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sponsible for signal intelligence and information system securit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Secret Servic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 addition to protective services, charged with the detection and arrest of persons committing a federal office relating to computer fraud or false identification</a:t>
            </a:r>
            <a:endParaRPr b="0" lang="en-US" sz="2400" spc="-1" strike="noStrike">
              <a:solidFill>
                <a:srgbClr val="222222"/>
              </a:solidFill>
              <a:latin typeface="Arial"/>
            </a:endParaRPr>
          </a:p>
        </p:txBody>
      </p:sp>
      <p:sp>
        <p:nvSpPr>
          <p:cNvPr id="44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E395-26AC-4D1D-9E55-0AD99ABAC249}"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behavior in society; drawn from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s; based on cultural mores (fixed moral attitudes or customs of a particular grou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law: civil, criminal, private, public</a:t>
            </a:r>
            <a:endParaRPr b="0" lang="en-US" sz="2600" spc="-1" strike="noStrike">
              <a:solidFill>
                <a:srgbClr val="222222"/>
              </a:solidFill>
              <a:latin typeface="Arial"/>
            </a:endParaRPr>
          </a:p>
        </p:txBody>
      </p:sp>
      <p:sp>
        <p:nvSpPr>
          <p:cNvPr id="44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99A-7D67-45E0-88A2-186B10CBB35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evant U.S. law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Fraud and Abuse Act of 1986 (CFA Act)</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ational Information Infrastructure Protection Act of 199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Act of 2001</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Improvement and Reauthorization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Security Act of 1987</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tle 18, U.S.C. § 1028</a:t>
            </a:r>
            <a:endParaRPr b="0" lang="en-US" sz="2400" spc="-1" strike="noStrike">
              <a:solidFill>
                <a:srgbClr val="222222"/>
              </a:solidFill>
              <a:latin typeface="Arial"/>
            </a:endParaRPr>
          </a:p>
        </p:txBody>
      </p:sp>
      <p:sp>
        <p:nvSpPr>
          <p:cNvPr id="4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BFCC-A395-45D9-951F-3BA7502406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have codes of conduct and/or codes of 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increases liability if it refuses to take measures known as due c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requires that organization make valid effort to protect others and continually maintain that effort</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5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BDB7-674E-434F-8511-8952F9740FD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a:t>
            </a:r>
            <a:endParaRPr b="0" lang="en-US" sz="3600" spc="-1" strike="noStrike">
              <a:solidFill>
                <a:srgbClr val="222222"/>
              </a:solidFill>
              <a:latin typeface="Arial"/>
            </a:endParaRPr>
          </a:p>
        </p:txBody>
      </p:sp>
      <p:sp>
        <p:nvSpPr>
          <p:cNvPr id="29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ability: legal obligation of an entity extending beyond criminal or contract law; includes legal obligation to make restit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itution: to compensate for wrongs committed by an organization or its employe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care: insuring that employees know what constitutes acceptable behavior and know the consequences of illegal or unethical ac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making a valid effort to protect others; continually maintaining level of effort</a:t>
            </a:r>
            <a:endParaRPr b="0" lang="en-US" sz="26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A050-7A8E-485C-B898-54B71619F6A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Jurisdiction: court's right to hear a case if the wrong was committed in its territory or involved its citizenr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 arm jurisdiction: right of any court to impose its authority over an individual or organization if it can establish jurisdiction</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E0FC-912E-4AF0-984C-3EAC2D3295A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a:t>
            </a:r>
            <a:endParaRPr b="0" lang="en-US" sz="3600" spc="-1" strike="noStrike">
              <a:solidFill>
                <a:srgbClr val="222222"/>
              </a:solidFill>
              <a:latin typeface="Arial"/>
            </a:endParaRPr>
          </a:p>
        </p:txBody>
      </p:sp>
      <p:sp>
        <p:nvSpPr>
          <p:cNvPr id="3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body of expectations that describe acceptable and unacceptable employee behaviors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function as laws within an organization; must be crafted carefully to ensure they are complete, appropriate, fairly applied to everyon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erence between policy and law: ignorance of a policy is an acceptable defense</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1D9D-E59D-43D3-BA24-EB6C6525705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 (cont’d.)</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teria for policy enforcemen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semination (distrib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iew (rea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rehension (understan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liance (agre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iform enforcement</a:t>
            </a:r>
            <a:endParaRPr b="0" lang="en-US" sz="2400" spc="-1" strike="noStrike">
              <a:solidFill>
                <a:srgbClr val="222222"/>
              </a:solidFill>
              <a:latin typeface="Arial"/>
            </a:endParaRPr>
          </a:p>
        </p:txBody>
      </p:sp>
      <p:sp>
        <p:nvSpPr>
          <p:cNvPr id="31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FA5B-94C7-437B-BB3C-30A1040E2DAD}"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ypes of Law</a:t>
            </a:r>
            <a:endParaRPr b="0" lang="en-US" sz="3600" spc="-1" strike="noStrike">
              <a:solidFill>
                <a:srgbClr val="222222"/>
              </a:solidFill>
              <a:latin typeface="Arial"/>
            </a:endParaRPr>
          </a:p>
        </p:txBody>
      </p:sp>
      <p:sp>
        <p:nvSpPr>
          <p:cNvPr id="31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vil: governs nation or state; manages relationships/conflicts between organizational entities and peop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minal: addresses violations harmful to society; actively enforced by the st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vate: regulates relationships between individuals and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blic: regulates structure/administration of government agencies and relationships with citizens, employees, and other governments</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nciples of Information Security, 4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C42F-C42E-42BA-ABB9-A453BE68039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Tim Walker</cp:lastModifiedBy>
  <dcterms:modified xsi:type="dcterms:W3CDTF">2010-11-21T03:46:05Z</dcterms:modified>
  <cp:revision>58</cp:revision>
  <dc:subject/>
  <dc:title>Principals of Information Security,  Fourth Edition</dc:title>
</cp:coreProperties>
</file>