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27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FF4B-30D0-4315-9A55-703AB6CB1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9AAA-5767-4E8F-AEC4-277966CA4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6B966E5-A8C6-47D6-AE5A-825DACC6C6F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5A4DF54-9F28-436C-A086-0C3DD5F1334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PlaceHolder 1"/>
          <p:cNvSpPr>
            <a:spLocks noGrp="1"/>
          </p:cNvSpPr>
          <p:nvPr>
            <p:ph type="body"/>
          </p:nvPr>
        </p:nvSpPr>
        <p:spPr>
          <a:xfrm>
            <a:off x="914400" y="4343040"/>
            <a:ext cx="5029200" cy="5521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Relevant U.S. Laws - General Computer Crime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mputer Fraud and Abuse Act of 1986 is the cornerstone of many computer-related federal laws and enforcement effo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was amended in October 1996 with the National Information Infrastructure Protection Act of 1996, which modified several sections of the CFA and increased the penalties for selected cr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SA Patriot Act of 2001 modified a wide range of existing laws to provide law enforcement agencies with a broader latitude of actions to combat terrorism-related activ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mmunication Act of 1934 was revised by the Telecommunications Deregulation and Competition Act of 1996, which attempts to modernize the archaic terminology of the older 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se much-needed updates of terminology were included as part of the Communications Decency Act (C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DA was immediately ensnared in a thorny legal debate over the attempt to define indecency, and ultimately rejected by the Supreme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other key law that is of critical importance for the information security profession is the Computer Security Act of 198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was one of the first attempts to protect federal computer systems by establishing minimum acceptable security pract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National Bureau of Standards, in cooperation with the National Security Agency, became responsible for developing these security standards and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31F2610-74EA-441F-B636-A9AF1EE12A2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iv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ssue of privacy has become one of the hottest topics in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bility to collect information on an individual, combine facts from separate sources, and merge it with other information has resulted in databases of information that were previously impossible to set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ggregation of data from multiple sources permits unethical organizations to build databases of facts with frightening capa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11B321E-2EDA-45DB-9F5C-8C8B117D0D7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8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body"/>
          </p:nvPr>
        </p:nvSpPr>
        <p:spPr>
          <a:xfrm>
            <a:off x="914400" y="4343040"/>
            <a:ext cx="5029200" cy="9016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ivacy of Customer Informa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Privacy of Customer Information Section of Common Carrier regulation specifies that any proprietary information shall be used explicitly for providing services, and not for any marketing purpose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stipulates that carriers cannot disclose this information except when necessary to provide their servic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only other exception is when a customer requests the disclosure of information, and then the disclosure is restricted to that customer’s information on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ederal Privacy Act of 1974 regulates the government in the protection of individual privacy and was created to insure that government agencies protect the privacy of individuals’ and businesses’ information and to hold those agencies responsible if any portion of this information is released without permi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lectronic Communications Privacy Act of 1986 regulates the interception of wire, electronic, and oral communications. The ECPA works in conjunction with the Fourth Amendment of the US Constitution, which provides protections from unlawful search and seizur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Health Insurance Portability &amp; Accountability Act Of 1996 (HIPAA), also known as the Kennedy-Kassebaum Act, impacts all health-care organizations including small doctor practices, health clinics, life insurers and universities, as well as some organizations which have self-insured employee health program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t requires organizations that retain health-care information to use information security mechanisms to protect this information, as well as policies and procedures to maintain this securi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requires a comprehensive assessment of the organization's information security systems, policies, and proced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is no specification of particular security technologies for each of the security requirements; only that security must be implemented to ensure the privacy of the health-ca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privacy standards of HIPAA severely restrict the dissemination and distribution of private health information without documented con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tandards provide patients the right to know who has access to their information and who has accessed it and also restrict the use of health information to the minimum required for the healthcare services required.</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inancial Services Modernization Act or Gramm-Leach-Bliley Act of 1999 requires all financial institutions to disclose their privacy policies on the sharing of nonpublic personal informa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requires due notice to customers so that they can request that their information not be shared with third parti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t ensures that the privacy policies in effect in an organization are fully disclosed when a customer initiates a business relationship, as well as distributed at least annually for the duration of the professional asso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B457740-C2AF-4300-93F3-D96CAE15FAF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970E9CF-BB1A-4702-A96B-55C413D97B4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xport And Espionage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an attempt to protect American ingenuity, intellectual property, and competitive advantage, Congress passed the </a:t>
            </a:r>
            <a:r>
              <a:rPr b="1" lang="en-GB" sz="1200" spc="-1" strike="noStrike">
                <a:solidFill>
                  <a:srgbClr val="000000"/>
                </a:solidFill>
                <a:latin typeface="Calibri"/>
                <a:ea typeface="Lucida Sans Unicode"/>
              </a:rPr>
              <a:t>Economic Espionage Act</a:t>
            </a:r>
            <a:r>
              <a:rPr b="0" lang="en-GB" sz="1200" spc="-1" strike="noStrike">
                <a:solidFill>
                  <a:srgbClr val="000000"/>
                </a:solidFill>
                <a:latin typeface="Calibri"/>
                <a:ea typeface="Lucida Sans Unicode"/>
              </a:rPr>
              <a:t> (EEA) in 1996. This law attempts to prevent trade secrets from being illegally sh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t>
            </a:r>
            <a:r>
              <a:rPr b="1" lang="en-GB" sz="1200" spc="-1" strike="noStrike">
                <a:solidFill>
                  <a:srgbClr val="000000"/>
                </a:solidFill>
                <a:latin typeface="Calibri"/>
                <a:ea typeface="Lucida Sans Unicode"/>
              </a:rPr>
              <a:t>Security And Freedom Through Encryption Act</a:t>
            </a:r>
            <a:r>
              <a:rPr b="0" lang="en-GB" sz="1200" spc="-1" strike="noStrike">
                <a:solidFill>
                  <a:srgbClr val="000000"/>
                </a:solidFill>
                <a:latin typeface="Calibri"/>
                <a:ea typeface="Lucida Sans Unicode"/>
              </a:rPr>
              <a:t> </a:t>
            </a:r>
            <a:r>
              <a:rPr b="1" lang="en-GB" sz="1200" spc="-1" strike="noStrike">
                <a:solidFill>
                  <a:srgbClr val="000000"/>
                </a:solidFill>
                <a:latin typeface="Calibri"/>
                <a:ea typeface="Lucida Sans Unicode"/>
              </a:rPr>
              <a:t>of 1997</a:t>
            </a:r>
            <a:r>
              <a:rPr b="0" lang="en-GB" sz="1200" spc="-1" strike="noStrike">
                <a:solidFill>
                  <a:srgbClr val="000000"/>
                </a:solidFill>
                <a:latin typeface="Calibri"/>
                <a:ea typeface="Lucida Sans Unicode"/>
              </a:rPr>
              <a:t> (SAFE) was an attempt by Congress to provide guidance on the use of encryption and provided measures of public protection from government inter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A35EBA6-9F96-4FD5-9908-DB6E4B733E8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3E2E0B7-7798-45AE-93D1-27EA18BB5D2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pon completion of this chapter the student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US" sz="1200" spc="-1" strike="noStrike">
                <a:solidFill>
                  <a:srgbClr val="000000"/>
                </a:solidFill>
                <a:latin typeface="Calibri"/>
                <a:ea typeface="Lucida Sans Unicode"/>
              </a:rPr>
              <a:t>Describe the functions of and relationships among laws, regulations, and professional organizations in information securit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Differentiate between laws and ethics</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Identify major national laws that affect the practice of information security</a:t>
            </a:r>
            <a:endParaRPr b="0" lang="en-US" sz="1200" spc="-1" strike="noStrike">
              <a:solidFill>
                <a:srgbClr val="000000"/>
              </a:solidFill>
              <a:latin typeface="Calibri"/>
            </a:endParaRPr>
          </a:p>
          <a:p>
            <a:pPr>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Explain the role of culture as it applies to ethics in information security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528B69D-E08A-4622-9282-3B5FD8416DE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U.S. Copyright La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tellectual property is recognized as a protected asset in the U.S. U.S. copyright law extends this right to the published word, including electronic form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air use of copyrighted materials includes the use to support news reporting, teaching, scholarship, and a number of other related permissions, so long as the purpose of the use is for educational or library purposes, not for profit, and is not excess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F7CA652-9A5F-47AA-A02C-EAE25F9833C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B3C1BCD-AB25-4C9F-BE79-DB14260FBA6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Freedom of Information Act of 1966 (FO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reedom of Information Act provides any person with the right to request access to federal agency records or information not determined to be a matter of national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S. government agencies are required to disclose any requested information on receipt of a written re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re are exceptions for information that is protected from disclosure, and the act does not apply to state or local government agencies or to private businesses or individuals, although many states have their own version of the FO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ECEC36E-EDAB-445D-99BC-D8317B196E7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tate &amp; Local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n addition to the national and international restrictions placed on an organization in the use of computer technology, each state or locality may have a number of laws and regulations that impact ope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the responsibility of the information security professional to understand state laws and regulations and insure the organization’s security policies and procedures comply with those laws and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6B052D3-E6A3-44E8-B09D-0EA311A9EFB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92ECABA-165A-4C83-BC55-50F789458FE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ernational Laws and Legal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Recently the Council of Europe drafted the European Council Cyber-Crime Convention, designed to create an international task force to oversee a range of security functions associated with Internet activities and to standardize technology laws across international bord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also attempts to improve the effectiveness of international investigations into breaches of technology la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nvention is well received by advocates of intellectual property rights with its emphasis on copyright infringement prosec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E8E4819-671B-409C-84C2-6D2F138136B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A32254F-B784-4259-871A-105C7812CE6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igital Millennium Copyright Act (DMCA)</a:t>
            </a:r>
            <a:r>
              <a:rPr b="1" lang="ar-SA" sz="1200" spc="-1" strike="noStrike">
                <a:solidFill>
                  <a:srgbClr val="000000"/>
                </a:solidFill>
                <a:latin typeface="Calibri"/>
                <a:ea typeface="Times New Roman"/>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Digital Millennium Copyright Act (DMCA) is the U.S. version of an international effort to reduce the impact of copyright, trademark, and privacy infringement especially through the removal of technological copyright protection meas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European Union also put forward Directive 95/46/EC that increases protection of individuals with regard to the processing of personal data and the free movement of such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nited Kingdom has already implemented a version of this directive called the Database 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DFFE34A-FEA1-4C2A-B88E-AD8B8CD499C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a future information security professional, it is vital that you understand the scope of an organization’s legal and ethical responsibil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o minimize liabilities and reduce risks from electronic, physical threats and reduce the losses from legal action, the information security practitioner must understand the current legal environment, stay current as new laws and regulations emerge, and watch for issues that need attention.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CB4E30E-B331-4AAD-BB72-548DAAE9A91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thical Concepts in Information Security</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t>
            </a:r>
            <a:r>
              <a:rPr b="0" lang="en-GB" sz="1200" spc="-1" strike="noStrike">
                <a:solidFill>
                  <a:srgbClr val="000000"/>
                </a:solidFill>
                <a:latin typeface="Calibri"/>
                <a:ea typeface="Lucida Sans Unicode"/>
              </a:rPr>
              <a:t>The Ten Commandments of Computer Ethics from The Computer Ethics Institute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 Thou shalt not use a computer to harm other people.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2. Thou shalt not interfere with other people's computer work.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3. Thou shalt not snoop around in other people's computer file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4. Thou shalt not use a computer to steal.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5. Thou shalt not use a computer to bear false witnes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6. Thou shalt not copy or use proprietary software for which you have not paid.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7. Thou shalt not use other people's computer resources without authorization or proper compensation.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8. Thou shalt not appropriate other people's intellectual outpu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9. Thou shalt think about the social consequences of the program you are writing or the system you are designing.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10. Thou shalt always use a computer in ways that insure consideration and respect for your fellow hum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71E328F-5885-4D24-85E8-9CDAE82E1F4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2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ultural Differences in Ethical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With regard to computer use, differences in cultures cause problems in determining what is ethical and what is not eth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tudies of ethical sensitivity to computer use reveal that individuals of different nationalities have different perspectives on eth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ifficulties arise when one nationality’s ethical behavior contradicts that of another national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29F85A3-2CB7-4524-A8ED-A495DF9516A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Ethics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mployees must be trained and kept aware in a number of topics related to information security, not the least of which is the expected behaviors of an ethical employ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is especially important in areas of information security, as many employees may not have the formal technical training to understand that their behavior is unethical or even illegal. Proper ethical and legal training is vital to creating an informed, well prepared, and low-risk system u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2D7850C-DF04-450E-8265-099C39123B3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Deterrence To Unethical and Illegal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Deterrence is the best method for preventing an illegal or unethical activity. Laws, policies, and technical controls are all examples of deterr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However, it is generally agreed that laws and policies and their associated penalties only deter if three conditions are present.</a:t>
            </a:r>
            <a:endParaRPr b="0" lang="en-US" sz="1200" spc="-1" strike="noStrike">
              <a:solidFill>
                <a:srgbClr val="000000"/>
              </a:solidFill>
              <a:latin typeface="Calibri"/>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Fear of penalty </a:t>
            </a:r>
            <a:endParaRPr b="0" lang="en-US" sz="1200" spc="-1" strike="noStrike">
              <a:solidFill>
                <a:srgbClr val="000000"/>
              </a:solidFill>
              <a:latin typeface="Calibri"/>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bability of being caught </a:t>
            </a:r>
            <a:endParaRPr b="0" lang="en-US" sz="1200" spc="-1" strike="noStrike">
              <a:solidFill>
                <a:srgbClr val="000000"/>
              </a:solidFill>
              <a:latin typeface="Calibri"/>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bability of penalty being administ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716CE345-D4D1-4362-BE85-3F7146D3CD9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odes Of Ethics, Certifications, and Professional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number of professional organizations have established codes of conduct and/or codes of ethics that members are expected to foll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Codes of ethics can have a positive effect on an individual’s judgment regarding computer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Unfortunately, having a code of ethics is not enough, because many employers do not encourage their employees to join these professional organiz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It is the responsibility of security professionals to act ethically and according to the policies and procedures of their employer, their professional organization, and the laws of socie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AA8697F-76CA-481E-88F0-F03B03F1A1F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Association of Computing Machinery</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M (www.acm.org) is a respected professional society, originally established in 1947 as “the world's first educational and scientific computing socie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ACM’s code of ethics requires members to perform their duties in a manner befitting an ethical computing professional.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de contains specific references to protecting the confidentiality of information, causing no harm, protecting the privacy of others, and respecting the intellectual property and copyrights of ot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EF534DF-A200-4A6C-AA83-9C1B0058F17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ternational Information Systems Security Certification Consortium</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SC)</a:t>
            </a:r>
            <a:r>
              <a:rPr b="0" lang="en-GB" sz="1200" spc="-1" strike="noStrike" baseline="30000">
                <a:solidFill>
                  <a:srgbClr val="000000"/>
                </a:solidFill>
                <a:latin typeface="Calibri"/>
                <a:ea typeface="Lucida Sans Unicode"/>
              </a:rPr>
              <a:t>2</a:t>
            </a:r>
            <a:r>
              <a:rPr b="0" lang="en-GB" sz="1200" spc="-1" strike="noStrike">
                <a:solidFill>
                  <a:srgbClr val="000000"/>
                </a:solidFill>
                <a:latin typeface="Calibri"/>
                <a:ea typeface="Lucida Sans Unicode"/>
              </a:rPr>
              <a:t> (www.isc2.org) is a nonprofit organization that focuses on the development and implementation of information security certifications and credential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code of ethics put forth by (ISC)</a:t>
            </a:r>
            <a:r>
              <a:rPr b="0" lang="en-GB" sz="1200" spc="-1" strike="noStrike" baseline="30000">
                <a:solidFill>
                  <a:srgbClr val="000000"/>
                </a:solidFill>
                <a:latin typeface="Calibri"/>
                <a:ea typeface="Lucida Sans Unicode"/>
              </a:rPr>
              <a:t>2</a:t>
            </a:r>
            <a:r>
              <a:rPr b="0" lang="en-GB" sz="1200" spc="-1" strike="noStrike">
                <a:solidFill>
                  <a:srgbClr val="000000"/>
                </a:solidFill>
                <a:latin typeface="Calibri"/>
                <a:ea typeface="Lucida Sans Unicode"/>
              </a:rPr>
              <a:t> is primarily designed for information security professionals who have earned a certification from (ISC)</a:t>
            </a:r>
            <a:r>
              <a:rPr b="0" lang="en-GB" sz="1200" spc="-1" strike="noStrike" baseline="30000">
                <a:solidFill>
                  <a:srgbClr val="000000"/>
                </a:solidFill>
                <a:latin typeface="Calibri"/>
                <a:ea typeface="Lucida Sans Unicode"/>
              </a:rPr>
              <a:t>2</a:t>
            </a:r>
            <a:r>
              <a:rPr b="0" lang="en-GB" sz="1200" spc="-1" strike="noStrike">
                <a:solidFill>
                  <a:srgbClr val="000000"/>
                </a:solidFill>
                <a:latin typeface="Calibri"/>
                <a:ea typeface="Lucida Sans Unicode"/>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code focuses on four mandatory canons: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tect society, the commonwealth, and the infrastructure;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ct honorably, honestly, justly, responsibly, and legally;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Provide diligent and competent service to principals; and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dvance and protect the prof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4196079-9658-4EDF-89E3-64E07D23764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System Administration, Networking, and Security Instit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ystem Administration, Networking, and Security Institute, or SANS (www.sans.org), is a professional organization with a large membership dedicated to the protection of information and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ANS offers a set of certifications called the Global Information Assurance Certification or GIA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1FE02C9-695E-4067-ABFD-954490B6452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Information Systems Audit and Control Association</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nformation Systems Audit and Control Association or ISACA (www.isaca.org) is a professional association with a focus on auditing, control, and security.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lthough it does not focus exclusively on information security, the Certified Information Systems Auditor or CISA certification does contain many information security components.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ISACA also has a code of ethics for its professionals. It requires many of the same high standards for ethical performance as the other organizations and certif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CC76752-BB6C-47D8-B0CF-735687E64BC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6CDA6EB-78D2-4C4B-9E0E-B99A550426A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Law and Ethics in Information Security</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s individuals we elect to trade some aspects of personal freedom for social order.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Laws are rules adopted for determining expected behavior in modern society and are drawn from ethics, which define socially acceptable behaviors.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thics in turn are based on cultural mores: fixed moral attitudes or customs of a particular group.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Some ethics are recognized as universal among cultures.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95E0CBD-8EE2-4206-A11C-95A9A68BB4D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KEY U.S. FEDERAL AGENCIES</a:t>
            </a:r>
            <a:endParaRPr b="0" lang="en-US" sz="12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Federal Bureau of Investigation’s National Infrastructure Protection Center (NIPC) (www.nipc.gov) was established in 1998 and serves as the U.S. government's focal point for threat assessment, warning, investigation, and response for threats or attacks against critical U.S. infrastructures.  </a:t>
            </a:r>
            <a:endParaRPr b="0" lang="en-US" sz="12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 key part of the NIPC’s efforts to educate, train, inform, and involve the business and public sector in information security is the National InfraGard Program.  </a:t>
            </a:r>
            <a:endParaRPr b="0" lang="en-US" sz="12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Established in January of 2001, the National InfraGard Program began as a cooperative effort between the FBI’s Cleveland Field Office and local technology professionals.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Another key federal agency is the National Security Agency (NSA). The NSA is “the Nation's cryptologic organization. It coordinates, directs, and performs highly specialized activities to protect U.S. information systems and produce foreign intelligence information”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NSA is responsible for signal intelligence and information system security.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U.S. Secret Service is a department within the Department of the Treasury.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e Secret Service is also charged with the detection and arrest of any person committing a U.S. federal offense relating to computer fraud and false identification crimes.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Lucida Sans Unicode"/>
              </a:rPr>
              <a:t>This represents an extension of the original mission of protecting U.S. currency-related issues to areas of communications fraud and abuse.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A07A4E8-2133-41D6-86E9-4EDAECAACDF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220A096-DD1A-4A88-9805-B184EFE1688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59F28607-F0C4-49F0-9557-371AF93FF18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5A6741D-1CEB-4856-BFE7-B288AECE0A7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FF5EF75C-6CF0-4B01-8D6F-25E88663583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C48522D-7993-4A05-A076-7C1AB855D86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6D02E35-C178-4F65-891B-A3C27E42082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47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1"/>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ypes of Law</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ivil law</a:t>
            </a:r>
            <a:r>
              <a:rPr b="0" lang="en-GB" sz="1200" spc="-1" strike="noStrike">
                <a:solidFill>
                  <a:srgbClr val="000000"/>
                </a:solidFill>
                <a:latin typeface="Calibri"/>
                <a:ea typeface="Lucida Sans Unicode"/>
              </a:rPr>
              <a:t> represents a wide variety of laws that are recorded in volumes of legal “code” available for review by the average citizen.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Criminal law</a:t>
            </a:r>
            <a:r>
              <a:rPr b="0" lang="en-GB" sz="1200" spc="-1" strike="noStrike">
                <a:solidFill>
                  <a:srgbClr val="000000"/>
                </a:solidFill>
                <a:latin typeface="Calibri"/>
                <a:ea typeface="Lucida Sans Unicode"/>
              </a:rPr>
              <a:t> addresses violations harmful to society and is actively enforced through prosecution by the state.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Tort law</a:t>
            </a:r>
            <a:r>
              <a:rPr b="0" lang="en-GB" sz="1200" spc="-1" strike="noStrike">
                <a:solidFill>
                  <a:srgbClr val="000000"/>
                </a:solidFill>
                <a:latin typeface="Calibri"/>
                <a:ea typeface="Lucida Sans Unicode"/>
              </a:rPr>
              <a:t> allows individuals to seek recourse against others in the event of personal, physical, or financial injury.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rivate law</a:t>
            </a:r>
            <a:r>
              <a:rPr b="0" lang="en-GB" sz="1200" spc="-1" strike="noStrike">
                <a:solidFill>
                  <a:srgbClr val="000000"/>
                </a:solidFill>
                <a:latin typeface="Calibri"/>
                <a:ea typeface="Lucida Sans Unicode"/>
              </a:rPr>
              <a:t> regulates the relationship between the individual and the organization, and encompasses family law, commercial law, and labor law.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Lucida Sans Unicode"/>
              </a:rPr>
              <a:t>Public law</a:t>
            </a:r>
            <a:r>
              <a:rPr b="0" lang="en-GB" sz="1200" spc="-1" strike="noStrike">
                <a:solidFill>
                  <a:srgbClr val="000000"/>
                </a:solidFill>
                <a:latin typeface="Calibri"/>
                <a:ea typeface="Lucida Sans Unicode"/>
              </a:rPr>
              <a:t> regulates the structure and administration of government agencies and their relationships with citizens, employees, and other governments, providing careful checks and balances. Examples of public law include criminal, administrative, and constitutional law.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1F8FE4-0301-47B7-A6CF-6EABB532E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0E0409-092F-40DA-8700-DE23A4AC7E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1BC6B5-BBE5-44F7-BC52-05EAE4EFDF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D85B69-7F7C-4F49-96F2-0E0E599533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2"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4"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022D8C-8359-494D-ABDA-8B5C4BB6F2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7"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9"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1"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4"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5"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74976C-6860-436F-8ACF-CAF0D1938F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7D7F48-F6C8-478B-B8A6-58D3821AE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24B274-2D91-4B89-8C3C-362EA8972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B597B2-D13B-40EB-899F-03A76B8AC0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808CDB-E6AA-4BA6-86CC-6159F12CC3E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7EE92B-7A15-40DE-82AB-476ECB880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9B509-FC8B-421E-935A-4F528E9EC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55E5F-BC25-421F-A993-6BC90F3D13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387FD-D4E7-4A06-B85C-3CAD42F8A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1505E-EF6F-42EA-AA80-17992226B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3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3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98D2C-4149-4A26-B3EC-063713762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9BC50F-39AD-4CA4-866B-D46D049E56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4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2860DC-E0E5-4323-ACDA-FF73F74537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87A4B3-9057-41DB-9593-76BD8CB21B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89FDF2E-F034-4DF9-8752-6E07654EEA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8F129D-08C0-4ADA-AD0B-B002C672916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0"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CEC585-756F-4631-B35B-C4F04BCDE0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2"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3E0BA4-C646-4025-9E95-E07118EE25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44529C-7E01-4456-9FBD-942DFD45E2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80B978-1EF4-43C1-B21D-4FA84FE68D1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12EA7B-2828-487A-A350-05A73E963F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6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D20695-7270-42C4-9B76-A7F000EFA8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3"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5"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1A0712-49A8-4B0B-AE10-FA11E3861A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7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8"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79"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529BB6-7F95-4058-9BF5-7FA902BD80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2"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F050B1-E472-4079-9DF6-F2D800E3FA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87"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AD79988-0E71-4FDF-B1AB-F1BB3B9A9BB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40B422-04E7-4369-9DBE-A0146A6966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0"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1"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2"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3"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584B003-93D1-486F-B4A0-9D6891B82B4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05FB0CA-716B-42A8-86B4-76E4C18A533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9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7846AA39-DC85-4B51-9049-CF2574376B9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sldNum" idx="9"/>
          </p:nvPr>
        </p:nvSpPr>
        <p:spPr/>
        <p:txBody>
          <a:bodyPr/>
          <a:p>
            <a:fld id="{FEA75D16-A01D-4720-9889-92E99E6A3D5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B5162397-D40C-4A69-8272-B9C9D0ACE56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sldNum" idx="9"/>
          </p:nvPr>
        </p:nvSpPr>
        <p:spPr/>
        <p:txBody>
          <a:bodyPr/>
          <a:p>
            <a:fld id="{0A3654ED-68A8-4F24-BFAF-AA7CEEABA32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sldNum" idx="9"/>
          </p:nvPr>
        </p:nvSpPr>
        <p:spPr/>
        <p:txBody>
          <a:bodyPr/>
          <a:p>
            <a:fld id="{31FD3196-0823-4272-9D66-23A3275248E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855CCB2E-5D24-4B98-A930-6487A5489F4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5157C44F-98E7-4A35-8718-E78A230359E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1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sldNum" idx="9"/>
          </p:nvPr>
        </p:nvSpPr>
        <p:spPr/>
        <p:txBody>
          <a:bodyPr/>
          <a:p>
            <a:fld id="{4D8B455C-1B0A-468C-BDEB-3702C5D4BC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01890E-BC3A-4180-99EB-453D2D306FD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1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sldNum" idx="9"/>
          </p:nvPr>
        </p:nvSpPr>
        <p:spPr/>
        <p:txBody>
          <a:bodyPr/>
          <a:p>
            <a:fld id="{7B39285C-99D6-4E66-B276-C20FDC06672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sldNum" idx="9"/>
          </p:nvPr>
        </p:nvSpPr>
        <p:spPr/>
        <p:txBody>
          <a:bodyPr/>
          <a:p>
            <a:fld id="{4D7B4334-AC7F-4B02-9892-9B8A43AD6C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2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sldNum" idx="9"/>
          </p:nvPr>
        </p:nvSpPr>
        <p:spPr/>
        <p:txBody>
          <a:bodyPr/>
          <a:p>
            <a:fld id="{D4AB0630-0172-4CEC-B42D-599260B1DD6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9418E7C-A674-44AE-A727-7BBC5DAB32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38"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0799A84-2098-4B7E-A4F4-57B02CA17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23B0D2F-53F1-47F7-9037-0935320460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2"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3"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F73416-3173-4A93-8815-9C26486C77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8B1C5E-80B4-4DFA-B3FB-0A4A478CC0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1BBE91-86B9-4342-8906-E6E4541D4F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47"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8"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9"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6AF8FD-B26B-49EB-AAA9-77009A8A2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183E49-4B3E-467A-8095-63546CBB1A4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3"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D299140-FF54-432E-805F-8D01DB0179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6"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9A548A-0619-45A1-8152-9E2D78A1A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59"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0"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460BBD7-8C7B-419F-A1A4-3C0016E6A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4"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5"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0DAE62E-2E91-4EC2-B4D1-6D0F4A4B79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8"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0"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1"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2"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6B8514D-4918-4AB8-8851-D9EC144972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909C79-1C38-4946-9710-BFB4BC044D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Principals of Information Security, Fou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F87F-3F96-48FF-902A-E3630E663C65}"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78"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16"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2ECD2-5BB6-461E-83D1-C7EC3E5583F7}"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17"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ly Visual Basic: Programming with Visual Basic 2008Guide to Microsoft Virtual PC 2005 and Virtual Server 2007</a:t>
            </a:r>
            <a:endParaRPr b="0" lang="en-US" sz="2400" spc="-1" strike="noStrike">
              <a:solidFill>
                <a:srgbClr val="000000"/>
              </a:solidFill>
              <a:latin typeface="Times New Roman"/>
            </a:endParaRPr>
          </a:p>
        </p:txBody>
      </p:sp>
      <p:sp>
        <p:nvSpPr>
          <p:cNvPr id="118"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20C1-3830-4645-B49C-C115DE018C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56" name="PlaceHolder 2"/>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04F3-C329-4DBF-90A8-A720BAF0174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57"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E46F-2FD5-41C2-B406-6D53336711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96" name="PlaceHolder 2"/>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2282-DE8E-4CB7-903F-D02AFD4AAC9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234" name="PlaceHolder 2"/>
          <p:cNvSpPr>
            <a:spLocks noGrp="1"/>
          </p:cNvSpPr>
          <p:nvPr>
            <p:ph type="dt" idx="10"/>
          </p:nvPr>
        </p:nvSpPr>
        <p:spPr>
          <a:xfrm>
            <a:off x="38098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DD2E-2FCD-4378-8DD7-5E62AA7C21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6" name="PlaceHolder 4"/>
          <p:cNvSpPr>
            <a:spLocks noGrp="1"/>
          </p:cNvSpPr>
          <p:nvPr>
            <p:ph type="ftr" idx="12"/>
          </p:nvPr>
        </p:nvSpPr>
        <p:spPr>
          <a:xfrm>
            <a:off x="685440" y="617220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 Architecture, Sixth Edi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066320"/>
            <a:ext cx="8001000" cy="22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2222"/>
                </a:solidFill>
                <a:latin typeface="Arial"/>
              </a:rPr>
              <a:t>Principals of Information Security, </a:t>
            </a:r>
            <a:br>
              <a:rPr sz="4400"/>
            </a:br>
            <a:r>
              <a:rPr b="1" lang="en-US" sz="4400" spc="-1" strike="noStrike">
                <a:solidFill>
                  <a:srgbClr val="222222"/>
                </a:solidFill>
                <a:latin typeface="Arial"/>
              </a:rPr>
              <a:t>Fourth Edition</a:t>
            </a:r>
            <a:endParaRPr b="0" lang="en-US" sz="4400" spc="-1" strike="noStrike">
              <a:solidFill>
                <a:srgbClr val="222222"/>
              </a:solidFill>
              <a:latin typeface="Arial"/>
            </a:endParaRPr>
          </a:p>
        </p:txBody>
      </p:sp>
      <p:sp>
        <p:nvSpPr>
          <p:cNvPr id="281" name="PlaceHolder 2"/>
          <p:cNvSpPr>
            <a:spLocks noGrp="1"/>
          </p:cNvSpPr>
          <p:nvPr>
            <p:ph type="subTitle"/>
          </p:nvPr>
        </p:nvSpPr>
        <p:spPr>
          <a:xfrm>
            <a:off x="609120" y="3200400"/>
            <a:ext cx="8077320" cy="144792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3</a:t>
            </a:r>
            <a:endParaRPr b="0" lang="en-US" sz="3400" spc="-1" strike="noStrike">
              <a:solidFill>
                <a:srgbClr val="222222"/>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Legal, Ethical, and Professional</a:t>
            </a:r>
            <a:endParaRPr b="0" lang="en-US" sz="3400" spc="-1" strike="noStrike">
              <a:solidFill>
                <a:srgbClr val="222222"/>
              </a:solidFill>
              <a:latin typeface="Arial"/>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Issues in Information Security</a:t>
            </a:r>
            <a:endParaRPr b="0" lang="en-US" sz="3400" spc="-1" strike="noStrike">
              <a:solidFill>
                <a:srgbClr val="222222"/>
              </a:solidFill>
              <a:latin typeface="Arial"/>
            </a:endParaRPr>
          </a:p>
        </p:txBody>
      </p:sp>
      <p:pic>
        <p:nvPicPr>
          <p:cNvPr id="282" name="Picture 3" descr="Cengage_1.jpg"/>
          <p:cNvPicPr/>
          <p:nvPr/>
        </p:nvPicPr>
        <p:blipFill>
          <a:blip r:embed="rId1"/>
          <a:stretch/>
        </p:blipFill>
        <p:spPr>
          <a:xfrm>
            <a:off x="0" y="0"/>
            <a:ext cx="3666960" cy="914400"/>
          </a:xfrm>
          <a:prstGeom prst="rect">
            <a:avLst/>
          </a:prstGeom>
          <a:ln w="0">
            <a:noFill/>
          </a:ln>
        </p:spPr>
      </p:pic>
      <p:pic>
        <p:nvPicPr>
          <p:cNvPr id="283" name="Picture 3" descr=""/>
          <p:cNvPicPr/>
          <p:nvPr/>
        </p:nvPicPr>
        <p:blipFill>
          <a:blip r:embed="rId2"/>
          <a:srcRect l="0" t="-1074" r="0" b="7781"/>
          <a:stretch/>
        </p:blipFill>
        <p:spPr>
          <a:xfrm>
            <a:off x="3809880" y="5045040"/>
            <a:ext cx="5334120" cy="12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Relevant U.S. Laws</a:t>
            </a:r>
            <a:endParaRPr b="0" lang="en-US" sz="3600" spc="-1" strike="noStrike">
              <a:solidFill>
                <a:srgbClr val="222222"/>
              </a:solidFill>
              <a:latin typeface="Arial"/>
            </a:endParaRPr>
          </a:p>
        </p:txBody>
      </p:sp>
      <p:sp>
        <p:nvSpPr>
          <p:cNvPr id="31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nited States has been a leader in the development and implementation of information security legisl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mplementation of information security legislation contributes to a more reliable business environment and a stable econom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has demonstrated understanding of problems facing the information security field; has specified penalties for individuals and organizations failing to follow requirements set forth in U.S. civil statutes</a:t>
            </a:r>
            <a:endParaRPr b="0" lang="en-US" sz="2600" spc="-1" strike="noStrike">
              <a:solidFill>
                <a:srgbClr val="222222"/>
              </a:solidFill>
              <a:latin typeface="Arial"/>
            </a:endParaRPr>
          </a:p>
        </p:txBody>
      </p:sp>
      <p:sp>
        <p:nvSpPr>
          <p:cNvPr id="31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1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F29B-9B1E-4C85-9946-1B88D585556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General Computer Crime Laws</a:t>
            </a:r>
            <a:endParaRPr b="0" lang="en-US" sz="3600" spc="-1" strike="noStrike">
              <a:solidFill>
                <a:srgbClr val="222222"/>
              </a:solidFill>
              <a:latin typeface="Arial"/>
            </a:endParaRPr>
          </a:p>
        </p:txBody>
      </p:sp>
      <p:sp>
        <p:nvSpPr>
          <p:cNvPr id="321" name="PlaceHolder 2"/>
          <p:cNvSpPr>
            <a:spLocks noGrp="1"/>
          </p:cNvSpPr>
          <p:nvPr>
            <p:ph/>
          </p:nvPr>
        </p:nvSpPr>
        <p:spPr>
          <a:xfrm>
            <a:off x="533520" y="167652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Fraud and Abuse Act of 1986 (CFA Act): </a:t>
            </a:r>
            <a:r>
              <a:rPr b="0" lang="en-US" sz="2600" spc="-1" strike="noStrike">
                <a:solidFill>
                  <a:srgbClr val="222222"/>
                </a:solidFill>
                <a:latin typeface="Arial"/>
              </a:rPr>
              <a:t>cornerstone of many computer-related federal laws and enforcement efforts</a:t>
            </a:r>
            <a:r>
              <a:rPr b="0" lang="ar-SA" sz="2600" spc="-1" strike="noStrike">
                <a:solidFill>
                  <a:srgbClr val="222222"/>
                </a:solidFill>
                <a:latin typeface="Arial"/>
              </a:rPr>
              <a:t>‏</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ational Information Infrastructure Protection Act of 1996: </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dified several sections of the previous act and increased the penalties for selected crimes</a:t>
            </a:r>
            <a:endParaRPr b="0" lang="en-US" sz="24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verity of penalties judged on the purpose</a:t>
            </a:r>
            <a:endParaRPr b="0" lang="en-US" sz="24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or purposes of commercial advantage</a:t>
            </a:r>
            <a:endParaRPr b="0" lang="en-US" sz="22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or private financial gain</a:t>
            </a:r>
            <a:endParaRPr b="0" lang="en-US" sz="22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In furtherance of a criminal act</a:t>
            </a:r>
            <a:endParaRPr b="0" lang="en-US" sz="2200" spc="-1" strike="noStrike">
              <a:solidFill>
                <a:srgbClr val="222222"/>
              </a:solidFill>
              <a:latin typeface="Arial"/>
            </a:endParaRPr>
          </a:p>
        </p:txBody>
      </p:sp>
      <p:sp>
        <p:nvSpPr>
          <p:cNvPr id="32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2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494C-1ADC-48A0-9521-F38160D1DFC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General Computer Crime Laws (cont’d.)</a:t>
            </a:r>
            <a:endParaRPr b="0" lang="en-US" sz="3600" spc="-1" strike="noStrike">
              <a:solidFill>
                <a:srgbClr val="222222"/>
              </a:solidFill>
              <a:latin typeface="Arial"/>
            </a:endParaRPr>
          </a:p>
        </p:txBody>
      </p:sp>
      <p:sp>
        <p:nvSpPr>
          <p:cNvPr id="325" name=""/>
          <p:cNvSpPr txBox="1"/>
          <p:nvPr/>
        </p:nvSpPr>
        <p:spPr>
          <a:xfrm>
            <a:off x="533520" y="167652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A PATRIOT Act of 2001: </a:t>
            </a:r>
            <a:r>
              <a:rPr b="0" lang="en-US" sz="2600" spc="-1" strike="noStrike">
                <a:solidFill>
                  <a:srgbClr val="222222"/>
                </a:solidFill>
                <a:latin typeface="Arial"/>
              </a:rPr>
              <a:t>provides law enforcement agencies with broader latitude in order to combat terrorism-related activities</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A PATRIOT Improvement and Reauthorization Act: </a:t>
            </a:r>
            <a:r>
              <a:rPr b="0" lang="en-US" sz="2600" spc="-1" strike="noStrike">
                <a:solidFill>
                  <a:srgbClr val="222222"/>
                </a:solidFill>
                <a:latin typeface="Arial"/>
              </a:rPr>
              <a:t>made permanent fourteen of the sixteen expanded powers of the Department of Homeland Security and the FBI in investigating terrorist activity</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mputer Security Act of 1987: </a:t>
            </a:r>
            <a:r>
              <a:rPr b="0" lang="en-US" sz="2600" spc="-1" strike="noStrike">
                <a:solidFill>
                  <a:srgbClr val="222222"/>
                </a:solidFill>
                <a:latin typeface="Arial"/>
              </a:rPr>
              <a:t>one of the first attempts to protect federal computer systems by establishing minimum acceptable security practices</a:t>
            </a:r>
            <a:endParaRPr b="0" lang="en-US" sz="26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2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C2A8-A828-4D59-8B6B-70385D9904A7}"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a:t>
            </a:r>
            <a:endParaRPr b="0" lang="en-US" sz="3600" spc="-1" strike="noStrike">
              <a:solidFill>
                <a:srgbClr val="222222"/>
              </a:solidFill>
              <a:latin typeface="Arial"/>
            </a:endParaRPr>
          </a:p>
        </p:txBody>
      </p:sp>
      <p:sp>
        <p:nvSpPr>
          <p:cNvPr id="32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ne of the hottest topics in information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s a “state of being free from unsanctioned intrus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bility to aggregate data from multiple sources allows creation of information databases previously impossib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number of statutes addressing an individual’s right to privacy has grown</a:t>
            </a:r>
            <a:endParaRPr b="0" lang="en-US" sz="2600" spc="-1" strike="noStrike">
              <a:solidFill>
                <a:srgbClr val="222222"/>
              </a:solidFill>
              <a:latin typeface="Arial"/>
            </a:endParaRPr>
          </a:p>
        </p:txBody>
      </p:sp>
      <p:sp>
        <p:nvSpPr>
          <p:cNvPr id="33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3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2D89-16C0-4591-AE16-0681117D0CC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 (cont’d.)</a:t>
            </a:r>
            <a:endParaRPr b="0" lang="en-US" sz="3600" spc="-1" strike="noStrike">
              <a:solidFill>
                <a:srgbClr val="222222"/>
              </a:solidFill>
              <a:latin typeface="Arial"/>
            </a:endParaRPr>
          </a:p>
        </p:txBody>
      </p:sp>
      <p:sp>
        <p:nvSpPr>
          <p:cNvPr id="33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Regulat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vacy of Customer Information Section of the common carrier regul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ederal Privacy Act of 1974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lectronic Communications Privacy Act of 1986</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Health Insurance Portability and Accountability Act of 1996 (HIPAA), aka Kennedy-Kassebaum A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inancial Services Modernization Act, or Gramm-Leach-Bliley Act of 1999</a:t>
            </a:r>
            <a:endParaRPr b="0" lang="en-US" sz="2400" spc="-1" strike="noStrike">
              <a:solidFill>
                <a:srgbClr val="222222"/>
              </a:solidFill>
              <a:latin typeface="Arial"/>
            </a:endParaRPr>
          </a:p>
        </p:txBody>
      </p:sp>
      <p:sp>
        <p:nvSpPr>
          <p:cNvPr id="33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3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2357-3398-4B85-B567-56F1896D0D8A}"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 (cont’d.)</a:t>
            </a:r>
            <a:endParaRPr b="0" lang="en-US" sz="3600" spc="-1" strike="noStrike">
              <a:solidFill>
                <a:srgbClr val="222222"/>
              </a:solidFill>
              <a:latin typeface="Arial"/>
            </a:endParaRPr>
          </a:p>
        </p:txBody>
      </p:sp>
      <p:sp>
        <p:nvSpPr>
          <p:cNvPr id="33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dentity Thef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ederal Trade Commission: “occurring when someone uses your personally identifying information, like your name, Social Security number, or credit card number, without your permission, to commit fraud or other crim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raud And Related Activity In Connection With Identification Documents, Authentication Features, And Information</a:t>
            </a:r>
            <a:r>
              <a:rPr b="0" lang="en-GB" sz="2400" spc="-1" strike="noStrike">
                <a:solidFill>
                  <a:srgbClr val="222222"/>
                </a:solidFill>
                <a:latin typeface="Arial"/>
              </a:rPr>
              <a:t>	</a:t>
            </a:r>
            <a:r>
              <a:rPr b="0" lang="en-GB" sz="2400" spc="-1" strike="noStrike">
                <a:solidFill>
                  <a:srgbClr val="222222"/>
                </a:solidFill>
                <a:latin typeface="Arial"/>
              </a:rPr>
              <a:t> (Title 18, U.S.C. § 1028)</a:t>
            </a:r>
            <a:r>
              <a:rPr b="0" lang="ar-SA" sz="2400" spc="-1" strike="noStrike">
                <a:solidFill>
                  <a:srgbClr val="222222"/>
                </a:solidFill>
                <a:latin typeface="Arial"/>
              </a:rPr>
              <a:t>‏</a:t>
            </a:r>
            <a:endParaRPr b="0" lang="en-US" sz="2400" spc="-1" strike="noStrike">
              <a:solidFill>
                <a:srgbClr val="222222"/>
              </a:solidFill>
              <a:latin typeface="Arial"/>
            </a:endParaRPr>
          </a:p>
        </p:txBody>
      </p:sp>
      <p:sp>
        <p:nvSpPr>
          <p:cNvPr id="33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3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6743D-5441-4979-BC9B-62F7C518A9E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rivacy (cont’d.)</a:t>
            </a:r>
            <a:endParaRPr b="0" lang="en-US" sz="3600" spc="-1" strike="noStrike">
              <a:solidFill>
                <a:srgbClr val="222222"/>
              </a:solidFill>
              <a:latin typeface="Arial"/>
            </a:endParaRPr>
          </a:p>
        </p:txBody>
      </p:sp>
      <p:sp>
        <p:nvSpPr>
          <p:cNvPr id="341"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f someone suspects identity thef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port to the three dominant consumer reporting companies that your identity is threatened</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count</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lose compromised account</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Dispute accounts opened without permission</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gister your concern with the FT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port the incident to either your local police or police in the location where the identity theft occurred</a:t>
            </a:r>
            <a:endParaRPr b="0" lang="en-US" sz="2400" spc="-1" strike="noStrike">
              <a:solidFill>
                <a:srgbClr val="222222"/>
              </a:solidFill>
              <a:latin typeface="Arial"/>
            </a:endParaRPr>
          </a:p>
        </p:txBody>
      </p:sp>
      <p:sp>
        <p:nvSpPr>
          <p:cNvPr id="34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58F5-CB22-4036-813C-29DF201B7FE2}"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Health Insurance Portability and Accountability Act of 1996 (HIPAA)</a:t>
            </a:r>
            <a:endParaRPr b="0" lang="en-US" sz="3600" spc="-1" strike="noStrike">
              <a:solidFill>
                <a:srgbClr val="222222"/>
              </a:solidFill>
              <a:latin typeface="Arial"/>
            </a:endParaRPr>
          </a:p>
        </p:txBody>
      </p:sp>
      <p:sp>
        <p:nvSpPr>
          <p:cNvPr id="34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tects the confidentiality and security of health care data by establishing and enforcing standards and by standardizing electronic data interchan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nsumer control of medical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oundaries on the use of medical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ccountability for the privacy of private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alance of public responsibility for the use of medical information for the greater good measured against impact to the individual</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urity of health informa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4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4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22A4-D607-4E86-9996-A95AF305EC80}"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xport and Espionage Laws</a:t>
            </a:r>
            <a:endParaRPr b="0" lang="en-US" sz="3600" spc="-1" strike="noStrike">
              <a:solidFill>
                <a:srgbClr val="222222"/>
              </a:solidFill>
              <a:latin typeface="Arial"/>
            </a:endParaRPr>
          </a:p>
        </p:txBody>
      </p:sp>
      <p:sp>
        <p:nvSpPr>
          <p:cNvPr id="34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conomic Espionage Act of 1996 (EEA)</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curity And Freedom Through Encryption Act of 1999 (SAFE)</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acts include provisions  about encryption th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inforce the right to use or sell encryption algorithms, without concern of key registr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hibit the federal government from requiring i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ke it not probable cause in criminal activ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lax export restric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dditional penalties for using it in a crime</a:t>
            </a:r>
            <a:endParaRPr b="0" lang="en-US" sz="2400" spc="-1" strike="noStrike">
              <a:solidFill>
                <a:srgbClr val="222222"/>
              </a:solidFill>
              <a:latin typeface="Arial"/>
            </a:endParaRPr>
          </a:p>
        </p:txBody>
      </p:sp>
      <p:sp>
        <p:nvSpPr>
          <p:cNvPr id="35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5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4A6A-B133-47B7-8E05-6025B26B5AF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5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7D4D-33EB-4279-8593-F8EA51F2A7F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54" name="Picture 5" descr=""/>
          <p:cNvPicPr/>
          <p:nvPr/>
        </p:nvPicPr>
        <p:blipFill>
          <a:blip r:embed="rId1"/>
          <a:stretch/>
        </p:blipFill>
        <p:spPr>
          <a:xfrm>
            <a:off x="371520" y="304920"/>
            <a:ext cx="8163000" cy="5029200"/>
          </a:xfrm>
          <a:prstGeom prst="rect">
            <a:avLst/>
          </a:prstGeom>
          <a:ln w="0">
            <a:noFill/>
          </a:ln>
        </p:spPr>
      </p:pic>
      <p:sp>
        <p:nvSpPr>
          <p:cNvPr id="355" name="Rectangle 5"/>
          <p:cNvSpPr/>
          <p:nvPr/>
        </p:nvSpPr>
        <p:spPr>
          <a:xfrm>
            <a:off x="2993040" y="5638680"/>
            <a:ext cx="352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 Export and Espionag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earning Objectives</a:t>
            </a:r>
            <a:endParaRPr b="0" lang="en-US" sz="3600" spc="-1" strike="noStrike">
              <a:solidFill>
                <a:srgbClr val="222222"/>
              </a:solidFill>
              <a:latin typeface="Arial"/>
            </a:endParaRPr>
          </a:p>
        </p:txBody>
      </p:sp>
      <p:sp>
        <p:nvSpPr>
          <p:cNvPr id="2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pon completion of this material, you should be able 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scribe the functions of and relationships among laws, regulations, and professional organizations in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fferentiate between laws and ethic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dentify major national laws that affect the practice of information securi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xplain the role of culture as it applies to ethics in information security</a:t>
            </a:r>
            <a:endParaRPr b="0" lang="en-US" sz="2400" spc="-1" strike="noStrike">
              <a:solidFill>
                <a:srgbClr val="222222"/>
              </a:solidFill>
              <a:latin typeface="Arial"/>
            </a:endParaRPr>
          </a:p>
        </p:txBody>
      </p:sp>
      <p:sp>
        <p:nvSpPr>
          <p:cNvPr id="28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8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BECD-60E9-4245-AFEE-1596B052F28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U.S. Copyright Law </a:t>
            </a:r>
            <a:endParaRPr b="0" lang="en-US" sz="3600" spc="-1" strike="noStrike">
              <a:solidFill>
                <a:srgbClr val="222222"/>
              </a:solidFill>
              <a:latin typeface="Arial"/>
            </a:endParaRPr>
          </a:p>
        </p:txBody>
      </p:sp>
      <p:sp>
        <p:nvSpPr>
          <p:cNvPr id="35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llectual property recognized as protected asset in the U.S.; copyright law extends to electronic forma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ith proper acknowledgment, permissible to include portions of others’ work as refere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Copyright Office Web site: www.copyright.gov</a:t>
            </a:r>
            <a:endParaRPr b="0" lang="en-US" sz="2600" spc="-1" strike="noStrike">
              <a:solidFill>
                <a:srgbClr val="222222"/>
              </a:solidFill>
              <a:latin typeface="Arial"/>
            </a:endParaRPr>
          </a:p>
        </p:txBody>
      </p:sp>
      <p:sp>
        <p:nvSpPr>
          <p:cNvPr id="35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5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9ABC-61B8-4AEF-A41B-916CF2843397}"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inancial Reporting</a:t>
            </a:r>
            <a:endParaRPr b="0" lang="en-US" sz="3600" spc="-1" strike="noStrike">
              <a:solidFill>
                <a:srgbClr val="222222"/>
              </a:solidFill>
              <a:latin typeface="Arial"/>
            </a:endParaRPr>
          </a:p>
        </p:txBody>
      </p:sp>
      <p:sp>
        <p:nvSpPr>
          <p:cNvPr id="36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arbanes-Oxley Act of 2002</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ffects executive management of publicly traded corporations and public accounting fir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eks to improve reliability and accuracy of financial reporting and increase the accountability of corporate governan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enalties for noncompliance range from fines to jail ter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liability assurance will require additional emphasis on confidentiality and integrity </a:t>
            </a:r>
            <a:endParaRPr b="0" lang="en-US" sz="2600" spc="-1" strike="noStrike">
              <a:solidFill>
                <a:srgbClr val="222222"/>
              </a:solidFill>
              <a:latin typeface="Arial"/>
            </a:endParaRPr>
          </a:p>
        </p:txBody>
      </p:sp>
      <p:sp>
        <p:nvSpPr>
          <p:cNvPr id="36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6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240F-A090-40DA-A07F-EE96537A42C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Freedom of Information Act of 1966 (FOIA) </a:t>
            </a:r>
            <a:endParaRPr b="0" lang="en-US" sz="3600" spc="-1" strike="noStrike">
              <a:solidFill>
                <a:srgbClr val="222222"/>
              </a:solidFill>
              <a:latin typeface="Arial"/>
            </a:endParaRPr>
          </a:p>
        </p:txBody>
      </p:sp>
      <p:sp>
        <p:nvSpPr>
          <p:cNvPr id="36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llows access to federal agency records or information not determined to be matter of national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government agencies required to disclose any requested information upon receipt of written reques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ome information protected from disclosure</a:t>
            </a:r>
            <a:endParaRPr b="0" lang="en-US" sz="2600" spc="-1" strike="noStrike">
              <a:solidFill>
                <a:srgbClr val="222222"/>
              </a:solidFill>
              <a:latin typeface="Arial"/>
            </a:endParaRPr>
          </a:p>
        </p:txBody>
      </p:sp>
      <p:sp>
        <p:nvSpPr>
          <p:cNvPr id="36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6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2F2F-C25D-484A-B845-B2EEE3B2503D}"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tate and Local Regulations</a:t>
            </a:r>
            <a:endParaRPr b="0" lang="en-US" sz="3600" spc="-1" strike="noStrike">
              <a:solidFill>
                <a:srgbClr val="222222"/>
              </a:solidFill>
              <a:latin typeface="Arial"/>
            </a:endParaRPr>
          </a:p>
        </p:txBody>
      </p:sp>
      <p:sp>
        <p:nvSpPr>
          <p:cNvPr id="36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trictions on organizational computer technology use exist at international, national, state, local leve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ecurity professional responsible for understanding state regulations and ensuring organization is compliant with regulations</a:t>
            </a:r>
            <a:endParaRPr b="0" lang="en-US" sz="2600" spc="-1" strike="noStrike">
              <a:solidFill>
                <a:srgbClr val="222222"/>
              </a:solidFill>
              <a:latin typeface="Arial"/>
            </a:endParaRPr>
          </a:p>
        </p:txBody>
      </p:sp>
      <p:sp>
        <p:nvSpPr>
          <p:cNvPr id="37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7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E49E2-B10B-4B07-BA07-D9DE7C11B72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ernational Laws and Legal Bodies</a:t>
            </a:r>
            <a:endParaRPr b="0" lang="en-US" sz="3600" spc="-1" strike="noStrike">
              <a:solidFill>
                <a:srgbClr val="222222"/>
              </a:solidFill>
              <a:latin typeface="Arial"/>
            </a:endParaRPr>
          </a:p>
        </p:txBody>
      </p:sp>
      <p:sp>
        <p:nvSpPr>
          <p:cNvPr id="373" name="PlaceHolder 2"/>
          <p:cNvSpPr>
            <a:spLocks noGrp="1"/>
          </p:cNvSpPr>
          <p:nvPr>
            <p:ph/>
          </p:nvPr>
        </p:nvSpPr>
        <p:spPr>
          <a:xfrm>
            <a:off x="533520" y="1676520"/>
            <a:ext cx="8076960" cy="4572000"/>
          </a:xfrm>
          <a:prstGeom prst="rect">
            <a:avLst/>
          </a:prstGeom>
          <a:noFill/>
          <a:ln w="0">
            <a:noFill/>
          </a:ln>
        </p:spPr>
        <p:txBody>
          <a:bodyPr anchor="t">
            <a:normAutofit fontScale="97000"/>
          </a:bodyPr>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hen organizations do business on the Internet, they do business globally</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fessionals must be sensitive to laws and ethical values of many different cultures, societies, and countries</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Because of political complexities of relationships among nations and differences in culture, there are few international laws relating to privacy and information security</a:t>
            </a:r>
            <a:endParaRPr b="0" lang="en-US" sz="2600" spc="-1" strike="noStrike">
              <a:solidFill>
                <a:srgbClr val="222222"/>
              </a:solidFill>
              <a:latin typeface="Arial"/>
            </a:endParaRPr>
          </a:p>
          <a:p>
            <a:pPr marL="332640" indent="-3326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ese international laws are important but are limited in their enforceability</a:t>
            </a:r>
            <a:endParaRPr b="0" lang="en-US" sz="2600" spc="-1" strike="noStrike">
              <a:solidFill>
                <a:srgbClr val="222222"/>
              </a:solidFill>
              <a:latin typeface="Arial"/>
            </a:endParaRPr>
          </a:p>
        </p:txBody>
      </p:sp>
      <p:sp>
        <p:nvSpPr>
          <p:cNvPr id="37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7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EA06-85D7-4C66-B9EB-B47384828E1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uropean Council Cyber-Crime Convention</a:t>
            </a:r>
            <a:endParaRPr b="0" lang="en-US" sz="3600" spc="-1" strike="noStrike">
              <a:solidFill>
                <a:srgbClr val="222222"/>
              </a:solidFill>
              <a:latin typeface="Arial"/>
            </a:endParaRPr>
          </a:p>
        </p:txBody>
      </p:sp>
      <p:sp>
        <p:nvSpPr>
          <p:cNvPr id="37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stablishes international task force overseeing Internet security functions for standardized international technology law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ttempts to improve effectiveness of international investigations into breaches of technology law</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Well received by intellectual property rights advocates due to emphasis on copyright infringement prosecu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cks realistic provisions for enforcement</a:t>
            </a:r>
            <a:endParaRPr b="0" lang="en-US" sz="2600" spc="-1" strike="noStrike">
              <a:solidFill>
                <a:srgbClr val="222222"/>
              </a:solidFill>
              <a:latin typeface="Arial"/>
            </a:endParaRPr>
          </a:p>
        </p:txBody>
      </p:sp>
      <p:sp>
        <p:nvSpPr>
          <p:cNvPr id="37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7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2DE4-D2E4-4FDC-AECF-E2D780684C3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greement on Trade-Related Aspects of Intellectual Property Rights</a:t>
            </a:r>
            <a:endParaRPr b="0" lang="en-US" sz="3600" spc="-1" strike="noStrike">
              <a:solidFill>
                <a:srgbClr val="222222"/>
              </a:solidFill>
              <a:latin typeface="Arial"/>
            </a:endParaRPr>
          </a:p>
        </p:txBody>
      </p:sp>
      <p:sp>
        <p:nvSpPr>
          <p:cNvPr id="38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eated by World Trade Organization (WTO)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irst significant international effort to protect intellectual property right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utlines requirements for governmental oversight and legislation providing minimum levels of protection for intellectual property</a:t>
            </a:r>
            <a:endParaRPr b="0" lang="en-US" sz="2600" spc="-1" strike="noStrike">
              <a:solidFill>
                <a:srgbClr val="222222"/>
              </a:solidFill>
              <a:latin typeface="Arial"/>
            </a:endParaRPr>
          </a:p>
        </p:txBody>
      </p:sp>
      <p:sp>
        <p:nvSpPr>
          <p:cNvPr id="38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8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D2BE-2F66-4CCA-9E8E-17774830228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Agreement on Trade-Related Aspects of Intellectual Property Rights (cont’d.)</a:t>
            </a:r>
            <a:endParaRPr b="0" lang="en-US" sz="3600" spc="-1" strike="noStrike">
              <a:solidFill>
                <a:srgbClr val="222222"/>
              </a:solidFill>
              <a:latin typeface="Arial"/>
            </a:endParaRPr>
          </a:p>
        </p:txBody>
      </p:sp>
      <p:sp>
        <p:nvSpPr>
          <p:cNvPr id="3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greement covers five issu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Application of basic principles of trading system and international intellectual property agreemen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Giving adequate protection to intellectual property righ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nforcement of those rights by countries in their own territori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ettling intellectual property disput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ransitional arrangements while new system is being introduced</a:t>
            </a:r>
            <a:endParaRPr b="0" lang="en-US" sz="2400" spc="-1" strike="noStrike">
              <a:solidFill>
                <a:srgbClr val="222222"/>
              </a:solidFill>
              <a:latin typeface="Arial"/>
            </a:endParaRPr>
          </a:p>
        </p:txBody>
      </p:sp>
      <p:sp>
        <p:nvSpPr>
          <p:cNvPr id="38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8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B621-87A9-46BE-8C7B-FA4B51E0258C}"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Digital Millennium Copyright Act (DMCA)</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89" name="PlaceHolder 2"/>
          <p:cNvSpPr>
            <a:spLocks noGrp="1"/>
          </p:cNvSpPr>
          <p:nvPr>
            <p:ph/>
          </p:nvPr>
        </p:nvSpPr>
        <p:spPr>
          <a:xfrm>
            <a:off x="533520" y="1676520"/>
            <a:ext cx="8076960" cy="4572000"/>
          </a:xfrm>
          <a:prstGeom prst="rect">
            <a:avLst/>
          </a:prstGeom>
          <a:noFill/>
          <a:ln w="0">
            <a:noFill/>
          </a:ln>
        </p:spPr>
        <p:txBody>
          <a:bodyPr anchor="t">
            <a:normAutofit fontScale="95000"/>
          </a:bodyPr>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contribution to international effort to reduce impact of copyright, trademark, and privacy infringement </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 response to European Union Directive 95/46/EC, </a:t>
            </a:r>
            <a:endParaRPr b="0" lang="en-US" sz="26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hibits </a:t>
            </a:r>
            <a:endParaRPr b="0" lang="en-US" sz="26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ircumvention of protections and countermeasures</a:t>
            </a:r>
            <a:endParaRPr b="0" lang="en-US" sz="24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anufacture and trafficking of devices used to circumvent such protections</a:t>
            </a:r>
            <a:endParaRPr b="0" lang="en-US" sz="2400" spc="-1" strike="noStrike">
              <a:solidFill>
                <a:srgbClr val="222222"/>
              </a:solidFill>
              <a:latin typeface="Arial"/>
            </a:endParaRPr>
          </a:p>
          <a:p>
            <a:pPr lvl="1" marL="705600" indent="-2714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hibits altering information attached or imbedded in copyrighted material</a:t>
            </a:r>
            <a:endParaRPr b="0" lang="en-US" sz="2400" spc="-1" strike="noStrike">
              <a:solidFill>
                <a:srgbClr val="222222"/>
              </a:solidFill>
              <a:latin typeface="Arial"/>
            </a:endParaRPr>
          </a:p>
          <a:p>
            <a:pPr marL="325800" indent="-3258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xcludes ISPs from some copyright infringement</a:t>
            </a:r>
            <a:endParaRPr b="0" lang="en-US" sz="2600" spc="-1" strike="noStrike">
              <a:solidFill>
                <a:srgbClr val="222222"/>
              </a:solidFill>
              <a:latin typeface="Arial"/>
            </a:endParaRPr>
          </a:p>
        </p:txBody>
      </p:sp>
      <p:sp>
        <p:nvSpPr>
          <p:cNvPr id="3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3F92-FA71-4A9E-9474-B2416E45A9C6}"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thics and Information Security</a:t>
            </a:r>
            <a:endParaRPr b="0" lang="en-US" sz="3600" spc="-1" strike="noStrike">
              <a:solidFill>
                <a:srgbClr val="222222"/>
              </a:solidFill>
              <a:latin typeface="Arial"/>
            </a:endParaRPr>
          </a:p>
        </p:txBody>
      </p:sp>
      <p:sp>
        <p:nvSpPr>
          <p:cNvPr id="393"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y Professional groups have explicit rules governing ethical behavior in the workpl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T and IT security do not have binding codes of ethic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fessional associations and certification agencies work to establish codes of ethic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prescribe ethical condu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o not always have the ability to ban violators from practice in field</a:t>
            </a:r>
            <a:endParaRPr b="0" lang="en-US" sz="2400" spc="-1" strike="noStrike">
              <a:solidFill>
                <a:srgbClr val="222222"/>
              </a:solidFill>
              <a:latin typeface="Arial"/>
            </a:endParaRPr>
          </a:p>
        </p:txBody>
      </p:sp>
      <p:sp>
        <p:nvSpPr>
          <p:cNvPr id="39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9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C879-B43B-4F9F-92BB-34EE5B8594F8}"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Introduction</a:t>
            </a:r>
            <a:endParaRPr b="0" lang="en-US" sz="3600" spc="-1" strike="noStrike">
              <a:solidFill>
                <a:srgbClr val="222222"/>
              </a:solidFill>
              <a:latin typeface="Arial"/>
            </a:endParaRPr>
          </a:p>
        </p:txBody>
      </p:sp>
      <p:sp>
        <p:nvSpPr>
          <p:cNvPr id="28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You must understand scope of an organization’s legal and ethical responsibiliti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o minimize liabilities/reduce risks, the information security practitioner mus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nderstand current legal environ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tay current with laws and regulations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Watch for new issues that emerge </a:t>
            </a:r>
            <a:endParaRPr b="0" lang="en-US" sz="2400" spc="-1" strike="noStrike">
              <a:solidFill>
                <a:srgbClr val="222222"/>
              </a:solidFill>
              <a:latin typeface="Arial"/>
            </a:endParaRPr>
          </a:p>
        </p:txBody>
      </p:sp>
      <p:sp>
        <p:nvSpPr>
          <p:cNvPr id="290"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91"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42B3-2611-406F-830C-9E3D60A2D954}"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9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CF0F-E9B5-4073-B875-ABDD9CFD5843}"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pic>
        <p:nvPicPr>
          <p:cNvPr id="398" name="Picture 5" descr=""/>
          <p:cNvPicPr/>
          <p:nvPr/>
        </p:nvPicPr>
        <p:blipFill>
          <a:blip r:embed="rId1"/>
          <a:stretch/>
        </p:blipFill>
        <p:spPr>
          <a:xfrm>
            <a:off x="636480" y="457200"/>
            <a:ext cx="7898040" cy="5486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thical Differences Across Cultures</a:t>
            </a:r>
            <a:endParaRPr b="0" lang="en-US" sz="3600" spc="-1" strike="noStrike">
              <a:solidFill>
                <a:srgbClr val="222222"/>
              </a:solidFill>
              <a:latin typeface="Arial"/>
            </a:endParaRPr>
          </a:p>
        </p:txBody>
      </p:sp>
      <p:sp>
        <p:nvSpPr>
          <p:cNvPr id="40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ultural differences create difficulty in determining what is and is not ethical</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ifficulties arise when one nationality’s ethical behavior conflicts with ethics of another national group</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cenarios are grouped into:</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oftware License Infringe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llicit U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Misuse of Corporate Resource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ultures have different views on the scenarios</a:t>
            </a:r>
            <a:endParaRPr b="0" lang="en-US" sz="2600" spc="-1" strike="noStrike">
              <a:solidFill>
                <a:srgbClr val="222222"/>
              </a:solidFill>
              <a:latin typeface="Arial"/>
            </a:endParaRPr>
          </a:p>
        </p:txBody>
      </p:sp>
      <p:sp>
        <p:nvSpPr>
          <p:cNvPr id="40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0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7E38C-98EF-4A7B-8F03-0A3514372D32}"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Ethics and Education</a:t>
            </a:r>
            <a:endParaRPr b="0" lang="en-US" sz="3600" spc="-1" strike="noStrike">
              <a:solidFill>
                <a:srgbClr val="222222"/>
              </a:solidFill>
              <a:latin typeface="Arial"/>
            </a:endParaRPr>
          </a:p>
        </p:txBody>
      </p:sp>
      <p:sp>
        <p:nvSpPr>
          <p:cNvPr id="40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verriding factor in levelling ethical perceptions within a small population is education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mployees must be trained in expected behaviors of an ethical employee, especially in areas of information securit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oper ethical training is vital to creating informed, well prepared, and low-risk system user</a:t>
            </a:r>
            <a:endParaRPr b="0" lang="en-US" sz="2600" spc="-1" strike="noStrike">
              <a:solidFill>
                <a:srgbClr val="222222"/>
              </a:solidFill>
              <a:latin typeface="Arial"/>
            </a:endParaRPr>
          </a:p>
        </p:txBody>
      </p:sp>
      <p:sp>
        <p:nvSpPr>
          <p:cNvPr id="40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0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182E-05B7-4619-B9F2-F73918660D0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eterring Unethical and Illegal Behavior</a:t>
            </a:r>
            <a:endParaRPr b="0" lang="en-US" sz="3600" spc="-1" strike="noStrike">
              <a:solidFill>
                <a:srgbClr val="222222"/>
              </a:solidFill>
              <a:latin typeface="Arial"/>
            </a:endParaRPr>
          </a:p>
        </p:txBody>
      </p:sp>
      <p:sp>
        <p:nvSpPr>
          <p:cNvPr id="40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hree general causes of unethical and illegal behavior: ignorance, accident, int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terrence: best method for preventing an illegal or unethical activity; e.g., laws, policies, technical control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and policies only deter if three conditions are presen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Fear of penal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bability of being caugh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bability of penalty being administered</a:t>
            </a:r>
            <a:endParaRPr b="0" lang="en-US" sz="2400" spc="-1" strike="noStrike">
              <a:solidFill>
                <a:srgbClr val="222222"/>
              </a:solidFill>
              <a:latin typeface="Arial"/>
            </a:endParaRPr>
          </a:p>
        </p:txBody>
      </p:sp>
      <p:sp>
        <p:nvSpPr>
          <p:cNvPr id="40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1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BB1E-6648-4659-9A67-B6519B562BE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Codes of Ethics and Professional Organizations</a:t>
            </a:r>
            <a:endParaRPr b="0" lang="en-US" sz="3600" spc="-1" strike="noStrike">
              <a:solidFill>
                <a:srgbClr val="222222"/>
              </a:solidFill>
              <a:latin typeface="Arial"/>
            </a:endParaRPr>
          </a:p>
        </p:txBody>
      </p:sp>
      <p:sp>
        <p:nvSpPr>
          <p:cNvPr id="41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everal professional organizations have established codes of conduct/ethic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odes of ethics can have positive effect; unfortunately, many employers do not encourage joining these professional organiz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ponsibility of security professionals to act ethically and according to policies of employer, professional organization, and laws of society</a:t>
            </a:r>
            <a:endParaRPr b="0" lang="en-US" sz="2600" spc="-1" strike="noStrike">
              <a:solidFill>
                <a:srgbClr val="222222"/>
              </a:solidFill>
              <a:latin typeface="Arial"/>
            </a:endParaRPr>
          </a:p>
        </p:txBody>
      </p:sp>
      <p:sp>
        <p:nvSpPr>
          <p:cNvPr id="41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1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D21A1-B769-424F-A18E-512D61D1117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a:t>
            </a:r>
            <a:endParaRPr b="0" lang="en-US" sz="3600" spc="-1" strike="noStrike">
              <a:solidFill>
                <a:srgbClr val="222222"/>
              </a:solidFill>
              <a:latin typeface="Arial"/>
            </a:endParaRPr>
          </a:p>
        </p:txBody>
      </p:sp>
      <p:sp>
        <p:nvSpPr>
          <p:cNvPr id="41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Association of Computing Machinery (ACM)</a:t>
            </a:r>
            <a:r>
              <a:rPr b="0" lang="ar-SA" sz="2600" spc="-1" strike="noStrike">
                <a:solidFill>
                  <a:srgbClr val="222222"/>
                </a:solidFill>
                <a:latin typeface="Arial"/>
              </a:rPr>
              <a:t>‏</a:t>
            </a:r>
            <a:r>
              <a:rPr b="0" lang="ar-SA" sz="2600" spc="-1" strike="noStrike">
                <a:solidFill>
                  <a:srgbClr val="222222"/>
                </a:solidFill>
                <a:latin typeface="Arial"/>
              </a:rPr>
              <a:t>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Established in 1947 as “the world's first educational and scientific computing societ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de of ethics contains references to protecting information confidentiality, causing no harm, protecting others’ privacy, and respecting others’ intellectual property</a:t>
            </a:r>
            <a:endParaRPr b="0" lang="en-US" sz="2400" spc="-1" strike="noStrike">
              <a:solidFill>
                <a:srgbClr val="222222"/>
              </a:solidFill>
              <a:latin typeface="Arial"/>
            </a:endParaRPr>
          </a:p>
        </p:txBody>
      </p:sp>
      <p:sp>
        <p:nvSpPr>
          <p:cNvPr id="41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1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FC6F-7977-48A9-B958-E58A3C4DCAB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2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ternational Information Systems Security Certification Consortium, Inc. (ISC)</a:t>
            </a:r>
            <a:r>
              <a:rPr b="0" lang="en-GB" sz="2600" spc="-1" strike="noStrike" baseline="30000">
                <a:solidFill>
                  <a:srgbClr val="222222"/>
                </a:solidFill>
                <a:latin typeface="Arial"/>
              </a:rPr>
              <a:t>2</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nprofit organization focusing on development and implementation of information security certifications and credenti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de primarily designed for information security professionals who have certification from (ISC)</a:t>
            </a:r>
            <a:r>
              <a:rPr b="0" lang="en-GB" sz="2400" spc="-1" strike="noStrike" baseline="30000">
                <a:solidFill>
                  <a:srgbClr val="222222"/>
                </a:solidFill>
                <a:latin typeface="Arial"/>
              </a:rPr>
              <a:t>2</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de of ethics focuses on four mandatory canons</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21"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22"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D7BC-E19A-4871-89F1-F3365D7F7B5B}"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2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System Administration, Networking, and Security Institute (SANS)</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fessional organization with a large membership dedicated to protection of information and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SANS offers set of certifications called Global Information Assurance Certification (GIAC)</a:t>
            </a:r>
            <a:r>
              <a:rPr b="0" lang="ar-SA" sz="2400" spc="-1" strike="noStrike">
                <a:solidFill>
                  <a:srgbClr val="222222"/>
                </a:solidFill>
                <a:latin typeface="Arial"/>
              </a:rPr>
              <a:t>‏</a:t>
            </a:r>
            <a:endParaRPr b="0" lang="en-US" sz="2400" spc="-1" strike="noStrike">
              <a:solidFill>
                <a:srgbClr val="222222"/>
              </a:solidFill>
              <a:latin typeface="Arial"/>
            </a:endParaRPr>
          </a:p>
        </p:txBody>
      </p:sp>
      <p:sp>
        <p:nvSpPr>
          <p:cNvPr id="42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2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3DED-D93B-42CF-ABD7-CBFB59C1945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2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s Audit and Control Association (ISACA)</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fessional association with focus on auditing, control, and security </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ncentrates on providing IT control practices and standar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SACA has code of ethics for its professionals</a:t>
            </a:r>
            <a:endParaRPr b="0" lang="en-US" sz="2400" spc="-1" strike="noStrike">
              <a:solidFill>
                <a:srgbClr val="222222"/>
              </a:solidFill>
              <a:latin typeface="Arial"/>
            </a:endParaRPr>
          </a:p>
        </p:txBody>
      </p:sp>
      <p:sp>
        <p:nvSpPr>
          <p:cNvPr id="42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3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41E9-73D4-444A-AE28-F50E8E506349}"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jor IT Professional Organizations (cont’d.)</a:t>
            </a:r>
            <a:endParaRPr b="0" lang="en-US" sz="3600" spc="-1" strike="noStrike">
              <a:solidFill>
                <a:srgbClr val="222222"/>
              </a:solidFill>
              <a:latin typeface="Arial"/>
            </a:endParaRPr>
          </a:p>
        </p:txBody>
      </p:sp>
      <p:sp>
        <p:nvSpPr>
          <p:cNvPr id="43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Information Systems Security Association (ISSA)</a:t>
            </a:r>
            <a:r>
              <a:rPr b="0" lang="ar-SA" sz="2600" spc="-1" strike="noStrike">
                <a:solidFill>
                  <a:srgbClr val="222222"/>
                </a:solidFill>
                <a:latin typeface="Arial"/>
              </a:rPr>
              <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onprofit society of information security (IS) professional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imary mission to bring together qualified IS practitioners for information exchange and educational develop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Promotes code of ethics similar to (ISC)</a:t>
            </a:r>
            <a:r>
              <a:rPr b="0" lang="en-GB" sz="2400" spc="-1" strike="noStrike" baseline="30000">
                <a:solidFill>
                  <a:srgbClr val="222222"/>
                </a:solidFill>
                <a:latin typeface="Arial"/>
              </a:rPr>
              <a:t>2</a:t>
            </a:r>
            <a:r>
              <a:rPr b="0" lang="en-GB" sz="2400" spc="-1" strike="noStrike">
                <a:solidFill>
                  <a:srgbClr val="222222"/>
                </a:solidFill>
                <a:latin typeface="Arial"/>
              </a:rPr>
              <a:t>, ISACA, and ACM</a:t>
            </a:r>
            <a:endParaRPr b="0" lang="en-US" sz="2400" spc="-1" strike="noStrike">
              <a:solidFill>
                <a:srgbClr val="222222"/>
              </a:solidFill>
              <a:latin typeface="Arial"/>
            </a:endParaRPr>
          </a:p>
        </p:txBody>
      </p:sp>
      <p:sp>
        <p:nvSpPr>
          <p:cNvPr id="43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3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A7A0-E2BA-424F-A518-A0334377C4A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Law and Ethics in Information Security</a:t>
            </a:r>
            <a:endParaRPr b="0" lang="en-US" sz="3600" spc="-1" strike="noStrike">
              <a:solidFill>
                <a:srgbClr val="222222"/>
              </a:solidFill>
              <a:latin typeface="Arial"/>
            </a:endParaRPr>
          </a:p>
        </p:txBody>
      </p:sp>
      <p:sp>
        <p:nvSpPr>
          <p:cNvPr id="29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rules that mandate or prohibit certain societal behavio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thics: define socially acceptable behavio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ultural mores: fixed moral attitudes or customs of a particular group; ethics based on the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carry sanctions of a governing authority; ethics do not</a:t>
            </a:r>
            <a:endParaRPr b="0" lang="en-US" sz="2600" spc="-1" strike="noStrike">
              <a:solidFill>
                <a:srgbClr val="222222"/>
              </a:solidFill>
              <a:latin typeface="Arial"/>
            </a:endParaRPr>
          </a:p>
        </p:txBody>
      </p:sp>
      <p:sp>
        <p:nvSpPr>
          <p:cNvPr id="29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9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0376-6B5D-461D-B2E8-59FDD399B01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Key U.S. Federal Agencies</a:t>
            </a:r>
            <a:endParaRPr b="0" lang="en-US" sz="3600" spc="-1" strike="noStrike">
              <a:solidFill>
                <a:srgbClr val="222222"/>
              </a:solidFill>
              <a:latin typeface="Arial"/>
            </a:endParaRPr>
          </a:p>
        </p:txBody>
      </p:sp>
      <p:sp>
        <p:nvSpPr>
          <p:cNvPr id="436" name="PlaceHolder 2"/>
          <p:cNvSpPr>
            <a:spLocks noGrp="1"/>
          </p:cNvSpPr>
          <p:nvPr>
            <p:ph/>
          </p:nvPr>
        </p:nvSpPr>
        <p:spPr>
          <a:xfrm>
            <a:off x="533520" y="160020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epartment of Homeland Security (DHS)</a:t>
            </a:r>
            <a:r>
              <a:rPr b="0" lang="ar-SA" sz="2600" spc="-1" strike="noStrike">
                <a:solidFill>
                  <a:srgbClr val="222222"/>
                </a:solidFill>
                <a:latin typeface="Arial"/>
              </a:rPr>
              <a:t>‏</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de up of five directorates, or division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ission is to protect the people as well as the physical and informational assets of the US</a:t>
            </a:r>
            <a:endParaRPr b="0" lang="en-US" sz="2400" spc="-1" strike="noStrike">
              <a:solidFill>
                <a:srgbClr val="222222"/>
              </a:solidFill>
              <a:latin typeface="Arial"/>
            </a:endParaRPr>
          </a:p>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Federal Bureau of Investigation’s National InfraGard Program</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intains an intrusion alert network</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intains a secure Web site for communication about suspicious activity or intrusion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ponsors local chapter activitie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perates a help desk for questions</a:t>
            </a:r>
            <a:endParaRPr b="0" lang="en-US" sz="2400" spc="-1" strike="noStrike">
              <a:solidFill>
                <a:srgbClr val="222222"/>
              </a:solidFill>
              <a:latin typeface="Arial"/>
            </a:endParaRPr>
          </a:p>
        </p:txBody>
      </p:sp>
      <p:sp>
        <p:nvSpPr>
          <p:cNvPr id="437"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38"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E9D5-27E9-41DA-9607-F0DF4301DABE}"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Key U.S. Federal Agencies (cont’d.)</a:t>
            </a:r>
            <a:endParaRPr b="0" lang="en-US" sz="3600" spc="-1" strike="noStrike">
              <a:solidFill>
                <a:srgbClr val="222222"/>
              </a:solidFill>
              <a:latin typeface="Arial"/>
            </a:endParaRPr>
          </a:p>
        </p:txBody>
      </p:sp>
      <p:sp>
        <p:nvSpPr>
          <p:cNvPr id="440"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National Security Agency (NSA)</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s the Nation’s cryptologic organiz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tects US information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duces foreign intelligence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sponsible for signal intelligence and information system security</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U.S. Secret Servic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In addition to protective services, charged with the detection and arrest of persons committing a federal office relating to computer fraud or false identification</a:t>
            </a:r>
            <a:endParaRPr b="0" lang="en-US" sz="2400" spc="-1" strike="noStrike">
              <a:solidFill>
                <a:srgbClr val="222222"/>
              </a:solidFill>
              <a:latin typeface="Arial"/>
            </a:endParaRPr>
          </a:p>
        </p:txBody>
      </p:sp>
      <p:sp>
        <p:nvSpPr>
          <p:cNvPr id="44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44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4676-08A5-4806-AF38-7DB11FBF1076}"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a:t>
            </a:r>
            <a:endParaRPr b="0" lang="en-US" sz="3600" spc="-1" strike="noStrike">
              <a:solidFill>
                <a:srgbClr val="222222"/>
              </a:solidFill>
              <a:latin typeface="Arial"/>
            </a:endParaRPr>
          </a:p>
        </p:txBody>
      </p:sp>
      <p:sp>
        <p:nvSpPr>
          <p:cNvPr id="4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aws: rules that mandate or prohibit certain behavior in society; drawn from ethic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Ethics: define socially acceptable behaviors; based on cultural mores (fixed moral attitudes or customs of a particular group)</a:t>
            </a:r>
            <a:r>
              <a:rPr b="0" lang="ar-SA" sz="2600" spc="-1" strike="noStrike">
                <a:solidFill>
                  <a:srgbClr val="222222"/>
                </a:solidFill>
                <a:latin typeface="Arial"/>
              </a:rPr>
              <a: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Types of law: civil, criminal, private, public</a:t>
            </a:r>
            <a:endParaRPr b="0" lang="en-US" sz="2600" spc="-1" strike="noStrike">
              <a:solidFill>
                <a:srgbClr val="222222"/>
              </a:solidFill>
              <a:latin typeface="Arial"/>
            </a:endParaRPr>
          </a:p>
        </p:txBody>
      </p:sp>
      <p:sp>
        <p:nvSpPr>
          <p:cNvPr id="445"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46"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DC2B-03F5-4DCB-ACC7-16F97BAF449F}"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endParaRPr b="0" lang="en-US" sz="3600" spc="-1" strike="noStrike">
              <a:solidFill>
                <a:srgbClr val="222222"/>
              </a:solidFill>
              <a:latin typeface="Arial"/>
            </a:endParaRPr>
          </a:p>
        </p:txBody>
      </p:sp>
      <p:sp>
        <p:nvSpPr>
          <p:cNvPr id="44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levant U.S. law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uter Fraud and Abuse Act of 1986 (CFA Act)</a:t>
            </a:r>
            <a:r>
              <a:rPr b="0" lang="ar-SA" sz="2400" spc="-1" strike="noStrike">
                <a:solidFill>
                  <a:srgbClr val="222222"/>
                </a:solidFill>
                <a:latin typeface="Arial"/>
              </a:rPr>
              <a: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National Information Infrastructure Protection Act of 1996</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A PATRIOT Act of 2001</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SA PATRIOT Improvement and Reauthorization Ac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uter Security Act of 1987</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Title 18, U.S.C. § 1028</a:t>
            </a:r>
            <a:endParaRPr b="0" lang="en-US" sz="2400" spc="-1" strike="noStrike">
              <a:solidFill>
                <a:srgbClr val="222222"/>
              </a:solidFill>
              <a:latin typeface="Arial"/>
            </a:endParaRPr>
          </a:p>
        </p:txBody>
      </p:sp>
      <p:sp>
        <p:nvSpPr>
          <p:cNvPr id="449"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50"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7E17-7503-4346-ABB0-D0DC89B57B8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Summary (cont’d.)</a:t>
            </a:r>
            <a:endParaRPr b="0" lang="en-US" sz="3600" spc="-1" strike="noStrike">
              <a:solidFill>
                <a:srgbClr val="222222"/>
              </a:solidFill>
              <a:latin typeface="Arial"/>
            </a:endParaRPr>
          </a:p>
        </p:txBody>
      </p:sp>
      <p:sp>
        <p:nvSpPr>
          <p:cNvPr id="45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Many organizations have codes of conduct and/or codes of ethics </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Organization increases liability if it refuses to take measures known as due c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diligence requires that organization make valid effort to protect others and continually maintain that effort</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53"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454"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3FE6-61A5-4E31-8B10-B487D95EF8A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Organizational Liability and the Need for Counsel</a:t>
            </a:r>
            <a:endParaRPr b="0" lang="en-US" sz="3600" spc="-1" strike="noStrike">
              <a:solidFill>
                <a:srgbClr val="222222"/>
              </a:solidFill>
              <a:latin typeface="Arial"/>
            </a:endParaRPr>
          </a:p>
        </p:txBody>
      </p:sp>
      <p:sp>
        <p:nvSpPr>
          <p:cNvPr id="29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iability: legal obligation of an entity extending beyond criminal or contract law; includes legal obligation to make restitu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Restitution: to compensate for wrongs committed by an organization or its employe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care: insuring that employees know what constitutes acceptable behavior and know the consequences of illegal or unethical ac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ue diligence: making a valid effort to protect others; continually maintaining level of effort</a:t>
            </a:r>
            <a:endParaRPr b="0" lang="en-US" sz="2600" spc="-1" strike="noStrike">
              <a:solidFill>
                <a:srgbClr val="222222"/>
              </a:solidFill>
              <a:latin typeface="Arial"/>
            </a:endParaRPr>
          </a:p>
        </p:txBody>
      </p:sp>
      <p:sp>
        <p:nvSpPr>
          <p:cNvPr id="298"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299"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9653-3D94-40B6-8396-F7EF50897895}"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Organizational Liability and the Need for Counsel (cont’d.)</a:t>
            </a:r>
            <a:r>
              <a:rPr b="0" lang="ar-SA" sz="3600" spc="-1" strike="noStrike">
                <a:solidFill>
                  <a:srgbClr val="222222"/>
                </a:solidFill>
                <a:latin typeface="Arial"/>
              </a:rPr>
              <a:t>‏</a:t>
            </a:r>
            <a:endParaRPr b="0" lang="en-US" sz="3600" spc="-1" strike="noStrike">
              <a:solidFill>
                <a:srgbClr val="222222"/>
              </a:solidFill>
              <a:latin typeface="Arial"/>
            </a:endParaRPr>
          </a:p>
        </p:txBody>
      </p:sp>
      <p:sp>
        <p:nvSpPr>
          <p:cNvPr id="30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Jurisdiction: court's right to hear a case if the wrong was committed in its territory or involved its citizenr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Long arm jurisdiction: right of any court to impose its authority over an individual or organization if it can establish jurisdiction</a:t>
            </a:r>
            <a:endParaRPr b="0" lang="en-US" sz="2600" spc="-1" strike="noStrike">
              <a:solidFill>
                <a:srgbClr val="222222"/>
              </a:solidFill>
              <a:latin typeface="Arial"/>
            </a:endParaRPr>
          </a:p>
        </p:txBody>
      </p:sp>
      <p:sp>
        <p:nvSpPr>
          <p:cNvPr id="302"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03"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0792-640D-4E7D-AEBB-855BA5306458}"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olicy versus Law</a:t>
            </a:r>
            <a:endParaRPr b="0" lang="en-US" sz="3600" spc="-1" strike="noStrike">
              <a:solidFill>
                <a:srgbClr val="222222"/>
              </a:solidFill>
              <a:latin typeface="Arial"/>
            </a:endParaRPr>
          </a:p>
        </p:txBody>
      </p:sp>
      <p:sp>
        <p:nvSpPr>
          <p:cNvPr id="30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licies: body of expectations that describe acceptable and unacceptable employee behaviors in the workpl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olicies function as laws within an organization; must be crafted carefully to ensure they are complete, appropriate, fairly applied to everyon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Difference between policy and law: ignorance of a policy is an acceptable defense</a:t>
            </a:r>
            <a:endParaRPr b="0" lang="en-US" sz="2600" spc="-1" strike="noStrike">
              <a:solidFill>
                <a:srgbClr val="222222"/>
              </a:solidFill>
              <a:latin typeface="Arial"/>
            </a:endParaRPr>
          </a:p>
        </p:txBody>
      </p:sp>
      <p:sp>
        <p:nvSpPr>
          <p:cNvPr id="306"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22222"/>
                </a:solidFill>
                <a:latin typeface="Arial"/>
              </a:rPr>
              <a:t>Principles of Information Security, 4th Edition</a:t>
            </a:r>
            <a:endParaRPr b="0" lang="en-US" sz="1400" spc="-1" strike="noStrike">
              <a:solidFill>
                <a:srgbClr val="000000"/>
              </a:solidFill>
              <a:latin typeface="Arial"/>
            </a:endParaRPr>
          </a:p>
        </p:txBody>
      </p:sp>
      <p:sp>
        <p:nvSpPr>
          <p:cNvPr id="307"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7E34-23A7-435B-B6FD-83C8D0C49600}"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Policy versus Law (cont’d.)</a:t>
            </a:r>
            <a:endParaRPr b="0" lang="en-US" sz="3600" spc="-1" strike="noStrike">
              <a:solidFill>
                <a:srgbClr val="222222"/>
              </a:solidFill>
              <a:latin typeface="Arial"/>
            </a:endParaRPr>
          </a:p>
        </p:txBody>
      </p:sp>
      <p:sp>
        <p:nvSpPr>
          <p:cNvPr id="309"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iteria for policy enforcement: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Dissemination (distribu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Review (read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rehension (understand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Compliance (agree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22222"/>
                </a:solidFill>
                <a:latin typeface="Arial"/>
              </a:rPr>
              <a:t>Uniform enforcement</a:t>
            </a:r>
            <a:endParaRPr b="0" lang="en-US" sz="2400" spc="-1" strike="noStrike">
              <a:solidFill>
                <a:srgbClr val="222222"/>
              </a:solidFill>
              <a:latin typeface="Arial"/>
            </a:endParaRPr>
          </a:p>
        </p:txBody>
      </p:sp>
      <p:sp>
        <p:nvSpPr>
          <p:cNvPr id="310"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Principals of Information Security, Fourth Edition</a:t>
            </a:r>
            <a:endParaRPr b="0" lang="en-US" sz="1400" spc="-1" strike="noStrike">
              <a:solidFill>
                <a:srgbClr val="000000"/>
              </a:solidFill>
              <a:latin typeface="Arial"/>
            </a:endParaRPr>
          </a:p>
        </p:txBody>
      </p:sp>
      <p:sp>
        <p:nvSpPr>
          <p:cNvPr id="311"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6414-9320-4E79-B2D6-7566341FBA88}" type="slidenum">
              <a:rPr b="0" lang="en-US" sz="1400" spc="-1" strike="noStrike">
                <a:solidFill>
                  <a:srgbClr val="222222"/>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22222"/>
                </a:solidFill>
                <a:latin typeface="Arial"/>
              </a:rPr>
              <a:t>Types of Law</a:t>
            </a:r>
            <a:endParaRPr b="0" lang="en-US" sz="3600" spc="-1" strike="noStrike">
              <a:solidFill>
                <a:srgbClr val="222222"/>
              </a:solidFill>
              <a:latin typeface="Arial"/>
            </a:endParaRPr>
          </a:p>
        </p:txBody>
      </p:sp>
      <p:sp>
        <p:nvSpPr>
          <p:cNvPr id="31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ivil: governs nation or state; manages relationships/conflicts between organizational entities and peop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Criminal: addresses violations harmful to society; actively enforced by the stat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rivate: regulates relationships between individuals and organiza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222222"/>
                </a:solidFill>
                <a:latin typeface="Arial"/>
              </a:rPr>
              <a:t>Public: regulates structure/administration of government agencies and relationships with citizens, employees, and other governments</a:t>
            </a:r>
            <a:endParaRPr b="0" lang="en-US" sz="2600" spc="-1" strike="noStrike">
              <a:solidFill>
                <a:srgbClr val="222222"/>
              </a:solidFill>
              <a:latin typeface="Arial"/>
            </a:endParaRPr>
          </a:p>
        </p:txBody>
      </p:sp>
      <p:sp>
        <p:nvSpPr>
          <p:cNvPr id="314" name="Footer Placeholder 4"/>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inciples of Information Security, 4th Edition</a:t>
            </a:r>
            <a:endParaRPr b="0" lang="en-US" sz="1400" spc="-1" strike="noStrike">
              <a:solidFill>
                <a:srgbClr val="000000"/>
              </a:solidFill>
              <a:latin typeface="Arial"/>
            </a:endParaRPr>
          </a:p>
        </p:txBody>
      </p:sp>
      <p:sp>
        <p:nvSpPr>
          <p:cNvPr id="315" name="Slide Number Placeholder 5"/>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59B84-2661-4585-BAB8-E85539D6EB41}" type="slidenum">
              <a:rPr b="0" lang="en-GB" sz="1400" spc="-1" strike="noStrike">
                <a:solidFill>
                  <a:srgbClr val="222222"/>
                </a:solidFill>
                <a:latin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1:24:19Z</dcterms:created>
  <dc:creator/>
  <dc:description/>
  <dc:language>en-US</dc:language>
  <cp:lastModifiedBy>Tim Walker</cp:lastModifiedBy>
  <dcterms:modified xsi:type="dcterms:W3CDTF">2010-11-21T03:46:05Z</dcterms:modified>
  <cp:revision>58</cp:revision>
  <dc:subject/>
  <dc:title>Principals of Information Security,  Fourth Edition</dc:title>
</cp:coreProperties>
</file>