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90EA-A432-433F-BE16-9E6CD124E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F5C0-094B-40E7-B81D-8435C9A6F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6B84-1FFD-40D6-83B3-42D586419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8B9D-0B28-41AC-90B5-891CBF1B0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8BF0B-2E2E-4901-8BB0-7B194732BC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A6D31-A83A-4D04-B3D0-4C057424F8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3A418-DE4F-41B9-8563-F568D6387E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6D07-5C8E-454B-9DCE-AEB2DD7BD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D7EE7-23E0-410B-BEEA-2DADB2F94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9A70-475C-4391-AD54-9F10BC28F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7FBB-AEBF-4A9F-A44C-9D82BD4D1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7A9C-AB23-4E39-8091-1A1D6FC7C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B3EE-CBAE-4E52-B9F0-EC7E394413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BB34F-3D9E-4BDB-82D6-2F85BFC22C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D70D0-953C-4D1F-9D8A-DF18B4B1BB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6D649-5C8C-4AD5-B550-32A94AA007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7DBCF-89B1-4D78-83B3-D29CA6050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4932-4DEF-48D2-BC68-EEE4C5B68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4F4F-5B66-4735-AC0B-5D9BF987F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149B-A3CC-4F84-B476-615CE352A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48A3-F043-4EFE-A213-27707B12B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C395-2CE1-46C7-B886-CB9FAC041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B507-D652-4C35-AB9D-FC33C3B4C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7B40-FF8E-4AC7-A59B-16B93961D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3-</a:t>
            </a:r>
            <a:fld id="{68B775B6-3900-4C8E-A655-1D4A5D9AAB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3-</a:t>
            </a:r>
            <a:fld id="{6008824B-6D43-42AD-A7DB-21A4ADEE8C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640D67D4-F74D-452C-9641-C58B4F8D3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EA4538B-54A0-44D8-870F-73DEE40B2C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dia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n =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1/2)n   posi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(1/2)(13) = 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6.5 is not an integer, round up to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alue in the 7th 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752480" y="1600200"/>
            <a:ext cx="5791320" cy="1015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r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 4, 5, 5, 9, 11, 12, 14, 16, 19, 22, 23,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92C2C09-D816-4C36-A253-6D4C62C3A5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>
              <a:gd name="textAreaLeft" fmla="*/ 0 w 905040"/>
              <a:gd name="textAreaRight" fmla="*/ 905400 w 9050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>
              <a:gd name="textAreaLeft" fmla="*/ 0 w 903240"/>
              <a:gd name="textAreaRight" fmla="*/ 903600 w 9032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3581280" y="5562720"/>
            <a:ext cx="213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835560" y="5562720"/>
            <a:ext cx="199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6473880" y="5562720"/>
            <a:ext cx="20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1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9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6"/>
          <p:cNvSpPr/>
          <p:nvPr/>
        </p:nvSpPr>
        <p:spPr>
          <a:xfrm flipH="1" flipV="1">
            <a:off x="1752480" y="5244840"/>
            <a:ext cx="457200" cy="393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7"/>
          <p:cNvSpPr/>
          <p:nvPr/>
        </p:nvSpPr>
        <p:spPr>
          <a:xfrm flipV="1">
            <a:off x="1371600" y="5257800"/>
            <a:ext cx="152280" cy="38088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9"/>
          <p:cNvSpPr/>
          <p:nvPr/>
        </p:nvSpPr>
        <p:spPr>
          <a:xfrm flipV="1">
            <a:off x="7238880" y="5181120"/>
            <a:ext cx="152640" cy="3812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0"/>
          <p:cNvSpPr/>
          <p:nvPr/>
        </p:nvSpPr>
        <p:spPr>
          <a:xfrm flipH="1" flipV="1">
            <a:off x="7620120" y="5181120"/>
            <a:ext cx="30456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1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3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7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8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50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1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89D7E8D6-336D-4FEB-B67F-7EACFA72A8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6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5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8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9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0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6477120" y="55627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6477120" y="5562720"/>
            <a:ext cx="266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 1    2    3    4    5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4"/>
          <p:cNvSpPr/>
          <p:nvPr/>
        </p:nvSpPr>
        <p:spPr>
          <a:xfrm>
            <a:off x="65530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5"/>
          <p:cNvSpPr/>
          <p:nvPr/>
        </p:nvSpPr>
        <p:spPr>
          <a:xfrm>
            <a:off x="68580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6"/>
          <p:cNvSpPr/>
          <p:nvPr/>
        </p:nvSpPr>
        <p:spPr>
          <a:xfrm>
            <a:off x="75438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7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8"/>
          <p:cNvSpPr/>
          <p:nvPr/>
        </p:nvSpPr>
        <p:spPr>
          <a:xfrm>
            <a:off x="7848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9"/>
          <p:cNvSpPr/>
          <p:nvPr/>
        </p:nvSpPr>
        <p:spPr>
          <a:xfrm>
            <a:off x="822960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0"/>
          <p:cNvSpPr/>
          <p:nvPr/>
        </p:nvSpPr>
        <p:spPr>
          <a:xfrm>
            <a:off x="85345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82CBBC5-2558-405C-B1EA-BAE59EBAA6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57200" y="3809880"/>
          <a:ext cx="2743200" cy="219420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06" name="Text Box 48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9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4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Line 55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4FDC76D4-BEEB-4EDA-A501-182B28047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676160" y="4568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14" name="Object 4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5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2" descr="j0237392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319" name="Freeform 14"/>
          <p:cNvSpPr/>
          <p:nvPr/>
        </p:nvSpPr>
        <p:spPr>
          <a:xfrm>
            <a:off x="7238880" y="5867280"/>
            <a:ext cx="1676520" cy="763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7162920" y="5943600"/>
            <a:ext cx="1676160" cy="7632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0"/>
          <p:cNvSpPr/>
          <p:nvPr/>
        </p:nvSpPr>
        <p:spPr>
          <a:xfrm>
            <a:off x="7086600" y="6019920"/>
            <a:ext cx="1676520" cy="75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1"/>
          <p:cNvSpPr/>
          <p:nvPr/>
        </p:nvSpPr>
        <p:spPr>
          <a:xfrm>
            <a:off x="6858000" y="6172200"/>
            <a:ext cx="1676520" cy="763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781680" y="6248520"/>
            <a:ext cx="1676520" cy="75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3"/>
          <p:cNvSpPr/>
          <p:nvPr/>
        </p:nvSpPr>
        <p:spPr>
          <a:xfrm>
            <a:off x="6705720" y="6324480"/>
            <a:ext cx="1676160" cy="7632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218CF85-FA28-4243-B5F5-6BAFE8495D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EF0E6EA-18D4-43C6-8946-9822680569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676520" y="20574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94DFB7F-3EC4-4262-ACA3-192B357274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D67A571-34B1-4E42-96B5-35C403493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valu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981080" y="2819520"/>
                <a:ext cx="2057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685800" y="5334120"/>
                <a:ext cx="4518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9"/>
          <p:cNvSpPr/>
          <p:nvPr/>
        </p:nvSpPr>
        <p:spPr>
          <a:xfrm>
            <a:off x="5029200" y="2819520"/>
            <a:ext cx="3200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i  is not an integer, round up to the next higher integ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228600" y="4267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5867280" y="5416560"/>
            <a:ext cx="2819520" cy="825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use value in the i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5334120" y="5715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95BC571F-DEBE-41A2-862A-963FC472F8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econd quartile (the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) is the 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514600" y="2597040"/>
            <a:ext cx="1149480" cy="60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505320" y="2597040"/>
            <a:ext cx="1143000" cy="609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648320" y="2597040"/>
            <a:ext cx="1758960" cy="609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248520" y="2597040"/>
            <a:ext cx="190476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590920" y="266688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3657600" y="266688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52880" y="266688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629400" y="266688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3"/>
          <p:cNvSpPr/>
          <p:nvPr/>
        </p:nvSpPr>
        <p:spPr>
          <a:xfrm rot="16200000">
            <a:off x="3390840" y="331452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7"/>
          <p:cNvSpPr/>
          <p:nvPr/>
        </p:nvSpPr>
        <p:spPr>
          <a:xfrm rot="16200000">
            <a:off x="4533840" y="331452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8"/>
          <p:cNvSpPr/>
          <p:nvPr/>
        </p:nvSpPr>
        <p:spPr>
          <a:xfrm rot="16200000">
            <a:off x="6134040" y="331452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3200400" y="3505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2"/>
          <p:cNvSpPr/>
          <p:nvPr/>
        </p:nvSpPr>
        <p:spPr>
          <a:xfrm>
            <a:off x="4343400" y="3505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3"/>
          <p:cNvSpPr/>
          <p:nvPr/>
        </p:nvSpPr>
        <p:spPr>
          <a:xfrm>
            <a:off x="6019920" y="3505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83543DEA-9F5B-4716-AAE2-E988782405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7D9B63E-5884-4B3F-A7DE-A6C90DCBEC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6248520" y="4572000"/>
            <a:ext cx="1066680" cy="53352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343400" y="3581280"/>
            <a:ext cx="2514600" cy="762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609480" y="243828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533520" y="1981080"/>
            <a:ext cx="46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533520" y="297180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84000"/>
          </a:bodyPr>
          <a:p>
            <a:pPr marL="269280" indent="-269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 i :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9) = 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9280" indent="-26928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round up and use the value in the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osition:  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=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0"/>
          <p:cNvSpPr/>
          <p:nvPr/>
        </p:nvSpPr>
        <p:spPr>
          <a:xfrm>
            <a:off x="4343400" y="3581280"/>
            <a:ext cx="109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"/>
          <p:cNvSpPr/>
          <p:nvPr/>
        </p:nvSpPr>
        <p:spPr>
          <a:xfrm>
            <a:off x="4952880" y="396252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5"/>
          <p:cNvSpPr/>
          <p:nvPr/>
        </p:nvSpPr>
        <p:spPr>
          <a:xfrm rot="16200000">
            <a:off x="5105520" y="3123720"/>
            <a:ext cx="685800" cy="228600"/>
          </a:xfrm>
          <a:prstGeom prst="rightArrow">
            <a:avLst>
              <a:gd name="adj1" fmla="val 50000"/>
              <a:gd name="adj2" fmla="val 7555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8F1AE71-5315-46E1-B8DA-CBBF16E42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a central “box” and extended “whisker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9"/>
          <p:cNvSpPr/>
          <p:nvPr/>
        </p:nvSpPr>
        <p:spPr>
          <a:xfrm>
            <a:off x="688680" y="26668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0"/>
          <p:cNvSpPr/>
          <p:nvPr/>
        </p:nvSpPr>
        <p:spPr>
          <a:xfrm>
            <a:off x="4114800" y="3657600"/>
            <a:ext cx="2819520" cy="990720"/>
          </a:xfrm>
          <a:prstGeom prst="rect">
            <a:avLst/>
          </a:prstGeom>
          <a:solidFill>
            <a:srgbClr val="44c7f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6934320" y="411480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8229600" y="36576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133720" y="41148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133720" y="36576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5791320" y="36576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2124360" y="327672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         25%              25%           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762120" y="4724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ers     Lower                     1st                 Median         3rd               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                   Quartile                             Quartile            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1371600" y="39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9144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52BEFBC-0E56-432B-94D6-5D71BCBC69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structing th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3962520" y="1752480"/>
            <a:ext cx="2666880" cy="990720"/>
          </a:xfrm>
          <a:prstGeom prst="rect">
            <a:avLst/>
          </a:prstGeom>
          <a:solidFill>
            <a:srgbClr val="44c7f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6629400" y="2209680"/>
            <a:ext cx="1752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8381880" y="1752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2590920" y="22096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2590920" y="1752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5562720" y="1752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990720" y="2743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ers       Lower              1st                Median        3rd                   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           Quartile                            Quartile                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523880" y="19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066680" y="1981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057400" y="3768840"/>
            <a:ext cx="2209680" cy="71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 limit i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.5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6781680" y="3768840"/>
            <a:ext cx="2210040" cy="68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limit i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.5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8305920" y="33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0"/>
          <p:cNvSpPr/>
          <p:nvPr/>
        </p:nvSpPr>
        <p:spPr>
          <a:xfrm>
            <a:off x="2590920" y="33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1295280" y="4572000"/>
            <a:ext cx="7391520" cy="1828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79000"/>
          </a:bodyPr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box extends from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within the box is 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hiskers extend to the smallest and largest values within the calculate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ers are plotted outside the calculate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080" indent="-25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6AE6049-DA0C-4AC6-8C84-E65108600A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hape of Box and Whisker Plot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Box and Whisker plot can be shown in either vertical or horizontal form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5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432998F-3468-45BA-BCF0-032AD50146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6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4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5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>
              <a:gd name="textAreaLeft" fmla="*/ 0 w 461880"/>
              <a:gd name="textAreaRight" fmla="*/ 462240 w 46188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6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>
              <a:gd name="textAreaLeft" fmla="*/ 0 w 914400"/>
              <a:gd name="textAreaRight" fmla="*/ 914760 w 914400"/>
              <a:gd name="textAreaTop" fmla="*/ 0 h 1143000"/>
              <a:gd name="textAreaBottom" fmla="*/ 1143000 h 1143000"/>
            </a:gdLst>
            <a:ahLst/>
            <a:rect l="textAreaLeft" t="textAreaTop" r="textAreaRight" b="textAreaBottom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8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>
              <a:gd name="textAreaLeft" fmla="*/ 0 w 892440"/>
              <a:gd name="textAreaRight" fmla="*/ 892800 w 892440"/>
              <a:gd name="textAreaTop" fmla="*/ 0 h 1143000"/>
              <a:gd name="textAreaBottom" fmla="*/ 1143000 h 1143000"/>
            </a:gdLst>
            <a:ahLst/>
            <a:rect l="textAreaLeft" t="textAreaTop" r="textAreaRight" b="textAreaBottom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9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0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21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>
              <a:gd name="textAreaLeft" fmla="*/ 0 w 462240"/>
              <a:gd name="textAreaRight" fmla="*/ 462600 w 46224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22"/>
          <p:cNvSpPr/>
          <p:nvPr/>
        </p:nvSpPr>
        <p:spPr>
          <a:xfrm>
            <a:off x="1295280" y="5113440"/>
            <a:ext cx="990720" cy="463320"/>
          </a:xfrm>
          <a:custGeom>
            <a:avLst/>
            <a:gdLst>
              <a:gd name="textAreaLeft" fmla="*/ 0 w 990720"/>
              <a:gd name="textAreaRight" fmla="*/ 991080 w 9907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3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4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25"/>
          <p:cNvSpPr/>
          <p:nvPr/>
        </p:nvSpPr>
        <p:spPr>
          <a:xfrm>
            <a:off x="4267080" y="5113440"/>
            <a:ext cx="609840" cy="457200"/>
          </a:xfrm>
          <a:custGeom>
            <a:avLst/>
            <a:gdLst>
              <a:gd name="textAreaLeft" fmla="*/ 0 w 609840"/>
              <a:gd name="textAreaRight" fmla="*/ 610200 w 6098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26"/>
          <p:cNvSpPr/>
          <p:nvPr/>
        </p:nvSpPr>
        <p:spPr>
          <a:xfrm>
            <a:off x="6705720" y="5113440"/>
            <a:ext cx="761760" cy="457200"/>
          </a:xfrm>
          <a:custGeom>
            <a:avLst/>
            <a:gdLst>
              <a:gd name="textAreaLeft" fmla="*/ 0 w 761760"/>
              <a:gd name="textAreaRight" fmla="*/ 762120 w 76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7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8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9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0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1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2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3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4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5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6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7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8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9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0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2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43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2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3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4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5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6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7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9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0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1A74441-B804-41F3-B78B-7BCA84F099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65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2      2       2      3      3      4      5      6    11   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ata is right skewed, as the plot dep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752480" y="4419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 3      6              12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762120" y="205740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Q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"/>
          <p:cNvSpPr/>
          <p:nvPr/>
        </p:nvSpPr>
        <p:spPr>
          <a:xfrm>
            <a:off x="838080" y="25146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2057400" y="25146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"/>
          <p:cNvSpPr/>
          <p:nvPr/>
        </p:nvSpPr>
        <p:spPr>
          <a:xfrm>
            <a:off x="4191120" y="2514600"/>
            <a:ext cx="53316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0"/>
          <p:cNvSpPr/>
          <p:nvPr/>
        </p:nvSpPr>
        <p:spPr>
          <a:xfrm>
            <a:off x="6172200" y="25146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1"/>
          <p:cNvSpPr/>
          <p:nvPr/>
        </p:nvSpPr>
        <p:spPr>
          <a:xfrm>
            <a:off x="7391520" y="25146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2286000" y="3352680"/>
            <a:ext cx="914400" cy="990720"/>
          </a:xfrm>
          <a:prstGeom prst="rect">
            <a:avLst/>
          </a:prstGeom>
          <a:solidFill>
            <a:srgbClr val="44c7f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4343400" y="33526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1905120" y="3809880"/>
            <a:ext cx="2438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>
            <a:off x="1905120" y="332100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7"/>
          <p:cNvSpPr/>
          <p:nvPr/>
        </p:nvSpPr>
        <p:spPr>
          <a:xfrm>
            <a:off x="2590920" y="33526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9"/>
          <p:cNvSpPr/>
          <p:nvPr/>
        </p:nvSpPr>
        <p:spPr>
          <a:xfrm>
            <a:off x="723888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2514600" y="4876920"/>
            <a:ext cx="3505320" cy="82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imit =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.5 (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6 + 1.5 (6 – 2)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6705720" y="4876920"/>
            <a:ext cx="22096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is above the upper limit so is shown as an out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1371600" y="3124080"/>
            <a:ext cx="65530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C3A16667-6C17-4647-BE2B-E1C3C9BF7C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3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0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4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03F20D6-53B9-47BB-B98A-16D589BA06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normalcurves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4767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9E0EBFF-3848-4DCD-828A-7B44191B03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25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126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127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128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129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4130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4131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4132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4133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134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4135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136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137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138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4139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4140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141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142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143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4144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145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4146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47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30CFB22-E91A-49DA-9771-B3DAF00D79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28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29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30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31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32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33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034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35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36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37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38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039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40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41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42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043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44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45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46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47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48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Text Box 1052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53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54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55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056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57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B37DB9B-6452-4379-A404-BEEEE45C8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ean and standard deviation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 of variation, z-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61C504C-27C6-4825-B19A-AF337A56A1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D4777944-9A16-4A77-BCDB-0DD4BA25CD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terquartile Range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8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9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0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1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8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9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0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1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3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4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C8AFC64-63C0-416F-9F23-8DC7444361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8"/>
              <p:cNvSpPr txBox="1"/>
              <p:nvPr/>
            </p:nvSpPr>
            <p:spPr>
              <a:xfrm>
                <a:off x="4724280" y="259092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9"/>
              <p:cNvSpPr txBox="1"/>
              <p:nvPr/>
            </p:nvSpPr>
            <p:spPr>
              <a:xfrm>
                <a:off x="4724280" y="47242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F989545-1A15-496F-B730-D391A3ADC0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6"/>
              <p:cNvSpPr txBox="1"/>
              <p:nvPr/>
            </p:nvSpPr>
            <p:spPr>
              <a:xfrm>
                <a:off x="5791320" y="335268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7"/>
              <p:cNvSpPr txBox="1"/>
              <p:nvPr/>
            </p:nvSpPr>
            <p:spPr>
              <a:xfrm>
                <a:off x="5791320" y="510552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05109035-DEE5-4B40-9B06-FFC21AB32D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alculation Example: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e 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6"/>
              <p:cNvSpPr txBox="1"/>
              <p:nvPr/>
            </p:nvSpPr>
            <p:spPr>
              <a:xfrm>
                <a:off x="824040" y="3192480"/>
                <a:ext cx="7572240" cy="33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0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4" name="Line 9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140AFE8-5879-4168-A8F6-B796771856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8" name="Object 3"/>
          <p:cNvGraphicFramePr/>
          <p:nvPr/>
        </p:nvGraphicFramePr>
        <p:xfrm>
          <a:off x="4503600" y="3476520"/>
          <a:ext cx="43020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476520"/>
                    <a:ext cx="4302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Rectangle 4"/>
          <p:cNvSpPr/>
          <p:nvPr/>
        </p:nvSpPr>
        <p:spPr>
          <a:xfrm>
            <a:off x="6934320" y="233028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5"/>
          <p:cNvSpPr/>
          <p:nvPr/>
        </p:nvSpPr>
        <p:spPr>
          <a:xfrm>
            <a:off x="1179360" y="283536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981000" y="282240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06200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159552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212868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365292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3652920" y="2378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411012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3"/>
          <p:cNvSpPr/>
          <p:nvPr/>
        </p:nvSpPr>
        <p:spPr>
          <a:xfrm>
            <a:off x="464328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4"/>
          <p:cNvSpPr/>
          <p:nvPr/>
        </p:nvSpPr>
        <p:spPr>
          <a:xfrm>
            <a:off x="6091200" y="2606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981000" y="427032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6"/>
          <p:cNvSpPr/>
          <p:nvPr/>
        </p:nvSpPr>
        <p:spPr>
          <a:xfrm>
            <a:off x="1063800" y="352260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1063800" y="199872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8"/>
          <p:cNvSpPr/>
          <p:nvPr/>
        </p:nvSpPr>
        <p:spPr>
          <a:xfrm>
            <a:off x="1155600" y="428292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311940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0"/>
          <p:cNvSpPr/>
          <p:nvPr/>
        </p:nvSpPr>
        <p:spPr>
          <a:xfrm>
            <a:off x="365292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21"/>
          <p:cNvSpPr/>
          <p:nvPr/>
        </p:nvSpPr>
        <p:spPr>
          <a:xfrm>
            <a:off x="3119400" y="3825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22"/>
          <p:cNvSpPr/>
          <p:nvPr/>
        </p:nvSpPr>
        <p:spPr>
          <a:xfrm>
            <a:off x="3652920" y="3825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23"/>
          <p:cNvSpPr/>
          <p:nvPr/>
        </p:nvSpPr>
        <p:spPr>
          <a:xfrm>
            <a:off x="3119400" y="3597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24"/>
          <p:cNvSpPr/>
          <p:nvPr/>
        </p:nvSpPr>
        <p:spPr>
          <a:xfrm>
            <a:off x="3652920" y="3597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5"/>
          <p:cNvSpPr/>
          <p:nvPr/>
        </p:nvSpPr>
        <p:spPr>
          <a:xfrm>
            <a:off x="266220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26"/>
          <p:cNvSpPr/>
          <p:nvPr/>
        </p:nvSpPr>
        <p:spPr>
          <a:xfrm>
            <a:off x="4110120" y="4054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6939000" y="382572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8"/>
          <p:cNvSpPr/>
          <p:nvPr/>
        </p:nvSpPr>
        <p:spPr>
          <a:xfrm>
            <a:off x="981000" y="580716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9"/>
          <p:cNvSpPr/>
          <p:nvPr/>
        </p:nvSpPr>
        <p:spPr>
          <a:xfrm>
            <a:off x="1155600" y="580716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30"/>
          <p:cNvSpPr/>
          <p:nvPr/>
        </p:nvSpPr>
        <p:spPr>
          <a:xfrm>
            <a:off x="106200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31"/>
          <p:cNvSpPr/>
          <p:nvPr/>
        </p:nvSpPr>
        <p:spPr>
          <a:xfrm>
            <a:off x="1062000" y="5349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32"/>
          <p:cNvSpPr/>
          <p:nvPr/>
        </p:nvSpPr>
        <p:spPr>
          <a:xfrm>
            <a:off x="1062000" y="5121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33"/>
          <p:cNvSpPr/>
          <p:nvPr/>
        </p:nvSpPr>
        <p:spPr>
          <a:xfrm>
            <a:off x="563400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34"/>
          <p:cNvSpPr/>
          <p:nvPr/>
        </p:nvSpPr>
        <p:spPr>
          <a:xfrm>
            <a:off x="5634000" y="5349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35"/>
          <p:cNvSpPr/>
          <p:nvPr/>
        </p:nvSpPr>
        <p:spPr>
          <a:xfrm>
            <a:off x="5634000" y="5121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36"/>
          <p:cNvSpPr/>
          <p:nvPr/>
        </p:nvSpPr>
        <p:spPr>
          <a:xfrm>
            <a:off x="159552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37"/>
          <p:cNvSpPr/>
          <p:nvPr/>
        </p:nvSpPr>
        <p:spPr>
          <a:xfrm>
            <a:off x="5176800" y="5578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8"/>
          <p:cNvSpPr/>
          <p:nvPr/>
        </p:nvSpPr>
        <p:spPr>
          <a:xfrm>
            <a:off x="6939000" y="534996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9"/>
          <p:cNvSpPr/>
          <p:nvPr/>
        </p:nvSpPr>
        <p:spPr>
          <a:xfrm>
            <a:off x="1521000" y="497052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0"/>
          <p:cNvSpPr/>
          <p:nvPr/>
        </p:nvSpPr>
        <p:spPr>
          <a:xfrm>
            <a:off x="3505320" y="2057400"/>
            <a:ext cx="0" cy="411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1"/>
          <p:cNvSpPr/>
          <p:nvPr/>
        </p:nvSpPr>
        <p:spPr>
          <a:xfrm>
            <a:off x="4876920" y="14479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mean, but different standard devi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6CE5687-0937-4D56-8F6B-980A1E79E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5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7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Text Box 8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0A4023E-30C1-4905-8B90-A5BA7BFA67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mparing Coefficient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9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0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1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12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064B58C-5EA2-4973-8BD4-C62BEC77A0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4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55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Freeform 8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>
              <a:gd name="textAreaLeft" fmla="*/ 0 w 847800"/>
              <a:gd name="textAreaRight" fmla="*/ 848160 w 847800"/>
              <a:gd name="textAreaTop" fmla="*/ 0 h 1503360"/>
              <a:gd name="textAreaBottom" fmla="*/ 1503720 h 1503360"/>
            </a:gdLst>
            <a:ahLst/>
            <a:rect l="textAreaLeft" t="textAreaTop" r="textAreaRight" b="textAreaBottom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9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>
              <a:gd name="textAreaLeft" fmla="*/ 0 w 838080"/>
              <a:gd name="textAreaRight" fmla="*/ 838440 w 8380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0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32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46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Line 47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48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9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1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53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Freeform 34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52600"/>
              <a:gd name="textAreaBottom" fmla="*/ 1452600 h 14526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33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1452600"/>
              <a:gd name="textAreaBottom" fmla="*/ 1452600 h 14526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59F451D-7CFF-4971-AEEF-4AD30922FB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9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7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>
              <a:gd name="textAreaLeft" fmla="*/ 0 w 1076040"/>
              <a:gd name="textAreaRight" fmla="*/ 1076400 w 107604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5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6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3" name="Freeform 7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4"/>
          <p:cNvSpPr/>
          <p:nvPr/>
        </p:nvSpPr>
        <p:spPr>
          <a:xfrm>
            <a:off x="5240160" y="5465880"/>
            <a:ext cx="3289320" cy="7920"/>
          </a:xfrm>
          <a:custGeom>
            <a:avLst/>
            <a:gdLst>
              <a:gd name="textAreaLeft" fmla="*/ 0 w 3289320"/>
              <a:gd name="textAreaRight" fmla="*/ 3289680 w 3289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7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1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52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>
              <a:gd name="textAreaLeft" fmla="*/ 0 w 1635120"/>
              <a:gd name="textAreaRight" fmla="*/ 1635480 w 163512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53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>
              <a:gd name="textAreaLeft" fmla="*/ 0 w 1652400"/>
              <a:gd name="textAreaRight" fmla="*/ 1652760 w 165240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54"/>
          <p:cNvSpPr/>
          <p:nvPr/>
        </p:nvSpPr>
        <p:spPr>
          <a:xfrm>
            <a:off x="743040" y="5497560"/>
            <a:ext cx="3289320" cy="7920"/>
          </a:xfrm>
          <a:custGeom>
            <a:avLst/>
            <a:gdLst>
              <a:gd name="textAreaLeft" fmla="*/ 0 w 3289320"/>
              <a:gd name="textAreaRight" fmla="*/ 3289680 w 3289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8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116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Line 117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18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19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20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21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24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26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Line 127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28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9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0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FCBF578B-91A9-4A1B-82EB-17360CFA8D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26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Line 1036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37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38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9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40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41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42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43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44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45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46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48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49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50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53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54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55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56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C7BD9853-50D6-447D-BA37-820C60130D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91440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6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3E3D9C9C-2962-44CF-B8E3-959932E429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B9B8F46-B06C-4E81-9115-7F384C9425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6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426ED53E-E803-4A8F-9C74-C81DDF0C43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4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Line 5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E6ECA6D-407C-4575-9CA4-689AC279B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029"/>
          <p:cNvSpPr/>
          <p:nvPr/>
        </p:nvSpPr>
        <p:spPr>
          <a:xfrm>
            <a:off x="1143000" y="2819520"/>
            <a:ext cx="7086600" cy="914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Q scores in a large population have a bell-shaped distribution with me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 and standard deviatio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tandardized score  (z-score)  for a person with an IQ of 12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with an IQ of 121 is 1.4 standard deviations above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ized Value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1028"/>
              <p:cNvSpPr txBox="1"/>
              <p:nvPr/>
            </p:nvSpPr>
            <p:spPr>
              <a:xfrm>
                <a:off x="2209680" y="4114800"/>
                <a:ext cx="44784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Text Box 1030"/>
          <p:cNvSpPr/>
          <p:nvPr/>
        </p:nvSpPr>
        <p:spPr>
          <a:xfrm>
            <a:off x="8380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E4588868-4557-467B-B4AF-2E6E4543CE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Data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5F341BC-6A1B-4828-9C60-6F54FE96F8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9" descr="3-46"/>
          <p:cNvPicPr/>
          <p:nvPr/>
        </p:nvPicPr>
        <p:blipFill>
          <a:blip r:embed="rId1"/>
          <a:stretch/>
        </p:blipFill>
        <p:spPr>
          <a:xfrm>
            <a:off x="380880" y="1447920"/>
            <a:ext cx="8448840" cy="38955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4" name="AutoShape 7"/>
          <p:cNvSpPr/>
          <p:nvPr/>
        </p:nvSpPr>
        <p:spPr>
          <a:xfrm>
            <a:off x="2590920" y="4343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52280" y="5257800"/>
            <a:ext cx="7467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ta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429000" y="16765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1"/>
          <p:cNvSpPr/>
          <p:nvPr/>
        </p:nvSpPr>
        <p:spPr>
          <a:xfrm>
            <a:off x="7620120" y="1828800"/>
            <a:ext cx="11430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2"/>
          <p:cNvSpPr/>
          <p:nvPr/>
        </p:nvSpPr>
        <p:spPr>
          <a:xfrm>
            <a:off x="2971800" y="4267080"/>
            <a:ext cx="12952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602CC91F-74FB-4175-B923-D0A7CA97E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10" descr="3-47"/>
          <p:cNvPicPr/>
          <p:nvPr/>
        </p:nvPicPr>
        <p:blipFill>
          <a:blip r:embed="rId1"/>
          <a:stretch/>
        </p:blipFill>
        <p:spPr>
          <a:xfrm>
            <a:off x="3419640" y="2000160"/>
            <a:ext cx="5495760" cy="363852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5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7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7" name="Text Box 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0628290A-C466-4C56-9484-7BBB4DA6E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1" descr="3-48"/>
          <p:cNvPicPr/>
          <p:nvPr/>
        </p:nvPicPr>
        <p:blipFill>
          <a:blip r:embed="rId1"/>
          <a:stretch/>
        </p:blipFill>
        <p:spPr>
          <a:xfrm>
            <a:off x="4702320" y="1828800"/>
            <a:ext cx="3689280" cy="41911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6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2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3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4"/>
          <p:cNvSpPr/>
          <p:nvPr/>
        </p:nvSpPr>
        <p:spPr>
          <a:xfrm>
            <a:off x="5029200" y="3505320"/>
            <a:ext cx="17524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9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0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9BF7ADFC-65E6-40D9-9CB7-F2EF82649A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weighte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B55386D2-0D9A-436E-B2E4-2ECC22CC79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0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1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6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0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1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2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3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5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6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7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8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9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1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5FB5B1D-3CF4-4FB6-87D2-A7AE706A92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7469E82A-E1E6-4F99-94D3-C0B2D37D6F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334120" y="4724280"/>
            <a:ext cx="1904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181480" y="266688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H="1">
            <a:off x="4343400" y="4876920"/>
            <a:ext cx="9907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267080" y="2895480"/>
            <a:ext cx="914400" cy="152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5"/>
              <p:cNvSpPr txBox="1"/>
              <p:nvPr/>
            </p:nvSpPr>
            <p:spPr>
              <a:xfrm>
                <a:off x="3200400" y="4952880"/>
                <a:ext cx="464832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6"/>
              <p:cNvSpPr txBox="1"/>
              <p:nvPr/>
            </p:nvSpPr>
            <p:spPr>
              <a:xfrm>
                <a:off x="3168720" y="292572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Line 17"/>
          <p:cNvSpPr/>
          <p:nvPr/>
        </p:nvSpPr>
        <p:spPr>
          <a:xfrm>
            <a:off x="380880" y="44956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AEAD80D7-54D0-43F9-BF4B-644F688845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7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8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9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0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1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5"/>
              <p:cNvSpPr txBox="1"/>
              <p:nvPr/>
            </p:nvSpPr>
            <p:spPr>
              <a:xfrm>
                <a:off x="838080" y="551664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5276880" y="551664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0E895DF-F3EE-40BB-AB8B-A1B5B400B6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, i.e., the number that splits the distribution in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dian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rot="16200000">
            <a:off x="5524560" y="498132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627120" y="456264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46040" y="44751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533520" y="433404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7621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06668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137160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16765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198108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 rot="16200000">
            <a:off x="1181160" y="498132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371600" y="547704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4970520" y="456264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648320" y="44863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4876920" y="433404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"/>
          <p:cNvSpPr/>
          <p:nvPr/>
        </p:nvSpPr>
        <p:spPr>
          <a:xfrm>
            <a:off x="51055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9"/>
          <p:cNvSpPr/>
          <p:nvPr/>
        </p:nvSpPr>
        <p:spPr>
          <a:xfrm>
            <a:off x="541008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571500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601992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2"/>
          <p:cNvSpPr/>
          <p:nvPr/>
        </p:nvSpPr>
        <p:spPr>
          <a:xfrm>
            <a:off x="8001000" y="433404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715000" y="547704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 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3-</a:t>
            </a:r>
            <a:fld id="{1AAB896D-68DC-414C-8E7C-60D66FE0A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median, sort the n data values from low to high (sorted data is called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= (1/2)n  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 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dian Index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i  is not an integer, round up to next highest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2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Dr. Mohammed Alahmed</cp:lastModifiedBy>
  <cp:lastPrinted>1998-11-22T23:37:53Z</cp:lastPrinted>
  <dcterms:modified xsi:type="dcterms:W3CDTF">2017-09-26T12:26:33Z</dcterms:modified>
  <cp:revision>89</cp:revision>
  <dc:subject>Chapter 3</dc:subject>
  <dc:title>Business Statistics: A Decision-Making Approach, 7th edition</dc:title>
</cp:coreProperties>
</file>