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0B0D-3BA3-4BF1-BE95-89E54E052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FBB3-C65C-40E1-B43B-39EAF78E0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FB2E-8D69-4A1B-AA97-E7AC9A295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E842-50DF-4548-80D2-5644EBCC6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B9BE5-D4A3-4C14-95FE-23D93E3D22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D366F-436E-4942-9C78-EBDC6FFEED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A5F0E-2F82-4634-AAE7-E0F1265411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E234E-8BF2-4467-8758-DE546981F3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A2C46-017F-4316-B4AF-7F02AB497D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F9B03-E91E-42DD-B767-B82F86A62E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4B08-63F7-4065-AEDB-70869E73D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80F3-41C0-4AB1-93E6-435BB6D06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90837-4CF8-4767-A87D-410A2A70E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16DA2-51F6-426E-9E3E-2B2287509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7A515-B22D-4F60-A507-D8C47CE58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BCBF-FDEA-4345-A2A3-BF09C80361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09774-FF0B-4E68-9974-3BDA9E5AC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037F-71E7-40A5-8563-42CD9A79A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6EF3-9274-488B-9C08-829DB43F3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93DE-2755-442E-8084-3546D702C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424D-16EA-4400-9D37-A874503B1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B852-426E-4B2A-821B-E30AE2133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73F0-6945-4D7B-BC32-A6CC6B9D6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6109-87EF-49B8-A498-85DECE8BD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EB95EBC4-D6BB-4A4B-89A7-52BE2248E4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DD99CE88-03E8-40CD-A7AD-E355A36933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C7FA59A-CA92-427F-87CA-F54E961A3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58C92AD4-0E55-47A8-B1AF-AE94187716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n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/2)n   posi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(1/2)(13) = 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6.5 is not an integer, round up to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alue in the 7th 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752480" y="1600200"/>
            <a:ext cx="5791320" cy="1015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 4, 5, 5, 9, 11, 12, 14, 16, 19, 22, 23,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61E38476-6B37-45F0-85C5-54032BCA7B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>
              <a:gd name="textAreaLeft" fmla="*/ 0 w 905040"/>
              <a:gd name="textAreaRight" fmla="*/ 905400 w 9050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>
              <a:gd name="textAreaLeft" fmla="*/ 0 w 903240"/>
              <a:gd name="textAreaRight" fmla="*/ 903600 w 9032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3581280" y="5562720"/>
            <a:ext cx="213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835560" y="5562720"/>
            <a:ext cx="199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6473880" y="5562720"/>
            <a:ext cx="20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9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6"/>
          <p:cNvSpPr/>
          <p:nvPr/>
        </p:nvSpPr>
        <p:spPr>
          <a:xfrm flipH="1" flipV="1">
            <a:off x="1752480" y="5244840"/>
            <a:ext cx="457200" cy="393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7"/>
          <p:cNvSpPr/>
          <p:nvPr/>
        </p:nvSpPr>
        <p:spPr>
          <a:xfrm flipV="1">
            <a:off x="1371600" y="5257800"/>
            <a:ext cx="15228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9"/>
          <p:cNvSpPr/>
          <p:nvPr/>
        </p:nvSpPr>
        <p:spPr>
          <a:xfrm flipV="1">
            <a:off x="7238880" y="5181120"/>
            <a:ext cx="152640" cy="3812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0"/>
          <p:cNvSpPr/>
          <p:nvPr/>
        </p:nvSpPr>
        <p:spPr>
          <a:xfrm flipH="1" flipV="1">
            <a:off x="7620120" y="5181120"/>
            <a:ext cx="30456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7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8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0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1E069CF-396E-4FD2-B3C2-DA78ECB899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5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6477120" y="55627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6477120" y="556272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1    2    3    4    5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65530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5"/>
          <p:cNvSpPr/>
          <p:nvPr/>
        </p:nvSpPr>
        <p:spPr>
          <a:xfrm>
            <a:off x="68580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6"/>
          <p:cNvSpPr/>
          <p:nvPr/>
        </p:nvSpPr>
        <p:spPr>
          <a:xfrm>
            <a:off x="75438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7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8"/>
          <p:cNvSpPr/>
          <p:nvPr/>
        </p:nvSpPr>
        <p:spPr>
          <a:xfrm>
            <a:off x="7848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9"/>
          <p:cNvSpPr/>
          <p:nvPr/>
        </p:nvSpPr>
        <p:spPr>
          <a:xfrm>
            <a:off x="822960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0"/>
          <p:cNvSpPr/>
          <p:nvPr/>
        </p:nvSpPr>
        <p:spPr>
          <a:xfrm>
            <a:off x="85345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324A12F-777D-4878-907B-F38B9E7C82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3809880"/>
          <a:ext cx="2743200" cy="21942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48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4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Line 55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234381F-B13E-4BCA-A499-7EC4673055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676160" y="4568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14" name="Object 4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5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2" descr="j0237392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319" name="Freeform 14"/>
          <p:cNvSpPr/>
          <p:nvPr/>
        </p:nvSpPr>
        <p:spPr>
          <a:xfrm>
            <a:off x="7238880" y="5867280"/>
            <a:ext cx="1676520" cy="763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7162920" y="5943600"/>
            <a:ext cx="1676160" cy="7632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0"/>
          <p:cNvSpPr/>
          <p:nvPr/>
        </p:nvSpPr>
        <p:spPr>
          <a:xfrm>
            <a:off x="7086600" y="60199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1"/>
          <p:cNvSpPr/>
          <p:nvPr/>
        </p:nvSpPr>
        <p:spPr>
          <a:xfrm>
            <a:off x="6858000" y="6172200"/>
            <a:ext cx="1676520" cy="763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781680" y="62485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"/>
          <p:cNvSpPr/>
          <p:nvPr/>
        </p:nvSpPr>
        <p:spPr>
          <a:xfrm>
            <a:off x="6705720" y="6324480"/>
            <a:ext cx="1676160" cy="7632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21D96F72-25BD-40A1-96CE-41B9EAC84D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895F313-8F02-43FF-969D-537A1FEDBE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676520" y="2057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49AD9471-F688-4CDC-83C2-A4917C0AFA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215C1162-70C4-4206-AE7B-E302008D32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valu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981080" y="2819520"/>
                <a:ext cx="2057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685800" y="5334120"/>
                <a:ext cx="4518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9"/>
          <p:cNvSpPr/>
          <p:nvPr/>
        </p:nvSpPr>
        <p:spPr>
          <a:xfrm>
            <a:off x="5029200" y="2819520"/>
            <a:ext cx="3200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i  is not an integer, round up to the next higher integ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228600" y="4267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867280" y="5416560"/>
            <a:ext cx="2819520" cy="825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use value in the i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5334120" y="5715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C416620-548D-4563-8C4F-2D2C08A94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econd quartile (the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) is the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514600" y="2597040"/>
            <a:ext cx="114948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505320" y="2597040"/>
            <a:ext cx="1143000" cy="609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48320" y="2597040"/>
            <a:ext cx="1758960" cy="609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248520" y="2597040"/>
            <a:ext cx="190476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59092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365760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52880" y="2666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62940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3"/>
          <p:cNvSpPr/>
          <p:nvPr/>
        </p:nvSpPr>
        <p:spPr>
          <a:xfrm rot="16200000">
            <a:off x="33908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7"/>
          <p:cNvSpPr/>
          <p:nvPr/>
        </p:nvSpPr>
        <p:spPr>
          <a:xfrm rot="16200000">
            <a:off x="45338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8"/>
          <p:cNvSpPr/>
          <p:nvPr/>
        </p:nvSpPr>
        <p:spPr>
          <a:xfrm rot="16200000">
            <a:off x="61340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320040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2"/>
          <p:cNvSpPr/>
          <p:nvPr/>
        </p:nvSpPr>
        <p:spPr>
          <a:xfrm>
            <a:off x="434340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601992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EB71E40-49E4-474C-AE5B-91E98421B0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978B1BF5-311D-4241-9519-3396394F0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6248520" y="4572000"/>
            <a:ext cx="1066680" cy="53352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343400" y="3581280"/>
            <a:ext cx="2514600" cy="762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609480" y="243828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533520" y="1981080"/>
            <a:ext cx="46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533520" y="297180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84000"/>
          </a:bodyPr>
          <a:p>
            <a:pPr marL="269280" indent="-269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 i :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9) = 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round up and use the value in the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osition: 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=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4343400" y="3581280"/>
            <a:ext cx="109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4952880" y="396252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5"/>
          <p:cNvSpPr/>
          <p:nvPr/>
        </p:nvSpPr>
        <p:spPr>
          <a:xfrm rot="16200000">
            <a:off x="5105520" y="3123720"/>
            <a:ext cx="685800" cy="228600"/>
          </a:xfrm>
          <a:prstGeom prst="rightArrow">
            <a:avLst>
              <a:gd name="adj1" fmla="val 50000"/>
              <a:gd name="adj2" fmla="val 7555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20276B98-3620-43CC-9DAA-4D631AE668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a central “box” and extended “whisk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688680" y="26668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0"/>
          <p:cNvSpPr/>
          <p:nvPr/>
        </p:nvSpPr>
        <p:spPr>
          <a:xfrm>
            <a:off x="4114800" y="3657600"/>
            <a:ext cx="281952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6934320" y="411480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822960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13372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579132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124360" y="327672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         25%              25%   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762120" y="4724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s     Lower                     1st                 Median         3rd               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                   Quartile                             Quartile            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1371600" y="39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9144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5886D44-B7F7-4765-8FAB-FB712FA61A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structing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962520" y="1752480"/>
            <a:ext cx="266688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6629400" y="2209680"/>
            <a:ext cx="1752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838188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2590920" y="22096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259092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556272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990720" y="2743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s       Lower              1st                Median        3rd                   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           Quartile                            Quartile                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523880" y="19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066680" y="1981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057400" y="3768840"/>
            <a:ext cx="2209680" cy="71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limit i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6781680" y="3768840"/>
            <a:ext cx="2210040" cy="68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limit i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8305920" y="33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0"/>
          <p:cNvSpPr/>
          <p:nvPr/>
        </p:nvSpPr>
        <p:spPr>
          <a:xfrm>
            <a:off x="2590920" y="33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1295280" y="4572000"/>
            <a:ext cx="7391520" cy="1828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79000"/>
          </a:bodyPr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box extends from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within the box is 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iskers extend to the smallest and largest values within the calculate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s are plotted outside the calculate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E685B17-5C3C-4099-8233-A2EC2102B3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hape of Box and Whisker Plot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Box and Whisker plot can be shown in either vertical or horizontal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5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7986E32-8AAE-43F8-8A4D-A15C0EFAE9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6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4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5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>
              <a:gd name="textAreaLeft" fmla="*/ 0 w 461880"/>
              <a:gd name="textAreaRight" fmla="*/ 462240 w 46188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6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>
              <a:gd name="textAreaLeft" fmla="*/ 0 w 914400"/>
              <a:gd name="textAreaRight" fmla="*/ 914760 w 914400"/>
              <a:gd name="textAreaTop" fmla="*/ 0 h 1143000"/>
              <a:gd name="textAreaBottom" fmla="*/ 1143000 h 1143000"/>
            </a:gdLst>
            <a:ahLst/>
            <a:rect l="textAreaLeft" t="textAreaTop" r="textAreaRight" b="textAreaBottom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8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>
              <a:gd name="textAreaLeft" fmla="*/ 0 w 892440"/>
              <a:gd name="textAreaRight" fmla="*/ 892800 w 892440"/>
              <a:gd name="textAreaTop" fmla="*/ 0 h 1143000"/>
              <a:gd name="textAreaBottom" fmla="*/ 1143000 h 1143000"/>
            </a:gdLst>
            <a:ahLst/>
            <a:rect l="textAreaLeft" t="textAreaTop" r="textAreaRight" b="textAreaBottom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0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21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>
              <a:gd name="textAreaLeft" fmla="*/ 0 w 462240"/>
              <a:gd name="textAreaRight" fmla="*/ 462600 w 46224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2"/>
          <p:cNvSpPr/>
          <p:nvPr/>
        </p:nvSpPr>
        <p:spPr>
          <a:xfrm>
            <a:off x="1295280" y="5113440"/>
            <a:ext cx="990720" cy="463320"/>
          </a:xfrm>
          <a:custGeom>
            <a:avLst/>
            <a:gdLst>
              <a:gd name="textAreaLeft" fmla="*/ 0 w 990720"/>
              <a:gd name="textAreaRight" fmla="*/ 991080 w 9907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3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4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25"/>
          <p:cNvSpPr/>
          <p:nvPr/>
        </p:nvSpPr>
        <p:spPr>
          <a:xfrm>
            <a:off x="4267080" y="5113440"/>
            <a:ext cx="609840" cy="45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6"/>
          <p:cNvSpPr/>
          <p:nvPr/>
        </p:nvSpPr>
        <p:spPr>
          <a:xfrm>
            <a:off x="6705720" y="511344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7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8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9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0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1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3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4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5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6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7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9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0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2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3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2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3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4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5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6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7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9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0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40009A8-1FB3-4999-B14E-86084D2A50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65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2      2       2      3      3      4      5      6    11  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is right skewed, as the plot dep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752480" y="4419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 3      6              12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762120" y="205740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"/>
          <p:cNvSpPr/>
          <p:nvPr/>
        </p:nvSpPr>
        <p:spPr>
          <a:xfrm>
            <a:off x="83808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205740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"/>
          <p:cNvSpPr/>
          <p:nvPr/>
        </p:nvSpPr>
        <p:spPr>
          <a:xfrm>
            <a:off x="4191120" y="2514600"/>
            <a:ext cx="53316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0"/>
          <p:cNvSpPr/>
          <p:nvPr/>
        </p:nvSpPr>
        <p:spPr>
          <a:xfrm>
            <a:off x="617220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1"/>
          <p:cNvSpPr/>
          <p:nvPr/>
        </p:nvSpPr>
        <p:spPr>
          <a:xfrm>
            <a:off x="7391520" y="25146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2286000" y="3352680"/>
            <a:ext cx="91440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4343400" y="33526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1905120" y="3809880"/>
            <a:ext cx="2438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>
            <a:off x="1905120" y="33210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7"/>
          <p:cNvSpPr/>
          <p:nvPr/>
        </p:nvSpPr>
        <p:spPr>
          <a:xfrm>
            <a:off x="2590920" y="33526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9"/>
          <p:cNvSpPr/>
          <p:nvPr/>
        </p:nvSpPr>
        <p:spPr>
          <a:xfrm>
            <a:off x="723888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514600" y="4876920"/>
            <a:ext cx="3505320" cy="82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imit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6 + 1.5 (6 – 2)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6705720" y="48769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is above the upper limit so is shown as an out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1371600" y="3124080"/>
            <a:ext cx="65530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EE03160-2A2E-46C6-8F8B-F2ACDC1F9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3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4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2494F52F-FA9E-4853-8CC3-F2A807404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normalcurves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4767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EDF4C2B-FC0E-41E6-94E4-99185AAA7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25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126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127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128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129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4130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131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132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133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134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135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136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137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138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139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4140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141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142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143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144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145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146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47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0FD8496-312E-43DD-8248-5C087B7B97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28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29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30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31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32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33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034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35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36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37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38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039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40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41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42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043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44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45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46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47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48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Text Box 1052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53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54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55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56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57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6EA294A-0B2A-458D-9452-C046826FCE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ean and standard deviation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 of variation, z-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E0A23AD-4A95-4E19-802F-499A48BD9C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6A6A340-4428-46FC-B032-FFD6D80F05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terquartile Range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8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0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1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8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9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3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4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06D7DFD-C6D3-4D61-8FF4-63D734D365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8"/>
              <p:cNvSpPr txBox="1"/>
              <p:nvPr/>
            </p:nvSpPr>
            <p:spPr>
              <a:xfrm>
                <a:off x="4724280" y="259092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9"/>
              <p:cNvSpPr txBox="1"/>
              <p:nvPr/>
            </p:nvSpPr>
            <p:spPr>
              <a:xfrm>
                <a:off x="4724280" y="47242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97C72786-6F20-418B-99AF-89477CB3A3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6"/>
              <p:cNvSpPr txBox="1"/>
              <p:nvPr/>
            </p:nvSpPr>
            <p:spPr>
              <a:xfrm>
                <a:off x="5791320" y="335268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7"/>
              <p:cNvSpPr txBox="1"/>
              <p:nvPr/>
            </p:nvSpPr>
            <p:spPr>
              <a:xfrm>
                <a:off x="5791320" y="510552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2D3B35F-29FE-4A7C-9748-2DB99E4FF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on Example: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6"/>
              <p:cNvSpPr txBox="1"/>
              <p:nvPr/>
            </p:nvSpPr>
            <p:spPr>
              <a:xfrm>
                <a:off x="824040" y="3192480"/>
                <a:ext cx="7572240" cy="33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0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4" name="Line 9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C7A1FDB-EB2C-481C-861D-5E8D7E7BF3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8" name="Object 3"/>
          <p:cNvGraphicFramePr/>
          <p:nvPr/>
        </p:nvGraphicFramePr>
        <p:xfrm>
          <a:off x="4503600" y="3476520"/>
          <a:ext cx="4302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476520"/>
                    <a:ext cx="430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Rectangle 4"/>
          <p:cNvSpPr/>
          <p:nvPr/>
        </p:nvSpPr>
        <p:spPr>
          <a:xfrm>
            <a:off x="6934320" y="233028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5"/>
          <p:cNvSpPr/>
          <p:nvPr/>
        </p:nvSpPr>
        <p:spPr>
          <a:xfrm>
            <a:off x="1179360" y="283536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981000" y="282240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06200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5955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12868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6529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3652920" y="2378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41101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64328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609120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981000" y="427032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6"/>
          <p:cNvSpPr/>
          <p:nvPr/>
        </p:nvSpPr>
        <p:spPr>
          <a:xfrm>
            <a:off x="1063800" y="352260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1063800" y="199872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8"/>
          <p:cNvSpPr/>
          <p:nvPr/>
        </p:nvSpPr>
        <p:spPr>
          <a:xfrm>
            <a:off x="1155600" y="428292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11940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365292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1"/>
          <p:cNvSpPr/>
          <p:nvPr/>
        </p:nvSpPr>
        <p:spPr>
          <a:xfrm>
            <a:off x="3119400" y="3825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22"/>
          <p:cNvSpPr/>
          <p:nvPr/>
        </p:nvSpPr>
        <p:spPr>
          <a:xfrm>
            <a:off x="3652920" y="3825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23"/>
          <p:cNvSpPr/>
          <p:nvPr/>
        </p:nvSpPr>
        <p:spPr>
          <a:xfrm>
            <a:off x="3119400" y="3597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24"/>
          <p:cNvSpPr/>
          <p:nvPr/>
        </p:nvSpPr>
        <p:spPr>
          <a:xfrm>
            <a:off x="3652920" y="3597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5"/>
          <p:cNvSpPr/>
          <p:nvPr/>
        </p:nvSpPr>
        <p:spPr>
          <a:xfrm>
            <a:off x="266220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26"/>
          <p:cNvSpPr/>
          <p:nvPr/>
        </p:nvSpPr>
        <p:spPr>
          <a:xfrm>
            <a:off x="411012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6939000" y="382572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8"/>
          <p:cNvSpPr/>
          <p:nvPr/>
        </p:nvSpPr>
        <p:spPr>
          <a:xfrm>
            <a:off x="981000" y="580716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1155600" y="580716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30"/>
          <p:cNvSpPr/>
          <p:nvPr/>
        </p:nvSpPr>
        <p:spPr>
          <a:xfrm>
            <a:off x="10620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31"/>
          <p:cNvSpPr/>
          <p:nvPr/>
        </p:nvSpPr>
        <p:spPr>
          <a:xfrm>
            <a:off x="1062000" y="5349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32"/>
          <p:cNvSpPr/>
          <p:nvPr/>
        </p:nvSpPr>
        <p:spPr>
          <a:xfrm>
            <a:off x="1062000" y="5121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33"/>
          <p:cNvSpPr/>
          <p:nvPr/>
        </p:nvSpPr>
        <p:spPr>
          <a:xfrm>
            <a:off x="56340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34"/>
          <p:cNvSpPr/>
          <p:nvPr/>
        </p:nvSpPr>
        <p:spPr>
          <a:xfrm>
            <a:off x="5634000" y="5349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35"/>
          <p:cNvSpPr/>
          <p:nvPr/>
        </p:nvSpPr>
        <p:spPr>
          <a:xfrm>
            <a:off x="5634000" y="5121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36"/>
          <p:cNvSpPr/>
          <p:nvPr/>
        </p:nvSpPr>
        <p:spPr>
          <a:xfrm>
            <a:off x="159552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7"/>
          <p:cNvSpPr/>
          <p:nvPr/>
        </p:nvSpPr>
        <p:spPr>
          <a:xfrm>
            <a:off x="51768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8"/>
          <p:cNvSpPr/>
          <p:nvPr/>
        </p:nvSpPr>
        <p:spPr>
          <a:xfrm>
            <a:off x="6939000" y="534996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9"/>
          <p:cNvSpPr/>
          <p:nvPr/>
        </p:nvSpPr>
        <p:spPr>
          <a:xfrm>
            <a:off x="1521000" y="497052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0"/>
          <p:cNvSpPr/>
          <p:nvPr/>
        </p:nvSpPr>
        <p:spPr>
          <a:xfrm>
            <a:off x="3505320" y="2057400"/>
            <a:ext cx="0" cy="411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1"/>
          <p:cNvSpPr/>
          <p:nvPr/>
        </p:nvSpPr>
        <p:spPr>
          <a:xfrm>
            <a:off x="4876920" y="14479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mean, but different standard dev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A6C646D-5E1B-4227-A877-62466D28F2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5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7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8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8F4E3A9-0B0E-47F1-AEC1-3B169F11D6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Coefficient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9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0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1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12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8F94D88-1EAE-478B-A98A-F548DA9C82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4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5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Freeform 8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>
              <a:gd name="textAreaLeft" fmla="*/ 0 w 847800"/>
              <a:gd name="textAreaRight" fmla="*/ 848160 w 847800"/>
              <a:gd name="textAreaTop" fmla="*/ 0 h 1503360"/>
              <a:gd name="textAreaBottom" fmla="*/ 1503720 h 1503360"/>
            </a:gdLst>
            <a:ahLst/>
            <a:rect l="textAreaLeft" t="textAreaTop" r="textAreaRight" b="textAreaBottom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9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>
              <a:gd name="textAreaLeft" fmla="*/ 0 w 838080"/>
              <a:gd name="textAreaRight" fmla="*/ 838440 w 8380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0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2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6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Line 47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9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1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53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Freeform 34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52600"/>
              <a:gd name="textAreaBottom" fmla="*/ 1452600 h 14526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33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1452600"/>
              <a:gd name="textAreaBottom" fmla="*/ 1452600 h 14526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56F72870-08A1-401A-99B9-7ABBEA533E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9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7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>
              <a:gd name="textAreaLeft" fmla="*/ 0 w 1076040"/>
              <a:gd name="textAreaRight" fmla="*/ 1076400 w 107604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5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6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Freeform 7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4"/>
          <p:cNvSpPr/>
          <p:nvPr/>
        </p:nvSpPr>
        <p:spPr>
          <a:xfrm>
            <a:off x="5240160" y="5465880"/>
            <a:ext cx="3289320" cy="7920"/>
          </a:xfrm>
          <a:custGeom>
            <a:avLst/>
            <a:gdLst>
              <a:gd name="textAreaLeft" fmla="*/ 0 w 3289320"/>
              <a:gd name="textAreaRight" fmla="*/ 3289680 w 3289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7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1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52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53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>
              <a:gd name="textAreaLeft" fmla="*/ 0 w 1652400"/>
              <a:gd name="textAreaRight" fmla="*/ 1652760 w 165240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54"/>
          <p:cNvSpPr/>
          <p:nvPr/>
        </p:nvSpPr>
        <p:spPr>
          <a:xfrm>
            <a:off x="743040" y="5497560"/>
            <a:ext cx="3289320" cy="7920"/>
          </a:xfrm>
          <a:custGeom>
            <a:avLst/>
            <a:gdLst>
              <a:gd name="textAreaLeft" fmla="*/ 0 w 3289320"/>
              <a:gd name="textAreaRight" fmla="*/ 3289680 w 3289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8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16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Line 117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18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19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20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21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4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26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Line 127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28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9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0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8D78E52-D846-43EF-AB92-20E2033464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26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Line 1036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37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9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40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41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42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43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44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5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46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48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49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50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53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54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55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56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5C489650-B91B-40DE-AC6B-B21CE97DD0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91440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6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52935A2F-1BB2-4597-AAC3-1560EB9CAB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9C7051A-34C5-45E1-9D59-A3536CBF68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6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69284E3-F1F2-4BF3-8BD8-A9868217B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4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Line 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9EAC8807-BA2E-47B7-BF6C-24CAF0C992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029"/>
          <p:cNvSpPr/>
          <p:nvPr/>
        </p:nvSpPr>
        <p:spPr>
          <a:xfrm>
            <a:off x="1143000" y="2819520"/>
            <a:ext cx="7086600" cy="914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scores in a large population have a bell-shaped distribution with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 and standard devia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tandardized score  (z-score)  for a person with an IQ of 12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with an IQ of 121 is 1.4 standard deviations above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Value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1028"/>
              <p:cNvSpPr txBox="1"/>
              <p:nvPr/>
            </p:nvSpPr>
            <p:spPr>
              <a:xfrm>
                <a:off x="2209680" y="4114800"/>
                <a:ext cx="44784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Text Box 1030"/>
          <p:cNvSpPr/>
          <p:nvPr/>
        </p:nvSpPr>
        <p:spPr>
          <a:xfrm>
            <a:off x="8380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0C2E519-F398-4738-8556-47AF5B4944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Data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39DDC83-D6F7-494E-A92D-26E84F6C2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9" descr="3-46"/>
          <p:cNvPicPr/>
          <p:nvPr/>
        </p:nvPicPr>
        <p:blipFill>
          <a:blip r:embed="rId1"/>
          <a:stretch/>
        </p:blipFill>
        <p:spPr>
          <a:xfrm>
            <a:off x="380880" y="1447920"/>
            <a:ext cx="8448840" cy="38955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4" name="AutoShape 7"/>
          <p:cNvSpPr/>
          <p:nvPr/>
        </p:nvSpPr>
        <p:spPr>
          <a:xfrm>
            <a:off x="2590920" y="4343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52280" y="5257800"/>
            <a:ext cx="7467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ta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429000" y="16765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1"/>
          <p:cNvSpPr/>
          <p:nvPr/>
        </p:nvSpPr>
        <p:spPr>
          <a:xfrm>
            <a:off x="7620120" y="1828800"/>
            <a:ext cx="11430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2"/>
          <p:cNvSpPr/>
          <p:nvPr/>
        </p:nvSpPr>
        <p:spPr>
          <a:xfrm>
            <a:off x="2971800" y="4267080"/>
            <a:ext cx="12952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2FB8B1E-3DD7-4413-A9A6-9E1A0A3A5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0" descr="3-47"/>
          <p:cNvPicPr/>
          <p:nvPr/>
        </p:nvPicPr>
        <p:blipFill>
          <a:blip r:embed="rId1"/>
          <a:stretch/>
        </p:blipFill>
        <p:spPr>
          <a:xfrm>
            <a:off x="3419640" y="2000160"/>
            <a:ext cx="5495760" cy="363852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F129121-2029-4489-B7F5-7E046DF9DB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1" descr="3-48"/>
          <p:cNvPicPr/>
          <p:nvPr/>
        </p:nvPicPr>
        <p:blipFill>
          <a:blip r:embed="rId1"/>
          <a:stretch/>
        </p:blipFill>
        <p:spPr>
          <a:xfrm>
            <a:off x="4702320" y="1828800"/>
            <a:ext cx="3689280" cy="41911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3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4"/>
          <p:cNvSpPr/>
          <p:nvPr/>
        </p:nvSpPr>
        <p:spPr>
          <a:xfrm>
            <a:off x="5029200" y="3505320"/>
            <a:ext cx="17524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9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0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E158933-9130-4C33-A0AF-84E65A494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weighte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EC3D761-C494-4C54-9A20-EF0EE48E67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1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5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6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7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8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9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1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F9E6CB1-2AA0-4883-9AE8-873ADE99BD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405F27CE-F213-47B9-9179-C83DA17894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334120" y="472428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181480" y="26668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4343400" y="4876920"/>
            <a:ext cx="990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267080" y="2895480"/>
            <a:ext cx="91440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3200400" y="4952880"/>
                <a:ext cx="464832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3168720" y="292572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Line 17"/>
          <p:cNvSpPr/>
          <p:nvPr/>
        </p:nvSpPr>
        <p:spPr>
          <a:xfrm>
            <a:off x="380880" y="4495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2F01A583-ACB9-4A04-A9E4-8E6FBE3463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8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9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5"/>
              <p:cNvSpPr txBox="1"/>
              <p:nvPr/>
            </p:nvSpPr>
            <p:spPr>
              <a:xfrm>
                <a:off x="838080" y="551664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5276880" y="551664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01E9340-F1B7-46A4-A6F0-A3D5E427F7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, i.e., the number that splits the distribution in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16200000">
            <a:off x="5524560" y="498132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627120" y="456264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6040" y="44751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533520" y="433404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7621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0666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13716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16765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19810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 rot="16200000">
            <a:off x="1181160" y="498132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371600" y="547704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4970520" y="456264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648320" y="44863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4876920" y="433404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51055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54100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57150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60199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80010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715000" y="547704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88C088C1-4C08-4AD8-BF6E-6E0162621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median, sort the n data values from low to high (sorted data is called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= (1/2)n  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 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dian Index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i  is not an integer, round up to next highest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2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r. Mohammed Alahmed</cp:lastModifiedBy>
  <cp:lastPrinted>1998-11-22T23:37:53Z</cp:lastPrinted>
  <dcterms:modified xsi:type="dcterms:W3CDTF">2017-09-26T12:26:33Z</dcterms:modified>
  <cp:revision>89</cp:revision>
  <dc:subject>Chapter 3</dc:subject>
  <dc:title>Business Statistics: A Decision-Making Approach, 7th edition</dc:title>
</cp:coreProperties>
</file>