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4B5E-4CEF-4176-BE86-838DACDC1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DB47-9434-404E-BB6C-6D45102FA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50EE-4CC2-41EB-B934-11738C98C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ECFF-A1DD-4709-93E9-21C6229D5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190E1-BA57-48DE-BF8A-20A8D7EDC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49705-544E-4076-B052-220B7C5A4B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A382C-9464-40C1-8BB7-F4F2CF375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95759-CAC4-4BCF-A44E-A696BB4E2E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2CF4C-5056-4DB4-8AF5-4EB9E13E9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7CE86-9DE9-440C-976D-845FFA4F2D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FD1AE-4AE4-40A1-85DE-3722B9CA1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C9EC-1212-45C6-8D91-11EDBA051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19B37-A1A2-4CD6-9771-D54AA2C2F5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4A87B-4EA0-49D1-9CA5-E443F49CE6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F69D8-23ED-4867-8E78-9F8EF85D0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6EBC-3143-4247-B12B-0F5B13B73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5A74F-F11E-4802-BF26-773BC697F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F5BA-D553-47E7-8FB2-16CD8DF81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6039-C7F7-42BB-AB72-ECE40AF1A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3087-358D-4442-82A1-CAEE813ED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88C1-1E7F-4D94-B867-CD2E2AEFB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8F4F-6142-48E0-8A76-C011190F1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2B4E-4184-45CE-8851-A21E6D09F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FD5F-B48B-4C85-8AED-4DD608152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FFBB6115-305C-4728-AAC0-391D89CA38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146C9CFB-2C3B-402F-83FD-B289E4D738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bing Data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merical Meas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00F94-EC11-47E2-ABA7-E95C5B9833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eighted Me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values are grouped by frequency or relative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3809880"/>
          <a:ext cx="2743200" cy="21862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to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0880" y="2971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ple of 26 Repai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505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 Days to Compl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664080" y="4419720"/>
                <a:ext cx="53276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d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12C3-B3E3-4EEE-93B8-BF26F13CFF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view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238880" y="586728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594360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617220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62485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632448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E90C-F2B3-41B0-AC49-B7C521FB84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742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52E4-B6ED-41D3-A4AA-24E0D0B418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676520" y="1828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ich measure of loca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s the “best”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8D83-3C91-4D18-B44F-26C0B3BCA7E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114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4114800"/>
            <a:ext cx="0" cy="11430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832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3340080"/>
            <a:ext cx="28958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hape of a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45000" y="4111560"/>
            <a:ext cx="905040" cy="1071720"/>
          </a:xfrm>
          <a:custGeom>
            <a:avLst/>
            <a:gdLst/>
            <a:ahLst/>
            <a:rect l="l" t="t" r="r" b="b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43200" y="4111560"/>
            <a:ext cx="903240" cy="1071720"/>
          </a:xfrm>
          <a:custGeom>
            <a:avLst/>
            <a:gdLst/>
            <a:ahLst/>
            <a:rect l="l" t="t" r="r" b="b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5562720"/>
            <a:ext cx="2943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7960" y="5626080"/>
            <a:ext cx="295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94000" y="4729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4880" y="5562720"/>
            <a:ext cx="301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0" cy="106668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1911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449568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178160"/>
            <a:ext cx="0" cy="106704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44830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478800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59400" y="4211640"/>
            <a:ext cx="4680" cy="87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7600" y="4489560"/>
            <a:ext cx="0" cy="517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257800"/>
            <a:ext cx="1770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52840" y="5295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181480"/>
            <a:ext cx="198108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39120" y="52722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5245200"/>
            <a:ext cx="18288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33600" y="5359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057400" y="5245200"/>
            <a:ext cx="45720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52480" y="524520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8080" y="5245200"/>
            <a:ext cx="685800" cy="4572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5720" y="5181480"/>
            <a:ext cx="53316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391520" y="518148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619760" y="5181120"/>
            <a:ext cx="685800" cy="3812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9480" y="341640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2560" y="3492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960" y="342900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7080" y="6019920"/>
            <a:ext cx="258480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le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4360" y="6019920"/>
            <a:ext cx="270828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129200"/>
            <a:ext cx="1981080" cy="1089000"/>
          </a:xfrm>
          <a:custGeom>
            <a:avLst/>
            <a:gdLst/>
            <a:ahLst/>
            <a:rect l="l" t="t" r="r" b="b"/>
            <a:pathLst>
              <a:path w="1248" h="686">
                <a:moveTo>
                  <a:pt x="0" y="668"/>
                </a:moveTo>
                <a:cubicBezTo>
                  <a:pt x="21" y="666"/>
                  <a:pt x="73" y="669"/>
                  <a:pt x="126" y="656"/>
                </a:cubicBezTo>
                <a:cubicBezTo>
                  <a:pt x="180" y="643"/>
                  <a:pt x="258" y="628"/>
                  <a:pt x="321" y="590"/>
                </a:cubicBezTo>
                <a:cubicBezTo>
                  <a:pt x="385" y="552"/>
                  <a:pt x="413" y="520"/>
                  <a:pt x="506" y="426"/>
                </a:cubicBezTo>
                <a:cubicBezTo>
                  <a:pt x="599" y="332"/>
                  <a:pt x="782" y="0"/>
                  <a:pt x="878" y="25"/>
                </a:cubicBezTo>
                <a:cubicBezTo>
                  <a:pt x="974" y="50"/>
                  <a:pt x="1022" y="472"/>
                  <a:pt x="1084" y="579"/>
                </a:cubicBezTo>
                <a:cubicBezTo>
                  <a:pt x="1146" y="686"/>
                  <a:pt x="1214" y="649"/>
                  <a:pt x="1248" y="66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4059360"/>
            <a:ext cx="1981080" cy="1096920"/>
          </a:xfrm>
          <a:custGeom>
            <a:avLst/>
            <a:gdLst/>
            <a:ahLst/>
            <a:rect l="l" t="t" r="r" b="b"/>
            <a:pathLst>
              <a:path w="1248" h="691">
                <a:moveTo>
                  <a:pt x="1248" y="672"/>
                </a:moveTo>
                <a:cubicBezTo>
                  <a:pt x="1227" y="670"/>
                  <a:pt x="1175" y="673"/>
                  <a:pt x="1122" y="660"/>
                </a:cubicBezTo>
                <a:cubicBezTo>
                  <a:pt x="1068" y="647"/>
                  <a:pt x="990" y="632"/>
                  <a:pt x="927" y="594"/>
                </a:cubicBezTo>
                <a:cubicBezTo>
                  <a:pt x="863" y="556"/>
                  <a:pt x="833" y="525"/>
                  <a:pt x="742" y="430"/>
                </a:cubicBezTo>
                <a:cubicBezTo>
                  <a:pt x="651" y="335"/>
                  <a:pt x="476" y="0"/>
                  <a:pt x="380" y="25"/>
                </a:cubicBezTo>
                <a:cubicBezTo>
                  <a:pt x="284" y="50"/>
                  <a:pt x="227" y="475"/>
                  <a:pt x="164" y="583"/>
                </a:cubicBezTo>
                <a:cubicBezTo>
                  <a:pt x="101" y="691"/>
                  <a:pt x="34" y="653"/>
                  <a:pt x="0" y="67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720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AE33-BD87-428E-9C48-B8CAE0BDF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3434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666880"/>
            <a:ext cx="50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26668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ther Location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1676520"/>
            <a:ext cx="2590920" cy="820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89548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28954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505320"/>
            <a:ext cx="40388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7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4191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 in a data ar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% are less than or equal to thi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– p)% are greater than or equal to this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0 ≤ p ≤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DA94-CF02-4A70-AADD-BBEAC48C66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ercen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in an ordered array of n values is the value in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4343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 19 values is the value in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276720" y="2805120"/>
                <a:ext cx="27432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133720" y="5257800"/>
                <a:ext cx="5333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E8CD-150B-4E05-A60A-C5B2AC1A79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95680" y="5943600"/>
            <a:ext cx="1219320" cy="457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4876920"/>
            <a:ext cx="2819520" cy="685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split the ranked data into 4 equ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292480"/>
            <a:ext cx="114948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2292480"/>
            <a:ext cx="1143000" cy="609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2292480"/>
            <a:ext cx="175896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292480"/>
            <a:ext cx="190512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114800"/>
            <a:ext cx="831060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543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65760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64832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1 =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ercentile, so find the               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(9+1) = 2.5 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use the value half way between the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alu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Q1 = 12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4686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2863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4480" y="4876920"/>
            <a:ext cx="60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52578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200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257800" y="4571640"/>
            <a:ext cx="381240" cy="228600"/>
          </a:xfrm>
          <a:prstGeom prst="rightArrow">
            <a:avLst>
              <a:gd name="adj1" fmla="val 50000"/>
              <a:gd name="adj2" fmla="val 420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956E-7532-43F9-A9B9-44F5D1C82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display of data using 5-number 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440" y="25146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di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096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6560" y="3809880"/>
          <a:ext cx="861084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809880"/>
                    <a:ext cx="861084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076400" y="5334120"/>
          <a:ext cx="80676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334120"/>
                    <a:ext cx="80676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2279520" y="426708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25%              25% 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2514600"/>
            <a:ext cx="624816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A844-C13E-4B74-88DB-F07CEE2EDC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hape of Box and Whisker Plo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and Whisker plot can be shown in either vertical or horizont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5120" y="281952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A07B-4F6C-481D-AC3E-D498DBBBF8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s 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efficient of 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04A2-9797-49C4-91F6-4D5433EEB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tribution Shape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/>
            <a:ahLst/>
            <a:rect l="l" t="t" r="r" b="b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/>
            <a:ahLst/>
            <a:rect l="l" t="t" r="r" b="b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/>
            <a:ahLst/>
            <a:rect l="l" t="t" r="r" b="b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/>
            <a:ahLst/>
            <a:rect l="l" t="t" r="r" b="b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5113440"/>
            <a:ext cx="990720" cy="463320"/>
          </a:xfrm>
          <a:custGeom>
            <a:avLst/>
            <a:gdLst/>
            <a:ahLst/>
            <a:rect l="l" t="t" r="r" b="b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5113440"/>
            <a:ext cx="609840" cy="457200"/>
          </a:xfrm>
          <a:custGeom>
            <a:avLst/>
            <a:gdLst/>
            <a:ahLst/>
            <a:rect l="l" t="t" r="r" b="b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5113440"/>
            <a:ext cx="761760" cy="457200"/>
          </a:xfrm>
          <a:custGeom>
            <a:avLst/>
            <a:gdLst/>
            <a:ahLst/>
            <a:rect l="l" t="t" r="r" b="b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D4D6-AFC1-42F5-8688-616CDA2657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-and-Whisker Plo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2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2     2      2     3     3     4     5     5    10   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is very right skewed, as the plot dep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914400" y="3657600"/>
          <a:ext cx="70866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657600"/>
                    <a:ext cx="70866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1600200" y="5029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3   5                      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81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 Q1                    Q2                    Q3         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32004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39A2-9EAF-4CE8-9803-4BA14D17B5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886200"/>
            <a:ext cx="427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24280" y="20574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1676520"/>
            <a:ext cx="175248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81080" y="2666880"/>
            <a:ext cx="1371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6686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9440" y="2668680"/>
            <a:ext cx="190368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8862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350532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952880"/>
            <a:ext cx="238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457200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065400"/>
            <a:ext cx="0" cy="18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495288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76920" y="3429000"/>
            <a:ext cx="16002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4648320"/>
            <a:ext cx="15210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505320"/>
            <a:ext cx="1749600" cy="6742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FE05-C9AC-42E2-A174-3BBBA00378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410080"/>
            <a:ext cx="2362320" cy="7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B3A4-9EC8-4B8B-B916-153C9313BDF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124080"/>
            <a:ext cx="5105520" cy="14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49560" y="5029200"/>
            <a:ext cx="33559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49960" y="5029200"/>
            <a:ext cx="12985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5105520"/>
            <a:ext cx="564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5791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623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510552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1E1B-17C4-4F69-9E7F-E68E80F253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advantages of th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5368-9CF6-4AF5-A1F9-EF251A7C45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eliminate some outlier problems by using the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some high-and low-valued observations and calculate the range from the remaining valu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834F-9233-404A-A8FA-F1593736E29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/>
            <a:ahLst/>
            <a:rect l="l" t="t" r="r" b="b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83F7-1366-48E3-A551-D285BA7DD0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724280" y="4800600"/>
                <a:ext cx="2781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724280" y="2666880"/>
                <a:ext cx="274824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DAEE-0EB9-4A45-B4FB-AAFD90BD83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791320" y="5105520"/>
                <a:ext cx="2427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791320" y="3352680"/>
                <a:ext cx="2398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8987-837A-4F03-9A80-7D61717EB5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Top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mean, percentiles,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FA6E-915D-44D3-B09C-55BE7000C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743200" y="5791320"/>
            <a:ext cx="1143000" cy="457200"/>
          </a:xfrm>
          <a:prstGeom prst="rect">
            <a:avLst/>
          </a:prstGeom>
          <a:solidFill>
            <a:srgbClr val="e5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on Example: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Standard Dev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2666880"/>
            <a:ext cx="472428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69880" y="3295800"/>
                <a:ext cx="8082000" cy="31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6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5562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9B31-5C75-427F-9AD8-04B137FB013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Devi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03600" y="3308400"/>
          <a:ext cx="4302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308400"/>
                    <a:ext cx="4302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934320" y="2162160"/>
            <a:ext cx="1981080" cy="9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79360" y="26668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81000" y="26542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20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955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86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29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292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01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32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12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81000" y="410220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63800" y="335448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3800" y="1830240"/>
            <a:ext cx="12920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55600" y="411480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94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529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1940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1940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292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22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01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9000" y="365760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81000" y="563868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55600" y="56386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2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2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34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4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4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52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768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9000" y="5181480"/>
            <a:ext cx="1976400" cy="78480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1000" y="4802040"/>
            <a:ext cx="129204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82B6-73E6-4A3C-8477-3ED64E4F4D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in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164200" y="5105520"/>
                <a:ext cx="353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725400" y="5135400"/>
                <a:ext cx="3506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4479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57D4-43BE-4093-8106-47E935A3F4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Coefficient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752480" y="2895480"/>
                <a:ext cx="5257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752480" y="525780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E48B-9A94-4771-9604-6EB9F87AC1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311120" y="281952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4572000" y="3906720"/>
            <a:ext cx="847800" cy="1503360"/>
          </a:xfrm>
          <a:custGeom>
            <a:avLst/>
            <a:gdLst/>
            <a:ahLst/>
            <a:rect l="l" t="t" r="r" b="b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43280" y="3913200"/>
            <a:ext cx="838080" cy="1496880"/>
          </a:xfrm>
          <a:custGeom>
            <a:avLst/>
            <a:gdLst/>
            <a:ahLst/>
            <a:rect l="l" t="t" r="r" b="b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0" y="54100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487760" y="538956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80952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609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1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390672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05440" y="589428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362320" y="3886200"/>
            <a:ext cx="2232000" cy="14526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3886200"/>
            <a:ext cx="2227320" cy="14526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2D85-4137-4C80-A9B5-33A1878813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/>
            <a:ahLst/>
            <a:rect l="l" t="t" r="r" b="b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/>
            <a:ahLst/>
            <a:rect l="l" t="t" r="r" b="b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/>
            <a:ahLst/>
            <a:rect l="l" t="t" r="r" b="b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0160" y="5465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/>
            <a:ahLst/>
            <a:rect l="l" t="t" r="r" b="b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3040" y="54975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225C-F229-4BD5-9105-5CA6DEABC5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590920" y="4191120"/>
            <a:ext cx="533376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how the data are distributed, at lea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1 - 1/k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will fall with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1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1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.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2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2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3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3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14400" y="304920"/>
            <a:ext cx="772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chebysheff’s Theor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4400" y="4114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778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E1E0-50E7-4985-AE1A-183935CAE8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ized data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standard deviations a value is from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values are sometimes referred to 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Data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1023-1069-4F46-B230-321E9670D9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Population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76720" y="1676520"/>
                <a:ext cx="21430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8A6E-EC98-4AEA-AB28-71EFD4D555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ample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Sample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3254400" y="1676520"/>
                <a:ext cx="2189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6296-0B0F-4EA8-8EF3-9887F58849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341960" y="2055960"/>
            <a:ext cx="0" cy="11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160" y="2665440"/>
            <a:ext cx="2665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and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3840" y="2360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3351240"/>
            <a:ext cx="914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666880"/>
            <a:ext cx="2209680" cy="698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954680"/>
            <a:ext cx="2057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752480"/>
            <a:ext cx="36558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8840" y="2360520"/>
            <a:ext cx="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2666880"/>
            <a:ext cx="14479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572000"/>
            <a:ext cx="129564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814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5791320"/>
            <a:ext cx="182880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352680"/>
            <a:ext cx="9907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65760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96252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3080" y="4268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87B9-F9A6-470E-A25F-A2180F5FB3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Microsoft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are easy to obtain from Microsof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03A7-22C8-4C7C-95CE-3ABF7B54B25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581720" cy="4543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4038480" cy="20001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724280" y="5181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981080"/>
            <a:ext cx="40384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7811-C5FD-40C1-BAD4-F28F321B25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200560" cy="36576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F9B5-95EA-4C3C-8F71-722DECC809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254880" y="178092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43000" y="3200400"/>
            <a:ext cx="2057400" cy="2533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36880" cy="4343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029200" y="25146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29200" y="32767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3505320"/>
            <a:ext cx="167652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37339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31ED-112F-4AAD-994D-C2FFA289052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ercentiles an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ox and Whisker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AE19-5AAF-45BA-8EE3-009AB8AA16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distributi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sk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chebysheff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standardized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2215-52EE-4F9A-8E96-8F5B4101F8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Center and Loc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er and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3278160"/>
            <a:ext cx="13701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9360" y="3278160"/>
            <a:ext cx="1292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276720"/>
            <a:ext cx="12189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76720"/>
            <a:ext cx="2062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31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1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3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23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4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7512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03696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370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76244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2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7360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360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6440" y="3962520"/>
                <a:ext cx="1284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4038480"/>
                <a:ext cx="21812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581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2712-5937-46A5-98C8-342B5EEB5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rithmetic average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572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Populatio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962160" y="2743200"/>
            <a:ext cx="990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4800600"/>
            <a:ext cx="9144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819520" y="2819520"/>
                <a:ext cx="46479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40120" y="4830840"/>
                <a:ext cx="468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AA93-4820-4681-8F22-617EC3DE21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measure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541008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76880" y="541008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638F-984C-4E57-B23E-C76A634A44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rdered array, the median is the “middle”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odd, the median is the middl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even, the median is the average of the two midd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55242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71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040" y="25797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11808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705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5909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CFB7-DDF4-484B-A7C5-5C7F487973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central t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at occur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ither numerical or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may be no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8240" y="5576760"/>
            <a:ext cx="3354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200" y="5570640"/>
            <a:ext cx="55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3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876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6019920"/>
            <a:ext cx="144756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913760" y="6010920"/>
            <a:ext cx="533520" cy="24624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8640" y="5576760"/>
            <a:ext cx="129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5562720"/>
            <a:ext cx="183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07080" y="5562720"/>
            <a:ext cx="253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616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707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6019920"/>
            <a:ext cx="14698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0B1B-A7CD-42BC-8552-3DFB6339A7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2:59Z</dcterms:modified>
  <cp:revision>75</cp:revision>
  <dc:subject>Chapter 3</dc:subject>
  <dc:title>Business Statistics: A Decision-Making Approach, 6th edition</dc:title>
</cp:coreProperties>
</file>