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45AF-0073-4B99-9E6A-04A498926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A479-5576-42C7-9C9C-F4C67B437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030F-9C4A-4D56-B266-707FE5B11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71E7-B94B-43A7-9C6C-3E4A55168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A48DA-E3D7-4156-A5C6-C1EBE5407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ECDCF-5936-42DF-9F6A-BA924609E2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A6BA-94D1-4D6F-96B0-BAD21C95F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B8E06-1A3A-40EA-B559-80FB977A6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707D3-B38D-46F5-BD5B-34EF38F9E2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186B5-23F5-4885-93CD-8AF9B8C86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406ED-7DFA-4743-AB55-F54BB8E92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F724-EA86-4726-A1C9-3003C97D1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2D568-85BB-455A-A656-8B9BEE5803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AF1A-857A-4A0E-A3AB-AD983C4BA9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B3B16-E9AA-4CC6-9E22-7B629023E8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13B1F-3D29-41DC-A28D-449635FBD8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5ED8-E33C-4348-A00B-CB791BEE9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14EA-9428-4CB2-8418-B42508CD2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FC60-96C4-4CC7-9E6C-F9242D2F9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1CAC-68D0-4446-B380-BBA75F33B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7E5F-C8B0-46F9-8CDC-10D849312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9E0A-FA59-46F3-A3A3-386860CEC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5BE2-2C00-4C23-A9E5-2D0131ACC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2610-0E08-4FF2-A6E4-B0BBAFA97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95148947-A048-4930-85B0-9B284B1A0D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FD9C8323-67EA-4439-8C5C-2133A31969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bing Data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merical Meas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07FF5-9597-4FCC-BFB1-2590497949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eighted Me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values are grouped by frequency or relative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3809880"/>
          <a:ext cx="2743200" cy="21862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to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0880" y="2971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ple of 26 Repai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505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 Days to Compl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664080" y="4419720"/>
                <a:ext cx="53276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d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723B-2BA3-45D8-AF29-FD25701B7F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view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238880" y="586728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594360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617220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62485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632448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1344-C094-43AD-9DBC-F0F5FBA364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742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4190-C298-4173-B395-8BA4E254F5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676520" y="1828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ich measure of loca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s the “best”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9BB8-857C-49B5-9E5B-3C9277C02F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114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4114800"/>
            <a:ext cx="0" cy="11430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832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3340080"/>
            <a:ext cx="28958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hape of a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45000" y="4111560"/>
            <a:ext cx="905040" cy="1071720"/>
          </a:xfrm>
          <a:custGeom>
            <a:avLst/>
            <a:gdLst/>
            <a:ahLst/>
            <a:rect l="l" t="t" r="r" b="b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43200" y="4111560"/>
            <a:ext cx="903240" cy="1071720"/>
          </a:xfrm>
          <a:custGeom>
            <a:avLst/>
            <a:gdLst/>
            <a:ahLst/>
            <a:rect l="l" t="t" r="r" b="b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5562720"/>
            <a:ext cx="2943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7960" y="5626080"/>
            <a:ext cx="295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94000" y="4729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4880" y="5562720"/>
            <a:ext cx="301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0" cy="106668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1911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449568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178160"/>
            <a:ext cx="0" cy="106704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44830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478800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59400" y="4211640"/>
            <a:ext cx="4680" cy="87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7600" y="4489560"/>
            <a:ext cx="0" cy="517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257800"/>
            <a:ext cx="1770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52840" y="5295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181480"/>
            <a:ext cx="198108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39120" y="52722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5245200"/>
            <a:ext cx="18288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33600" y="5359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057400" y="5245200"/>
            <a:ext cx="45720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52480" y="524520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8080" y="5245200"/>
            <a:ext cx="685800" cy="4572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5720" y="5181480"/>
            <a:ext cx="53316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391520" y="518148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619760" y="5181120"/>
            <a:ext cx="685800" cy="3812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9480" y="341640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2560" y="3492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960" y="342900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7080" y="6019920"/>
            <a:ext cx="258480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le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4360" y="6019920"/>
            <a:ext cx="270828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129200"/>
            <a:ext cx="1981080" cy="1089000"/>
          </a:xfrm>
          <a:custGeom>
            <a:avLst/>
            <a:gdLst/>
            <a:ahLst/>
            <a:rect l="l" t="t" r="r" b="b"/>
            <a:pathLst>
              <a:path w="1248" h="686">
                <a:moveTo>
                  <a:pt x="0" y="668"/>
                </a:moveTo>
                <a:cubicBezTo>
                  <a:pt x="21" y="666"/>
                  <a:pt x="73" y="669"/>
                  <a:pt x="126" y="656"/>
                </a:cubicBezTo>
                <a:cubicBezTo>
                  <a:pt x="180" y="643"/>
                  <a:pt x="258" y="628"/>
                  <a:pt x="321" y="590"/>
                </a:cubicBezTo>
                <a:cubicBezTo>
                  <a:pt x="385" y="552"/>
                  <a:pt x="413" y="520"/>
                  <a:pt x="506" y="426"/>
                </a:cubicBezTo>
                <a:cubicBezTo>
                  <a:pt x="599" y="332"/>
                  <a:pt x="782" y="0"/>
                  <a:pt x="878" y="25"/>
                </a:cubicBezTo>
                <a:cubicBezTo>
                  <a:pt x="974" y="50"/>
                  <a:pt x="1022" y="472"/>
                  <a:pt x="1084" y="579"/>
                </a:cubicBezTo>
                <a:cubicBezTo>
                  <a:pt x="1146" y="686"/>
                  <a:pt x="1214" y="649"/>
                  <a:pt x="1248" y="66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4059360"/>
            <a:ext cx="1981080" cy="1096920"/>
          </a:xfrm>
          <a:custGeom>
            <a:avLst/>
            <a:gdLst/>
            <a:ahLst/>
            <a:rect l="l" t="t" r="r" b="b"/>
            <a:pathLst>
              <a:path w="1248" h="691">
                <a:moveTo>
                  <a:pt x="1248" y="672"/>
                </a:moveTo>
                <a:cubicBezTo>
                  <a:pt x="1227" y="670"/>
                  <a:pt x="1175" y="673"/>
                  <a:pt x="1122" y="660"/>
                </a:cubicBezTo>
                <a:cubicBezTo>
                  <a:pt x="1068" y="647"/>
                  <a:pt x="990" y="632"/>
                  <a:pt x="927" y="594"/>
                </a:cubicBezTo>
                <a:cubicBezTo>
                  <a:pt x="863" y="556"/>
                  <a:pt x="833" y="525"/>
                  <a:pt x="742" y="430"/>
                </a:cubicBezTo>
                <a:cubicBezTo>
                  <a:pt x="651" y="335"/>
                  <a:pt x="476" y="0"/>
                  <a:pt x="380" y="25"/>
                </a:cubicBezTo>
                <a:cubicBezTo>
                  <a:pt x="284" y="50"/>
                  <a:pt x="227" y="475"/>
                  <a:pt x="164" y="583"/>
                </a:cubicBezTo>
                <a:cubicBezTo>
                  <a:pt x="101" y="691"/>
                  <a:pt x="34" y="653"/>
                  <a:pt x="0" y="67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720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8DC8-AF04-493A-AE93-1048A5D9C3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3434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666880"/>
            <a:ext cx="50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26668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ther Location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1676520"/>
            <a:ext cx="2590920" cy="820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89548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28954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505320"/>
            <a:ext cx="40388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7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4191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 in a data ar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% are less than or equal to thi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– p)% are greater than or equal to this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0 ≤ p ≤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ADF8-F56F-41C2-B83E-EF21061A5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ercen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in an ordered array of n values is the value in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4343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 19 values is the value in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276720" y="2805120"/>
                <a:ext cx="27432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133720" y="5257800"/>
                <a:ext cx="5333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B355-8305-4C12-BCE2-DB9956CBE9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95680" y="5943600"/>
            <a:ext cx="1219320" cy="457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4876920"/>
            <a:ext cx="2819520" cy="685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split the ranked data into 4 equ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292480"/>
            <a:ext cx="114948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2292480"/>
            <a:ext cx="1143000" cy="609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2292480"/>
            <a:ext cx="175896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292480"/>
            <a:ext cx="190512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114800"/>
            <a:ext cx="831060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543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65760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64832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1 =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ercentile, so find the               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(9+1) = 2.5 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use the value half way between the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alu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Q1 = 12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4686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2863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4480" y="4876920"/>
            <a:ext cx="60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52578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200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257800" y="4571640"/>
            <a:ext cx="381240" cy="228600"/>
          </a:xfrm>
          <a:prstGeom prst="rightArrow">
            <a:avLst>
              <a:gd name="adj1" fmla="val 50000"/>
              <a:gd name="adj2" fmla="val 420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0195-EB4A-4176-80A6-03A0E9DEF7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display of data using 5-number 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440" y="25146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di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096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6560" y="3809880"/>
          <a:ext cx="861084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809880"/>
                    <a:ext cx="861084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076400" y="5334120"/>
          <a:ext cx="80676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334120"/>
                    <a:ext cx="80676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2279520" y="426708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25%              25% 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2514600"/>
            <a:ext cx="624816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BB58-4719-491D-8BB3-4B939765EA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hape of Box and Whisker Plo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and Whisker plot can be shown in either vertical or horizont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5120" y="281952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655C-8DF4-44FA-B650-228DEF965CA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s 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efficient of 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A697-81FA-4719-80AC-A7483A5A24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tribution Shape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/>
            <a:ahLst/>
            <a:rect l="l" t="t" r="r" b="b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/>
            <a:ahLst/>
            <a:rect l="l" t="t" r="r" b="b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/>
            <a:ahLst/>
            <a:rect l="l" t="t" r="r" b="b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/>
            <a:ahLst/>
            <a:rect l="l" t="t" r="r" b="b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5113440"/>
            <a:ext cx="990720" cy="463320"/>
          </a:xfrm>
          <a:custGeom>
            <a:avLst/>
            <a:gdLst/>
            <a:ahLst/>
            <a:rect l="l" t="t" r="r" b="b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5113440"/>
            <a:ext cx="609840" cy="457200"/>
          </a:xfrm>
          <a:custGeom>
            <a:avLst/>
            <a:gdLst/>
            <a:ahLst/>
            <a:rect l="l" t="t" r="r" b="b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5113440"/>
            <a:ext cx="761760" cy="457200"/>
          </a:xfrm>
          <a:custGeom>
            <a:avLst/>
            <a:gdLst/>
            <a:ahLst/>
            <a:rect l="l" t="t" r="r" b="b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0A17-7C67-49D2-86D2-B7B41240D1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-and-Whisker Plo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2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2     2      2     3     3     4     5     5    10   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is very right skewed, as the plot dep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914400" y="3657600"/>
          <a:ext cx="70866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657600"/>
                    <a:ext cx="70866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1600200" y="5029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3   5                      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81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 Q1                    Q2                    Q3         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32004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259E-617F-4FCD-99A1-CCB41EDB41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886200"/>
            <a:ext cx="427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24280" y="20574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1676520"/>
            <a:ext cx="175248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81080" y="2666880"/>
            <a:ext cx="1371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6686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9440" y="2668680"/>
            <a:ext cx="190368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8862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350532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952880"/>
            <a:ext cx="238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457200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065400"/>
            <a:ext cx="0" cy="18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495288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76920" y="3429000"/>
            <a:ext cx="16002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4648320"/>
            <a:ext cx="15210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505320"/>
            <a:ext cx="1749600" cy="6742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37B6-75CA-4ED3-B893-423E5ACDC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410080"/>
            <a:ext cx="2362320" cy="7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A38A-A6B2-4CE4-8D75-B48C15E237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124080"/>
            <a:ext cx="5105520" cy="14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49560" y="5029200"/>
            <a:ext cx="33559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49960" y="5029200"/>
            <a:ext cx="12985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5105520"/>
            <a:ext cx="564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5791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623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510552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774E-D28A-4A84-8D8F-812B16C212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advantages of th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ED75-9FD2-4BE0-B597-F75E196EA0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eliminate some outlier problems by using the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some high-and low-valued observations and calculate the range from the remaining valu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B70E-48E8-4331-BAB1-3CF8006125D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/>
            <a:ahLst/>
            <a:rect l="l" t="t" r="r" b="b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BC84-CA7A-4536-B8D9-17D4965E301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724280" y="4800600"/>
                <a:ext cx="2781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724280" y="2666880"/>
                <a:ext cx="274824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D1C5-DAFB-469A-9C58-98C15AD5AF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791320" y="5105520"/>
                <a:ext cx="2427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791320" y="3352680"/>
                <a:ext cx="2398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D137-1488-4D1E-887F-ECC544E72E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Top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mean, percentiles,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05BF-5830-4F1B-B90A-4DE58D1517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743200" y="5791320"/>
            <a:ext cx="1143000" cy="457200"/>
          </a:xfrm>
          <a:prstGeom prst="rect">
            <a:avLst/>
          </a:prstGeom>
          <a:solidFill>
            <a:srgbClr val="e5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on Example: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Standard Dev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2666880"/>
            <a:ext cx="472428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69880" y="3295800"/>
                <a:ext cx="8082000" cy="31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6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5562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F172-748D-4677-B588-CF70153A866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Devi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03600" y="3308400"/>
          <a:ext cx="4302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308400"/>
                    <a:ext cx="4302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934320" y="2162160"/>
            <a:ext cx="1981080" cy="9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79360" y="26668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81000" y="26542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20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955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86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29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292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01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32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12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81000" y="410220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63800" y="335448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3800" y="1830240"/>
            <a:ext cx="12920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55600" y="411480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94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529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1940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1940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292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22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01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9000" y="365760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81000" y="563868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55600" y="56386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2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2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34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4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4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52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768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9000" y="5181480"/>
            <a:ext cx="1976400" cy="78480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1000" y="4802040"/>
            <a:ext cx="129204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84CA-618C-443C-A1F4-5F0520A20C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in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164200" y="5105520"/>
                <a:ext cx="353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725400" y="5135400"/>
                <a:ext cx="3506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4479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8E97-B8D0-41B0-A3C7-F5AA3D1D19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Coefficient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752480" y="2895480"/>
                <a:ext cx="5257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752480" y="525780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3706-49B5-4C4B-896A-F6E3D1B847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311120" y="281952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4572000" y="3906720"/>
            <a:ext cx="847800" cy="1503360"/>
          </a:xfrm>
          <a:custGeom>
            <a:avLst/>
            <a:gdLst/>
            <a:ahLst/>
            <a:rect l="l" t="t" r="r" b="b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43280" y="3913200"/>
            <a:ext cx="838080" cy="1496880"/>
          </a:xfrm>
          <a:custGeom>
            <a:avLst/>
            <a:gdLst/>
            <a:ahLst/>
            <a:rect l="l" t="t" r="r" b="b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0" y="54100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487760" y="538956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80952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609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1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390672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05440" y="589428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362320" y="3886200"/>
            <a:ext cx="2232000" cy="14526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3886200"/>
            <a:ext cx="2227320" cy="14526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8373-41E1-4B29-BF5C-0231FF6C31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/>
            <a:ahLst/>
            <a:rect l="l" t="t" r="r" b="b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/>
            <a:ahLst/>
            <a:rect l="l" t="t" r="r" b="b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/>
            <a:ahLst/>
            <a:rect l="l" t="t" r="r" b="b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0160" y="5465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/>
            <a:ahLst/>
            <a:rect l="l" t="t" r="r" b="b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3040" y="54975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D756-FC23-48EE-AB92-56BC387DA9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590920" y="4191120"/>
            <a:ext cx="533376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how the data are distributed, at lea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1 - 1/k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will fall with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1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1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.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2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2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3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3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14400" y="304920"/>
            <a:ext cx="772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chebysheff’s Theor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4400" y="4114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778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16AC-676E-4D35-8FB2-98B0386509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ized data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standard deviations a value is from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values are sometimes referred to 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Data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CA08-8060-42B1-A28D-41692BE17D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Population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76720" y="1676520"/>
                <a:ext cx="21430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42FB-F2EE-4EAF-8E4F-69C7A31955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ample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Sample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3254400" y="1676520"/>
                <a:ext cx="2189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B5F6-E608-4244-9050-F1700A27C6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341960" y="2055960"/>
            <a:ext cx="0" cy="11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160" y="2665440"/>
            <a:ext cx="2665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and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3840" y="2360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3351240"/>
            <a:ext cx="914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666880"/>
            <a:ext cx="2209680" cy="698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954680"/>
            <a:ext cx="2057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752480"/>
            <a:ext cx="36558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8840" y="2360520"/>
            <a:ext cx="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2666880"/>
            <a:ext cx="14479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572000"/>
            <a:ext cx="129564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814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5791320"/>
            <a:ext cx="182880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352680"/>
            <a:ext cx="9907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65760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96252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3080" y="4268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CFEA-9354-4355-AAE0-33F76556D5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Microsoft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are easy to obtain from Microsof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61F7-0487-4412-BEEF-3DD28D5753A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581720" cy="4543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4038480" cy="20001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724280" y="5181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981080"/>
            <a:ext cx="40384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3D4B-3B3C-45B9-91F1-B26A1F9AD1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200560" cy="36576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3292-C815-4ABE-A452-D6C1FF4D60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254880" y="178092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43000" y="3200400"/>
            <a:ext cx="2057400" cy="2533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36880" cy="4343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029200" y="25146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29200" y="32767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3505320"/>
            <a:ext cx="167652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37339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A7A8-739D-4B18-A0D6-5C1303ABE8E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ercentiles an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ox and Whisker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F97D-68C6-44EA-B058-05774092426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distributi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sk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chebysheff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standardized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B0C4-B9CF-4725-9A43-02BDA42C42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Center and Loc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er and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3278160"/>
            <a:ext cx="13701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9360" y="3278160"/>
            <a:ext cx="1292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276720"/>
            <a:ext cx="12189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76720"/>
            <a:ext cx="2062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31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1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3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23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4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7512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03696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370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76244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2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7360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360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6440" y="3962520"/>
                <a:ext cx="1284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4038480"/>
                <a:ext cx="21812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581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291B-839D-4111-B54F-769EF0936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rithmetic average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572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Populatio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962160" y="2743200"/>
            <a:ext cx="990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4800600"/>
            <a:ext cx="9144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819520" y="2819520"/>
                <a:ext cx="46479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40120" y="4830840"/>
                <a:ext cx="468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096E-6C5A-4AED-97C5-C08FC40F08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measure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541008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76880" y="541008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9E68-EFE8-4979-ABAB-9A8DB92685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rdered array, the median is the “middle”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odd, the median is the middl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even, the median is the average of the two midd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55242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71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040" y="25797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11808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705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5909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8C1D-EFF3-49DA-8E9E-D01C4A1150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central t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at occur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ither numerical or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may be no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8240" y="5576760"/>
            <a:ext cx="3354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200" y="5570640"/>
            <a:ext cx="55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3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876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6019920"/>
            <a:ext cx="144756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913760" y="6010920"/>
            <a:ext cx="533520" cy="24624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8640" y="5576760"/>
            <a:ext cx="129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5562720"/>
            <a:ext cx="183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07080" y="5562720"/>
            <a:ext cx="253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616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707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6019920"/>
            <a:ext cx="14698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C947-B5C5-4C26-8CEE-72521611EE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2:59Z</dcterms:modified>
  <cp:revision>75</cp:revision>
  <dc:subject>Chapter 3</dc:subject>
  <dc:title>Business Statistics: A Decision-Making Approach, 6th edition</dc:title>
</cp:coreProperties>
</file>