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6DD4093-2CC1-4F3E-B8B9-296F0A89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74F6-44BB-4C3F-ADD3-44403C38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8D47-3F76-48F8-AB69-869738E7E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2083-1C6B-462E-A626-563A4400D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F5B2-379A-45CD-A771-CDD530DE8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6D1BC-88B5-4DA0-8CFE-B86C9A655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4B64F-F18D-4224-8E87-35767CE2D2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F77A0-CAE5-483D-9E64-02F3FE169A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53C65-C9E3-4E6E-AB5A-56EEC7BFB3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0931-A4BC-4BBF-B760-CADA5C8F7E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932B1-F886-42A1-AC9A-24A991531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ACBAC-0C45-4145-994F-5741C5C4F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CCBB-07F8-4E58-9755-24EFC238C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7B3F-C2F9-4BA6-A765-6127E2DAE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5CE63-74FA-4410-BFE7-FA39A11D2A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BACE9-7947-49F9-8966-CD605B8DE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EFD16-EDD9-480B-A122-DB5BFEE95A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0C16-DB97-4818-84F6-FA8B08D6E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05A2-03E3-4539-A3A9-677B7E9E5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766C-EFAB-44AB-B434-16297C1E3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F948-D15D-46DC-B212-300A5015B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9DA2-D09D-4566-9F3E-6BACF0843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8DD4-0025-4A23-AFF4-16AD9711D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5BD4-03A7-4743-A87A-21A850BE5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03DA-1F94-491B-8DB4-DBC455A69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FF21371-6170-4BBD-9CB4-E7082F7BA3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9640F1D-06CD-48E3-B8AE-B6753FC732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13A3C32-B939-4CE9-B2CE-C6971AAE24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Probabilit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C7C7E20-3EFB-4B82-8F7D-1B5361CBC9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828800" y="4267080"/>
            <a:ext cx="5029200" cy="838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752480" y="2057400"/>
            <a:ext cx="5715000" cy="838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37160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Independent Eve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one flip of fair coi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heads on second flip of same coi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sult of second flip does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no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pend on the result of the first flip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6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Dependent Eve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rain forecasted on the new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take umbrella to work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bility of the second event </a:t>
            </a:r>
            <a:r>
              <a:rPr b="0" lang="en-US" sz="2300" spc="-1" strike="noStrike" u="sng">
                <a:solidFill>
                  <a:srgbClr val="3333cc"/>
                </a:solidFill>
                <a:uFillTx/>
                <a:latin typeface="Arial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ffected by the occurrence of the first even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dependent vs. Dependent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671939E-1293-44A4-A5EF-354E2834EB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ssigning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ical Probabi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32004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Frequency of Occur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685800" y="480060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jective Probability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828800" y="24382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276720" y="2209680"/>
            <a:ext cx="4190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way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occ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elementary ev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352680" y="2590920"/>
            <a:ext cx="3962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133720" y="41148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.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267080" y="3886200"/>
            <a:ext cx="41911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ime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76920" y="4267080"/>
            <a:ext cx="297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133720" y="54100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pinion or judgment by a decision maker about the likelihood of an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265F4863-38D5-47D9-9658-654D26B737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ules of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048120" y="1676520"/>
            <a:ext cx="2590560" cy="11430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al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143000" y="3200400"/>
            <a:ext cx="243828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952880" y="3200400"/>
            <a:ext cx="2667240" cy="7621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All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10"/>
          <p:cNvCxnSpPr>
            <a:stCxn id="259" idx="2"/>
            <a:endCxn id="261" idx="0"/>
          </p:cNvCxnSpPr>
          <p:nvPr/>
        </p:nvCxnSpPr>
        <p:spPr>
          <a:xfrm flipH="1" rot="16200000">
            <a:off x="5124600" y="2037960"/>
            <a:ext cx="381600" cy="19440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3" name="AutoShape 11"/>
          <p:cNvCxnSpPr>
            <a:stCxn id="259" idx="2"/>
            <a:endCxn id="260" idx="0"/>
          </p:cNvCxnSpPr>
          <p:nvPr/>
        </p:nvCxnSpPr>
        <p:spPr>
          <a:xfrm rot="5400000">
            <a:off x="3161520" y="2019240"/>
            <a:ext cx="381600" cy="1981800"/>
          </a:xfrm>
          <a:prstGeom prst="bentConnector3">
            <a:avLst>
              <a:gd name="adj1" fmla="val 49952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Text Box 12"/>
          <p:cNvSpPr/>
          <p:nvPr/>
        </p:nvSpPr>
        <p:spPr>
          <a:xfrm>
            <a:off x="1143000" y="4267080"/>
            <a:ext cx="2438280" cy="11167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P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≤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event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4"/>
              <p:cNvSpPr txBox="1"/>
              <p:nvPr/>
            </p:nvSpPr>
            <p:spPr>
              <a:xfrm>
                <a:off x="5396040" y="4248000"/>
                <a:ext cx="1788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15"/>
          <p:cNvSpPr/>
          <p:nvPr/>
        </p:nvSpPr>
        <p:spPr>
          <a:xfrm>
            <a:off x="4343400" y="5257800"/>
            <a:ext cx="457200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 Number of elementary ev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in the 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ementary ev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6324480" y="3962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AB9BDEB-43BD-4A37-8756-2051A680B6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209680" y="5105520"/>
            <a:ext cx="52578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352680" y="3962520"/>
            <a:ext cx="2895840" cy="6858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Elementary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ability of an event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equal to the sum of the probabilities of the elementary events forming 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ts val="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, i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376E4B5-8B40-4214-AA34-6FD65391C6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lement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plement</a:t>
            </a:r>
            <a:r>
              <a:rPr b="0" i="1" lang="en-US" sz="27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 an event E is the collection of all possible elementary event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ontained in event E.  The complement of event E is represented 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ment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35812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1414440" y="4648320"/>
                <a:ext cx="3417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6"/>
          <p:cNvSpPr/>
          <p:nvPr/>
        </p:nvSpPr>
        <p:spPr>
          <a:xfrm>
            <a:off x="5867280" y="4495680"/>
            <a:ext cx="2819520" cy="1067040"/>
          </a:xfrm>
          <a:prstGeom prst="rect">
            <a:avLst/>
          </a:prstGeom>
          <a:solidFill>
            <a:srgbClr val="33cc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7315200" y="4648320"/>
            <a:ext cx="1066680" cy="838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5867280" y="3200400"/>
            <a:ext cx="2819520" cy="1066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7315200" y="3352680"/>
            <a:ext cx="106668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640260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47712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7621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5"/>
              <p:cNvSpPr txBox="1"/>
              <p:nvPr/>
            </p:nvSpPr>
            <p:spPr>
              <a:xfrm>
                <a:off x="5900760" y="5638680"/>
                <a:ext cx="267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6"/>
          <p:cNvSpPr/>
          <p:nvPr/>
        </p:nvSpPr>
        <p:spPr>
          <a:xfrm>
            <a:off x="5105520" y="571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45720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45720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5B4D4AD3-2245-4125-B0B5-F412C03580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for Two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295280" y="2286000"/>
            <a:ext cx="7010640" cy="5745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365760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5"/>
          <p:cNvSpPr/>
          <p:nvPr/>
        </p:nvSpPr>
        <p:spPr>
          <a:xfrm>
            <a:off x="4495680" y="3505320"/>
            <a:ext cx="90972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990720" y="3352680"/>
            <a:ext cx="220968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7"/>
          <p:cNvSpPr/>
          <p:nvPr/>
        </p:nvSpPr>
        <p:spPr>
          <a:xfrm>
            <a:off x="1523880" y="3505320"/>
            <a:ext cx="909720" cy="815760"/>
          </a:xfrm>
          <a:prstGeom prst="ellipse">
            <a:avLst/>
          </a:prstGeom>
          <a:solidFill>
            <a:srgbClr val="fec6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8"/>
          <p:cNvSpPr/>
          <p:nvPr/>
        </p:nvSpPr>
        <p:spPr>
          <a:xfrm>
            <a:off x="175464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48027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6324480" y="3352680"/>
            <a:ext cx="221004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6"/>
          <p:cNvSpPr/>
          <p:nvPr/>
        </p:nvSpPr>
        <p:spPr>
          <a:xfrm>
            <a:off x="7162920" y="3505320"/>
            <a:ext cx="909360" cy="815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6629400" y="3505320"/>
            <a:ext cx="909720" cy="81576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990720" y="4876920"/>
            <a:ext cx="7619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</a:t>
            </a:r>
            <a:r>
              <a:rPr b="1" lang="en-US" sz="2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3"/>
          <p:cNvSpPr/>
          <p:nvPr/>
        </p:nvSpPr>
        <p:spPr>
          <a:xfrm flipH="1" flipV="1">
            <a:off x="2209680" y="41148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4"/>
          <p:cNvSpPr/>
          <p:nvPr/>
        </p:nvSpPr>
        <p:spPr>
          <a:xfrm flipV="1">
            <a:off x="4952880" y="411480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5715000" y="5410080"/>
            <a:ext cx="266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common elements twic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8"/>
          <p:cNvSpPr/>
          <p:nvPr/>
        </p:nvSpPr>
        <p:spPr>
          <a:xfrm>
            <a:off x="1143000" y="1676520"/>
            <a:ext cx="701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6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ddition Ru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0"/>
          <p:cNvSpPr/>
          <p:nvPr/>
        </p:nvSpPr>
        <p:spPr>
          <a:xfrm>
            <a:off x="66315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1"/>
          <p:cNvSpPr/>
          <p:nvPr/>
        </p:nvSpPr>
        <p:spPr>
          <a:xfrm>
            <a:off x="7545960" y="3657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72"/>
          <p:cNvSpPr/>
          <p:nvPr/>
        </p:nvSpPr>
        <p:spPr>
          <a:xfrm>
            <a:off x="7159680" y="3581280"/>
            <a:ext cx="395280" cy="66996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119" y="0"/>
                </a:moveTo>
                <a:cubicBezTo>
                  <a:pt x="113" y="4"/>
                  <a:pt x="107" y="8"/>
                  <a:pt x="101" y="12"/>
                </a:cubicBezTo>
                <a:cubicBezTo>
                  <a:pt x="95" y="21"/>
                  <a:pt x="85" y="27"/>
                  <a:pt x="76" y="33"/>
                </a:cubicBezTo>
                <a:cubicBezTo>
                  <a:pt x="72" y="40"/>
                  <a:pt x="66" y="46"/>
                  <a:pt x="59" y="50"/>
                </a:cubicBezTo>
                <a:cubicBezTo>
                  <a:pt x="51" y="60"/>
                  <a:pt x="43" y="72"/>
                  <a:pt x="34" y="81"/>
                </a:cubicBezTo>
                <a:cubicBezTo>
                  <a:pt x="29" y="94"/>
                  <a:pt x="22" y="109"/>
                  <a:pt x="14" y="120"/>
                </a:cubicBezTo>
                <a:cubicBezTo>
                  <a:pt x="13" y="125"/>
                  <a:pt x="8" y="135"/>
                  <a:pt x="8" y="135"/>
                </a:cubicBezTo>
                <a:cubicBezTo>
                  <a:pt x="7" y="151"/>
                  <a:pt x="5" y="167"/>
                  <a:pt x="2" y="183"/>
                </a:cubicBezTo>
                <a:cubicBezTo>
                  <a:pt x="3" y="207"/>
                  <a:pt x="0" y="246"/>
                  <a:pt x="10" y="272"/>
                </a:cubicBezTo>
                <a:cubicBezTo>
                  <a:pt x="11" y="279"/>
                  <a:pt x="13" y="286"/>
                  <a:pt x="16" y="293"/>
                </a:cubicBezTo>
                <a:cubicBezTo>
                  <a:pt x="19" y="308"/>
                  <a:pt x="26" y="321"/>
                  <a:pt x="37" y="332"/>
                </a:cubicBezTo>
                <a:cubicBezTo>
                  <a:pt x="46" y="341"/>
                  <a:pt x="46" y="353"/>
                  <a:pt x="58" y="360"/>
                </a:cubicBezTo>
                <a:cubicBezTo>
                  <a:pt x="59" y="367"/>
                  <a:pt x="61" y="368"/>
                  <a:pt x="67" y="372"/>
                </a:cubicBezTo>
                <a:cubicBezTo>
                  <a:pt x="74" y="384"/>
                  <a:pt x="79" y="395"/>
                  <a:pt x="91" y="402"/>
                </a:cubicBezTo>
                <a:cubicBezTo>
                  <a:pt x="95" y="408"/>
                  <a:pt x="111" y="422"/>
                  <a:pt x="119" y="422"/>
                </a:cubicBezTo>
                <a:cubicBezTo>
                  <a:pt x="119" y="422"/>
                  <a:pt x="129" y="413"/>
                  <a:pt x="131" y="413"/>
                </a:cubicBezTo>
                <a:cubicBezTo>
                  <a:pt x="137" y="408"/>
                  <a:pt x="131" y="411"/>
                  <a:pt x="139" y="410"/>
                </a:cubicBezTo>
                <a:cubicBezTo>
                  <a:pt x="151" y="401"/>
                  <a:pt x="160" y="389"/>
                  <a:pt x="172" y="380"/>
                </a:cubicBezTo>
                <a:cubicBezTo>
                  <a:pt x="175" y="374"/>
                  <a:pt x="178" y="371"/>
                  <a:pt x="184" y="368"/>
                </a:cubicBezTo>
                <a:cubicBezTo>
                  <a:pt x="189" y="359"/>
                  <a:pt x="193" y="349"/>
                  <a:pt x="199" y="341"/>
                </a:cubicBezTo>
                <a:cubicBezTo>
                  <a:pt x="200" y="334"/>
                  <a:pt x="205" y="334"/>
                  <a:pt x="208" y="327"/>
                </a:cubicBezTo>
                <a:cubicBezTo>
                  <a:pt x="209" y="320"/>
                  <a:pt x="213" y="314"/>
                  <a:pt x="217" y="308"/>
                </a:cubicBezTo>
                <a:cubicBezTo>
                  <a:pt x="218" y="302"/>
                  <a:pt x="221" y="299"/>
                  <a:pt x="223" y="294"/>
                </a:cubicBezTo>
                <a:cubicBezTo>
                  <a:pt x="224" y="288"/>
                  <a:pt x="226" y="281"/>
                  <a:pt x="229" y="275"/>
                </a:cubicBezTo>
                <a:cubicBezTo>
                  <a:pt x="230" y="269"/>
                  <a:pt x="232" y="263"/>
                  <a:pt x="235" y="257"/>
                </a:cubicBezTo>
                <a:cubicBezTo>
                  <a:pt x="236" y="251"/>
                  <a:pt x="238" y="245"/>
                  <a:pt x="241" y="239"/>
                </a:cubicBezTo>
                <a:cubicBezTo>
                  <a:pt x="243" y="206"/>
                  <a:pt x="249" y="166"/>
                  <a:pt x="233" y="134"/>
                </a:cubicBezTo>
                <a:cubicBezTo>
                  <a:pt x="232" y="128"/>
                  <a:pt x="228" y="121"/>
                  <a:pt x="224" y="116"/>
                </a:cubicBezTo>
                <a:cubicBezTo>
                  <a:pt x="219" y="90"/>
                  <a:pt x="181" y="56"/>
                  <a:pt x="163" y="38"/>
                </a:cubicBezTo>
                <a:cubicBezTo>
                  <a:pt x="154" y="29"/>
                  <a:pt x="143" y="16"/>
                  <a:pt x="131" y="14"/>
                </a:cubicBezTo>
                <a:cubicBezTo>
                  <a:pt x="127" y="7"/>
                  <a:pt x="119" y="7"/>
                  <a:pt x="119" y="0"/>
                </a:cubicBezTo>
                <a:close/>
              </a:path>
            </a:pathLst>
          </a:custGeom>
          <a:solidFill>
            <a:srgbClr val="96969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 flipV="1">
            <a:off x="6934320" y="403812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3"/>
          <p:cNvSpPr/>
          <p:nvPr/>
        </p:nvSpPr>
        <p:spPr>
          <a:xfrm>
            <a:off x="5638680" y="4876920"/>
            <a:ext cx="2590920" cy="121896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4"/>
          <p:cNvSpPr/>
          <p:nvPr/>
        </p:nvSpPr>
        <p:spPr>
          <a:xfrm>
            <a:off x="327672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5"/>
          <p:cNvSpPr/>
          <p:nvPr/>
        </p:nvSpPr>
        <p:spPr>
          <a:xfrm>
            <a:off x="5943600" y="3581280"/>
            <a:ext cx="38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CEEF4C4-ADEE-43A2-9C8C-0534847B24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69"/>
          <p:cNvSpPr/>
          <p:nvPr/>
        </p:nvSpPr>
        <p:spPr>
          <a:xfrm>
            <a:off x="3809880" y="3962520"/>
            <a:ext cx="68580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0"/>
          <p:cNvSpPr/>
          <p:nvPr/>
        </p:nvSpPr>
        <p:spPr>
          <a:xfrm>
            <a:off x="3809880" y="4038480"/>
            <a:ext cx="19814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505320" y="2743200"/>
            <a:ext cx="45720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2"/>
          <p:cNvSpPr/>
          <p:nvPr/>
        </p:nvSpPr>
        <p:spPr>
          <a:xfrm>
            <a:off x="4495680" y="2743200"/>
            <a:ext cx="152640" cy="1295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ddition Rul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838080" y="1752480"/>
            <a:ext cx="76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7"/>
          <p:cNvSpPr/>
          <p:nvPr/>
        </p:nvSpPr>
        <p:spPr>
          <a:xfrm>
            <a:off x="914400" y="2362320"/>
            <a:ext cx="670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+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-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 =  28/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4"/>
          <p:cNvSpPr/>
          <p:nvPr/>
        </p:nvSpPr>
        <p:spPr>
          <a:xfrm>
            <a:off x="7315200" y="2743200"/>
            <a:ext cx="1523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the two red aces twic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5"/>
          <p:cNvSpPr/>
          <p:nvPr/>
        </p:nvSpPr>
        <p:spPr>
          <a:xfrm flipH="1">
            <a:off x="4190760" y="2819520"/>
            <a:ext cx="1143000" cy="1371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01320" y="35812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724280" y="45720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4191120" y="31240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2134080" y="34290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734280" y="35812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986440" y="34624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8"/>
          <p:cNvSpPr/>
          <p:nvPr/>
        </p:nvSpPr>
        <p:spPr>
          <a:xfrm>
            <a:off x="1806480" y="40734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9"/>
          <p:cNvSpPr/>
          <p:nvPr/>
        </p:nvSpPr>
        <p:spPr>
          <a:xfrm>
            <a:off x="394632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4761000" y="40449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1"/>
          <p:cNvSpPr/>
          <p:nvPr/>
        </p:nvSpPr>
        <p:spPr>
          <a:xfrm>
            <a:off x="517680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2"/>
          <p:cNvSpPr/>
          <p:nvPr/>
        </p:nvSpPr>
        <p:spPr>
          <a:xfrm>
            <a:off x="6323040" y="4062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1807920" y="46306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38498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507996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6227640" y="46195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1"/>
          <p:cNvSpPr/>
          <p:nvPr/>
        </p:nvSpPr>
        <p:spPr>
          <a:xfrm>
            <a:off x="1806480" y="51894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2"/>
          <p:cNvSpPr/>
          <p:nvPr/>
        </p:nvSpPr>
        <p:spPr>
          <a:xfrm>
            <a:off x="38498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3"/>
          <p:cNvSpPr/>
          <p:nvPr/>
        </p:nvSpPr>
        <p:spPr>
          <a:xfrm>
            <a:off x="507996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227640" y="51786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8"/>
          <p:cNvSpPr/>
          <p:nvPr/>
        </p:nvSpPr>
        <p:spPr>
          <a:xfrm>
            <a:off x="472428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9"/>
          <p:cNvSpPr/>
          <p:nvPr/>
        </p:nvSpPr>
        <p:spPr>
          <a:xfrm>
            <a:off x="1752480" y="403848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0"/>
          <p:cNvSpPr/>
          <p:nvPr/>
        </p:nvSpPr>
        <p:spPr>
          <a:xfrm>
            <a:off x="6019920" y="3149640"/>
            <a:ext cx="0" cy="25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1"/>
          <p:cNvSpPr/>
          <p:nvPr/>
        </p:nvSpPr>
        <p:spPr>
          <a:xfrm>
            <a:off x="3505320" y="35812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2"/>
          <p:cNvSpPr/>
          <p:nvPr/>
        </p:nvSpPr>
        <p:spPr>
          <a:xfrm>
            <a:off x="3505320" y="312408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63"/>
          <p:cNvSpPr/>
          <p:nvPr/>
        </p:nvSpPr>
        <p:spPr>
          <a:xfrm>
            <a:off x="1752480" y="5105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4"/>
          <p:cNvSpPr/>
          <p:nvPr/>
        </p:nvSpPr>
        <p:spPr>
          <a:xfrm>
            <a:off x="1752480" y="45720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1752480" y="3124080"/>
            <a:ext cx="53341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8"/>
          <p:cNvSpPr/>
          <p:nvPr/>
        </p:nvSpPr>
        <p:spPr>
          <a:xfrm>
            <a:off x="3809880" y="51814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6"/>
          <p:cNvSpPr/>
          <p:nvPr/>
        </p:nvSpPr>
        <p:spPr>
          <a:xfrm>
            <a:off x="5181480" y="2362320"/>
            <a:ext cx="838440" cy="4572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703E0DC-732C-474C-BDC1-CF50EBF3B4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ddition Rule for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Mutually Exclusive Even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E1 and E2 ar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(E1 and E2) =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685800" y="4343400"/>
            <a:ext cx="7010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-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2590920" y="5105520"/>
            <a:ext cx="3200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P(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0"/>
          <p:cNvSpPr/>
          <p:nvPr/>
        </p:nvSpPr>
        <p:spPr>
          <a:xfrm>
            <a:off x="5257800" y="4191120"/>
            <a:ext cx="2286000" cy="9144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 rot="19467600">
            <a:off x="7086600" y="3809520"/>
            <a:ext cx="7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6019920" y="2362320"/>
            <a:ext cx="2209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3"/>
          <p:cNvSpPr/>
          <p:nvPr/>
        </p:nvSpPr>
        <p:spPr>
          <a:xfrm>
            <a:off x="7238880" y="2514600"/>
            <a:ext cx="909720" cy="8161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4"/>
          <p:cNvSpPr/>
          <p:nvPr/>
        </p:nvSpPr>
        <p:spPr>
          <a:xfrm>
            <a:off x="6172200" y="2514600"/>
            <a:ext cx="909720" cy="816120"/>
          </a:xfrm>
          <a:prstGeom prst="ellipse">
            <a:avLst/>
          </a:prstGeom>
          <a:solidFill>
            <a:srgbClr val="fec6d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632664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7"/>
          <p:cNvSpPr/>
          <p:nvPr/>
        </p:nvSpPr>
        <p:spPr>
          <a:xfrm>
            <a:off x="7393680" y="2666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8"/>
          <p:cNvSpPr/>
          <p:nvPr/>
        </p:nvSpPr>
        <p:spPr>
          <a:xfrm rot="19467600">
            <a:off x="7164720" y="3885480"/>
            <a:ext cx="149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mutual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xclu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38FD0D8F-8CCF-41BF-B14A-548473ABF6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ditional probability for an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ev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1962000" y="3124080"/>
                <a:ext cx="4915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2720880" y="4896000"/>
                <a:ext cx="3038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3E77F04-ADF8-4FAE-B27D-73C0981AEA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probability that a car has a CD player, given that it has A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we want to find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CD | 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85800" y="1828800"/>
            <a:ext cx="8077320" cy="129528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ars on a used car lot, 70% have air conditioning (AC) and 40% have a CD player (CD).  20% of the cars have bo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5AC6EAA-3F83-4644-B27D-D7F7A8645B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ree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expected value and standard deviation for a discrete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6A4775E-D536-4033-B8FE-F53B59C284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5"/>
          <p:cNvSpPr/>
          <p:nvPr/>
        </p:nvSpPr>
        <p:spPr>
          <a:xfrm>
            <a:off x="3581280" y="3200400"/>
            <a:ext cx="2514600" cy="1066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4"/>
          <p:cNvSpPr/>
          <p:nvPr/>
        </p:nvSpPr>
        <p:spPr>
          <a:xfrm>
            <a:off x="3581280" y="2743200"/>
            <a:ext cx="3581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1828800" y="3200400"/>
            <a:ext cx="1752480" cy="167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877640" y="2743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800600" y="3733920"/>
            <a:ext cx="120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10960" y="274320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171120" y="274320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3"/>
          <p:cNvSpPr/>
          <p:nvPr/>
        </p:nvSpPr>
        <p:spPr>
          <a:xfrm>
            <a:off x="1883160" y="32353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396180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836960" y="3206880"/>
            <a:ext cx="1206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112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640008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7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1883520" y="379260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9"/>
          <p:cNvSpPr/>
          <p:nvPr/>
        </p:nvSpPr>
        <p:spPr>
          <a:xfrm>
            <a:off x="392544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515556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6400080" y="3809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882800" y="43513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392544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515556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6303600" y="434016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1828800" y="320040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6095880" y="2743200"/>
            <a:ext cx="0" cy="21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0"/>
          <p:cNvSpPr/>
          <p:nvPr/>
        </p:nvSpPr>
        <p:spPr>
          <a:xfrm>
            <a:off x="3581280" y="2743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1"/>
          <p:cNvSpPr/>
          <p:nvPr/>
        </p:nvSpPr>
        <p:spPr>
          <a:xfrm>
            <a:off x="182880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2"/>
          <p:cNvSpPr/>
          <p:nvPr/>
        </p:nvSpPr>
        <p:spPr>
          <a:xfrm>
            <a:off x="1828800" y="37339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1828800" y="2743200"/>
            <a:ext cx="533412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4"/>
          <p:cNvSpPr/>
          <p:nvPr/>
        </p:nvSpPr>
        <p:spPr>
          <a:xfrm>
            <a:off x="3886200" y="43434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914400" y="1523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ars on a used car lot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ir conditioning (AC)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CD player (CD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rs have bo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7"/>
          <p:cNvSpPr/>
          <p:nvPr/>
        </p:nvSpPr>
        <p:spPr>
          <a:xfrm>
            <a:off x="3200400" y="2209680"/>
            <a:ext cx="914400" cy="228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8"/>
          <p:cNvSpPr/>
          <p:nvPr/>
        </p:nvSpPr>
        <p:spPr>
          <a:xfrm>
            <a:off x="5638680" y="1905120"/>
            <a:ext cx="91440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9"/>
          <p:cNvSpPr/>
          <p:nvPr/>
        </p:nvSpPr>
        <p:spPr>
          <a:xfrm>
            <a:off x="1905120" y="2590920"/>
            <a:ext cx="2133360" cy="838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1"/>
              <p:cNvSpPr txBox="1"/>
              <p:nvPr/>
            </p:nvSpPr>
            <p:spPr>
              <a:xfrm>
                <a:off x="1046160" y="5181480"/>
                <a:ext cx="6977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Text Box 4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6CFE98E-9E32-40CC-8C99-857BF2CCAA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/>
          <p:cNvSpPr/>
          <p:nvPr/>
        </p:nvSpPr>
        <p:spPr>
          <a:xfrm>
            <a:off x="1828800" y="3048120"/>
            <a:ext cx="5334120" cy="533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nditional Probability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4877640" y="25909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4800600" y="358128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810960" y="25909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6171120" y="259092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1883160" y="308304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96180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4836960" y="305424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518112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640008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1883520" y="363996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392544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515556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6400080" y="36576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1882800" y="41990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392544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515556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6324120" y="419112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4800600" y="25909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1828800" y="304812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6095880" y="2590920"/>
            <a:ext cx="0" cy="21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3581280" y="2590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1828800" y="41148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6"/>
          <p:cNvSpPr/>
          <p:nvPr/>
        </p:nvSpPr>
        <p:spPr>
          <a:xfrm>
            <a:off x="1828800" y="2590920"/>
            <a:ext cx="5334120" cy="213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7"/>
          <p:cNvSpPr/>
          <p:nvPr/>
        </p:nvSpPr>
        <p:spPr>
          <a:xfrm>
            <a:off x="3886200" y="41911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8"/>
          <p:cNvSpPr/>
          <p:nvPr/>
        </p:nvSpPr>
        <p:spPr>
          <a:xfrm>
            <a:off x="76212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C, we only consider the top row (70% of the cars). Of these, 20% have a CD player.  20% of 70% is about 28.57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2"/>
              <p:cNvSpPr txBox="1"/>
              <p:nvPr/>
            </p:nvSpPr>
            <p:spPr>
              <a:xfrm>
                <a:off x="1046160" y="5029200"/>
                <a:ext cx="6977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Oval 34"/>
          <p:cNvSpPr/>
          <p:nvPr/>
        </p:nvSpPr>
        <p:spPr>
          <a:xfrm>
            <a:off x="3886200" y="3048120"/>
            <a:ext cx="60948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6324480" y="3048120"/>
            <a:ext cx="60984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7"/>
          <p:cNvSpPr/>
          <p:nvPr/>
        </p:nvSpPr>
        <p:spPr>
          <a:xfrm>
            <a:off x="4495680" y="3429000"/>
            <a:ext cx="175284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8"/>
          <p:cNvSpPr/>
          <p:nvPr/>
        </p:nvSpPr>
        <p:spPr>
          <a:xfrm>
            <a:off x="6477120" y="3581280"/>
            <a:ext cx="0" cy="1447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9"/>
          <p:cNvSpPr/>
          <p:nvPr/>
        </p:nvSpPr>
        <p:spPr>
          <a:xfrm>
            <a:off x="6019920" y="5029200"/>
            <a:ext cx="761760" cy="11430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1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28CEC4D-502A-4378-B752-D0F045D17E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Independent Events: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for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1657440" y="3200400"/>
                <a:ext cx="3504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5946840" y="3352680"/>
                <a:ext cx="2414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1657440" y="4495680"/>
                <a:ext cx="3543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5894280" y="4648320"/>
                <a:ext cx="2365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7A1DD3A-CB55-4E74-86E0-2783894EE0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533520" y="4114800"/>
            <a:ext cx="83055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ultiplication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rule for two ev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4"/>
              <p:cNvSpPr txBox="1"/>
              <p:nvPr/>
            </p:nvSpPr>
            <p:spPr>
              <a:xfrm>
                <a:off x="1503360" y="2666880"/>
                <a:ext cx="65469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6299280" y="4267080"/>
                <a:ext cx="2387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6"/>
          <p:cNvSpPr/>
          <p:nvPr/>
        </p:nvSpPr>
        <p:spPr>
          <a:xfrm>
            <a:off x="609480" y="41911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d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re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685800" y="45720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multiplication rule simplifie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8"/>
              <p:cNvSpPr txBox="1"/>
              <p:nvPr/>
            </p:nvSpPr>
            <p:spPr>
              <a:xfrm>
                <a:off x="2286000" y="5181480"/>
                <a:ext cx="5030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68A59E3-6B8D-4A4C-BA91-1D84F50771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ree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762120" y="4038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6"/>
          <p:cNvSpPr/>
          <p:nvPr/>
        </p:nvSpPr>
        <p:spPr>
          <a:xfrm flipV="1">
            <a:off x="838080" y="28951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7"/>
          <p:cNvSpPr/>
          <p:nvPr/>
        </p:nvSpPr>
        <p:spPr>
          <a:xfrm>
            <a:off x="838080" y="411480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2438280" y="281952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2438280" y="5029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0"/>
          <p:cNvSpPr/>
          <p:nvPr/>
        </p:nvSpPr>
        <p:spPr>
          <a:xfrm flipV="1">
            <a:off x="2590920" y="220932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1"/>
          <p:cNvSpPr/>
          <p:nvPr/>
        </p:nvSpPr>
        <p:spPr>
          <a:xfrm>
            <a:off x="2590920" y="289548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2590920" y="28954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3"/>
          <p:cNvSpPr/>
          <p:nvPr/>
        </p:nvSpPr>
        <p:spPr>
          <a:xfrm flipV="1">
            <a:off x="2590920" y="4495680"/>
            <a:ext cx="28191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2590920" y="5105520"/>
            <a:ext cx="28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2590920" y="5105520"/>
            <a:ext cx="28191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33520" y="4572000"/>
            <a:ext cx="1447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33520" y="2895480"/>
            <a:ext cx="137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e  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 rot="20687400">
            <a:off x="2747520" y="2133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9"/>
          <p:cNvSpPr/>
          <p:nvPr/>
        </p:nvSpPr>
        <p:spPr>
          <a:xfrm>
            <a:off x="3200400" y="259092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0"/>
          <p:cNvSpPr/>
          <p:nvPr/>
        </p:nvSpPr>
        <p:spPr>
          <a:xfrm rot="747000">
            <a:off x="2844000" y="318744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5410080" y="198108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5410080" y="266688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5 = 0.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410080" y="327672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7"/>
          <p:cNvSpPr/>
          <p:nvPr/>
        </p:nvSpPr>
        <p:spPr>
          <a:xfrm>
            <a:off x="5410080" y="4343400"/>
            <a:ext cx="333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0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8"/>
          <p:cNvSpPr/>
          <p:nvPr/>
        </p:nvSpPr>
        <p:spPr>
          <a:xfrm>
            <a:off x="5410080" y="4952880"/>
            <a:ext cx="350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0.1 = 0.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9"/>
          <p:cNvSpPr/>
          <p:nvPr/>
        </p:nvSpPr>
        <p:spPr>
          <a:xfrm>
            <a:off x="5410080" y="556272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0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3"/>
          <p:cNvSpPr/>
          <p:nvPr/>
        </p:nvSpPr>
        <p:spPr>
          <a:xfrm rot="20849400">
            <a:off x="2823120" y="4419000"/>
            <a:ext cx="231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ck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</a:rPr>
              <a:t>0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3276720" y="4800600"/>
            <a:ext cx="205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0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 rot="747000">
            <a:off x="2891520" y="5409720"/>
            <a:ext cx="220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V: P(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0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39650A2-FF38-4813-BDB1-EC8D0718EB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 of interest of the k possibl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new event that might impact P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utually exclusive and collectively exhau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520560" y="2133720"/>
                <a:ext cx="8077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20A7029-62E6-43B3-9670-BDD3017171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ing company has estimated a 40% chance of striking oil for their new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ailed test has been scheduled for more information. Historically, 60% of successful wells have had detailed tests, and 20% of unsuccessful wells have had detailed te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this well has been scheduled for a detailed test, what is the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 well will b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j0283227"/>
          <p:cNvPicPr/>
          <p:nvPr/>
        </p:nvPicPr>
        <p:blipFill>
          <a:blip r:embed="rId1"/>
          <a:stretch/>
        </p:blipFill>
        <p:spPr>
          <a:xfrm>
            <a:off x="6934320" y="5486400"/>
            <a:ext cx="13716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E5713F1-6596-432D-88DE-01E53098180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2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 = successful 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 = unsuccessful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S) = .4 , P(U) = .6    (prior prob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ed test event a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D|S) = .6          P(D|U)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33520" y="4406760"/>
          <a:ext cx="8305560" cy="169704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588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25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5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518" name="Text Box 46"/>
          <p:cNvSpPr/>
          <p:nvPr/>
        </p:nvSpPr>
        <p:spPr>
          <a:xfrm>
            <a:off x="5486400" y="623556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7"/>
          <p:cNvSpPr/>
          <p:nvPr/>
        </p:nvSpPr>
        <p:spPr>
          <a:xfrm>
            <a:off x="6400800" y="6235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9"/>
          <p:cNvSpPr/>
          <p:nvPr/>
        </p:nvSpPr>
        <p:spPr>
          <a:xfrm>
            <a:off x="4419720" y="4114800"/>
            <a:ext cx="35049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0"/>
          <p:cNvSpPr/>
          <p:nvPr/>
        </p:nvSpPr>
        <p:spPr>
          <a:xfrm>
            <a:off x="7924680" y="4114800"/>
            <a:ext cx="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1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3" descr="j0283227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7D36478-3963-4C80-983A-237468C2C5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etailed test, the revised probability of a successful well has risen to .67 from the original estimate of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yes’ Theorem Exampl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533520" y="4038480"/>
          <a:ext cx="8305560" cy="166392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282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51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7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4845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</a:t>
                      </a:r>
                      <a:endParaRPr b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31"/>
          <p:cNvSpPr/>
          <p:nvPr/>
        </p:nvSpPr>
        <p:spPr>
          <a:xfrm>
            <a:off x="5486400" y="5867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2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8153280" y="4724280"/>
            <a:ext cx="60984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4"/>
          <p:cNvSpPr/>
          <p:nvPr/>
        </p:nvSpPr>
        <p:spPr>
          <a:xfrm>
            <a:off x="6781680" y="2819520"/>
            <a:ext cx="1447920" cy="1981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5"/>
          <p:cNvSpPr/>
          <p:nvPr/>
        </p:nvSpPr>
        <p:spPr>
          <a:xfrm>
            <a:off x="6172200" y="2209680"/>
            <a:ext cx="762120" cy="6858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6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8" descr="j0283227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6A35EB33-FBFD-4A99-A859-0727622181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roduction to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 possible numerical value from a random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3962520" y="3204000"/>
            <a:ext cx="2332080" cy="864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2027160" y="4521240"/>
            <a:ext cx="251460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5837400" y="4521240"/>
            <a:ext cx="2374560" cy="674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7"/>
          <p:cNvCxnSpPr>
            <a:stCxn id="540" idx="2"/>
            <a:endCxn id="541" idx="0"/>
          </p:cNvCxnSpPr>
          <p:nvPr/>
        </p:nvCxnSpPr>
        <p:spPr>
          <a:xfrm rot="5400000">
            <a:off x="3995280" y="3371760"/>
            <a:ext cx="423000" cy="1845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4" name="AutoShape 18"/>
          <p:cNvCxnSpPr>
            <a:stCxn id="540" idx="2"/>
            <a:endCxn id="542" idx="0"/>
          </p:cNvCxnSpPr>
          <p:nvPr/>
        </p:nvCxnSpPr>
        <p:spPr>
          <a:xfrm flipH="1" rot="16200000">
            <a:off x="5864760" y="3346200"/>
            <a:ext cx="423000" cy="189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Line 22"/>
          <p:cNvSpPr/>
          <p:nvPr/>
        </p:nvSpPr>
        <p:spPr>
          <a:xfrm>
            <a:off x="4403880" y="4349880"/>
            <a:ext cx="144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3"/>
          <p:cNvSpPr/>
          <p:nvPr/>
        </p:nvSpPr>
        <p:spPr>
          <a:xfrm>
            <a:off x="556272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4"/>
          <p:cNvSpPr/>
          <p:nvPr/>
        </p:nvSpPr>
        <p:spPr>
          <a:xfrm>
            <a:off x="7010280" y="5408640"/>
            <a:ext cx="1390680" cy="7668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5"/>
          <p:cNvSpPr/>
          <p:nvPr/>
        </p:nvSpPr>
        <p:spPr>
          <a:xfrm>
            <a:off x="5638680" y="5408640"/>
            <a:ext cx="1393920" cy="7668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9"/>
          <p:cNvSpPr/>
          <p:nvPr/>
        </p:nvSpPr>
        <p:spPr>
          <a:xfrm>
            <a:off x="182880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0"/>
          <p:cNvSpPr/>
          <p:nvPr/>
        </p:nvSpPr>
        <p:spPr>
          <a:xfrm>
            <a:off x="2133720" y="594216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28600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32"/>
          <p:cNvSpPr/>
          <p:nvPr/>
        </p:nvSpPr>
        <p:spPr>
          <a:xfrm>
            <a:off x="2438280" y="533232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3"/>
          <p:cNvSpPr/>
          <p:nvPr/>
        </p:nvSpPr>
        <p:spPr>
          <a:xfrm>
            <a:off x="2590920" y="5560920"/>
            <a:ext cx="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2743200" y="540864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5"/>
          <p:cNvSpPr/>
          <p:nvPr/>
        </p:nvSpPr>
        <p:spPr>
          <a:xfrm>
            <a:off x="2895480" y="5637240"/>
            <a:ext cx="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304812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7"/>
          <p:cNvSpPr/>
          <p:nvPr/>
        </p:nvSpPr>
        <p:spPr>
          <a:xfrm>
            <a:off x="320040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8"/>
          <p:cNvSpPr/>
          <p:nvPr/>
        </p:nvSpPr>
        <p:spPr>
          <a:xfrm>
            <a:off x="396252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9"/>
          <p:cNvSpPr/>
          <p:nvPr/>
        </p:nvSpPr>
        <p:spPr>
          <a:xfrm>
            <a:off x="4191120" y="609444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0"/>
          <p:cNvSpPr/>
          <p:nvPr/>
        </p:nvSpPr>
        <p:spPr>
          <a:xfrm>
            <a:off x="365760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335268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A148C3E4-8ECF-45B5-9847-13317B937B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mportant Ter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hance that an uncertain event will occur (always between 0 and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process of obtaining outcomes for uncertai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most basic outcome possible from a simpl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ollection of all possible elementary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DD760D4-07C5-437F-982C-D945C20269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ssume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ll a die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times 4 comes u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could be 0, 1, or 2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s a coin 5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= 0, 1, 2, 3, 4, o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7238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8001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6477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5715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4952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4191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0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66294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3"/>
          <p:cNvSpPr/>
          <p:nvPr/>
        </p:nvSpPr>
        <p:spPr>
          <a:xfrm>
            <a:off x="6915240" y="25970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4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5"/>
          <p:cNvSpPr/>
          <p:nvPr/>
        </p:nvSpPr>
        <p:spPr>
          <a:xfrm>
            <a:off x="6165720" y="2584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6"/>
          <p:cNvSpPr/>
          <p:nvPr/>
        </p:nvSpPr>
        <p:spPr>
          <a:xfrm>
            <a:off x="601992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7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8"/>
          <p:cNvSpPr/>
          <p:nvPr/>
        </p:nvSpPr>
        <p:spPr>
          <a:xfrm>
            <a:off x="692784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9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0"/>
          <p:cNvSpPr/>
          <p:nvPr/>
        </p:nvSpPr>
        <p:spPr>
          <a:xfrm>
            <a:off x="768672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1"/>
          <p:cNvSpPr/>
          <p:nvPr/>
        </p:nvSpPr>
        <p:spPr>
          <a:xfrm>
            <a:off x="766764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2"/>
          <p:cNvSpPr/>
          <p:nvPr/>
        </p:nvSpPr>
        <p:spPr>
          <a:xfrm>
            <a:off x="816300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3"/>
          <p:cNvSpPr/>
          <p:nvPr/>
        </p:nvSpPr>
        <p:spPr>
          <a:xfrm>
            <a:off x="84582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24"/>
          <p:cNvSpPr/>
          <p:nvPr/>
        </p:nvSpPr>
        <p:spPr>
          <a:xfrm>
            <a:off x="816300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5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6"/>
          <p:cNvSpPr/>
          <p:nvPr/>
        </p:nvSpPr>
        <p:spPr>
          <a:xfrm>
            <a:off x="816300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7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8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739152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30"/>
          <p:cNvSpPr/>
          <p:nvPr/>
        </p:nvSpPr>
        <p:spPr>
          <a:xfrm>
            <a:off x="75438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1" descr="BS00590_[1]"/>
          <p:cNvPicPr/>
          <p:nvPr/>
        </p:nvPicPr>
        <p:blipFill>
          <a:blip r:embed="rId1"/>
          <a:stretch/>
        </p:blipFill>
        <p:spPr>
          <a:xfrm>
            <a:off x="6502320" y="4800600"/>
            <a:ext cx="901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9C91640E-B600-4380-88C1-0A479B6A86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7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1322280" y="30052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7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9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0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9" name="Picture 37" descr="BS00590_[1]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8" descr="BS00590_[1]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9" descr="BS00590_[1]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0" descr="BS00590_[1]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41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3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4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45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6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7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8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9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0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1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507480" y="2438280"/>
            <a:ext cx="411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3"/>
          <p:cNvSpPr/>
          <p:nvPr/>
        </p:nvSpPr>
        <p:spPr>
          <a:xfrm>
            <a:off x="3581280" y="2895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4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6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7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9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0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x Val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72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3"/>
          <p:cNvSpPr/>
          <p:nvPr/>
        </p:nvSpPr>
        <p:spPr>
          <a:xfrm>
            <a:off x="4876920" y="5146560"/>
            <a:ext cx="533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74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5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6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8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A476C32-0EC6-43C5-B08B-C6632F81E9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possible [ 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, P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 ]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alue of Random Variable (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robability Associated wit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 overl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ively exhaus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hing left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   for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39DFA586-13EA-4EE3-A9F4-C1253D22AA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1447920" y="5334120"/>
            <a:ext cx="464796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(x) = (0 x .25) + (1 x .50) + (2 x .25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.2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.5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.2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75313E45-F8BD-4837-91FB-3973069393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6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7" name="Text Box 7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9572DBB7-1FB1-4EC6-B681-4446113B7F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0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Random Variabl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5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533520" y="4191120"/>
                <a:ext cx="8094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Text Box 12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DC25E803-2350-4F7A-AACC-0065049AF3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1676520" y="2895480"/>
            <a:ext cx="4724280" cy="121932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Discrete Random Variab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of the sum of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(x + y) = E(x) +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P(x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P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expected value of the sum of two random variables is the sum of the two expected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360BC870-5A5C-4F3A-881A-24239D4527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600200" y="3124080"/>
            <a:ext cx="5486400" cy="8384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x)][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(y)]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x discrete random variab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possible values of the y discrete random vari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= joint probability of the values of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ccur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B923A59E-00CE-45F2-9F48-5B9251B4B8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tend to move i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y do not move closel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preting Co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Line 6"/>
          <p:cNvSpPr/>
          <p:nvPr/>
        </p:nvSpPr>
        <p:spPr>
          <a:xfrm>
            <a:off x="2209680" y="33526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2209680" y="42670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2209680" y="51055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C01DD0B0-91EC-4C80-B0D7-733420B06E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orrelation Co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inear association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rrelation coefficient (“rh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variance between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andard deviation of variabl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3581280" y="2971800"/>
                <a:ext cx="1865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xy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x</m:t>
                        </m:r>
                        <m:r>
                          <m:t xml:space="preserve">σ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58C4B08-139B-4886-9632-57643D7671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5"/>
          <p:cNvSpPr/>
          <p:nvPr/>
        </p:nvSpPr>
        <p:spPr>
          <a:xfrm rot="18857400">
            <a:off x="5976000" y="50724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391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153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629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867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105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343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54100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7067520" y="3359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019920" y="365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6318360" y="3346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8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9"/>
          <p:cNvSpPr/>
          <p:nvPr/>
        </p:nvSpPr>
        <p:spPr>
          <a:xfrm>
            <a:off x="708012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754380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78390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2"/>
          <p:cNvSpPr/>
          <p:nvPr/>
        </p:nvSpPr>
        <p:spPr>
          <a:xfrm>
            <a:off x="781992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83152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4"/>
          <p:cNvSpPr/>
          <p:nvPr/>
        </p:nvSpPr>
        <p:spPr>
          <a:xfrm>
            <a:off x="8610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5"/>
          <p:cNvSpPr/>
          <p:nvPr/>
        </p:nvSpPr>
        <p:spPr>
          <a:xfrm>
            <a:off x="83152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86104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7"/>
          <p:cNvSpPr/>
          <p:nvPr/>
        </p:nvSpPr>
        <p:spPr>
          <a:xfrm>
            <a:off x="83152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8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54100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75438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pac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8"/>
          <p:cNvSpPr/>
          <p:nvPr/>
        </p:nvSpPr>
        <p:spPr>
          <a:xfrm rot="18857400">
            <a:off x="6051960" y="4996080"/>
            <a:ext cx="685800" cy="1513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3080"/>
              <a:gd name="textAreaBottom" fmla="*/ 1479600 h 1513080"/>
            </a:gdLst>
            <a:ahLst/>
            <a:rect l="textAreaLeft" t="textAreaTop" r="textAreaRight" b="textAreaBottom"/>
            <a:pathLst>
              <a:path w="21600" h="47642">
                <a:moveTo>
                  <a:pt x="3600" y="0"/>
                </a:moveTo>
                <a:arcTo wR="3600" hR="3600" stAng="16200000" swAng="-5400000"/>
                <a:lnTo>
                  <a:pt x="0" y="44042"/>
                </a:lnTo>
                <a:arcTo wR="3600" hR="3600" stAng="10800000" swAng="-5400000"/>
                <a:lnTo>
                  <a:pt x="18000" y="4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7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 rot="18857400">
            <a:off x="6204600" y="48438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2"/>
          <p:cNvGraphicFramePr/>
          <p:nvPr/>
        </p:nvGraphicFramePr>
        <p:xfrm>
          <a:off x="5867280" y="4495680"/>
          <a:ext cx="2679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495680"/>
                    <a:ext cx="267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39"/>
          <p:cNvSpPr/>
          <p:nvPr/>
        </p:nvSpPr>
        <p:spPr>
          <a:xfrm>
            <a:off x="1143000" y="1600200"/>
            <a:ext cx="77724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   possible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6 faces of a di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52 cards of a bridge de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8944D6CC-C95F-4085-B033-04F57185C5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Coefficient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lways falls between -1 and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       x and y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linearly re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r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om zero, the stronger the linear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+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po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-1      x and y have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ect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preting the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rrelation Coefficient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Line 5"/>
          <p:cNvSpPr/>
          <p:nvPr/>
        </p:nvSpPr>
        <p:spPr>
          <a:xfrm>
            <a:off x="1600200" y="48006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"/>
          <p:cNvSpPr/>
          <p:nvPr/>
        </p:nvSpPr>
        <p:spPr>
          <a:xfrm>
            <a:off x="1600200" y="5410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"/>
          <p:cNvSpPr/>
          <p:nvPr/>
        </p:nvSpPr>
        <p:spPr>
          <a:xfrm>
            <a:off x="2438280" y="304812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BCFB3AC-80DE-433B-967C-5B1EBDD897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approaches to assessing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between discrete and continuous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iscrete probability distributions and their summar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518351E-1714-46CE-A51C-D96485605A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mentar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outcome from a sample space with on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red car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110000"/>
              </a:lnSpc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y involve two or more outcome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n ace that is also red from a de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4D9A95A7-F16E-4B72-93B5-EC82708AA9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095640" y="5181480"/>
            <a:ext cx="162864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048120" y="57150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isualizing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e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581280" y="2209680"/>
            <a:ext cx="51055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651120" y="3117960"/>
            <a:ext cx="46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             2            24                26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51120" y="2736720"/>
            <a:ext cx="46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           2            24                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3581280" y="27432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581280" y="36576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57600" y="3657600"/>
            <a:ext cx="488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tal             4            48                5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657600" y="2209680"/>
            <a:ext cx="518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e        Not Ace      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23880" y="5257800"/>
            <a:ext cx="1600200" cy="643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ll Dec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 52 C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 rot="663000">
            <a:off x="3276720" y="594360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 rot="20814000">
            <a:off x="3123720" y="502920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C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 flipV="1">
            <a:off x="4952880" y="472392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952880" y="518148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 rot="634200">
            <a:off x="4952880" y="624816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n 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 rot="20792400">
            <a:off x="5105520" y="4572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 rot="21247200">
            <a:off x="5105160" y="55627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 rot="291000">
            <a:off x="4875120" y="5181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n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 flipV="1">
            <a:off x="4952880" y="579096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4952880" y="609588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6"/>
          <p:cNvSpPr/>
          <p:nvPr/>
        </p:nvSpPr>
        <p:spPr>
          <a:xfrm>
            <a:off x="47242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7"/>
          <p:cNvSpPr/>
          <p:nvPr/>
        </p:nvSpPr>
        <p:spPr>
          <a:xfrm>
            <a:off x="472428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472428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57913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71629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04920" y="48006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106668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7924680" y="43434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5"/>
          <p:cNvSpPr/>
          <p:nvPr/>
        </p:nvSpPr>
        <p:spPr>
          <a:xfrm>
            <a:off x="7543800" y="35812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 flipH="1" flipV="1">
            <a:off x="7848360" y="4114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3581280" y="3200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6477120" y="4495680"/>
            <a:ext cx="6094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015E1C46-378D-46C7-9698-FC893BFA1C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1066680" y="3733920"/>
            <a:ext cx="3886200" cy="2514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lementary Even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utomobile consultant records </a:t>
            </a:r>
            <a:r>
              <a:rPr b="0" lang="en-US" sz="2800" spc="-1" strike="noStrike">
                <a:solidFill>
                  <a:srgbClr val="c52817"/>
                </a:solidFill>
                <a:latin typeface="Arial"/>
              </a:rPr>
              <a:t>fuel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hicl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sample of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uel types:  </a:t>
            </a:r>
            <a:r>
              <a:rPr b="0" lang="en-US" sz="2400" spc="-1" strike="noStrike">
                <a:solidFill>
                  <a:srgbClr val="c52817"/>
                </a:solidFill>
                <a:latin typeface="Arial"/>
              </a:rPr>
              <a:t>Gasoline, 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ehicle types: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ruck, Car, S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ossible elementary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oline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l, S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6629400" y="4267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6705720" y="3886200"/>
            <a:ext cx="1371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6705720" y="4343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781680" y="4343400"/>
            <a:ext cx="12956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6781680" y="5105520"/>
            <a:ext cx="12956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55627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6858000" y="55627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5334120" y="4343040"/>
            <a:ext cx="13716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5410080" y="4952880"/>
            <a:ext cx="1371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 rot="20136000">
            <a:off x="5410080" y="4266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Gaso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 rot="1443000">
            <a:off x="5562360" y="5181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2817"/>
                </a:solidFill>
                <a:latin typeface="Arial"/>
              </a:rPr>
              <a:t>Die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739152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 rot="20514000">
            <a:off x="7162920" y="3657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 rot="20514000">
            <a:off x="7238880" y="48765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7391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 rot="1054200">
            <a:off x="716256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 rot="1054200">
            <a:off x="7162560" y="5867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077320" y="3657600"/>
            <a:ext cx="7617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E3C0585E-F380-4C91-8FEB-F950928575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tually Exclusiv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, the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no commo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1828800" y="4343400"/>
            <a:ext cx="1523880" cy="14479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3657600" y="4114800"/>
            <a:ext cx="1523880" cy="1447920"/>
          </a:xfrm>
          <a:prstGeom prst="ellipse">
            <a:avLst/>
          </a:prstGeom>
          <a:solidFill>
            <a:srgbClr val="fec6d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257800" y="3733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ard cannot be Black and Red at the same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2066040" y="3886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3971160" y="36576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4-</a:t>
            </a:r>
            <a:fld id="{F46CDA7C-CC1B-4D65-ACC9-C8BEBCF3E8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dependent and Depend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29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doe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nfluence the proba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ccurrence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ccurrence of one aff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probability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Concep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6T12:59:50Z</dcterms:modified>
  <cp:revision>69</cp:revision>
  <dc:subject>Chapter 4</dc:subject>
  <dc:title>Business Statistics: A Decision-Making Approach, 6th edition</dc:title>
</cp:coreProperties>
</file>