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gif" ContentType="image/gi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342900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447560" y="457200"/>
            <a:ext cx="418140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120680" y="3581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886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20680" y="41911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20680" y="44956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0680" y="48006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0680" y="54100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0680" y="57150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20680" y="60199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20680" y="63244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20680" y="66294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20680" y="69343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20680" y="72388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20680" y="75438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20680" y="78487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20680" y="8153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20680" y="8458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3800" y="38088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760" y="8825040"/>
            <a:ext cx="670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6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3800" y="876312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760" y="61920"/>
            <a:ext cx="6702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ctr" pos="32576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ctor N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AEF14983-615B-468E-B3E6-149D94C81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36101-9550-4149-A12D-AFBABA30B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9E720-2B7A-4B26-AA2C-343502A8E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428E-5F22-4FC2-B94D-801197F5D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26D8-DB6B-49D6-8048-91DB65AE5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D92C3-BA45-477D-93E1-E17F65E7D5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247CE-1897-45AE-B25C-4C521610B1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71DDF-B6C5-499B-A798-B2A5E2AFCE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E2639-0287-4F71-A1BA-566695811D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F88DC-D812-42DE-9139-74BED23C13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1686A-9D0A-4ACC-ABD1-3CDD4DF209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E0492-F443-4818-A12A-070D85CEA9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887AB-B652-4BF1-98AF-023D79500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7BA45-EF6C-4B1B-842F-B780377DB9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28887-D702-42BF-8594-DEAD48E954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14C5B-6BC3-4109-8E14-E793077D32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C478B-69A1-430B-8715-D6C809A831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4515E-9793-464A-B9DE-D8078609E5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6CB57-172F-421C-A0EE-D4670248C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02584-0A25-4F22-BEE4-D47C2BC25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F44E7-C145-4D5B-9DD9-9550731EC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091AC-B683-477F-80D6-B99982F1F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A3D4-D6E3-424A-8A7A-96D5244A9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BC42D-D437-47F7-864A-6CC4AD9E6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1D6B6-1839-4BE1-8060-463C16E4F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D655A2E3-C28C-48F2-A1FB-F1C5E8491E1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1985028F-A37A-4BA1-B20B-E3FE02FB1B2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99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4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sing Probability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bability Distribu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89AEF-142D-476A-9ACC-4332754E8C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828800" y="4267080"/>
            <a:ext cx="5029200" cy="8384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2057400"/>
            <a:ext cx="5715000" cy="8380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600200"/>
            <a:ext cx="762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Independent Ev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68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heads on one flip of fair coi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68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heads on second flip of same coi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68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sult of second flip does </a:t>
            </a:r>
            <a:r>
              <a:rPr b="0" lang="en-US" sz="2300" spc="-1" strike="noStrike" u="sng">
                <a:solidFill>
                  <a:srgbClr val="3333cc"/>
                </a:solidFill>
                <a:uFillTx/>
                <a:latin typeface="Arial"/>
              </a:rPr>
              <a:t>no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depend on the result of the first flip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6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Dependent Ev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68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rain forecasted on the new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68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take umbrella to 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68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bability of the second event </a:t>
            </a:r>
            <a:r>
              <a:rPr b="0" lang="en-US" sz="2300" spc="-1" strike="noStrike" u="sng">
                <a:solidFill>
                  <a:srgbClr val="3333cc"/>
                </a:solidFill>
                <a:uFillTx/>
                <a:latin typeface="Arial"/>
              </a:rPr>
              <a:t>i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ffected by the occurrence of the first ev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ndependent vs. Dependent Even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3C402-7774-414B-9DCA-9BCB469FE3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ssigning Probabilit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assical Probabilit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320040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lative Frequency of Occur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480060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ubjective Probability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2438280"/>
            <a:ext cx="167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2209680"/>
            <a:ext cx="41907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way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occ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umber of elementary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2590920"/>
            <a:ext cx="39625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4114800"/>
            <a:ext cx="266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 Freq. of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7080" y="3886200"/>
            <a:ext cx="41911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time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cc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4267080"/>
            <a:ext cx="29718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541008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pinion or judgment by a decision maker about the likelihood of an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4666D-067D-4EBF-8A32-BF23ADF9B7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ules of Probabilit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1676520"/>
            <a:ext cx="2590560" cy="11430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3200400"/>
            <a:ext cx="2438280" cy="76212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3200400"/>
            <a:ext cx="2667240" cy="76212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of Al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5" idx="2"/>
            <a:endCxn id="237" idx="0"/>
          </p:cNvCxnSpPr>
          <p:nvPr/>
        </p:nvCxnSpPr>
        <p:spPr>
          <a:xfrm flipH="1" rot="16200000">
            <a:off x="5124600" y="2037960"/>
            <a:ext cx="381600" cy="1944000"/>
          </a:xfrm>
          <a:prstGeom prst="bentConnector3">
            <a:avLst>
              <a:gd name="adj1" fmla="val 49952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35" idx="2"/>
            <a:endCxn id="236" idx="0"/>
          </p:cNvCxnSpPr>
          <p:nvPr/>
        </p:nvCxnSpPr>
        <p:spPr>
          <a:xfrm rot="5400000">
            <a:off x="3161520" y="2019240"/>
            <a:ext cx="381600" cy="1981800"/>
          </a:xfrm>
          <a:prstGeom prst="bentConnector3">
            <a:avLst>
              <a:gd name="adj1" fmla="val 49952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1143000" y="4267080"/>
            <a:ext cx="2438280" cy="11167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 P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≤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any event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5396040" y="4248000"/>
                <a:ext cx="17888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4343400" y="5257800"/>
            <a:ext cx="4572000" cy="11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 = Number of elementary even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in the sample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lementary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24480" y="3962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F4245-076C-4453-9FA6-C1C3D9C0E4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209680" y="5105520"/>
            <a:ext cx="525780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3962520"/>
            <a:ext cx="2895840" cy="6858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Addition Rule for Elementary Even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robability of an event 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equal to the sum of the probabilities of the elementary events forming 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ts val="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is, if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0" algn="ctr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P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P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P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BCFE2-DD9D-4C9B-82D5-8F0815D712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lement Ru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mplement</a:t>
            </a:r>
            <a:r>
              <a:rPr b="0" i="1" lang="en-US" sz="27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f an event E is the collection of all possible elementary events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ontained in event E.  The complement of event E is represented b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plement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2971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414440" y="4648320"/>
                <a:ext cx="34178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5867280" y="4495680"/>
            <a:ext cx="2819520" cy="1067040"/>
          </a:xfrm>
          <a:prstGeom prst="rect">
            <a:avLst/>
          </a:prstGeom>
          <a:solidFill>
            <a:srgbClr val="33cc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648320"/>
            <a:ext cx="1066680" cy="838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3200400"/>
            <a:ext cx="2819520" cy="1066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3352680"/>
            <a:ext cx="1066680" cy="838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0260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712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9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900760" y="5638680"/>
                <a:ext cx="26748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5105520" y="57150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57200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EEFBB-E3C2-474A-99C2-47C743B422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ddition Rule for Two Even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2286000"/>
            <a:ext cx="7010640" cy="57456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-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57600" y="3352680"/>
            <a:ext cx="2209680" cy="106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3505320"/>
            <a:ext cx="909720" cy="815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3352680"/>
            <a:ext cx="2209680" cy="106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3505320"/>
            <a:ext cx="909720" cy="815760"/>
          </a:xfrm>
          <a:prstGeom prst="ellipse">
            <a:avLst/>
          </a:prstGeom>
          <a:solidFill>
            <a:srgbClr val="fec6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4640" y="3657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02760" y="3657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3352680"/>
            <a:ext cx="2210040" cy="106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62920" y="3505320"/>
            <a:ext cx="909360" cy="815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3505320"/>
            <a:ext cx="909720" cy="815760"/>
          </a:xfrm>
          <a:prstGeom prst="ellipse">
            <a:avLst/>
          </a:prstGeom>
          <a:solidFill>
            <a:srgbClr val="fec6d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4876920"/>
            <a:ext cx="7619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P(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- P(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2209680" y="41148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952880" y="411480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15000" y="5410080"/>
            <a:ext cx="2666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n’t count common elements twic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1676520"/>
            <a:ext cx="701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ddition R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31560" y="3657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45960" y="3657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59680" y="3581280"/>
            <a:ext cx="395280" cy="669960"/>
          </a:xfrm>
          <a:custGeom>
            <a:avLst/>
            <a:gdLst/>
            <a:ahLst/>
            <a:rect l="l" t="t" r="r" b="b"/>
            <a:pathLst>
              <a:path w="249" h="422">
                <a:moveTo>
                  <a:pt x="119" y="0"/>
                </a:moveTo>
                <a:cubicBezTo>
                  <a:pt x="113" y="4"/>
                  <a:pt x="107" y="8"/>
                  <a:pt x="101" y="12"/>
                </a:cubicBezTo>
                <a:cubicBezTo>
                  <a:pt x="95" y="21"/>
                  <a:pt x="85" y="27"/>
                  <a:pt x="76" y="33"/>
                </a:cubicBezTo>
                <a:cubicBezTo>
                  <a:pt x="72" y="40"/>
                  <a:pt x="66" y="46"/>
                  <a:pt x="59" y="50"/>
                </a:cubicBezTo>
                <a:cubicBezTo>
                  <a:pt x="51" y="60"/>
                  <a:pt x="43" y="72"/>
                  <a:pt x="34" y="81"/>
                </a:cubicBezTo>
                <a:cubicBezTo>
                  <a:pt x="29" y="94"/>
                  <a:pt x="22" y="109"/>
                  <a:pt x="14" y="120"/>
                </a:cubicBezTo>
                <a:cubicBezTo>
                  <a:pt x="13" y="125"/>
                  <a:pt x="8" y="135"/>
                  <a:pt x="8" y="135"/>
                </a:cubicBezTo>
                <a:cubicBezTo>
                  <a:pt x="7" y="151"/>
                  <a:pt x="5" y="167"/>
                  <a:pt x="2" y="183"/>
                </a:cubicBezTo>
                <a:cubicBezTo>
                  <a:pt x="3" y="207"/>
                  <a:pt x="0" y="246"/>
                  <a:pt x="10" y="272"/>
                </a:cubicBezTo>
                <a:cubicBezTo>
                  <a:pt x="11" y="279"/>
                  <a:pt x="13" y="286"/>
                  <a:pt x="16" y="293"/>
                </a:cubicBezTo>
                <a:cubicBezTo>
                  <a:pt x="19" y="308"/>
                  <a:pt x="26" y="321"/>
                  <a:pt x="37" y="332"/>
                </a:cubicBezTo>
                <a:cubicBezTo>
                  <a:pt x="46" y="341"/>
                  <a:pt x="46" y="353"/>
                  <a:pt x="58" y="360"/>
                </a:cubicBezTo>
                <a:cubicBezTo>
                  <a:pt x="59" y="367"/>
                  <a:pt x="61" y="368"/>
                  <a:pt x="67" y="372"/>
                </a:cubicBezTo>
                <a:cubicBezTo>
                  <a:pt x="74" y="384"/>
                  <a:pt x="79" y="395"/>
                  <a:pt x="91" y="402"/>
                </a:cubicBezTo>
                <a:cubicBezTo>
                  <a:pt x="95" y="408"/>
                  <a:pt x="111" y="422"/>
                  <a:pt x="119" y="422"/>
                </a:cubicBezTo>
                <a:cubicBezTo>
                  <a:pt x="119" y="422"/>
                  <a:pt x="129" y="413"/>
                  <a:pt x="131" y="413"/>
                </a:cubicBezTo>
                <a:cubicBezTo>
                  <a:pt x="137" y="408"/>
                  <a:pt x="131" y="411"/>
                  <a:pt x="139" y="410"/>
                </a:cubicBezTo>
                <a:cubicBezTo>
                  <a:pt x="151" y="401"/>
                  <a:pt x="160" y="389"/>
                  <a:pt x="172" y="380"/>
                </a:cubicBezTo>
                <a:cubicBezTo>
                  <a:pt x="175" y="374"/>
                  <a:pt x="178" y="371"/>
                  <a:pt x="184" y="368"/>
                </a:cubicBezTo>
                <a:cubicBezTo>
                  <a:pt x="189" y="359"/>
                  <a:pt x="193" y="349"/>
                  <a:pt x="199" y="341"/>
                </a:cubicBezTo>
                <a:cubicBezTo>
                  <a:pt x="200" y="334"/>
                  <a:pt x="205" y="334"/>
                  <a:pt x="208" y="327"/>
                </a:cubicBezTo>
                <a:cubicBezTo>
                  <a:pt x="209" y="320"/>
                  <a:pt x="213" y="314"/>
                  <a:pt x="217" y="308"/>
                </a:cubicBezTo>
                <a:cubicBezTo>
                  <a:pt x="218" y="302"/>
                  <a:pt x="221" y="299"/>
                  <a:pt x="223" y="294"/>
                </a:cubicBezTo>
                <a:cubicBezTo>
                  <a:pt x="224" y="288"/>
                  <a:pt x="226" y="281"/>
                  <a:pt x="229" y="275"/>
                </a:cubicBezTo>
                <a:cubicBezTo>
                  <a:pt x="230" y="269"/>
                  <a:pt x="232" y="263"/>
                  <a:pt x="235" y="257"/>
                </a:cubicBezTo>
                <a:cubicBezTo>
                  <a:pt x="236" y="251"/>
                  <a:pt x="238" y="245"/>
                  <a:pt x="241" y="239"/>
                </a:cubicBezTo>
                <a:cubicBezTo>
                  <a:pt x="243" y="206"/>
                  <a:pt x="249" y="166"/>
                  <a:pt x="233" y="134"/>
                </a:cubicBezTo>
                <a:cubicBezTo>
                  <a:pt x="232" y="128"/>
                  <a:pt x="228" y="121"/>
                  <a:pt x="224" y="116"/>
                </a:cubicBezTo>
                <a:cubicBezTo>
                  <a:pt x="219" y="90"/>
                  <a:pt x="181" y="56"/>
                  <a:pt x="163" y="38"/>
                </a:cubicBezTo>
                <a:cubicBezTo>
                  <a:pt x="154" y="29"/>
                  <a:pt x="143" y="16"/>
                  <a:pt x="131" y="14"/>
                </a:cubicBezTo>
                <a:cubicBezTo>
                  <a:pt x="127" y="7"/>
                  <a:pt x="119" y="7"/>
                  <a:pt x="119" y="0"/>
                </a:cubicBezTo>
                <a:close/>
              </a:path>
            </a:pathLst>
          </a:custGeom>
          <a:solidFill>
            <a:srgbClr val="96969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934320" y="403812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4876920"/>
            <a:ext cx="2590920" cy="121896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3581280"/>
            <a:ext cx="38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3581280"/>
            <a:ext cx="38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BD901-C17F-4D3C-A2E9-62943C1D5E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9880" y="3962520"/>
            <a:ext cx="685800" cy="1218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9880" y="4038480"/>
            <a:ext cx="198144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05320" y="2743200"/>
            <a:ext cx="457200" cy="1295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2743200"/>
            <a:ext cx="152640" cy="12952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ddition Rule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838080" y="1752480"/>
            <a:ext cx="762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P(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- P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2362320"/>
            <a:ext cx="6705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52 +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52 -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52  =  28/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743200"/>
            <a:ext cx="1523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n’t count the two red aces twic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190760" y="2819520"/>
            <a:ext cx="1143000" cy="1371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01320" y="3581280"/>
            <a:ext cx="99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24280" y="4572000"/>
            <a:ext cx="1206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1120" y="3124080"/>
            <a:ext cx="10760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4080" y="3429000"/>
            <a:ext cx="9799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4280" y="3581280"/>
            <a:ext cx="75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6440" y="346248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06480" y="4073400"/>
            <a:ext cx="8092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46320" y="406224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61000" y="4044960"/>
            <a:ext cx="1206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76800" y="406224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323040" y="406224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07920" y="4630680"/>
            <a:ext cx="1587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n-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49840" y="461952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79960" y="461952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27640" y="461952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06480" y="518940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49840" y="517860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79960" y="517860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27640" y="517860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24280" y="3581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52480" y="4038480"/>
            <a:ext cx="531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19920" y="3149640"/>
            <a:ext cx="0" cy="254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05320" y="358128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05320" y="3124080"/>
            <a:ext cx="0" cy="259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510552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2480" y="457200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52480" y="3124080"/>
            <a:ext cx="5334120" cy="2590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5181480"/>
            <a:ext cx="60984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81480" y="2362320"/>
            <a:ext cx="838440" cy="45720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C7DEF-589E-4646-932F-8586FEF056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Addition Rule for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Mutually Exclusive Even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E1 and E2 ar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mutually exclusiv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th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(E1 and E2) = 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4343400"/>
            <a:ext cx="7010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-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105520"/>
            <a:ext cx="3200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57800" y="4191120"/>
            <a:ext cx="2286000" cy="91440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9467600">
            <a:off x="7086600" y="3809520"/>
            <a:ext cx="7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2362320"/>
            <a:ext cx="2209680" cy="1066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238880" y="2514600"/>
            <a:ext cx="909720" cy="81612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72200" y="2514600"/>
            <a:ext cx="909720" cy="816120"/>
          </a:xfrm>
          <a:prstGeom prst="ellipse">
            <a:avLst/>
          </a:prstGeom>
          <a:solidFill>
            <a:srgbClr val="fec6d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26640" y="2666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93680" y="2666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9467600">
            <a:off x="7164720" y="3885480"/>
            <a:ext cx="149832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f mutual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clu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14DE5-58B8-423E-8DED-CFCC9CFEC1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ditional Probabilit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ditional probability for an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wo events 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, 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962000" y="3124080"/>
                <a:ext cx="49150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2720880" y="4896000"/>
                <a:ext cx="30384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BF09E-4A26-4CA0-9FB9-A812DA86FE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533520" y="358092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probability that a car has a CD player, given that it has AC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we want to find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(CD | 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ditional Probability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1828800"/>
            <a:ext cx="8077320" cy="129528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cars on a used car lot, 70% have air conditioning (AC) and 40% have a CD player (CD).  20% of the cars have bo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8DF06-C1E4-4B1F-87D1-6A5BFB1CE3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ree approaches to assessing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common rules of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Bayes’ Theorem for conditional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 between discrete and continuous probabilit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the expected value and standard deviation for a discrete probability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9B4EE-D1BC-4A88-A7D3-6B4C53BF8D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581280" y="3200400"/>
            <a:ext cx="2514600" cy="106668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81280" y="2743200"/>
            <a:ext cx="358164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28800" y="3200400"/>
            <a:ext cx="1752480" cy="1676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ditional Probability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4877640" y="27432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00600" y="3733920"/>
            <a:ext cx="1206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10960" y="2743200"/>
            <a:ext cx="62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71120" y="2743200"/>
            <a:ext cx="91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83160" y="3235320"/>
            <a:ext cx="6753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61800" y="320040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.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36960" y="3206880"/>
            <a:ext cx="12067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120" y="320040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00080" y="320040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.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83520" y="3792600"/>
            <a:ext cx="1226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 A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25440" y="378144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55560" y="378144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00080" y="380988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82800" y="435132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25440" y="434016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.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55560" y="434016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303600" y="4340160"/>
            <a:ext cx="6584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00600" y="27432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828800" y="3200400"/>
            <a:ext cx="531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5880" y="2743200"/>
            <a:ext cx="0" cy="211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2743200"/>
            <a:ext cx="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426708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28800" y="373392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28800" y="2743200"/>
            <a:ext cx="5334120" cy="2133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434340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1523880"/>
            <a:ext cx="8077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cars on a used car lot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ir conditioning (AC) and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CD player (CD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cars have bo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00400" y="2209680"/>
            <a:ext cx="914400" cy="22860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38680" y="1905120"/>
            <a:ext cx="914400" cy="15238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05120" y="2590920"/>
            <a:ext cx="2133360" cy="8380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046160" y="5181480"/>
                <a:ext cx="69771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5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BE409-4A65-46D8-8EEB-3D362F7A61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828800" y="3048120"/>
            <a:ext cx="5334120" cy="533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ditional Probability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4877640" y="259092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00600" y="3581280"/>
            <a:ext cx="1206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10960" y="2590920"/>
            <a:ext cx="62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71120" y="2590920"/>
            <a:ext cx="91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83160" y="3083040"/>
            <a:ext cx="6753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1800" y="304812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3054240"/>
            <a:ext cx="1206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81120" y="304812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00080" y="304812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83520" y="3639960"/>
            <a:ext cx="1226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 A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25440" y="362916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55560" y="362916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00080" y="365760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82800" y="419904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25440" y="418788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55560" y="418788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324120" y="4191120"/>
            <a:ext cx="6584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259092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28800" y="3048120"/>
            <a:ext cx="531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5880" y="2590920"/>
            <a:ext cx="0" cy="21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2590920"/>
            <a:ext cx="0" cy="21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28800" y="411480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828800" y="358128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28800" y="2590920"/>
            <a:ext cx="5334120" cy="2133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4191120"/>
            <a:ext cx="60948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2120" y="16765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C, we only consider the top row (70% of the cars). Of these, 20% have a CD player.  20% of 70% is about 28.57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1046160" y="5029200"/>
                <a:ext cx="69771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5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3886200" y="3048120"/>
            <a:ext cx="609480" cy="53316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24480" y="3048120"/>
            <a:ext cx="609840" cy="53316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95680" y="3429000"/>
            <a:ext cx="1752840" cy="16002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477120" y="3581280"/>
            <a:ext cx="0" cy="1447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19920" y="5029200"/>
            <a:ext cx="761760" cy="114300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11F1-29A4-46A4-B57B-F4149FC065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or Independent Events: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al probability for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ents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657440" y="3200400"/>
                <a:ext cx="35049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946840" y="3352680"/>
                <a:ext cx="24145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57440" y="4495680"/>
                <a:ext cx="35431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894280" y="4648320"/>
                <a:ext cx="23655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F333A-AC87-4D19-9196-1902D3DE58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533520" y="4114800"/>
            <a:ext cx="83055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ultiplication Ru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2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 rule for two ev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1503360" y="2666880"/>
                <a:ext cx="654696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 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6299280" y="4267080"/>
                <a:ext cx="2387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609480" y="4191120"/>
            <a:ext cx="7696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7000"/>
          </a:bodyPr>
          <a:p>
            <a:pPr marL="311040" indent="-311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f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and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are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4572000"/>
            <a:ext cx="7696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multiplication rule simplifie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2286000" y="5181480"/>
                <a:ext cx="50306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 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12CD2-D638-42DE-AB47-AB2AD3C605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ree Diagra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4038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838080" y="2895120"/>
            <a:ext cx="160020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80" y="4114800"/>
            <a:ext cx="167652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38280" y="281952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438280" y="5029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590920" y="2209320"/>
            <a:ext cx="281916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90920" y="2895480"/>
            <a:ext cx="28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90920" y="2895480"/>
            <a:ext cx="281916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590920" y="4495680"/>
            <a:ext cx="281916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90920" y="5105520"/>
            <a:ext cx="28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5105520"/>
            <a:ext cx="281916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3520" y="4572000"/>
            <a:ext cx="14475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3520" y="2895480"/>
            <a:ext cx="1371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oline  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20687400">
            <a:off x="2747520" y="2133000"/>
            <a:ext cx="2317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ck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00e4a8"/>
                </a:solidFill>
                <a:latin typeface="Arial"/>
              </a:rPr>
              <a:t>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00400" y="2590920"/>
            <a:ext cx="205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747000">
            <a:off x="2844000" y="3187440"/>
            <a:ext cx="220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V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410080" y="1981080"/>
            <a:ext cx="35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0.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1800" spc="-1" strike="noStrike">
                <a:solidFill>
                  <a:srgbClr val="00e4a8"/>
                </a:solidFill>
                <a:latin typeface="Arial"/>
              </a:rPr>
              <a:t>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10080" y="2666880"/>
            <a:ext cx="3429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0.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0.5 = 0.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3276720"/>
            <a:ext cx="3429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0.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0.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4343400"/>
            <a:ext cx="333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1800" spc="-1" strike="noStrike">
                <a:solidFill>
                  <a:srgbClr val="00e4a8"/>
                </a:solidFill>
                <a:latin typeface="Arial"/>
              </a:rPr>
              <a:t>0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10080" y="4952880"/>
            <a:ext cx="3500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0.1 = 0.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5562720"/>
            <a:ext cx="35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0.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20849400">
            <a:off x="2823120" y="4419000"/>
            <a:ext cx="2317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ck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00e4a8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76720" y="4800600"/>
            <a:ext cx="205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747000">
            <a:off x="2891520" y="5409720"/>
            <a:ext cx="220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V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FC1AD-6D21-46EE-97EE-23A1C781C7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yes’ Theorem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ent of interest of the k possible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new event that might impact P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mutually exclusive and collectively exhaus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20560" y="2133720"/>
                <a:ext cx="80773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93DA0-4C6C-43C5-B619-EA0EE21C73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yes’ Theore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rilling company has estimated a 40% chance of striking oil for their new w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tailed test has been scheduled for more information. Historically, 60% of successful wells have had detailed tests, and 20% of unsuccessful wells have had detailed tes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at this well has been scheduled for a detailed test, what is the prob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30000"/>
              </a:lnSpc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the well will be success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6934320" y="5486400"/>
            <a:ext cx="1371600" cy="121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B8F79-C702-496C-A10B-3DF5E102190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2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 = successful w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 = unsuccessful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S) = .4 , P(U) = .6    (prior probabil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detailed test event as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probabi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D|S) = .6          P(D|U) = 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d prob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143000" y="380880"/>
            <a:ext cx="779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yes’ Theorem Examp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33520" y="4406760"/>
          <a:ext cx="8305560" cy="169704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727280"/>
                <a:gridCol w="1625400"/>
                <a:gridCol w="1828800"/>
              </a:tblGrid>
              <a:tr h="7588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al Prob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45252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ccessfu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*.6 = .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4/.36 = .6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4856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successfu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*.2 = .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2/.36 = .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</a:tbl>
          </a:graphicData>
        </a:graphic>
      </p:graphicFrame>
      <p:sp>
        <p:nvSpPr>
          <p:cNvPr id="464" name=""/>
          <p:cNvSpPr/>
          <p:nvPr/>
        </p:nvSpPr>
        <p:spPr>
          <a:xfrm>
            <a:off x="5486400" y="6235560"/>
            <a:ext cx="152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m = .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00800" y="62355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419720" y="4114800"/>
            <a:ext cx="35049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924680" y="4114800"/>
            <a:ext cx="0" cy="228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7696080" y="2844720"/>
            <a:ext cx="1295640" cy="114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B6E36-2156-45A4-A75B-292561E254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detailed test, the revised probability of a successful well has risen to .67 from the original estimate of 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380880"/>
            <a:ext cx="779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yes’ Theorem Examp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533520" y="4038480"/>
          <a:ext cx="8305560" cy="166212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727280"/>
                <a:gridCol w="1625400"/>
                <a:gridCol w="1828800"/>
              </a:tblGrid>
              <a:tr h="7282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al Prob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45072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ccessfu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*.6 = .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4/.36 = .6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48312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successfu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*.2 = .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2/.36 = .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</a:tbl>
          </a:graphicData>
        </a:graphic>
      </p:graphicFrame>
      <p:sp>
        <p:nvSpPr>
          <p:cNvPr id="473" name=""/>
          <p:cNvSpPr/>
          <p:nvPr/>
        </p:nvSpPr>
        <p:spPr>
          <a:xfrm>
            <a:off x="5486400" y="5867280"/>
            <a:ext cx="152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m = .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00800" y="58672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153280" y="4724280"/>
            <a:ext cx="609840" cy="5335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81680" y="2819520"/>
            <a:ext cx="1447920" cy="19810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72200" y="2209680"/>
            <a:ext cx="762120" cy="68580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7696080" y="2844720"/>
            <a:ext cx="1295640" cy="114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381CE-8BE7-4CF6-9097-B16D444D01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ntroduction to Probability Distribution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s a possible numerical value from a random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962520" y="3204000"/>
            <a:ext cx="2332080" cy="864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27160" y="4521240"/>
            <a:ext cx="2514600" cy="6742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37400" y="4521240"/>
            <a:ext cx="2374560" cy="6742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2" idx="2"/>
            <a:endCxn id="483" idx="0"/>
          </p:cNvCxnSpPr>
          <p:nvPr/>
        </p:nvCxnSpPr>
        <p:spPr>
          <a:xfrm rot="5400000">
            <a:off x="3995280" y="3371760"/>
            <a:ext cx="423000" cy="18453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6" name=""/>
          <p:cNvCxnSpPr>
            <a:stCxn id="482" idx="2"/>
            <a:endCxn id="484" idx="0"/>
          </p:cNvCxnSpPr>
          <p:nvPr/>
        </p:nvCxnSpPr>
        <p:spPr>
          <a:xfrm flipH="1" rot="16200000">
            <a:off x="5864760" y="3346200"/>
            <a:ext cx="423000" cy="18961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487" name=""/>
          <p:cNvSpPr/>
          <p:nvPr/>
        </p:nvSpPr>
        <p:spPr>
          <a:xfrm>
            <a:off x="4403880" y="4349880"/>
            <a:ext cx="144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562720" y="6246720"/>
            <a:ext cx="29019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010280" y="5408640"/>
            <a:ext cx="1390680" cy="7668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38680" y="5408640"/>
            <a:ext cx="1393920" cy="7668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28800" y="6246720"/>
            <a:ext cx="29019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33720" y="5942160"/>
            <a:ext cx="0" cy="304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286000" y="578952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38280" y="5332320"/>
            <a:ext cx="0" cy="9144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560920"/>
            <a:ext cx="0" cy="685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43200" y="5408640"/>
            <a:ext cx="0" cy="838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95480" y="5637240"/>
            <a:ext cx="0" cy="609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048120" y="578952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00400" y="5865840"/>
            <a:ext cx="0" cy="3808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962520" y="6018120"/>
            <a:ext cx="0" cy="2286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6094440"/>
            <a:ext cx="0" cy="152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57600" y="6018120"/>
            <a:ext cx="0" cy="2286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52680" y="5865840"/>
            <a:ext cx="0" cy="3808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1E89B-FA5A-4A50-BC75-0D8ED12970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mportant Term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b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chance that an uncertain event will occur (always between 0 and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peri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process of obtaining outcomes for uncertain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lementary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most basic outcome possible from a simple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e S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collection of all possible elementary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3B2BE-C96B-4013-9052-6D46CC369AF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crete Random Variab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nly assume a countable number of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oll a die tw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t  x  be the number of times 4 comes up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then  x  could be 0, 1, or 2 ti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ss a coin 5 ti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t  x  be the number of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then  x  = 0, 1, 2, 3, 4, or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00100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9112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495680" y="2743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590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57800" y="2590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915240" y="259704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672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65720" y="25844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19920" y="2743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62940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2784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391520" y="25909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8672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667640" y="2590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163000" y="25909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458200" y="2590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163000" y="2743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58200" y="2743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163000" y="28954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5820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25780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391520" y="28954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543800" y="2743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6502320" y="480060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FAF5-5216-405B-A95F-4C547E3B4CD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4267080" y="3048120"/>
            <a:ext cx="2590920" cy="182880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1752480"/>
            <a:ext cx="7934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r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periment:  Toss 2 Coins.    Let  x = # hea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819520" y="3200400"/>
            <a:ext cx="1752480" cy="3808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19520" y="4114800"/>
            <a:ext cx="17524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2819520" y="4191120"/>
            <a:ext cx="1752480" cy="7617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819520" y="4648320"/>
            <a:ext cx="1752480" cy="12189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22280" y="300528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3" y="0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3" y="0"/>
                </a:lnTo>
                <a:lnTo>
                  <a:pt x="4" y="0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6800" y="3662280"/>
            <a:ext cx="76212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62120" y="2819520"/>
            <a:ext cx="76176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05120" y="2819520"/>
            <a:ext cx="76176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14400" y="37339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14400" y="289548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crete Probability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1905120" y="548640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762120" y="548640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4"/>
          <a:stretch/>
        </p:blipFill>
        <p:spPr>
          <a:xfrm>
            <a:off x="1905120" y="3657600"/>
            <a:ext cx="750600" cy="7621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304920" y="2362320"/>
            <a:ext cx="2895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possible out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2743200"/>
            <a:ext cx="2362320" cy="7621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" y="3657600"/>
            <a:ext cx="2362320" cy="16765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5486400"/>
            <a:ext cx="2362320" cy="7621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09800" y="4653000"/>
            <a:ext cx="76212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57400" y="472428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57400" y="289548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57400" y="37339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914400" y="46483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14400" y="55627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057400" y="55627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07480" y="2438280"/>
            <a:ext cx="4110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81280" y="289548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34120" y="6213600"/>
            <a:ext cx="228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791320" y="5756400"/>
            <a:ext cx="0" cy="4572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24480" y="5299200"/>
            <a:ext cx="0" cy="9144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0" y="5756400"/>
            <a:ext cx="0" cy="4572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57960" y="6248520"/>
            <a:ext cx="269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      1      2         x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580920" y="2971440"/>
            <a:ext cx="3962520" cy="19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 algn="ctr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x Valu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Probabilit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18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            1/4 = .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18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            2/4 = .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18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            1/4 = .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34120" y="5222880"/>
            <a:ext cx="0" cy="99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876920" y="5146560"/>
            <a:ext cx="53316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25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34120" y="5756400"/>
            <a:ext cx="198108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34120" y="5299200"/>
            <a:ext cx="198108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16200000">
            <a:off x="4197960" y="5215320"/>
            <a:ext cx="1293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robability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34120" y="304812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768EF-FFBB-4CAF-84A7-457AB9B59B8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6000"/>
          </a:bodyPr>
          <a:p>
            <a:pPr marL="307800" indent="-30780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st of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ll possible [ 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, P(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) ]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alue of Random Variable (Out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Probability Associated with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ar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utually exclus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 overl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ar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llectively exhaus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thing left 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   for eac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crete Probability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EE55C-9B43-4433-84DA-E2B333AAC4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1447920" y="5334120"/>
            <a:ext cx="464796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553080" y="3809880"/>
            <a:ext cx="1676520" cy="167652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Discrete Random Variable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ummary Measur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Expected Valu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a discrete distribu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Weighted Averag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(x)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ss 2 co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x = # of hea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expected value of 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(x) = (0 x .25) + (1 x .50) + (2 x .25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= 1.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867280" y="3886200"/>
            <a:ext cx="2743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x          P(x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          .2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          .5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          .2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15200" y="38098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553080" y="42670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66680" y="3505320"/>
            <a:ext cx="7467840" cy="2743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D20FD-7985-47C8-90CB-EAFAF04D1CE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ndard Dev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discrete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(x) = Expected value of the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Values of the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) = Probability of the random variable ha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Discrete Random Variable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ummary Measur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2133720" y="2514600"/>
                <a:ext cx="49068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  <m:e/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E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F117E-4210-4C5D-89BC-1BE3FF856B6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 flipH="1" flipV="1">
            <a:off x="1676520" y="4647960"/>
            <a:ext cx="1752480" cy="68580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3505320" y="4647960"/>
            <a:ext cx="0" cy="68580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3657600" y="4647960"/>
            <a:ext cx="1447920" cy="68580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3581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ss 2 coins, x = # hea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standard deviation (recall E(x) =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Discrete Random Variable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ummary Measur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981080" y="2971800"/>
                <a:ext cx="49071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  <m:e/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E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533520" y="4191120"/>
                <a:ext cx="8094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429000" y="5257800"/>
            <a:ext cx="2819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 number of heads = 0, 1, 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4F17A-0D57-4F42-B403-ED2CA729F87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676520" y="2895480"/>
            <a:ext cx="4724280" cy="12193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wo Discrete Random Variab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value of the sum of two discrete random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(x + y) = E(x) + E(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P(x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P(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expected value of the sum of two random variables is the sum of the two expected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A15F3-6BB3-44A4-AF79-B27E884E239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1600200" y="3124080"/>
            <a:ext cx="5486400" cy="8384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varianc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vari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two discrete random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[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(x)][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(y)]P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possible values of the x discrete random variabl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possible values of the y discrete random varia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,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= joint probability of the values of 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ccur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816DE-7900-4351-95B8-A43FC2AE28F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vari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two discrete random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22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nd y tend to move in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0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nd y tend to move in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ppo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nd y do not move closely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preting Covarianc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2209680" y="3352680"/>
            <a:ext cx="3812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09680" y="4267080"/>
            <a:ext cx="3812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09680" y="5105520"/>
            <a:ext cx="3812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8219B-16C2-444A-A78A-0930366F0D3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rrelation Coefficien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Correlation Coeffic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r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inear association between two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rrelation coefficient (“rho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variance between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andard deviation of variabl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andard deviation of variable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3581280" y="2971800"/>
                <a:ext cx="18655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  <m:r>
                          <m:t xml:space="preserve">xy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x</m:t>
                        </m:r>
                        <m:r>
                          <m:t xml:space="preserve">σ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AF8A9-6ACB-4B73-8AB5-3A1E3D6AC91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 rot="18857400">
            <a:off x="5976000" y="5072400"/>
            <a:ext cx="685800" cy="15127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2720"/>
              <a:gd name="textAreaBottom" fmla="*/ 1479240 h 1512720"/>
            </a:gdLst>
            <a:ahLst/>
            <a:rect l="textAreaLeft" t="textAreaTop" r="textAreaRight" b="textAreaBottom"/>
            <a:pathLst>
              <a:path w="21600" h="47631">
                <a:moveTo>
                  <a:pt x="3600" y="0"/>
                </a:moveTo>
                <a:arcTo wR="3600" hR="3600" stAng="16200000" swAng="-5400000"/>
                <a:lnTo>
                  <a:pt x="0" y="44031"/>
                </a:lnTo>
                <a:arcTo wR="3600" hR="3600" stAng="10800000" swAng="-5400000"/>
                <a:lnTo>
                  <a:pt x="18000" y="47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9152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5328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35053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67520" y="33591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36576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18360" y="33465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3505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16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8012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4380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3900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1992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152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104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15280" y="3505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610480" y="3505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152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6104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505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e Spac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8857400">
            <a:off x="6051960" y="4996080"/>
            <a:ext cx="685800" cy="1513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3080"/>
              <a:gd name="textAreaBottom" fmla="*/ 1479600 h 1513080"/>
            </a:gdLst>
            <a:ahLst/>
            <a:rect l="textAreaLeft" t="textAreaTop" r="textAreaRight" b="textAreaBottom"/>
            <a:pathLst>
              <a:path w="21600" h="47642">
                <a:moveTo>
                  <a:pt x="3600" y="0"/>
                </a:moveTo>
                <a:arcTo wR="3600" hR="3600" stAng="16200000" swAng="-5400000"/>
                <a:lnTo>
                  <a:pt x="0" y="44042"/>
                </a:lnTo>
                <a:arcTo wR="3600" hR="3600" stAng="10800000" swAng="-5400000"/>
                <a:lnTo>
                  <a:pt x="18000" y="476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8857400">
            <a:off x="6128280" y="4920120"/>
            <a:ext cx="685800" cy="15127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2720"/>
              <a:gd name="textAreaBottom" fmla="*/ 1479240 h 1512720"/>
            </a:gdLst>
            <a:ahLst/>
            <a:rect l="textAreaLeft" t="textAreaTop" r="textAreaRight" b="textAreaBottom"/>
            <a:pathLst>
              <a:path w="21600" h="47631">
                <a:moveTo>
                  <a:pt x="3600" y="0"/>
                </a:moveTo>
                <a:arcTo wR="3600" hR="3600" stAng="16200000" swAng="-5400000"/>
                <a:lnTo>
                  <a:pt x="0" y="44031"/>
                </a:lnTo>
                <a:arcTo wR="3600" hR="3600" stAng="10800000" swAng="-5400000"/>
                <a:lnTo>
                  <a:pt x="18000" y="47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8857400">
            <a:off x="6128280" y="4920120"/>
            <a:ext cx="685800" cy="15127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2720"/>
              <a:gd name="textAreaBottom" fmla="*/ 1479240 h 1512720"/>
            </a:gdLst>
            <a:ahLst/>
            <a:rect l="textAreaLeft" t="textAreaTop" r="textAreaRight" b="textAreaBottom"/>
            <a:pathLst>
              <a:path w="21600" h="47631">
                <a:moveTo>
                  <a:pt x="3600" y="0"/>
                </a:moveTo>
                <a:arcTo wR="3600" hR="3600" stAng="16200000" swAng="-5400000"/>
                <a:lnTo>
                  <a:pt x="0" y="44031"/>
                </a:lnTo>
                <a:arcTo wR="3600" hR="3600" stAng="10800000" swAng="-5400000"/>
                <a:lnTo>
                  <a:pt x="18000" y="47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8857400">
            <a:off x="6204600" y="4843800"/>
            <a:ext cx="685800" cy="15127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2720"/>
              <a:gd name="textAreaBottom" fmla="*/ 1479240 h 1512720"/>
            </a:gdLst>
            <a:ahLst/>
            <a:rect l="textAreaLeft" t="textAreaTop" r="textAreaRight" b="textAreaBottom"/>
            <a:pathLst>
              <a:path w="21600" h="47631">
                <a:moveTo>
                  <a:pt x="3600" y="0"/>
                </a:moveTo>
                <a:arcTo wR="3600" hR="3600" stAng="16200000" swAng="-5400000"/>
                <a:lnTo>
                  <a:pt x="0" y="44031"/>
                </a:lnTo>
                <a:arcTo wR="3600" hR="3600" stAng="10800000" swAng="-5400000"/>
                <a:lnTo>
                  <a:pt x="18000" y="47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867280" y="4495680"/>
          <a:ext cx="26798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495680"/>
                    <a:ext cx="26798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143000" y="1600200"/>
            <a:ext cx="7772400" cy="31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e S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collection of all    possible out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ll 6 faces of a d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ll 52 cards of a bridge dec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9BAC8-37D8-425B-A132-A5462F8D744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rrelation Coefficient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always falls between -1 and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       x and y ar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t linearly re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rt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from zero, the stronger the linear relation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+1      x and y have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erfect posi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-1      x and y have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erfect neg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nterpreting the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rrelation Coefficient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1600200" y="480060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00200" y="541008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38280" y="3048120"/>
            <a:ext cx="3812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BC551-81CE-4A83-95D5-D24F5DC38B9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approaches to assessing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common rules of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Bayes’ Theorem for conditional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ed between discrete and continuous probabilit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d discrete probability distributions and their summary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7AA2A-504D-48F8-8CBD-A3505CD3190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ven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lementary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n outcome from a sample space with one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A red card from a deck of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10000"/>
              </a:lnSpc>
              <a:spcBef>
                <a:spcPts val="22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ay involve two or more outcomes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An ace that is also red from a deck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8ED28-41DE-46C7-AEBF-4C6055DE2A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 flipV="1">
            <a:off x="3095640" y="5181480"/>
            <a:ext cx="1628640" cy="37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5715000"/>
            <a:ext cx="1676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Visualizing Even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ingency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re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2209680"/>
            <a:ext cx="5105520" cy="1905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1120" y="3117960"/>
            <a:ext cx="465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              2            24                26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1120" y="2736720"/>
            <a:ext cx="466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           2            24                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274320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365760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3657600"/>
            <a:ext cx="4889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otal             4            48                52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2209680"/>
            <a:ext cx="518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ce        Not Ace     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5257800"/>
            <a:ext cx="1600200" cy="643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ll De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f 52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663000">
            <a:off x="3276720" y="5943600"/>
            <a:ext cx="1447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20814000">
            <a:off x="3123720" y="5029200"/>
            <a:ext cx="160020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952880" y="4723920"/>
            <a:ext cx="16002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5181480"/>
            <a:ext cx="16002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634200">
            <a:off x="4952880" y="6248160"/>
            <a:ext cx="1676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an 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0792400">
            <a:off x="5105520" y="4572000"/>
            <a:ext cx="838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21247200">
            <a:off x="5105160" y="5562720"/>
            <a:ext cx="99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291000">
            <a:off x="4875120" y="5181120"/>
            <a:ext cx="167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an A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952880" y="5790960"/>
            <a:ext cx="1600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6095880"/>
            <a:ext cx="16002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5029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5943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2209680"/>
            <a:ext cx="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2209680"/>
            <a:ext cx="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2209680"/>
            <a:ext cx="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4800600"/>
            <a:ext cx="914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5105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24680" y="4343400"/>
            <a:ext cx="914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43800" y="3581280"/>
            <a:ext cx="53352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7848360" y="4114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32004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4495680"/>
            <a:ext cx="60948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ECC16-24B8-4B97-89DB-9AE8C03F32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6680" y="3733920"/>
            <a:ext cx="3886200" cy="25146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lementary Even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utomobile consultant records </a:t>
            </a:r>
            <a:r>
              <a:rPr b="0" lang="en-US" sz="2800" spc="-1" strike="noStrike">
                <a:solidFill>
                  <a:srgbClr val="c52817"/>
                </a:solidFill>
                <a:latin typeface="Arial"/>
              </a:rPr>
              <a:t>fuel 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ehicle 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 sample of veh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uel types:  </a:t>
            </a:r>
            <a:r>
              <a:rPr b="0" lang="en-US" sz="2400" spc="-1" strike="noStrike">
                <a:solidFill>
                  <a:srgbClr val="c52817"/>
                </a:solidFill>
                <a:latin typeface="Arial"/>
              </a:rPr>
              <a:t>Gasoline, Die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Vehicle types: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ruck, Car, S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possible elementary ev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oline,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oline,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oline, S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l,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l,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l, S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42670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705720" y="3886200"/>
            <a:ext cx="137160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434340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4343400"/>
            <a:ext cx="12956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781680" y="5105520"/>
            <a:ext cx="129564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556272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5562720"/>
            <a:ext cx="12193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34120" y="4343040"/>
            <a:ext cx="13716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952880"/>
            <a:ext cx="137160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48769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20136000">
            <a:off x="5410080" y="42667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2817"/>
                </a:solidFill>
                <a:latin typeface="Arial"/>
              </a:rPr>
              <a:t>Gaso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443000">
            <a:off x="5562360" y="5181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2817"/>
                </a:solidFill>
                <a:latin typeface="Arial"/>
              </a:rPr>
              <a:t>Die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91520" y="4038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20514000">
            <a:off x="7162920" y="36572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ru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0514000">
            <a:off x="7238880" y="487656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ru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5257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054200">
            <a:off x="7162560" y="46483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U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054200">
            <a:off x="7162560" y="5867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U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77320" y="3657600"/>
            <a:ext cx="76176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7E16C-38FC-4F98-AC4C-AE7290125F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robability Concep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tually Exclusiv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s, then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not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no common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4343400"/>
            <a:ext cx="1523880" cy="1447920"/>
          </a:xfrm>
          <a:prstGeom prst="ellipse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114800"/>
            <a:ext cx="1523880" cy="1447920"/>
          </a:xfrm>
          <a:prstGeom prst="ellipse">
            <a:avLst/>
          </a:prstGeom>
          <a:solidFill>
            <a:srgbClr val="fec6d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57800" y="3733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card cannot be Black and Red at the sam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66040" y="38862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1160" y="36576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F8B33-1F08-4281-9158-19E35BBF63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dependent and Dependent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29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depend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ccurrence of one does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influence the probability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occurrence of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pend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ccurrence of one affect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probability of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robability Concep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B0F55-0CE1-4BB8-8EFB-522DEAAF65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dc:language>en-US</dc:language>
  <cp:lastModifiedBy>dy</cp:lastModifiedBy>
  <cp:lastPrinted>1998-11-22T23:37:53Z</cp:lastPrinted>
  <dcterms:modified xsi:type="dcterms:W3CDTF">2004-06-18T15:33:15Z</dcterms:modified>
  <cp:revision>69</cp:revision>
  <dc:subject>Chapter 4</dc:subject>
  <dc:title>Business Statistics: A Decision-Making Approach, 6th edition</dc:title>
</cp:coreProperties>
</file>