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9A7-BB05-49B1-8F0F-5DA5688A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2045-D873-4F3D-9AC0-6BA58C58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D96-9D52-4C69-885A-2EACCF89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39A-BCD8-46BF-B906-EAC0D45F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D5B-AB8C-4108-8C89-5FAB9459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F32-1161-48B5-934D-5F0ED4AF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4DEA-1B97-4F49-AAC8-E05B1AA9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A7D-0F0B-4C65-B5ED-9A200FA1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F5E4-116A-4C78-9103-65D7408C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755-416B-4582-80FD-3BA025DA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DF1-F6D4-4E5F-9932-56281300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5CB-2911-4FA4-BAE3-23AB34DC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A93-56AE-4715-9A3B-7608E4F9F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F79-B86F-4F35-B0A9-4F0A012FF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A02-A1B7-4D7D-B2AC-7BE5C7BC8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CD4-49B0-4D6B-8736-5DF67678A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C017-5487-490D-814D-12F60192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EB5-F36E-43F8-8E20-5C836A90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F23-E73C-4345-874B-A49AF1B1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C8C-D2D2-4192-B645-6482BA4A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BB7-851C-4FC0-9FE2-9D493425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7C8B-2FC6-430D-94F3-1056EF71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128-8B83-4612-9A34-5CF404D6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E45-DCBC-40FF-A4D0-3A259477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47A-C10C-4AEB-B485-7B3048F6F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1D1-D2BB-44F3-A782-EE657FE1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78F-CA79-4C1D-8CEF-5E576B0CB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0E9D-8BC9-45E2-92B9-DE35E9E3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0DD-93F9-44FC-9E6C-8DA56AF11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A4C-DB0B-4814-B6DE-F372DC75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FA2-AF2E-4E09-B56C-6C4F4390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2B88-4110-4719-B168-6E899981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8145-F1CA-4883-BBFA-2AF5BC33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9C1-A09C-4937-BC60-D54955EA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0D01-8F7B-459D-BCD7-1EED228B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DB8-2512-4D03-B1DC-74041A52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54A-1189-44B4-863F-2CAD3BE9A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8C26-DEFB-4614-AC0E-AFD5B418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81F-54F9-46B9-9E7E-6C5B4FB98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21D4-B2D1-49B0-AC48-8B3313E0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EEA5-F064-4DEB-89F3-D686FA90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DCE-EF73-4BAC-A52C-70923B065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427B-96CB-46E3-93F0-30D88404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A0AC-7AED-4138-9231-BA24F1F8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9E83-2A9E-4E6F-8827-81D0CBA0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E401-F4CB-4CEC-AC69-9984DDBD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4EC0-1391-4446-A24E-869FF8BE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2C46-5EC3-4D97-80FA-A21A8B647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12D-88C9-4277-88AA-FEA529A0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834-6100-4839-8D68-730D4D61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535-E131-4F9B-B08C-1937B15C6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354-1DB9-49F2-91A4-D26543DCF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E73-9315-45CC-A239-8164EEDE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ADF-9611-4E39-927A-E024E6BC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205-5A6D-4F33-A0DF-FFA509A1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E96-545A-472F-87D3-9D93B9E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823-0346-4BD1-A746-9D93D2E6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49A-C486-4341-ACED-E2B71289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3C8-EB41-4F97-ACCE-8613F32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48E-D200-4845-A467-8AC983F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6F4-6A47-4E1A-8489-93050127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788-DA00-4666-B676-7478CCD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ACE-59BC-435B-93E8-2F09A17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133-F2ED-4051-8307-95683D6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D5E-68DC-4949-839D-293D0D6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F87-D92F-4DEC-A19F-6FB0481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Kun-Mao C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DC7-7517-4B5D-821D-82446E462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086600" y="6248520"/>
            <a:ext cx="1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ignments and Phylogenetic tre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3271320"/>
            <a:ext cx="6858000" cy="19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 to Bioinformatic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hur M. Lesk. Fourth E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iz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429-0AC8-45BF-B1FD-D0AE45388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How do we know we’re righ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it to the data set we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Robinson-Foulds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one edge in the tree we’ve c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now have two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nyway to create the same set of leaves by removing one edge in our data s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no, add a ‘point’ of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 this for all ed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value is not zero then the trees are not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ooter Placeholder 4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erformance of DCM * - N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2971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erforms NJ method at sequence lengths above 4000 and with more tax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9" name="Picture 6" descr="tandyfig"/>
          <p:cNvPicPr/>
          <p:nvPr/>
        </p:nvPicPr>
        <p:blipFill>
          <a:blip r:embed="rId1"/>
          <a:stretch/>
        </p:blipFill>
        <p:spPr>
          <a:xfrm>
            <a:off x="3429000" y="1752480"/>
            <a:ext cx="5029200" cy="4564080"/>
          </a:xfrm>
          <a:prstGeom prst="rect">
            <a:avLst/>
          </a:prstGeom>
          <a:ln w="0">
            <a:noFill/>
          </a:ln>
        </p:spPr>
      </p:pic>
      <p:sp>
        <p:nvSpPr>
          <p:cNvPr id="940" name="Rectangle 7"/>
          <p:cNvSpPr/>
          <p:nvPr/>
        </p:nvSpPr>
        <p:spPr>
          <a:xfrm>
            <a:off x="3548160" y="1925640"/>
            <a:ext cx="506160" cy="40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6240600" y="1908000"/>
            <a:ext cx="2065320" cy="100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9"/>
          <p:cNvSpPr/>
          <p:nvPr/>
        </p:nvSpPr>
        <p:spPr>
          <a:xfrm>
            <a:off x="4475160" y="3670200"/>
            <a:ext cx="3867120" cy="20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10"/>
          <p:cNvGrpSpPr/>
          <p:nvPr/>
        </p:nvGrpSpPr>
        <p:grpSpPr>
          <a:xfrm>
            <a:off x="4343400" y="3962520"/>
            <a:ext cx="3752640" cy="1584000"/>
            <a:chOff x="4343400" y="3962520"/>
            <a:chExt cx="3752640" cy="1584000"/>
          </a:xfrm>
        </p:grpSpPr>
        <p:sp>
          <p:nvSpPr>
            <p:cNvPr id="944" name="Line 11"/>
            <p:cNvSpPr/>
            <p:nvPr/>
          </p:nvSpPr>
          <p:spPr>
            <a:xfrm flipV="1">
              <a:off x="4454640" y="5300640"/>
              <a:ext cx="249120" cy="136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12"/>
            <p:cNvSpPr/>
            <p:nvPr/>
          </p:nvSpPr>
          <p:spPr>
            <a:xfrm flipV="1">
              <a:off x="4694760" y="5068440"/>
              <a:ext cx="502920" cy="2365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3"/>
            <p:cNvSpPr/>
            <p:nvPr/>
          </p:nvSpPr>
          <p:spPr>
            <a:xfrm flipV="1">
              <a:off x="5198040" y="4462920"/>
              <a:ext cx="961200" cy="600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Line 14"/>
            <p:cNvSpPr/>
            <p:nvPr/>
          </p:nvSpPr>
          <p:spPr>
            <a:xfrm flipV="1">
              <a:off x="6150600" y="3962520"/>
              <a:ext cx="1945440" cy="505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15"/>
            <p:cNvSpPr/>
            <p:nvPr/>
          </p:nvSpPr>
          <p:spPr>
            <a:xfrm flipV="1">
              <a:off x="4343400" y="5437440"/>
              <a:ext cx="115560" cy="1090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Group 16"/>
          <p:cNvGrpSpPr/>
          <p:nvPr/>
        </p:nvGrpSpPr>
        <p:grpSpPr>
          <a:xfrm>
            <a:off x="4343400" y="5562360"/>
            <a:ext cx="3752640" cy="74160"/>
            <a:chOff x="4343400" y="5562360"/>
            <a:chExt cx="3752640" cy="74160"/>
          </a:xfrm>
        </p:grpSpPr>
        <p:sp>
          <p:nvSpPr>
            <p:cNvPr id="950" name="Line 17"/>
            <p:cNvSpPr/>
            <p:nvPr/>
          </p:nvSpPr>
          <p:spPr>
            <a:xfrm>
              <a:off x="4343400" y="5636520"/>
              <a:ext cx="119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8"/>
            <p:cNvSpPr/>
            <p:nvPr/>
          </p:nvSpPr>
          <p:spPr>
            <a:xfrm>
              <a:off x="4463280" y="5626080"/>
              <a:ext cx="2534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19"/>
            <p:cNvSpPr/>
            <p:nvPr/>
          </p:nvSpPr>
          <p:spPr>
            <a:xfrm>
              <a:off x="4699440" y="5626080"/>
              <a:ext cx="4942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0"/>
            <p:cNvSpPr/>
            <p:nvPr/>
          </p:nvSpPr>
          <p:spPr>
            <a:xfrm flipV="1">
              <a:off x="5175720" y="5594040"/>
              <a:ext cx="983520" cy="21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21"/>
            <p:cNvSpPr/>
            <p:nvPr/>
          </p:nvSpPr>
          <p:spPr>
            <a:xfrm flipV="1">
              <a:off x="6150600" y="5562360"/>
              <a:ext cx="1945440" cy="31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Text Box 22"/>
          <p:cNvSpPr/>
          <p:nvPr/>
        </p:nvSpPr>
        <p:spPr>
          <a:xfrm>
            <a:off x="6821280" y="2060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3"/>
          <p:cNvSpPr/>
          <p:nvPr/>
        </p:nvSpPr>
        <p:spPr>
          <a:xfrm>
            <a:off x="6857640" y="23652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4"/>
          <p:cNvSpPr/>
          <p:nvPr/>
        </p:nvSpPr>
        <p:spPr>
          <a:xfrm>
            <a:off x="4370400" y="5902200"/>
            <a:ext cx="42289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5"/>
          <p:cNvSpPr/>
          <p:nvPr/>
        </p:nvSpPr>
        <p:spPr>
          <a:xfrm>
            <a:off x="4038480" y="57913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6"/>
          <p:cNvSpPr/>
          <p:nvPr/>
        </p:nvSpPr>
        <p:spPr>
          <a:xfrm>
            <a:off x="4954680" y="58626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27"/>
          <p:cNvSpPr/>
          <p:nvPr/>
        </p:nvSpPr>
        <p:spPr>
          <a:xfrm>
            <a:off x="5945040" y="58626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8"/>
          <p:cNvSpPr/>
          <p:nvPr/>
        </p:nvSpPr>
        <p:spPr>
          <a:xfrm>
            <a:off x="8012160" y="5862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29"/>
          <p:cNvSpPr/>
          <p:nvPr/>
        </p:nvSpPr>
        <p:spPr>
          <a:xfrm>
            <a:off x="6945480" y="5862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30"/>
          <p:cNvSpPr/>
          <p:nvPr/>
        </p:nvSpPr>
        <p:spPr>
          <a:xfrm>
            <a:off x="5670720" y="61117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. Ta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31"/>
          <p:cNvSpPr/>
          <p:nvPr/>
        </p:nvSpPr>
        <p:spPr>
          <a:xfrm>
            <a:off x="3645000" y="56340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32"/>
          <p:cNvSpPr/>
          <p:nvPr/>
        </p:nvSpPr>
        <p:spPr>
          <a:xfrm>
            <a:off x="3668760" y="46846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33"/>
          <p:cNvSpPr/>
          <p:nvPr/>
        </p:nvSpPr>
        <p:spPr>
          <a:xfrm>
            <a:off x="3668760" y="3770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4"/>
          <p:cNvSpPr/>
          <p:nvPr/>
        </p:nvSpPr>
        <p:spPr>
          <a:xfrm>
            <a:off x="3668760" y="29322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35"/>
          <p:cNvSpPr/>
          <p:nvPr/>
        </p:nvSpPr>
        <p:spPr>
          <a:xfrm>
            <a:off x="3668760" y="205272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36"/>
          <p:cNvSpPr/>
          <p:nvPr/>
        </p:nvSpPr>
        <p:spPr>
          <a:xfrm rot="16200000">
            <a:off x="3019320" y="332568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Group 37"/>
          <p:cNvGrpSpPr/>
          <p:nvPr/>
        </p:nvGrpSpPr>
        <p:grpSpPr>
          <a:xfrm>
            <a:off x="6291360" y="2157480"/>
            <a:ext cx="426960" cy="0"/>
            <a:chOff x="6291360" y="2157480"/>
            <a:chExt cx="426960" cy="0"/>
          </a:xfrm>
        </p:grpSpPr>
        <p:sp>
          <p:nvSpPr>
            <p:cNvPr id="971" name="Line 38"/>
            <p:cNvSpPr/>
            <p:nvPr/>
          </p:nvSpPr>
          <p:spPr>
            <a:xfrm>
              <a:off x="6291360" y="2157480"/>
              <a:ext cx="213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39"/>
            <p:cNvSpPr/>
            <p:nvPr/>
          </p:nvSpPr>
          <p:spPr>
            <a:xfrm>
              <a:off x="6504840" y="2157480"/>
              <a:ext cx="213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Group 40"/>
          <p:cNvGrpSpPr/>
          <p:nvPr/>
        </p:nvGrpSpPr>
        <p:grpSpPr>
          <a:xfrm>
            <a:off x="6291360" y="2462040"/>
            <a:ext cx="426960" cy="0"/>
            <a:chOff x="6291360" y="2462040"/>
            <a:chExt cx="426960" cy="0"/>
          </a:xfrm>
        </p:grpSpPr>
        <p:sp>
          <p:nvSpPr>
            <p:cNvPr id="974" name="Line 41"/>
            <p:cNvSpPr/>
            <p:nvPr/>
          </p:nvSpPr>
          <p:spPr>
            <a:xfrm>
              <a:off x="6291360" y="2462040"/>
              <a:ext cx="21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42"/>
            <p:cNvSpPr/>
            <p:nvPr/>
          </p:nvSpPr>
          <p:spPr>
            <a:xfrm>
              <a:off x="6504840" y="2462040"/>
              <a:ext cx="21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mprovement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 possibilities like in Ph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test of Maximum Parsimony (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 and minimize the overall size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using statistical 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um Likelihood (M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erformance gain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changing Phase 2 has massive gains in accurac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M - NJ + MP and DCM -NJ + ML are VERY accurate for data sets greater than 4000 and are NOT NP h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CM - NJ + MP finished its analysis on a 107 taxon tree in under three minu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Footer Placeholder 5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aring Improvem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4" name="Picture 5" descr="tandyfig"/>
          <p:cNvPicPr/>
          <p:nvPr/>
        </p:nvPicPr>
        <p:blipFill>
          <a:blip r:embed="rId1">
            <a:lum contrast="74000"/>
          </a:blip>
          <a:stretch/>
        </p:blipFill>
        <p:spPr>
          <a:xfrm>
            <a:off x="458640" y="1828800"/>
            <a:ext cx="5031000" cy="462456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6"/>
          <p:cNvSpPr/>
          <p:nvPr/>
        </p:nvSpPr>
        <p:spPr>
          <a:xfrm>
            <a:off x="573120" y="1986120"/>
            <a:ext cx="525600" cy="41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7"/>
          <p:cNvSpPr/>
          <p:nvPr/>
        </p:nvSpPr>
        <p:spPr>
          <a:xfrm>
            <a:off x="3048120" y="2141640"/>
            <a:ext cx="2146320" cy="142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1244520" y="3789360"/>
            <a:ext cx="4017960" cy="21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Group 9"/>
          <p:cNvGrpSpPr/>
          <p:nvPr/>
        </p:nvGrpSpPr>
        <p:grpSpPr>
          <a:xfrm>
            <a:off x="1309680" y="5737320"/>
            <a:ext cx="3889080" cy="38160"/>
            <a:chOff x="1309680" y="5737320"/>
            <a:chExt cx="3889080" cy="38160"/>
          </a:xfrm>
        </p:grpSpPr>
        <p:sp>
          <p:nvSpPr>
            <p:cNvPr id="989" name="Line 10"/>
            <p:cNvSpPr/>
            <p:nvPr/>
          </p:nvSpPr>
          <p:spPr>
            <a:xfrm>
              <a:off x="1309680" y="5737320"/>
              <a:ext cx="12924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1"/>
            <p:cNvSpPr/>
            <p:nvPr/>
          </p:nvSpPr>
          <p:spPr>
            <a:xfrm>
              <a:off x="1426680" y="5749920"/>
              <a:ext cx="27720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2"/>
            <p:cNvSpPr/>
            <p:nvPr/>
          </p:nvSpPr>
          <p:spPr>
            <a:xfrm>
              <a:off x="1707120" y="5765760"/>
              <a:ext cx="480960" cy="9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3"/>
            <p:cNvSpPr/>
            <p:nvPr/>
          </p:nvSpPr>
          <p:spPr>
            <a:xfrm flipV="1">
              <a:off x="2188080" y="5756040"/>
              <a:ext cx="101268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4"/>
            <p:cNvSpPr/>
            <p:nvPr/>
          </p:nvSpPr>
          <p:spPr>
            <a:xfrm>
              <a:off x="3200760" y="5756400"/>
              <a:ext cx="1998000" cy="1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15"/>
          <p:cNvGrpSpPr/>
          <p:nvPr/>
        </p:nvGrpSpPr>
        <p:grpSpPr>
          <a:xfrm>
            <a:off x="1319040" y="4111200"/>
            <a:ext cx="3898800" cy="1630080"/>
            <a:chOff x="1319040" y="4111200"/>
            <a:chExt cx="3898800" cy="1630080"/>
          </a:xfrm>
        </p:grpSpPr>
        <p:sp>
          <p:nvSpPr>
            <p:cNvPr id="995" name="Line 16"/>
            <p:cNvSpPr/>
            <p:nvPr/>
          </p:nvSpPr>
          <p:spPr>
            <a:xfrm flipV="1">
              <a:off x="1434600" y="5488920"/>
              <a:ext cx="258840" cy="14040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17"/>
            <p:cNvSpPr/>
            <p:nvPr/>
          </p:nvSpPr>
          <p:spPr>
            <a:xfrm flipV="1">
              <a:off x="1684080" y="5249880"/>
              <a:ext cx="522360" cy="24336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18"/>
            <p:cNvSpPr/>
            <p:nvPr/>
          </p:nvSpPr>
          <p:spPr>
            <a:xfrm flipV="1">
              <a:off x="2206800" y="4626720"/>
              <a:ext cx="998640" cy="61812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9"/>
            <p:cNvSpPr/>
            <p:nvPr/>
          </p:nvSpPr>
          <p:spPr>
            <a:xfrm flipV="1">
              <a:off x="3196800" y="4111200"/>
              <a:ext cx="2021040" cy="52020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20"/>
            <p:cNvSpPr/>
            <p:nvPr/>
          </p:nvSpPr>
          <p:spPr>
            <a:xfrm flipV="1">
              <a:off x="1319040" y="5629320"/>
              <a:ext cx="120240" cy="111960"/>
            </a:xfrm>
            <a:prstGeom prst="line">
              <a:avLst/>
            </a:prstGeom>
            <a:ln w="57240">
              <a:solidFill>
                <a:srgbClr val="8bc1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21"/>
          <p:cNvGrpSpPr/>
          <p:nvPr/>
        </p:nvGrpSpPr>
        <p:grpSpPr>
          <a:xfrm>
            <a:off x="1314360" y="5811480"/>
            <a:ext cx="3898800" cy="33480"/>
            <a:chOff x="1314360" y="5811480"/>
            <a:chExt cx="3898800" cy="33480"/>
          </a:xfrm>
        </p:grpSpPr>
        <p:sp>
          <p:nvSpPr>
            <p:cNvPr id="1001" name="Line 22"/>
            <p:cNvSpPr/>
            <p:nvPr/>
          </p:nvSpPr>
          <p:spPr>
            <a:xfrm>
              <a:off x="1314360" y="5844960"/>
              <a:ext cx="12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3"/>
            <p:cNvSpPr/>
            <p:nvPr/>
          </p:nvSpPr>
          <p:spPr>
            <a:xfrm>
              <a:off x="1438920" y="5840280"/>
              <a:ext cx="26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4"/>
            <p:cNvSpPr/>
            <p:nvPr/>
          </p:nvSpPr>
          <p:spPr>
            <a:xfrm>
              <a:off x="1684080" y="5840280"/>
              <a:ext cx="51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5"/>
            <p:cNvSpPr/>
            <p:nvPr/>
          </p:nvSpPr>
          <p:spPr>
            <a:xfrm flipV="1">
              <a:off x="2179080" y="5825520"/>
              <a:ext cx="1021680" cy="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26"/>
            <p:cNvSpPr/>
            <p:nvPr/>
          </p:nvSpPr>
          <p:spPr>
            <a:xfrm flipV="1">
              <a:off x="3192120" y="5811480"/>
              <a:ext cx="2021040" cy="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27"/>
          <p:cNvGrpSpPr/>
          <p:nvPr/>
        </p:nvGrpSpPr>
        <p:grpSpPr>
          <a:xfrm>
            <a:off x="1300320" y="5470200"/>
            <a:ext cx="3917160" cy="93600"/>
            <a:chOff x="1300320" y="5470200"/>
            <a:chExt cx="3917160" cy="93600"/>
          </a:xfrm>
        </p:grpSpPr>
        <p:sp>
          <p:nvSpPr>
            <p:cNvPr id="1007" name="Line 28"/>
            <p:cNvSpPr/>
            <p:nvPr/>
          </p:nvSpPr>
          <p:spPr>
            <a:xfrm>
              <a:off x="1300320" y="5484600"/>
              <a:ext cx="157320" cy="7452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29"/>
            <p:cNvSpPr/>
            <p:nvPr/>
          </p:nvSpPr>
          <p:spPr>
            <a:xfrm flipV="1">
              <a:off x="1452960" y="5503320"/>
              <a:ext cx="240480" cy="604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30"/>
            <p:cNvSpPr/>
            <p:nvPr/>
          </p:nvSpPr>
          <p:spPr>
            <a:xfrm flipV="1">
              <a:off x="1684080" y="5470200"/>
              <a:ext cx="513360" cy="3276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31"/>
            <p:cNvSpPr/>
            <p:nvPr/>
          </p:nvSpPr>
          <p:spPr>
            <a:xfrm>
              <a:off x="2197800" y="5470560"/>
              <a:ext cx="1012680" cy="604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32"/>
            <p:cNvSpPr/>
            <p:nvPr/>
          </p:nvSpPr>
          <p:spPr>
            <a:xfrm flipH="1">
              <a:off x="3205440" y="5503320"/>
              <a:ext cx="2012040" cy="3240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Text Box 33"/>
          <p:cNvSpPr/>
          <p:nvPr/>
        </p:nvSpPr>
        <p:spPr>
          <a:xfrm>
            <a:off x="3716640" y="22161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+S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3714480" y="2516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3716640" y="281448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-NJ+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3715920" y="31147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T-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37"/>
          <p:cNvSpPr/>
          <p:nvPr/>
        </p:nvSpPr>
        <p:spPr>
          <a:xfrm>
            <a:off x="1119240" y="6064200"/>
            <a:ext cx="439272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8"/>
          <p:cNvSpPr/>
          <p:nvPr/>
        </p:nvSpPr>
        <p:spPr>
          <a:xfrm>
            <a:off x="1050840" y="599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9"/>
          <p:cNvSpPr/>
          <p:nvPr/>
        </p:nvSpPr>
        <p:spPr>
          <a:xfrm>
            <a:off x="1938240" y="6024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40"/>
          <p:cNvSpPr/>
          <p:nvPr/>
        </p:nvSpPr>
        <p:spPr>
          <a:xfrm>
            <a:off x="2895480" y="6019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41"/>
          <p:cNvSpPr/>
          <p:nvPr/>
        </p:nvSpPr>
        <p:spPr>
          <a:xfrm>
            <a:off x="4898880" y="60246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42"/>
          <p:cNvSpPr/>
          <p:nvPr/>
        </p:nvSpPr>
        <p:spPr>
          <a:xfrm>
            <a:off x="3862440" y="60246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43"/>
          <p:cNvSpPr/>
          <p:nvPr/>
        </p:nvSpPr>
        <p:spPr>
          <a:xfrm>
            <a:off x="2590920" y="6269040"/>
            <a:ext cx="11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le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44"/>
          <p:cNvSpPr/>
          <p:nvPr/>
        </p:nvSpPr>
        <p:spPr>
          <a:xfrm>
            <a:off x="681120" y="5799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45"/>
          <p:cNvSpPr/>
          <p:nvPr/>
        </p:nvSpPr>
        <p:spPr>
          <a:xfrm>
            <a:off x="681120" y="490068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46"/>
          <p:cNvSpPr/>
          <p:nvPr/>
        </p:nvSpPr>
        <p:spPr>
          <a:xfrm>
            <a:off x="681120" y="402912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47"/>
          <p:cNvSpPr/>
          <p:nvPr/>
        </p:nvSpPr>
        <p:spPr>
          <a:xfrm>
            <a:off x="681120" y="317808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48"/>
          <p:cNvSpPr/>
          <p:nvPr/>
        </p:nvSpPr>
        <p:spPr>
          <a:xfrm>
            <a:off x="681120" y="2313000"/>
            <a:ext cx="6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49"/>
          <p:cNvSpPr/>
          <p:nvPr/>
        </p:nvSpPr>
        <p:spPr>
          <a:xfrm rot="16200000">
            <a:off x="41760" y="3515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50"/>
          <p:cNvGrpSpPr/>
          <p:nvPr/>
        </p:nvGrpSpPr>
        <p:grpSpPr>
          <a:xfrm>
            <a:off x="3197160" y="2397240"/>
            <a:ext cx="220680" cy="898560"/>
            <a:chOff x="3197160" y="2397240"/>
            <a:chExt cx="220680" cy="898560"/>
          </a:xfrm>
        </p:grpSpPr>
        <p:sp>
          <p:nvSpPr>
            <p:cNvPr id="1030" name="Line 51"/>
            <p:cNvSpPr/>
            <p:nvPr/>
          </p:nvSpPr>
          <p:spPr>
            <a:xfrm>
              <a:off x="3197160" y="2397240"/>
              <a:ext cx="22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52"/>
            <p:cNvSpPr/>
            <p:nvPr/>
          </p:nvSpPr>
          <p:spPr>
            <a:xfrm>
              <a:off x="3197160" y="2696760"/>
              <a:ext cx="220680" cy="0"/>
            </a:xfrm>
            <a:prstGeom prst="line">
              <a:avLst/>
            </a:prstGeom>
            <a:ln w="28440">
              <a:solidFill>
                <a:srgbClr val="8bc14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53"/>
            <p:cNvSpPr/>
            <p:nvPr/>
          </p:nvSpPr>
          <p:spPr>
            <a:xfrm>
              <a:off x="3197160" y="2995920"/>
              <a:ext cx="2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54"/>
            <p:cNvSpPr/>
            <p:nvPr/>
          </p:nvSpPr>
          <p:spPr>
            <a:xfrm>
              <a:off x="3197160" y="3295800"/>
              <a:ext cx="220680" cy="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Group 55"/>
          <p:cNvGrpSpPr/>
          <p:nvPr/>
        </p:nvGrpSpPr>
        <p:grpSpPr>
          <a:xfrm>
            <a:off x="3417840" y="2397240"/>
            <a:ext cx="222120" cy="898560"/>
            <a:chOff x="3417840" y="2397240"/>
            <a:chExt cx="222120" cy="898560"/>
          </a:xfrm>
        </p:grpSpPr>
        <p:sp>
          <p:nvSpPr>
            <p:cNvPr id="1035" name="Line 56"/>
            <p:cNvSpPr/>
            <p:nvPr/>
          </p:nvSpPr>
          <p:spPr>
            <a:xfrm>
              <a:off x="3417840" y="2397240"/>
              <a:ext cx="2221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57"/>
            <p:cNvSpPr/>
            <p:nvPr/>
          </p:nvSpPr>
          <p:spPr>
            <a:xfrm>
              <a:off x="3417840" y="2696760"/>
              <a:ext cx="222120" cy="0"/>
            </a:xfrm>
            <a:prstGeom prst="line">
              <a:avLst/>
            </a:prstGeom>
            <a:ln w="28440">
              <a:solidFill>
                <a:srgbClr val="8bc1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58"/>
            <p:cNvSpPr/>
            <p:nvPr/>
          </p:nvSpPr>
          <p:spPr>
            <a:xfrm>
              <a:off x="3417840" y="2995920"/>
              <a:ext cx="22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59"/>
            <p:cNvSpPr/>
            <p:nvPr/>
          </p:nvSpPr>
          <p:spPr>
            <a:xfrm>
              <a:off x="3417840" y="3295800"/>
              <a:ext cx="222120" cy="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3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1B8-A6A8-47AA-87B3-433127CEB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3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AD4-143E-4292-85E4-F687DAE24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0"/>
          <p:cNvSpPr/>
          <p:nvPr/>
        </p:nvSpPr>
        <p:spPr>
          <a:xfrm>
            <a:off x="7140600" y="5327640"/>
            <a:ext cx="2003400" cy="638280"/>
          </a:xfrm>
          <a:prstGeom prst="cloudCallout">
            <a:avLst>
              <a:gd name="adj1" fmla="val -45800"/>
              <a:gd name="adj2" fmla="val 69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T T A A C –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G G A T C A 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BE3-417C-4889-9684-CB2ADD783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98"/>
          <p:cNvSpPr/>
          <p:nvPr/>
        </p:nvSpPr>
        <p:spPr>
          <a:xfrm>
            <a:off x="2635200" y="137016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0"/>
          <p:cNvSpPr/>
          <p:nvPr/>
        </p:nvSpPr>
        <p:spPr>
          <a:xfrm>
            <a:off x="696960" y="973080"/>
            <a:ext cx="248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1"/>
          <p:cNvSpPr/>
          <p:nvPr/>
        </p:nvSpPr>
        <p:spPr>
          <a:xfrm>
            <a:off x="739800" y="9889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5 –5  +8  -5  +8  -3 +8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2"/>
          <p:cNvSpPr/>
          <p:nvPr/>
        </p:nvSpPr>
        <p:spPr>
          <a:xfrm>
            <a:off x="449280" y="189000"/>
            <a:ext cx="4441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this example in cla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AATT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GAATCT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optimal alignment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E52C-99DB-4FE9-B9D8-04D912569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iz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436-AF96-4B11-901B-200E7FB73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4,2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FEED-1982-487D-A291-842E36AB1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5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zh-TW" sz="4400" spc="-1" strike="noStrike">
                <a:solidFill>
                  <a:srgbClr val="000000"/>
                </a:solidFill>
                <a:latin typeface="Calibri Light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489-E579-42F1-B817-5B302A153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5,5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661B-B849-4318-9FC4-1AF3D9336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106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11"/>
          <p:cNvSpPr/>
          <p:nvPr/>
        </p:nvSpPr>
        <p:spPr>
          <a:xfrm>
            <a:off x="7140600" y="5327640"/>
            <a:ext cx="2003400" cy="638280"/>
          </a:xfrm>
          <a:prstGeom prst="cloudCallout">
            <a:avLst>
              <a:gd name="adj1" fmla="val -45800"/>
              <a:gd name="adj2" fmla="val 699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al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 A A T - T G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 A A T C T G C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608-819C-4616-84C0-D87760E5E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06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7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0"/>
          <p:cNvSpPr/>
          <p:nvPr/>
        </p:nvSpPr>
        <p:spPr>
          <a:xfrm>
            <a:off x="609480" y="9907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+8  +8  +8  -3  +8 +8  -5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1"/>
          <p:cNvSpPr/>
          <p:nvPr/>
        </p:nvSpPr>
        <p:spPr>
          <a:xfrm>
            <a:off x="449280" y="189000"/>
            <a:ext cx="44416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D1D5-B6B6-411C-9AF1-097A50B62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752480" y="2133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ce Al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obal Alignment vs. Local Alignmen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 alig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40F-84B8-4951-A663-6CE53B7B9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700360" y="2786040"/>
            <a:ext cx="30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700360" y="3265560"/>
            <a:ext cx="25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692440" y="4403880"/>
            <a:ext cx="30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708280" y="4911840"/>
            <a:ext cx="25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700360" y="278604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 flipH="1">
            <a:off x="5297400" y="2786040"/>
            <a:ext cx="465120" cy="46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3367080" y="441324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>
            <a:off x="4147920" y="4397400"/>
            <a:ext cx="29340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367080" y="4309920"/>
            <a:ext cx="1074600" cy="174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367080" y="4803840"/>
            <a:ext cx="798480" cy="20304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timal local align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452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re of an optimal local alignment ending at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per initialization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mpu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foll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0F02-545B-4DA9-BEAE-76E3E504C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15920" y="3832200"/>
            <a:ext cx="61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574640" y="3530520"/>
                <a:ext cx="432612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88D-328C-4395-832E-474514DFA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0"/>
          <p:cNvSpPr/>
          <p:nvPr/>
        </p:nvSpPr>
        <p:spPr>
          <a:xfrm>
            <a:off x="304920" y="304920"/>
            <a:ext cx="1904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: 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 symbol: 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al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FCD0-0976-440E-9A93-A6EE79195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2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0"/>
          <p:cNvSpPr/>
          <p:nvPr/>
        </p:nvSpPr>
        <p:spPr>
          <a:xfrm>
            <a:off x="304920" y="304920"/>
            <a:ext cx="1904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: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: 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p symbol: 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4"/>
          <p:cNvSpPr/>
          <p:nvPr/>
        </p:nvSpPr>
        <p:spPr>
          <a:xfrm>
            <a:off x="7543800" y="4800600"/>
            <a:ext cx="1371600" cy="1295280"/>
          </a:xfrm>
          <a:prstGeom prst="cloudCallout">
            <a:avLst>
              <a:gd name="adj1" fmla="val -72106"/>
              <a:gd name="adj2" fmla="val 5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C78-87AB-4FD6-A0BD-4E5342BCE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d9a7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9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0"/>
          <p:cNvSpPr/>
          <p:nvPr/>
        </p:nvSpPr>
        <p:spPr>
          <a:xfrm>
            <a:off x="304920" y="3049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01"/>
          <p:cNvSpPr/>
          <p:nvPr/>
        </p:nvSpPr>
        <p:spPr>
          <a:xfrm>
            <a:off x="7543800" y="4800600"/>
            <a:ext cx="1371600" cy="1295280"/>
          </a:xfrm>
          <a:prstGeom prst="cloudCallout">
            <a:avLst>
              <a:gd name="adj1" fmla="val -72106"/>
              <a:gd name="adj2" fmla="val 5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st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8"/>
          <p:cNvSpPr/>
          <p:nvPr/>
        </p:nvSpPr>
        <p:spPr>
          <a:xfrm>
            <a:off x="53352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– C - T</a:t>
            </a:r>
            <a:br>
              <a:rPr sz="2400"/>
            </a:b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T C A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8-3+8-3+8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this example in clas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AATT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GAATCT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optimal local alignment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B77-75A4-4F25-980D-B2271FAE5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get it righ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440D-490D-47FE-938F-9FCC8EF7E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35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101-9F39-41FC-B0ED-6938AE44B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978200" y="1825560"/>
          <a:ext cx="5314680" cy="4703760"/>
        </p:xfrm>
        <a:graphic>
          <a:graphicData uri="http://schemas.openxmlformats.org/drawingml/2006/table">
            <a:tbl>
              <a:tblPr/>
              <a:tblGrid>
                <a:gridCol w="590400"/>
                <a:gridCol w="590400"/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9a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98"/>
          <p:cNvSpPr/>
          <p:nvPr/>
        </p:nvSpPr>
        <p:spPr>
          <a:xfrm>
            <a:off x="2635200" y="137016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    A     A     T     C     T     G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9"/>
          <p:cNvSpPr/>
          <p:nvPr/>
        </p:nvSpPr>
        <p:spPr>
          <a:xfrm>
            <a:off x="1514520" y="236376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7"/>
          <p:cNvSpPr/>
          <p:nvPr/>
        </p:nvSpPr>
        <p:spPr>
          <a:xfrm>
            <a:off x="53352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A T – T G</a:t>
            </a:r>
            <a:br>
              <a:rPr sz="2400"/>
            </a:b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A A T C T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Courier New"/>
              </a:rPr>
              <a:t>8+8+8-3+8+8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ap symbol: -3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-)=-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ach gap is charged an extra gap-open penal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1502-535E-4B9B-8C9E-330810307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447920" y="4038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244520" y="515628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-3    -3    -3   +8    -5   +8   -3    -3    +8  =  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7207200" y="5011560"/>
            <a:ext cx="625680" cy="6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 rot="16200000">
            <a:off x="2705040" y="331416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5753160" y="3619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590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638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81080" y="5718240"/>
            <a:ext cx="4114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: 12 – 4 – 4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a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p of leng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enaliz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+ k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34CD-2620-4B5D-B2DF-BDC9E79EE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594360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80060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-open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70866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86728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-symbol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85800" y="3200400"/>
            <a:ext cx="4648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cases for alignment e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2057400" y="400212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2057400" y="5867280"/>
            <a:ext cx="152280" cy="38124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2057400" y="4952880"/>
            <a:ext cx="152280" cy="38124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2209680" y="3962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ign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2209680" y="4876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220968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A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TA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B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GAT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8982-E240-43DA-88E2-147729506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00200" y="2362320"/>
          <a:ext cx="4724280" cy="411480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760"/>
                <a:gridCol w="590400"/>
                <a:gridCol w="590760"/>
                <a:gridCol w="59040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0"/>
          <p:cNvSpPr/>
          <p:nvPr/>
        </p:nvSpPr>
        <p:spPr>
          <a:xfrm>
            <a:off x="1981080" y="190512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81"/>
          <p:cNvSpPr/>
          <p:nvPr/>
        </p:nvSpPr>
        <p:spPr>
          <a:xfrm>
            <a:off x="2093760" y="284472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82"/>
          <p:cNvSpPr/>
          <p:nvPr/>
        </p:nvSpPr>
        <p:spPr>
          <a:xfrm>
            <a:off x="2084400" y="576108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83"/>
          <p:cNvSpPr/>
          <p:nvPr/>
        </p:nvSpPr>
        <p:spPr>
          <a:xfrm>
            <a:off x="5040360" y="286704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84"/>
          <p:cNvSpPr/>
          <p:nvPr/>
        </p:nvSpPr>
        <p:spPr>
          <a:xfrm>
            <a:off x="4438800" y="346392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5"/>
          <p:cNvSpPr/>
          <p:nvPr/>
        </p:nvSpPr>
        <p:spPr>
          <a:xfrm>
            <a:off x="6199200" y="34336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86"/>
          <p:cNvSpPr/>
          <p:nvPr/>
        </p:nvSpPr>
        <p:spPr>
          <a:xfrm>
            <a:off x="4419720" y="40384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87"/>
          <p:cNvSpPr/>
          <p:nvPr/>
        </p:nvSpPr>
        <p:spPr>
          <a:xfrm>
            <a:off x="6219720" y="3983040"/>
            <a:ext cx="20340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88"/>
          <p:cNvSpPr/>
          <p:nvPr/>
        </p:nvSpPr>
        <p:spPr>
          <a:xfrm>
            <a:off x="5580000" y="462276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9"/>
          <p:cNvSpPr/>
          <p:nvPr/>
        </p:nvSpPr>
        <p:spPr>
          <a:xfrm>
            <a:off x="3862440" y="520236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90"/>
          <p:cNvSpPr/>
          <p:nvPr/>
        </p:nvSpPr>
        <p:spPr>
          <a:xfrm>
            <a:off x="6208560" y="637056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91"/>
          <p:cNvSpPr/>
          <p:nvPr/>
        </p:nvSpPr>
        <p:spPr>
          <a:xfrm>
            <a:off x="4470480" y="6378480"/>
            <a:ext cx="20304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2"/>
          <p:cNvSpPr/>
          <p:nvPr/>
        </p:nvSpPr>
        <p:spPr>
          <a:xfrm>
            <a:off x="5030640" y="5821200"/>
            <a:ext cx="203400" cy="20340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93"/>
          <p:cNvSpPr/>
          <p:nvPr/>
        </p:nvSpPr>
        <p:spPr>
          <a:xfrm>
            <a:off x="3862440" y="4632480"/>
            <a:ext cx="20304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4"/>
          <p:cNvSpPr/>
          <p:nvPr/>
        </p:nvSpPr>
        <p:spPr>
          <a:xfrm>
            <a:off x="5619600" y="5230800"/>
            <a:ext cx="203400" cy="203040"/>
          </a:xfrm>
          <a:prstGeom prst="ellipse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5"/>
          <p:cNvSpPr/>
          <p:nvPr/>
        </p:nvSpPr>
        <p:spPr>
          <a:xfrm>
            <a:off x="1238400" y="258120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del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inse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6DA2-BD5D-4A69-A951-992FE5DA7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713D-2603-409A-85B9-D86F8D012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1797120" y="1649520"/>
                <a:ext cx="5333760" cy="42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Rectangle 7"/>
          <p:cNvSpPr/>
          <p:nvPr/>
        </p:nvSpPr>
        <p:spPr>
          <a:xfrm>
            <a:off x="1219320" y="5562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gap of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enaliz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151-FA27-4312-BE9E-068EE95E2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51"/>
          <p:cNvGrpSpPr/>
          <p:nvPr/>
        </p:nvGrpSpPr>
        <p:grpSpPr>
          <a:xfrm>
            <a:off x="2209680" y="2133720"/>
            <a:ext cx="1676160" cy="1676160"/>
            <a:chOff x="2209680" y="2133720"/>
            <a:chExt cx="1676160" cy="1676160"/>
          </a:xfrm>
        </p:grpSpPr>
        <p:grpSp>
          <p:nvGrpSpPr>
            <p:cNvPr id="304" name="Group 27"/>
            <p:cNvGrpSpPr/>
            <p:nvPr/>
          </p:nvGrpSpPr>
          <p:grpSpPr>
            <a:xfrm>
              <a:off x="2209680" y="2133720"/>
              <a:ext cx="1676160" cy="1676160"/>
              <a:chOff x="2209680" y="2133720"/>
              <a:chExt cx="1676160" cy="1676160"/>
            </a:xfrm>
          </p:grpSpPr>
          <p:sp>
            <p:nvSpPr>
              <p:cNvPr id="305" name="Oval 28"/>
              <p:cNvSpPr/>
              <p:nvPr/>
            </p:nvSpPr>
            <p:spPr>
              <a:xfrm>
                <a:off x="2209680" y="2133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9"/>
              <p:cNvSpPr/>
              <p:nvPr/>
            </p:nvSpPr>
            <p:spPr>
              <a:xfrm>
                <a:off x="2361960" y="3047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30"/>
              <p:cNvSpPr/>
              <p:nvPr/>
            </p:nvSpPr>
            <p:spPr>
              <a:xfrm>
                <a:off x="3124080" y="2286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31"/>
              <p:cNvSpPr/>
              <p:nvPr/>
            </p:nvSpPr>
            <p:spPr>
              <a:xfrm>
                <a:off x="3124080" y="3047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9" name="AutoShape 32"/>
              <p:cNvCxnSpPr>
                <a:stCxn id="306" idx="6"/>
                <a:endCxn id="308" idx="2"/>
              </p:cNvCxnSpPr>
              <p:nvPr/>
            </p:nvCxnSpPr>
            <p:spPr>
              <a:xfrm>
                <a:off x="2895120" y="3314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33"/>
              <p:cNvCxnSpPr>
                <a:stCxn id="307" idx="4"/>
                <a:endCxn id="308" idx="0"/>
              </p:cNvCxnSpPr>
              <p:nvPr/>
            </p:nvCxnSpPr>
            <p:spPr>
              <a:xfrm>
                <a:off x="3390480" y="2819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48"/>
            <p:cNvSpPr/>
            <p:nvPr/>
          </p:nvSpPr>
          <p:spPr>
            <a:xfrm>
              <a:off x="3233520" y="3083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9"/>
            <p:cNvSpPr/>
            <p:nvPr/>
          </p:nvSpPr>
          <p:spPr>
            <a:xfrm>
              <a:off x="2474640" y="308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50"/>
            <p:cNvSpPr/>
            <p:nvPr/>
          </p:nvSpPr>
          <p:spPr>
            <a:xfrm>
              <a:off x="3200400" y="232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52"/>
          <p:cNvGrpSpPr/>
          <p:nvPr/>
        </p:nvGrpSpPr>
        <p:grpSpPr>
          <a:xfrm>
            <a:off x="4800600" y="4419720"/>
            <a:ext cx="1676160" cy="1676160"/>
            <a:chOff x="4800600" y="4419720"/>
            <a:chExt cx="1676160" cy="1676160"/>
          </a:xfrm>
        </p:grpSpPr>
        <p:grpSp>
          <p:nvGrpSpPr>
            <p:cNvPr id="315" name="Group 53"/>
            <p:cNvGrpSpPr/>
            <p:nvPr/>
          </p:nvGrpSpPr>
          <p:grpSpPr>
            <a:xfrm>
              <a:off x="4800600" y="4419720"/>
              <a:ext cx="1676160" cy="1676160"/>
              <a:chOff x="4800600" y="4419720"/>
              <a:chExt cx="1676160" cy="1676160"/>
            </a:xfrm>
          </p:grpSpPr>
          <p:sp>
            <p:nvSpPr>
              <p:cNvPr id="316" name="Oval 54"/>
              <p:cNvSpPr/>
              <p:nvPr/>
            </p:nvSpPr>
            <p:spPr>
              <a:xfrm>
                <a:off x="4800600" y="4419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55"/>
              <p:cNvSpPr/>
              <p:nvPr/>
            </p:nvSpPr>
            <p:spPr>
              <a:xfrm>
                <a:off x="4952880" y="5333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56"/>
              <p:cNvSpPr/>
              <p:nvPr/>
            </p:nvSpPr>
            <p:spPr>
              <a:xfrm>
                <a:off x="5715000" y="4572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57"/>
              <p:cNvSpPr/>
              <p:nvPr/>
            </p:nvSpPr>
            <p:spPr>
              <a:xfrm>
                <a:off x="5715000" y="5333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0" name="AutoShape 58"/>
              <p:cNvCxnSpPr>
                <a:stCxn id="317" idx="6"/>
                <a:endCxn id="319" idx="2"/>
              </p:cNvCxnSpPr>
              <p:nvPr/>
            </p:nvCxnSpPr>
            <p:spPr>
              <a:xfrm>
                <a:off x="5486040" y="5600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1" name="AutoShape 59"/>
              <p:cNvCxnSpPr>
                <a:stCxn id="318" idx="4"/>
                <a:endCxn id="319" idx="0"/>
              </p:cNvCxnSpPr>
              <p:nvPr/>
            </p:nvCxnSpPr>
            <p:spPr>
              <a:xfrm>
                <a:off x="5981400" y="5105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22" name="Text Box 60"/>
            <p:cNvSpPr/>
            <p:nvPr/>
          </p:nvSpPr>
          <p:spPr>
            <a:xfrm>
              <a:off x="5824440" y="5369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1"/>
            <p:cNvSpPr/>
            <p:nvPr/>
          </p:nvSpPr>
          <p:spPr>
            <a:xfrm>
              <a:off x="5065560" y="5369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2"/>
            <p:cNvSpPr/>
            <p:nvPr/>
          </p:nvSpPr>
          <p:spPr>
            <a:xfrm>
              <a:off x="5791320" y="460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63"/>
          <p:cNvGrpSpPr/>
          <p:nvPr/>
        </p:nvGrpSpPr>
        <p:grpSpPr>
          <a:xfrm>
            <a:off x="4800600" y="2133720"/>
            <a:ext cx="1676160" cy="1676160"/>
            <a:chOff x="4800600" y="2133720"/>
            <a:chExt cx="1676160" cy="1676160"/>
          </a:xfrm>
        </p:grpSpPr>
        <p:grpSp>
          <p:nvGrpSpPr>
            <p:cNvPr id="326" name="Group 64"/>
            <p:cNvGrpSpPr/>
            <p:nvPr/>
          </p:nvGrpSpPr>
          <p:grpSpPr>
            <a:xfrm>
              <a:off x="4800600" y="2133720"/>
              <a:ext cx="1676160" cy="1676160"/>
              <a:chOff x="4800600" y="2133720"/>
              <a:chExt cx="1676160" cy="1676160"/>
            </a:xfrm>
          </p:grpSpPr>
          <p:sp>
            <p:nvSpPr>
              <p:cNvPr id="327" name="Oval 65"/>
              <p:cNvSpPr/>
              <p:nvPr/>
            </p:nvSpPr>
            <p:spPr>
              <a:xfrm>
                <a:off x="4800600" y="2133720"/>
                <a:ext cx="167616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66"/>
              <p:cNvSpPr/>
              <p:nvPr/>
            </p:nvSpPr>
            <p:spPr>
              <a:xfrm>
                <a:off x="4952880" y="3047760"/>
                <a:ext cx="53352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67"/>
              <p:cNvSpPr/>
              <p:nvPr/>
            </p:nvSpPr>
            <p:spPr>
              <a:xfrm>
                <a:off x="5715000" y="2286000"/>
                <a:ext cx="533160" cy="53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68"/>
              <p:cNvSpPr/>
              <p:nvPr/>
            </p:nvSpPr>
            <p:spPr>
              <a:xfrm>
                <a:off x="5715000" y="3047760"/>
                <a:ext cx="533160" cy="53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1" name="AutoShape 69"/>
              <p:cNvCxnSpPr>
                <a:stCxn id="328" idx="6"/>
                <a:endCxn id="330" idx="2"/>
              </p:cNvCxnSpPr>
              <p:nvPr/>
            </p:nvCxnSpPr>
            <p:spPr>
              <a:xfrm>
                <a:off x="5486040" y="3314160"/>
                <a:ext cx="229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2" name="AutoShape 70"/>
              <p:cNvCxnSpPr>
                <a:stCxn id="329" idx="4"/>
                <a:endCxn id="330" idx="0"/>
              </p:cNvCxnSpPr>
              <p:nvPr/>
            </p:nvCxnSpPr>
            <p:spPr>
              <a:xfrm>
                <a:off x="5981400" y="2819160"/>
                <a:ext cx="108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33" name="Text Box 71"/>
            <p:cNvSpPr/>
            <p:nvPr/>
          </p:nvSpPr>
          <p:spPr>
            <a:xfrm>
              <a:off x="5824440" y="3083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72"/>
            <p:cNvSpPr/>
            <p:nvPr/>
          </p:nvSpPr>
          <p:spPr>
            <a:xfrm>
              <a:off x="5065560" y="3083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73"/>
            <p:cNvSpPr/>
            <p:nvPr/>
          </p:nvSpPr>
          <p:spPr>
            <a:xfrm>
              <a:off x="5791320" y="232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Text Box 82"/>
          <p:cNvSpPr/>
          <p:nvPr/>
        </p:nvSpPr>
        <p:spPr>
          <a:xfrm>
            <a:off x="3233880" y="5369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75"/>
          <p:cNvGrpSpPr/>
          <p:nvPr/>
        </p:nvGrpSpPr>
        <p:grpSpPr>
          <a:xfrm>
            <a:off x="2209680" y="4419720"/>
            <a:ext cx="1676160" cy="1676160"/>
            <a:chOff x="2209680" y="4419720"/>
            <a:chExt cx="1676160" cy="1676160"/>
          </a:xfrm>
        </p:grpSpPr>
        <p:sp>
          <p:nvSpPr>
            <p:cNvPr id="338" name="Oval 76"/>
            <p:cNvSpPr/>
            <p:nvPr/>
          </p:nvSpPr>
          <p:spPr>
            <a:xfrm>
              <a:off x="2209680" y="4419720"/>
              <a:ext cx="1676160" cy="1676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77"/>
            <p:cNvSpPr/>
            <p:nvPr/>
          </p:nvSpPr>
          <p:spPr>
            <a:xfrm>
              <a:off x="2361960" y="5333760"/>
              <a:ext cx="5335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78"/>
            <p:cNvSpPr/>
            <p:nvPr/>
          </p:nvSpPr>
          <p:spPr>
            <a:xfrm>
              <a:off x="3124080" y="4572000"/>
              <a:ext cx="533160" cy="53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79"/>
            <p:cNvSpPr/>
            <p:nvPr/>
          </p:nvSpPr>
          <p:spPr>
            <a:xfrm>
              <a:off x="3124080" y="5333760"/>
              <a:ext cx="5331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AutoShape 80"/>
            <p:cNvCxnSpPr>
              <a:stCxn id="339" idx="6"/>
              <a:endCxn id="341" idx="2"/>
            </p:cNvCxnSpPr>
            <p:nvPr/>
          </p:nvCxnSpPr>
          <p:spPr>
            <a:xfrm>
              <a:off x="2895120" y="56001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81"/>
            <p:cNvCxnSpPr>
              <a:stCxn id="340" idx="4"/>
              <a:endCxn id="341" idx="0"/>
            </p:cNvCxnSpPr>
            <p:nvPr/>
          </p:nvCxnSpPr>
          <p:spPr>
            <a:xfrm>
              <a:off x="3390480" y="510516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4" name="Text Box 83"/>
          <p:cNvSpPr/>
          <p:nvPr/>
        </p:nvSpPr>
        <p:spPr>
          <a:xfrm>
            <a:off x="2475000" y="53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4"/>
          <p:cNvSpPr/>
          <p:nvPr/>
        </p:nvSpPr>
        <p:spPr>
          <a:xfrm>
            <a:off x="3200400" y="460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AutoShape 86"/>
          <p:cNvCxnSpPr>
            <a:stCxn id="311" idx="2"/>
            <a:endCxn id="319" idx="1"/>
          </p:cNvCxnSpPr>
          <p:nvPr/>
        </p:nvCxnSpPr>
        <p:spPr>
          <a:xfrm>
            <a:off x="3500280" y="3539880"/>
            <a:ext cx="2293200" cy="187236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7" name="AutoShape 89"/>
          <p:cNvCxnSpPr>
            <a:stCxn id="341" idx="6"/>
            <a:endCxn id="317" idx="2"/>
          </p:cNvCxnSpPr>
          <p:nvPr/>
        </p:nvCxnSpPr>
        <p:spPr>
          <a:xfrm>
            <a:off x="3657600" y="5600520"/>
            <a:ext cx="1296000" cy="108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8" name="AutoShape 90"/>
          <p:cNvCxnSpPr>
            <a:stCxn id="339" idx="4"/>
            <a:endCxn id="317" idx="4"/>
          </p:cNvCxnSpPr>
          <p:nvPr/>
        </p:nvCxnSpPr>
        <p:spPr>
          <a:xfrm flipH="1" rot="16200000">
            <a:off x="3923280" y="4572360"/>
            <a:ext cx="2520" cy="2591280"/>
          </a:xfrm>
          <a:prstGeom prst="bentConnector3">
            <a:avLst>
              <a:gd name="adj1" fmla="val 14400000"/>
            </a:avLst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49" name="AutoShape 91"/>
          <p:cNvCxnSpPr>
            <a:stCxn id="330" idx="4"/>
            <a:endCxn id="318" idx="0"/>
          </p:cNvCxnSpPr>
          <p:nvPr/>
        </p:nvCxnSpPr>
        <p:spPr>
          <a:xfrm>
            <a:off x="5981400" y="3581280"/>
            <a:ext cx="1080" cy="991440"/>
          </a:xfrm>
          <a:prstGeom prst="straightConnector1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50" name="AutoShape 92"/>
          <p:cNvCxnSpPr>
            <a:stCxn id="335" idx="3"/>
            <a:endCxn id="324" idx="3"/>
          </p:cNvCxnSpPr>
          <p:nvPr/>
        </p:nvCxnSpPr>
        <p:spPr>
          <a:xfrm>
            <a:off x="6248520" y="2549520"/>
            <a:ext cx="2160" cy="2286720"/>
          </a:xfrm>
          <a:prstGeom prst="bentConnector3">
            <a:avLst>
              <a:gd name="adj1" fmla="val 14400000"/>
            </a:avLst>
          </a:prstGeom>
          <a:ln w="93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1" name="Text Box 93"/>
          <p:cNvSpPr/>
          <p:nvPr/>
        </p:nvSpPr>
        <p:spPr>
          <a:xfrm>
            <a:off x="65530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4"/>
          <p:cNvSpPr/>
          <p:nvPr/>
        </p:nvSpPr>
        <p:spPr>
          <a:xfrm>
            <a:off x="53341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95"/>
          <p:cNvSpPr/>
          <p:nvPr/>
        </p:nvSpPr>
        <p:spPr>
          <a:xfrm>
            <a:off x="3962520" y="5105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7"/>
          <p:cNvSpPr/>
          <p:nvPr/>
        </p:nvSpPr>
        <p:spPr>
          <a:xfrm>
            <a:off x="4038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8"/>
          <p:cNvSpPr/>
          <p:nvPr/>
        </p:nvSpPr>
        <p:spPr>
          <a:xfrm>
            <a:off x="3962520" y="3581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ap symbol: 0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-)=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ach gap is charged a constant penal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6C8-663F-487E-A846-5C0B6E8CB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4038480"/>
            <a:ext cx="68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244520" y="515628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 0     0     0   +8    -5   +8     0     0    +8  =  +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7207200" y="5011560"/>
            <a:ext cx="625680" cy="6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 rot="16200000">
            <a:off x="2705040" y="331416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8"/>
          <p:cNvSpPr/>
          <p:nvPr/>
        </p:nvSpPr>
        <p:spPr>
          <a:xfrm rot="16200000">
            <a:off x="5753160" y="3619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5909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638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1828800" y="5794560"/>
            <a:ext cx="457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: 27 – 4 – 4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del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ing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inser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,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enote the maximum score of any alignment betwe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004-E57A-4DBA-94F9-37A62E096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tant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85E5-C5CE-4EAA-9A46-F493FE6B1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1981080" y="1752480"/>
                <a:ext cx="5486400" cy="407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a constant gap penalty for a g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tricted affine gap pa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p of leng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enaliz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+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EB2E-C142-40C0-8FD1-50A31B0AE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09480" y="2743200"/>
            <a:ext cx="5181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cases for alignment end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 5. for long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981080" y="354492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1981080" y="54100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1981080" y="4495680"/>
            <a:ext cx="152640" cy="38124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1337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ign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2133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213372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tricted affine gap penalti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5ACF-AA23-4690-9C53-03B96043F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2424240" y="1447920"/>
                <a:ext cx="433044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y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D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,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 j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) vs.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D’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1: the best alignment ending a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a deletion at the end has the last deletion gap of length &l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br>
              <a:rPr sz="2800"/>
            </a:b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 &gt;=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’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2: the best alignment ending at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a deletion at the end has the last deletion gap of length &gt;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 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 &lt;=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D’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cc33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cc33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56B4-F366-4685-A69A-EFBC2EC5F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x{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S</a:t>
            </a:r>
            <a:r>
              <a:rPr b="0" lang="en-US" sz="4400" spc="-1" strike="noStrike">
                <a:solidFill>
                  <a:srgbClr val="cc3300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i,j</a:t>
            </a:r>
            <a:r>
              <a:rPr b="0" lang="en-US" sz="4400" spc="-1" strike="noStrike">
                <a:solidFill>
                  <a:srgbClr val="cc3300"/>
                </a:solidFill>
                <a:latin typeface="Calibri Light"/>
              </a:rPr>
              <a:t>)</a:t>
            </a:r>
            <a:r>
              <a:rPr b="0" i="1" lang="en-US" sz="4400" spc="-1" strike="noStrike">
                <a:solidFill>
                  <a:srgbClr val="cc3300"/>
                </a:solidFill>
                <a:latin typeface="Calibri Light"/>
              </a:rPr>
              <a:t>-x-ky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S</a:t>
            </a:r>
            <a:r>
              <a:rPr b="0" lang="en-US" sz="4400" spc="-1" strike="noStrike">
                <a:solidFill>
                  <a:srgbClr val="ff33cc"/>
                </a:solidFill>
                <a:latin typeface="Calibri Light"/>
              </a:rPr>
              <a:t>(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i,j</a:t>
            </a:r>
            <a:r>
              <a:rPr b="0" lang="en-US" sz="4400" spc="-1" strike="noStrike">
                <a:solidFill>
                  <a:srgbClr val="ff33cc"/>
                </a:solidFill>
                <a:latin typeface="Calibri Light"/>
              </a:rPr>
              <a:t>)</a:t>
            </a:r>
            <a:r>
              <a:rPr b="0" i="1" lang="en-US" sz="4400" spc="-1" strike="noStrike">
                <a:solidFill>
                  <a:srgbClr val="ff33cc"/>
                </a:solidFill>
                <a:latin typeface="Calibri Light"/>
              </a:rPr>
              <a:t>-x-cy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4B4-0FA6-4812-B10A-556DBD73F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1692360" y="5157720"/>
            <a:ext cx="676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 flipV="1">
            <a:off x="2556000" y="1916280"/>
            <a:ext cx="0" cy="41767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842328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2556000" y="2349360"/>
            <a:ext cx="287280" cy="50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>
            <a:off x="2843280" y="2852640"/>
            <a:ext cx="3600360" cy="19447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3"/>
          <p:cNvSpPr/>
          <p:nvPr/>
        </p:nvSpPr>
        <p:spPr>
          <a:xfrm>
            <a:off x="2556000" y="3716280"/>
            <a:ext cx="3960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4427640" y="3716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428472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AutoShape 18"/>
          <p:cNvCxnSpPr>
            <a:stCxn id="394" idx="0"/>
            <a:endCxn id="395" idx="0"/>
          </p:cNvCxnSpPr>
          <p:nvPr/>
        </p:nvCxnSpPr>
        <p:spPr>
          <a:xfrm>
            <a:off x="2556000" y="2349360"/>
            <a:ext cx="288000" cy="5040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00" name="Line 20"/>
          <p:cNvSpPr/>
          <p:nvPr/>
        </p:nvSpPr>
        <p:spPr>
          <a:xfrm>
            <a:off x="2843280" y="2852640"/>
            <a:ext cx="158436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427640" y="3716280"/>
            <a:ext cx="2089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rwise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ignment of A and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084-8733-433E-A805-A7B881C0A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074"/>
          <p:cNvSpPr/>
          <p:nvPr/>
        </p:nvSpPr>
        <p:spPr>
          <a:xfrm>
            <a:off x="1727280" y="4211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077"/>
          <p:cNvSpPr/>
          <p:nvPr/>
        </p:nvSpPr>
        <p:spPr>
          <a:xfrm>
            <a:off x="4141800" y="44719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78"/>
          <p:cNvSpPr/>
          <p:nvPr/>
        </p:nvSpPr>
        <p:spPr>
          <a:xfrm>
            <a:off x="4875120" y="4227480"/>
            <a:ext cx="22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079"/>
          <p:cNvSpPr/>
          <p:nvPr/>
        </p:nvSpPr>
        <p:spPr>
          <a:xfrm>
            <a:off x="4154400" y="48690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080"/>
          <p:cNvSpPr/>
          <p:nvPr/>
        </p:nvSpPr>
        <p:spPr>
          <a:xfrm>
            <a:off x="4854600" y="4651200"/>
            <a:ext cx="30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st local alignme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ith-Waterm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mith and Waterman, 1981; Waterman and Eggert, 198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A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lbur and Lipman, 1983; Lipman and Pearson, 198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S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ltschul et al., 1990; Altschul et al., 199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4D4C-0A1D-4767-A1B5-B78121379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runs of identities, and identify regions with the highest density of ident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score using PAM matrix, and keep top scoring seg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segments that are unlikely to be part of the al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e the alignment in a b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0C0-5AA9-4E2A-854D-810922F31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EBA-928E-423C-9C63-54FBF81AF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493560" y="14526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Find runes of identities, and identify regions with the highest density of id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460760" y="2355840"/>
            <a:ext cx="4224600" cy="351324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5334120" y="281952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4726080" y="253044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6394320" y="412596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>
            <a:off x="7599240" y="473544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223120" y="5564160"/>
            <a:ext cx="203400" cy="2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4943520" y="3763800"/>
            <a:ext cx="4795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5697360" y="4503600"/>
            <a:ext cx="45108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6627960" y="3110040"/>
            <a:ext cx="45072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7628040" y="360360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5103720" y="325584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4943520" y="501156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6757920" y="2587680"/>
            <a:ext cx="44928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6757920" y="5389560"/>
            <a:ext cx="13032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5045040" y="467820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9"/>
          <p:cNvSpPr/>
          <p:nvPr/>
        </p:nvSpPr>
        <p:spPr>
          <a:xfrm>
            <a:off x="7846920" y="3008160"/>
            <a:ext cx="13176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0"/>
          <p:cNvSpPr/>
          <p:nvPr/>
        </p:nvSpPr>
        <p:spPr>
          <a:xfrm>
            <a:off x="4754520" y="3313080"/>
            <a:ext cx="1746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1"/>
          <p:cNvSpPr/>
          <p:nvPr/>
        </p:nvSpPr>
        <p:spPr>
          <a:xfrm>
            <a:off x="7367760" y="4083120"/>
            <a:ext cx="87120" cy="8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2"/>
          <p:cNvSpPr/>
          <p:nvPr/>
        </p:nvSpPr>
        <p:spPr>
          <a:xfrm>
            <a:off x="6278400" y="2689200"/>
            <a:ext cx="17496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8426520" y="4532400"/>
            <a:ext cx="11736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4"/>
          <p:cNvSpPr/>
          <p:nvPr/>
        </p:nvSpPr>
        <p:spPr>
          <a:xfrm>
            <a:off x="5742000" y="502596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4740120" y="3952800"/>
            <a:ext cx="11592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6"/>
          <p:cNvSpPr/>
          <p:nvPr/>
        </p:nvSpPr>
        <p:spPr>
          <a:xfrm>
            <a:off x="5727600" y="2587680"/>
            <a:ext cx="16056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7"/>
          <p:cNvSpPr/>
          <p:nvPr/>
        </p:nvSpPr>
        <p:spPr>
          <a:xfrm>
            <a:off x="7658280" y="2762280"/>
            <a:ext cx="101520" cy="10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6337440" y="3313080"/>
            <a:ext cx="12996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685800" y="2819520"/>
            <a:ext cx="3505320" cy="2819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1"/>
          <p:cNvSpPr/>
          <p:nvPr/>
        </p:nvSpPr>
        <p:spPr>
          <a:xfrm>
            <a:off x="305280" y="3429000"/>
            <a:ext cx="485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1676520" y="2362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3"/>
          <p:cNvSpPr/>
          <p:nvPr/>
        </p:nvSpPr>
        <p:spPr>
          <a:xfrm>
            <a:off x="1066680" y="3505320"/>
            <a:ext cx="762120" cy="685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1981080" y="3657600"/>
            <a:ext cx="2438640" cy="304920"/>
          </a:xfrm>
          <a:custGeom>
            <a:avLst/>
            <a:gdLst>
              <a:gd name="textAreaLeft" fmla="*/ 214920 w 2438640"/>
              <a:gd name="textAreaRight" fmla="*/ 2223720 w 2438640"/>
              <a:gd name="textAreaTop" fmla="*/ 92160 h 304920"/>
              <a:gd name="textAreaBottom" fmla="*/ 2127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525"/>
                </a:moveTo>
                <a:lnTo>
                  <a:pt x="16790" y="6525"/>
                </a:lnTo>
                <a:lnTo>
                  <a:pt x="16790" y="0"/>
                </a:lnTo>
                <a:lnTo>
                  <a:pt x="21600" y="10800"/>
                </a:lnTo>
                <a:lnTo>
                  <a:pt x="16790" y="21600"/>
                </a:lnTo>
                <a:lnTo>
                  <a:pt x="16790" y="15075"/>
                </a:lnTo>
                <a:lnTo>
                  <a:pt x="0" y="15075"/>
                </a:lnTo>
                <a:lnTo>
                  <a:pt x="1904" y="10800"/>
                </a:lnTo>
                <a:lnTo>
                  <a:pt x="0" y="6525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085-6FE7-4B5B-9296-4BCB7AAF1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493560" y="14526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Re-score using PAM matrix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op scoring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2235240" y="4151160"/>
            <a:ext cx="4795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2989440" y="4890960"/>
            <a:ext cx="4507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3919680" y="3497400"/>
            <a:ext cx="45072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4919760" y="399096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2235240" y="5398920"/>
            <a:ext cx="40644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4049640" y="2975040"/>
            <a:ext cx="44928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4049640" y="5776920"/>
            <a:ext cx="1303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2336760" y="506556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9"/>
          <p:cNvSpPr/>
          <p:nvPr/>
        </p:nvSpPr>
        <p:spPr>
          <a:xfrm>
            <a:off x="5138640" y="3395520"/>
            <a:ext cx="13176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0"/>
          <p:cNvSpPr/>
          <p:nvPr/>
        </p:nvSpPr>
        <p:spPr>
          <a:xfrm>
            <a:off x="2046240" y="3700440"/>
            <a:ext cx="1746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1"/>
          <p:cNvSpPr/>
          <p:nvPr/>
        </p:nvSpPr>
        <p:spPr>
          <a:xfrm>
            <a:off x="4659480" y="4470480"/>
            <a:ext cx="8712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2"/>
          <p:cNvSpPr/>
          <p:nvPr/>
        </p:nvSpPr>
        <p:spPr>
          <a:xfrm>
            <a:off x="3570120" y="3076560"/>
            <a:ext cx="1749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23"/>
          <p:cNvSpPr/>
          <p:nvPr/>
        </p:nvSpPr>
        <p:spPr>
          <a:xfrm>
            <a:off x="5718240" y="4919760"/>
            <a:ext cx="1173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24"/>
          <p:cNvSpPr/>
          <p:nvPr/>
        </p:nvSpPr>
        <p:spPr>
          <a:xfrm>
            <a:off x="3033720" y="54133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5"/>
          <p:cNvSpPr/>
          <p:nvPr/>
        </p:nvSpPr>
        <p:spPr>
          <a:xfrm>
            <a:off x="2031840" y="4340160"/>
            <a:ext cx="11592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3019320" y="2975040"/>
            <a:ext cx="1605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>
            <a:off x="4950000" y="3149640"/>
            <a:ext cx="1015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8"/>
          <p:cNvSpPr/>
          <p:nvPr/>
        </p:nvSpPr>
        <p:spPr>
          <a:xfrm>
            <a:off x="3629160" y="3700440"/>
            <a:ext cx="12996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4BF-A09D-4DE6-945E-E09564038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493560" y="145260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Eliminate segments that are unlikely to be part of the alig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AB1-77CD-4AD8-BDED-37C83E1E7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3657600" y="59364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493560" y="14526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Optimize the alignment in a 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800360" y="2684520"/>
            <a:ext cx="4224240" cy="3513240"/>
          </a:xfrm>
          <a:prstGeom prst="rect">
            <a:avLst/>
          </a:prstGeom>
          <a:noFill/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2625840" y="3206880"/>
            <a:ext cx="755640" cy="7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017800" y="2917800"/>
            <a:ext cx="26028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3686040" y="4513320"/>
            <a:ext cx="52236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890960" y="5122800"/>
            <a:ext cx="581040" cy="5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5514840" y="5951520"/>
            <a:ext cx="20340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395440" y="3643200"/>
            <a:ext cx="435240" cy="43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1800360" y="3251160"/>
            <a:ext cx="294624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641680" y="2700360"/>
            <a:ext cx="3367080" cy="33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Local Alignment Search T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y Altschul, Gish, Miller, Myers and Lipm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entral idea of the BLAST algorithm is that a statistically significant alignment is likely to contain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scoring pa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ligned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29D-C04D-4AAB-9D36-2F9C44037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aximal segment pair measur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ximal segment pair (MSP) is defined to be the highest scoring pair of identical length segments chosen from 2 sequenc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or DNA: Identities: +5; Mismatches: -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680-25EF-424F-8C71-8C8D19F5C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1828800" y="3809880"/>
            <a:ext cx="2819520" cy="1905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2666880" y="4191120"/>
            <a:ext cx="1371600" cy="609480"/>
          </a:xfrm>
          <a:prstGeom prst="wedgeRoundRectCallout">
            <a:avLst>
              <a:gd name="adj1" fmla="val -39930"/>
              <a:gd name="adj2" fmla="val 82550"/>
              <a:gd name="adj3" fmla="val 16667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286000" y="45720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743200" y="4114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st scoring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4876920" y="3733920"/>
            <a:ext cx="37335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SP score may be computed in time proportional to the product of their lengths. (How?) An exact procedure is too time consu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ST heuristically attempts to calculate the MSP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the hash table for Sequence 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n Sequence B for h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 h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438-7913-40EB-8FA7-07B683642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A4C9-66B6-4567-AE5B-29FF9A6A0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3773520" y="290520"/>
            <a:ext cx="18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Build the hash table for Sequence A. (3-tuple 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97040" y="1347840"/>
            <a:ext cx="34527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NA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q. A = AGATCG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12345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GA 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C   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GA   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T   2 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G   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T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812880" y="2889360"/>
            <a:ext cx="1253520" cy="3484440"/>
            <a:chOff x="812880" y="2889360"/>
            <a:chExt cx="1253520" cy="3484440"/>
          </a:xfrm>
        </p:grpSpPr>
        <p:sp>
          <p:nvSpPr>
            <p:cNvPr id="510" name="Rectangle 6"/>
            <p:cNvSpPr/>
            <p:nvPr/>
          </p:nvSpPr>
          <p:spPr>
            <a:xfrm>
              <a:off x="812880" y="2889360"/>
              <a:ext cx="464760" cy="3484440"/>
            </a:xfrm>
            <a:prstGeom prst="rect">
              <a:avLst/>
            </a:prstGeom>
            <a:noFill/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>
              <a:off x="1247400" y="368784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"/>
            <p:cNvSpPr/>
            <p:nvPr/>
          </p:nvSpPr>
          <p:spPr>
            <a:xfrm>
              <a:off x="1253880" y="466740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1233360" y="515304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>
              <a:off x="1704600" y="516096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1245960" y="5646960"/>
              <a:ext cx="36144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1239480" y="4187880"/>
              <a:ext cx="36180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13"/>
          <p:cNvSpPr/>
          <p:nvPr/>
        </p:nvSpPr>
        <p:spPr>
          <a:xfrm>
            <a:off x="419040" y="1379520"/>
            <a:ext cx="4195800" cy="528156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5310360" y="1319040"/>
            <a:ext cx="3482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tein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q. A = ELV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ELV) ≧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LVI) ≧ 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hash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re(xyz, VIS) ≧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5051520" y="1363680"/>
            <a:ext cx="3643200" cy="428292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rwise 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ignment of A and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C07-E506-4A62-88A6-BC0E8F2DD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727280" y="421164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043000" y="4211640"/>
            <a:ext cx="633600" cy="8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84320" y="4206960"/>
            <a:ext cx="24480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352680" y="4206960"/>
            <a:ext cx="385920" cy="85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25520" y="5303880"/>
            <a:ext cx="1971720" cy="1057320"/>
          </a:xfrm>
          <a:prstGeom prst="wedgeEllipseCallout">
            <a:avLst>
              <a:gd name="adj1" fmla="val 51449"/>
              <a:gd name="adj2" fmla="val -627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on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787400" y="4206960"/>
            <a:ext cx="244440" cy="8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263520" y="3433680"/>
            <a:ext cx="1422360" cy="527040"/>
          </a:xfrm>
          <a:prstGeom prst="wedgeEllipseCallout">
            <a:avLst>
              <a:gd name="adj1" fmla="val 62722"/>
              <a:gd name="adj2" fmla="val 85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2984400" y="3292560"/>
            <a:ext cx="2052720" cy="568080"/>
          </a:xfrm>
          <a:prstGeom prst="wedgeEllipseCallout">
            <a:avLst>
              <a:gd name="adj1" fmla="val -46287"/>
              <a:gd name="adj2" fmla="val 1044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3738600" y="5181480"/>
            <a:ext cx="1890720" cy="1138320"/>
          </a:xfrm>
          <a:prstGeom prst="wedgeEllipseCallout">
            <a:avLst>
              <a:gd name="adj1" fmla="val -60662"/>
              <a:gd name="adj2" fmla="val -5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on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194-27A2-4FF9-944D-760EA1FEC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3773520" y="290520"/>
            <a:ext cx="32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2: Scan sequence B for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1611360" y="2060640"/>
            <a:ext cx="49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5"/>
          <p:cNvGrpSpPr/>
          <p:nvPr/>
        </p:nvGrpSpPr>
        <p:grpSpPr>
          <a:xfrm>
            <a:off x="1611360" y="2111400"/>
            <a:ext cx="681120" cy="239760"/>
            <a:chOff x="1611360" y="2111400"/>
            <a:chExt cx="681120" cy="239760"/>
          </a:xfrm>
        </p:grpSpPr>
        <p:sp>
          <p:nvSpPr>
            <p:cNvPr id="525" name="Line 6"/>
            <p:cNvSpPr/>
            <p:nvPr/>
          </p:nvSpPr>
          <p:spPr>
            <a:xfrm>
              <a:off x="1611360" y="211932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7"/>
            <p:cNvSpPr/>
            <p:nvPr/>
          </p:nvSpPr>
          <p:spPr>
            <a:xfrm>
              <a:off x="1611360" y="2336760"/>
              <a:ext cx="68112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8"/>
            <p:cNvSpPr/>
            <p:nvPr/>
          </p:nvSpPr>
          <p:spPr>
            <a:xfrm>
              <a:off x="2271600" y="211140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Line 9"/>
          <p:cNvSpPr/>
          <p:nvPr/>
        </p:nvSpPr>
        <p:spPr>
          <a:xfrm>
            <a:off x="236232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A4FC-C83B-41B8-840C-F29C6707B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3773520" y="290520"/>
            <a:ext cx="32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507960" y="88596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2: Scan sequence B for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611360" y="2060640"/>
            <a:ext cx="49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5"/>
          <p:cNvGrpSpPr/>
          <p:nvPr/>
        </p:nvGrpSpPr>
        <p:grpSpPr>
          <a:xfrm>
            <a:off x="2381400" y="2111400"/>
            <a:ext cx="680760" cy="239760"/>
            <a:chOff x="2381400" y="2111400"/>
            <a:chExt cx="680760" cy="239760"/>
          </a:xfrm>
        </p:grpSpPr>
        <p:sp>
          <p:nvSpPr>
            <p:cNvPr id="534" name="Line 6"/>
            <p:cNvSpPr/>
            <p:nvPr/>
          </p:nvSpPr>
          <p:spPr>
            <a:xfrm>
              <a:off x="2381400" y="211932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7"/>
            <p:cNvSpPr/>
            <p:nvPr/>
          </p:nvSpPr>
          <p:spPr>
            <a:xfrm>
              <a:off x="2381400" y="2336760"/>
              <a:ext cx="680760" cy="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"/>
            <p:cNvSpPr/>
            <p:nvPr/>
          </p:nvSpPr>
          <p:spPr>
            <a:xfrm>
              <a:off x="3041280" y="2111400"/>
              <a:ext cx="0" cy="231840"/>
            </a:xfrm>
            <a:prstGeom prst="line">
              <a:avLst/>
            </a:prstGeom>
            <a:ln w="9360">
              <a:solidFill>
                <a:srgbClr val="1d9a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Text Box 9"/>
          <p:cNvSpPr/>
          <p:nvPr/>
        </p:nvSpPr>
        <p:spPr>
          <a:xfrm>
            <a:off x="538200" y="277164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Extend h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843120" y="3483000"/>
            <a:ext cx="5295600" cy="2874960"/>
          </a:xfrm>
          <a:prstGeom prst="rect">
            <a:avLst/>
          </a:prstGeom>
          <a:noFill/>
          <a:ln w="93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3629160" y="4238640"/>
            <a:ext cx="463320" cy="463680"/>
          </a:xfrm>
          <a:prstGeom prst="line">
            <a:avLst/>
          </a:prstGeom>
          <a:ln w="2844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122720" y="4730760"/>
            <a:ext cx="349200" cy="349200"/>
          </a:xfrm>
          <a:prstGeom prst="line">
            <a:avLst/>
          </a:prstGeom>
          <a:ln w="28440">
            <a:solidFill>
              <a:srgbClr val="1d9a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3311640" y="3917880"/>
            <a:ext cx="260280" cy="260280"/>
          </a:xfrm>
          <a:prstGeom prst="line">
            <a:avLst/>
          </a:prstGeom>
          <a:ln w="28440">
            <a:solidFill>
              <a:srgbClr val="1d9a7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3948120" y="441180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352760" y="4152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6"/>
          <p:cNvSpPr/>
          <p:nvPr/>
        </p:nvSpPr>
        <p:spPr>
          <a:xfrm>
            <a:off x="3395520" y="4165560"/>
            <a:ext cx="0" cy="798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7"/>
          <p:cNvSpPr/>
          <p:nvPr/>
        </p:nvSpPr>
        <p:spPr>
          <a:xfrm>
            <a:off x="3468600" y="50068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22860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 if the score of the sxtension fades away. (That is, when we reach a segment pair whose score falls a certain distance below the best score found for shorter extension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9"/>
          <p:cNvSpPr/>
          <p:nvPr/>
        </p:nvSpPr>
        <p:spPr>
          <a:xfrm>
            <a:off x="5486400" y="3062160"/>
            <a:ext cx="3005280" cy="2089440"/>
          </a:xfrm>
          <a:prstGeom prst="wedgeRoundRectCallout">
            <a:avLst>
              <a:gd name="adj1" fmla="val -82384"/>
              <a:gd name="adj2" fmla="val 41791"/>
              <a:gd name="adj3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2.0 saves the time spent in extension, and considers gapped al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ing is based on the observation that a good alignment usually includes short identical or very similar frag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dea of filtration was used in both FASTA and BL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78AF-A08A-4A2E-97F7-3A2296456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A217-F1FC-4124-9388-4E9B39177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1752480" y="21337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ylogenetic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oter Placeholder 5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7353000" y="1600200"/>
            <a:ext cx="1390680" cy="3766320"/>
            <a:chOff x="7353000" y="1600200"/>
            <a:chExt cx="1390680" cy="3766320"/>
          </a:xfrm>
        </p:grpSpPr>
        <p:sp>
          <p:nvSpPr>
            <p:cNvPr id="555" name="Line 6"/>
            <p:cNvSpPr/>
            <p:nvPr/>
          </p:nvSpPr>
          <p:spPr>
            <a:xfrm>
              <a:off x="8381880" y="160020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815328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815328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815328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0"/>
            <p:cNvSpPr/>
            <p:nvPr/>
          </p:nvSpPr>
          <p:spPr>
            <a:xfrm>
              <a:off x="7353000" y="225432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3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353000" y="286380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2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2"/>
            <p:cNvSpPr/>
            <p:nvPr/>
          </p:nvSpPr>
          <p:spPr>
            <a:xfrm>
              <a:off x="7353000" y="3701880"/>
              <a:ext cx="1046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-1 mil y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8025120" y="5029200"/>
              <a:ext cx="71856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bc145"/>
                  </a:solidFill>
                  <a:latin typeface="Verdana"/>
                </a:rPr>
                <a:t>to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653040" y="2057400"/>
            <a:ext cx="6498720" cy="3359880"/>
            <a:chOff x="653040" y="2057400"/>
            <a:chExt cx="6498720" cy="3359880"/>
          </a:xfrm>
        </p:grpSpPr>
        <p:grpSp>
          <p:nvGrpSpPr>
            <p:cNvPr id="564" name="Group 15"/>
            <p:cNvGrpSpPr/>
            <p:nvPr/>
          </p:nvGrpSpPr>
          <p:grpSpPr>
            <a:xfrm>
              <a:off x="3640320" y="2057400"/>
              <a:ext cx="1420200" cy="641880"/>
              <a:chOff x="3640320" y="2057400"/>
              <a:chExt cx="1420200" cy="641880"/>
            </a:xfrm>
          </p:grpSpPr>
          <p:sp>
            <p:nvSpPr>
              <p:cNvPr id="565" name="Text Box 16"/>
              <p:cNvSpPr/>
              <p:nvPr/>
            </p:nvSpPr>
            <p:spPr>
              <a:xfrm>
                <a:off x="3989880" y="2361960"/>
                <a:ext cx="10706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17"/>
              <p:cNvSpPr/>
              <p:nvPr/>
            </p:nvSpPr>
            <p:spPr>
              <a:xfrm>
                <a:off x="3716640" y="205740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18"/>
              <p:cNvSpPr/>
              <p:nvPr/>
            </p:nvSpPr>
            <p:spPr>
              <a:xfrm>
                <a:off x="3640320" y="2514240"/>
                <a:ext cx="152280" cy="15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9"/>
            <p:cNvGrpSpPr/>
            <p:nvPr/>
          </p:nvGrpSpPr>
          <p:grpSpPr>
            <a:xfrm>
              <a:off x="1247040" y="2590560"/>
              <a:ext cx="4654800" cy="794520"/>
              <a:chOff x="1247040" y="2590560"/>
              <a:chExt cx="4654800" cy="794520"/>
            </a:xfrm>
          </p:grpSpPr>
          <p:sp>
            <p:nvSpPr>
              <p:cNvPr id="569" name="Line 20"/>
              <p:cNvSpPr/>
              <p:nvPr/>
            </p:nvSpPr>
            <p:spPr>
              <a:xfrm>
                <a:off x="3716280" y="2590560"/>
                <a:ext cx="8380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21"/>
              <p:cNvSpPr/>
              <p:nvPr/>
            </p:nvSpPr>
            <p:spPr>
              <a:xfrm>
                <a:off x="4829400" y="3047760"/>
                <a:ext cx="10724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G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22"/>
              <p:cNvSpPr/>
              <p:nvPr/>
            </p:nvSpPr>
            <p:spPr>
              <a:xfrm>
                <a:off x="4478040" y="3123720"/>
                <a:ext cx="15264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23"/>
              <p:cNvSpPr/>
              <p:nvPr/>
            </p:nvSpPr>
            <p:spPr>
              <a:xfrm flipH="1">
                <a:off x="2649240" y="2590560"/>
                <a:ext cx="106704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24"/>
              <p:cNvSpPr/>
              <p:nvPr/>
            </p:nvSpPr>
            <p:spPr>
              <a:xfrm>
                <a:off x="1247040" y="3047760"/>
                <a:ext cx="11041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G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25"/>
              <p:cNvSpPr/>
              <p:nvPr/>
            </p:nvSpPr>
            <p:spPr>
              <a:xfrm>
                <a:off x="2573280" y="3123720"/>
                <a:ext cx="15228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26"/>
            <p:cNvGrpSpPr/>
            <p:nvPr/>
          </p:nvGrpSpPr>
          <p:grpSpPr>
            <a:xfrm>
              <a:off x="653040" y="3047760"/>
              <a:ext cx="6160680" cy="1143720"/>
              <a:chOff x="653040" y="3047760"/>
              <a:chExt cx="6160680" cy="1143720"/>
            </a:xfrm>
          </p:grpSpPr>
          <p:sp>
            <p:nvSpPr>
              <p:cNvPr id="576" name="Oval 27"/>
              <p:cNvSpPr/>
              <p:nvPr/>
            </p:nvSpPr>
            <p:spPr>
              <a:xfrm>
                <a:off x="3259080" y="397800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28"/>
              <p:cNvSpPr/>
              <p:nvPr/>
            </p:nvSpPr>
            <p:spPr>
              <a:xfrm flipH="1">
                <a:off x="2039400" y="320004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29"/>
              <p:cNvSpPr/>
              <p:nvPr/>
            </p:nvSpPr>
            <p:spPr>
              <a:xfrm>
                <a:off x="2649240" y="3200040"/>
                <a:ext cx="6858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Text Box 30"/>
              <p:cNvSpPr/>
              <p:nvPr/>
            </p:nvSpPr>
            <p:spPr>
              <a:xfrm>
                <a:off x="653040" y="3854160"/>
                <a:ext cx="11239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GGGCA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31"/>
              <p:cNvSpPr/>
              <p:nvPr/>
            </p:nvSpPr>
            <p:spPr>
              <a:xfrm>
                <a:off x="3612960" y="3854160"/>
                <a:ext cx="106776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AGC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32"/>
              <p:cNvSpPr/>
              <p:nvPr/>
            </p:nvSpPr>
            <p:spPr>
              <a:xfrm>
                <a:off x="4554360" y="3200040"/>
                <a:ext cx="9144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Text Box 33"/>
              <p:cNvSpPr/>
              <p:nvPr/>
            </p:nvSpPr>
            <p:spPr>
              <a:xfrm>
                <a:off x="5744520" y="3854160"/>
                <a:ext cx="106920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GC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34"/>
              <p:cNvSpPr/>
              <p:nvPr/>
            </p:nvSpPr>
            <p:spPr>
              <a:xfrm>
                <a:off x="5392440" y="3978000"/>
                <a:ext cx="15264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35"/>
              <p:cNvSpPr/>
              <p:nvPr/>
            </p:nvSpPr>
            <p:spPr>
              <a:xfrm>
                <a:off x="1887480" y="397800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36"/>
              <p:cNvSpPr/>
              <p:nvPr/>
            </p:nvSpPr>
            <p:spPr>
              <a:xfrm>
                <a:off x="1247040" y="3047760"/>
                <a:ext cx="110412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AAGGC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37"/>
              <p:cNvSpPr/>
              <p:nvPr/>
            </p:nvSpPr>
            <p:spPr>
              <a:xfrm>
                <a:off x="4829400" y="3047760"/>
                <a:ext cx="1072440" cy="337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Verdana"/>
                  </a:rPr>
                  <a:t>TGGAC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Line 38"/>
            <p:cNvSpPr/>
            <p:nvPr/>
          </p:nvSpPr>
          <p:spPr>
            <a:xfrm>
              <a:off x="3335400" y="4038480"/>
              <a:ext cx="6094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 flipV="1">
              <a:off x="2649600" y="4038480"/>
              <a:ext cx="6858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 flipV="1">
              <a:off x="5240520" y="403848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41"/>
            <p:cNvSpPr/>
            <p:nvPr/>
          </p:nvSpPr>
          <p:spPr>
            <a:xfrm>
              <a:off x="2087640" y="5079960"/>
              <a:ext cx="10843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AGCC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42"/>
            <p:cNvSpPr/>
            <p:nvPr/>
          </p:nvSpPr>
          <p:spPr>
            <a:xfrm>
              <a:off x="3457440" y="5079960"/>
              <a:ext cx="105408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AGA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43"/>
            <p:cNvSpPr/>
            <p:nvPr/>
          </p:nvSpPr>
          <p:spPr>
            <a:xfrm>
              <a:off x="6064200" y="5079960"/>
              <a:ext cx="1087560" cy="33732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CG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44"/>
            <p:cNvSpPr/>
            <p:nvPr/>
          </p:nvSpPr>
          <p:spPr>
            <a:xfrm>
              <a:off x="4750920" y="5079960"/>
              <a:ext cx="110268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CAC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 flipH="1" flipV="1">
              <a:off x="5468760" y="4038480"/>
              <a:ext cx="11430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 flipV="1">
              <a:off x="1278000" y="3962160"/>
              <a:ext cx="7621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Oval 47"/>
            <p:cNvSpPr/>
            <p:nvPr/>
          </p:nvSpPr>
          <p:spPr>
            <a:xfrm>
              <a:off x="1201680" y="4800600"/>
              <a:ext cx="15264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Oval 48"/>
            <p:cNvSpPr/>
            <p:nvPr/>
          </p:nvSpPr>
          <p:spPr>
            <a:xfrm>
              <a:off x="2535120" y="4800600"/>
              <a:ext cx="15264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49"/>
            <p:cNvSpPr/>
            <p:nvPr/>
          </p:nvSpPr>
          <p:spPr>
            <a:xfrm>
              <a:off x="386892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Oval 50"/>
            <p:cNvSpPr/>
            <p:nvPr/>
          </p:nvSpPr>
          <p:spPr>
            <a:xfrm>
              <a:off x="516420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Oval 51"/>
            <p:cNvSpPr/>
            <p:nvPr/>
          </p:nvSpPr>
          <p:spPr>
            <a:xfrm>
              <a:off x="6535800" y="48006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52"/>
            <p:cNvSpPr/>
            <p:nvPr/>
          </p:nvSpPr>
          <p:spPr>
            <a:xfrm>
              <a:off x="729360" y="5079960"/>
              <a:ext cx="11239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GGGC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3"/>
            <p:cNvSpPr/>
            <p:nvPr/>
          </p:nvSpPr>
          <p:spPr>
            <a:xfrm>
              <a:off x="653040" y="3854160"/>
              <a:ext cx="112392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AGGGC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4"/>
            <p:cNvSpPr/>
            <p:nvPr/>
          </p:nvSpPr>
          <p:spPr>
            <a:xfrm>
              <a:off x="3613320" y="3854160"/>
              <a:ext cx="106776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TAGCC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744880" y="3854160"/>
              <a:ext cx="1069200" cy="3373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AGCAC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Rectangle 59"/>
          <p:cNvSpPr/>
          <p:nvPr/>
        </p:nvSpPr>
        <p:spPr>
          <a:xfrm>
            <a:off x="754200" y="266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NA Sequence Ev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roblem Definition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ree of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ng all liv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encompa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evolution from simple begin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smaller relations are t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ssible ancestral hist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o what…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ome sequencing provides entire map of a species, why link th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understand 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able drug testing and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 the function of ge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uenza 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y is that a problem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8 million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solutions are NP-h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 few hundred species takes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is a very large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do we wan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llection of nodes such as taxa or protein strings to compare in a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opological link to compare those nodes to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o we want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reparing the inpu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 distanc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up all of the known distances into a matrix sized n x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is the number of nodes or t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with sequence compari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gnment Grap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A: CTTA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B: CGGAT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0F2-0063-44FA-92C2-0A57F9897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0200" y="2362320"/>
          <a:ext cx="4724280" cy="411480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760"/>
                <a:gridCol w="590400"/>
                <a:gridCol w="590760"/>
                <a:gridCol w="590400"/>
                <a:gridCol w="5904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80"/>
          <p:cNvSpPr/>
          <p:nvPr/>
        </p:nvSpPr>
        <p:spPr>
          <a:xfrm>
            <a:off x="1981080" y="190512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G     G     A     T     C     A   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1219320" y="2590920"/>
            <a:ext cx="50796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2"/>
          <p:cNvSpPr/>
          <p:nvPr/>
        </p:nvSpPr>
        <p:spPr>
          <a:xfrm>
            <a:off x="1604880" y="23572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3"/>
          <p:cNvSpPr/>
          <p:nvPr/>
        </p:nvSpPr>
        <p:spPr>
          <a:xfrm>
            <a:off x="3971880" y="295596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4"/>
          <p:cNvSpPr/>
          <p:nvPr/>
        </p:nvSpPr>
        <p:spPr>
          <a:xfrm>
            <a:off x="4529160" y="351468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5170320" y="411624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6"/>
          <p:cNvSpPr/>
          <p:nvPr/>
        </p:nvSpPr>
        <p:spPr>
          <a:xfrm>
            <a:off x="5749920" y="589284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7"/>
          <p:cNvSpPr/>
          <p:nvPr/>
        </p:nvSpPr>
        <p:spPr>
          <a:xfrm>
            <a:off x="2193840" y="29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8"/>
          <p:cNvSpPr/>
          <p:nvPr/>
        </p:nvSpPr>
        <p:spPr>
          <a:xfrm>
            <a:off x="2805120" y="2971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89"/>
          <p:cNvSpPr/>
          <p:nvPr/>
        </p:nvSpPr>
        <p:spPr>
          <a:xfrm>
            <a:off x="3352680" y="29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0"/>
          <p:cNvSpPr/>
          <p:nvPr/>
        </p:nvSpPr>
        <p:spPr>
          <a:xfrm>
            <a:off x="57150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1"/>
          <p:cNvSpPr/>
          <p:nvPr/>
        </p:nvSpPr>
        <p:spPr>
          <a:xfrm>
            <a:off x="5715000" y="5257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6473880" y="27432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---TTAA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GGATCA-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3"/>
          <p:cNvSpPr/>
          <p:nvPr/>
        </p:nvSpPr>
        <p:spPr>
          <a:xfrm>
            <a:off x="5791320" y="47242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4"/>
          <p:cNvSpPr/>
          <p:nvPr/>
        </p:nvSpPr>
        <p:spPr>
          <a:xfrm>
            <a:off x="8077320" y="2819520"/>
            <a:ext cx="380880" cy="761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5"/>
          <p:cNvSpPr/>
          <p:nvPr/>
        </p:nvSpPr>
        <p:spPr>
          <a:xfrm>
            <a:off x="8305920" y="35812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6"/>
          <p:cNvSpPr/>
          <p:nvPr/>
        </p:nvSpPr>
        <p:spPr>
          <a:xfrm flipH="1">
            <a:off x="6095520" y="53341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7"/>
          <p:cNvSpPr/>
          <p:nvPr/>
        </p:nvSpPr>
        <p:spPr>
          <a:xfrm>
            <a:off x="6781680" y="2819520"/>
            <a:ext cx="609840" cy="761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8"/>
          <p:cNvSpPr/>
          <p:nvPr/>
        </p:nvSpPr>
        <p:spPr>
          <a:xfrm rot="5400000">
            <a:off x="2971440" y="190476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9"/>
          <p:cNvSpPr/>
          <p:nvPr/>
        </p:nvSpPr>
        <p:spPr>
          <a:xfrm flipV="1">
            <a:off x="7086600" y="2437920"/>
            <a:ext cx="0" cy="3812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0"/>
          <p:cNvSpPr/>
          <p:nvPr/>
        </p:nvSpPr>
        <p:spPr>
          <a:xfrm flipH="1">
            <a:off x="3048120" y="2438280"/>
            <a:ext cx="40384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1"/>
          <p:cNvSpPr/>
          <p:nvPr/>
        </p:nvSpPr>
        <p:spPr>
          <a:xfrm>
            <a:off x="3048120" y="2438280"/>
            <a:ext cx="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Text Box 135"/>
          <p:cNvSpPr/>
          <p:nvPr/>
        </p:nvSpPr>
        <p:spPr>
          <a:xfrm>
            <a:off x="685800" y="1828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37"/>
          <p:cNvSpPr/>
          <p:nvPr/>
        </p:nvSpPr>
        <p:spPr>
          <a:xfrm>
            <a:off x="762120" y="1905120"/>
            <a:ext cx="78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5 separate DNA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: GATCCAT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: GATCTAT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: GTCCCAT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: AATCCGA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: TCTCGA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tance between A and B is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tance between A and C i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subjective based on what your criteria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start with an exampl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7400" y="3048120"/>
          <a:ext cx="5257800" cy="320040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640"/>
                <a:gridCol w="105084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44"/>
          <p:cNvSpPr/>
          <p:nvPr/>
        </p:nvSpPr>
        <p:spPr>
          <a:xfrm>
            <a:off x="14590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5"/>
          <p:cNvSpPr/>
          <p:nvPr/>
        </p:nvSpPr>
        <p:spPr>
          <a:xfrm>
            <a:off x="1466640" y="380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6"/>
          <p:cNvSpPr/>
          <p:nvPr/>
        </p:nvSpPr>
        <p:spPr>
          <a:xfrm>
            <a:off x="1475280" y="4419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47"/>
          <p:cNvSpPr/>
          <p:nvPr/>
        </p:nvSpPr>
        <p:spPr>
          <a:xfrm>
            <a:off x="146772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48"/>
          <p:cNvSpPr/>
          <p:nvPr/>
        </p:nvSpPr>
        <p:spPr>
          <a:xfrm>
            <a:off x="14734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9"/>
          <p:cNvSpPr/>
          <p:nvPr/>
        </p:nvSpPr>
        <p:spPr>
          <a:xfrm>
            <a:off x="229716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0"/>
          <p:cNvSpPr/>
          <p:nvPr/>
        </p:nvSpPr>
        <p:spPr>
          <a:xfrm>
            <a:off x="337140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1"/>
          <p:cNvSpPr/>
          <p:nvPr/>
        </p:nvSpPr>
        <p:spPr>
          <a:xfrm>
            <a:off x="437076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52"/>
          <p:cNvSpPr/>
          <p:nvPr/>
        </p:nvSpPr>
        <p:spPr>
          <a:xfrm>
            <a:off x="542988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3"/>
          <p:cNvSpPr/>
          <p:nvPr/>
        </p:nvSpPr>
        <p:spPr>
          <a:xfrm>
            <a:off x="650268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ets make it si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constrain the input)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keep the distance between nodes within a certain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F -&gt;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 and G have the largest distance; they are the most dissimilar of any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the diameter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keep the length of the input (length of the strings) polynom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RROR?!?!!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rees are inferred, how do you ever know if you’re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ccurate do we have to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create data sets to test trees that we create and assume that it will then work in the re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ata Se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C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s evolve 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s change with the same prob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are single character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. A -&gt; G or T -&gt;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pectation of change is a Poisson var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ore Data Se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2P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JC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for probability of transitions to tranver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more likely for A and T to switch and G and C to swi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ly set to twice as lik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ata U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se data sets we can create our own evolution of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one “ancestor” and create evolu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g the evolutions back and see if you get what you started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spects of Tree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in which nodes are connected to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we really connected to apes directly, or just linked long before we could be considered mammals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m of the weighted edges to reach one node from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can distance tell us?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ance between nod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evolutionary distance between the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ance between an ancestor and a leaf(present day object) can be interpreted as an estimate of the number of evolutionary ‘steps’ that occur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urrent Techn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Pars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the total number of evolutionary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tree that has a minimum amount of changes from ances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Likelih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ability b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tree is most probable to occur based on curr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imple scoring schem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: +8 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8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=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match: -5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-5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≠ 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gap symbol: -3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-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-)=-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3828-CC60-4834-94FC-BFE8F1F89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23880" y="412416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- - - T T A A C 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 G G A T C A - -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20840" y="524196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8    -3    -3    -3   +8    -5   +8   -3    -3    +8  =  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283520" y="5097600"/>
            <a:ext cx="625320" cy="63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497400" y="5975280"/>
            <a:ext cx="3351240" cy="590760"/>
          </a:xfrm>
          <a:prstGeom prst="wedgeEllipseCallout">
            <a:avLst>
              <a:gd name="adj1" fmla="val 60990"/>
              <a:gd name="adj2" fmla="val -85486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ore Techn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 Jo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edly joins pairs of leaves (or subtrees) by rules of numerical opt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hrinks the distance matrix by considering two ‘neighbors’ as one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earning Neighbor Join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ill become apparent later on, but lets learn how to do Neighbor Joining (N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200400" y="3581280"/>
          <a:ext cx="3048120" cy="25909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Text Box 45"/>
          <p:cNvSpPr/>
          <p:nvPr/>
        </p:nvSpPr>
        <p:spPr>
          <a:xfrm>
            <a:off x="283068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38240" y="411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2846880" y="4648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283932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9"/>
          <p:cNvSpPr/>
          <p:nvPr/>
        </p:nvSpPr>
        <p:spPr>
          <a:xfrm>
            <a:off x="28450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0"/>
          <p:cNvSpPr/>
          <p:nvPr/>
        </p:nvSpPr>
        <p:spPr>
          <a:xfrm>
            <a:off x="32878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904920" y="312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4523040" y="312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3"/>
          <p:cNvSpPr/>
          <p:nvPr/>
        </p:nvSpPr>
        <p:spPr>
          <a:xfrm>
            <a:off x="512532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4"/>
          <p:cNvSpPr/>
          <p:nvPr/>
        </p:nvSpPr>
        <p:spPr>
          <a:xfrm>
            <a:off x="5740560" y="3124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1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start with a “star tre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519200" y="3254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92384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398988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459180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299736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9"/>
          <p:cNvSpPr/>
          <p:nvPr/>
        </p:nvSpPr>
        <p:spPr>
          <a:xfrm>
            <a:off x="3048120" y="37339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0"/>
          <p:cNvSpPr/>
          <p:nvPr/>
        </p:nvSpPr>
        <p:spPr>
          <a:xfrm>
            <a:off x="1905120" y="35812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1"/>
          <p:cNvSpPr/>
          <p:nvPr/>
        </p:nvSpPr>
        <p:spPr>
          <a:xfrm flipV="1">
            <a:off x="2286000" y="39621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2"/>
          <p:cNvSpPr/>
          <p:nvPr/>
        </p:nvSpPr>
        <p:spPr>
          <a:xfrm>
            <a:off x="32004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3"/>
          <p:cNvSpPr/>
          <p:nvPr/>
        </p:nvSpPr>
        <p:spPr>
          <a:xfrm flipV="1">
            <a:off x="3276720" y="3580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"/>
          <p:cNvSpPr/>
          <p:nvPr/>
        </p:nvSpPr>
        <p:spPr>
          <a:xfrm>
            <a:off x="3276720" y="396252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1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e the closest two nodes (from distance matri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ur case it is node A and B at distance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833400" y="4168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2380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42944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7"/>
          <p:cNvSpPr/>
          <p:nvPr/>
        </p:nvSpPr>
        <p:spPr>
          <a:xfrm>
            <a:off x="4896720" y="4267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337824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9"/>
          <p:cNvSpPr/>
          <p:nvPr/>
        </p:nvSpPr>
        <p:spPr>
          <a:xfrm>
            <a:off x="3352680" y="4648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0"/>
          <p:cNvSpPr/>
          <p:nvPr/>
        </p:nvSpPr>
        <p:spPr>
          <a:xfrm>
            <a:off x="1219320" y="44956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1"/>
          <p:cNvSpPr/>
          <p:nvPr/>
        </p:nvSpPr>
        <p:spPr>
          <a:xfrm flipV="1">
            <a:off x="1600200" y="487656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2"/>
          <p:cNvSpPr/>
          <p:nvPr/>
        </p:nvSpPr>
        <p:spPr>
          <a:xfrm>
            <a:off x="350532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3"/>
          <p:cNvSpPr/>
          <p:nvPr/>
        </p:nvSpPr>
        <p:spPr>
          <a:xfrm flipV="1">
            <a:off x="3581280" y="44953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4"/>
          <p:cNvSpPr/>
          <p:nvPr/>
        </p:nvSpPr>
        <p:spPr>
          <a:xfrm>
            <a:off x="3581280" y="4876920"/>
            <a:ext cx="762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15"/>
          <p:cNvSpPr/>
          <p:nvPr/>
        </p:nvSpPr>
        <p:spPr>
          <a:xfrm>
            <a:off x="2362320" y="464832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"/>
          <p:cNvSpPr/>
          <p:nvPr/>
        </p:nvSpPr>
        <p:spPr>
          <a:xfrm>
            <a:off x="259092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19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J Part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this until you have added n-2 nodes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-2 will make it a binary tree, so we only have to include one more n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1671840" y="432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2076120" y="5943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047280" y="5943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6649200" y="4419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4064040" y="3657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510552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2057400" y="4648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V="1">
            <a:off x="2438280" y="5029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2"/>
          <p:cNvSpPr/>
          <p:nvPr/>
        </p:nvSpPr>
        <p:spPr>
          <a:xfrm>
            <a:off x="41911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3"/>
          <p:cNvSpPr/>
          <p:nvPr/>
        </p:nvSpPr>
        <p:spPr>
          <a:xfrm flipV="1">
            <a:off x="5334120" y="46479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4"/>
          <p:cNvSpPr/>
          <p:nvPr/>
        </p:nvSpPr>
        <p:spPr>
          <a:xfrm>
            <a:off x="5334120" y="5029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15"/>
          <p:cNvSpPr/>
          <p:nvPr/>
        </p:nvSpPr>
        <p:spPr>
          <a:xfrm>
            <a:off x="320040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342900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7"/>
          <p:cNvSpPr/>
          <p:nvPr/>
        </p:nvSpPr>
        <p:spPr>
          <a:xfrm>
            <a:off x="4114800" y="4800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8"/>
          <p:cNvSpPr/>
          <p:nvPr/>
        </p:nvSpPr>
        <p:spPr>
          <a:xfrm>
            <a:off x="44197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re we done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L and MP, even in heuristic form take too long for large data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J has poor topological accuracy, especially for large diameter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eed something that works for large diameter trees and can be run f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Here’s what we wa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G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“Absolute Fast Converging”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afc if, for all positive f,g, €, on the Model M, there is a polynomial p such that, for all (T,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)}) is in the se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a set S of n sequences of length at least p(n) generated on T, we have Pr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) = T] &gt; 1- €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y: Lets make it in polynomial time within a degree of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DCM* - NJ Solu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hase construction of a final phylogenetic tree given a distance matrix 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1 : Create a set of plausible trees for the distanc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 2 : Find the best fitting tre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has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q in {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compute a tre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T = {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q in {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inding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1: Compute Thresh(d,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2: Triangulate Thresh(d,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3: Compute a NJ Tree for all maximal cl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 4: Merge the subtrees into a super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optimal alignmen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- the alignment of maximum score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452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score of an optimal alignment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per initialization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,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mpu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foll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69D-0082-4EF6-84BF-AE6D50C7A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15920" y="3832200"/>
            <a:ext cx="61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576520" y="4083120"/>
                <a:ext cx="432576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w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at does that me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ing the problem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threshold of diameters to break the problem i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bunch of smaller diameter trees (cliq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NJ to those cl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ge them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inding t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(term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shold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sh(d,q) is the threshold graph where (i,j) is an edge if and only if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= q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hreshol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 bring back our distance matrix and create a threshold with q equal to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he distance between A and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q = 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ooter Placeholder 5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tance Matrix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old  exampl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057400" y="3048120"/>
          <a:ext cx="5257800" cy="320040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640"/>
                <a:gridCol w="105084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7" name="Rectangle 42"/>
          <p:cNvSpPr/>
          <p:nvPr/>
        </p:nvSpPr>
        <p:spPr>
          <a:xfrm>
            <a:off x="1459080" y="3124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3"/>
          <p:cNvSpPr/>
          <p:nvPr/>
        </p:nvSpPr>
        <p:spPr>
          <a:xfrm>
            <a:off x="1466640" y="3809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4"/>
          <p:cNvSpPr/>
          <p:nvPr/>
        </p:nvSpPr>
        <p:spPr>
          <a:xfrm>
            <a:off x="1475280" y="4419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45"/>
          <p:cNvSpPr/>
          <p:nvPr/>
        </p:nvSpPr>
        <p:spPr>
          <a:xfrm>
            <a:off x="146772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6"/>
          <p:cNvSpPr/>
          <p:nvPr/>
        </p:nvSpPr>
        <p:spPr>
          <a:xfrm>
            <a:off x="14734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7"/>
          <p:cNvSpPr/>
          <p:nvPr/>
        </p:nvSpPr>
        <p:spPr>
          <a:xfrm>
            <a:off x="229716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48"/>
          <p:cNvSpPr/>
          <p:nvPr/>
        </p:nvSpPr>
        <p:spPr>
          <a:xfrm>
            <a:off x="337140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49"/>
          <p:cNvSpPr/>
          <p:nvPr/>
        </p:nvSpPr>
        <p:spPr>
          <a:xfrm>
            <a:off x="437076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50"/>
          <p:cNvSpPr/>
          <p:nvPr/>
        </p:nvSpPr>
        <p:spPr>
          <a:xfrm>
            <a:off x="542988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1"/>
          <p:cNvSpPr/>
          <p:nvPr/>
        </p:nvSpPr>
        <p:spPr>
          <a:xfrm>
            <a:off x="6502680" y="2514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oter Placeholder 1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ith q = D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 Light"/>
              </a:rPr>
              <a:t>15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= 6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992240" y="2590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2152440" y="4876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520884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10640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5359680" y="5334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9"/>
          <p:cNvSpPr/>
          <p:nvPr/>
        </p:nvSpPr>
        <p:spPr>
          <a:xfrm>
            <a:off x="2209680" y="2895480"/>
            <a:ext cx="7632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0"/>
          <p:cNvSpPr/>
          <p:nvPr/>
        </p:nvSpPr>
        <p:spPr>
          <a:xfrm>
            <a:off x="2133720" y="312408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1"/>
          <p:cNvSpPr/>
          <p:nvPr/>
        </p:nvSpPr>
        <p:spPr>
          <a:xfrm>
            <a:off x="5562720" y="251460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2"/>
          <p:cNvSpPr/>
          <p:nvPr/>
        </p:nvSpPr>
        <p:spPr>
          <a:xfrm>
            <a:off x="2438280" y="2895480"/>
            <a:ext cx="29718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3"/>
          <p:cNvSpPr/>
          <p:nvPr/>
        </p:nvSpPr>
        <p:spPr>
          <a:xfrm>
            <a:off x="2514600" y="518148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6139440" y="243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377748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1567440" y="3886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3320280" y="5410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aph is triangulated  if any cycle with four or more vertices has a 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s, an edge joining two nonconsecutive vertices of the cy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example is already triangulated, but lets look at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ooter Placeholder 2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8" name="Group 17"/>
          <p:cNvGrpSpPr/>
          <p:nvPr/>
        </p:nvGrpSpPr>
        <p:grpSpPr>
          <a:xfrm>
            <a:off x="3222720" y="2819520"/>
            <a:ext cx="4622040" cy="3105720"/>
            <a:chOff x="3222720" y="2819520"/>
            <a:chExt cx="4622040" cy="3105720"/>
          </a:xfrm>
        </p:grpSpPr>
        <p:sp>
          <p:nvSpPr>
            <p:cNvPr id="789" name="Text Box 4"/>
            <p:cNvSpPr/>
            <p:nvPr/>
          </p:nvSpPr>
          <p:spPr>
            <a:xfrm>
              <a:off x="3424320" y="309672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5"/>
            <p:cNvSpPr/>
            <p:nvPr/>
          </p:nvSpPr>
          <p:spPr>
            <a:xfrm>
              <a:off x="7192800" y="3096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3476520" y="524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7265520" y="52484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9"/>
            <p:cNvSpPr/>
            <p:nvPr/>
          </p:nvSpPr>
          <p:spPr>
            <a:xfrm>
              <a:off x="3598560" y="3513240"/>
              <a:ext cx="0" cy="16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10"/>
            <p:cNvSpPr/>
            <p:nvPr/>
          </p:nvSpPr>
          <p:spPr>
            <a:xfrm>
              <a:off x="3863880" y="3305160"/>
              <a:ext cx="325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1"/>
            <p:cNvSpPr/>
            <p:nvPr/>
          </p:nvSpPr>
          <p:spPr>
            <a:xfrm>
              <a:off x="7381080" y="3513240"/>
              <a:ext cx="0" cy="17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2"/>
            <p:cNvSpPr/>
            <p:nvPr/>
          </p:nvSpPr>
          <p:spPr>
            <a:xfrm>
              <a:off x="3797640" y="5456880"/>
              <a:ext cx="34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13"/>
            <p:cNvSpPr/>
            <p:nvPr/>
          </p:nvSpPr>
          <p:spPr>
            <a:xfrm>
              <a:off x="5080680" y="2819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4"/>
            <p:cNvSpPr/>
            <p:nvPr/>
          </p:nvSpPr>
          <p:spPr>
            <a:xfrm>
              <a:off x="7535880" y="4206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15"/>
            <p:cNvSpPr/>
            <p:nvPr/>
          </p:nvSpPr>
          <p:spPr>
            <a:xfrm>
              <a:off x="5279760" y="552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6"/>
            <p:cNvSpPr/>
            <p:nvPr/>
          </p:nvSpPr>
          <p:spPr>
            <a:xfrm>
              <a:off x="3222720" y="4276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Text Box 19"/>
          <p:cNvSpPr/>
          <p:nvPr/>
        </p:nvSpPr>
        <p:spPr>
          <a:xfrm>
            <a:off x="838080" y="19810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s say this is for q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20"/>
          <p:cNvSpPr/>
          <p:nvPr/>
        </p:nvSpPr>
        <p:spPr>
          <a:xfrm flipV="1">
            <a:off x="3886200" y="3580920"/>
            <a:ext cx="320040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1"/>
          <p:cNvSpPr/>
          <p:nvPr/>
        </p:nvSpPr>
        <p:spPr>
          <a:xfrm>
            <a:off x="3809880" y="3505320"/>
            <a:ext cx="3353040" cy="18288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2"/>
          <p:cNvSpPr/>
          <p:nvPr/>
        </p:nvSpPr>
        <p:spPr>
          <a:xfrm>
            <a:off x="4615560" y="3657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3"/>
          <p:cNvSpPr/>
          <p:nvPr/>
        </p:nvSpPr>
        <p:spPr>
          <a:xfrm>
            <a:off x="4539240" y="4800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4"/>
          <p:cNvSpPr/>
          <p:nvPr/>
        </p:nvSpPr>
        <p:spPr>
          <a:xfrm>
            <a:off x="609480" y="2743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and 15 w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be in th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746640" y="41148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riangulate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you add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length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ximal Cl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ique that cannot be enlarged by the addition of another vert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our original threshold graph which is triangul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18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angulated Threshold Graph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old 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2"/>
          <p:cNvSpPr/>
          <p:nvPr/>
        </p:nvSpPr>
        <p:spPr>
          <a:xfrm>
            <a:off x="206856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3"/>
          <p:cNvSpPr/>
          <p:nvPr/>
        </p:nvSpPr>
        <p:spPr>
          <a:xfrm>
            <a:off x="2228400" y="5181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54"/>
          <p:cNvSpPr/>
          <p:nvPr/>
        </p:nvSpPr>
        <p:spPr>
          <a:xfrm>
            <a:off x="528516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5"/>
          <p:cNvSpPr/>
          <p:nvPr/>
        </p:nvSpPr>
        <p:spPr>
          <a:xfrm>
            <a:off x="718272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6"/>
          <p:cNvSpPr/>
          <p:nvPr/>
        </p:nvSpPr>
        <p:spPr>
          <a:xfrm>
            <a:off x="5435640" y="5638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7"/>
          <p:cNvSpPr/>
          <p:nvPr/>
        </p:nvSpPr>
        <p:spPr>
          <a:xfrm>
            <a:off x="2286000" y="3200400"/>
            <a:ext cx="7632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8"/>
          <p:cNvSpPr/>
          <p:nvPr/>
        </p:nvSpPr>
        <p:spPr>
          <a:xfrm>
            <a:off x="2209680" y="342900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9"/>
          <p:cNvSpPr/>
          <p:nvPr/>
        </p:nvSpPr>
        <p:spPr>
          <a:xfrm>
            <a:off x="5638680" y="281952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60"/>
          <p:cNvSpPr/>
          <p:nvPr/>
        </p:nvSpPr>
        <p:spPr>
          <a:xfrm>
            <a:off x="2514600" y="3200400"/>
            <a:ext cx="2971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1"/>
          <p:cNvSpPr/>
          <p:nvPr/>
        </p:nvSpPr>
        <p:spPr>
          <a:xfrm>
            <a:off x="2590920" y="5486400"/>
            <a:ext cx="2743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62"/>
          <p:cNvSpPr/>
          <p:nvPr/>
        </p:nvSpPr>
        <p:spPr>
          <a:xfrm>
            <a:off x="6215760" y="274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63"/>
          <p:cNvSpPr/>
          <p:nvPr/>
        </p:nvSpPr>
        <p:spPr>
          <a:xfrm>
            <a:off x="3853440" y="3886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4"/>
          <p:cNvSpPr/>
          <p:nvPr/>
        </p:nvSpPr>
        <p:spPr>
          <a:xfrm>
            <a:off x="164376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65"/>
          <p:cNvSpPr/>
          <p:nvPr/>
        </p:nvSpPr>
        <p:spPr>
          <a:xfrm>
            <a:off x="339624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q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ximal cliques would b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A, B, E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C, D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S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 Light"/>
              </a:rPr>
              <a:t>i,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8880" y="1531800"/>
            <a:ext cx="77724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746-E0F7-477C-877D-35DE5FF57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841400" y="2525760"/>
            <a:ext cx="5139000" cy="323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57240" y="4586400"/>
            <a:ext cx="3162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021280" y="2509920"/>
            <a:ext cx="0" cy="203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22440" y="43545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905360" y="203364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578480" y="459252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557600" y="4064040"/>
            <a:ext cx="507960" cy="50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5021280" y="4049640"/>
            <a:ext cx="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2"/>
          <p:cNvSpPr/>
          <p:nvPr/>
        </p:nvSpPr>
        <p:spPr>
          <a:xfrm>
            <a:off x="1843200" y="2525760"/>
            <a:ext cx="3163680" cy="1509840"/>
          </a:xfrm>
          <a:custGeom>
            <a:avLst/>
            <a:gdLst/>
            <a:ahLst/>
            <a:rect l="l" t="t" r="r" b="b"/>
            <a:pathLst>
              <a:path w="1993" h="951">
                <a:moveTo>
                  <a:pt x="0" y="0"/>
                </a:moveTo>
                <a:cubicBezTo>
                  <a:pt x="570" y="48"/>
                  <a:pt x="1140" y="97"/>
                  <a:pt x="1472" y="256"/>
                </a:cubicBezTo>
                <a:cubicBezTo>
                  <a:pt x="1804" y="415"/>
                  <a:pt x="1898" y="683"/>
                  <a:pt x="1993" y="951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3"/>
          <p:cNvSpPr/>
          <p:nvPr/>
        </p:nvSpPr>
        <p:spPr>
          <a:xfrm>
            <a:off x="1843200" y="2525760"/>
            <a:ext cx="2743200" cy="1595520"/>
          </a:xfrm>
          <a:custGeom>
            <a:avLst/>
            <a:gdLst/>
            <a:ahLst/>
            <a:rect l="l" t="t" r="r" b="b"/>
            <a:pathLst>
              <a:path w="1728" h="1005">
                <a:moveTo>
                  <a:pt x="0" y="0"/>
                </a:moveTo>
                <a:cubicBezTo>
                  <a:pt x="369" y="134"/>
                  <a:pt x="738" y="268"/>
                  <a:pt x="951" y="420"/>
                </a:cubicBezTo>
                <a:cubicBezTo>
                  <a:pt x="1164" y="572"/>
                  <a:pt x="1151" y="823"/>
                  <a:pt x="1280" y="914"/>
                </a:cubicBezTo>
                <a:cubicBezTo>
                  <a:pt x="1409" y="1005"/>
                  <a:pt x="1568" y="987"/>
                  <a:pt x="1728" y="96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4"/>
          <p:cNvSpPr/>
          <p:nvPr/>
        </p:nvSpPr>
        <p:spPr>
          <a:xfrm>
            <a:off x="1843200" y="2525760"/>
            <a:ext cx="2700360" cy="2046240"/>
          </a:xfrm>
          <a:custGeom>
            <a:avLst/>
            <a:gdLst/>
            <a:ahLst/>
            <a:rect l="l" t="t" r="r" b="b"/>
            <a:pathLst>
              <a:path w="1701" h="1289">
                <a:moveTo>
                  <a:pt x="0" y="0"/>
                </a:moveTo>
                <a:cubicBezTo>
                  <a:pt x="219" y="308"/>
                  <a:pt x="439" y="617"/>
                  <a:pt x="722" y="832"/>
                </a:cubicBezTo>
                <a:cubicBezTo>
                  <a:pt x="1005" y="1047"/>
                  <a:pt x="1539" y="1213"/>
                  <a:pt x="1701" y="1289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5398920" y="3949560"/>
            <a:ext cx="1479600" cy="581040"/>
          </a:xfrm>
          <a:prstGeom prst="wedgeEllipseCallout">
            <a:avLst>
              <a:gd name="adj1" fmla="val -69634"/>
              <a:gd name="adj2" fmla="val 9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8120" y="4746600"/>
            <a:ext cx="1611360" cy="784080"/>
          </a:xfrm>
          <a:prstGeom prst="wedgeEllipseCallout">
            <a:avLst>
              <a:gd name="adj1" fmla="val 54236"/>
              <a:gd name="adj2" fmla="val -62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122800" y="2989440"/>
            <a:ext cx="1494000" cy="479160"/>
          </a:xfrm>
          <a:prstGeom prst="wedgeEllipseCallout">
            <a:avLst>
              <a:gd name="adj1" fmla="val -79754"/>
              <a:gd name="adj2" fmla="val 1847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7184880" y="5907240"/>
            <a:ext cx="1103400" cy="696600"/>
          </a:xfrm>
          <a:prstGeom prst="cloudCallout">
            <a:avLst>
              <a:gd name="adj1" fmla="val -64819"/>
              <a:gd name="adj2" fmla="val -693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,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reate Trees for the Cliq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two maximal cliques, so we make two trees; {A, B, E} and {C, D}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make these tre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NJ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ooter Placeholder 13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e {A, B, E} and {C,D}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1001880" y="2362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291420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6"/>
          <p:cNvSpPr/>
          <p:nvPr/>
        </p:nvSpPr>
        <p:spPr>
          <a:xfrm>
            <a:off x="5131080" y="2362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8"/>
          <p:cNvSpPr/>
          <p:nvPr/>
        </p:nvSpPr>
        <p:spPr>
          <a:xfrm>
            <a:off x="2895480" y="2438280"/>
            <a:ext cx="304920" cy="304920"/>
          </a:xfrm>
          <a:prstGeom prst="octagon">
            <a:avLst>
              <a:gd name="adj" fmla="val 2928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12952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>
            <a:off x="32004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304812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3"/>
          <p:cNvSpPr/>
          <p:nvPr/>
        </p:nvSpPr>
        <p:spPr>
          <a:xfrm>
            <a:off x="505656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4"/>
          <p:cNvSpPr/>
          <p:nvPr/>
        </p:nvSpPr>
        <p:spPr>
          <a:xfrm>
            <a:off x="74113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5"/>
          <p:cNvSpPr/>
          <p:nvPr/>
        </p:nvSpPr>
        <p:spPr>
          <a:xfrm>
            <a:off x="5334120" y="4952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erge your separate trees together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ne Super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done by creating a minimum set of edges in the trees and calling that the “backbo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it’s own doctorial thesis, so lets do a little hand w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hat sounds like NP-hard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Threshold is Polynom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ly triangulating is NP-hard, but can be obtained in polynomial time using a greedy heuristic without too much loss in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al cliques is only polynomial if the data input is triangulated (which it is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previous are done, creating a supertree can be done in polynomial time as w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Footer Placeholder 30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Where are we now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now have a finalized phylogeny created for from smaller trees in our matrix joined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we started from all possible size of smaller tr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6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380880" y="3886200"/>
            <a:ext cx="243864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352680" y="3886200"/>
            <a:ext cx="243864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248520" y="3886200"/>
            <a:ext cx="2438280" cy="243828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8"/>
          <p:cNvSpPr/>
          <p:nvPr/>
        </p:nvSpPr>
        <p:spPr>
          <a:xfrm>
            <a:off x="83808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9"/>
          <p:cNvSpPr/>
          <p:nvPr/>
        </p:nvSpPr>
        <p:spPr>
          <a:xfrm>
            <a:off x="5335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10"/>
          <p:cNvSpPr/>
          <p:nvPr/>
        </p:nvSpPr>
        <p:spPr>
          <a:xfrm>
            <a:off x="114300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1"/>
          <p:cNvSpPr/>
          <p:nvPr/>
        </p:nvSpPr>
        <p:spPr>
          <a:xfrm>
            <a:off x="14479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2"/>
          <p:cNvSpPr/>
          <p:nvPr/>
        </p:nvSpPr>
        <p:spPr>
          <a:xfrm>
            <a:off x="175248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3"/>
          <p:cNvSpPr/>
          <p:nvPr/>
        </p:nvSpPr>
        <p:spPr>
          <a:xfrm>
            <a:off x="205740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4"/>
          <p:cNvSpPr/>
          <p:nvPr/>
        </p:nvSpPr>
        <p:spPr>
          <a:xfrm>
            <a:off x="3429000" y="601992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5"/>
          <p:cNvSpPr/>
          <p:nvPr/>
        </p:nvSpPr>
        <p:spPr>
          <a:xfrm>
            <a:off x="4267080" y="601992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6"/>
          <p:cNvSpPr/>
          <p:nvPr/>
        </p:nvSpPr>
        <p:spPr>
          <a:xfrm>
            <a:off x="5105520" y="6019920"/>
            <a:ext cx="53316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7"/>
          <p:cNvSpPr/>
          <p:nvPr/>
        </p:nvSpPr>
        <p:spPr>
          <a:xfrm>
            <a:off x="6324480" y="5943600"/>
            <a:ext cx="2286000" cy="22860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8"/>
          <p:cNvSpPr/>
          <p:nvPr/>
        </p:nvSpPr>
        <p:spPr>
          <a:xfrm>
            <a:off x="2362320" y="6019920"/>
            <a:ext cx="228600" cy="152280"/>
          </a:xfrm>
          <a:prstGeom prst="roundRect">
            <a:avLst>
              <a:gd name="adj" fmla="val 16667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19"/>
          <p:cNvSpPr/>
          <p:nvPr/>
        </p:nvSpPr>
        <p:spPr>
          <a:xfrm flipV="1">
            <a:off x="685800" y="57146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838080" y="57150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1"/>
          <p:cNvSpPr/>
          <p:nvPr/>
        </p:nvSpPr>
        <p:spPr>
          <a:xfrm flipV="1">
            <a:off x="1295280" y="5790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>
            <a:off x="1447920" y="5791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23"/>
          <p:cNvSpPr/>
          <p:nvPr/>
        </p:nvSpPr>
        <p:spPr>
          <a:xfrm flipV="1">
            <a:off x="1828800" y="5790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4"/>
          <p:cNvSpPr/>
          <p:nvPr/>
        </p:nvSpPr>
        <p:spPr>
          <a:xfrm>
            <a:off x="1981080" y="5791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25"/>
          <p:cNvSpPr/>
          <p:nvPr/>
        </p:nvSpPr>
        <p:spPr>
          <a:xfrm flipV="1">
            <a:off x="2133720" y="54860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6"/>
          <p:cNvSpPr/>
          <p:nvPr/>
        </p:nvSpPr>
        <p:spPr>
          <a:xfrm>
            <a:off x="2286000" y="5486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7"/>
          <p:cNvSpPr/>
          <p:nvPr/>
        </p:nvSpPr>
        <p:spPr>
          <a:xfrm flipV="1">
            <a:off x="3581280" y="53337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28"/>
          <p:cNvSpPr/>
          <p:nvPr/>
        </p:nvSpPr>
        <p:spPr>
          <a:xfrm>
            <a:off x="4114800" y="53341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29"/>
          <p:cNvSpPr/>
          <p:nvPr/>
        </p:nvSpPr>
        <p:spPr>
          <a:xfrm flipV="1">
            <a:off x="4191120" y="45716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0"/>
          <p:cNvSpPr/>
          <p:nvPr/>
        </p:nvSpPr>
        <p:spPr>
          <a:xfrm>
            <a:off x="4724280" y="45720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hase 2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ne is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using the SQS (Short Quartet Support)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T be a tree in S (made from part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 the data into sets of four tax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A, B, C, D} {A, C, D, E} {A, B, D, E}…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the larger tree to only hold “one se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re called Quart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- A Gu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(T) is the set of trees induced by T on each set of four le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different Q) be a set of quartets with diameter less than or equal to 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maximum w where the quartets are inclusive of the nodes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 is the “support” of that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- Refrase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set of quartet trees which have a diameter &lt;=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of T is the max w wher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bset of Q(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is our “quality measu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we exactly measuring?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Footer Placeholder 4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590760" y="663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w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151920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6"/>
          <p:cNvSpPr/>
          <p:nvPr/>
        </p:nvSpPr>
        <p:spPr>
          <a:xfrm>
            <a:off x="2212560" y="1273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7"/>
          <p:cNvSpPr/>
          <p:nvPr/>
        </p:nvSpPr>
        <p:spPr>
          <a:xfrm>
            <a:off x="277056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8"/>
          <p:cNvSpPr/>
          <p:nvPr/>
        </p:nvSpPr>
        <p:spPr>
          <a:xfrm>
            <a:off x="328068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9"/>
          <p:cNvSpPr/>
          <p:nvPr/>
        </p:nvSpPr>
        <p:spPr>
          <a:xfrm>
            <a:off x="4888080" y="129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0"/>
          <p:cNvSpPr/>
          <p:nvPr/>
        </p:nvSpPr>
        <p:spPr>
          <a:xfrm>
            <a:off x="527652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1"/>
          <p:cNvSpPr/>
          <p:nvPr/>
        </p:nvSpPr>
        <p:spPr>
          <a:xfrm>
            <a:off x="5718960" y="127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6334200" y="1273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3"/>
          <p:cNvSpPr/>
          <p:nvPr/>
        </p:nvSpPr>
        <p:spPr>
          <a:xfrm flipV="1">
            <a:off x="1752480" y="304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4"/>
          <p:cNvSpPr/>
          <p:nvPr/>
        </p:nvSpPr>
        <p:spPr>
          <a:xfrm>
            <a:off x="1981080" y="914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5"/>
          <p:cNvSpPr/>
          <p:nvPr/>
        </p:nvSpPr>
        <p:spPr>
          <a:xfrm flipH="1" flipV="1">
            <a:off x="2209320" y="609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2438280" y="3049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7"/>
          <p:cNvSpPr/>
          <p:nvPr/>
        </p:nvSpPr>
        <p:spPr>
          <a:xfrm flipV="1">
            <a:off x="5029200" y="5335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8"/>
          <p:cNvSpPr/>
          <p:nvPr/>
        </p:nvSpPr>
        <p:spPr>
          <a:xfrm flipH="1" flipV="1">
            <a:off x="5333760" y="1066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9"/>
          <p:cNvSpPr/>
          <p:nvPr/>
        </p:nvSpPr>
        <p:spPr>
          <a:xfrm flipV="1">
            <a:off x="5867280" y="914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20"/>
          <p:cNvSpPr/>
          <p:nvPr/>
        </p:nvSpPr>
        <p:spPr>
          <a:xfrm>
            <a:off x="5715000" y="5335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21"/>
          <p:cNvSpPr/>
          <p:nvPr/>
        </p:nvSpPr>
        <p:spPr>
          <a:xfrm>
            <a:off x="609480" y="5334120"/>
            <a:ext cx="3353040" cy="228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2"/>
          <p:cNvSpPr/>
          <p:nvPr/>
        </p:nvSpPr>
        <p:spPr>
          <a:xfrm>
            <a:off x="4419720" y="5334120"/>
            <a:ext cx="3352680" cy="228600"/>
          </a:xfrm>
          <a:prstGeom prst="rect">
            <a:avLst/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3"/>
          <p:cNvSpPr/>
          <p:nvPr/>
        </p:nvSpPr>
        <p:spPr>
          <a:xfrm>
            <a:off x="69696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24"/>
          <p:cNvSpPr/>
          <p:nvPr/>
        </p:nvSpPr>
        <p:spPr>
          <a:xfrm>
            <a:off x="139032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193248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245808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458316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527652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9"/>
          <p:cNvSpPr/>
          <p:nvPr/>
        </p:nvSpPr>
        <p:spPr>
          <a:xfrm>
            <a:off x="581868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30"/>
          <p:cNvSpPr/>
          <p:nvPr/>
        </p:nvSpPr>
        <p:spPr>
          <a:xfrm>
            <a:off x="6344280" y="571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35"/>
          <p:cNvSpPr/>
          <p:nvPr/>
        </p:nvSpPr>
        <p:spPr>
          <a:xfrm>
            <a:off x="30736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6"/>
          <p:cNvSpPr/>
          <p:nvPr/>
        </p:nvSpPr>
        <p:spPr>
          <a:xfrm>
            <a:off x="6959880" y="571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37"/>
          <p:cNvSpPr/>
          <p:nvPr/>
        </p:nvSpPr>
        <p:spPr>
          <a:xfrm flipV="1">
            <a:off x="914400" y="4038480"/>
            <a:ext cx="685800" cy="9907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38"/>
          <p:cNvSpPr/>
          <p:nvPr/>
        </p:nvSpPr>
        <p:spPr>
          <a:xfrm>
            <a:off x="1143000" y="4724280"/>
            <a:ext cx="304920" cy="3049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39"/>
          <p:cNvSpPr/>
          <p:nvPr/>
        </p:nvSpPr>
        <p:spPr>
          <a:xfrm flipH="1" flipV="1">
            <a:off x="1371240" y="4419360"/>
            <a:ext cx="685800" cy="60948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40"/>
          <p:cNvSpPr/>
          <p:nvPr/>
        </p:nvSpPr>
        <p:spPr>
          <a:xfrm flipH="1">
            <a:off x="2514600" y="4724280"/>
            <a:ext cx="76320" cy="30492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41"/>
          <p:cNvSpPr/>
          <p:nvPr/>
        </p:nvSpPr>
        <p:spPr>
          <a:xfrm>
            <a:off x="1600200" y="4038480"/>
            <a:ext cx="1600200" cy="1143000"/>
          </a:xfrm>
          <a:prstGeom prst="line">
            <a:avLst/>
          </a:prstGeom>
          <a:ln w="936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42"/>
          <p:cNvSpPr/>
          <p:nvPr/>
        </p:nvSpPr>
        <p:spPr>
          <a:xfrm flipV="1">
            <a:off x="4876920" y="396216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43"/>
          <p:cNvSpPr/>
          <p:nvPr/>
        </p:nvSpPr>
        <p:spPr>
          <a:xfrm>
            <a:off x="5105520" y="4800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44"/>
          <p:cNvSpPr/>
          <p:nvPr/>
        </p:nvSpPr>
        <p:spPr>
          <a:xfrm flipV="1">
            <a:off x="6019920" y="4800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45"/>
          <p:cNvSpPr/>
          <p:nvPr/>
        </p:nvSpPr>
        <p:spPr>
          <a:xfrm>
            <a:off x="5562720" y="4191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46"/>
          <p:cNvSpPr/>
          <p:nvPr/>
        </p:nvSpPr>
        <p:spPr>
          <a:xfrm flipH="1" flipV="1">
            <a:off x="5715000" y="39621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enjamin Loyle 2004 Cse 3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QS Metho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the tree in which the support of that tree is the maximu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more than one such tree exists return the tree found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tree with the smallest original diameter (remember from phase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8T00:54:06Z</dcterms:created>
  <dc:creator>Veriton</dc:creator>
  <dc:description/>
  <dc:language>en-US</dc:language>
  <cp:lastModifiedBy>Achraf Elallali</cp:lastModifiedBy>
  <dcterms:modified xsi:type="dcterms:W3CDTF">2016-03-07T08:49:50Z</dcterms:modified>
  <cp:revision>210</cp:revision>
  <dc:subject/>
  <dc:title>Finding conserved regions in sequence alignments</dc:title>
</cp:coreProperties>
</file>