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90966-3D64-4D61-9759-DC68DECC7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5F0D8-7447-4017-B343-EF8D70604E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4CE02-F1E3-4C16-A034-5B8F82230C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A79DB-2A6D-4B0B-B37D-1893CB5C69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EEDE8-79B4-49A8-BAE6-07126F1CE0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5F067-609E-4FD6-8A4A-9D8BE5B752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2AF5C-56EE-4B38-8E45-83EF21CFD8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354C2-94C9-4844-BD5A-5121EDE196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0027D-B710-48F5-811E-C980B005F0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61D40-CE36-4BDF-928B-2B8CCB9273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E9553-C4BC-440C-A848-760387E462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DE5E8-9211-4A83-A143-BD43FAE525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A7073-8A53-44D0-848F-F2081D9BA7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A0BDC-A5DA-4889-BAA2-BF9D7980C5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465C6-2B39-41D5-9BB9-AC473BAEEC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E151B-B20F-4F00-A24C-F74BE6F8A9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B005A-4898-4EFC-8CF2-C1A1213F98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D2934-5AE0-4BC8-A74B-A783D8C7A8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d is not necessarily the smallest distance between all pairs of points in S1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because a closer pair of points can lie on the opposite sides separating the line. When w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the two sets, we must examine such points. (Illustrate this on the diagra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1A57D-541B-446F-82E9-BA02C9DF8E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43220-A785-4149-B71A-58A3BA7B09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68580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EFE9A-35E0-4D5C-827D-CA635C503E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14EE0-FF1D-45BB-A76F-6DDE229C21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B6EFF-D8BD-4C42-858C-FE76F54152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E6B06-0622-4171-94F6-B25719266F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FC311-4324-4CC8-8977-E92EDDCDCB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501C8-EAA5-4A23-946B-FC013D7203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16F48-D17E-4638-A67E-443B4112A8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over this example in detail, then do another example of merging, something lik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 2 5 7 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 4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29D33-C828-432F-9B5C-A091F9051C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not analyzing in detail, show the recurrence for mergesort in worst ca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(n) = 2 T(n/2) + (n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t case comparisons for me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4"/>
          <p:cNvSpPr/>
          <p:nvPr/>
        </p:nvSpPr>
        <p:spPr>
          <a:xfrm flipV="1">
            <a:off x="2286000" y="670536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9EE-29EC-4B1D-BFC7-6849EDDE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34B-1909-4B95-8858-76F68357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26D-46EB-4A65-892A-F79A0D64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D2BB-A1B6-4FEA-AC52-644E752A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7B80-1DB2-4F18-A5C7-6CBB4C62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287A-A2E2-4629-96D0-58E0F8A0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67B9-04E5-47AC-9E0E-3995C7CF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5E0F-ED25-447A-BB88-D96FFBB2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07C5-B785-43B9-B67A-EF264105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4E63-8F9B-4DBA-A2D9-5B590DFE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03A9-4D4F-4253-9B4D-860E507B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C17-CB07-4C19-AC95-9EBC2636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17E6-6968-4295-B1EA-B6BEA3E5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1797-FF80-4044-8C25-6A905D2C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802F-7F18-4B9F-85E9-3DFD5BDF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0682-D07F-49DB-BD84-F6CE4361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D60D-9EAE-4523-8C1E-16DBFDB7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A3E-A2E6-4FA0-9ED0-F2CAAAA4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6E1-1F1E-4FBF-B8BC-F23461B9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24E-1E78-47CC-B90D-765643A7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6AD-4888-4CEB-9B1A-AD5AD874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1CA3-7975-41C8-A691-2340206D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F67-0E1C-4F53-BD7E-ACDAF10A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736-9828-4CFF-9C79-B4ABF8C3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AutoShape 4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5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6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Group 7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AutoShape 8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219320" y="64004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4499-DC2A-4FE2-B3A4-0720578AF28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6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Group 18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AutoShape 19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0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1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Group 23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AutoShape 24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5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6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Rectangle 1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12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1589-0462-4EA0-8E70-0C7A159B61F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BD2E-B8E0-4EB1-BE05-2323CDDF94D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ivide-and-Conquer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e most-well known algorithm design strategy: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ivide instance of problem into two or more smaller instance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olve smaller instances recursively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btain solution to original (larger) instance by combining these solution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39F0-9401-4423-97FC-6A794F45F05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Quick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lect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ivo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partitioning element) – here, the first el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arrange the list so that all the elements in the firs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itions are smaller than or equal to the pivot and all the elements in the remainin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-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itions are larger than or equal to the pivot (see next slide for an algorithm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change the pivot with the last element in the first (i.e.,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subarray — the pivot is now in its final posi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rt the two subarrays recursive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1219320" y="3505320"/>
            <a:ext cx="7010280" cy="1443960"/>
            <a:chOff x="1219320" y="3505320"/>
            <a:chExt cx="7010280" cy="1443960"/>
          </a:xfrm>
        </p:grpSpPr>
        <p:grpSp>
          <p:nvGrpSpPr>
            <p:cNvPr id="158" name="Group 5"/>
            <p:cNvGrpSpPr/>
            <p:nvPr/>
          </p:nvGrpSpPr>
          <p:grpSpPr>
            <a:xfrm>
              <a:off x="1219320" y="3505320"/>
              <a:ext cx="7010280" cy="1066680"/>
              <a:chOff x="1219320" y="3505320"/>
              <a:chExt cx="7010280" cy="1066680"/>
            </a:xfrm>
          </p:grpSpPr>
          <p:sp>
            <p:nvSpPr>
              <p:cNvPr id="159" name="Rectangle 6"/>
              <p:cNvSpPr/>
              <p:nvPr/>
            </p:nvSpPr>
            <p:spPr>
              <a:xfrm>
                <a:off x="1219320" y="3505320"/>
                <a:ext cx="7010280" cy="533520"/>
              </a:xfrm>
              <a:prstGeom prst="rect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Line 7"/>
              <p:cNvSpPr/>
              <p:nvPr/>
            </p:nvSpPr>
            <p:spPr>
              <a:xfrm>
                <a:off x="1523880" y="3505320"/>
                <a:ext cx="0" cy="533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Line 8"/>
              <p:cNvSpPr/>
              <p:nvPr/>
            </p:nvSpPr>
            <p:spPr>
              <a:xfrm>
                <a:off x="4038480" y="3505320"/>
                <a:ext cx="0" cy="533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Line 9"/>
              <p:cNvSpPr/>
              <p:nvPr/>
            </p:nvSpPr>
            <p:spPr>
              <a:xfrm>
                <a:off x="4343400" y="3505320"/>
                <a:ext cx="0" cy="533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Text Box 10"/>
              <p:cNvSpPr/>
              <p:nvPr/>
            </p:nvSpPr>
            <p:spPr>
              <a:xfrm>
                <a:off x="1219320" y="3505320"/>
                <a:ext cx="22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1932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AutoShape 11"/>
              <p:cNvSpPr/>
              <p:nvPr/>
            </p:nvSpPr>
            <p:spPr>
              <a:xfrm rot="16200000">
                <a:off x="2666520" y="2971800"/>
                <a:ext cx="457200" cy="2742840"/>
              </a:xfrm>
              <a:custGeom>
                <a:avLst/>
                <a:gdLst>
                  <a:gd name="textAreaLeft" fmla="*/ 292320 w 457200"/>
                  <a:gd name="textAreaRight" fmla="*/ 457560 w 457200"/>
                  <a:gd name="textAreaTop" fmla="*/ 71280 h 2742840"/>
                  <a:gd name="textAreaBottom" fmla="*/ 2671560 h 2742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AutoShape 12"/>
              <p:cNvSpPr/>
              <p:nvPr/>
            </p:nvSpPr>
            <p:spPr>
              <a:xfrm rot="16200000">
                <a:off x="6095520" y="2438280"/>
                <a:ext cx="457200" cy="3809880"/>
              </a:xfrm>
              <a:custGeom>
                <a:avLst/>
                <a:gdLst>
                  <a:gd name="textAreaLeft" fmla="*/ 292320 w 457200"/>
                  <a:gd name="textAreaRight" fmla="*/ 457560 w 457200"/>
                  <a:gd name="textAreaTop" fmla="*/ 99360 h 3809880"/>
                  <a:gd name="textAreaBottom" fmla="*/ 3710520 h 3809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13"/>
            <p:cNvSpPr/>
            <p:nvPr/>
          </p:nvSpPr>
          <p:spPr>
            <a:xfrm>
              <a:off x="2355480" y="4454640"/>
              <a:ext cx="10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Text Box 14"/>
            <p:cNvSpPr/>
            <p:nvPr/>
          </p:nvSpPr>
          <p:spPr>
            <a:xfrm>
              <a:off x="5752800" y="4489560"/>
              <a:ext cx="10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E944-E979-4EED-8C81-D206ED5E967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are’s Partitioning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0" name="Picture 8" descr="partition"/>
          <p:cNvPicPr/>
          <p:nvPr/>
        </p:nvPicPr>
        <p:blipFill>
          <a:blip r:embed="rId1"/>
          <a:stretch/>
        </p:blipFill>
        <p:spPr>
          <a:xfrm>
            <a:off x="457200" y="1143000"/>
            <a:ext cx="86868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1187-0948-4C13-AD58-C0BAB3BD34D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Quicksort 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5   3   1   9   8   2   4   7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E1E8-6A1A-4A59-AACB-E50FC9B635A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Quick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st case: split in the middl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—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orst case: sorted array! —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verage case: random array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provement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etter pivot selection: median of three partitioning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witch to insertion sort on small subfi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limination of recur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se combine to 20-25% improv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nsidered the method of choice for internal sorting of large files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≥ 1000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85BE-29F9-470C-A7EF-6C2232BE7AC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inary Tree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tree is a divide-and-conquer ready structure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. 1: Classic traversals (preorder, inorder, postorder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gorith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ord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 </a:t>
            </a:r>
            <a:r>
              <a:rPr b="1" i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    a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ord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lef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   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b           c               b            c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int(roo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      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d        e              d      e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ord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righ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   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 flipH="1">
            <a:off x="4419720" y="3429000"/>
            <a:ext cx="380880" cy="30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4952880" y="3429000"/>
            <a:ext cx="457200" cy="30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 flipH="1">
            <a:off x="5028840" y="3962520"/>
            <a:ext cx="304920" cy="30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5562720" y="3962520"/>
            <a:ext cx="228600" cy="30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7086600" y="3429000"/>
            <a:ext cx="380880" cy="380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7620120" y="3429000"/>
            <a:ext cx="533160" cy="380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 flipH="1">
            <a:off x="6629040" y="3962520"/>
            <a:ext cx="22860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6934320" y="3962520"/>
            <a:ext cx="22860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 flipH="1">
            <a:off x="7848360" y="3962520"/>
            <a:ext cx="228600" cy="30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8229600" y="3962520"/>
            <a:ext cx="228600" cy="30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14"/>
          <p:cNvSpPr/>
          <p:nvPr/>
        </p:nvSpPr>
        <p:spPr>
          <a:xfrm flipH="1">
            <a:off x="7543440" y="4495680"/>
            <a:ext cx="15228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7848720" y="4495680"/>
            <a:ext cx="15228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16"/>
          <p:cNvSpPr/>
          <p:nvPr/>
        </p:nvSpPr>
        <p:spPr>
          <a:xfrm flipH="1">
            <a:off x="8305560" y="4495680"/>
            <a:ext cx="15228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8534520" y="4495680"/>
            <a:ext cx="15228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E511-A3BC-46AC-B249-3A4096A99FA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inary Tree Algorithms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78487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. 2: Computing the height of a binary tree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97" name="Picture 4" descr="Fig 4"/>
          <p:cNvPicPr/>
          <p:nvPr/>
        </p:nvPicPr>
        <p:blipFill>
          <a:blip r:embed="rId1"/>
          <a:stretch/>
        </p:blipFill>
        <p:spPr>
          <a:xfrm>
            <a:off x="2743200" y="1447920"/>
            <a:ext cx="3657600" cy="26874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685800" y="4648320"/>
            <a:ext cx="71629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max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} + 1  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 </a:t>
            </a:r>
            <a:r>
              <a:rPr b="1" i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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and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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-1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F7D4-E058-4FF7-A68D-15D40660C0B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ultiplication of Large Integers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ider the problem of multiplying two (large)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digit integers represented by arrays of their digits such as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= 12345678901357986429   B = 87654321284820912836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grade-school algorithm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br>
              <a:rPr sz="2400"/>
            </a:b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              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br>
              <a:rPr sz="2400"/>
            </a:b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 … … … … … …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e-digit multiplic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2514600" y="3962520"/>
            <a:ext cx="137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685800" y="5486400"/>
            <a:ext cx="31240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E0E4-9505-4338-96E7-95B13B51300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irst Divide-and-Conquer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mall example: A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 where A = 2135 and B = 4014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= (21·10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5),  B = (40 ·10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14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, A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 = (21 ·10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5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40 ·10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14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2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40 ·10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4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(2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4 + 35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40) ·10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5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4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general, if A =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d B =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where A and B a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digit,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/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-digit numbers),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 =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·10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·10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/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urrence for the number of one-digit multiplications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4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,   M(1) = 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ution: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67C9-4062-4EA9-8610-1DD9529D136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econd Divide-and-Conquer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7627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 =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·10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·10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/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idea is to decrease the number of multiplications from 4 to 3: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) =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,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.e.,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) -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,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ich requires only 3 multiplications at the expense of (4-1) extra add/sub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urrence for the  number of multiplications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3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,   M(1) = 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ution: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3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log </a:t>
            </a:r>
            <a:r>
              <a:rPr b="1" lang="en-US" sz="2400" spc="-1" strike="noStrike" baseline="14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8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 baseline="14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≈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1.585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DB6C-7C1E-4AE0-96C5-C5B9355C261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Large-Integer Multiplication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33520" y="1295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135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40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1013-769A-48FE-B1D8-2019F636DBE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ivide-and-Conquer Technique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5562720" y="2362320"/>
            <a:ext cx="2286000" cy="83808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subproblem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of size </a:t>
            </a:r>
            <a:r>
              <a:rPr b="1" i="1" lang="en-US" sz="1800" spc="-1" strike="noStrike">
                <a:solidFill>
                  <a:srgbClr val="001932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1219320" y="2362320"/>
            <a:ext cx="2286000" cy="83808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subproblem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of size </a:t>
            </a:r>
            <a:r>
              <a:rPr b="1" i="1" lang="en-US" sz="1800" spc="-1" strike="noStrike">
                <a:solidFill>
                  <a:srgbClr val="001932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219320" y="3657600"/>
            <a:ext cx="2286000" cy="6858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Times New Roman"/>
              </a:rPr>
              <a:t>a solution 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Times New Roman"/>
              </a:rPr>
              <a:t>subproblem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429000" y="5410080"/>
            <a:ext cx="2286000" cy="6858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Times New Roman"/>
              </a:rPr>
              <a:t>a solution 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Times New Roman"/>
              </a:rPr>
              <a:t>the original probl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5562720" y="3657600"/>
            <a:ext cx="2286000" cy="6858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Times New Roman"/>
              </a:rPr>
              <a:t>a solution 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Times New Roman"/>
              </a:rPr>
              <a:t>subproblem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2666880" y="2057400"/>
            <a:ext cx="144792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4952880" y="2057400"/>
            <a:ext cx="152424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3429000" y="1295280"/>
            <a:ext cx="2286000" cy="83844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a problem of size </a:t>
            </a:r>
            <a:r>
              <a:rPr b="1" i="1" lang="en-US" sz="1800" spc="-1" strike="noStrike">
                <a:solidFill>
                  <a:srgbClr val="001932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4"/>
          <p:cNvSpPr/>
          <p:nvPr/>
        </p:nvSpPr>
        <p:spPr>
          <a:xfrm>
            <a:off x="6705720" y="320040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6705720" y="4343400"/>
            <a:ext cx="0" cy="533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7"/>
          <p:cNvSpPr/>
          <p:nvPr/>
        </p:nvSpPr>
        <p:spPr>
          <a:xfrm>
            <a:off x="2286000" y="4876920"/>
            <a:ext cx="4419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4572000" y="4876920"/>
            <a:ext cx="0" cy="53316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0DD4-A7C7-405D-9689-4E6F27428AC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trassen’s Matrix Multiplic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66840"/>
            <a:ext cx="86104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rassen observed [1969] that  the product of two matrices can be computed as follow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00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A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A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B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B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   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=                             *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0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A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A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B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B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+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-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5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+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       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+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=                  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+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4                    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+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-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+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17" name="Group 4"/>
          <p:cNvGrpSpPr/>
          <p:nvPr/>
        </p:nvGrpSpPr>
        <p:grpSpPr>
          <a:xfrm>
            <a:off x="1066680" y="2514600"/>
            <a:ext cx="4800600" cy="1143000"/>
            <a:chOff x="1066680" y="2514600"/>
            <a:chExt cx="4800600" cy="1143000"/>
          </a:xfrm>
        </p:grpSpPr>
        <p:sp>
          <p:nvSpPr>
            <p:cNvPr id="218" name="Line 5"/>
            <p:cNvSpPr/>
            <p:nvPr/>
          </p:nvSpPr>
          <p:spPr>
            <a:xfrm>
              <a:off x="1676160" y="2666880"/>
              <a:ext cx="0" cy="76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6"/>
            <p:cNvSpPr/>
            <p:nvPr/>
          </p:nvSpPr>
          <p:spPr>
            <a:xfrm>
              <a:off x="5257440" y="2666880"/>
              <a:ext cx="0" cy="76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>
              <a:off x="3504960" y="2743200"/>
              <a:ext cx="0" cy="76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8"/>
            <p:cNvSpPr/>
            <p:nvPr/>
          </p:nvSpPr>
          <p:spPr>
            <a:xfrm>
              <a:off x="1218960" y="3048120"/>
              <a:ext cx="838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9"/>
            <p:cNvSpPr/>
            <p:nvPr/>
          </p:nvSpPr>
          <p:spPr>
            <a:xfrm>
              <a:off x="4800240" y="3048120"/>
              <a:ext cx="838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10"/>
            <p:cNvSpPr/>
            <p:nvPr/>
          </p:nvSpPr>
          <p:spPr>
            <a:xfrm>
              <a:off x="3124080" y="3048120"/>
              <a:ext cx="838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AutoShape 11"/>
            <p:cNvSpPr/>
            <p:nvPr/>
          </p:nvSpPr>
          <p:spPr>
            <a:xfrm>
              <a:off x="1066680" y="2514600"/>
              <a:ext cx="1218960" cy="1143000"/>
            </a:xfrm>
            <a:prstGeom prst="bracketPair">
              <a:avLst>
                <a:gd name="adj" fmla="val 1712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AutoShape 12"/>
            <p:cNvSpPr/>
            <p:nvPr/>
          </p:nvSpPr>
          <p:spPr>
            <a:xfrm>
              <a:off x="4647960" y="2514600"/>
              <a:ext cx="1219320" cy="1143000"/>
            </a:xfrm>
            <a:prstGeom prst="bracketPair">
              <a:avLst>
                <a:gd name="adj" fmla="val 1712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2819160" y="2514600"/>
              <a:ext cx="1219320" cy="1143000"/>
            </a:xfrm>
            <a:prstGeom prst="bracketPair">
              <a:avLst>
                <a:gd name="adj" fmla="val 1712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AutoShape 14"/>
          <p:cNvSpPr/>
          <p:nvPr/>
        </p:nvSpPr>
        <p:spPr>
          <a:xfrm>
            <a:off x="2666880" y="3886200"/>
            <a:ext cx="5410440" cy="114300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68DA-CA4B-47FE-9978-A8007280B70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ormulas for Strassen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83FD-792F-4A28-9613-6A6104B4E33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Strassen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26684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not a power of 2, matrices can be padded with zero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multiplication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7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,   M(1) =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ution: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7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log </a:t>
            </a:r>
            <a:r>
              <a:rPr b="1" lang="en-US" sz="2400" spc="-1" strike="noStrike" baseline="14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log </a:t>
            </a:r>
            <a:r>
              <a:rPr b="1" lang="en-US" sz="2400" spc="-1" strike="noStrike" baseline="14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7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≈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.807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vs.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 brute-force alg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gorithms with better asymptotic efficiency are known but the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re even more complex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FC55-F383-455E-921D-21ABF8C9A68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est-Pair Problem by Divide-and-Conquer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  Divide the points given into two subset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y a vertical lin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o that half the points lie to the left or on the line and half the points lie to the right or on the lin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37" name="Picture 4" descr="ClosestPair"/>
          <p:cNvPicPr/>
          <p:nvPr/>
        </p:nvPicPr>
        <p:blipFill>
          <a:blip r:embed="rId1"/>
          <a:stretch/>
        </p:blipFill>
        <p:spPr>
          <a:xfrm>
            <a:off x="2560680" y="2568600"/>
            <a:ext cx="376380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7ADD-B50F-48E3-8376-C2FA6766FCA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est Pair by Divide-and-Conquer (cont.)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  Find recursively the closest pairs for the left and right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subset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 Se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min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 limit our attention to the points in the symmetric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vertical strip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 width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s possible closest pair. (The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points are stored and processed in increasing order of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thei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ordinates.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4   Scan the points in the vertical strip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rom the lowest up.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For every poin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n the strip, inspect points in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in the strip that may be closer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h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  There can be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no more than 5 such points followin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 the strip list!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5068-FA95-45B3-B29E-1A24D7D3E41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Efficiency of the Closest-Pair Algorithm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unning time of the algorithm is described by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2T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 +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,  where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the Master Theorem (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2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2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1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62E7-1D14-47C2-A0D1-3AC39032E2E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Quickhull Algorithm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onvex hul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smallest convex set that includes given poi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sume points are sorted b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oordinate valu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dentif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xtreme point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(leftmost and rightmos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ut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pper hul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recursively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ind point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max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that is farthest away from line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mpute the upper hull of the points to the left of line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max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mpute the upper hull of the points to the left of line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max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ut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ower hul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 a similar mann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3581280" y="617220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5"/>
          <p:cNvSpPr/>
          <p:nvPr/>
        </p:nvSpPr>
        <p:spPr>
          <a:xfrm>
            <a:off x="5105520" y="5334120"/>
            <a:ext cx="75960" cy="759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1371600" y="6019920"/>
            <a:ext cx="76320" cy="759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7"/>
          <p:cNvSpPr/>
          <p:nvPr/>
        </p:nvSpPr>
        <p:spPr>
          <a:xfrm>
            <a:off x="1523880" y="541008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Oval 8"/>
          <p:cNvSpPr/>
          <p:nvPr/>
        </p:nvSpPr>
        <p:spPr>
          <a:xfrm>
            <a:off x="4495680" y="548640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1828800" y="571500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1905120" y="4952880"/>
            <a:ext cx="7596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2133720" y="6019920"/>
            <a:ext cx="75960" cy="759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Oval 12"/>
          <p:cNvSpPr/>
          <p:nvPr/>
        </p:nvSpPr>
        <p:spPr>
          <a:xfrm>
            <a:off x="2209680" y="518148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Oval 13"/>
          <p:cNvSpPr/>
          <p:nvPr/>
        </p:nvSpPr>
        <p:spPr>
          <a:xfrm>
            <a:off x="2971800" y="5334120"/>
            <a:ext cx="76320" cy="759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Oval 14"/>
          <p:cNvSpPr/>
          <p:nvPr/>
        </p:nvSpPr>
        <p:spPr>
          <a:xfrm>
            <a:off x="2590920" y="5791320"/>
            <a:ext cx="75960" cy="759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Oval 15"/>
          <p:cNvSpPr/>
          <p:nvPr/>
        </p:nvSpPr>
        <p:spPr>
          <a:xfrm>
            <a:off x="2743200" y="502920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 16"/>
          <p:cNvSpPr/>
          <p:nvPr/>
        </p:nvSpPr>
        <p:spPr>
          <a:xfrm>
            <a:off x="3657600" y="571500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Oval 17"/>
          <p:cNvSpPr/>
          <p:nvPr/>
        </p:nvSpPr>
        <p:spPr>
          <a:xfrm>
            <a:off x="4191120" y="4800600"/>
            <a:ext cx="7596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1371600" y="6095880"/>
            <a:ext cx="2209680" cy="152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19"/>
          <p:cNvSpPr/>
          <p:nvPr/>
        </p:nvSpPr>
        <p:spPr>
          <a:xfrm flipV="1">
            <a:off x="3581280" y="5409720"/>
            <a:ext cx="1524240" cy="838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20"/>
          <p:cNvSpPr/>
          <p:nvPr/>
        </p:nvSpPr>
        <p:spPr>
          <a:xfrm flipH="1" flipV="1">
            <a:off x="4191120" y="4800600"/>
            <a:ext cx="914400" cy="533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21"/>
          <p:cNvSpPr/>
          <p:nvPr/>
        </p:nvSpPr>
        <p:spPr>
          <a:xfrm flipH="1">
            <a:off x="1905120" y="4800600"/>
            <a:ext cx="228600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22"/>
          <p:cNvSpPr/>
          <p:nvPr/>
        </p:nvSpPr>
        <p:spPr>
          <a:xfrm flipH="1">
            <a:off x="1523520" y="5029200"/>
            <a:ext cx="38124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23"/>
          <p:cNvSpPr/>
          <p:nvPr/>
        </p:nvSpPr>
        <p:spPr>
          <a:xfrm flipV="1">
            <a:off x="1371600" y="5486040"/>
            <a:ext cx="152280" cy="609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24"/>
          <p:cNvSpPr/>
          <p:nvPr/>
        </p:nvSpPr>
        <p:spPr>
          <a:xfrm flipV="1">
            <a:off x="1371600" y="5333760"/>
            <a:ext cx="3809880" cy="685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25"/>
          <p:cNvSpPr/>
          <p:nvPr/>
        </p:nvSpPr>
        <p:spPr>
          <a:xfrm>
            <a:off x="923040" y="57913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6"/>
          <p:cNvSpPr/>
          <p:nvPr/>
        </p:nvSpPr>
        <p:spPr>
          <a:xfrm>
            <a:off x="5190120" y="49528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1321200" y="4419720"/>
            <a:ext cx="65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28"/>
          <p:cNvSpPr/>
          <p:nvPr/>
        </p:nvSpPr>
        <p:spPr>
          <a:xfrm flipH="1">
            <a:off x="1066680" y="4572000"/>
            <a:ext cx="1067040" cy="205740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29"/>
          <p:cNvSpPr/>
          <p:nvPr/>
        </p:nvSpPr>
        <p:spPr>
          <a:xfrm flipH="1" flipV="1">
            <a:off x="1218960" y="4876560"/>
            <a:ext cx="4800600" cy="60948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9BED-CC50-4053-B115-CC4E1665096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fficiency of Quickhull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ding point farthest away from lin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n be done in linear ti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ime efficiency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orst case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 (a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quicksor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verage case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(under reasonable assumptions about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                distribution of points given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points are not initially sorted b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oordinate value, this can be accomplished i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time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ral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gorithms for convex hull are know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D437-EF60-4E4E-86D6-0A5F8F483CD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ivide-and-Conquer Exampl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rting: mergesort and quicksor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tree traversal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ultiplication of large integ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trix multiplication: Strassen’s algorith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osest-pair and convex-hull algorithm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search: decrease-by-half (or degenerate divide&amp;conq.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533520" y="5486400"/>
            <a:ext cx="6629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0D00-4069-482B-AF83-E01E1A9184B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457200" y="228600"/>
            <a:ext cx="758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General Divide-and-Conquer Recur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572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/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d </a:t>
            </a:r>
            <a:r>
              <a:rPr b="1" i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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Master Theor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   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 &lt; b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 = b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d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 &gt; b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log </a:t>
            </a:r>
            <a:r>
              <a:rPr b="1" i="1" lang="en-US" sz="2800" spc="-1" strike="noStrike" baseline="14000">
                <a:solidFill>
                  <a:srgbClr val="ffff99"/>
                </a:solidFill>
                <a:latin typeface="Times New Roman"/>
              </a:rPr>
              <a:t>b </a:t>
            </a:r>
            <a:r>
              <a:rPr b="1" i="1" lang="en-US" sz="3200" spc="-1" strike="noStrike" baseline="30000">
                <a:solidFill>
                  <a:srgbClr val="ffff9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: The same results hold with O instead of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FDA0-CB7A-42B0-B07E-C235119C576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rge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plit array A[0..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] in two about equal halves and make copies of each half  in arrays B and C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rt arrays B and C recursive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rge sorted arrays B and C into array A as follow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peat the following until no elements remain in one of the array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e the first elements in the remaining unprocessed portions of the array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py the smaller of the two into A, while incrementing the index indicating the unprocessed portion of that arra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ce all elements in one of the arrays are processed, copy the remaining unprocessed elements from the other array into A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8962-09C8-4F3B-977D-649BF165C7E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664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seudocode of Merge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44" name="Picture 4" descr="4_1a"/>
          <p:cNvPicPr/>
          <p:nvPr/>
        </p:nvPicPr>
        <p:blipFill>
          <a:blip r:embed="rId1"/>
          <a:stretch/>
        </p:blipFill>
        <p:spPr>
          <a:xfrm>
            <a:off x="457200" y="1143000"/>
            <a:ext cx="8686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D685-3FCA-44C7-A93C-8A41FA805F2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40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seudocode of Merg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47" name="Picture 4" descr="4_1b"/>
          <p:cNvPicPr/>
          <p:nvPr/>
        </p:nvPicPr>
        <p:blipFill>
          <a:blip r:embed="rId1"/>
          <a:stretch/>
        </p:blipFill>
        <p:spPr>
          <a:xfrm>
            <a:off x="457200" y="1143000"/>
            <a:ext cx="8686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0BAB-6BC1-4BB1-B3A2-3BF3E29B973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rgesort 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50" name="Picture 4" descr="Fig 4"/>
          <p:cNvPicPr/>
          <p:nvPr/>
        </p:nvPicPr>
        <p:blipFill>
          <a:blip r:embed="rId1"/>
          <a:stretch/>
        </p:blipFill>
        <p:spPr>
          <a:xfrm>
            <a:off x="2666880" y="1295280"/>
            <a:ext cx="4056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B342-7518-4781-A1E7-EFB3436321C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Merge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l cases have same efficiency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umber of comparisons in the worst case is close to theoretical minimum for comparison-based sorting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!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≈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  <a:ea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1.4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pace requirement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(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in-plac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an be implemented without recursion (bottom-up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OUAHID</cp:lastModifiedBy>
  <dcterms:modified xsi:type="dcterms:W3CDTF">2013-06-12T07:56:21Z</dcterms:modified>
  <cp:revision>158</cp:revision>
  <dc:subject/>
  <dc:title>Chapter 4:  Divide-and-Conquer </dc:title>
</cp:coreProperties>
</file>