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0CE3D-D837-46B2-A1FA-659DE2C40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2BE08-8DA5-4C83-BA90-0291546F1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13A95-4A11-48D9-A040-C99A91E4CE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E5FCE-0778-44AB-868F-EEC846CAD1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1AEDB-5151-4958-B041-E1A208A89C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52E23-4591-4284-A5B5-F26EACCDD3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5583C-2BD5-4DC3-9AAA-D9AAFD8C9E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DDD58-73F3-4BEC-A664-974A82D3B5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AC44D-A81A-4DEF-A94E-61ADFFD80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6DD1D-1316-46DB-AE0E-2C7CD2E6A2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0B88F-1A30-4F30-9EE4-A9DBB34306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F7E78-1BFC-406C-BD66-3B434827D0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F32A4-A11E-4405-81A8-DBA380C2EE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6B630-04FC-43FC-96DA-9CF08BB700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D28E6-E1BD-4FEB-976C-E8B88BF22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C49E7-2846-4D29-98BF-3EE912993F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BFA2-95FF-4DC5-85B9-3971BDADA0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30359-F7FE-4067-90BB-9683573D35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d is not necessarily the smallest distance between all pairs of points in S1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 because a closer pair of points can lie on the opposite sides separating the line. When w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e the two sets, we must examine such points. (Illustrate this on the diagr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8983-E839-4B5C-AE34-3A79F9525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84609-5D59-490A-9679-881AFF32A9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F834D-DFF9-41A2-8762-F62757CE67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F2C65-57FD-4F67-ACFA-79287A0C6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ED7E2-B695-4D43-BD43-9F31A00046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B86F7-00DE-4788-9ABC-0F8E4AB4BC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6942C-87D9-4354-B2C9-6C9C14D539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2BF6C-22A9-43DA-A7DE-4675E8F566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5AFFE-6342-4FCA-99CE-617DA3EE5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ver this example in detail, then do another example of merging, something li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 2 5 7 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 4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B5691-007E-4C44-A5E0-E46C01E98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not analyzing in detail, show the recurrence for mergesort in worst c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(n) = 2 T(n/2) + (n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t case comparisons for me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2286000" y="6705360"/>
            <a:ext cx="0" cy="228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F4C-53DE-445F-960A-591FB505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E69-CDA7-449E-B1A3-DDA45213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C9B-A03B-437D-B240-06161483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065-436F-460F-A46D-B82DBF64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011B-8E37-409F-BBE5-AC331BD0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788E-6337-43B1-BBFD-D7BCE2BF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2000-604B-44FA-B583-5A3E0A34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72CF-CC89-4011-858A-6D18EA00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145D-18D9-45F2-AE00-4D0DF970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A73C-6C86-48B3-B907-5F32E115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347-1212-4DE7-AE30-AA9F87E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DCBF-5CF2-4F39-A1DB-AC28F4A9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1D8-5CFC-40E2-9E31-4BB68736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D063-03BF-4785-835B-2A8F9B7B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FDEC-54E0-4563-AB88-4280DDE1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4868-49AB-4CFD-8C11-C863D0FC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640D-4BEF-45AE-8C41-F2FCB266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D7E-0806-428E-A791-7720060D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A9C-E9A8-46B0-B8C0-AEB54D02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C330-2CC9-4DDC-BE58-3C0D3411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45B-FE1A-4E25-B432-5A94EE63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085-9405-4BC8-9E04-D257BA1D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CAF-38D5-47CA-9EB1-109AD4A8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DCC-EFBC-40ED-9522-28B6EA4E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EC3C-2F6A-4384-986B-D1D00E0C083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5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181C-608F-42BE-AABF-2D9C6FC8056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FA6A-9D33-49D4-8B29-3E9D9FCCA08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The most-well known algorithm design strategy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ivide instance of problem into two or more smaller instance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lve smaller instances recursivel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btain solution to original (larger) instance by combining these solution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E2F6-0FD3-4FAD-A89B-B2FC66182EB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266480"/>
            <a:ext cx="83059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lect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iv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partitioning element) – here, the first el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arrange the list so that all the elements in the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smaller than or equal to the pivot and all the elements in the remain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-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itions are larger than or equal to the pivot (see next slide for an algorithm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change the pivot with the last element in the first (i.e.,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subarray — the pivot is now in its final posi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rt the two subarrays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1219320" y="3505320"/>
            <a:ext cx="7010280" cy="1443960"/>
            <a:chOff x="1219320" y="3505320"/>
            <a:chExt cx="7010280" cy="1443960"/>
          </a:xfrm>
        </p:grpSpPr>
        <p:grpSp>
          <p:nvGrpSpPr>
            <p:cNvPr id="158" name="Group 5"/>
            <p:cNvGrpSpPr/>
            <p:nvPr/>
          </p:nvGrpSpPr>
          <p:grpSpPr>
            <a:xfrm>
              <a:off x="1219320" y="3505320"/>
              <a:ext cx="7010280" cy="1066680"/>
              <a:chOff x="1219320" y="3505320"/>
              <a:chExt cx="7010280" cy="10666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1219320" y="3505320"/>
                <a:ext cx="7010280" cy="53352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Line 7"/>
              <p:cNvSpPr/>
              <p:nvPr/>
            </p:nvSpPr>
            <p:spPr>
              <a:xfrm>
                <a:off x="15238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Line 8"/>
              <p:cNvSpPr/>
              <p:nvPr/>
            </p:nvSpPr>
            <p:spPr>
              <a:xfrm>
                <a:off x="403848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Line 9"/>
              <p:cNvSpPr/>
              <p:nvPr/>
            </p:nvSpPr>
            <p:spPr>
              <a:xfrm>
                <a:off x="4343400" y="3505320"/>
                <a:ext cx="0" cy="533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1219320" y="3505320"/>
                <a:ext cx="22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1932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AutoShape 11"/>
              <p:cNvSpPr/>
              <p:nvPr/>
            </p:nvSpPr>
            <p:spPr>
              <a:xfrm rot="16200000">
                <a:off x="2666520" y="2971800"/>
                <a:ext cx="457200" cy="274284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71280 h 2742840"/>
                  <a:gd name="textAreaBottom" fmla="*/ 2671560 h 274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AutoShape 12"/>
              <p:cNvSpPr/>
              <p:nvPr/>
            </p:nvSpPr>
            <p:spPr>
              <a:xfrm rot="16200000">
                <a:off x="6095520" y="2438280"/>
                <a:ext cx="457200" cy="3809880"/>
              </a:xfrm>
              <a:custGeom>
                <a:avLst/>
                <a:gdLst>
                  <a:gd name="textAreaLeft" fmla="*/ 292320 w 457200"/>
                  <a:gd name="textAreaRight" fmla="*/ 457560 w 457200"/>
                  <a:gd name="textAreaTop" fmla="*/ 99360 h 3809880"/>
                  <a:gd name="textAreaBottom" fmla="*/ 3710520 h 3809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3"/>
            <p:cNvSpPr/>
            <p:nvPr/>
          </p:nvSpPr>
          <p:spPr>
            <a:xfrm>
              <a:off x="2355480" y="445464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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5752800" y="448956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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F68D-0664-413A-A055-1F9399C92C4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are’s Partitioning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70" name="Picture 8" descr="partition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783-AF1C-49B0-AD8B-003BB4E1337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5   3   1   9   8   2   4   7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EF2C-B175-45C1-B7E5-C9635D05F9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Quick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st case: split in the midd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sorted array! —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random array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provement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better pivot selection: median of three partition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witch to insertion sort on small subfi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limination of recur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se combine to 20-25% improve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nsidered the method of choice for internal sorting of large fil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≥ 10000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78D9-AF13-4061-8933-928AC1ABB24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is a divide-and-conquer ready structure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1: Classic traversals (preorder, inorder, postorder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ef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b           c               b            c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t(roo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        e              d      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nord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                                     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   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4419720" y="3429000"/>
            <a:ext cx="38088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952880" y="3429000"/>
            <a:ext cx="457200" cy="30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 flipH="1">
            <a:off x="5028840" y="3962520"/>
            <a:ext cx="30492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56272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7086600" y="3429000"/>
            <a:ext cx="38088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7620120" y="3429000"/>
            <a:ext cx="53316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662904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6934320" y="3962520"/>
            <a:ext cx="22860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 flipH="1">
            <a:off x="784836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8229600" y="3962520"/>
            <a:ext cx="228600" cy="30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H="1">
            <a:off x="754344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78487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830556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8534520" y="4495680"/>
            <a:ext cx="152280" cy="228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FFA8-E8F5-4DA5-A9B7-38148B3765B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inary Tree Algorith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78487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. 2: Computing the height of a binary tre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7" name="Picture 4" descr="Fig 4"/>
          <p:cNvPicPr/>
          <p:nvPr/>
        </p:nvPicPr>
        <p:blipFill>
          <a:blip r:embed="rId1"/>
          <a:stretch/>
        </p:blipFill>
        <p:spPr>
          <a:xfrm>
            <a:off x="2743200" y="1447920"/>
            <a:ext cx="3657600" cy="2687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685800" y="4648320"/>
            <a:ext cx="71629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} + 1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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-1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C964-CBDD-41F9-900C-55A6CF3226C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ultiplication of Large Integers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ider the problem of multiplying two (large)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 integers represented by arrays of their digits such as: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12345678901357986429   B = 8765432128482091283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grade-school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… … … … … …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e-digit multiplic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2514600" y="3962520"/>
            <a:ext cx="137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685800" y="5486400"/>
            <a:ext cx="31240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7D55-C43D-4376-A02E-14DF2236AAB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irst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mall example: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where A = 2135 and B = 401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= (21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,  B =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, 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(21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14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4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2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) ·10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4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general, if A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B =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where A and B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digit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-digit numbers)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number of one-digit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08E6-4A95-424A-AD65-787F383FED5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econd Divide-and-Conquer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7627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·10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/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is to decrease the number of multiplications from 4 to 3: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)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,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ch requires only 3 multiplications at the expense of (4-1) extra add/sub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currence for the  number of multiplications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3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1.585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A052-AA18-4B9A-A523-3446F4CCCE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Large-Integer Multiplication</a:t>
            </a: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3520" y="1295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135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40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D718-EFDA-427F-8302-6FAADD36DAB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Technique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55627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1219320" y="2362320"/>
            <a:ext cx="2286000" cy="83808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subproblem 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2193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429000" y="541008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the original probl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5562720" y="3657600"/>
            <a:ext cx="2286000" cy="6858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a solution 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Times New Roman"/>
              </a:rPr>
              <a:t>subproblem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666880" y="2057400"/>
            <a:ext cx="144792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4952880" y="2057400"/>
            <a:ext cx="1524240" cy="30492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3429000" y="1295280"/>
            <a:ext cx="2286000" cy="83844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932"/>
                </a:solidFill>
                <a:latin typeface="Times New Roman"/>
              </a:rPr>
              <a:t>a problem of size </a:t>
            </a:r>
            <a:r>
              <a:rPr b="1" i="1" lang="en-US" sz="1800" spc="-1" strike="noStrike">
                <a:solidFill>
                  <a:srgbClr val="001932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6705720" y="32004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6705720" y="43434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2286000" y="4876920"/>
            <a:ext cx="4419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4572000" y="4876920"/>
            <a:ext cx="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EBCE-F660-47C1-A100-F5A9A814966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assen’s Matrix Multi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assen observed [1969] that  the product of two matrices can be computed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          *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A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B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=                  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4                                              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 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 -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+ M</a:t>
            </a:r>
            <a:r>
              <a:rPr b="1" lang="en-US" sz="18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1066680" y="2514600"/>
            <a:ext cx="4800600" cy="1143000"/>
            <a:chOff x="1066680" y="2514600"/>
            <a:chExt cx="4800600" cy="1143000"/>
          </a:xfrm>
        </p:grpSpPr>
        <p:sp>
          <p:nvSpPr>
            <p:cNvPr id="218" name="Line 5"/>
            <p:cNvSpPr/>
            <p:nvPr/>
          </p:nvSpPr>
          <p:spPr>
            <a:xfrm>
              <a:off x="167616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>
              <a:off x="5257440" y="266688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>
              <a:off x="3504960" y="2743200"/>
              <a:ext cx="0" cy="762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>
              <a:off x="121896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4800240" y="3048120"/>
              <a:ext cx="838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3124080" y="3048120"/>
              <a:ext cx="838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>
              <a:off x="1066680" y="2514600"/>
              <a:ext cx="121896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>
              <a:off x="46479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2819160" y="2514600"/>
              <a:ext cx="1219320" cy="1143000"/>
            </a:xfrm>
            <a:prstGeom prst="bracketPair">
              <a:avLst>
                <a:gd name="adj" fmla="val 1712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AutoShape 14"/>
          <p:cNvSpPr/>
          <p:nvPr/>
        </p:nvSpPr>
        <p:spPr>
          <a:xfrm>
            <a:off x="2666880" y="3886200"/>
            <a:ext cx="5410440" cy="11430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E480-99F4-45F0-BBBE-D6ABDFCDB6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ormulas for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(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0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-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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ffff99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3A2-000B-4C63-BFCF-2F16AB10EBA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Strassen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not a power of 2, matrices can be padded with zero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,   M(1) = 1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lution: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7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lang="en-US" sz="2400" spc="-1" strike="noStrike" baseline="14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7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≈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.807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s.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brute-force al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with better asymptotic efficiency are known but the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re even more complex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3F0E-3C98-4096-9A59-275331F0BC5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-Pair Problem by Divide-and-Conquer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Divide the points given into two subset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 vertical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o that half the points lie to the left or on the line and half the points lie to the right or on the lin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37" name="Picture 4" descr="ClosestPair"/>
          <p:cNvPicPr/>
          <p:nvPr/>
        </p:nvPicPr>
        <p:blipFill>
          <a:blip r:embed="rId1"/>
          <a:stretch/>
        </p:blipFill>
        <p:spPr>
          <a:xfrm>
            <a:off x="2560680" y="2568600"/>
            <a:ext cx="37638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46E3-0715-4534-AD7C-06CAC42B98A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Closest Pair by Divide-and-Conquer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recursively the closest pairs for the left and righ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subset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 Se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 can limit our attention to the points in the symmetric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width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s possible closest pair. (Th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points are stored and processed in increasing ord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thei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ordinates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 Scan the points in the vertical stri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rom the lowest up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For every poi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n the strip, inspect points i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in the strip that may be closer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h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There can b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no more than 5 such points followin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the strip list!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D486-F0E2-4F96-AB42-A17B06DF917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Efficiency of the Closest-Pair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unning time of the algorithm is described by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2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 where M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the Master Theorem (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036-56D5-403A-919C-4A46F9DA1C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Quickhull Algorithm 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nvex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mallest convex set that includes given poi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sume points are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ntif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reme point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(leftmost and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pp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cursively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 point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that is farthest away from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e the upper hull of the points to the left of line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max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ut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wer hul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a similar mann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3581280" y="6172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5105520" y="53341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1371600" y="60199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Oval 7"/>
          <p:cNvSpPr/>
          <p:nvPr/>
        </p:nvSpPr>
        <p:spPr>
          <a:xfrm>
            <a:off x="1523880" y="54100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Oval 8"/>
          <p:cNvSpPr/>
          <p:nvPr/>
        </p:nvSpPr>
        <p:spPr>
          <a:xfrm>
            <a:off x="4495680" y="54864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18288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1905120" y="495288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Oval 11"/>
          <p:cNvSpPr/>
          <p:nvPr/>
        </p:nvSpPr>
        <p:spPr>
          <a:xfrm>
            <a:off x="2133720" y="60199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Oval 12"/>
          <p:cNvSpPr/>
          <p:nvPr/>
        </p:nvSpPr>
        <p:spPr>
          <a:xfrm>
            <a:off x="2209680" y="518148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Oval 13"/>
          <p:cNvSpPr/>
          <p:nvPr/>
        </p:nvSpPr>
        <p:spPr>
          <a:xfrm>
            <a:off x="2971800" y="5334120"/>
            <a:ext cx="7632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Oval 14"/>
          <p:cNvSpPr/>
          <p:nvPr/>
        </p:nvSpPr>
        <p:spPr>
          <a:xfrm>
            <a:off x="2590920" y="5791320"/>
            <a:ext cx="75960" cy="7596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Oval 15"/>
          <p:cNvSpPr/>
          <p:nvPr/>
        </p:nvSpPr>
        <p:spPr>
          <a:xfrm>
            <a:off x="2743200" y="50292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3657600" y="5715000"/>
            <a:ext cx="7632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Oval 17"/>
          <p:cNvSpPr/>
          <p:nvPr/>
        </p:nvSpPr>
        <p:spPr>
          <a:xfrm>
            <a:off x="4191120" y="4800600"/>
            <a:ext cx="75960" cy="76320"/>
          </a:xfrm>
          <a:prstGeom prst="ellipse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1371600" y="6095880"/>
            <a:ext cx="2209680" cy="152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9"/>
          <p:cNvSpPr/>
          <p:nvPr/>
        </p:nvSpPr>
        <p:spPr>
          <a:xfrm flipV="1">
            <a:off x="3581280" y="5409720"/>
            <a:ext cx="1524240" cy="838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20"/>
          <p:cNvSpPr/>
          <p:nvPr/>
        </p:nvSpPr>
        <p:spPr>
          <a:xfrm flipH="1" flipV="1">
            <a:off x="4191120" y="4800600"/>
            <a:ext cx="914400" cy="5335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 flipH="1">
            <a:off x="1905120" y="4800600"/>
            <a:ext cx="228600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2"/>
          <p:cNvSpPr/>
          <p:nvPr/>
        </p:nvSpPr>
        <p:spPr>
          <a:xfrm flipH="1">
            <a:off x="1523520" y="5029200"/>
            <a:ext cx="38124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1371600" y="5486040"/>
            <a:ext cx="152280" cy="609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24"/>
          <p:cNvSpPr/>
          <p:nvPr/>
        </p:nvSpPr>
        <p:spPr>
          <a:xfrm flipV="1">
            <a:off x="1371600" y="5333760"/>
            <a:ext cx="3809880" cy="685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25"/>
          <p:cNvSpPr/>
          <p:nvPr/>
        </p:nvSpPr>
        <p:spPr>
          <a:xfrm>
            <a:off x="923040" y="579132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5190120" y="495288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1321200" y="4419720"/>
            <a:ext cx="65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1066680" y="4572000"/>
            <a:ext cx="1067040" cy="205740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Line 29"/>
          <p:cNvSpPr/>
          <p:nvPr/>
        </p:nvSpPr>
        <p:spPr>
          <a:xfrm flipH="1" flipV="1">
            <a:off x="1218960" y="4876560"/>
            <a:ext cx="4800600" cy="60948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8F6C-C78F-4D32-A590-56BF3945FDD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fficiency of Quickhull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ing point farthest away from li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done in linear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worst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 (a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ick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case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under reasonable assumptions abou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distribution of points given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points are not initially sorted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ordinate value, this can be accomplished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for convex hull are 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A12A-1C10-4321-AA70-23CC15D1CE0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vide-and-Conquer Exampl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ing: mergesort and quick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tree traversal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ltiplication of large integ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x multiplication: Strasse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-pair and convex-hull algorithm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inary search: decrease-by-half (or degenerate divide&amp;conq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533520" y="5486400"/>
            <a:ext cx="6629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752-FBF6-4B4D-BFB4-8D3D65F124C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57200" y="228600"/>
            <a:ext cx="758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eneral Divide-and-Conquer Recur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b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d </a:t>
            </a:r>
            <a:r>
              <a:rPr b="1" i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aster Theor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 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l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=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 &gt; b</a:t>
            </a:r>
            <a:r>
              <a:rPr b="1" i="1" lang="en-US" sz="24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log </a:t>
            </a:r>
            <a:r>
              <a:rPr b="1" i="1" lang="en-US" sz="2800" spc="-1" strike="noStrike" baseline="14000">
                <a:solidFill>
                  <a:srgbClr val="ffff99"/>
                </a:solidFill>
                <a:latin typeface="Times New Roman"/>
              </a:rPr>
              <a:t>b </a:t>
            </a:r>
            <a:r>
              <a:rPr b="1" i="1" lang="en-US" sz="3200" spc="-1" strike="noStrike" baseline="30000">
                <a:solidFill>
                  <a:srgbClr val="ffff99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e: The same results hold with O instead of </a:t>
            </a:r>
            <a:r>
              <a:rPr b="1" lang="el-GR" sz="2400" spc="-1" strike="noStrike">
                <a:solidFill>
                  <a:srgbClr val="ffff99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) +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171-B68F-43A1-98D5-BB3478796F2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lit array A[0..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] in two about equal halves and make copies of each half  in arrays B and 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arrays B and C recursivel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rge sorted arrays B and C into array A as follow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until no elements remain in one of the array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first elements in the remaining unprocessed portions of the array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py the smaller of the two into A, while incrementing the index indicating the unprocessed portion of that arra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ce all elements in one of the arrays are processed, copy the remaining unprocessed elements from the other array into A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FE10-0132-4D5A-B9B6-D5B2991D9D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664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4" name="Picture 4" descr="4_1a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0F2-BFED-4BCB-9C34-89031A22B33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40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seudocode of Merg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47" name="Picture 4" descr="4_1b"/>
          <p:cNvPicPr/>
          <p:nvPr/>
        </p:nvPicPr>
        <p:blipFill>
          <a:blip r:embed="rId1"/>
          <a:stretch/>
        </p:blipFill>
        <p:spPr>
          <a:xfrm>
            <a:off x="457200" y="1143000"/>
            <a:ext cx="86868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74B-C57B-402F-BE7C-4AD56EE261B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rgesort 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pic>
        <p:nvPicPr>
          <p:cNvPr id="150" name="Picture 4" descr="Fig 4"/>
          <p:cNvPicPr/>
          <p:nvPr/>
        </p:nvPicPr>
        <p:blipFill>
          <a:blip r:embed="rId1"/>
          <a:stretch/>
        </p:blipFill>
        <p:spPr>
          <a:xfrm>
            <a:off x="2666880" y="1295280"/>
            <a:ext cx="4056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2418-D083-4E2E-BC5A-61C8B8B4FD7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Mergesor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cases have same efficiency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umber of comparisons in the worst case is close to theoretical minimum for comparison-based sorting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≈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1.44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pace requirement: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Θ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 (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in-plac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an be implemented without recursion (bottom-u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6:21Z</dcterms:modified>
  <cp:revision>158</cp:revision>
  <dc:subject/>
  <dc:title>Chapter 4:  Divide-and-Conquer </dc:title>
</cp:coreProperties>
</file>