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8191BD1-E3A1-48AB-8A35-5EA7B4A3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2969-F163-4A58-A73B-36CD3519F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7FD9-CBE2-4D28-AF07-A0CC0B4C6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0CD8-9EA4-4CDD-AEB3-7F6F6BD77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6255-D648-4644-BB31-54A50030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2C3D-D61F-4369-8948-23D0E308F9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4841-F909-4331-AD95-90C24A1B52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E64D5-BCC9-45C4-8E24-E9CD699E0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38F9E-FB69-4FC1-BF5E-5DA6B4D6F4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7AD10-D3F2-4D9C-8E94-017B72BEC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8BC3-26CC-4AF9-B3EB-6DD45B3B1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4056E-C243-4B5A-BE99-160B8311D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E14C-ED63-44F7-9239-0692AC60F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8995-6509-4546-B1EF-3BA9745E0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023A4-008D-4EEB-8C7C-86D6ECD7A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601DF-4919-4A1F-8338-AEBD5432EE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A3DBF-ABDD-4D2F-86EE-18E8A5641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5A70B-9B26-471E-AD2A-DE1719D81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EA8C-BF33-40AE-929C-798428303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FC59-D800-4B53-B2A2-9321942EE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A65D-98AB-4D25-89F3-05F303069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FF18-94C7-4E7D-B778-6F8F9857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EFF9-33BE-4787-9EE2-9F40BBF86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18E8-553C-45DF-85DF-B79865899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FD7A-1EF7-4FDB-9827-2A40172C8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6D53B9FF-DEC2-4419-A7C7-AD96E8391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3A92820F-0C4B-4BEB-8FCF-7FA21D2278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3FFFB4A-E284-4F0C-A3CB-B57A86C0B4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e Probability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8E3FFBD-1A16-4AEC-B849-671C01831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124080" y="2666880"/>
            <a:ext cx="2743200" cy="685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5334120"/>
            <a:ext cx="46483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Value (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x) = (0 x 0.25) + (1 x 0.50) + (2 x 0.25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0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0.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0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FA4843D-22BF-4218-9149-81C8C1218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A82E158C-CCF1-4411-83C6-D069627417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431640" y="4191120"/>
                <a:ext cx="8299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408749F-D7EC-40B0-AB36-D595546799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0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1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23880" y="457200"/>
            <a:ext cx="70455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1981080" y="1981080"/>
            <a:ext cx="1143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5715000" y="2057400"/>
            <a:ext cx="1143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ultiply 23"/>
          <p:cNvSpPr/>
          <p:nvPr/>
        </p:nvSpPr>
        <p:spPr>
          <a:xfrm>
            <a:off x="2819520" y="50292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ultiply 24"/>
          <p:cNvSpPr/>
          <p:nvPr/>
        </p:nvSpPr>
        <p:spPr>
          <a:xfrm>
            <a:off x="3962520" y="57150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ultiply 25"/>
          <p:cNvSpPr/>
          <p:nvPr/>
        </p:nvSpPr>
        <p:spPr>
          <a:xfrm>
            <a:off x="7162920" y="57150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6138C8A4-1A5F-4B96-AD50-B51FBC2C08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Binomial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)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867C33FA-6708-4EEC-AEDB-9EBE573A0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Ex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ectiv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t the contract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 will buy” or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pt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the offer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3F30D3DC-64BB-4FE7-88F9-8489892D42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Rectangle 5"/>
          <p:cNvSpPr/>
          <p:nvPr/>
        </p:nvSpPr>
        <p:spPr>
          <a:xfrm>
            <a:off x="914400" y="4495680"/>
            <a:ext cx="784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combinations of x objects selected from 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828800" y="4906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04920" y="6019920"/>
            <a:ext cx="3276360" cy="337320"/>
          </a:xfrm>
          <a:prstGeom prst="rect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0! = 1  (by defi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943600" y="5410080"/>
            <a:ext cx="2286000" cy="1113840"/>
          </a:xfrm>
          <a:prstGeom prst="rect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does not ma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ABC = CBA  only one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CA3362C-185D-4DBF-990F-4A884CBCF9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2008080" y="168264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981080" y="3505320"/>
            <a:ext cx="5639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3968640" y="228600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159640" y="198756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22320" y="16826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733200" y="228600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406400" y="23018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5058720" y="23018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5665320" y="19875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198840" y="19875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5932440" y="189540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6504120" y="191124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6962760" y="188928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778280" y="168264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426672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33340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5513400" y="229248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3177720" y="198756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476820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6734160" y="188928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C891388-4487-49CB-9AE9-937EC870A1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     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4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5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7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9" name="Rectangle 48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5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FC4FEEF-4D36-42EE-B164-4F3ABC26A6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0"/>
          <p:cNvSpPr/>
          <p:nvPr/>
        </p:nvSpPr>
        <p:spPr>
          <a:xfrm>
            <a:off x="5086440" y="2641680"/>
            <a:ext cx="488880" cy="879480"/>
          </a:xfrm>
          <a:custGeom>
            <a:avLst/>
            <a:gdLst>
              <a:gd name="textAreaLeft" fmla="*/ 0 w 488880"/>
              <a:gd name="textAreaRight" fmla="*/ 489240 w 4888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"/>
          <p:cNvSpPr/>
          <p:nvPr/>
        </p:nvSpPr>
        <p:spPr>
          <a:xfrm>
            <a:off x="5573880" y="3035160"/>
            <a:ext cx="485640" cy="4860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2"/>
          <p:cNvSpPr/>
          <p:nvPr/>
        </p:nvSpPr>
        <p:spPr>
          <a:xfrm>
            <a:off x="6058080" y="3397320"/>
            <a:ext cx="488880" cy="123840"/>
          </a:xfrm>
          <a:custGeom>
            <a:avLst/>
            <a:gdLst>
              <a:gd name="textAreaLeft" fmla="*/ 0 w 488880"/>
              <a:gd name="textAreaRight" fmla="*/ 489240 w 488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3"/>
          <p:cNvSpPr/>
          <p:nvPr/>
        </p:nvSpPr>
        <p:spPr>
          <a:xfrm>
            <a:off x="6545160" y="3489480"/>
            <a:ext cx="488880" cy="31680"/>
          </a:xfrm>
          <a:custGeom>
            <a:avLst/>
            <a:gdLst>
              <a:gd name="textAreaLeft" fmla="*/ 0 w 488880"/>
              <a:gd name="textAreaRight" fmla="*/ 489240 w 488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6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7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9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0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3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4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5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6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8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9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0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1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2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3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4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5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7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8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9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0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1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62"/>
          <p:cNvSpPr/>
          <p:nvPr/>
        </p:nvSpPr>
        <p:spPr>
          <a:xfrm>
            <a:off x="50846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3"/>
          <p:cNvSpPr/>
          <p:nvPr/>
        </p:nvSpPr>
        <p:spPr>
          <a:xfrm>
            <a:off x="5572080" y="5568840"/>
            <a:ext cx="487440" cy="239760"/>
          </a:xfrm>
          <a:custGeom>
            <a:avLst/>
            <a:gdLst>
              <a:gd name="textAreaLeft" fmla="*/ 0 w 487440"/>
              <a:gd name="textAreaRight" fmla="*/ 487800 w 487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4"/>
          <p:cNvSpPr/>
          <p:nvPr/>
        </p:nvSpPr>
        <p:spPr>
          <a:xfrm>
            <a:off x="6058080" y="5334120"/>
            <a:ext cx="488880" cy="474480"/>
          </a:xfrm>
          <a:custGeom>
            <a:avLst/>
            <a:gdLst>
              <a:gd name="textAreaLeft" fmla="*/ 0 w 488880"/>
              <a:gd name="textAreaRight" fmla="*/ 489240 w 488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5"/>
          <p:cNvSpPr/>
          <p:nvPr/>
        </p:nvSpPr>
        <p:spPr>
          <a:xfrm>
            <a:off x="6545160" y="5334120"/>
            <a:ext cx="490680" cy="474480"/>
          </a:xfrm>
          <a:custGeom>
            <a:avLst/>
            <a:gdLst>
              <a:gd name="textAreaLeft" fmla="*/ 0 w 490680"/>
              <a:gd name="textAreaRight" fmla="*/ 491040 w 4906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6"/>
          <p:cNvSpPr/>
          <p:nvPr/>
        </p:nvSpPr>
        <p:spPr>
          <a:xfrm>
            <a:off x="7034040" y="5568840"/>
            <a:ext cx="486000" cy="239760"/>
          </a:xfrm>
          <a:custGeom>
            <a:avLst/>
            <a:gdLst>
              <a:gd name="textAreaLeft" fmla="*/ 0 w 486000"/>
              <a:gd name="textAreaRight" fmla="*/ 486360 w 486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67"/>
          <p:cNvSpPr/>
          <p:nvPr/>
        </p:nvSpPr>
        <p:spPr>
          <a:xfrm>
            <a:off x="75182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9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70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1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2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3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4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5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6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7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8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9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0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2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3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4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5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6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7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8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9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0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1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9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105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8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9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0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84080B3-A840-4FBC-AEBF-F89DB7D287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expected value of a discret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binomial distribution to busines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robabilities for the Poisson and hypergeometric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when to apply discrete probability distribution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cision mak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5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202E15D8-B2C8-41FA-9031-43C807287A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5086440" y="2641680"/>
            <a:ext cx="488880" cy="879480"/>
          </a:xfrm>
          <a:custGeom>
            <a:avLst/>
            <a:gdLst>
              <a:gd name="textAreaLeft" fmla="*/ 0 w 488880"/>
              <a:gd name="textAreaRight" fmla="*/ 489240 w 4888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5573880" y="3035160"/>
            <a:ext cx="485640" cy="4860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2"/>
          <p:cNvSpPr/>
          <p:nvPr/>
        </p:nvSpPr>
        <p:spPr>
          <a:xfrm>
            <a:off x="6058080" y="3397320"/>
            <a:ext cx="488880" cy="123840"/>
          </a:xfrm>
          <a:custGeom>
            <a:avLst/>
            <a:gdLst>
              <a:gd name="textAreaLeft" fmla="*/ 0 w 488880"/>
              <a:gd name="textAreaRight" fmla="*/ 489240 w 488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3"/>
          <p:cNvSpPr/>
          <p:nvPr/>
        </p:nvSpPr>
        <p:spPr>
          <a:xfrm>
            <a:off x="6545160" y="3489480"/>
            <a:ext cx="488880" cy="31680"/>
          </a:xfrm>
          <a:custGeom>
            <a:avLst/>
            <a:gdLst>
              <a:gd name="textAreaLeft" fmla="*/ 0 w 488880"/>
              <a:gd name="textAreaRight" fmla="*/ 489240 w 488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1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3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4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5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8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9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0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2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3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4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9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0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1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42"/>
          <p:cNvSpPr/>
          <p:nvPr/>
        </p:nvSpPr>
        <p:spPr>
          <a:xfrm>
            <a:off x="50846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43"/>
          <p:cNvSpPr/>
          <p:nvPr/>
        </p:nvSpPr>
        <p:spPr>
          <a:xfrm>
            <a:off x="5572080" y="5568840"/>
            <a:ext cx="487440" cy="239760"/>
          </a:xfrm>
          <a:custGeom>
            <a:avLst/>
            <a:gdLst>
              <a:gd name="textAreaLeft" fmla="*/ 0 w 487440"/>
              <a:gd name="textAreaRight" fmla="*/ 487800 w 487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4"/>
          <p:cNvSpPr/>
          <p:nvPr/>
        </p:nvSpPr>
        <p:spPr>
          <a:xfrm>
            <a:off x="6058080" y="5334120"/>
            <a:ext cx="488880" cy="474480"/>
          </a:xfrm>
          <a:custGeom>
            <a:avLst/>
            <a:gdLst>
              <a:gd name="textAreaLeft" fmla="*/ 0 w 488880"/>
              <a:gd name="textAreaRight" fmla="*/ 489240 w 488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5"/>
          <p:cNvSpPr/>
          <p:nvPr/>
        </p:nvSpPr>
        <p:spPr>
          <a:xfrm>
            <a:off x="6545160" y="5334120"/>
            <a:ext cx="490680" cy="474480"/>
          </a:xfrm>
          <a:custGeom>
            <a:avLst/>
            <a:gdLst>
              <a:gd name="textAreaLeft" fmla="*/ 0 w 490680"/>
              <a:gd name="textAreaRight" fmla="*/ 491040 w 4906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6"/>
          <p:cNvSpPr/>
          <p:nvPr/>
        </p:nvSpPr>
        <p:spPr>
          <a:xfrm>
            <a:off x="7034040" y="5568840"/>
            <a:ext cx="486000" cy="239760"/>
          </a:xfrm>
          <a:custGeom>
            <a:avLst/>
            <a:gdLst>
              <a:gd name="textAreaLeft" fmla="*/ 0 w 486000"/>
              <a:gd name="textAreaRight" fmla="*/ 486360 w 486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7"/>
          <p:cNvSpPr/>
          <p:nvPr/>
        </p:nvSpPr>
        <p:spPr>
          <a:xfrm>
            <a:off x="75182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8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9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0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1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2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3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4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5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6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7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8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9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0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1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2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3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4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5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6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7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8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9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0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1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2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78"/>
              <p:cNvSpPr txBox="1"/>
              <p:nvPr/>
            </p:nvSpPr>
            <p:spPr>
              <a:xfrm>
                <a:off x="934920" y="2133720"/>
                <a:ext cx="3113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81"/>
              <p:cNvSpPr txBox="1"/>
              <p:nvPr/>
            </p:nvSpPr>
            <p:spPr>
              <a:xfrm>
                <a:off x="906480" y="2895480"/>
                <a:ext cx="33987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83"/>
              <p:cNvSpPr txBox="1"/>
              <p:nvPr/>
            </p:nvSpPr>
            <p:spPr>
              <a:xfrm>
                <a:off x="934920" y="4419720"/>
                <a:ext cx="3113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84"/>
              <p:cNvSpPr txBox="1"/>
              <p:nvPr/>
            </p:nvSpPr>
            <p:spPr>
              <a:xfrm>
                <a:off x="822240" y="5181480"/>
                <a:ext cx="356868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Line 85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E41396E-A65A-4634-B28E-C3748239CE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8000"/>
          </a:bodyPr>
          <a:p>
            <a:pPr marL="282240" indent="-2822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5% of all voters support Proposition A.  If a random sample of 10 voters is polled, what is the probability that exactly three of them support the pro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2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find P(x = 3)  if  n = 10  and  p = 0.3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034"/>
              <p:cNvSpPr txBox="1"/>
              <p:nvPr/>
            </p:nvSpPr>
            <p:spPr>
              <a:xfrm>
                <a:off x="541440" y="4038480"/>
                <a:ext cx="8130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7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Text Box 1035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re is a 25.22% chance that 3 out of the 10 voters will support Proposi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A7EE22FB-5AB0-40F2-821D-61145BAD27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6"/>
          <p:cNvSpPr/>
          <p:nvPr/>
        </p:nvSpPr>
        <p:spPr>
          <a:xfrm>
            <a:off x="990720" y="5943600"/>
            <a:ext cx="6858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5"/>
          <p:cNvSpPr/>
          <p:nvPr/>
        </p:nvSpPr>
        <p:spPr>
          <a:xfrm>
            <a:off x="990720" y="5486400"/>
            <a:ext cx="6858000" cy="3808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4"/>
          <p:cNvSpPr/>
          <p:nvPr/>
        </p:nvSpPr>
        <p:spPr>
          <a:xfrm>
            <a:off x="990720" y="5029200"/>
            <a:ext cx="7086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0.35, x = 3:       P(x = 3|n =10, p = 0.35) = 0.2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0.75, x = 2:       P(x = 2|n =10, p = 0.75) = 0.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7"/>
          <p:cNvSpPr/>
          <p:nvPr/>
        </p:nvSpPr>
        <p:spPr>
          <a:xfrm>
            <a:off x="1447920" y="2819520"/>
            <a:ext cx="4114800" cy="2286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8"/>
          <p:cNvSpPr/>
          <p:nvPr/>
        </p:nvSpPr>
        <p:spPr>
          <a:xfrm>
            <a:off x="4952880" y="1905120"/>
            <a:ext cx="609840" cy="11430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9"/>
          <p:cNvSpPr/>
          <p:nvPr/>
        </p:nvSpPr>
        <p:spPr>
          <a:xfrm>
            <a:off x="4952880" y="2819520"/>
            <a:ext cx="609840" cy="22860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0"/>
          <p:cNvSpPr/>
          <p:nvPr/>
        </p:nvSpPr>
        <p:spPr>
          <a:xfrm>
            <a:off x="3505320" y="3886200"/>
            <a:ext cx="48006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1"/>
          <p:cNvSpPr/>
          <p:nvPr/>
        </p:nvSpPr>
        <p:spPr>
          <a:xfrm flipV="1">
            <a:off x="3505320" y="3962520"/>
            <a:ext cx="60948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2"/>
          <p:cNvSpPr/>
          <p:nvPr/>
        </p:nvSpPr>
        <p:spPr>
          <a:xfrm flipV="1">
            <a:off x="3505320" y="3885480"/>
            <a:ext cx="609480" cy="25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Binomial Tab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295280" y="1600200"/>
          <a:ext cx="7162920" cy="3378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14523C6-D269-4E08-B39A-171B2B567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:   Add-Ins /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5-23"/>
          <p:cNvPicPr/>
          <p:nvPr/>
        </p:nvPicPr>
        <p:blipFill>
          <a:blip r:embed="rId1"/>
          <a:stretch/>
        </p:blipFill>
        <p:spPr>
          <a:xfrm>
            <a:off x="1676520" y="2209680"/>
            <a:ext cx="5848200" cy="4295880"/>
          </a:xfrm>
          <a:prstGeom prst="rect">
            <a:avLst/>
          </a:prstGeom>
          <a:ln w="0">
            <a:noFill/>
          </a:ln>
        </p:spPr>
      </p:pic>
      <p:sp>
        <p:nvSpPr>
          <p:cNvPr id="472" name="Oval 6"/>
          <p:cNvSpPr/>
          <p:nvPr/>
        </p:nvSpPr>
        <p:spPr>
          <a:xfrm>
            <a:off x="6400800" y="24382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828800" y="26668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1905120" y="3581280"/>
            <a:ext cx="2209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9"/>
          <p:cNvSpPr/>
          <p:nvPr/>
        </p:nvSpPr>
        <p:spPr>
          <a:xfrm>
            <a:off x="4114800" y="4267080"/>
            <a:ext cx="8380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89B879E-0D66-4434-9D68-7DE5C45E8C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5-24"/>
          <p:cNvPicPr/>
          <p:nvPr/>
        </p:nvPicPr>
        <p:blipFill>
          <a:blip r:embed="rId1"/>
          <a:stretch/>
        </p:blipFill>
        <p:spPr>
          <a:xfrm>
            <a:off x="4724280" y="2206800"/>
            <a:ext cx="3934080" cy="37368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10000"/>
          </a:bodyPr>
          <a:p>
            <a:pPr marL="32040" indent="-3204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 = 0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7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8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9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0"/>
          <p:cNvSpPr/>
          <p:nvPr/>
        </p:nvSpPr>
        <p:spPr>
          <a:xfrm flipV="1">
            <a:off x="3962520" y="4876560"/>
            <a:ext cx="12952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06020EF-785B-443A-A10B-D0E1D3A005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5-25"/>
          <p:cNvPicPr/>
          <p:nvPr/>
        </p:nvPicPr>
        <p:blipFill>
          <a:blip r:embed="rId1"/>
          <a:stretch/>
        </p:blipFill>
        <p:spPr>
          <a:xfrm>
            <a:off x="1828800" y="1523880"/>
            <a:ext cx="5657760" cy="47530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6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35)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2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35)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09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"/>
          <p:cNvSpPr/>
          <p:nvPr/>
        </p:nvSpPr>
        <p:spPr>
          <a:xfrm flipH="1">
            <a:off x="4648320" y="3276720"/>
            <a:ext cx="30456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"/>
          <p:cNvSpPr/>
          <p:nvPr/>
        </p:nvSpPr>
        <p:spPr>
          <a:xfrm flipV="1">
            <a:off x="5105520" y="4800240"/>
            <a:ext cx="83808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4114800" y="4267080"/>
            <a:ext cx="6094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23BDD10F-624E-4C8F-8614-86BF56329D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Poisson Distribu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outcomes of interest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r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relative to the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average number of outcomes of interes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time or space interval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number of outcomes of interest are random, and the occurrence of one outcome does not influence the chances of another outcom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probability that an outcome of interest occurs in a given segment is the same for al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.g. the number of customers per hour or the number of bags lost per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D3F3BB3A-FB33-46B1-810D-72AF781390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5"/>
              <p:cNvSpPr txBox="1"/>
              <p:nvPr/>
            </p:nvSpPr>
            <p:spPr>
              <a:xfrm>
                <a:off x="4038480" y="2133720"/>
                <a:ext cx="1271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6"/>
              <p:cNvSpPr txBox="1"/>
              <p:nvPr/>
            </p:nvSpPr>
            <p:spPr>
              <a:xfrm>
                <a:off x="3968640" y="3692520"/>
                <a:ext cx="1382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3968640" y="4454640"/>
                <a:ext cx="1525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λ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Rectangle 8"/>
          <p:cNvSpPr/>
          <p:nvPr/>
        </p:nvSpPr>
        <p:spPr>
          <a:xfrm>
            <a:off x="106668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number of successes in a segment of unit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= the size of the segment of inter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20A4D0B1-EABD-4281-B8A7-6372E61F9C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raph of Poisson Probabili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1" name="Object 4"/>
          <p:cNvGraphicFramePr/>
          <p:nvPr/>
        </p:nvGraphicFramePr>
        <p:xfrm>
          <a:off x="2895480" y="1676520"/>
          <a:ext cx="58960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58960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09480" y="2895480"/>
          <a:ext cx="2057400" cy="3365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Line 60"/>
          <p:cNvSpPr/>
          <p:nvPr/>
        </p:nvSpPr>
        <p:spPr>
          <a:xfrm>
            <a:off x="3124080" y="44956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1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2"/>
          <p:cNvSpPr/>
          <p:nvPr/>
        </p:nvSpPr>
        <p:spPr>
          <a:xfrm>
            <a:off x="838080" y="4267080"/>
            <a:ext cx="1752840" cy="38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3"/>
          <p:cNvSpPr/>
          <p:nvPr/>
        </p:nvSpPr>
        <p:spPr>
          <a:xfrm>
            <a:off x="4114800" y="5638680"/>
            <a:ext cx="274320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= 2) = 0.07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4"/>
          <p:cNvSpPr/>
          <p:nvPr/>
        </p:nvSpPr>
        <p:spPr>
          <a:xfrm flipV="1">
            <a:off x="525780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5"/>
          <p:cNvSpPr/>
          <p:nvPr/>
        </p:nvSpPr>
        <p:spPr>
          <a:xfrm>
            <a:off x="6094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6"/>
          <p:cNvSpPr/>
          <p:nvPr/>
        </p:nvSpPr>
        <p:spPr>
          <a:xfrm>
            <a:off x="380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05  and  t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06AB8EE-F2D0-46BF-AA93-ABA323C6BD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Shap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oisson Distribution depends on the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4"/>
          <p:cNvGraphicFramePr/>
          <p:nvPr/>
        </p:nvGraphicFramePr>
        <p:xfrm>
          <a:off x="4572000" y="3303720"/>
          <a:ext cx="441972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03720"/>
                    <a:ext cx="441972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228600" y="3301920"/>
          <a:ext cx="419112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01920"/>
                    <a:ext cx="41911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8"/>
          <p:cNvSpPr/>
          <p:nvPr/>
        </p:nvSpPr>
        <p:spPr>
          <a:xfrm>
            <a:off x="16002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0.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6248520" y="2971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3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8BD7E301-BF72-4329-A65B-6FCDECCB73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1322280" y="3005280"/>
            <a:ext cx="7920" cy="1440"/>
          </a:xfrm>
          <a:custGeom>
            <a:avLst/>
            <a:gdLst>
              <a:gd name="textAreaLeft" fmla="*/ 0 w 7920"/>
              <a:gd name="textAreaRight" fmla="*/ 8280 w 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ndom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1" name="Picture 15" descr="BS00590_[1]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BS00590_[1]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BS00590_[1]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BS00590_[1]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9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Value    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0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0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0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4800600" y="5146560"/>
            <a:ext cx="6094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8CD93542-D5F7-4A15-AA30-C55F3A6A1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143000" y="3809880"/>
            <a:ext cx="73915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 = size of the segment of interes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 = number of successes in segment of intere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expected number of successes in a segment of unit si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= base of the natural logarithm system (2.71828...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2644920" y="1981080"/>
                <a:ext cx="3703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DAAA8E76-5E66-4CE4-9110-083F6FFDD9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447920" y="2819520"/>
            <a:ext cx="4114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 flipV="1">
            <a:off x="4952880" y="2056680"/>
            <a:ext cx="60984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 flipV="1">
            <a:off x="4952880" y="2819520"/>
            <a:ext cx="60984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990720" y="4648320"/>
            <a:ext cx="6476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oisson Tab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295280" y="1752480"/>
          <a:ext cx="7162920" cy="245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59"/>
          <p:cNvSpPr/>
          <p:nvPr/>
        </p:nvSpPr>
        <p:spPr>
          <a:xfrm>
            <a:off x="99072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Find P(x = 2)  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  and  t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0"/>
              <p:cNvSpPr txBox="1"/>
              <p:nvPr/>
            </p:nvSpPr>
            <p:spPr>
              <a:xfrm>
                <a:off x="1619280" y="5181480"/>
                <a:ext cx="6302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F22597B-C8A6-4FD9-971E-E9D0C96D26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7440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” trials in a sample taken from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te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ake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changes from trial to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with finding the probability of “x” successes in the sample where there are “X” successes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DF49A45C-1F42-489F-8C9F-FA3909269C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1031"/>
              <p:cNvSpPr txBox="1"/>
              <p:nvPr/>
            </p:nvSpPr>
            <p:spPr>
              <a:xfrm>
                <a:off x="2309760" y="2286000"/>
                <a:ext cx="41436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Text Box 1033"/>
          <p:cNvSpPr/>
          <p:nvPr/>
        </p:nvSpPr>
        <p:spPr>
          <a:xfrm>
            <a:off x="502920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34"/>
          <p:cNvSpPr/>
          <p:nvPr/>
        </p:nvSpPr>
        <p:spPr>
          <a:xfrm>
            <a:off x="1219320" y="4114800"/>
            <a:ext cx="73152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x = number of failur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35"/>
          <p:cNvSpPr/>
          <p:nvPr/>
        </p:nvSpPr>
        <p:spPr>
          <a:xfrm>
            <a:off x="1371600" y="17524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possible outcomes per trial: success or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FF7107F-7C4C-49B5-8184-F5BB3977E9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33"/>
          <p:cNvSpPr/>
          <p:nvPr/>
        </p:nvSpPr>
        <p:spPr>
          <a:xfrm>
            <a:off x="3200400" y="3124080"/>
            <a:ext cx="380988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030"/>
              <p:cNvSpPr txBox="1"/>
              <p:nvPr/>
            </p:nvSpPr>
            <p:spPr>
              <a:xfrm>
                <a:off x="1062000" y="4495680"/>
                <a:ext cx="7323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buClr>
                <a:srgbClr val="3333cc"/>
              </a:buClr>
              <a:buSzPct val="60000"/>
              <a:buFont typeface="Arial"/>
              <a:buChar char="■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Light bulbs were selected from 10. Of the 10 there were 4 defective. What is the probability that 2 of the 3 selected are de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29B2D65-A471-42D9-8393-3F9271D5D6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: Add-Ins / PHStat / Probability &amp; Prob. Distributions / Hypergeometric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30" descr="5-37"/>
          <p:cNvPicPr/>
          <p:nvPr/>
        </p:nvPicPr>
        <p:blipFill>
          <a:blip r:embed="rId1"/>
          <a:stretch/>
        </p:blipFill>
        <p:spPr>
          <a:xfrm>
            <a:off x="2971800" y="2209680"/>
            <a:ext cx="5676840" cy="4238640"/>
          </a:xfrm>
          <a:prstGeom prst="rect">
            <a:avLst/>
          </a:prstGeom>
          <a:ln w="0">
            <a:noFill/>
          </a:ln>
        </p:spPr>
      </p:pic>
      <p:sp>
        <p:nvSpPr>
          <p:cNvPr id="568" name="Oval 1031"/>
          <p:cNvSpPr/>
          <p:nvPr/>
        </p:nvSpPr>
        <p:spPr>
          <a:xfrm>
            <a:off x="7696080" y="24382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32"/>
          <p:cNvSpPr/>
          <p:nvPr/>
        </p:nvSpPr>
        <p:spPr>
          <a:xfrm>
            <a:off x="3124080" y="26668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33"/>
          <p:cNvSpPr/>
          <p:nvPr/>
        </p:nvSpPr>
        <p:spPr>
          <a:xfrm>
            <a:off x="3200400" y="3581280"/>
            <a:ext cx="2209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34"/>
          <p:cNvSpPr/>
          <p:nvPr/>
        </p:nvSpPr>
        <p:spPr>
          <a:xfrm>
            <a:off x="5410080" y="4648320"/>
            <a:ext cx="12193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2A637DE4-A1F6-476A-8ECB-F77D9AF4B3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6" descr="5-38b"/>
          <p:cNvPicPr/>
          <p:nvPr/>
        </p:nvPicPr>
        <p:blipFill>
          <a:blip r:embed="rId1"/>
          <a:stretch/>
        </p:blipFill>
        <p:spPr>
          <a:xfrm>
            <a:off x="4149720" y="2124000"/>
            <a:ext cx="3546360" cy="42004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4"/>
          <p:cNvSpPr/>
          <p:nvPr/>
        </p:nvSpPr>
        <p:spPr>
          <a:xfrm>
            <a:off x="533520" y="2438280"/>
            <a:ext cx="2438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8"/>
          <p:cNvSpPr/>
          <p:nvPr/>
        </p:nvSpPr>
        <p:spPr>
          <a:xfrm>
            <a:off x="6400800" y="5791320"/>
            <a:ext cx="129528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152280" y="24382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335268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60199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5" descr="5-38a"/>
          <p:cNvPicPr/>
          <p:nvPr/>
        </p:nvPicPr>
        <p:blipFill>
          <a:blip r:embed="rId2"/>
          <a:stretch/>
        </p:blipFill>
        <p:spPr>
          <a:xfrm>
            <a:off x="304920" y="3276720"/>
            <a:ext cx="29718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CF02AD05-0143-4C80-BDA9-A12B6118A6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formula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21D9B6F-0EC8-47E2-B56B-AB907A53B7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copyright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762120" y="457308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41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ndom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value of a variable is the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come of a statistical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variabl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variable X represent the number of Heads that result from the previ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riable X can take on the values 0, 1, or 2. In this previous example, X is a random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a table or an equation that links each outcome of a statistical experiment with its probability of occur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the previou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EC44CFF9-F784-46B7-9D4A-45032DFD25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refers to the probability that the value of a random variable falls within a specified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probability distribution,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presented by a table or an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69206ED0-1AF3-417E-A34F-495496F527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EC674732-4400-4D7A-8A24-AA264744B5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828800"/>
          <a:ext cx="8763120" cy="426888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944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ads: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: P(X = 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Proba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 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6CAEE3C9-1A96-4051-8E54-6E6C1BC1E2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coun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869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BA9D098-A71A-4D3E-9F23-E65F750C0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tinuous Random Variab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measur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34807D5F-B176-40AF-859E-1580622C15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 random variable is a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iscrete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s probability distribution is called a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3276720"/>
          <a:ext cx="7848720" cy="243828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614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a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7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2"/>
          <p:cNvCxnSpPr/>
          <p:nvPr/>
        </p:nvCxnSpPr>
        <p:spPr>
          <a:xfrm flipH="1">
            <a:off x="2742840" y="2056320"/>
            <a:ext cx="3734640" cy="21344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Straight Arrow Connector 13"/>
          <p:cNvCxnSpPr/>
          <p:nvPr/>
        </p:nvCxnSpPr>
        <p:spPr>
          <a:xfrm flipH="1">
            <a:off x="2818800" y="2057400"/>
            <a:ext cx="3734280" cy="27439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Straight Arrow Connector 14"/>
          <p:cNvCxnSpPr/>
          <p:nvPr/>
        </p:nvCxnSpPr>
        <p:spPr>
          <a:xfrm flipH="1">
            <a:off x="2818800" y="2056320"/>
            <a:ext cx="3810600" cy="33534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5T12:33:08Z</dcterms:modified>
  <cp:revision>103</cp:revision>
  <dc:subject>Chapter 5</dc:subject>
  <dc:title>Business Statistics: A Decision-Making Approach, 7th edition</dc:title>
</cp:coreProperties>
</file>