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7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8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C902FAD8-6A0F-44E8-A7AF-28250941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BFF0-6741-45DA-ADCC-2FC95625C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6927-83AF-4237-A696-AD2967282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C00F-05E5-4C15-B166-C927B1075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FA10-75E6-450A-8908-A99387162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FE2B-7AFF-4D05-8177-A6B342C61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18F5C-156B-477E-B50A-2845853D21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8A796-05D5-4B5A-9602-0B8FCF89C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B84FB-02AB-4A10-BC68-9431ED3705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98701-DAE2-448C-8B3E-E13AB79CD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E77F7-8FB8-4045-8E35-210D61E387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22B5-E502-43F2-B3A2-F6FDCD839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7F86-A94C-4210-894B-566C811F8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1BBDB-2749-4775-A957-8254DA9D4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3331C-4827-4740-900F-D804B10A18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BFE3-480F-479C-96EF-D04F5CDD00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179FB-9316-4DA4-B8EC-D482BE0FE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5699-A342-418B-B03E-ED5DF06013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848B-B346-46EA-A05D-C05FDAF8C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4C46-65F0-44E9-A755-184C7B0A8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B56B-EAA4-402A-834D-E6E1F7F57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D55A-8B94-427C-BEE5-44ED15F9D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F166-8D57-4994-AEFD-32EA30F5C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C211-B193-4668-841A-629F96981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11D5-F520-4BDF-80AF-B58805916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1A837C6-BA28-4A16-9806-AD6A1A3AD6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099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89CF8CCE-5D30-4C55-865D-21DDF38B8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010280" y="653724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DA18CE1-9E4F-4EE8-BAFA-5B06F04B45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e Probability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4FA85A0-8DD8-4726-A998-221C5121C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124080" y="2666880"/>
            <a:ext cx="2743200" cy="685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5334120"/>
            <a:ext cx="46483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pected Value (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(x)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 = # of he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x) = (0 x 0.25) + (1 x 0.50) + (2 x 0.25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0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0.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0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D0747D2-6493-42DE-817F-E5D0C2F49A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x) = Expected value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Values of th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= Probability of the random variable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133720" y="2514600"/>
                <a:ext cx="4906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B64E7BC1-599A-4303-947D-C62DBCC443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"/>
          <p:cNvSpPr/>
          <p:nvPr/>
        </p:nvSpPr>
        <p:spPr>
          <a:xfrm flipH="1" flipV="1">
            <a:off x="1676520" y="4647960"/>
            <a:ext cx="175248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 flipV="1">
            <a:off x="3505320" y="4647960"/>
            <a:ext cx="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3657600" y="4647960"/>
            <a:ext cx="1447920" cy="6858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358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x = # hea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tandard deviation (recall E(x)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981080" y="2971800"/>
                <a:ext cx="49071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431640" y="4191120"/>
                <a:ext cx="8299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429000" y="5257800"/>
            <a:ext cx="2819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number of heads = 0, 1, o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CE2D862-83FA-419D-8089-7055016AB4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0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1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23880" y="457200"/>
            <a:ext cx="704556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1981080" y="1981080"/>
            <a:ext cx="1143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5715000" y="2057400"/>
            <a:ext cx="1143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ultiply 23"/>
          <p:cNvSpPr/>
          <p:nvPr/>
        </p:nvSpPr>
        <p:spPr>
          <a:xfrm>
            <a:off x="2819520" y="50292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ultiply 24"/>
          <p:cNvSpPr/>
          <p:nvPr/>
        </p:nvSpPr>
        <p:spPr>
          <a:xfrm>
            <a:off x="3962520" y="57150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ultiply 25"/>
          <p:cNvSpPr/>
          <p:nvPr/>
        </p:nvSpPr>
        <p:spPr>
          <a:xfrm>
            <a:off x="7162920" y="5715000"/>
            <a:ext cx="838080" cy="533520"/>
          </a:xfrm>
          <a:custGeom>
            <a:avLst/>
            <a:gdLst/>
            <a:ahLst/>
            <a:rect l="l" t="t" r="r" b="b"/>
            <a:pathLst>
              <a:path w="838200" h="533400">
                <a:moveTo>
                  <a:pt x="167638" y="181030"/>
                </a:moveTo>
                <a:lnTo>
                  <a:pt x="234992" y="75188"/>
                </a:lnTo>
                <a:lnTo>
                  <a:pt x="419100" y="192348"/>
                </a:lnTo>
                <a:lnTo>
                  <a:pt x="603208" y="75188"/>
                </a:lnTo>
                <a:lnTo>
                  <a:pt x="670562" y="181030"/>
                </a:lnTo>
                <a:lnTo>
                  <a:pt x="535939" y="266700"/>
                </a:lnTo>
                <a:lnTo>
                  <a:pt x="670562" y="352370"/>
                </a:lnTo>
                <a:lnTo>
                  <a:pt x="603208" y="458212"/>
                </a:lnTo>
                <a:lnTo>
                  <a:pt x="419100" y="341052"/>
                </a:lnTo>
                <a:lnTo>
                  <a:pt x="234992" y="458212"/>
                </a:lnTo>
                <a:lnTo>
                  <a:pt x="167638" y="352370"/>
                </a:lnTo>
                <a:lnTo>
                  <a:pt x="302261" y="266700"/>
                </a:lnTo>
                <a:lnTo>
                  <a:pt x="167638" y="18103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2E34A67C-9677-41A2-872B-DD71F0CA3D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Binomial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)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5B1A4C69-C642-400C-9005-193B87298A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Examp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ective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t the contract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 will buy” or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pt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the offer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ject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1386335-F172-4E84-A592-8D2AD5CAA3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Rectangle 5"/>
          <p:cNvSpPr/>
          <p:nvPr/>
        </p:nvSpPr>
        <p:spPr>
          <a:xfrm>
            <a:off x="914400" y="4495680"/>
            <a:ext cx="784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combinations of x objects selected from 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828800" y="4906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04920" y="6019920"/>
            <a:ext cx="3276360" cy="337320"/>
          </a:xfrm>
          <a:prstGeom prst="rect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0! = 1  (by defi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943600" y="5410080"/>
            <a:ext cx="2286000" cy="1113840"/>
          </a:xfrm>
          <a:prstGeom prst="rect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does not ma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ABC = CBA  only one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B1B55A7-6450-4EAF-9C3F-192E5C1764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2008080" y="168264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981080" y="3505320"/>
            <a:ext cx="5639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3968640" y="228600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2159640" y="198756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22320" y="16826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733200" y="228600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406400" y="23018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5058720" y="23018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5665320" y="19875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198840" y="19875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5932440" y="189540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6504120" y="191124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6962760" y="188928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778280" y="168264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426672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533340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5513400" y="229248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3177720" y="198756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4768200" y="2286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6734160" y="188928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3943B85B-3C07-4E32-8D35-0C4929612C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     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4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5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7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9" name="Rectangle 48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5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7E2C99F-6D73-4D72-83DC-6DA5AA1914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0"/>
          <p:cNvSpPr/>
          <p:nvPr/>
        </p:nvSpPr>
        <p:spPr>
          <a:xfrm>
            <a:off x="5086440" y="2641680"/>
            <a:ext cx="488880" cy="879480"/>
          </a:xfrm>
          <a:custGeom>
            <a:avLst/>
            <a:gdLst>
              <a:gd name="textAreaLeft" fmla="*/ 0 w 488880"/>
              <a:gd name="textAreaRight" fmla="*/ 489240 w 4888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1"/>
          <p:cNvSpPr/>
          <p:nvPr/>
        </p:nvSpPr>
        <p:spPr>
          <a:xfrm>
            <a:off x="5573880" y="3035160"/>
            <a:ext cx="485640" cy="4860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2"/>
          <p:cNvSpPr/>
          <p:nvPr/>
        </p:nvSpPr>
        <p:spPr>
          <a:xfrm>
            <a:off x="6058080" y="3397320"/>
            <a:ext cx="488880" cy="123840"/>
          </a:xfrm>
          <a:custGeom>
            <a:avLst/>
            <a:gdLst>
              <a:gd name="textAreaLeft" fmla="*/ 0 w 488880"/>
              <a:gd name="textAreaRight" fmla="*/ 489240 w 488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3"/>
          <p:cNvSpPr/>
          <p:nvPr/>
        </p:nvSpPr>
        <p:spPr>
          <a:xfrm>
            <a:off x="6545160" y="3489480"/>
            <a:ext cx="488880" cy="31680"/>
          </a:xfrm>
          <a:custGeom>
            <a:avLst/>
            <a:gdLst>
              <a:gd name="textAreaLeft" fmla="*/ 0 w 488880"/>
              <a:gd name="textAreaRight" fmla="*/ 489240 w 488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6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7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9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0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2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3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4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5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6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8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9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0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1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2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3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4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5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7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8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9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0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1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62"/>
          <p:cNvSpPr/>
          <p:nvPr/>
        </p:nvSpPr>
        <p:spPr>
          <a:xfrm>
            <a:off x="50846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63"/>
          <p:cNvSpPr/>
          <p:nvPr/>
        </p:nvSpPr>
        <p:spPr>
          <a:xfrm>
            <a:off x="5572080" y="5568840"/>
            <a:ext cx="487440" cy="239760"/>
          </a:xfrm>
          <a:custGeom>
            <a:avLst/>
            <a:gdLst>
              <a:gd name="textAreaLeft" fmla="*/ 0 w 487440"/>
              <a:gd name="textAreaRight" fmla="*/ 487800 w 487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64"/>
          <p:cNvSpPr/>
          <p:nvPr/>
        </p:nvSpPr>
        <p:spPr>
          <a:xfrm>
            <a:off x="6058080" y="5334120"/>
            <a:ext cx="488880" cy="474480"/>
          </a:xfrm>
          <a:custGeom>
            <a:avLst/>
            <a:gdLst>
              <a:gd name="textAreaLeft" fmla="*/ 0 w 488880"/>
              <a:gd name="textAreaRight" fmla="*/ 489240 w 488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65"/>
          <p:cNvSpPr/>
          <p:nvPr/>
        </p:nvSpPr>
        <p:spPr>
          <a:xfrm>
            <a:off x="6545160" y="5334120"/>
            <a:ext cx="490680" cy="474480"/>
          </a:xfrm>
          <a:custGeom>
            <a:avLst/>
            <a:gdLst>
              <a:gd name="textAreaLeft" fmla="*/ 0 w 490680"/>
              <a:gd name="textAreaRight" fmla="*/ 491040 w 4906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66"/>
          <p:cNvSpPr/>
          <p:nvPr/>
        </p:nvSpPr>
        <p:spPr>
          <a:xfrm>
            <a:off x="7034040" y="5568840"/>
            <a:ext cx="486000" cy="239760"/>
          </a:xfrm>
          <a:custGeom>
            <a:avLst/>
            <a:gdLst>
              <a:gd name="textAreaLeft" fmla="*/ 0 w 486000"/>
              <a:gd name="textAreaRight" fmla="*/ 486360 w 486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67"/>
          <p:cNvSpPr/>
          <p:nvPr/>
        </p:nvSpPr>
        <p:spPr>
          <a:xfrm>
            <a:off x="75182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9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70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1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2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3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4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5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6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7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8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9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0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2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3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4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5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6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7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8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9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0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1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9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105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8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9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0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E20F3F3-5DE8-40EF-9772-F64C457298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the expected value of a discret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binomial distribution to busines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robabilities for the Poisson and hypergeometric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when to apply discrete probability distribution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cision mak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5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1B7EA70-0D06-4E11-BBB0-2E97FB27DA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5086440" y="2641680"/>
            <a:ext cx="488880" cy="879480"/>
          </a:xfrm>
          <a:custGeom>
            <a:avLst/>
            <a:gdLst>
              <a:gd name="textAreaLeft" fmla="*/ 0 w 488880"/>
              <a:gd name="textAreaRight" fmla="*/ 489240 w 48888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5573880" y="3035160"/>
            <a:ext cx="485640" cy="486000"/>
          </a:xfrm>
          <a:custGeom>
            <a:avLst/>
            <a:gdLst>
              <a:gd name="textAreaLeft" fmla="*/ 0 w 485640"/>
              <a:gd name="textAreaRight" fmla="*/ 486000 w 485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2"/>
          <p:cNvSpPr/>
          <p:nvPr/>
        </p:nvSpPr>
        <p:spPr>
          <a:xfrm>
            <a:off x="6058080" y="3397320"/>
            <a:ext cx="488880" cy="123840"/>
          </a:xfrm>
          <a:custGeom>
            <a:avLst/>
            <a:gdLst>
              <a:gd name="textAreaLeft" fmla="*/ 0 w 488880"/>
              <a:gd name="textAreaRight" fmla="*/ 489240 w 4888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3"/>
          <p:cNvSpPr/>
          <p:nvPr/>
        </p:nvSpPr>
        <p:spPr>
          <a:xfrm>
            <a:off x="6545160" y="3489480"/>
            <a:ext cx="488880" cy="31680"/>
          </a:xfrm>
          <a:custGeom>
            <a:avLst/>
            <a:gdLst>
              <a:gd name="textAreaLeft" fmla="*/ 0 w 488880"/>
              <a:gd name="textAreaRight" fmla="*/ 489240 w 488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1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3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4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5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8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9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0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2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3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4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8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9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0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1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42"/>
          <p:cNvSpPr/>
          <p:nvPr/>
        </p:nvSpPr>
        <p:spPr>
          <a:xfrm>
            <a:off x="50846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43"/>
          <p:cNvSpPr/>
          <p:nvPr/>
        </p:nvSpPr>
        <p:spPr>
          <a:xfrm>
            <a:off x="5572080" y="5568840"/>
            <a:ext cx="487440" cy="239760"/>
          </a:xfrm>
          <a:custGeom>
            <a:avLst/>
            <a:gdLst>
              <a:gd name="textAreaLeft" fmla="*/ 0 w 487440"/>
              <a:gd name="textAreaRight" fmla="*/ 487800 w 487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4"/>
          <p:cNvSpPr/>
          <p:nvPr/>
        </p:nvSpPr>
        <p:spPr>
          <a:xfrm>
            <a:off x="6058080" y="5334120"/>
            <a:ext cx="488880" cy="474480"/>
          </a:xfrm>
          <a:custGeom>
            <a:avLst/>
            <a:gdLst>
              <a:gd name="textAreaLeft" fmla="*/ 0 w 488880"/>
              <a:gd name="textAreaRight" fmla="*/ 489240 w 488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5"/>
          <p:cNvSpPr/>
          <p:nvPr/>
        </p:nvSpPr>
        <p:spPr>
          <a:xfrm>
            <a:off x="6545160" y="5334120"/>
            <a:ext cx="490680" cy="474480"/>
          </a:xfrm>
          <a:custGeom>
            <a:avLst/>
            <a:gdLst>
              <a:gd name="textAreaLeft" fmla="*/ 0 w 490680"/>
              <a:gd name="textAreaRight" fmla="*/ 491040 w 4906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6"/>
          <p:cNvSpPr/>
          <p:nvPr/>
        </p:nvSpPr>
        <p:spPr>
          <a:xfrm>
            <a:off x="7034040" y="5568840"/>
            <a:ext cx="486000" cy="239760"/>
          </a:xfrm>
          <a:custGeom>
            <a:avLst/>
            <a:gdLst>
              <a:gd name="textAreaLeft" fmla="*/ 0 w 486000"/>
              <a:gd name="textAreaRight" fmla="*/ 486360 w 4860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7"/>
          <p:cNvSpPr/>
          <p:nvPr/>
        </p:nvSpPr>
        <p:spPr>
          <a:xfrm>
            <a:off x="7518240" y="5761080"/>
            <a:ext cx="489240" cy="47520"/>
          </a:xfrm>
          <a:custGeom>
            <a:avLst/>
            <a:gdLst>
              <a:gd name="textAreaLeft" fmla="*/ 0 w 489240"/>
              <a:gd name="textAreaRight" fmla="*/ 489600 w 489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8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9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0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1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52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53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4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5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6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7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8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9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0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1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2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3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4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5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6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7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8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9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0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1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2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78"/>
              <p:cNvSpPr txBox="1"/>
              <p:nvPr/>
            </p:nvSpPr>
            <p:spPr>
              <a:xfrm>
                <a:off x="934920" y="2133720"/>
                <a:ext cx="3113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81"/>
              <p:cNvSpPr txBox="1"/>
              <p:nvPr/>
            </p:nvSpPr>
            <p:spPr>
              <a:xfrm>
                <a:off x="906480" y="2895480"/>
                <a:ext cx="33987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83"/>
              <p:cNvSpPr txBox="1"/>
              <p:nvPr/>
            </p:nvSpPr>
            <p:spPr>
              <a:xfrm>
                <a:off x="934920" y="4419720"/>
                <a:ext cx="3113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84"/>
              <p:cNvSpPr txBox="1"/>
              <p:nvPr/>
            </p:nvSpPr>
            <p:spPr>
              <a:xfrm>
                <a:off x="822240" y="5181480"/>
                <a:ext cx="356868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Line 85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D9033EE2-248D-4787-89FA-92DBE8459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Binomial Distributio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8000"/>
          </a:bodyPr>
          <a:p>
            <a:pPr marL="282240" indent="-2822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5% of all voters support Proposition A.  If a random sample of 10 voters is polled, what is the probability that exactly three of them support the pro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2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find P(x = 3)  if  n = 10  and  p = 0.3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034"/>
              <p:cNvSpPr txBox="1"/>
              <p:nvPr/>
            </p:nvSpPr>
            <p:spPr>
              <a:xfrm>
                <a:off x="541440" y="4038480"/>
                <a:ext cx="8130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!7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Text Box 1035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re is a 25.22% chance that 3 out of the 10 voters will support Proposi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6542338-3FB6-476F-AC42-1DB45A1485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6"/>
          <p:cNvSpPr/>
          <p:nvPr/>
        </p:nvSpPr>
        <p:spPr>
          <a:xfrm>
            <a:off x="990720" y="5943600"/>
            <a:ext cx="6858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5"/>
          <p:cNvSpPr/>
          <p:nvPr/>
        </p:nvSpPr>
        <p:spPr>
          <a:xfrm>
            <a:off x="990720" y="5486400"/>
            <a:ext cx="6858000" cy="3808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4"/>
          <p:cNvSpPr/>
          <p:nvPr/>
        </p:nvSpPr>
        <p:spPr>
          <a:xfrm>
            <a:off x="990720" y="5029200"/>
            <a:ext cx="7086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0.35, x = 3:       P(x = 3|n =10, p = 0.35) = 0.2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, p = 0.75, x = 2:       P(x = 2|n =10, p = 0.75) = 0.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57"/>
          <p:cNvSpPr/>
          <p:nvPr/>
        </p:nvSpPr>
        <p:spPr>
          <a:xfrm>
            <a:off x="1447920" y="2819520"/>
            <a:ext cx="4114800" cy="2286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8"/>
          <p:cNvSpPr/>
          <p:nvPr/>
        </p:nvSpPr>
        <p:spPr>
          <a:xfrm>
            <a:off x="4952880" y="1905120"/>
            <a:ext cx="609840" cy="11430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9"/>
          <p:cNvSpPr/>
          <p:nvPr/>
        </p:nvSpPr>
        <p:spPr>
          <a:xfrm>
            <a:off x="4952880" y="2819520"/>
            <a:ext cx="609840" cy="228600"/>
          </a:xfrm>
          <a:prstGeom prst="rect">
            <a:avLst/>
          </a:prstGeom>
          <a:solidFill>
            <a:srgbClr val="ffff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60"/>
          <p:cNvSpPr/>
          <p:nvPr/>
        </p:nvSpPr>
        <p:spPr>
          <a:xfrm>
            <a:off x="3505320" y="3886200"/>
            <a:ext cx="48006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1"/>
          <p:cNvSpPr/>
          <p:nvPr/>
        </p:nvSpPr>
        <p:spPr>
          <a:xfrm flipV="1">
            <a:off x="3505320" y="3962520"/>
            <a:ext cx="60948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2"/>
          <p:cNvSpPr/>
          <p:nvPr/>
        </p:nvSpPr>
        <p:spPr>
          <a:xfrm flipV="1">
            <a:off x="3505320" y="3885480"/>
            <a:ext cx="609480" cy="25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Binomial Tab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295280" y="1600200"/>
          <a:ext cx="7162920" cy="3378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E946AE88-6BC6-4C35-8290-5349A50B7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:   Add-Ins /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5-23"/>
          <p:cNvPicPr/>
          <p:nvPr/>
        </p:nvPicPr>
        <p:blipFill>
          <a:blip r:embed="rId1"/>
          <a:stretch/>
        </p:blipFill>
        <p:spPr>
          <a:xfrm>
            <a:off x="1676520" y="2209680"/>
            <a:ext cx="5848200" cy="4295880"/>
          </a:xfrm>
          <a:prstGeom prst="rect">
            <a:avLst/>
          </a:prstGeom>
          <a:ln w="0">
            <a:noFill/>
          </a:ln>
        </p:spPr>
      </p:pic>
      <p:sp>
        <p:nvSpPr>
          <p:cNvPr id="472" name="Oval 6"/>
          <p:cNvSpPr/>
          <p:nvPr/>
        </p:nvSpPr>
        <p:spPr>
          <a:xfrm>
            <a:off x="6400800" y="24382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828800" y="26668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1905120" y="3581280"/>
            <a:ext cx="2209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9"/>
          <p:cNvSpPr/>
          <p:nvPr/>
        </p:nvSpPr>
        <p:spPr>
          <a:xfrm>
            <a:off x="4114800" y="4267080"/>
            <a:ext cx="8380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574A4561-7D67-4CA8-8939-C041CC3A19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5-24"/>
          <p:cNvPicPr/>
          <p:nvPr/>
        </p:nvPicPr>
        <p:blipFill>
          <a:blip r:embed="rId1"/>
          <a:stretch/>
        </p:blipFill>
        <p:spPr>
          <a:xfrm>
            <a:off x="4724280" y="2206800"/>
            <a:ext cx="3934080" cy="37368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10000"/>
          </a:bodyPr>
          <a:p>
            <a:pPr marL="32040" indent="-3204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 = 0.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7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8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9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0"/>
          <p:cNvSpPr/>
          <p:nvPr/>
        </p:nvSpPr>
        <p:spPr>
          <a:xfrm flipV="1">
            <a:off x="3962520" y="4876560"/>
            <a:ext cx="12952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48785C3-8462-4266-8040-91839D748D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5-25"/>
          <p:cNvPicPr/>
          <p:nvPr/>
        </p:nvPicPr>
        <p:blipFill>
          <a:blip r:embed="rId1"/>
          <a:stretch/>
        </p:blipFill>
        <p:spPr>
          <a:xfrm>
            <a:off x="1828800" y="1523880"/>
            <a:ext cx="5657760" cy="47530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6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35)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2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35) = 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09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9"/>
          <p:cNvSpPr/>
          <p:nvPr/>
        </p:nvSpPr>
        <p:spPr>
          <a:xfrm flipH="1">
            <a:off x="4648320" y="3276720"/>
            <a:ext cx="30456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0"/>
          <p:cNvSpPr/>
          <p:nvPr/>
        </p:nvSpPr>
        <p:spPr>
          <a:xfrm flipV="1">
            <a:off x="5105520" y="4800240"/>
            <a:ext cx="83808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4114800" y="4267080"/>
            <a:ext cx="6094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4E469CCE-30FA-4D7E-9C98-0F815CCFF7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Poisson Distribu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outcomes of interest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re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relative to the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average number of outcomes of interest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 time or space interval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number of outcomes of interest are random, and the occurrence of one outcome does not influence the chances of another outcome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probability that an outcome of interest occurs in a given segment is the same for al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.g. the number of customers per hour or the number of bags lost per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140A093A-F137-4D34-9675-A2445581CA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5"/>
              <p:cNvSpPr txBox="1"/>
              <p:nvPr/>
            </p:nvSpPr>
            <p:spPr>
              <a:xfrm>
                <a:off x="4038480" y="2133720"/>
                <a:ext cx="1271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6"/>
              <p:cNvSpPr txBox="1"/>
              <p:nvPr/>
            </p:nvSpPr>
            <p:spPr>
              <a:xfrm>
                <a:off x="3968640" y="3692520"/>
                <a:ext cx="1382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3968640" y="4454640"/>
                <a:ext cx="1525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λ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Rectangle 8"/>
          <p:cNvSpPr/>
          <p:nvPr/>
        </p:nvSpPr>
        <p:spPr>
          <a:xfrm>
            <a:off x="106668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number of successes in a segment of unit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 = the size of the segment of inter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CA17E807-D3CC-4E57-A8AC-0EF2CFBB67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raph of Poisson Probabiliti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1" name="Object 4"/>
          <p:cNvGraphicFramePr/>
          <p:nvPr/>
        </p:nvGraphicFramePr>
        <p:xfrm>
          <a:off x="2895480" y="1676520"/>
          <a:ext cx="58960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58960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09480" y="2895480"/>
          <a:ext cx="2057400" cy="3365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Line 60"/>
          <p:cNvSpPr/>
          <p:nvPr/>
        </p:nvSpPr>
        <p:spPr>
          <a:xfrm>
            <a:off x="3124080" y="44956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1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2"/>
          <p:cNvSpPr/>
          <p:nvPr/>
        </p:nvSpPr>
        <p:spPr>
          <a:xfrm>
            <a:off x="838080" y="4267080"/>
            <a:ext cx="1752840" cy="38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3"/>
          <p:cNvSpPr/>
          <p:nvPr/>
        </p:nvSpPr>
        <p:spPr>
          <a:xfrm>
            <a:off x="4114800" y="5638680"/>
            <a:ext cx="2743200" cy="459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= 2) = 0.07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64"/>
          <p:cNvSpPr/>
          <p:nvPr/>
        </p:nvSpPr>
        <p:spPr>
          <a:xfrm flipV="1">
            <a:off x="525780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5"/>
          <p:cNvSpPr/>
          <p:nvPr/>
        </p:nvSpPr>
        <p:spPr>
          <a:xfrm>
            <a:off x="6094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6"/>
          <p:cNvSpPr/>
          <p:nvPr/>
        </p:nvSpPr>
        <p:spPr>
          <a:xfrm>
            <a:off x="380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05  and  t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FB1131C-890D-4F8D-AC83-806BA09DB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Shap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oisson Distribution depends on the paramete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4"/>
          <p:cNvGraphicFramePr/>
          <p:nvPr/>
        </p:nvGraphicFramePr>
        <p:xfrm>
          <a:off x="4572000" y="3303720"/>
          <a:ext cx="441972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03720"/>
                    <a:ext cx="441972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228600" y="3301920"/>
          <a:ext cx="419112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01920"/>
                    <a:ext cx="41911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8"/>
          <p:cNvSpPr/>
          <p:nvPr/>
        </p:nvSpPr>
        <p:spPr>
          <a:xfrm>
            <a:off x="1600200" y="2895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0.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6248520" y="2971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= 3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5A580A67-B92F-412A-BEC7-83C34FDA39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1322280" y="3005280"/>
            <a:ext cx="7920" cy="1440"/>
          </a:xfrm>
          <a:custGeom>
            <a:avLst/>
            <a:gdLst>
              <a:gd name="textAreaLeft" fmla="*/ 0 w 7920"/>
              <a:gd name="textAreaRight" fmla="*/ 8280 w 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ndom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1" name="Picture 15" descr="BS00590_[1]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BS00590_[1]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BS00590_[1]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BS00590_[1]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9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57200" y="27432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80920" y="29714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 Value    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0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0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0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8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4800600" y="5146560"/>
            <a:ext cx="6094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0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1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3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89B49F58-E0EC-47E1-B34A-A2852A4C6F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Poisson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143000" y="3809880"/>
            <a:ext cx="73915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 = size of the segment of interes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 = number of successes in segment of intere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 expected number of successes in a segment of unit si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= base of the natural logarithm system (2.71828...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2644920" y="1981080"/>
                <a:ext cx="370332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6D9D189D-25BB-428D-90B1-5C4A3BCBF7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1447920" y="2819520"/>
            <a:ext cx="4114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 flipV="1">
            <a:off x="4952880" y="2056680"/>
            <a:ext cx="609840" cy="1066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 flipV="1">
            <a:off x="4952880" y="2819520"/>
            <a:ext cx="60984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990720" y="4648320"/>
            <a:ext cx="6476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Using Poisson Tables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295280" y="1752480"/>
          <a:ext cx="7162920" cy="245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6040"/>
                <a:gridCol w="715680"/>
                <a:gridCol w="716040"/>
                <a:gridCol w="717480"/>
                <a:gridCol w="669960"/>
                <a:gridCol w="7621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59"/>
          <p:cNvSpPr/>
          <p:nvPr/>
        </p:nvSpPr>
        <p:spPr>
          <a:xfrm>
            <a:off x="99072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Find P(x = 2)  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  and  t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0"/>
              <p:cNvSpPr txBox="1"/>
              <p:nvPr/>
            </p:nvSpPr>
            <p:spPr>
              <a:xfrm>
                <a:off x="1619280" y="5181480"/>
                <a:ext cx="6302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A62FC547-CC82-4E0E-A9F8-F7A28514DA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7440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” trials in a sample taken from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te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ake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changes from trial to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with finding the probability of “x” successes in the sample where there are “X” successes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83A9DFBD-0B33-4FFD-AD71-308ECBD9C2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Formula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1031"/>
              <p:cNvSpPr txBox="1"/>
              <p:nvPr/>
            </p:nvSpPr>
            <p:spPr>
              <a:xfrm>
                <a:off x="2309760" y="2286000"/>
                <a:ext cx="41436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Text Box 1033"/>
          <p:cNvSpPr/>
          <p:nvPr/>
        </p:nvSpPr>
        <p:spPr>
          <a:xfrm>
            <a:off x="5029200" y="2362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34"/>
          <p:cNvSpPr/>
          <p:nvPr/>
        </p:nvSpPr>
        <p:spPr>
          <a:xfrm>
            <a:off x="1219320" y="4114800"/>
            <a:ext cx="73152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x = number of failur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35"/>
          <p:cNvSpPr/>
          <p:nvPr/>
        </p:nvSpPr>
        <p:spPr>
          <a:xfrm>
            <a:off x="1371600" y="17524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possible outcomes per trial: success or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1B48FB71-C09A-4430-B1AF-D6AA01971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33"/>
          <p:cNvSpPr/>
          <p:nvPr/>
        </p:nvSpPr>
        <p:spPr>
          <a:xfrm>
            <a:off x="3200400" y="3124080"/>
            <a:ext cx="380988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Examp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1030"/>
              <p:cNvSpPr txBox="1"/>
              <p:nvPr/>
            </p:nvSpPr>
            <p:spPr>
              <a:xfrm>
                <a:off x="1062000" y="4495680"/>
                <a:ext cx="7323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buClr>
                <a:srgbClr val="3333cc"/>
              </a:buClr>
              <a:buSzPct val="60000"/>
              <a:buFont typeface="Arial"/>
              <a:buChar char="■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Light bulbs were selected from 10. Of the 10 there were 4 defective. What is the probability that 2 of the 3 selected are de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36067EBC-C2DF-4E14-8F1E-755D189DA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: Add-Ins / PHStat / Probability &amp; Prob. Distributions / Hypergeometric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30" descr="5-37"/>
          <p:cNvPicPr/>
          <p:nvPr/>
        </p:nvPicPr>
        <p:blipFill>
          <a:blip r:embed="rId1"/>
          <a:stretch/>
        </p:blipFill>
        <p:spPr>
          <a:xfrm>
            <a:off x="2971800" y="2209680"/>
            <a:ext cx="5676840" cy="4238640"/>
          </a:xfrm>
          <a:prstGeom prst="rect">
            <a:avLst/>
          </a:prstGeom>
          <a:ln w="0">
            <a:noFill/>
          </a:ln>
        </p:spPr>
      </p:pic>
      <p:sp>
        <p:nvSpPr>
          <p:cNvPr id="568" name="Oval 1031"/>
          <p:cNvSpPr/>
          <p:nvPr/>
        </p:nvSpPr>
        <p:spPr>
          <a:xfrm>
            <a:off x="7696080" y="24382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032"/>
          <p:cNvSpPr/>
          <p:nvPr/>
        </p:nvSpPr>
        <p:spPr>
          <a:xfrm>
            <a:off x="3124080" y="2666880"/>
            <a:ext cx="7621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33"/>
          <p:cNvSpPr/>
          <p:nvPr/>
        </p:nvSpPr>
        <p:spPr>
          <a:xfrm>
            <a:off x="3200400" y="3581280"/>
            <a:ext cx="220968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034"/>
          <p:cNvSpPr/>
          <p:nvPr/>
        </p:nvSpPr>
        <p:spPr>
          <a:xfrm>
            <a:off x="5410080" y="4648320"/>
            <a:ext cx="12193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D93706FF-C681-4A29-BCA7-BB40A3B58D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6" descr="5-38b"/>
          <p:cNvPicPr/>
          <p:nvPr/>
        </p:nvPicPr>
        <p:blipFill>
          <a:blip r:embed="rId1"/>
          <a:stretch/>
        </p:blipFill>
        <p:spPr>
          <a:xfrm>
            <a:off x="4149720" y="2124000"/>
            <a:ext cx="3546360" cy="42004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4"/>
          <p:cNvSpPr/>
          <p:nvPr/>
        </p:nvSpPr>
        <p:spPr>
          <a:xfrm>
            <a:off x="533520" y="2438280"/>
            <a:ext cx="2438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8"/>
          <p:cNvSpPr/>
          <p:nvPr/>
        </p:nvSpPr>
        <p:spPr>
          <a:xfrm>
            <a:off x="6400800" y="5791320"/>
            <a:ext cx="129528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152280" y="24382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/>
          <p:cNvSpPr/>
          <p:nvPr/>
        </p:nvSpPr>
        <p:spPr>
          <a:xfrm>
            <a:off x="335268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60199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5" descr="5-38a"/>
          <p:cNvPicPr/>
          <p:nvPr/>
        </p:nvPicPr>
        <p:blipFill>
          <a:blip r:embed="rId2"/>
          <a:stretch/>
        </p:blipFill>
        <p:spPr>
          <a:xfrm>
            <a:off x="304920" y="3276720"/>
            <a:ext cx="29718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66119E9A-3439-4B75-852A-CB7C266AA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formulas and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1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E1780972-2D38-4871-B0B8-2F8D1556D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1828800" y="3409920"/>
            <a:ext cx="54864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copyright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762120" y="4573080"/>
            <a:ext cx="838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l rights reserved. No part of this publication may be reproduced, stored in a retrieval system, or transmitted, in any form or by any means, electronic, mechanical, photocopying, recording, or otherwise, without the prior written permission of the publis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ted in the United States of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41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ndom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value of a variable is the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utcome of a statistical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variabl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 variable X represent the number of Heads that result from the previ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riable X can take on the values 0, 1, or 2. In this previous example, X is a random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a table or an equation that links each outcome of a statistical experiment with its probability of occur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like the previou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AE583B0C-4B1D-4085-BD86-AB8D5308E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Variab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refers to the probability that the value of a random variable falls within a specified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probability distribution,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ulativ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presented by a table or an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AFBF61E2-A029-40F1-A7F5-22E19E0FF8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mulative Probability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091743CB-5358-4E7E-9D0E-BF821FC15D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828800"/>
          <a:ext cx="8763120" cy="426888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944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ads: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: P(X = 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ulative Proba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 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5C5C2B7C-66CD-4E16-BCE2-A62409BD8B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coun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869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Random Variab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915879DF-B534-4403-9A42-8BE039BD75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ontinuous Random Variable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measur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11 Pearson Education, Inc. 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238880" y="6548400"/>
            <a:ext cx="1905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rm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-</a:t>
            </a:r>
            <a:fld id="{FD043ABD-4A94-4E09-AFD7-595AACD01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 random variable is a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iscrete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s probability distribution is called a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iscrete Probability Distribution</a:t>
            </a:r>
            <a:endParaRPr b="0" lang="en-US" sz="4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3276720"/>
          <a:ext cx="7848720" cy="243828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614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a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solidFill>
                      <a:srgbClr val="b0c4de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b0c4de"/>
                      </a:solidFill>
                    </a:lnL>
                    <a:lnR w="4320">
                      <a:solidFill>
                        <a:srgbClr val="b0c4de"/>
                      </a:solidFill>
                    </a:lnR>
                    <a:lnT w="4320">
                      <a:solidFill>
                        <a:srgbClr val="b0c4de"/>
                      </a:solidFill>
                    </a:lnT>
                    <a:lnB w="4320">
                      <a:solidFill>
                        <a:srgbClr val="b0c4d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7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12"/>
          <p:cNvCxnSpPr/>
          <p:nvPr/>
        </p:nvCxnSpPr>
        <p:spPr>
          <a:xfrm flipH="1">
            <a:off x="2742840" y="2056320"/>
            <a:ext cx="3734640" cy="213444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Straight Arrow Connector 13"/>
          <p:cNvCxnSpPr/>
          <p:nvPr/>
        </p:nvCxnSpPr>
        <p:spPr>
          <a:xfrm flipH="1">
            <a:off x="2818800" y="2057400"/>
            <a:ext cx="3734280" cy="27439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Straight Arrow Connector 14"/>
          <p:cNvCxnSpPr/>
          <p:nvPr/>
        </p:nvCxnSpPr>
        <p:spPr>
          <a:xfrm flipH="1">
            <a:off x="2818800" y="2056320"/>
            <a:ext cx="3810600" cy="335340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Dr. Mohammed Alahmed</cp:lastModifiedBy>
  <cp:lastPrinted>1998-11-22T23:37:53Z</cp:lastPrinted>
  <dcterms:modified xsi:type="dcterms:W3CDTF">2017-09-25T12:33:08Z</dcterms:modified>
  <cp:revision>103</cp:revision>
  <dc:subject>Chapter 5</dc:subject>
  <dc:title>Business Statistics: A Decision-Making Approach, 7th edition</dc:title>
</cp:coreProperties>
</file>