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3DDF-29D6-4C9F-82FB-BC562A0286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1.pdf" TargetMode="External"/><Relationship Id="rId3" Type="http://schemas.openxmlformats.org/officeDocument/2006/relationships/hyperlink" Target="http://azimuth-interactive.com/ESS9_Videos/pdfcases/Chapter05_Case2.pdf"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A4FB-B86F-405F-8DC6-1DBDD6FA1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a:t>
            </a:r>
            <a:r>
              <a:rPr b="0" lang="en-US" sz="1200" spc="-1" strike="noStrike" u="sng">
                <a:solidFill>
                  <a:srgbClr val="ccccff"/>
                </a:solidFill>
                <a:uFillTx/>
                <a:latin typeface="Times New Roman"/>
                <a:hlinkClick r:id="rId2"/>
              </a:rPr>
              <a:t>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3"/>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4C8B-315A-4F1A-9E31-02AC88A17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78D8-F4B4-4B13-8562-4C9CB96A4E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9F71-F3D6-47A5-8CDC-FC6ED8139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1A2F-E011-4C09-9CA4-318563E87B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E236-4228-478A-BC1F-C447543891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80F8-7230-4DBA-AD49-9EB4974DD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8023-2378-43C9-8EB7-076608AD2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897D-6B6B-488F-BF8A-866C85962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FF6C-40B2-4BB1-8DEC-9AAD36ED88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FD31-AC45-418A-8975-BBAC8B2ADA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6A5A-381F-46D0-9AC1-2B99F3383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D3D2-9429-4B68-B35D-486C92F221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CCF9-27DF-425A-AED0-6EB9ED5D13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D0F6-8072-457E-B6A7-BD8DBC84B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80B1-24E8-40FC-8A88-868FBF6A37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4158-0552-4919-99AD-DDBA6C1684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6E27-6277-4B56-BAA6-DD805C61FD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24B9-FEC8-4D7C-BBCF-939493C350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724D-DA51-4065-82B1-7DDFA92344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F223-BF5D-4C2F-A023-820D2953AD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96E9-F3EE-44F2-9D13-A08E2AF97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A56D-144C-43FC-AEA2-4BF61A2763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1650-0321-4239-A773-F5B31534C3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130F-9ADE-4220-B65A-895C0E0F6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4B92-B5F6-47C9-979E-3BFBE7D8F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A34D-4165-447E-BF8D-DBD71FE3F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BB49-F0AC-4EF0-97B2-32D91707F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6533-2385-4ADB-A115-E5BB0D6C08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F5EC-FAF2-40B3-97E7-A1995FE86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0701-B90A-422B-B394-D875B542CF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8C08-84A3-4DE3-A28A-F94EFD003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6CE3-1196-4302-91FA-1F78C3B00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A0B8-15E0-4951-8E5E-B2DFF51F6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3A51-AD0D-42DB-88B4-FA495139C5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A5DB-860D-476C-960D-9E71FAB83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A289-926D-4C1F-9A9B-CFFA7735E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04E1-CDE5-468D-8028-1D6E2C20D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1B65-A40F-4484-B97C-6343BFE1A5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6739-7943-4BC4-BDC0-E5FA5A4D1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C682-C0C4-4E64-9FC1-98874BE213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99FF0DD9-0B84-4418-9EEE-230F395D7EB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2"/>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2"/>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2"/>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2"/>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2"/>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2"/>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2"/>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2"/>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2"/>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2"/>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2"/>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2"/>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35"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 descr=""/>
          <p:cNvPicPr/>
          <p:nvPr/>
        </p:nvPicPr>
        <p:blipFill>
          <a:blip r:embed="rId2"/>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2"/>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03:22Z</dcterms:modified>
  <cp:revision>509</cp:revision>
  <dc:subject/>
  <dc:title>PowerPoint Presentation</dc:title>
</cp:coreProperties>
</file>