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34EF-AD92-4C44-948E-2FEA429858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1.pdf" TargetMode="External"/><Relationship Id="rId3" Type="http://schemas.openxmlformats.org/officeDocument/2006/relationships/hyperlink" Target="http://azimuth-interactive.com/ESS9_Videos/pdfcases/Chapter05_Case2.pdf"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2ACA-B8B5-4E6D-AC38-D429DBB4A3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a:t>
            </a:r>
            <a:r>
              <a:rPr b="0" lang="en-US" sz="1200" spc="-1" strike="noStrike" u="sng">
                <a:solidFill>
                  <a:srgbClr val="ccccff"/>
                </a:solidFill>
                <a:uFillTx/>
                <a:latin typeface="Times New Roman"/>
                <a:hlinkClick r:id="rId2"/>
              </a:rPr>
              <a:t>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3"/>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0D7A-EB0D-41D3-A116-DC39183588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C07D-9B5F-4DE0-B3FB-729447BD88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AD4C-09D9-4610-ACE7-8CF5E6FC34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ACDE-7189-4A69-BD8E-6A8AF8F5A6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8055-77A8-4992-9D50-3CDA472CCD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4C1A-56B4-4138-8894-BCA8143550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2E41-495F-4B4C-8C2F-92383217E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FCE8-3B2D-4FFE-A232-11CB85035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4449-113E-41EA-B2A0-80B0095865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42C8-834A-4728-87E9-F1BA2E22DE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3E9C-791E-4F8C-A0DE-A7AD6860D8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1895-B3F8-4DFE-B129-6F79F29D7A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379E-EEB1-4BE6-AE31-B8134C4BD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9537-4A7A-4D9C-BBBB-255FBDA36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24E5-46C7-45AD-B6E4-45F1E1890A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7DB6-48CE-4F80-A04D-05DB87EF5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D299-B806-4C6F-8EC8-3D4014EB40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01D7-E7F9-4B8C-8612-D2DAE384C9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E598-8331-4BDC-A8B1-837E2BA13D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F752-BE5D-4F95-BDB1-4F52F03C4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C0AB-5A33-4085-BB85-E802879B6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657D-F7DB-4857-9A2B-AC2CA9BCB6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DB97-A42E-42A6-B668-8E547F3C6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6D75-C847-4621-9F07-75754C2238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D7BE-E307-4585-88EA-0719A75BB1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A04C-29C9-415F-A61B-1720F4BAB3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50E5-D4B8-47B4-9154-9A41C42E6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B15A-5D3D-46E6-9420-27AF9126E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EB71-6DC9-4F07-8680-3EA923BD1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5E76-D7A0-46DB-94A7-B039ADB8B6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2995-F73C-4C42-94B3-F38F98B28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5C20-8CED-45C2-A78C-2CC114C41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EB86-1819-494C-98D8-EAA128EC97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AAEE-1754-4534-ABFF-EE320DF055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091B-A9D2-4684-9C88-BFE61643C7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CFFF-7814-4801-95C6-14E011F364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415D-54D3-4786-9E0C-C6A4E3E54F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01D4-D458-42C8-8CB6-33490D805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3233-FC67-4E4A-BD15-D738E473E0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560F-A167-44C9-B6DC-E0354ADF0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71D213E7-8217-4D61-A4FA-7151A925B08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2"/>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2"/>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2"/>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2"/>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2"/>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2"/>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2"/>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2"/>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2"/>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2"/>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2"/>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2"/>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35"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 descr=""/>
          <p:cNvPicPr/>
          <p:nvPr/>
        </p:nvPicPr>
        <p:blipFill>
          <a:blip r:embed="rId2"/>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2"/>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03:22Z</dcterms:modified>
  <cp:revision>509</cp:revision>
  <dc:subject/>
  <dc:title>PowerPoint Presentation</dc:title>
</cp:coreProperties>
</file>