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914400" y="3429000"/>
            <a:ext cx="5029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1447560" y="457200"/>
            <a:ext cx="4181400" cy="288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120680" y="35812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8862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20680" y="41911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20680" y="44956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20680" y="48006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20680" y="51055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20680" y="51055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20680" y="54100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20680" y="57150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20680" y="60199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20680" y="63244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20680" y="66294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20680" y="69343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20680" y="72388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20680" y="75438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20680" y="78487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20680" y="81532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20680" y="84582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3800" y="380880"/>
            <a:ext cx="585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760" y="8825040"/>
            <a:ext cx="6702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r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6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3800" y="8763120"/>
            <a:ext cx="585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7760" y="61920"/>
            <a:ext cx="6702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ctr" pos="3257640"/>
                <a:tab algn="r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tructor N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</a:t>
            </a:r>
            <a:fld id="{1410DE54-D2A4-4AC6-B067-08FDF6273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914400" y="3276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914400" y="3276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914400" y="3276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914400" y="3276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914400" y="4197240"/>
            <a:ext cx="502920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914400" y="3276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914400" y="3276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914400" y="3276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90C8D-E7D6-47F0-91CD-77DFE40174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9D192-72FC-4730-9063-8CDF263893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605AA-E581-4C48-B06D-9DB64E4FD5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44524-4662-4DD0-AEE2-1D7DCE1870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3ED6B-2E80-49D1-8988-A64FC25FF2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98DFEF-3132-47AB-BB81-DDD639B8D1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BCE79-C038-443B-8234-A8F9700872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08889-B1EA-4396-806C-59B2395E9C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F770E-14E0-4D7B-BFEC-1D387A08E9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AF2048-D210-4D2E-AD3B-46EF1F5B10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5F345-F315-41C4-AF51-CE9EF6C35E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F32C9-2FEB-4B29-B69C-8F33CB16C4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FD743-8D49-409B-89AD-092E9F5260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A6FCF-AE32-47E3-B9C2-9034E029C8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E9E71-CB9C-459F-B8FF-640EB3CD17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350EB-7589-4A08-85BF-5FE109817A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2F6505-A042-4239-A578-EE0A52BE44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316E4-408E-4F48-9C96-5C3C1CC9F6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2EA7A-F0DF-4032-AC7B-96545F180F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F90F2-9B96-4C46-897B-806652CCD9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6F643-F802-4A18-9286-0118EDC1E4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38B06-AD1B-43D3-8001-3558B373E3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13FC7-4108-40DE-B275-A2EFF189EF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D18B0-D939-444F-9950-8AFFDC4897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40044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5-</a:t>
            </a:r>
            <a:fld id="{BFC29590-6E09-4EFD-B34A-CF9CED5B06B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67652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8576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5-</a:t>
            </a:r>
            <a:fld id="{86EB8D2C-666C-417F-924A-A723C7262C8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ctr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2480" algn="ctr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81240" algn="ctr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06400" algn="ctr">
              <a:spcBef>
                <a:spcPts val="499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064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064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Business Statistics: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A Decision-Making Approach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6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971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apter 5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screte and Continuou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bability Distribu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3BC09-3E33-48B8-B1CB-C03A0E1B18C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523880" y="1676520"/>
            <a:ext cx="5410440" cy="1371600"/>
          </a:xfrm>
          <a:prstGeom prst="rect">
            <a:avLst/>
          </a:prstGeom>
          <a:solidFill>
            <a:srgbClr val="fff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3276720"/>
            <a:ext cx="56386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x) = probability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cesses in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rial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probability of success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each 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  =   number of ‘successes’ in sampl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 = 0, 1, 2, ...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=   probability of “success” per 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 =   probability of “failure” = (1 –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=   number of trials (sample siz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84440" y="2279520"/>
            <a:ext cx="153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5440" y="1981080"/>
            <a:ext cx="928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38120" y="167652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49000" y="2279520"/>
            <a:ext cx="61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22200" y="229536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4520" y="2295360"/>
            <a:ext cx="38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81120" y="198108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14640" y="198108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48240" y="1889280"/>
            <a:ext cx="370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19920" y="1905120"/>
            <a:ext cx="352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78560" y="1882800"/>
            <a:ext cx="336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94080" y="1676520"/>
            <a:ext cx="294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82520" y="2279520"/>
            <a:ext cx="31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49200" y="2279520"/>
            <a:ext cx="31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25880" y="2279520"/>
            <a:ext cx="294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93520" y="1981080"/>
            <a:ext cx="50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84000" y="2279520"/>
            <a:ext cx="31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49960" y="1882800"/>
            <a:ext cx="3808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610480" y="46512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19920" y="3733920"/>
            <a:ext cx="2971800" cy="236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3733920"/>
            <a:ext cx="2895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Flip a coin four times, let  x = # hea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1 - .5) = 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0, 1, 2, 3,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inomial Distribution Formula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EC367-751F-4D66-9419-9C625757F75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610160" y="4384800"/>
            <a:ext cx="3841560" cy="198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10160" y="2084400"/>
            <a:ext cx="3841560" cy="198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11880" y="2135160"/>
            <a:ext cx="2663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5  p = 0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1880" y="4421160"/>
            <a:ext cx="2663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5  p = 0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209680"/>
            <a:ext cx="3041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68960" y="321804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68960" y="291312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68960" y="261144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86440" y="2641680"/>
            <a:ext cx="488880" cy="879480"/>
          </a:xfrm>
          <a:custGeom>
            <a:avLst/>
            <a:gdLst/>
            <a:ahLst/>
            <a:rect l="l" t="t" r="r" b="b"/>
            <a:pathLst>
              <a:path w="308" h="554">
                <a:moveTo>
                  <a:pt x="0" y="0"/>
                </a:moveTo>
                <a:lnTo>
                  <a:pt x="307" y="0"/>
                </a:lnTo>
                <a:lnTo>
                  <a:pt x="307" y="553"/>
                </a:lnTo>
                <a:lnTo>
                  <a:pt x="0" y="553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73880" y="3035160"/>
            <a:ext cx="485640" cy="486000"/>
          </a:xfrm>
          <a:custGeom>
            <a:avLst/>
            <a:gdLst/>
            <a:ahLst/>
            <a:rect l="l" t="t" r="r" b="b"/>
            <a:pathLst>
              <a:path w="306" h="306">
                <a:moveTo>
                  <a:pt x="0" y="0"/>
                </a:moveTo>
                <a:lnTo>
                  <a:pt x="305" y="0"/>
                </a:lnTo>
                <a:lnTo>
                  <a:pt x="305" y="305"/>
                </a:lnTo>
                <a:lnTo>
                  <a:pt x="0" y="305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58080" y="3397320"/>
            <a:ext cx="488880" cy="123840"/>
          </a:xfrm>
          <a:custGeom>
            <a:avLst/>
            <a:gdLst/>
            <a:ahLst/>
            <a:rect l="l" t="t" r="r" b="b"/>
            <a:pathLst>
              <a:path w="308" h="78">
                <a:moveTo>
                  <a:pt x="0" y="0"/>
                </a:moveTo>
                <a:lnTo>
                  <a:pt x="307" y="0"/>
                </a:lnTo>
                <a:lnTo>
                  <a:pt x="307" y="77"/>
                </a:lnTo>
                <a:lnTo>
                  <a:pt x="0" y="77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45160" y="3489480"/>
            <a:ext cx="488880" cy="31680"/>
          </a:xfrm>
          <a:custGeom>
            <a:avLst/>
            <a:gdLst/>
            <a:ahLst/>
            <a:rect l="l" t="t" r="r" b="b"/>
            <a:pathLst>
              <a:path w="308" h="20">
                <a:moveTo>
                  <a:pt x="0" y="0"/>
                </a:moveTo>
                <a:lnTo>
                  <a:pt x="307" y="0"/>
                </a:lnTo>
                <a:lnTo>
                  <a:pt x="307" y="19"/>
                </a:lnTo>
                <a:lnTo>
                  <a:pt x="0" y="19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86440" y="2793960"/>
            <a:ext cx="0" cy="5796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52960" y="351936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052960" y="321804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52960" y="291312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52960" y="261144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68960" y="351936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508644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57388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05808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54516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703260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751680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800424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24200" y="334476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624200" y="304308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24200" y="273852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624200" y="243684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7536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6244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4664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3408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2152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0716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018640" y="334476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16440" y="2208240"/>
            <a:ext cx="6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67160" y="550548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67160" y="520056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67160" y="489744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84640" y="5761080"/>
            <a:ext cx="489240" cy="47520"/>
          </a:xfrm>
          <a:custGeom>
            <a:avLst/>
            <a:gdLst/>
            <a:ahLst/>
            <a:rect l="l" t="t" r="r" b="b"/>
            <a:pathLst>
              <a:path w="308" h="30">
                <a:moveTo>
                  <a:pt x="0" y="0"/>
                </a:moveTo>
                <a:lnTo>
                  <a:pt x="307" y="0"/>
                </a:lnTo>
                <a:lnTo>
                  <a:pt x="307" y="29"/>
                </a:lnTo>
                <a:lnTo>
                  <a:pt x="0" y="29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72080" y="5568840"/>
            <a:ext cx="487440" cy="239760"/>
          </a:xfrm>
          <a:custGeom>
            <a:avLst/>
            <a:gdLst/>
            <a:ahLst/>
            <a:rect l="l" t="t" r="r" b="b"/>
            <a:pathLst>
              <a:path w="307" h="151">
                <a:moveTo>
                  <a:pt x="0" y="0"/>
                </a:moveTo>
                <a:lnTo>
                  <a:pt x="306" y="0"/>
                </a:lnTo>
                <a:lnTo>
                  <a:pt x="306" y="150"/>
                </a:lnTo>
                <a:lnTo>
                  <a:pt x="0" y="150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58080" y="5334120"/>
            <a:ext cx="488880" cy="474480"/>
          </a:xfrm>
          <a:custGeom>
            <a:avLst/>
            <a:gdLst/>
            <a:ahLst/>
            <a:rect l="l" t="t" r="r" b="b"/>
            <a:pathLst>
              <a:path w="308" h="299">
                <a:moveTo>
                  <a:pt x="0" y="0"/>
                </a:moveTo>
                <a:lnTo>
                  <a:pt x="307" y="0"/>
                </a:lnTo>
                <a:lnTo>
                  <a:pt x="307" y="298"/>
                </a:lnTo>
                <a:lnTo>
                  <a:pt x="0" y="298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45160" y="5334120"/>
            <a:ext cx="490680" cy="474480"/>
          </a:xfrm>
          <a:custGeom>
            <a:avLst/>
            <a:gdLst/>
            <a:ahLst/>
            <a:rect l="l" t="t" r="r" b="b"/>
            <a:pathLst>
              <a:path w="309" h="299">
                <a:moveTo>
                  <a:pt x="0" y="0"/>
                </a:moveTo>
                <a:lnTo>
                  <a:pt x="308" y="0"/>
                </a:lnTo>
                <a:lnTo>
                  <a:pt x="308" y="298"/>
                </a:lnTo>
                <a:lnTo>
                  <a:pt x="0" y="298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034040" y="5568840"/>
            <a:ext cx="486000" cy="239760"/>
          </a:xfrm>
          <a:custGeom>
            <a:avLst/>
            <a:gdLst/>
            <a:ahLst/>
            <a:rect l="l" t="t" r="r" b="b"/>
            <a:pathLst>
              <a:path w="306" h="151">
                <a:moveTo>
                  <a:pt x="0" y="0"/>
                </a:moveTo>
                <a:lnTo>
                  <a:pt x="305" y="0"/>
                </a:lnTo>
                <a:lnTo>
                  <a:pt x="305" y="150"/>
                </a:lnTo>
                <a:lnTo>
                  <a:pt x="0" y="150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18240" y="5761080"/>
            <a:ext cx="489240" cy="47520"/>
          </a:xfrm>
          <a:custGeom>
            <a:avLst/>
            <a:gdLst/>
            <a:ahLst/>
            <a:rect l="l" t="t" r="r" b="b"/>
            <a:pathLst>
              <a:path w="308" h="30">
                <a:moveTo>
                  <a:pt x="0" y="0"/>
                </a:moveTo>
                <a:lnTo>
                  <a:pt x="307" y="0"/>
                </a:lnTo>
                <a:lnTo>
                  <a:pt x="307" y="29"/>
                </a:lnTo>
                <a:lnTo>
                  <a:pt x="0" y="29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84640" y="5079960"/>
            <a:ext cx="0" cy="5810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051520" y="580716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051520" y="550548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51520" y="520056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51520" y="489744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67160" y="580716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08464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57208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605808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654516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703404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51824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800568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22760" y="532908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622760" y="502452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22760" y="472284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7356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6244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4664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3588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12296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60716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020080" y="563076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29040" y="4494240"/>
            <a:ext cx="6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76760" y="56484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inomial Distrib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1066680" y="160020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hape of the binomial distribution depends on the values of p and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3124080"/>
            <a:ext cx="3962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lvl="1" marL="693720" indent="-268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e, n = 5 and p = 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5257800"/>
            <a:ext cx="396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lvl="1" marL="693720" indent="-268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e, n = 5 and p = 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16199-C574-4FEF-90F1-50CEA9A5D25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inomial Distribution Characteristic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182880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297180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ce and Standard Dev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240000" y="2133720"/>
                <a:ext cx="27399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792600" y="3657600"/>
                <a:ext cx="17380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3809880" y="4419720"/>
                <a:ext cx="184464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npq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1066680" y="533412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 = sample siz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 = probability of succes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q = (1 – p) = probability of failu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5BEE4-59EA-483D-BC3D-148F204E2C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4610160" y="4384800"/>
            <a:ext cx="3841560" cy="198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10160" y="2084400"/>
            <a:ext cx="3841560" cy="198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11880" y="2135160"/>
            <a:ext cx="2663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5  p = 0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11880" y="4421160"/>
            <a:ext cx="2663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5  p = 0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2209680"/>
            <a:ext cx="3041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68960" y="321804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268960" y="291312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68960" y="261144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86440" y="2641680"/>
            <a:ext cx="488880" cy="879480"/>
          </a:xfrm>
          <a:custGeom>
            <a:avLst/>
            <a:gdLst/>
            <a:ahLst/>
            <a:rect l="l" t="t" r="r" b="b"/>
            <a:pathLst>
              <a:path w="308" h="554">
                <a:moveTo>
                  <a:pt x="0" y="0"/>
                </a:moveTo>
                <a:lnTo>
                  <a:pt x="307" y="0"/>
                </a:lnTo>
                <a:lnTo>
                  <a:pt x="307" y="553"/>
                </a:lnTo>
                <a:lnTo>
                  <a:pt x="0" y="553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73880" y="3035160"/>
            <a:ext cx="485640" cy="486000"/>
          </a:xfrm>
          <a:custGeom>
            <a:avLst/>
            <a:gdLst/>
            <a:ahLst/>
            <a:rect l="l" t="t" r="r" b="b"/>
            <a:pathLst>
              <a:path w="306" h="306">
                <a:moveTo>
                  <a:pt x="0" y="0"/>
                </a:moveTo>
                <a:lnTo>
                  <a:pt x="305" y="0"/>
                </a:lnTo>
                <a:lnTo>
                  <a:pt x="305" y="305"/>
                </a:lnTo>
                <a:lnTo>
                  <a:pt x="0" y="305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58080" y="3397320"/>
            <a:ext cx="488880" cy="123840"/>
          </a:xfrm>
          <a:custGeom>
            <a:avLst/>
            <a:gdLst/>
            <a:ahLst/>
            <a:rect l="l" t="t" r="r" b="b"/>
            <a:pathLst>
              <a:path w="308" h="78">
                <a:moveTo>
                  <a:pt x="0" y="0"/>
                </a:moveTo>
                <a:lnTo>
                  <a:pt x="307" y="0"/>
                </a:lnTo>
                <a:lnTo>
                  <a:pt x="307" y="77"/>
                </a:lnTo>
                <a:lnTo>
                  <a:pt x="0" y="77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3489480"/>
            <a:ext cx="488880" cy="31680"/>
          </a:xfrm>
          <a:custGeom>
            <a:avLst/>
            <a:gdLst/>
            <a:ahLst/>
            <a:rect l="l" t="t" r="r" b="b"/>
            <a:pathLst>
              <a:path w="308" h="20">
                <a:moveTo>
                  <a:pt x="0" y="0"/>
                </a:moveTo>
                <a:lnTo>
                  <a:pt x="307" y="0"/>
                </a:lnTo>
                <a:lnTo>
                  <a:pt x="307" y="19"/>
                </a:lnTo>
                <a:lnTo>
                  <a:pt x="0" y="19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86440" y="2793960"/>
            <a:ext cx="0" cy="5796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052960" y="351936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052960" y="321804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052960" y="291312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52960" y="261144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268960" y="351936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08644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57388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05808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654516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703260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751680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800424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624200" y="334476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624200" y="304308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24200" y="273852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24200" y="243684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7536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6244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4664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3408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12152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0716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018640" y="334476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16440" y="2208240"/>
            <a:ext cx="6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67160" y="550548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267160" y="520056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67160" y="489744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084640" y="5761080"/>
            <a:ext cx="489240" cy="47520"/>
          </a:xfrm>
          <a:custGeom>
            <a:avLst/>
            <a:gdLst/>
            <a:ahLst/>
            <a:rect l="l" t="t" r="r" b="b"/>
            <a:pathLst>
              <a:path w="308" h="30">
                <a:moveTo>
                  <a:pt x="0" y="0"/>
                </a:moveTo>
                <a:lnTo>
                  <a:pt x="307" y="0"/>
                </a:lnTo>
                <a:lnTo>
                  <a:pt x="307" y="29"/>
                </a:lnTo>
                <a:lnTo>
                  <a:pt x="0" y="29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572080" y="5568840"/>
            <a:ext cx="487440" cy="239760"/>
          </a:xfrm>
          <a:custGeom>
            <a:avLst/>
            <a:gdLst/>
            <a:ahLst/>
            <a:rect l="l" t="t" r="r" b="b"/>
            <a:pathLst>
              <a:path w="307" h="151">
                <a:moveTo>
                  <a:pt x="0" y="0"/>
                </a:moveTo>
                <a:lnTo>
                  <a:pt x="306" y="0"/>
                </a:lnTo>
                <a:lnTo>
                  <a:pt x="306" y="150"/>
                </a:lnTo>
                <a:lnTo>
                  <a:pt x="0" y="150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58080" y="5334120"/>
            <a:ext cx="488880" cy="474480"/>
          </a:xfrm>
          <a:custGeom>
            <a:avLst/>
            <a:gdLst/>
            <a:ahLst/>
            <a:rect l="l" t="t" r="r" b="b"/>
            <a:pathLst>
              <a:path w="308" h="299">
                <a:moveTo>
                  <a:pt x="0" y="0"/>
                </a:moveTo>
                <a:lnTo>
                  <a:pt x="307" y="0"/>
                </a:lnTo>
                <a:lnTo>
                  <a:pt x="307" y="298"/>
                </a:lnTo>
                <a:lnTo>
                  <a:pt x="0" y="298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45160" y="5334120"/>
            <a:ext cx="490680" cy="474480"/>
          </a:xfrm>
          <a:custGeom>
            <a:avLst/>
            <a:gdLst/>
            <a:ahLst/>
            <a:rect l="l" t="t" r="r" b="b"/>
            <a:pathLst>
              <a:path w="309" h="299">
                <a:moveTo>
                  <a:pt x="0" y="0"/>
                </a:moveTo>
                <a:lnTo>
                  <a:pt x="308" y="0"/>
                </a:lnTo>
                <a:lnTo>
                  <a:pt x="308" y="298"/>
                </a:lnTo>
                <a:lnTo>
                  <a:pt x="0" y="298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34040" y="5568840"/>
            <a:ext cx="486000" cy="239760"/>
          </a:xfrm>
          <a:custGeom>
            <a:avLst/>
            <a:gdLst/>
            <a:ahLst/>
            <a:rect l="l" t="t" r="r" b="b"/>
            <a:pathLst>
              <a:path w="306" h="151">
                <a:moveTo>
                  <a:pt x="0" y="0"/>
                </a:moveTo>
                <a:lnTo>
                  <a:pt x="305" y="0"/>
                </a:lnTo>
                <a:lnTo>
                  <a:pt x="305" y="150"/>
                </a:lnTo>
                <a:lnTo>
                  <a:pt x="0" y="150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518240" y="5761080"/>
            <a:ext cx="489240" cy="47520"/>
          </a:xfrm>
          <a:custGeom>
            <a:avLst/>
            <a:gdLst/>
            <a:ahLst/>
            <a:rect l="l" t="t" r="r" b="b"/>
            <a:pathLst>
              <a:path w="308" h="30">
                <a:moveTo>
                  <a:pt x="0" y="0"/>
                </a:moveTo>
                <a:lnTo>
                  <a:pt x="307" y="0"/>
                </a:lnTo>
                <a:lnTo>
                  <a:pt x="307" y="29"/>
                </a:lnTo>
                <a:lnTo>
                  <a:pt x="0" y="29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084640" y="5079960"/>
            <a:ext cx="0" cy="5810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51520" y="580716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051520" y="550548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051520" y="520056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051520" y="489744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67160" y="580716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08464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57208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605808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654516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703404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751824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800568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22760" y="532908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22760" y="502452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22760" y="472284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17356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66244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4664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63588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2296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60716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020080" y="563076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29040" y="4494240"/>
            <a:ext cx="6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676760" y="56484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949320" y="2133720"/>
                <a:ext cx="30844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906480" y="2871720"/>
                <a:ext cx="33987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q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rad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0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949320" y="4419720"/>
                <a:ext cx="30844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906480" y="5157720"/>
                <a:ext cx="33987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q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</m:e>
                        </m:rad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685800" y="4191120"/>
            <a:ext cx="7848720" cy="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inomial Characteristic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1371600" y="1523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35DD7-17D1-40E3-B273-8343985B7D5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447920" y="2819520"/>
            <a:ext cx="4114800" cy="228600"/>
          </a:xfrm>
          <a:prstGeom prst="rect">
            <a:avLst/>
          </a:prstGeom>
          <a:solidFill>
            <a:srgbClr val="fff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952880" y="1905120"/>
            <a:ext cx="609840" cy="1143000"/>
          </a:xfrm>
          <a:prstGeom prst="rect">
            <a:avLst/>
          </a:prstGeom>
          <a:solidFill>
            <a:srgbClr val="fff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52880" y="2819520"/>
            <a:ext cx="609840" cy="228600"/>
          </a:xfrm>
          <a:prstGeom prst="rect">
            <a:avLst/>
          </a:prstGeom>
          <a:solidFill>
            <a:srgbClr val="ffffc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505320" y="3886200"/>
            <a:ext cx="480060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505320" y="3962520"/>
            <a:ext cx="609480" cy="914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3505320" y="3885480"/>
            <a:ext cx="609480" cy="25884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90720" y="5943600"/>
            <a:ext cx="655308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90720" y="5486400"/>
            <a:ext cx="6553080" cy="380880"/>
          </a:xfrm>
          <a:prstGeom prst="rect">
            <a:avLst/>
          </a:prstGeom>
          <a:solidFill>
            <a:srgbClr val="fff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Using Binomial Tab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1295280" y="1600200"/>
          <a:ext cx="7162920" cy="3370320"/>
        </p:xfrm>
        <a:graphic>
          <a:graphicData uri="http://schemas.openxmlformats.org/drawingml/2006/table">
            <a:tbl>
              <a:tblPr/>
              <a:tblGrid>
                <a:gridCol w="716040"/>
                <a:gridCol w="716040"/>
                <a:gridCol w="717480"/>
                <a:gridCol w="716040"/>
                <a:gridCol w="716040"/>
                <a:gridCol w="715680"/>
                <a:gridCol w="716040"/>
                <a:gridCol w="717480"/>
                <a:gridCol w="669960"/>
                <a:gridCol w="762120"/>
              </a:tblGrid>
              <a:tr h="27648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=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7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8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2" name=""/>
          <p:cNvSpPr/>
          <p:nvPr/>
        </p:nvSpPr>
        <p:spPr>
          <a:xfrm>
            <a:off x="990720" y="5029200"/>
            <a:ext cx="708660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10, p = .35, x = 3:       P(x = 3|n =10, p = .35) = .25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10, p = .75, x = 2:       P(x = 2|n =10, p = .75) = .0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03BA1-6CF4-4254-8100-C69B2FF74C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Using PHSt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PHStat / Probability &amp; Prob. Distributions / Binomi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7162920" cy="416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F7BBF-234A-4CF9-8953-F5AC86E2DE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Using PHSt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8000"/>
          </a:bodyPr>
          <a:p>
            <a:pPr marL="25560" indent="-25560"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ter desired values in dialog bo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3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ere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 = 1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 = .3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3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utput for x = 0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x = 10 will b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nerated by PHSt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ptional check box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r additional outpu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4129200" cy="377532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2971800" y="2514600"/>
            <a:ext cx="426708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048120" y="2971800"/>
            <a:ext cx="419076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038480" y="3733560"/>
            <a:ext cx="266724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3962520" y="4952880"/>
            <a:ext cx="106668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82ADC-BE73-4B66-9CB3-10E254E6A0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705640" cy="478152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4267080" y="2971800"/>
            <a:ext cx="3886200" cy="30492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(x = 3 | n = 10, p = .35) = .25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HStat Outpu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0" y="5867280"/>
            <a:ext cx="3886200" cy="30492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(x &gt; 5 | n = 10, p = .35) = .09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A01E3-AA29-467E-AD35-905D15D788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 flipH="1">
            <a:off x="159984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-2057400" y="502920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1599840" y="5943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-2057400" y="365760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1599840" y="45720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438280" y="25909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" y="533520"/>
            <a:ext cx="824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23880" y="457200"/>
            <a:ext cx="7045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Poisson Distrib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438280" y="259092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600200" y="3962520"/>
            <a:ext cx="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43400" y="24382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828800" y="4343400"/>
            <a:ext cx="167652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28800" y="5715000"/>
            <a:ext cx="259092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geo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828800" y="5029200"/>
            <a:ext cx="1447920" cy="454680"/>
          </a:xfrm>
          <a:prstGeom prst="rect">
            <a:avLst/>
          </a:prstGeom>
          <a:solidFill>
            <a:srgbClr val="a0c7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76720" y="1600200"/>
            <a:ext cx="2286000" cy="82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447920" y="2743200"/>
            <a:ext cx="220968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re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-2057400" y="434340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5D075-0B67-48E9-851F-C4EED126FF3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The Poisson Distribution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41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aracteristics of the Poisson Distribution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The outcomes of interest ar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are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relative to the possible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The average number of outcomes of interest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er time or space interval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is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The number of outcomes of interest are random, and the occurrence of one outcome does not influence the chances of another outcome of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The probability of that an outcome of interest occurs in a given segment is the same for all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D6236-A7E9-4C6A-A546-F5E6768F1BB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3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the binomial distribution to applied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probabilities for the Poisson and hypergeometric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probabilities using a normal distribution table and apply the normal distribution to business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 when to apply the uniform and exponential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23841-0471-4C79-81FD-72F523B12F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Tahoma"/>
              </a:rPr>
              <a:t>Poisson Distribution Formula</a:t>
            </a:r>
            <a:endParaRPr b="0" lang="en-US" sz="3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1143000" y="3809880"/>
            <a:ext cx="7391520" cy="243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  = size of the segment of interest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 = number of successes in segment of interes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= expected number of successes in a segment of unit siz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 = base of the natural logarithm system (2.71828...)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2644920" y="1981080"/>
                <a:ext cx="370332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λ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t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01021-17D4-4024-8B61-34CF14FE6E2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oisson Distribution Characteristic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182880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914400" y="297180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ce and Standard Dev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4038480" y="2133720"/>
                <a:ext cx="12718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3968640" y="3692520"/>
                <a:ext cx="13827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3968640" y="4454640"/>
                <a:ext cx="15256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λ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05" name=""/>
          <p:cNvSpPr/>
          <p:nvPr/>
        </p:nvSpPr>
        <p:spPr>
          <a:xfrm>
            <a:off x="1066680" y="533412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= number of successes in a segment of unit siz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 = the size of the segment of interes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E977D-A422-4B52-9964-B9DD4393B1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447920" y="2819520"/>
            <a:ext cx="4114800" cy="304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4952880" y="2056680"/>
            <a:ext cx="609840" cy="1066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4952880" y="2819520"/>
            <a:ext cx="609840" cy="304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990720" y="4648320"/>
            <a:ext cx="6476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Using Poisson Tab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1295280" y="1752480"/>
          <a:ext cx="7162920" cy="2444760"/>
        </p:xfrm>
        <a:graphic>
          <a:graphicData uri="http://schemas.openxmlformats.org/drawingml/2006/table">
            <a:tbl>
              <a:tblPr/>
              <a:tblGrid>
                <a:gridCol w="716040"/>
                <a:gridCol w="716040"/>
                <a:gridCol w="717480"/>
                <a:gridCol w="716040"/>
                <a:gridCol w="716040"/>
                <a:gridCol w="715680"/>
                <a:gridCol w="716040"/>
                <a:gridCol w="717480"/>
                <a:gridCol w="669960"/>
                <a:gridCol w="7621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1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4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7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0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4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2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5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6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"/>
          <p:cNvSpPr/>
          <p:nvPr/>
        </p:nvSpPr>
        <p:spPr>
          <a:xfrm>
            <a:off x="990720" y="4572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 Find P(x = 2)  i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05  and  t 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1547640" y="5181480"/>
                <a:ext cx="644688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λ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t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!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5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D8F6B-F03E-46D2-82A6-8BD0C8DDFB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Graph of Poisson Probabiliti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2895480" y="1676520"/>
          <a:ext cx="5896080" cy="396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676520"/>
                    <a:ext cx="58960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609480" y="2895480"/>
          <a:ext cx="2057400" cy="337212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0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8" name=""/>
          <p:cNvSpPr/>
          <p:nvPr/>
        </p:nvSpPr>
        <p:spPr>
          <a:xfrm>
            <a:off x="3124080" y="449568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4495680"/>
            <a:ext cx="5331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38080" y="4267080"/>
            <a:ext cx="1752840" cy="381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114800" y="5638680"/>
            <a:ext cx="2514600" cy="459720"/>
          </a:xfrm>
          <a:prstGeom prst="rect">
            <a:avLst/>
          </a:prstGeom>
          <a:solidFill>
            <a:srgbClr val="fff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x = 2) = .075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5257800" y="51814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1905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raphical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0880" y="243828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.05  and  t =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4C561-1158-4277-AA34-1F964287363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oisson Distribution Shap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hape of the Poisson Distribution depends on the parameter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4572000" y="3303720"/>
          <a:ext cx="4419720" cy="285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303720"/>
                    <a:ext cx="4419720" cy="28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228600" y="3301920"/>
          <a:ext cx="4191120" cy="2814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301920"/>
                    <a:ext cx="4191120" cy="28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"/>
          <p:cNvSpPr/>
          <p:nvPr/>
        </p:nvSpPr>
        <p:spPr>
          <a:xfrm>
            <a:off x="1600200" y="28954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 = 0.5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248520" y="29718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 =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A15CF-8178-403B-A9D8-20F6345FA6F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 flipH="1">
            <a:off x="159984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-2057400" y="502920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1599840" y="5943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-2057400" y="365760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1599840" y="45720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438280" y="25909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57200" y="533520"/>
            <a:ext cx="824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371600" y="457200"/>
            <a:ext cx="74674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Hypergeometric Distrib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38280" y="259092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600200" y="3962520"/>
            <a:ext cx="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343400" y="24382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4343400"/>
            <a:ext cx="167652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828800" y="5029200"/>
            <a:ext cx="144792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276720" y="1600200"/>
            <a:ext cx="2286000" cy="82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447920" y="2743200"/>
            <a:ext cx="220968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re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-2057400" y="434340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828800" y="5715000"/>
            <a:ext cx="2590920" cy="454680"/>
          </a:xfrm>
          <a:prstGeom prst="rect">
            <a:avLst/>
          </a:prstGeom>
          <a:solidFill>
            <a:srgbClr val="bbd7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geo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442DD-42F3-442E-BAE6-655235175B5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Hypergeometric Distrib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” trials in a sample taken from a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nite pop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size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taken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ithout re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als ar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rned with finding the probability of “x” successes in the sample where there are “X” successes in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AE71F-6BF3-4DFA-8CBA-D01CC8B46EF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Hypergeometric Distribution Formula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2309760" y="2286000"/>
                <a:ext cx="4143600" cy="17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bSup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X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4" name=""/>
          <p:cNvSpPr/>
          <p:nvPr/>
        </p:nvSpPr>
        <p:spPr>
          <a:xfrm>
            <a:off x="5029200" y="23623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219320" y="4114800"/>
            <a:ext cx="7315200" cy="20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Population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number of successes in the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sample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number of successes in the 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– x = number of failures in the 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990720" y="17524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wo possible outcomes per tr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622BA-46A2-4D41-A2E3-05B7FF266C4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2057400" y="3124080"/>
            <a:ext cx="3352680" cy="1067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Hypergeometric Distribution Formula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1062000" y="4495680"/>
                <a:ext cx="732312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bSup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X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6</m:t>
                            </m:r>
                          </m:sup>
                        </m:sSubSup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076960" cy="2590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buClr>
                <a:srgbClr val="3333cc"/>
              </a:buClr>
              <a:buSzPct val="60000"/>
              <a:buFont typeface="Arial"/>
              <a:buChar char="■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 Light bulbs were selected from 10. Of the 10 there were 4 defective. What is the probability that 2 of the 3 selected are defect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x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308D5-049F-4EBD-93AE-0423989C194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Hypergeometric Distribution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 PHSt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lect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476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HStat / Probability &amp; Prob. Distributions / Hypergeometric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1676520" y="2666880"/>
            <a:ext cx="6105240" cy="354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9BD61-6EF5-424A-B182-56CBD48B204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257800" y="380988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257440" y="52578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257440" y="59436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599840" y="52578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2057400" y="502920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599840" y="59436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-2057400" y="365760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599840" y="45720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259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259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533520"/>
            <a:ext cx="824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457200"/>
            <a:ext cx="7045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robability Distribu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05520" y="2743200"/>
            <a:ext cx="2209680" cy="1186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38280" y="2590920"/>
            <a:ext cx="3810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380988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24382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4343400"/>
            <a:ext cx="1676520" cy="454680"/>
          </a:xfrm>
          <a:prstGeom prst="rect">
            <a:avLst/>
          </a:prstGeom>
          <a:solidFill>
            <a:srgbClr val="bbd7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28800" y="5715000"/>
            <a:ext cx="2590920" cy="454680"/>
          </a:xfrm>
          <a:prstGeom prst="rect">
            <a:avLst/>
          </a:prstGeom>
          <a:solidFill>
            <a:srgbClr val="bbd7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geo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5029200"/>
            <a:ext cx="1447920" cy="454680"/>
          </a:xfrm>
          <a:prstGeom prst="rect">
            <a:avLst/>
          </a:prstGeom>
          <a:solidFill>
            <a:srgbClr val="bbd7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1600200"/>
            <a:ext cx="2286000" cy="82044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2743200"/>
            <a:ext cx="2209680" cy="1186200"/>
          </a:xfrm>
          <a:prstGeom prst="rect">
            <a:avLst/>
          </a:prstGeom>
          <a:solidFill>
            <a:srgbClr val="bbd7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re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257440" y="45720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-2057400" y="434340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86400" y="4343400"/>
            <a:ext cx="1676520" cy="454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86400" y="5029200"/>
            <a:ext cx="1676520" cy="454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86400" y="5715000"/>
            <a:ext cx="1981080" cy="454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130F3-F6C4-4818-AD32-B07A2A42FD07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1143000" y="2438280"/>
            <a:ext cx="24382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Hypergeometric Distribution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 PHSt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plete dialog box entries and get outpu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3962520" y="2286000"/>
            <a:ext cx="3828960" cy="390528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304920" y="3276720"/>
            <a:ext cx="3009960" cy="24858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6477120" y="5638680"/>
            <a:ext cx="1295280" cy="304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85800" y="243828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n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x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352680" y="434340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19920" y="61722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P(x = 2) = 0.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543800" y="1143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FBE14-F380-49F5-B2DF-A10C5B4364E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5257800" y="3962520"/>
            <a:ext cx="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525744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5257440" y="5943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-2057400" y="502920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-2057400" y="365760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248520" y="25909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57200" y="533520"/>
            <a:ext cx="824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523880" y="457200"/>
            <a:ext cx="7045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Normal Distrib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105520" y="2743200"/>
            <a:ext cx="220968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43400" y="259092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343400" y="24382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276720" y="1600200"/>
            <a:ext cx="2286000" cy="82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5257440" y="45720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-2057400" y="434340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486400" y="4343400"/>
            <a:ext cx="1676520" cy="454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486400" y="5029200"/>
            <a:ext cx="167652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486400" y="5715000"/>
            <a:ext cx="198108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1F22B-9653-4FDD-801B-232BDA227B35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ahoma"/>
              </a:rPr>
              <a:t>The Normal Distribution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ell Shape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ff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ymmetrical</a:t>
            </a: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cd7a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33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d7a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Mean, Median and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3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are 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ion is determined by the mean,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read is determined by the standard deviation,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dom variable has an infinite theoretical rang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3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o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324480" y="4800600"/>
            <a:ext cx="1533600" cy="10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e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= Medi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=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010280" y="4419720"/>
            <a:ext cx="0" cy="350640"/>
          </a:xfrm>
          <a:prstGeom prst="line">
            <a:avLst/>
          </a:prstGeom>
          <a:ln w="12600">
            <a:solidFill>
              <a:srgbClr val="1c1c1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010280" y="2743200"/>
            <a:ext cx="1430280" cy="114444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900" y="720"/>
                </a:moveTo>
                <a:lnTo>
                  <a:pt x="805" y="712"/>
                </a:lnTo>
                <a:lnTo>
                  <a:pt x="758" y="704"/>
                </a:lnTo>
                <a:lnTo>
                  <a:pt x="711" y="691"/>
                </a:lnTo>
                <a:lnTo>
                  <a:pt x="663" y="675"/>
                </a:lnTo>
                <a:lnTo>
                  <a:pt x="615" y="653"/>
                </a:lnTo>
                <a:lnTo>
                  <a:pt x="568" y="623"/>
                </a:lnTo>
                <a:lnTo>
                  <a:pt x="473" y="540"/>
                </a:lnTo>
                <a:lnTo>
                  <a:pt x="378" y="422"/>
                </a:lnTo>
                <a:lnTo>
                  <a:pt x="284" y="281"/>
                </a:lnTo>
                <a:lnTo>
                  <a:pt x="236" y="209"/>
                </a:lnTo>
                <a:lnTo>
                  <a:pt x="189" y="142"/>
                </a:lnTo>
                <a:lnTo>
                  <a:pt x="142" y="83"/>
                </a:lnTo>
                <a:lnTo>
                  <a:pt x="94" y="38"/>
                </a:lnTo>
                <a:lnTo>
                  <a:pt x="47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562720" y="2743200"/>
            <a:ext cx="1430280" cy="114444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0" y="720"/>
                </a:moveTo>
                <a:lnTo>
                  <a:pt x="95" y="712"/>
                </a:lnTo>
                <a:lnTo>
                  <a:pt x="142" y="704"/>
                </a:lnTo>
                <a:lnTo>
                  <a:pt x="189" y="691"/>
                </a:lnTo>
                <a:lnTo>
                  <a:pt x="237" y="675"/>
                </a:lnTo>
                <a:lnTo>
                  <a:pt x="284" y="653"/>
                </a:lnTo>
                <a:lnTo>
                  <a:pt x="331" y="623"/>
                </a:lnTo>
                <a:lnTo>
                  <a:pt x="426" y="540"/>
                </a:lnTo>
                <a:lnTo>
                  <a:pt x="521" y="422"/>
                </a:lnTo>
                <a:lnTo>
                  <a:pt x="616" y="281"/>
                </a:lnTo>
                <a:lnTo>
                  <a:pt x="663" y="209"/>
                </a:lnTo>
                <a:lnTo>
                  <a:pt x="710" y="142"/>
                </a:lnTo>
                <a:lnTo>
                  <a:pt x="757" y="83"/>
                </a:lnTo>
                <a:lnTo>
                  <a:pt x="805" y="38"/>
                </a:lnTo>
                <a:lnTo>
                  <a:pt x="852" y="9"/>
                </a:lnTo>
                <a:lnTo>
                  <a:pt x="90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010280" y="2743200"/>
            <a:ext cx="0" cy="121932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86400" y="2743200"/>
            <a:ext cx="3005280" cy="1214280"/>
          </a:xfrm>
          <a:custGeom>
            <a:avLst/>
            <a:gdLst/>
            <a:ahLst/>
            <a:rect l="l" t="t" r="r" b="b"/>
            <a:pathLst>
              <a:path w="1893" h="765">
                <a:moveTo>
                  <a:pt x="0" y="0"/>
                </a:moveTo>
                <a:lnTo>
                  <a:pt x="0" y="764"/>
                </a:lnTo>
                <a:lnTo>
                  <a:pt x="1892" y="764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556240" y="265896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556240" y="278136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56240" y="290196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556240" y="302436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556240" y="314496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556240" y="326700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556240" y="338760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556240" y="351000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556240" y="363060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56240" y="375120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57412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27388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97256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7232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37244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07220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77232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47208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7076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87052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443560" y="3174840"/>
            <a:ext cx="921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980400" y="384984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534520" y="361476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181120" y="2209680"/>
            <a:ext cx="657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0" y="396252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c1c1c"/>
                </a:solidFill>
                <a:latin typeface="Arial"/>
                <a:ea typeface="Arial"/>
              </a:rPr>
              <a:t>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08660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c1c1c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7010280" y="3352680"/>
            <a:ext cx="533520" cy="0"/>
          </a:xfrm>
          <a:prstGeom prst="line">
            <a:avLst/>
          </a:prstGeom>
          <a:ln w="12600">
            <a:solidFill>
              <a:srgbClr val="1c1c1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60985-936C-4EF3-851F-6F462F68E16C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457200" y="533520"/>
            <a:ext cx="824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800600" y="2666880"/>
            <a:ext cx="398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952880" y="266688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1676520" y="1981080"/>
          <a:ext cx="5105160" cy="29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81080"/>
                    <a:ext cx="5105160" cy="29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1" name=""/>
          <p:cNvSpPr/>
          <p:nvPr/>
        </p:nvSpPr>
        <p:spPr>
          <a:xfrm>
            <a:off x="762120" y="5181480"/>
            <a:ext cx="7311960" cy="820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varying the paramet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e obtain different normal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295280" y="380880"/>
            <a:ext cx="7467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ahoma"/>
              </a:rPr>
              <a:t>Many Normal Distribution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EBAD4-FEA0-480D-A3CC-AB856FD6C543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Normal Distribution Shap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4267080" y="4267080"/>
            <a:ext cx="762120" cy="0"/>
          </a:xfrm>
          <a:prstGeom prst="line">
            <a:avLst/>
          </a:prstGeom>
          <a:ln w="12600">
            <a:solidFill>
              <a:srgbClr val="1c1c1c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828800" y="2971800"/>
            <a:ext cx="5029200" cy="2438280"/>
          </a:xfrm>
          <a:custGeom>
            <a:avLst/>
            <a:gdLst/>
            <a:ahLst/>
            <a:rect l="l" t="t" r="r" b="b"/>
            <a:pathLst>
              <a:path w="1893" h="765">
                <a:moveTo>
                  <a:pt x="0" y="0"/>
                </a:moveTo>
                <a:lnTo>
                  <a:pt x="0" y="764"/>
                </a:lnTo>
                <a:lnTo>
                  <a:pt x="1892" y="764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900520" y="320688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900520" y="332892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900520" y="344952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900520" y="357192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900520" y="369252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900520" y="381492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900520" y="393552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900520" y="405756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900520" y="417816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900520" y="429912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918040" y="442764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618160" y="442764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16480" y="442764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016600" y="442764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716360" y="442764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416480" y="442764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116240" y="442764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16360" y="442764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14680" y="442764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214800" y="442764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787480" y="3722760"/>
            <a:ext cx="921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324320" y="43974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010280" y="541008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94920" y="2362320"/>
            <a:ext cx="657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114800" y="5410080"/>
            <a:ext cx="47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495680" y="4191120"/>
            <a:ext cx="47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267080" y="3429000"/>
            <a:ext cx="2438640" cy="190512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900" y="720"/>
                </a:moveTo>
                <a:lnTo>
                  <a:pt x="805" y="712"/>
                </a:lnTo>
                <a:lnTo>
                  <a:pt x="758" y="704"/>
                </a:lnTo>
                <a:lnTo>
                  <a:pt x="711" y="691"/>
                </a:lnTo>
                <a:lnTo>
                  <a:pt x="663" y="675"/>
                </a:lnTo>
                <a:lnTo>
                  <a:pt x="615" y="653"/>
                </a:lnTo>
                <a:lnTo>
                  <a:pt x="568" y="623"/>
                </a:lnTo>
                <a:lnTo>
                  <a:pt x="473" y="540"/>
                </a:lnTo>
                <a:lnTo>
                  <a:pt x="378" y="422"/>
                </a:lnTo>
                <a:lnTo>
                  <a:pt x="284" y="281"/>
                </a:lnTo>
                <a:lnTo>
                  <a:pt x="236" y="209"/>
                </a:lnTo>
                <a:lnTo>
                  <a:pt x="189" y="142"/>
                </a:lnTo>
                <a:lnTo>
                  <a:pt x="142" y="83"/>
                </a:lnTo>
                <a:lnTo>
                  <a:pt x="94" y="38"/>
                </a:lnTo>
                <a:lnTo>
                  <a:pt x="47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905120" y="3429000"/>
            <a:ext cx="2344680" cy="190512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0" y="720"/>
                </a:moveTo>
                <a:lnTo>
                  <a:pt x="95" y="712"/>
                </a:lnTo>
                <a:lnTo>
                  <a:pt x="142" y="704"/>
                </a:lnTo>
                <a:lnTo>
                  <a:pt x="189" y="691"/>
                </a:lnTo>
                <a:lnTo>
                  <a:pt x="237" y="675"/>
                </a:lnTo>
                <a:lnTo>
                  <a:pt x="284" y="653"/>
                </a:lnTo>
                <a:lnTo>
                  <a:pt x="331" y="623"/>
                </a:lnTo>
                <a:lnTo>
                  <a:pt x="426" y="540"/>
                </a:lnTo>
                <a:lnTo>
                  <a:pt x="521" y="422"/>
                </a:lnTo>
                <a:lnTo>
                  <a:pt x="616" y="281"/>
                </a:lnTo>
                <a:lnTo>
                  <a:pt x="663" y="209"/>
                </a:lnTo>
                <a:lnTo>
                  <a:pt x="710" y="142"/>
                </a:lnTo>
                <a:lnTo>
                  <a:pt x="757" y="83"/>
                </a:lnTo>
                <a:lnTo>
                  <a:pt x="805" y="38"/>
                </a:lnTo>
                <a:lnTo>
                  <a:pt x="852" y="9"/>
                </a:lnTo>
                <a:lnTo>
                  <a:pt x="90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267080" y="3505320"/>
            <a:ext cx="0" cy="190476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819520" y="243828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Changing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shifts the distribution left or r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410080" y="35812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Changing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increases or decreases the spr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7D239-D97D-40E1-A974-EF58A89D9D6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90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inding Normal Probabilities</a:t>
            </a:r>
            <a:r>
              <a:rPr b="0" lang="en-US" sz="4100" spc="-1" strike="noStrike">
                <a:solidFill>
                  <a:srgbClr val="f8f8f8"/>
                </a:solidFill>
                <a:latin typeface="Tahoma"/>
              </a:rPr>
              <a:t>  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426960" y="1798560"/>
            <a:ext cx="28051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ility is th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ea under th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v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313160" y="3610080"/>
            <a:ext cx="870120" cy="2041560"/>
          </a:xfrm>
          <a:custGeom>
            <a:avLst/>
            <a:gdLst/>
            <a:ahLst/>
            <a:rect l="l" t="t" r="r" b="b"/>
            <a:pathLst>
              <a:path w="548" h="1286">
                <a:moveTo>
                  <a:pt x="87" y="27"/>
                </a:moveTo>
                <a:lnTo>
                  <a:pt x="150" y="60"/>
                </a:lnTo>
                <a:lnTo>
                  <a:pt x="243" y="174"/>
                </a:lnTo>
                <a:lnTo>
                  <a:pt x="318" y="288"/>
                </a:lnTo>
                <a:lnTo>
                  <a:pt x="408" y="447"/>
                </a:lnTo>
                <a:lnTo>
                  <a:pt x="483" y="585"/>
                </a:lnTo>
                <a:lnTo>
                  <a:pt x="543" y="678"/>
                </a:lnTo>
                <a:lnTo>
                  <a:pt x="548" y="1286"/>
                </a:lnTo>
                <a:lnTo>
                  <a:pt x="0" y="1286"/>
                </a:lnTo>
                <a:lnTo>
                  <a:pt x="0" y="0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160880" y="5576760"/>
            <a:ext cx="371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cc33"/>
                </a:solidFill>
                <a:latin typeface="Arial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32240" y="3606840"/>
            <a:ext cx="322200" cy="209520"/>
          </a:xfrm>
          <a:custGeom>
            <a:avLst/>
            <a:gdLst/>
            <a:ahLst/>
            <a:rect l="l" t="t" r="r" b="b"/>
            <a:pathLst>
              <a:path w="203" h="132">
                <a:moveTo>
                  <a:pt x="0" y="2"/>
                </a:moveTo>
                <a:lnTo>
                  <a:pt x="27" y="0"/>
                </a:lnTo>
                <a:lnTo>
                  <a:pt x="54" y="3"/>
                </a:lnTo>
                <a:lnTo>
                  <a:pt x="79" y="14"/>
                </a:lnTo>
                <a:lnTo>
                  <a:pt x="101" y="28"/>
                </a:lnTo>
                <a:lnTo>
                  <a:pt x="121" y="45"/>
                </a:lnTo>
                <a:lnTo>
                  <a:pt x="135" y="67"/>
                </a:lnTo>
                <a:lnTo>
                  <a:pt x="202" y="13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998960" y="5576760"/>
            <a:ext cx="3902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6600"/>
                </a:solidFill>
                <a:latin typeface="Arial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64480" y="55627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332240" y="3610080"/>
            <a:ext cx="2154240" cy="1981080"/>
          </a:xfrm>
          <a:custGeom>
            <a:avLst/>
            <a:gdLst/>
            <a:ahLst/>
            <a:rect l="l" t="t" r="r" b="b"/>
            <a:pathLst>
              <a:path w="1357" h="1248">
                <a:moveTo>
                  <a:pt x="1356" y="1247"/>
                </a:moveTo>
                <a:lnTo>
                  <a:pt x="1213" y="1232"/>
                </a:lnTo>
                <a:lnTo>
                  <a:pt x="1141" y="1218"/>
                </a:lnTo>
                <a:lnTo>
                  <a:pt x="1070" y="1199"/>
                </a:lnTo>
                <a:lnTo>
                  <a:pt x="1000" y="1170"/>
                </a:lnTo>
                <a:lnTo>
                  <a:pt x="927" y="1132"/>
                </a:lnTo>
                <a:lnTo>
                  <a:pt x="857" y="1080"/>
                </a:lnTo>
                <a:lnTo>
                  <a:pt x="714" y="935"/>
                </a:lnTo>
                <a:lnTo>
                  <a:pt x="571" y="731"/>
                </a:lnTo>
                <a:lnTo>
                  <a:pt x="428" y="487"/>
                </a:lnTo>
                <a:lnTo>
                  <a:pt x="356" y="363"/>
                </a:lnTo>
                <a:lnTo>
                  <a:pt x="286" y="247"/>
                </a:lnTo>
                <a:lnTo>
                  <a:pt x="213" y="145"/>
                </a:lnTo>
                <a:lnTo>
                  <a:pt x="143" y="67"/>
                </a:lnTo>
                <a:lnTo>
                  <a:pt x="70" y="17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179800" y="3610080"/>
            <a:ext cx="2138040" cy="1965240"/>
          </a:xfrm>
          <a:custGeom>
            <a:avLst/>
            <a:gdLst/>
            <a:ahLst/>
            <a:rect l="l" t="t" r="r" b="b"/>
            <a:pathLst>
              <a:path w="1347" h="1238">
                <a:moveTo>
                  <a:pt x="0" y="1238"/>
                </a:moveTo>
                <a:lnTo>
                  <a:pt x="143" y="1223"/>
                </a:lnTo>
                <a:lnTo>
                  <a:pt x="213" y="1209"/>
                </a:lnTo>
                <a:lnTo>
                  <a:pt x="285" y="1190"/>
                </a:lnTo>
                <a:lnTo>
                  <a:pt x="356" y="1161"/>
                </a:lnTo>
                <a:lnTo>
                  <a:pt x="428" y="1123"/>
                </a:lnTo>
                <a:lnTo>
                  <a:pt x="499" y="1071"/>
                </a:lnTo>
                <a:lnTo>
                  <a:pt x="642" y="926"/>
                </a:lnTo>
                <a:lnTo>
                  <a:pt x="784" y="722"/>
                </a:lnTo>
                <a:lnTo>
                  <a:pt x="927" y="478"/>
                </a:lnTo>
                <a:lnTo>
                  <a:pt x="1000" y="354"/>
                </a:lnTo>
                <a:lnTo>
                  <a:pt x="1070" y="238"/>
                </a:lnTo>
                <a:lnTo>
                  <a:pt x="1141" y="136"/>
                </a:lnTo>
                <a:lnTo>
                  <a:pt x="1213" y="58"/>
                </a:lnTo>
                <a:lnTo>
                  <a:pt x="1284" y="8"/>
                </a:lnTo>
                <a:lnTo>
                  <a:pt x="1347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835280" y="3657600"/>
            <a:ext cx="5181480" cy="1981080"/>
          </a:xfrm>
          <a:custGeom>
            <a:avLst/>
            <a:gdLst/>
            <a:ahLst/>
            <a:rect l="l" t="t" r="r" b="b"/>
            <a:pathLst>
              <a:path w="2764" h="1245">
                <a:moveTo>
                  <a:pt x="0" y="0"/>
                </a:moveTo>
                <a:lnTo>
                  <a:pt x="0" y="1244"/>
                </a:lnTo>
                <a:lnTo>
                  <a:pt x="2763" y="1244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152800" y="361008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152800" y="380700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152800" y="400356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152800" y="420228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152800" y="439884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152800" y="459756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152800" y="479412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152800" y="499284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152800" y="518940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52800" y="538632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56604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12612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68656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24988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81176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37184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93372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49416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05748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61792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08280" y="4505400"/>
            <a:ext cx="918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473880" y="578484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377360" y="3124080"/>
            <a:ext cx="657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303880" y="3214800"/>
            <a:ext cx="42696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760360" y="3214800"/>
            <a:ext cx="38736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cc33"/>
                </a:solidFill>
                <a:latin typeface="Arial"/>
              </a:rPr>
              <a:t>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446160" y="3214800"/>
            <a:ext cx="38736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132320" y="3214800"/>
            <a:ext cx="40716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6600"/>
                </a:solidFill>
                <a:latin typeface="Arial"/>
              </a:rPr>
              <a:t>b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608080" y="3214800"/>
            <a:ext cx="30492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392240" y="3170160"/>
            <a:ext cx="30492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020280" y="3214800"/>
            <a:ext cx="47412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782040" y="3214800"/>
            <a:ext cx="47412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371600" y="1905120"/>
            <a:ext cx="6781680" cy="9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Arial"/>
              </a:rPr>
              <a:t>Probability is measured by the area under the curv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4770360" y="3519360"/>
            <a:ext cx="53352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D91B5-E900-437D-91F4-1EBC1B24B6A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1600200" y="3048120"/>
            <a:ext cx="5486400" cy="2438280"/>
          </a:xfrm>
          <a:custGeom>
            <a:avLst/>
            <a:gdLst/>
            <a:ahLst/>
            <a:rect l="l" t="t" r="r" b="b"/>
            <a:pathLst>
              <a:path w="1893" h="765">
                <a:moveTo>
                  <a:pt x="0" y="0"/>
                </a:moveTo>
                <a:lnTo>
                  <a:pt x="0" y="764"/>
                </a:lnTo>
                <a:lnTo>
                  <a:pt x="1892" y="764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913680" y="2819520"/>
            <a:ext cx="657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495680" y="3505320"/>
            <a:ext cx="2438640" cy="190476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900" y="720"/>
                </a:moveTo>
                <a:lnTo>
                  <a:pt x="805" y="712"/>
                </a:lnTo>
                <a:lnTo>
                  <a:pt x="758" y="704"/>
                </a:lnTo>
                <a:lnTo>
                  <a:pt x="711" y="691"/>
                </a:lnTo>
                <a:lnTo>
                  <a:pt x="663" y="675"/>
                </a:lnTo>
                <a:lnTo>
                  <a:pt x="615" y="653"/>
                </a:lnTo>
                <a:lnTo>
                  <a:pt x="568" y="623"/>
                </a:lnTo>
                <a:lnTo>
                  <a:pt x="473" y="540"/>
                </a:lnTo>
                <a:lnTo>
                  <a:pt x="378" y="422"/>
                </a:lnTo>
                <a:lnTo>
                  <a:pt x="284" y="281"/>
                </a:lnTo>
                <a:lnTo>
                  <a:pt x="236" y="209"/>
                </a:lnTo>
                <a:lnTo>
                  <a:pt x="189" y="142"/>
                </a:lnTo>
                <a:lnTo>
                  <a:pt x="142" y="83"/>
                </a:lnTo>
                <a:lnTo>
                  <a:pt x="94" y="38"/>
                </a:lnTo>
                <a:lnTo>
                  <a:pt x="47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133720" y="3505320"/>
            <a:ext cx="2344680" cy="190476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0" y="720"/>
                </a:moveTo>
                <a:lnTo>
                  <a:pt x="95" y="712"/>
                </a:lnTo>
                <a:lnTo>
                  <a:pt x="142" y="704"/>
                </a:lnTo>
                <a:lnTo>
                  <a:pt x="189" y="691"/>
                </a:lnTo>
                <a:lnTo>
                  <a:pt x="237" y="675"/>
                </a:lnTo>
                <a:lnTo>
                  <a:pt x="284" y="653"/>
                </a:lnTo>
                <a:lnTo>
                  <a:pt x="331" y="623"/>
                </a:lnTo>
                <a:lnTo>
                  <a:pt x="426" y="540"/>
                </a:lnTo>
                <a:lnTo>
                  <a:pt x="521" y="422"/>
                </a:lnTo>
                <a:lnTo>
                  <a:pt x="616" y="281"/>
                </a:lnTo>
                <a:lnTo>
                  <a:pt x="663" y="209"/>
                </a:lnTo>
                <a:lnTo>
                  <a:pt x="710" y="142"/>
                </a:lnTo>
                <a:lnTo>
                  <a:pt x="757" y="83"/>
                </a:lnTo>
                <a:lnTo>
                  <a:pt x="805" y="38"/>
                </a:lnTo>
                <a:lnTo>
                  <a:pt x="852" y="9"/>
                </a:lnTo>
                <a:lnTo>
                  <a:pt x="90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495680" y="3505320"/>
            <a:ext cx="0" cy="1981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086600" y="53341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343400" y="5334120"/>
            <a:ext cx="479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9933"/>
                </a:solidFill>
                <a:latin typeface="Arial"/>
                <a:ea typeface="Arial"/>
              </a:rPr>
              <a:t>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robability as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Area Under the Curv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8" name=""/>
          <p:cNvSpPr/>
          <p:nvPr/>
        </p:nvSpPr>
        <p:spPr>
          <a:xfrm>
            <a:off x="4648320" y="4572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733920" y="4572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066680" y="167652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otal area under the curve is 1.0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, and the curve is symmetric, so half is above the mean, half is be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2971800" y="5867280"/>
                <a:ext cx="35179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5562720" y="3124080"/>
                <a:ext cx="27320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1752480" y="2971800"/>
                <a:ext cx="29275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4" name=""/>
          <p:cNvSpPr/>
          <p:nvPr/>
        </p:nvSpPr>
        <p:spPr>
          <a:xfrm flipH="1">
            <a:off x="4952880" y="3581280"/>
            <a:ext cx="91440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200400" y="3429000"/>
            <a:ext cx="76212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6A464-1B18-4455-9ADD-C506E467DBA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mpirical Ru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647960" y="3200400"/>
            <a:ext cx="4190760" cy="914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716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± </a:t>
            </a: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</a:t>
            </a: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encloses about 68% of x’s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752480" y="2971800"/>
            <a:ext cx="5029200" cy="2438280"/>
          </a:xfrm>
          <a:custGeom>
            <a:avLst/>
            <a:gdLst/>
            <a:ahLst/>
            <a:rect l="l" t="t" r="r" b="b"/>
            <a:pathLst>
              <a:path w="1893" h="765">
                <a:moveTo>
                  <a:pt x="0" y="0"/>
                </a:moveTo>
                <a:lnTo>
                  <a:pt x="0" y="764"/>
                </a:lnTo>
                <a:lnTo>
                  <a:pt x="1892" y="764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142280" y="2819520"/>
            <a:ext cx="657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191120" y="3429000"/>
            <a:ext cx="2438280" cy="190512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900" y="720"/>
                </a:moveTo>
                <a:lnTo>
                  <a:pt x="805" y="712"/>
                </a:lnTo>
                <a:lnTo>
                  <a:pt x="758" y="704"/>
                </a:lnTo>
                <a:lnTo>
                  <a:pt x="711" y="691"/>
                </a:lnTo>
                <a:lnTo>
                  <a:pt x="663" y="675"/>
                </a:lnTo>
                <a:lnTo>
                  <a:pt x="615" y="653"/>
                </a:lnTo>
                <a:lnTo>
                  <a:pt x="568" y="623"/>
                </a:lnTo>
                <a:lnTo>
                  <a:pt x="473" y="540"/>
                </a:lnTo>
                <a:lnTo>
                  <a:pt x="378" y="422"/>
                </a:lnTo>
                <a:lnTo>
                  <a:pt x="284" y="281"/>
                </a:lnTo>
                <a:lnTo>
                  <a:pt x="236" y="209"/>
                </a:lnTo>
                <a:lnTo>
                  <a:pt x="189" y="142"/>
                </a:lnTo>
                <a:lnTo>
                  <a:pt x="142" y="83"/>
                </a:lnTo>
                <a:lnTo>
                  <a:pt x="94" y="38"/>
                </a:lnTo>
                <a:lnTo>
                  <a:pt x="47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828800" y="3429000"/>
            <a:ext cx="2344680" cy="190512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0" y="720"/>
                </a:moveTo>
                <a:lnTo>
                  <a:pt x="95" y="712"/>
                </a:lnTo>
                <a:lnTo>
                  <a:pt x="142" y="704"/>
                </a:lnTo>
                <a:lnTo>
                  <a:pt x="189" y="691"/>
                </a:lnTo>
                <a:lnTo>
                  <a:pt x="237" y="675"/>
                </a:lnTo>
                <a:lnTo>
                  <a:pt x="284" y="653"/>
                </a:lnTo>
                <a:lnTo>
                  <a:pt x="331" y="623"/>
                </a:lnTo>
                <a:lnTo>
                  <a:pt x="426" y="540"/>
                </a:lnTo>
                <a:lnTo>
                  <a:pt x="521" y="422"/>
                </a:lnTo>
                <a:lnTo>
                  <a:pt x="616" y="281"/>
                </a:lnTo>
                <a:lnTo>
                  <a:pt x="663" y="209"/>
                </a:lnTo>
                <a:lnTo>
                  <a:pt x="710" y="142"/>
                </a:lnTo>
                <a:lnTo>
                  <a:pt x="757" y="83"/>
                </a:lnTo>
                <a:lnTo>
                  <a:pt x="805" y="38"/>
                </a:lnTo>
                <a:lnTo>
                  <a:pt x="852" y="9"/>
                </a:lnTo>
                <a:lnTo>
                  <a:pt x="90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91120" y="3505320"/>
            <a:ext cx="0" cy="190476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781680" y="53341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038480" y="5486400"/>
            <a:ext cx="47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429000" y="4191120"/>
            <a:ext cx="0" cy="12189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91120" y="4191120"/>
            <a:ext cx="761760" cy="0"/>
          </a:xfrm>
          <a:prstGeom prst="line">
            <a:avLst/>
          </a:prstGeom>
          <a:ln w="12600">
            <a:solidFill>
              <a:srgbClr val="1c1c1c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429000" y="4191120"/>
            <a:ext cx="762120" cy="0"/>
          </a:xfrm>
          <a:prstGeom prst="line">
            <a:avLst/>
          </a:prstGeom>
          <a:ln w="12600">
            <a:solidFill>
              <a:srgbClr val="1c1c1c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952880" y="4191120"/>
            <a:ext cx="0" cy="12189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191120" y="5562720"/>
            <a:ext cx="761760" cy="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429000" y="5562720"/>
            <a:ext cx="762120" cy="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648320" y="5486400"/>
            <a:ext cx="91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</a:t>
            </a: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971800" y="5486400"/>
            <a:ext cx="91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</a:t>
            </a: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57200" y="17524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What can we say about the distribution of values around the mean?  There are some general 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343400" y="4114800"/>
            <a:ext cx="304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657600" y="4114800"/>
            <a:ext cx="304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429000" y="6019920"/>
            <a:ext cx="1523880" cy="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660120" y="594360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68.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BB971-E7D4-4CAC-9883-2CD06303382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90000"/>
              </a:lnSpc>
              <a:spcBef>
                <a:spcPts val="25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Empirical Ru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6933960" cy="1295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71680" indent="-5716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±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s about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95%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x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±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s about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99.7%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x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209680" y="3276720"/>
            <a:ext cx="1935360" cy="127944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900" y="720"/>
                </a:moveTo>
                <a:lnTo>
                  <a:pt x="805" y="712"/>
                </a:lnTo>
                <a:lnTo>
                  <a:pt x="758" y="704"/>
                </a:lnTo>
                <a:lnTo>
                  <a:pt x="711" y="691"/>
                </a:lnTo>
                <a:lnTo>
                  <a:pt x="663" y="675"/>
                </a:lnTo>
                <a:lnTo>
                  <a:pt x="615" y="653"/>
                </a:lnTo>
                <a:lnTo>
                  <a:pt x="568" y="623"/>
                </a:lnTo>
                <a:lnTo>
                  <a:pt x="473" y="540"/>
                </a:lnTo>
                <a:lnTo>
                  <a:pt x="378" y="422"/>
                </a:lnTo>
                <a:lnTo>
                  <a:pt x="284" y="281"/>
                </a:lnTo>
                <a:lnTo>
                  <a:pt x="236" y="209"/>
                </a:lnTo>
                <a:lnTo>
                  <a:pt x="189" y="142"/>
                </a:lnTo>
                <a:lnTo>
                  <a:pt x="142" y="83"/>
                </a:lnTo>
                <a:lnTo>
                  <a:pt x="94" y="38"/>
                </a:lnTo>
                <a:lnTo>
                  <a:pt x="47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80880" y="3276720"/>
            <a:ext cx="1860840" cy="127944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0" y="720"/>
                </a:moveTo>
                <a:lnTo>
                  <a:pt x="95" y="712"/>
                </a:lnTo>
                <a:lnTo>
                  <a:pt x="142" y="704"/>
                </a:lnTo>
                <a:lnTo>
                  <a:pt x="189" y="691"/>
                </a:lnTo>
                <a:lnTo>
                  <a:pt x="237" y="675"/>
                </a:lnTo>
                <a:lnTo>
                  <a:pt x="284" y="653"/>
                </a:lnTo>
                <a:lnTo>
                  <a:pt x="331" y="623"/>
                </a:lnTo>
                <a:lnTo>
                  <a:pt x="426" y="540"/>
                </a:lnTo>
                <a:lnTo>
                  <a:pt x="521" y="422"/>
                </a:lnTo>
                <a:lnTo>
                  <a:pt x="616" y="281"/>
                </a:lnTo>
                <a:lnTo>
                  <a:pt x="663" y="209"/>
                </a:lnTo>
                <a:lnTo>
                  <a:pt x="710" y="142"/>
                </a:lnTo>
                <a:lnTo>
                  <a:pt x="757" y="83"/>
                </a:lnTo>
                <a:lnTo>
                  <a:pt x="805" y="38"/>
                </a:lnTo>
                <a:lnTo>
                  <a:pt x="852" y="9"/>
                </a:lnTo>
                <a:lnTo>
                  <a:pt x="90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09680" y="3276720"/>
            <a:ext cx="1800" cy="127944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45720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057400" y="4572000"/>
            <a:ext cx="38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990720" y="4267080"/>
            <a:ext cx="0" cy="9907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209680" y="4495680"/>
            <a:ext cx="129564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990720" y="4495680"/>
            <a:ext cx="121896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505320" y="4267080"/>
            <a:ext cx="0" cy="9907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28600" y="4648320"/>
            <a:ext cx="4051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361880" y="4119480"/>
            <a:ext cx="5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504880" y="4119480"/>
            <a:ext cx="5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629400" y="3276720"/>
            <a:ext cx="1935000" cy="127944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900" y="720"/>
                </a:moveTo>
                <a:lnTo>
                  <a:pt x="805" y="712"/>
                </a:lnTo>
                <a:lnTo>
                  <a:pt x="758" y="704"/>
                </a:lnTo>
                <a:lnTo>
                  <a:pt x="711" y="691"/>
                </a:lnTo>
                <a:lnTo>
                  <a:pt x="663" y="675"/>
                </a:lnTo>
                <a:lnTo>
                  <a:pt x="615" y="653"/>
                </a:lnTo>
                <a:lnTo>
                  <a:pt x="568" y="623"/>
                </a:lnTo>
                <a:lnTo>
                  <a:pt x="473" y="540"/>
                </a:lnTo>
                <a:lnTo>
                  <a:pt x="378" y="422"/>
                </a:lnTo>
                <a:lnTo>
                  <a:pt x="284" y="281"/>
                </a:lnTo>
                <a:lnTo>
                  <a:pt x="236" y="209"/>
                </a:lnTo>
                <a:lnTo>
                  <a:pt x="189" y="142"/>
                </a:lnTo>
                <a:lnTo>
                  <a:pt x="142" y="83"/>
                </a:lnTo>
                <a:lnTo>
                  <a:pt x="94" y="38"/>
                </a:lnTo>
                <a:lnTo>
                  <a:pt x="47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800600" y="3276720"/>
            <a:ext cx="1860480" cy="127944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0" y="720"/>
                </a:moveTo>
                <a:lnTo>
                  <a:pt x="95" y="712"/>
                </a:lnTo>
                <a:lnTo>
                  <a:pt x="142" y="704"/>
                </a:lnTo>
                <a:lnTo>
                  <a:pt x="189" y="691"/>
                </a:lnTo>
                <a:lnTo>
                  <a:pt x="237" y="675"/>
                </a:lnTo>
                <a:lnTo>
                  <a:pt x="284" y="653"/>
                </a:lnTo>
                <a:lnTo>
                  <a:pt x="331" y="623"/>
                </a:lnTo>
                <a:lnTo>
                  <a:pt x="426" y="540"/>
                </a:lnTo>
                <a:lnTo>
                  <a:pt x="521" y="422"/>
                </a:lnTo>
                <a:lnTo>
                  <a:pt x="616" y="281"/>
                </a:lnTo>
                <a:lnTo>
                  <a:pt x="663" y="209"/>
                </a:lnTo>
                <a:lnTo>
                  <a:pt x="710" y="142"/>
                </a:lnTo>
                <a:lnTo>
                  <a:pt x="757" y="83"/>
                </a:lnTo>
                <a:lnTo>
                  <a:pt x="805" y="38"/>
                </a:lnTo>
                <a:lnTo>
                  <a:pt x="852" y="9"/>
                </a:lnTo>
                <a:lnTo>
                  <a:pt x="90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629400" y="3276720"/>
            <a:ext cx="1440" cy="127944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534520" y="45720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477120" y="4572000"/>
            <a:ext cx="38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648320" y="4648320"/>
            <a:ext cx="405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876920" y="4343400"/>
            <a:ext cx="0" cy="9144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8534520" y="4343400"/>
            <a:ext cx="0" cy="9144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629400" y="4419720"/>
            <a:ext cx="1905120" cy="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876920" y="4419720"/>
            <a:ext cx="1752480" cy="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857920" y="4043520"/>
            <a:ext cx="5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924600" y="4043520"/>
            <a:ext cx="5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990720" y="5181480"/>
            <a:ext cx="251460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876920" y="5181480"/>
            <a:ext cx="3657600" cy="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671120" y="51814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5.4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098400" y="51814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99.7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467480" y="11430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31600-F22E-4671-9E27-F2B294646C4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523520" y="3805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mportance of the Ru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value is about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2 or m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ations away from the mean in a 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, then it i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ance that a value that far or far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way from the mean i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ighly unlik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g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particular mean and standard dev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2C6EC-8755-41A1-ABBC-BC26FE5297D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iscrete random vari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variable that can assume only a countable number of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any possible 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complaints per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TV’s in a house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rings before the phone is answ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nly two possible 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der: male or fe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ctive: yes or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s peanut butter first vs. spreads jelly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iscrete Probability Distribution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0C8FC-B70F-4653-9A2D-11CB1711EE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Standard Normal Distribu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162920" cy="1676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71680" indent="-5716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so known as the “z” distribu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Mean is defined to be 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Standard Deviation is 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299120" y="3813120"/>
            <a:ext cx="1430280" cy="114480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900" y="720"/>
                </a:moveTo>
                <a:lnTo>
                  <a:pt x="805" y="712"/>
                </a:lnTo>
                <a:lnTo>
                  <a:pt x="758" y="704"/>
                </a:lnTo>
                <a:lnTo>
                  <a:pt x="711" y="691"/>
                </a:lnTo>
                <a:lnTo>
                  <a:pt x="663" y="675"/>
                </a:lnTo>
                <a:lnTo>
                  <a:pt x="615" y="653"/>
                </a:lnTo>
                <a:lnTo>
                  <a:pt x="568" y="623"/>
                </a:lnTo>
                <a:lnTo>
                  <a:pt x="473" y="540"/>
                </a:lnTo>
                <a:lnTo>
                  <a:pt x="378" y="422"/>
                </a:lnTo>
                <a:lnTo>
                  <a:pt x="284" y="281"/>
                </a:lnTo>
                <a:lnTo>
                  <a:pt x="236" y="209"/>
                </a:lnTo>
                <a:lnTo>
                  <a:pt x="189" y="142"/>
                </a:lnTo>
                <a:lnTo>
                  <a:pt x="142" y="83"/>
                </a:lnTo>
                <a:lnTo>
                  <a:pt x="94" y="38"/>
                </a:lnTo>
                <a:lnTo>
                  <a:pt x="47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870280" y="3813120"/>
            <a:ext cx="1430280" cy="114480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0" y="720"/>
                </a:moveTo>
                <a:lnTo>
                  <a:pt x="95" y="712"/>
                </a:lnTo>
                <a:lnTo>
                  <a:pt x="142" y="704"/>
                </a:lnTo>
                <a:lnTo>
                  <a:pt x="189" y="691"/>
                </a:lnTo>
                <a:lnTo>
                  <a:pt x="237" y="675"/>
                </a:lnTo>
                <a:lnTo>
                  <a:pt x="284" y="653"/>
                </a:lnTo>
                <a:lnTo>
                  <a:pt x="331" y="623"/>
                </a:lnTo>
                <a:lnTo>
                  <a:pt x="426" y="540"/>
                </a:lnTo>
                <a:lnTo>
                  <a:pt x="521" y="422"/>
                </a:lnTo>
                <a:lnTo>
                  <a:pt x="616" y="281"/>
                </a:lnTo>
                <a:lnTo>
                  <a:pt x="663" y="209"/>
                </a:lnTo>
                <a:lnTo>
                  <a:pt x="710" y="142"/>
                </a:lnTo>
                <a:lnTo>
                  <a:pt x="757" y="83"/>
                </a:lnTo>
                <a:lnTo>
                  <a:pt x="805" y="38"/>
                </a:lnTo>
                <a:lnTo>
                  <a:pt x="852" y="9"/>
                </a:lnTo>
                <a:lnTo>
                  <a:pt x="90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267080" y="3886200"/>
            <a:ext cx="0" cy="106668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743200" y="3809880"/>
            <a:ext cx="3005280" cy="1214640"/>
          </a:xfrm>
          <a:custGeom>
            <a:avLst/>
            <a:gdLst/>
            <a:ahLst/>
            <a:rect l="l" t="t" r="r" b="b"/>
            <a:pathLst>
              <a:path w="1893" h="765">
                <a:moveTo>
                  <a:pt x="0" y="0"/>
                </a:moveTo>
                <a:lnTo>
                  <a:pt x="0" y="764"/>
                </a:lnTo>
                <a:lnTo>
                  <a:pt x="1892" y="764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798640" y="374328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798640" y="386568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798640" y="398628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798640" y="410832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798640" y="422928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798640" y="435132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798640" y="447192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798640" y="459432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798640" y="471492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798640" y="483552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816520" y="496404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516640" y="496404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214960" y="496404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915080" y="496404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614840" y="496404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314960" y="496404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014720" y="496404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714840" y="496404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413160" y="496404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112920" y="496404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685960" y="4259160"/>
            <a:ext cx="921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222800" y="493380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791320" y="48006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285280" y="3352680"/>
            <a:ext cx="64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f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114800" y="4952880"/>
            <a:ext cx="47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267080" y="4343400"/>
            <a:ext cx="533520" cy="0"/>
          </a:xfrm>
          <a:prstGeom prst="line">
            <a:avLst/>
          </a:prstGeom>
          <a:ln w="12600">
            <a:solidFill>
              <a:srgbClr val="1c1c1c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419720" y="4267080"/>
            <a:ext cx="479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838080" y="548640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s above the mean hav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-values, values below the mean hav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eg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-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3AFA6-370F-4231-B61B-2D97AE3569F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Standard Norm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076960" cy="3124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rmal distribution (with any mean and standard deviation combination) can be transformed into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tandard norm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istribution (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transform  x  units into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z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6A909-9895-43D8-AC72-0F4001C7911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Translation to the Standard Normal Distribution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71680" indent="-57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from x to the standard normal (the “z” distribution) by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ubtracting the m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x and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ividing by its standard devi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3200400" y="3657600"/>
                <a:ext cx="266868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453B7-B66C-4311-8284-512B6949172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71680" indent="-57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 x  is distributed normally with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ean of 1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tandard deviation of 5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 z  value for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 = 250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This says that  x = 250  is three standard deviations (3 increments of 50 units) above the mean of 1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1943280" y="3276720"/>
                <a:ext cx="54482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6E387-86E6-4685-8085-93380346EAE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mparing  x  and  z  unit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1828800" y="1981080"/>
            <a:ext cx="2243160" cy="168120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0" y="720"/>
                </a:moveTo>
                <a:lnTo>
                  <a:pt x="95" y="712"/>
                </a:lnTo>
                <a:lnTo>
                  <a:pt x="142" y="704"/>
                </a:lnTo>
                <a:lnTo>
                  <a:pt x="189" y="691"/>
                </a:lnTo>
                <a:lnTo>
                  <a:pt x="237" y="675"/>
                </a:lnTo>
                <a:lnTo>
                  <a:pt x="284" y="653"/>
                </a:lnTo>
                <a:lnTo>
                  <a:pt x="331" y="623"/>
                </a:lnTo>
                <a:lnTo>
                  <a:pt x="426" y="540"/>
                </a:lnTo>
                <a:lnTo>
                  <a:pt x="521" y="422"/>
                </a:lnTo>
                <a:lnTo>
                  <a:pt x="616" y="281"/>
                </a:lnTo>
                <a:lnTo>
                  <a:pt x="663" y="209"/>
                </a:lnTo>
                <a:lnTo>
                  <a:pt x="710" y="142"/>
                </a:lnTo>
                <a:lnTo>
                  <a:pt x="757" y="83"/>
                </a:lnTo>
                <a:lnTo>
                  <a:pt x="805" y="38"/>
                </a:lnTo>
                <a:lnTo>
                  <a:pt x="852" y="9"/>
                </a:lnTo>
                <a:lnTo>
                  <a:pt x="90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570040" y="244800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570040" y="257004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570040" y="269064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70040" y="281304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570040" y="293364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570040" y="305604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570040" y="317664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570040" y="329868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570040" y="341964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570040" y="354024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587920" y="36687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288040" y="36687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986360" y="36687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686480" y="36687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386240" y="36687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086360" y="36687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786120" y="36687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486240" y="36687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184560" y="36687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884320" y="36687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457360" y="2963880"/>
            <a:ext cx="921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994200" y="363852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629400" y="4267080"/>
            <a:ext cx="380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733920" y="3809880"/>
            <a:ext cx="914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410080" y="4267080"/>
            <a:ext cx="990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3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038480" y="1981080"/>
            <a:ext cx="2102040" cy="168120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900" y="720"/>
                </a:moveTo>
                <a:lnTo>
                  <a:pt x="805" y="712"/>
                </a:lnTo>
                <a:lnTo>
                  <a:pt x="758" y="704"/>
                </a:lnTo>
                <a:lnTo>
                  <a:pt x="711" y="691"/>
                </a:lnTo>
                <a:lnTo>
                  <a:pt x="663" y="675"/>
                </a:lnTo>
                <a:lnTo>
                  <a:pt x="615" y="653"/>
                </a:lnTo>
                <a:lnTo>
                  <a:pt x="568" y="623"/>
                </a:lnTo>
                <a:lnTo>
                  <a:pt x="473" y="540"/>
                </a:lnTo>
                <a:lnTo>
                  <a:pt x="378" y="422"/>
                </a:lnTo>
                <a:lnTo>
                  <a:pt x="284" y="281"/>
                </a:lnTo>
                <a:lnTo>
                  <a:pt x="236" y="209"/>
                </a:lnTo>
                <a:lnTo>
                  <a:pt x="189" y="142"/>
                </a:lnTo>
                <a:lnTo>
                  <a:pt x="142" y="83"/>
                </a:lnTo>
                <a:lnTo>
                  <a:pt x="94" y="38"/>
                </a:lnTo>
                <a:lnTo>
                  <a:pt x="47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676520" y="3733920"/>
            <a:ext cx="4572000" cy="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886200" y="4267080"/>
            <a:ext cx="479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34120" y="3809880"/>
            <a:ext cx="990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629400" y="3809880"/>
            <a:ext cx="37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38080" y="495288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Note that the distribution is the same, only the scale has changed.  We can express the problem in original units (x) or in standardized units 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38480" y="1981080"/>
            <a:ext cx="0" cy="175284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715000" y="3581280"/>
            <a:ext cx="0" cy="15264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629400" y="1981080"/>
            <a:ext cx="1371600" cy="1015920"/>
          </a:xfrm>
          <a:prstGeom prst="rect">
            <a:avLst/>
          </a:prstGeom>
          <a:noFill/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c1c1c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c1c1c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=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4952520" y="2438280"/>
            <a:ext cx="1676520" cy="457200"/>
          </a:xfrm>
          <a:prstGeom prst="line">
            <a:avLst/>
          </a:prstGeom>
          <a:ln w="1260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1F70E-9AC2-4748-B096-5EF151C1BD9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6553080" y="5105520"/>
            <a:ext cx="0" cy="30456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791320" y="4191120"/>
            <a:ext cx="75960" cy="1218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780160" y="4191120"/>
            <a:ext cx="812880" cy="1214280"/>
          </a:xfrm>
          <a:custGeom>
            <a:avLst/>
            <a:gdLst/>
            <a:ahLst/>
            <a:rect l="l" t="t" r="r" b="b"/>
            <a:pathLst>
              <a:path w="512" h="765">
                <a:moveTo>
                  <a:pt x="23" y="19"/>
                </a:moveTo>
                <a:cubicBezTo>
                  <a:pt x="20" y="2"/>
                  <a:pt x="14" y="16"/>
                  <a:pt x="17" y="17"/>
                </a:cubicBezTo>
                <a:cubicBezTo>
                  <a:pt x="20" y="18"/>
                  <a:pt x="35" y="25"/>
                  <a:pt x="43" y="27"/>
                </a:cubicBezTo>
                <a:cubicBezTo>
                  <a:pt x="61" y="29"/>
                  <a:pt x="48" y="21"/>
                  <a:pt x="65" y="27"/>
                </a:cubicBezTo>
                <a:cubicBezTo>
                  <a:pt x="80" y="32"/>
                  <a:pt x="83" y="33"/>
                  <a:pt x="95" y="43"/>
                </a:cubicBezTo>
                <a:cubicBezTo>
                  <a:pt x="123" y="64"/>
                  <a:pt x="138" y="88"/>
                  <a:pt x="167" y="106"/>
                </a:cubicBezTo>
                <a:cubicBezTo>
                  <a:pt x="180" y="144"/>
                  <a:pt x="215" y="179"/>
                  <a:pt x="245" y="208"/>
                </a:cubicBezTo>
                <a:cubicBezTo>
                  <a:pt x="259" y="248"/>
                  <a:pt x="272" y="246"/>
                  <a:pt x="296" y="280"/>
                </a:cubicBezTo>
                <a:cubicBezTo>
                  <a:pt x="304" y="292"/>
                  <a:pt x="315" y="306"/>
                  <a:pt x="327" y="313"/>
                </a:cubicBezTo>
                <a:cubicBezTo>
                  <a:pt x="333" y="317"/>
                  <a:pt x="339" y="340"/>
                  <a:pt x="339" y="340"/>
                </a:cubicBezTo>
                <a:cubicBezTo>
                  <a:pt x="348" y="366"/>
                  <a:pt x="360" y="368"/>
                  <a:pt x="374" y="391"/>
                </a:cubicBezTo>
                <a:cubicBezTo>
                  <a:pt x="386" y="409"/>
                  <a:pt x="416" y="440"/>
                  <a:pt x="431" y="458"/>
                </a:cubicBezTo>
                <a:cubicBezTo>
                  <a:pt x="450" y="482"/>
                  <a:pt x="447" y="510"/>
                  <a:pt x="471" y="526"/>
                </a:cubicBezTo>
                <a:cubicBezTo>
                  <a:pt x="480" y="553"/>
                  <a:pt x="494" y="532"/>
                  <a:pt x="494" y="571"/>
                </a:cubicBezTo>
                <a:cubicBezTo>
                  <a:pt x="494" y="765"/>
                  <a:pt x="512" y="743"/>
                  <a:pt x="326" y="750"/>
                </a:cubicBezTo>
                <a:cubicBezTo>
                  <a:pt x="308" y="752"/>
                  <a:pt x="290" y="757"/>
                  <a:pt x="272" y="756"/>
                </a:cubicBezTo>
                <a:cubicBezTo>
                  <a:pt x="220" y="755"/>
                  <a:pt x="116" y="745"/>
                  <a:pt x="116" y="745"/>
                </a:cubicBezTo>
                <a:cubicBezTo>
                  <a:pt x="75" y="731"/>
                  <a:pt x="60" y="731"/>
                  <a:pt x="19" y="745"/>
                </a:cubicBezTo>
                <a:cubicBezTo>
                  <a:pt x="0" y="646"/>
                  <a:pt x="28" y="594"/>
                  <a:pt x="49" y="513"/>
                </a:cubicBezTo>
                <a:cubicBezTo>
                  <a:pt x="13" y="288"/>
                  <a:pt x="9" y="166"/>
                  <a:pt x="5" y="23"/>
                </a:cubicBezTo>
                <a:cubicBezTo>
                  <a:pt x="4" y="0"/>
                  <a:pt x="44" y="19"/>
                  <a:pt x="23" y="19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Standard Normal Tab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391520" cy="19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ndard Normal table in the textboo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(Appendix 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the probability from the mean (ze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 to a desired value for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4419720" y="4184640"/>
            <a:ext cx="1400040" cy="1149480"/>
          </a:xfrm>
          <a:custGeom>
            <a:avLst/>
            <a:gdLst/>
            <a:ahLst/>
            <a:rect l="l" t="t" r="r" b="b"/>
            <a:pathLst>
              <a:path w="882" h="724">
                <a:moveTo>
                  <a:pt x="0" y="724"/>
                </a:moveTo>
                <a:lnTo>
                  <a:pt x="95" y="716"/>
                </a:lnTo>
                <a:lnTo>
                  <a:pt x="142" y="708"/>
                </a:lnTo>
                <a:lnTo>
                  <a:pt x="189" y="695"/>
                </a:lnTo>
                <a:lnTo>
                  <a:pt x="237" y="679"/>
                </a:lnTo>
                <a:lnTo>
                  <a:pt x="284" y="657"/>
                </a:lnTo>
                <a:lnTo>
                  <a:pt x="331" y="627"/>
                </a:lnTo>
                <a:lnTo>
                  <a:pt x="426" y="544"/>
                </a:lnTo>
                <a:lnTo>
                  <a:pt x="521" y="426"/>
                </a:lnTo>
                <a:lnTo>
                  <a:pt x="616" y="285"/>
                </a:lnTo>
                <a:lnTo>
                  <a:pt x="663" y="213"/>
                </a:lnTo>
                <a:lnTo>
                  <a:pt x="710" y="146"/>
                </a:lnTo>
                <a:lnTo>
                  <a:pt x="757" y="87"/>
                </a:lnTo>
                <a:lnTo>
                  <a:pt x="805" y="42"/>
                </a:lnTo>
                <a:lnTo>
                  <a:pt x="852" y="13"/>
                </a:lnTo>
                <a:lnTo>
                  <a:pt x="882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340760" y="52689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467480" y="53341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638680" y="5410080"/>
            <a:ext cx="47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172200" y="5410080"/>
            <a:ext cx="99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2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791320" y="5334120"/>
            <a:ext cx="761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791320" y="5334120"/>
            <a:ext cx="761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791320" y="5334120"/>
            <a:ext cx="761760" cy="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62940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47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6171840" y="4495680"/>
            <a:ext cx="6094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832360" y="4187880"/>
            <a:ext cx="1384560" cy="1139760"/>
          </a:xfrm>
          <a:custGeom>
            <a:avLst/>
            <a:gdLst/>
            <a:ahLst/>
            <a:rect l="l" t="t" r="r" b="b"/>
            <a:pathLst>
              <a:path w="872" h="718">
                <a:moveTo>
                  <a:pt x="872" y="718"/>
                </a:moveTo>
                <a:lnTo>
                  <a:pt x="777" y="710"/>
                </a:lnTo>
                <a:lnTo>
                  <a:pt x="730" y="702"/>
                </a:lnTo>
                <a:lnTo>
                  <a:pt x="683" y="689"/>
                </a:lnTo>
                <a:lnTo>
                  <a:pt x="635" y="673"/>
                </a:lnTo>
                <a:lnTo>
                  <a:pt x="587" y="651"/>
                </a:lnTo>
                <a:lnTo>
                  <a:pt x="540" y="621"/>
                </a:lnTo>
                <a:lnTo>
                  <a:pt x="445" y="538"/>
                </a:lnTo>
                <a:lnTo>
                  <a:pt x="350" y="420"/>
                </a:lnTo>
                <a:lnTo>
                  <a:pt x="256" y="279"/>
                </a:lnTo>
                <a:lnTo>
                  <a:pt x="208" y="207"/>
                </a:lnTo>
                <a:lnTo>
                  <a:pt x="161" y="140"/>
                </a:lnTo>
                <a:lnTo>
                  <a:pt x="114" y="81"/>
                </a:lnTo>
                <a:lnTo>
                  <a:pt x="66" y="36"/>
                </a:lnTo>
                <a:lnTo>
                  <a:pt x="18" y="1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114800" y="5410080"/>
            <a:ext cx="3422520" cy="1800"/>
          </a:xfrm>
          <a:custGeom>
            <a:avLst/>
            <a:gdLst/>
            <a:ahLst/>
            <a:rect l="l" t="t" r="r" b="b"/>
            <a:pathLst>
              <a:path w="2156" h="1">
                <a:moveTo>
                  <a:pt x="0" y="0"/>
                </a:moveTo>
                <a:lnTo>
                  <a:pt x="72" y="1"/>
                </a:lnTo>
                <a:lnTo>
                  <a:pt x="2156" y="1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838080" y="4191120"/>
            <a:ext cx="3429000" cy="901800"/>
          </a:xfrm>
          <a:prstGeom prst="rect">
            <a:avLst/>
          </a:prstGeom>
          <a:solidFill>
            <a:srgbClr val="fff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0 &lt; z &lt; 2.00) = .47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77585-B18E-4BB4-A2B9-5A175082435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4038480" y="2743200"/>
            <a:ext cx="2590920" cy="533520"/>
          </a:xfrm>
          <a:prstGeom prst="rect">
            <a:avLst/>
          </a:prstGeom>
          <a:solidFill>
            <a:srgbClr val="b8f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276720" y="3352680"/>
            <a:ext cx="533160" cy="1828800"/>
          </a:xfrm>
          <a:prstGeom prst="rect">
            <a:avLst/>
          </a:prstGeom>
          <a:solidFill>
            <a:srgbClr val="8ed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Standard Normal Tab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800600" y="4114440"/>
            <a:ext cx="3657600" cy="1600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88000"/>
          </a:bodyPr>
          <a:p>
            <a:pPr marL="502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within the table gives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obabil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z = 0 up to the desired z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2" name=""/>
          <p:cNvGraphicFramePr/>
          <p:nvPr/>
        </p:nvGraphicFramePr>
        <p:xfrm>
          <a:off x="3276720" y="2819520"/>
          <a:ext cx="3679560" cy="238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819520"/>
                    <a:ext cx="367956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4" name=""/>
          <p:cNvSpPr/>
          <p:nvPr/>
        </p:nvSpPr>
        <p:spPr>
          <a:xfrm flipH="1" flipV="1">
            <a:off x="4876920" y="5029200"/>
            <a:ext cx="45720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114800" y="4800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.477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200400" y="56386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295280" y="5638680"/>
            <a:ext cx="3505320" cy="459720"/>
          </a:xfrm>
          <a:prstGeom prst="rect">
            <a:avLst/>
          </a:prstGeom>
          <a:solidFill>
            <a:srgbClr val="fff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(0 &lt; z &lt; 2.00) =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.47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80880" y="3429000"/>
            <a:ext cx="28195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ow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s the value of z to the first decimal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581280" y="1828800"/>
            <a:ext cx="4800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colum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s the value of z to the second decimal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419720" y="3200400"/>
            <a:ext cx="0" cy="1600200"/>
          </a:xfrm>
          <a:prstGeom prst="line">
            <a:avLst/>
          </a:prstGeom>
          <a:ln cap="rnd" w="28440">
            <a:solidFill>
              <a:srgbClr val="1c1c1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809880" y="4952880"/>
            <a:ext cx="381240" cy="0"/>
          </a:xfrm>
          <a:prstGeom prst="line">
            <a:avLst/>
          </a:prstGeom>
          <a:ln cap="rnd" w="28440">
            <a:solidFill>
              <a:srgbClr val="1c1c1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124080" y="48006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352680" y="4191120"/>
            <a:ext cx="381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467480" y="11430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E7436-7A7F-4822-B5E1-0328DA79CCD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General Procedure for Finding Probabiliti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990720" y="3048120"/>
            <a:ext cx="7162560" cy="3200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>
              <a:lnSpc>
                <a:spcPct val="95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the normal curve for the problem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of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x-values to z-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Standard Normal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066680" y="1828800"/>
            <a:ext cx="701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o find  P(a &lt; x &lt; b)  when  x  is distributed normal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A46F1-509B-48B0-B5F1-BBC01B71604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6505560" y="2892600"/>
            <a:ext cx="311040" cy="1653840"/>
          </a:xfrm>
          <a:custGeom>
            <a:avLst/>
            <a:gdLst/>
            <a:ahLst/>
            <a:rect l="l" t="t" r="r" b="b"/>
            <a:pathLst>
              <a:path w="196" h="1042">
                <a:moveTo>
                  <a:pt x="2" y="1040"/>
                </a:moveTo>
                <a:lnTo>
                  <a:pt x="0" y="0"/>
                </a:lnTo>
                <a:lnTo>
                  <a:pt x="30" y="2"/>
                </a:lnTo>
                <a:lnTo>
                  <a:pt x="66" y="18"/>
                </a:lnTo>
                <a:lnTo>
                  <a:pt x="102" y="51"/>
                </a:lnTo>
                <a:lnTo>
                  <a:pt x="138" y="85"/>
                </a:lnTo>
                <a:lnTo>
                  <a:pt x="174" y="136"/>
                </a:lnTo>
                <a:lnTo>
                  <a:pt x="196" y="158"/>
                </a:lnTo>
                <a:lnTo>
                  <a:pt x="196" y="1042"/>
                </a:lnTo>
                <a:lnTo>
                  <a:pt x="2" y="104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562720" y="5334120"/>
            <a:ext cx="2590560" cy="1218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Z Table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71680" indent="-57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 x  is normal with mean 8.0 and standard deviation 5.0.  Find P(8 &lt; x &lt; 8.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638680" y="5410080"/>
            <a:ext cx="259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P(8 &lt; x &lt; 8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(0 &lt; z &lt; 0.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499080" y="2895480"/>
            <a:ext cx="6480" cy="1644840"/>
          </a:xfrm>
          <a:custGeom>
            <a:avLst/>
            <a:gdLst/>
            <a:ahLst/>
            <a:rect l="l" t="t" r="r" b="b"/>
            <a:pathLst>
              <a:path w="4" h="1036">
                <a:moveTo>
                  <a:pt x="0" y="0"/>
                </a:moveTo>
                <a:lnTo>
                  <a:pt x="4" y="103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513480" y="2895480"/>
            <a:ext cx="1635120" cy="1573200"/>
          </a:xfrm>
          <a:custGeom>
            <a:avLst/>
            <a:gdLst/>
            <a:ahLst/>
            <a:rect l="l" t="t" r="r" b="b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876920" y="2895480"/>
            <a:ext cx="1638360" cy="1573200"/>
          </a:xfrm>
          <a:custGeom>
            <a:avLst/>
            <a:gdLst/>
            <a:ahLst/>
            <a:rect l="l" t="t" r="r" b="b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859280" y="4551480"/>
            <a:ext cx="3289320" cy="7920"/>
          </a:xfrm>
          <a:custGeom>
            <a:avLst/>
            <a:gdLst/>
            <a:ahLst/>
            <a:rect l="l" t="t" r="r" b="b"/>
            <a:pathLst>
              <a:path w="2072" h="5">
                <a:moveTo>
                  <a:pt x="0" y="5"/>
                </a:moveTo>
                <a:lnTo>
                  <a:pt x="12" y="0"/>
                </a:lnTo>
                <a:lnTo>
                  <a:pt x="2072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862520" y="293220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862520" y="308304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511360" y="3259080"/>
            <a:ext cx="921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8153280" y="4952880"/>
            <a:ext cx="381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526080" y="484344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553440" y="4952880"/>
            <a:ext cx="62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0.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248520" y="495288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8153280" y="4572000"/>
            <a:ext cx="381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629400" y="4572000"/>
            <a:ext cx="49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248520" y="457200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838080" y="3657600"/>
                <a:ext cx="31672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609480" y="4876920"/>
                <a:ext cx="39718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533520" y="29718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alculate z-val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CEC0A-F1D5-40FB-A927-37FB374FF75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Z Table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71680" indent="-5716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ppose  x  is normal with mean 8.0 and standard deviation 5.0.  Find P(8 &lt; x &lt; 8.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334120" y="53341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(0 &lt; z &lt; 0.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472080" y="4476600"/>
            <a:ext cx="320760" cy="243000"/>
          </a:xfrm>
          <a:custGeom>
            <a:avLst/>
            <a:gdLst/>
            <a:ahLst/>
            <a:rect l="l" t="t" r="r" b="b"/>
            <a:pathLst>
              <a:path w="202" h="153">
                <a:moveTo>
                  <a:pt x="12" y="141"/>
                </a:moveTo>
                <a:cubicBezTo>
                  <a:pt x="39" y="153"/>
                  <a:pt x="79" y="146"/>
                  <a:pt x="105" y="145"/>
                </a:cubicBezTo>
                <a:cubicBezTo>
                  <a:pt x="127" y="143"/>
                  <a:pt x="135" y="143"/>
                  <a:pt x="162" y="144"/>
                </a:cubicBezTo>
                <a:cubicBezTo>
                  <a:pt x="172" y="148"/>
                  <a:pt x="181" y="148"/>
                  <a:pt x="192" y="147"/>
                </a:cubicBezTo>
                <a:cubicBezTo>
                  <a:pt x="200" y="136"/>
                  <a:pt x="198" y="142"/>
                  <a:pt x="201" y="132"/>
                </a:cubicBezTo>
                <a:cubicBezTo>
                  <a:pt x="200" y="102"/>
                  <a:pt x="202" y="55"/>
                  <a:pt x="187" y="24"/>
                </a:cubicBezTo>
                <a:cubicBezTo>
                  <a:pt x="185" y="7"/>
                  <a:pt x="165" y="1"/>
                  <a:pt x="150" y="0"/>
                </a:cubicBezTo>
                <a:cubicBezTo>
                  <a:pt x="116" y="2"/>
                  <a:pt x="102" y="41"/>
                  <a:pt x="70" y="46"/>
                </a:cubicBezTo>
                <a:cubicBezTo>
                  <a:pt x="63" y="49"/>
                  <a:pt x="58" y="51"/>
                  <a:pt x="51" y="52"/>
                </a:cubicBezTo>
                <a:cubicBezTo>
                  <a:pt x="43" y="55"/>
                  <a:pt x="36" y="56"/>
                  <a:pt x="27" y="57"/>
                </a:cubicBezTo>
                <a:cubicBezTo>
                  <a:pt x="19" y="62"/>
                  <a:pt x="14" y="67"/>
                  <a:pt x="7" y="73"/>
                </a:cubicBezTo>
                <a:cubicBezTo>
                  <a:pt x="0" y="87"/>
                  <a:pt x="2" y="81"/>
                  <a:pt x="0" y="90"/>
                </a:cubicBezTo>
                <a:cubicBezTo>
                  <a:pt x="0" y="104"/>
                  <a:pt x="0" y="119"/>
                  <a:pt x="1" y="133"/>
                </a:cubicBezTo>
                <a:cubicBezTo>
                  <a:pt x="1" y="138"/>
                  <a:pt x="8" y="147"/>
                  <a:pt x="12" y="141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432480" y="3060720"/>
            <a:ext cx="366840" cy="1625760"/>
          </a:xfrm>
          <a:custGeom>
            <a:avLst/>
            <a:gdLst/>
            <a:ahLst/>
            <a:rect l="l" t="t" r="r" b="b"/>
            <a:pathLst>
              <a:path w="231" h="1024">
                <a:moveTo>
                  <a:pt x="25" y="984"/>
                </a:moveTo>
                <a:cubicBezTo>
                  <a:pt x="28" y="847"/>
                  <a:pt x="34" y="709"/>
                  <a:pt x="37" y="572"/>
                </a:cubicBezTo>
                <a:cubicBezTo>
                  <a:pt x="33" y="476"/>
                  <a:pt x="30" y="440"/>
                  <a:pt x="33" y="340"/>
                </a:cubicBezTo>
                <a:cubicBezTo>
                  <a:pt x="30" y="269"/>
                  <a:pt x="25" y="210"/>
                  <a:pt x="29" y="140"/>
                </a:cubicBezTo>
                <a:cubicBezTo>
                  <a:pt x="28" y="100"/>
                  <a:pt x="0" y="32"/>
                  <a:pt x="41" y="4"/>
                </a:cubicBezTo>
                <a:cubicBezTo>
                  <a:pt x="122" y="9"/>
                  <a:pt x="91" y="0"/>
                  <a:pt x="133" y="28"/>
                </a:cubicBezTo>
                <a:cubicBezTo>
                  <a:pt x="156" y="62"/>
                  <a:pt x="125" y="22"/>
                  <a:pt x="153" y="44"/>
                </a:cubicBezTo>
                <a:cubicBezTo>
                  <a:pt x="157" y="47"/>
                  <a:pt x="158" y="53"/>
                  <a:pt x="161" y="56"/>
                </a:cubicBezTo>
                <a:cubicBezTo>
                  <a:pt x="164" y="59"/>
                  <a:pt x="169" y="61"/>
                  <a:pt x="173" y="64"/>
                </a:cubicBezTo>
                <a:cubicBezTo>
                  <a:pt x="185" y="82"/>
                  <a:pt x="194" y="97"/>
                  <a:pt x="209" y="112"/>
                </a:cubicBezTo>
                <a:cubicBezTo>
                  <a:pt x="212" y="120"/>
                  <a:pt x="221" y="127"/>
                  <a:pt x="221" y="136"/>
                </a:cubicBezTo>
                <a:cubicBezTo>
                  <a:pt x="221" y="163"/>
                  <a:pt x="213" y="216"/>
                  <a:pt x="213" y="216"/>
                </a:cubicBezTo>
                <a:cubicBezTo>
                  <a:pt x="215" y="282"/>
                  <a:pt x="217" y="319"/>
                  <a:pt x="225" y="376"/>
                </a:cubicBezTo>
                <a:cubicBezTo>
                  <a:pt x="224" y="399"/>
                  <a:pt x="224" y="421"/>
                  <a:pt x="221" y="444"/>
                </a:cubicBezTo>
                <a:cubicBezTo>
                  <a:pt x="220" y="452"/>
                  <a:pt x="213" y="468"/>
                  <a:pt x="213" y="468"/>
                </a:cubicBezTo>
                <a:cubicBezTo>
                  <a:pt x="207" y="564"/>
                  <a:pt x="209" y="508"/>
                  <a:pt x="209" y="636"/>
                </a:cubicBezTo>
                <a:cubicBezTo>
                  <a:pt x="213" y="623"/>
                  <a:pt x="222" y="582"/>
                  <a:pt x="221" y="596"/>
                </a:cubicBezTo>
                <a:cubicBezTo>
                  <a:pt x="208" y="724"/>
                  <a:pt x="231" y="865"/>
                  <a:pt x="173" y="980"/>
                </a:cubicBezTo>
                <a:cubicBezTo>
                  <a:pt x="151" y="1024"/>
                  <a:pt x="74" y="983"/>
                  <a:pt x="25" y="984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783480" y="3321000"/>
            <a:ext cx="0" cy="13716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478560" y="3092400"/>
            <a:ext cx="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513480" y="3048120"/>
            <a:ext cx="1635120" cy="1573200"/>
          </a:xfrm>
          <a:custGeom>
            <a:avLst/>
            <a:gdLst/>
            <a:ahLst/>
            <a:rect l="l" t="t" r="r" b="b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876920" y="3048120"/>
            <a:ext cx="1638360" cy="1573200"/>
          </a:xfrm>
          <a:custGeom>
            <a:avLst/>
            <a:gdLst/>
            <a:ahLst/>
            <a:rect l="l" t="t" r="r" b="b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859280" y="4703760"/>
            <a:ext cx="3289320" cy="7920"/>
          </a:xfrm>
          <a:custGeom>
            <a:avLst/>
            <a:gdLst/>
            <a:ahLst/>
            <a:rect l="l" t="t" r="r" b="b"/>
            <a:pathLst>
              <a:path w="2072" h="5">
                <a:moveTo>
                  <a:pt x="0" y="5"/>
                </a:moveTo>
                <a:lnTo>
                  <a:pt x="12" y="0"/>
                </a:lnTo>
                <a:lnTo>
                  <a:pt x="2072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511360" y="3411360"/>
            <a:ext cx="921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8153280" y="4648320"/>
            <a:ext cx="381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629400" y="4724280"/>
            <a:ext cx="62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0.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248520" y="472428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205000" y="4476600"/>
            <a:ext cx="320760" cy="243000"/>
          </a:xfrm>
          <a:custGeom>
            <a:avLst/>
            <a:gdLst/>
            <a:ahLst/>
            <a:rect l="l" t="t" r="r" b="b"/>
            <a:pathLst>
              <a:path w="202" h="153">
                <a:moveTo>
                  <a:pt x="12" y="141"/>
                </a:moveTo>
                <a:cubicBezTo>
                  <a:pt x="39" y="153"/>
                  <a:pt x="79" y="146"/>
                  <a:pt x="105" y="145"/>
                </a:cubicBezTo>
                <a:cubicBezTo>
                  <a:pt x="127" y="143"/>
                  <a:pt x="135" y="143"/>
                  <a:pt x="162" y="144"/>
                </a:cubicBezTo>
                <a:cubicBezTo>
                  <a:pt x="172" y="148"/>
                  <a:pt x="181" y="148"/>
                  <a:pt x="192" y="147"/>
                </a:cubicBezTo>
                <a:cubicBezTo>
                  <a:pt x="200" y="136"/>
                  <a:pt x="198" y="142"/>
                  <a:pt x="201" y="132"/>
                </a:cubicBezTo>
                <a:cubicBezTo>
                  <a:pt x="200" y="102"/>
                  <a:pt x="202" y="55"/>
                  <a:pt x="187" y="24"/>
                </a:cubicBezTo>
                <a:cubicBezTo>
                  <a:pt x="185" y="7"/>
                  <a:pt x="165" y="1"/>
                  <a:pt x="150" y="0"/>
                </a:cubicBezTo>
                <a:cubicBezTo>
                  <a:pt x="116" y="2"/>
                  <a:pt x="102" y="41"/>
                  <a:pt x="70" y="46"/>
                </a:cubicBezTo>
                <a:cubicBezTo>
                  <a:pt x="63" y="49"/>
                  <a:pt x="58" y="51"/>
                  <a:pt x="51" y="52"/>
                </a:cubicBezTo>
                <a:cubicBezTo>
                  <a:pt x="43" y="55"/>
                  <a:pt x="36" y="56"/>
                  <a:pt x="27" y="57"/>
                </a:cubicBezTo>
                <a:cubicBezTo>
                  <a:pt x="19" y="62"/>
                  <a:pt x="14" y="67"/>
                  <a:pt x="7" y="73"/>
                </a:cubicBezTo>
                <a:cubicBezTo>
                  <a:pt x="0" y="87"/>
                  <a:pt x="2" y="81"/>
                  <a:pt x="0" y="90"/>
                </a:cubicBezTo>
                <a:cubicBezTo>
                  <a:pt x="0" y="104"/>
                  <a:pt x="0" y="119"/>
                  <a:pt x="1" y="133"/>
                </a:cubicBezTo>
                <a:cubicBezTo>
                  <a:pt x="1" y="138"/>
                  <a:pt x="8" y="147"/>
                  <a:pt x="12" y="141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165400" y="3060720"/>
            <a:ext cx="366840" cy="1625760"/>
          </a:xfrm>
          <a:custGeom>
            <a:avLst/>
            <a:gdLst/>
            <a:ahLst/>
            <a:rect l="l" t="t" r="r" b="b"/>
            <a:pathLst>
              <a:path w="231" h="1024">
                <a:moveTo>
                  <a:pt x="25" y="984"/>
                </a:moveTo>
                <a:cubicBezTo>
                  <a:pt x="28" y="847"/>
                  <a:pt x="34" y="709"/>
                  <a:pt x="37" y="572"/>
                </a:cubicBezTo>
                <a:cubicBezTo>
                  <a:pt x="33" y="476"/>
                  <a:pt x="30" y="440"/>
                  <a:pt x="33" y="340"/>
                </a:cubicBezTo>
                <a:cubicBezTo>
                  <a:pt x="30" y="269"/>
                  <a:pt x="25" y="210"/>
                  <a:pt x="29" y="140"/>
                </a:cubicBezTo>
                <a:cubicBezTo>
                  <a:pt x="28" y="100"/>
                  <a:pt x="0" y="32"/>
                  <a:pt x="41" y="4"/>
                </a:cubicBezTo>
                <a:cubicBezTo>
                  <a:pt x="122" y="9"/>
                  <a:pt x="91" y="0"/>
                  <a:pt x="133" y="28"/>
                </a:cubicBezTo>
                <a:cubicBezTo>
                  <a:pt x="156" y="62"/>
                  <a:pt x="125" y="22"/>
                  <a:pt x="153" y="44"/>
                </a:cubicBezTo>
                <a:cubicBezTo>
                  <a:pt x="157" y="47"/>
                  <a:pt x="158" y="53"/>
                  <a:pt x="161" y="56"/>
                </a:cubicBezTo>
                <a:cubicBezTo>
                  <a:pt x="164" y="59"/>
                  <a:pt x="169" y="61"/>
                  <a:pt x="173" y="64"/>
                </a:cubicBezTo>
                <a:cubicBezTo>
                  <a:pt x="185" y="82"/>
                  <a:pt x="194" y="97"/>
                  <a:pt x="209" y="112"/>
                </a:cubicBezTo>
                <a:cubicBezTo>
                  <a:pt x="212" y="120"/>
                  <a:pt x="221" y="127"/>
                  <a:pt x="221" y="136"/>
                </a:cubicBezTo>
                <a:cubicBezTo>
                  <a:pt x="221" y="163"/>
                  <a:pt x="213" y="216"/>
                  <a:pt x="213" y="216"/>
                </a:cubicBezTo>
                <a:cubicBezTo>
                  <a:pt x="215" y="282"/>
                  <a:pt x="217" y="319"/>
                  <a:pt x="225" y="376"/>
                </a:cubicBezTo>
                <a:cubicBezTo>
                  <a:pt x="224" y="399"/>
                  <a:pt x="224" y="421"/>
                  <a:pt x="221" y="444"/>
                </a:cubicBezTo>
                <a:cubicBezTo>
                  <a:pt x="220" y="452"/>
                  <a:pt x="213" y="468"/>
                  <a:pt x="213" y="468"/>
                </a:cubicBezTo>
                <a:cubicBezTo>
                  <a:pt x="207" y="564"/>
                  <a:pt x="209" y="508"/>
                  <a:pt x="209" y="636"/>
                </a:cubicBezTo>
                <a:cubicBezTo>
                  <a:pt x="213" y="623"/>
                  <a:pt x="222" y="582"/>
                  <a:pt x="221" y="596"/>
                </a:cubicBezTo>
                <a:cubicBezTo>
                  <a:pt x="208" y="724"/>
                  <a:pt x="231" y="865"/>
                  <a:pt x="173" y="980"/>
                </a:cubicBezTo>
                <a:cubicBezTo>
                  <a:pt x="151" y="1024"/>
                  <a:pt x="74" y="983"/>
                  <a:pt x="25" y="984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516040" y="3321000"/>
            <a:ext cx="0" cy="13716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211480" y="3092400"/>
            <a:ext cx="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246400" y="3048120"/>
            <a:ext cx="1635120" cy="1573200"/>
          </a:xfrm>
          <a:custGeom>
            <a:avLst/>
            <a:gdLst/>
            <a:ahLst/>
            <a:rect l="l" t="t" r="r" b="b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09480" y="3048120"/>
            <a:ext cx="1638360" cy="1573200"/>
          </a:xfrm>
          <a:custGeom>
            <a:avLst/>
            <a:gdLst/>
            <a:ahLst/>
            <a:rect l="l" t="t" r="r" b="b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92200" y="4703760"/>
            <a:ext cx="3289320" cy="7920"/>
          </a:xfrm>
          <a:custGeom>
            <a:avLst/>
            <a:gdLst/>
            <a:ahLst/>
            <a:rect l="l" t="t" r="r" b="b"/>
            <a:pathLst>
              <a:path w="2072" h="5">
                <a:moveTo>
                  <a:pt x="0" y="5"/>
                </a:moveTo>
                <a:lnTo>
                  <a:pt x="12" y="0"/>
                </a:lnTo>
                <a:lnTo>
                  <a:pt x="2072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809880" y="4648320"/>
            <a:ext cx="381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362320" y="4724280"/>
            <a:ext cx="49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981080" y="472428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066680" y="53341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P(8 &lt; x &lt; 8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743200" y="3048120"/>
            <a:ext cx="121932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010280" y="3048120"/>
            <a:ext cx="121932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Symbol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3809880" y="3048120"/>
            <a:ext cx="1903680" cy="612360"/>
            <a:chOff x="3809880" y="3048120"/>
            <a:chExt cx="1903680" cy="612360"/>
          </a:xfrm>
        </p:grpSpPr>
        <p:sp>
          <p:nvSpPr>
            <p:cNvPr id="848" name=""/>
            <p:cNvSpPr/>
            <p:nvPr/>
          </p:nvSpPr>
          <p:spPr>
            <a:xfrm>
              <a:off x="3812040" y="3074040"/>
              <a:ext cx="1901520" cy="586440"/>
            </a:xfrm>
            <a:custGeom>
              <a:avLst/>
              <a:gdLst/>
              <a:ahLst/>
              <a:rect l="l" t="t" r="r" b="b"/>
              <a:pathLst>
                <a:path w="1726" h="759">
                  <a:moveTo>
                    <a:pt x="7" y="425"/>
                  </a:moveTo>
                  <a:lnTo>
                    <a:pt x="0" y="386"/>
                  </a:lnTo>
                  <a:lnTo>
                    <a:pt x="52" y="320"/>
                  </a:lnTo>
                  <a:lnTo>
                    <a:pt x="86" y="282"/>
                  </a:lnTo>
                  <a:lnTo>
                    <a:pt x="122" y="255"/>
                  </a:lnTo>
                  <a:lnTo>
                    <a:pt x="151" y="227"/>
                  </a:lnTo>
                  <a:lnTo>
                    <a:pt x="190" y="200"/>
                  </a:lnTo>
                  <a:lnTo>
                    <a:pt x="224" y="175"/>
                  </a:lnTo>
                  <a:lnTo>
                    <a:pt x="269" y="153"/>
                  </a:lnTo>
                  <a:lnTo>
                    <a:pt x="304" y="134"/>
                  </a:lnTo>
                  <a:lnTo>
                    <a:pt x="341" y="113"/>
                  </a:lnTo>
                  <a:lnTo>
                    <a:pt x="394" y="93"/>
                  </a:lnTo>
                  <a:lnTo>
                    <a:pt x="443" y="75"/>
                  </a:lnTo>
                  <a:lnTo>
                    <a:pt x="502" y="57"/>
                  </a:lnTo>
                  <a:lnTo>
                    <a:pt x="581" y="34"/>
                  </a:lnTo>
                  <a:lnTo>
                    <a:pt x="646" y="20"/>
                  </a:lnTo>
                  <a:lnTo>
                    <a:pt x="700" y="14"/>
                  </a:lnTo>
                  <a:lnTo>
                    <a:pt x="778" y="6"/>
                  </a:lnTo>
                  <a:lnTo>
                    <a:pt x="837" y="0"/>
                  </a:lnTo>
                  <a:lnTo>
                    <a:pt x="896" y="2"/>
                  </a:lnTo>
                  <a:lnTo>
                    <a:pt x="958" y="4"/>
                  </a:lnTo>
                  <a:lnTo>
                    <a:pt x="1021" y="14"/>
                  </a:lnTo>
                  <a:lnTo>
                    <a:pt x="1076" y="22"/>
                  </a:lnTo>
                  <a:lnTo>
                    <a:pt x="1132" y="36"/>
                  </a:lnTo>
                  <a:lnTo>
                    <a:pt x="1185" y="57"/>
                  </a:lnTo>
                  <a:lnTo>
                    <a:pt x="1236" y="79"/>
                  </a:lnTo>
                  <a:lnTo>
                    <a:pt x="1290" y="108"/>
                  </a:lnTo>
                  <a:lnTo>
                    <a:pt x="1342" y="147"/>
                  </a:lnTo>
                  <a:lnTo>
                    <a:pt x="1382" y="181"/>
                  </a:lnTo>
                  <a:lnTo>
                    <a:pt x="1426" y="225"/>
                  </a:lnTo>
                  <a:lnTo>
                    <a:pt x="1457" y="258"/>
                  </a:lnTo>
                  <a:lnTo>
                    <a:pt x="1472" y="277"/>
                  </a:lnTo>
                  <a:lnTo>
                    <a:pt x="1582" y="46"/>
                  </a:lnTo>
                  <a:lnTo>
                    <a:pt x="1594" y="94"/>
                  </a:lnTo>
                  <a:lnTo>
                    <a:pt x="1594" y="147"/>
                  </a:lnTo>
                  <a:lnTo>
                    <a:pt x="1596" y="197"/>
                  </a:lnTo>
                  <a:lnTo>
                    <a:pt x="1600" y="247"/>
                  </a:lnTo>
                  <a:lnTo>
                    <a:pt x="1605" y="300"/>
                  </a:lnTo>
                  <a:lnTo>
                    <a:pt x="1615" y="354"/>
                  </a:lnTo>
                  <a:lnTo>
                    <a:pt x="1624" y="398"/>
                  </a:lnTo>
                  <a:lnTo>
                    <a:pt x="1637" y="450"/>
                  </a:lnTo>
                  <a:lnTo>
                    <a:pt x="1651" y="499"/>
                  </a:lnTo>
                  <a:lnTo>
                    <a:pt x="1671" y="561"/>
                  </a:lnTo>
                  <a:lnTo>
                    <a:pt x="1706" y="627"/>
                  </a:lnTo>
                  <a:lnTo>
                    <a:pt x="1725" y="698"/>
                  </a:lnTo>
                  <a:lnTo>
                    <a:pt x="1685" y="685"/>
                  </a:lnTo>
                  <a:lnTo>
                    <a:pt x="1646" y="676"/>
                  </a:lnTo>
                  <a:lnTo>
                    <a:pt x="1601" y="667"/>
                  </a:lnTo>
                  <a:lnTo>
                    <a:pt x="1559" y="663"/>
                  </a:lnTo>
                  <a:lnTo>
                    <a:pt x="1534" y="664"/>
                  </a:lnTo>
                  <a:lnTo>
                    <a:pt x="1507" y="666"/>
                  </a:lnTo>
                  <a:lnTo>
                    <a:pt x="1469" y="671"/>
                  </a:lnTo>
                  <a:lnTo>
                    <a:pt x="1434" y="681"/>
                  </a:lnTo>
                  <a:lnTo>
                    <a:pt x="1403" y="690"/>
                  </a:lnTo>
                  <a:lnTo>
                    <a:pt x="1367" y="707"/>
                  </a:lnTo>
                  <a:lnTo>
                    <a:pt x="1330" y="723"/>
                  </a:lnTo>
                  <a:lnTo>
                    <a:pt x="1277" y="758"/>
                  </a:lnTo>
                  <a:lnTo>
                    <a:pt x="1259" y="687"/>
                  </a:lnTo>
                  <a:lnTo>
                    <a:pt x="1362" y="500"/>
                  </a:lnTo>
                  <a:lnTo>
                    <a:pt x="1345" y="482"/>
                  </a:lnTo>
                  <a:lnTo>
                    <a:pt x="1286" y="434"/>
                  </a:lnTo>
                  <a:lnTo>
                    <a:pt x="1237" y="396"/>
                  </a:lnTo>
                  <a:lnTo>
                    <a:pt x="1172" y="350"/>
                  </a:lnTo>
                  <a:lnTo>
                    <a:pt x="1131" y="328"/>
                  </a:lnTo>
                  <a:lnTo>
                    <a:pt x="1092" y="305"/>
                  </a:lnTo>
                  <a:lnTo>
                    <a:pt x="1036" y="277"/>
                  </a:lnTo>
                  <a:lnTo>
                    <a:pt x="982" y="251"/>
                  </a:lnTo>
                  <a:lnTo>
                    <a:pt x="921" y="232"/>
                  </a:lnTo>
                  <a:lnTo>
                    <a:pt x="868" y="219"/>
                  </a:lnTo>
                  <a:lnTo>
                    <a:pt x="811" y="209"/>
                  </a:lnTo>
                  <a:lnTo>
                    <a:pt x="753" y="197"/>
                  </a:lnTo>
                  <a:lnTo>
                    <a:pt x="707" y="195"/>
                  </a:lnTo>
                  <a:lnTo>
                    <a:pt x="647" y="196"/>
                  </a:lnTo>
                  <a:lnTo>
                    <a:pt x="587" y="201"/>
                  </a:lnTo>
                  <a:lnTo>
                    <a:pt x="531" y="204"/>
                  </a:lnTo>
                  <a:lnTo>
                    <a:pt x="470" y="211"/>
                  </a:lnTo>
                  <a:lnTo>
                    <a:pt x="401" y="222"/>
                  </a:lnTo>
                  <a:lnTo>
                    <a:pt x="334" y="232"/>
                  </a:lnTo>
                  <a:lnTo>
                    <a:pt x="273" y="254"/>
                  </a:lnTo>
                  <a:lnTo>
                    <a:pt x="231" y="266"/>
                  </a:lnTo>
                  <a:lnTo>
                    <a:pt x="189" y="284"/>
                  </a:lnTo>
                  <a:lnTo>
                    <a:pt x="158" y="301"/>
                  </a:lnTo>
                  <a:lnTo>
                    <a:pt x="126" y="322"/>
                  </a:lnTo>
                  <a:lnTo>
                    <a:pt x="97" y="343"/>
                  </a:lnTo>
                  <a:lnTo>
                    <a:pt x="7" y="425"/>
                  </a:lnTo>
                </a:path>
              </a:pathLst>
            </a:custGeom>
            <a:solidFill>
              <a:srgbClr val="66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809880" y="3048120"/>
              <a:ext cx="1881720" cy="554760"/>
            </a:xfrm>
            <a:custGeom>
              <a:avLst/>
              <a:gdLst/>
              <a:ahLst/>
              <a:rect l="l" t="t" r="r" b="b"/>
              <a:pathLst>
                <a:path w="1708" h="718">
                  <a:moveTo>
                    <a:pt x="0" y="421"/>
                  </a:moveTo>
                  <a:lnTo>
                    <a:pt x="57" y="326"/>
                  </a:lnTo>
                  <a:lnTo>
                    <a:pt x="84" y="296"/>
                  </a:lnTo>
                  <a:lnTo>
                    <a:pt x="117" y="264"/>
                  </a:lnTo>
                  <a:lnTo>
                    <a:pt x="146" y="239"/>
                  </a:lnTo>
                  <a:lnTo>
                    <a:pt x="183" y="210"/>
                  </a:lnTo>
                  <a:lnTo>
                    <a:pt x="219" y="183"/>
                  </a:lnTo>
                  <a:lnTo>
                    <a:pt x="263" y="156"/>
                  </a:lnTo>
                  <a:lnTo>
                    <a:pt x="299" y="137"/>
                  </a:lnTo>
                  <a:lnTo>
                    <a:pt x="336" y="117"/>
                  </a:lnTo>
                  <a:lnTo>
                    <a:pt x="388" y="95"/>
                  </a:lnTo>
                  <a:lnTo>
                    <a:pt x="438" y="79"/>
                  </a:lnTo>
                  <a:lnTo>
                    <a:pt x="496" y="61"/>
                  </a:lnTo>
                  <a:lnTo>
                    <a:pt x="575" y="37"/>
                  </a:lnTo>
                  <a:lnTo>
                    <a:pt x="640" y="23"/>
                  </a:lnTo>
                  <a:lnTo>
                    <a:pt x="694" y="16"/>
                  </a:lnTo>
                  <a:lnTo>
                    <a:pt x="771" y="6"/>
                  </a:lnTo>
                  <a:lnTo>
                    <a:pt x="831" y="0"/>
                  </a:lnTo>
                  <a:lnTo>
                    <a:pt x="889" y="1"/>
                  </a:lnTo>
                  <a:lnTo>
                    <a:pt x="951" y="2"/>
                  </a:lnTo>
                  <a:lnTo>
                    <a:pt x="1013" y="10"/>
                  </a:lnTo>
                  <a:lnTo>
                    <a:pt x="1069" y="17"/>
                  </a:lnTo>
                  <a:lnTo>
                    <a:pt x="1124" y="30"/>
                  </a:lnTo>
                  <a:lnTo>
                    <a:pt x="1176" y="49"/>
                  </a:lnTo>
                  <a:lnTo>
                    <a:pt x="1228" y="69"/>
                  </a:lnTo>
                  <a:lnTo>
                    <a:pt x="1280" y="96"/>
                  </a:lnTo>
                  <a:lnTo>
                    <a:pt x="1332" y="132"/>
                  </a:lnTo>
                  <a:lnTo>
                    <a:pt x="1371" y="164"/>
                  </a:lnTo>
                  <a:lnTo>
                    <a:pt x="1414" y="205"/>
                  </a:lnTo>
                  <a:lnTo>
                    <a:pt x="1445" y="236"/>
                  </a:lnTo>
                  <a:lnTo>
                    <a:pt x="1488" y="281"/>
                  </a:lnTo>
                  <a:lnTo>
                    <a:pt x="1583" y="78"/>
                  </a:lnTo>
                  <a:lnTo>
                    <a:pt x="1582" y="129"/>
                  </a:lnTo>
                  <a:lnTo>
                    <a:pt x="1583" y="176"/>
                  </a:lnTo>
                  <a:lnTo>
                    <a:pt x="1587" y="224"/>
                  </a:lnTo>
                  <a:lnTo>
                    <a:pt x="1592" y="274"/>
                  </a:lnTo>
                  <a:lnTo>
                    <a:pt x="1601" y="326"/>
                  </a:lnTo>
                  <a:lnTo>
                    <a:pt x="1609" y="368"/>
                  </a:lnTo>
                  <a:lnTo>
                    <a:pt x="1622" y="417"/>
                  </a:lnTo>
                  <a:lnTo>
                    <a:pt x="1635" y="464"/>
                  </a:lnTo>
                  <a:lnTo>
                    <a:pt x="1655" y="523"/>
                  </a:lnTo>
                  <a:lnTo>
                    <a:pt x="1674" y="576"/>
                  </a:lnTo>
                  <a:lnTo>
                    <a:pt x="1689" y="611"/>
                  </a:lnTo>
                  <a:lnTo>
                    <a:pt x="1707" y="656"/>
                  </a:lnTo>
                  <a:lnTo>
                    <a:pt x="1668" y="643"/>
                  </a:lnTo>
                  <a:lnTo>
                    <a:pt x="1628" y="634"/>
                  </a:lnTo>
                  <a:lnTo>
                    <a:pt x="1583" y="626"/>
                  </a:lnTo>
                  <a:lnTo>
                    <a:pt x="1542" y="623"/>
                  </a:lnTo>
                  <a:lnTo>
                    <a:pt x="1516" y="623"/>
                  </a:lnTo>
                  <a:lnTo>
                    <a:pt x="1491" y="626"/>
                  </a:lnTo>
                  <a:lnTo>
                    <a:pt x="1452" y="632"/>
                  </a:lnTo>
                  <a:lnTo>
                    <a:pt x="1417" y="641"/>
                  </a:lnTo>
                  <a:lnTo>
                    <a:pt x="1386" y="650"/>
                  </a:lnTo>
                  <a:lnTo>
                    <a:pt x="1350" y="668"/>
                  </a:lnTo>
                  <a:lnTo>
                    <a:pt x="1313" y="684"/>
                  </a:lnTo>
                  <a:lnTo>
                    <a:pt x="1260" y="717"/>
                  </a:lnTo>
                  <a:lnTo>
                    <a:pt x="1381" y="493"/>
                  </a:lnTo>
                  <a:lnTo>
                    <a:pt x="1332" y="453"/>
                  </a:lnTo>
                  <a:lnTo>
                    <a:pt x="1274" y="408"/>
                  </a:lnTo>
                  <a:lnTo>
                    <a:pt x="1224" y="372"/>
                  </a:lnTo>
                  <a:lnTo>
                    <a:pt x="1160" y="330"/>
                  </a:lnTo>
                  <a:lnTo>
                    <a:pt x="1119" y="308"/>
                  </a:lnTo>
                  <a:lnTo>
                    <a:pt x="1081" y="287"/>
                  </a:lnTo>
                  <a:lnTo>
                    <a:pt x="1026" y="261"/>
                  </a:lnTo>
                  <a:lnTo>
                    <a:pt x="972" y="238"/>
                  </a:lnTo>
                  <a:lnTo>
                    <a:pt x="911" y="220"/>
                  </a:lnTo>
                  <a:lnTo>
                    <a:pt x="859" y="209"/>
                  </a:lnTo>
                  <a:lnTo>
                    <a:pt x="802" y="200"/>
                  </a:lnTo>
                  <a:lnTo>
                    <a:pt x="744" y="190"/>
                  </a:lnTo>
                  <a:lnTo>
                    <a:pt x="699" y="189"/>
                  </a:lnTo>
                  <a:lnTo>
                    <a:pt x="640" y="191"/>
                  </a:lnTo>
                  <a:lnTo>
                    <a:pt x="579" y="196"/>
                  </a:lnTo>
                  <a:lnTo>
                    <a:pt x="523" y="200"/>
                  </a:lnTo>
                  <a:lnTo>
                    <a:pt x="462" y="208"/>
                  </a:lnTo>
                  <a:lnTo>
                    <a:pt x="393" y="218"/>
                  </a:lnTo>
                  <a:lnTo>
                    <a:pt x="327" y="230"/>
                  </a:lnTo>
                  <a:lnTo>
                    <a:pt x="267" y="252"/>
                  </a:lnTo>
                  <a:lnTo>
                    <a:pt x="224" y="263"/>
                  </a:lnTo>
                  <a:lnTo>
                    <a:pt x="182" y="281"/>
                  </a:lnTo>
                  <a:lnTo>
                    <a:pt x="148" y="299"/>
                  </a:lnTo>
                  <a:lnTo>
                    <a:pt x="117" y="317"/>
                  </a:lnTo>
                  <a:lnTo>
                    <a:pt x="91" y="340"/>
                  </a:lnTo>
                  <a:lnTo>
                    <a:pt x="0" y="421"/>
                  </a:lnTo>
                </a:path>
              </a:pathLst>
            </a:custGeom>
            <a:solidFill>
              <a:srgbClr val="66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7467480" y="11430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D7BC7-1E02-47E4-9088-2AC8838D7FA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Continuous Probability Distribution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9000"/>
          </a:bodyPr>
          <a:p>
            <a:pPr marL="317520" indent="-317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tinuous random vari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variable that can assume any value on a continuum (can assume an uncountable number of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ckness of an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required to complete a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of a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ight, in in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can potentially take on any value, depending only on the ability to measure accurat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1E377-1337-4C6E-B0B2-23CE284D0B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6288120" y="4997520"/>
            <a:ext cx="320760" cy="242640"/>
          </a:xfrm>
          <a:custGeom>
            <a:avLst/>
            <a:gdLst/>
            <a:ahLst/>
            <a:rect l="l" t="t" r="r" b="b"/>
            <a:pathLst>
              <a:path w="202" h="153">
                <a:moveTo>
                  <a:pt x="12" y="141"/>
                </a:moveTo>
                <a:cubicBezTo>
                  <a:pt x="39" y="153"/>
                  <a:pt x="79" y="146"/>
                  <a:pt x="105" y="145"/>
                </a:cubicBezTo>
                <a:cubicBezTo>
                  <a:pt x="127" y="143"/>
                  <a:pt x="135" y="143"/>
                  <a:pt x="162" y="144"/>
                </a:cubicBezTo>
                <a:cubicBezTo>
                  <a:pt x="172" y="148"/>
                  <a:pt x="181" y="148"/>
                  <a:pt x="192" y="147"/>
                </a:cubicBezTo>
                <a:cubicBezTo>
                  <a:pt x="200" y="136"/>
                  <a:pt x="198" y="142"/>
                  <a:pt x="201" y="132"/>
                </a:cubicBezTo>
                <a:cubicBezTo>
                  <a:pt x="200" y="102"/>
                  <a:pt x="202" y="55"/>
                  <a:pt x="187" y="24"/>
                </a:cubicBezTo>
                <a:cubicBezTo>
                  <a:pt x="185" y="7"/>
                  <a:pt x="165" y="1"/>
                  <a:pt x="150" y="0"/>
                </a:cubicBezTo>
                <a:cubicBezTo>
                  <a:pt x="116" y="2"/>
                  <a:pt x="102" y="41"/>
                  <a:pt x="70" y="46"/>
                </a:cubicBezTo>
                <a:cubicBezTo>
                  <a:pt x="63" y="49"/>
                  <a:pt x="58" y="51"/>
                  <a:pt x="51" y="52"/>
                </a:cubicBezTo>
                <a:cubicBezTo>
                  <a:pt x="43" y="55"/>
                  <a:pt x="36" y="56"/>
                  <a:pt x="27" y="57"/>
                </a:cubicBezTo>
                <a:cubicBezTo>
                  <a:pt x="19" y="62"/>
                  <a:pt x="14" y="67"/>
                  <a:pt x="7" y="73"/>
                </a:cubicBezTo>
                <a:cubicBezTo>
                  <a:pt x="0" y="87"/>
                  <a:pt x="2" y="81"/>
                  <a:pt x="0" y="90"/>
                </a:cubicBezTo>
                <a:cubicBezTo>
                  <a:pt x="0" y="104"/>
                  <a:pt x="0" y="119"/>
                  <a:pt x="1" y="133"/>
                </a:cubicBezTo>
                <a:cubicBezTo>
                  <a:pt x="1" y="138"/>
                  <a:pt x="8" y="147"/>
                  <a:pt x="12" y="141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248520" y="3581280"/>
            <a:ext cx="366480" cy="1625760"/>
          </a:xfrm>
          <a:custGeom>
            <a:avLst/>
            <a:gdLst/>
            <a:ahLst/>
            <a:rect l="l" t="t" r="r" b="b"/>
            <a:pathLst>
              <a:path w="231" h="1024">
                <a:moveTo>
                  <a:pt x="25" y="984"/>
                </a:moveTo>
                <a:cubicBezTo>
                  <a:pt x="28" y="847"/>
                  <a:pt x="34" y="709"/>
                  <a:pt x="37" y="572"/>
                </a:cubicBezTo>
                <a:cubicBezTo>
                  <a:pt x="33" y="476"/>
                  <a:pt x="30" y="440"/>
                  <a:pt x="33" y="340"/>
                </a:cubicBezTo>
                <a:cubicBezTo>
                  <a:pt x="30" y="269"/>
                  <a:pt x="25" y="210"/>
                  <a:pt x="29" y="140"/>
                </a:cubicBezTo>
                <a:cubicBezTo>
                  <a:pt x="28" y="100"/>
                  <a:pt x="0" y="32"/>
                  <a:pt x="41" y="4"/>
                </a:cubicBezTo>
                <a:cubicBezTo>
                  <a:pt x="122" y="9"/>
                  <a:pt x="91" y="0"/>
                  <a:pt x="133" y="28"/>
                </a:cubicBezTo>
                <a:cubicBezTo>
                  <a:pt x="156" y="62"/>
                  <a:pt x="125" y="22"/>
                  <a:pt x="153" y="44"/>
                </a:cubicBezTo>
                <a:cubicBezTo>
                  <a:pt x="157" y="47"/>
                  <a:pt x="158" y="53"/>
                  <a:pt x="161" y="56"/>
                </a:cubicBezTo>
                <a:cubicBezTo>
                  <a:pt x="164" y="59"/>
                  <a:pt x="169" y="61"/>
                  <a:pt x="173" y="64"/>
                </a:cubicBezTo>
                <a:cubicBezTo>
                  <a:pt x="185" y="82"/>
                  <a:pt x="194" y="97"/>
                  <a:pt x="209" y="112"/>
                </a:cubicBezTo>
                <a:cubicBezTo>
                  <a:pt x="212" y="120"/>
                  <a:pt x="221" y="127"/>
                  <a:pt x="221" y="136"/>
                </a:cubicBezTo>
                <a:cubicBezTo>
                  <a:pt x="221" y="163"/>
                  <a:pt x="213" y="216"/>
                  <a:pt x="213" y="216"/>
                </a:cubicBezTo>
                <a:cubicBezTo>
                  <a:pt x="215" y="282"/>
                  <a:pt x="217" y="319"/>
                  <a:pt x="225" y="376"/>
                </a:cubicBezTo>
                <a:cubicBezTo>
                  <a:pt x="224" y="399"/>
                  <a:pt x="224" y="421"/>
                  <a:pt x="221" y="444"/>
                </a:cubicBezTo>
                <a:cubicBezTo>
                  <a:pt x="220" y="452"/>
                  <a:pt x="213" y="468"/>
                  <a:pt x="213" y="468"/>
                </a:cubicBezTo>
                <a:cubicBezTo>
                  <a:pt x="207" y="564"/>
                  <a:pt x="209" y="508"/>
                  <a:pt x="209" y="636"/>
                </a:cubicBezTo>
                <a:cubicBezTo>
                  <a:pt x="213" y="623"/>
                  <a:pt x="222" y="582"/>
                  <a:pt x="221" y="596"/>
                </a:cubicBezTo>
                <a:cubicBezTo>
                  <a:pt x="208" y="724"/>
                  <a:pt x="231" y="865"/>
                  <a:pt x="173" y="980"/>
                </a:cubicBezTo>
                <a:cubicBezTo>
                  <a:pt x="151" y="1024"/>
                  <a:pt x="74" y="983"/>
                  <a:pt x="25" y="984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599160" y="3841920"/>
            <a:ext cx="0" cy="13716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294600" y="3613320"/>
            <a:ext cx="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329520" y="3568680"/>
            <a:ext cx="1635120" cy="1573200"/>
          </a:xfrm>
          <a:custGeom>
            <a:avLst/>
            <a:gdLst/>
            <a:ahLst/>
            <a:rect l="l" t="t" r="r" b="b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692600" y="3568680"/>
            <a:ext cx="1638360" cy="1573200"/>
          </a:xfrm>
          <a:custGeom>
            <a:avLst/>
            <a:gdLst/>
            <a:ahLst/>
            <a:rect l="l" t="t" r="r" b="b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675320" y="5224320"/>
            <a:ext cx="3289320" cy="7920"/>
          </a:xfrm>
          <a:custGeom>
            <a:avLst/>
            <a:gdLst/>
            <a:ahLst/>
            <a:rect l="l" t="t" r="r" b="b"/>
            <a:pathLst>
              <a:path w="2072" h="5">
                <a:moveTo>
                  <a:pt x="0" y="5"/>
                </a:moveTo>
                <a:lnTo>
                  <a:pt x="12" y="0"/>
                </a:lnTo>
                <a:lnTo>
                  <a:pt x="2072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970760" y="5213520"/>
            <a:ext cx="381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342120" y="551664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832880" y="331956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446880" y="5823000"/>
            <a:ext cx="62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0.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988920" y="2736720"/>
            <a:ext cx="6480" cy="64296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903320" y="2736720"/>
            <a:ext cx="6480" cy="64296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876400" y="2736720"/>
            <a:ext cx="6480" cy="64296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88800" y="2736720"/>
            <a:ext cx="590760" cy="635040"/>
          </a:xfrm>
          <a:prstGeom prst="rect">
            <a:avLst/>
          </a:prstGeom>
          <a:solidFill>
            <a:srgbClr val="a0c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74840" y="2809800"/>
            <a:ext cx="339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88800" y="3379680"/>
            <a:ext cx="590760" cy="1800"/>
          </a:xfrm>
          <a:prstGeom prst="rect">
            <a:avLst/>
          </a:prstGeom>
          <a:solidFill>
            <a:srgbClr val="a6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006560" y="2736720"/>
            <a:ext cx="887400" cy="635040"/>
          </a:xfrm>
          <a:prstGeom prst="rect">
            <a:avLst/>
          </a:prstGeom>
          <a:solidFill>
            <a:srgbClr val="a0c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107720" y="2809800"/>
            <a:ext cx="6235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0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006560" y="3379680"/>
            <a:ext cx="887400" cy="1800"/>
          </a:xfrm>
          <a:prstGeom prst="rect">
            <a:avLst/>
          </a:prstGeom>
          <a:solidFill>
            <a:srgbClr val="a6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919160" y="2736720"/>
            <a:ext cx="947880" cy="635040"/>
          </a:xfrm>
          <a:prstGeom prst="rect">
            <a:avLst/>
          </a:prstGeom>
          <a:solidFill>
            <a:srgbClr val="a0c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052000" y="2809800"/>
            <a:ext cx="6235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0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919160" y="3379680"/>
            <a:ext cx="947880" cy="1800"/>
          </a:xfrm>
          <a:prstGeom prst="rect">
            <a:avLst/>
          </a:prstGeom>
          <a:solidFill>
            <a:srgbClr val="a6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894040" y="2736720"/>
            <a:ext cx="944640" cy="6429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85920" y="3389400"/>
            <a:ext cx="593640" cy="612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988920" y="3389400"/>
            <a:ext cx="6480" cy="612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006560" y="3389400"/>
            <a:ext cx="887400" cy="612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903320" y="3389400"/>
            <a:ext cx="6480" cy="612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919160" y="3389400"/>
            <a:ext cx="947880" cy="612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876400" y="3389400"/>
            <a:ext cx="6480" cy="612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894040" y="3389400"/>
            <a:ext cx="944640" cy="612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988920" y="3406680"/>
            <a:ext cx="6480" cy="6350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903320" y="3406680"/>
            <a:ext cx="6480" cy="6350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876400" y="3406680"/>
            <a:ext cx="6480" cy="6350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88800" y="3406680"/>
            <a:ext cx="590760" cy="635040"/>
          </a:xfrm>
          <a:prstGeom prst="rect">
            <a:avLst/>
          </a:prstGeom>
          <a:solidFill>
            <a:srgbClr val="a0c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48840" y="3479760"/>
            <a:ext cx="6235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957600" y="347328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000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873800" y="347976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004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842200" y="347976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008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85920" y="4051440"/>
            <a:ext cx="593640" cy="612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988920" y="4051440"/>
            <a:ext cx="6480" cy="612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006560" y="4051440"/>
            <a:ext cx="887400" cy="612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903320" y="4051440"/>
            <a:ext cx="6480" cy="612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19160" y="4051440"/>
            <a:ext cx="947880" cy="612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876400" y="4051440"/>
            <a:ext cx="6480" cy="612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4040" y="4051440"/>
            <a:ext cx="944640" cy="612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988920" y="4067280"/>
            <a:ext cx="6480" cy="64296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903320" y="4067280"/>
            <a:ext cx="6480" cy="64296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876400" y="4067280"/>
            <a:ext cx="6480" cy="64296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4067280"/>
            <a:ext cx="590760" cy="6350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88800" y="4710240"/>
            <a:ext cx="590760" cy="1440"/>
          </a:xfrm>
          <a:prstGeom prst="rect">
            <a:avLst/>
          </a:prstGeom>
          <a:solidFill>
            <a:srgbClr val="a6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929160" y="414036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0398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872000" y="415908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0438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894040" y="4067280"/>
            <a:ext cx="944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85920" y="4719600"/>
            <a:ext cx="593640" cy="64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988920" y="4719600"/>
            <a:ext cx="6480" cy="64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006560" y="4719600"/>
            <a:ext cx="887400" cy="64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903320" y="4719600"/>
            <a:ext cx="6480" cy="64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919160" y="4719600"/>
            <a:ext cx="947880" cy="64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876400" y="4719600"/>
            <a:ext cx="6480" cy="64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894040" y="4719600"/>
            <a:ext cx="944640" cy="64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988920" y="4737240"/>
            <a:ext cx="6480" cy="6350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903320" y="4737240"/>
            <a:ext cx="6480" cy="6350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876400" y="4737240"/>
            <a:ext cx="6480" cy="6350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88800" y="4737240"/>
            <a:ext cx="590760" cy="635040"/>
          </a:xfrm>
          <a:prstGeom prst="rect">
            <a:avLst/>
          </a:prstGeom>
          <a:solidFill>
            <a:srgbClr val="a0c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48840" y="4809960"/>
            <a:ext cx="6235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929160" y="480996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079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873800" y="480996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083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842200" y="480996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087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85920" y="5381640"/>
            <a:ext cx="593640" cy="64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988920" y="5381640"/>
            <a:ext cx="6480" cy="64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006560" y="5381640"/>
            <a:ext cx="887400" cy="64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903320" y="5381640"/>
            <a:ext cx="6480" cy="64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919160" y="5381640"/>
            <a:ext cx="947880" cy="64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876400" y="5381640"/>
            <a:ext cx="6480" cy="64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894040" y="5381640"/>
            <a:ext cx="944640" cy="64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988920" y="5397480"/>
            <a:ext cx="6480" cy="6350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903320" y="5397480"/>
            <a:ext cx="6480" cy="6350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876400" y="5397480"/>
            <a:ext cx="6480" cy="6350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88800" y="5397480"/>
            <a:ext cx="590760" cy="635040"/>
          </a:xfrm>
          <a:prstGeom prst="rect">
            <a:avLst/>
          </a:prstGeom>
          <a:solidFill>
            <a:srgbClr val="a0c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48840" y="5470560"/>
            <a:ext cx="6235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929160" y="547056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1179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873800" y="547056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1217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842200" y="547056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1255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lution: Finding P(0 &lt; z &lt; 0.12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010280" y="2895480"/>
            <a:ext cx="1206720" cy="454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04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016080" y="2741760"/>
            <a:ext cx="11304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92160" bIns="9216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.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04920" y="4191120"/>
            <a:ext cx="10666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863800" y="4159080"/>
            <a:ext cx="1054080" cy="500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04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80880" y="1905120"/>
            <a:ext cx="4070520" cy="7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Normal Proba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(Por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066000" y="5442120"/>
            <a:ext cx="62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6294600" y="5213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6675480" y="52131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6477120" y="3352680"/>
            <a:ext cx="76176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421680" y="236232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= P(0 &lt; z &lt; 0.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628680" y="198108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P(8 &lt; x &lt; 8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400800" y="1905120"/>
            <a:ext cx="2514600" cy="1447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EC4E0-C054-4546-A618-D0AB2596EA85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Finding Normal Probabiliti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uppose  x  is normal with mean 8.0 and standard deviation 5.0.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Now Find P(x &lt; 8.6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467160" y="3924360"/>
            <a:ext cx="1562040" cy="1657440"/>
          </a:xfrm>
          <a:custGeom>
            <a:avLst/>
            <a:gdLst/>
            <a:ahLst/>
            <a:rect l="l" t="t" r="r" b="b"/>
            <a:pathLst>
              <a:path w="984" h="1044">
                <a:moveTo>
                  <a:pt x="984" y="1032"/>
                </a:moveTo>
                <a:lnTo>
                  <a:pt x="981" y="0"/>
                </a:lnTo>
                <a:lnTo>
                  <a:pt x="888" y="72"/>
                </a:lnTo>
                <a:lnTo>
                  <a:pt x="792" y="168"/>
                </a:lnTo>
                <a:lnTo>
                  <a:pt x="726" y="304"/>
                </a:lnTo>
                <a:lnTo>
                  <a:pt x="638" y="452"/>
                </a:lnTo>
                <a:lnTo>
                  <a:pt x="586" y="552"/>
                </a:lnTo>
                <a:lnTo>
                  <a:pt x="522" y="657"/>
                </a:lnTo>
                <a:lnTo>
                  <a:pt x="456" y="744"/>
                </a:lnTo>
                <a:lnTo>
                  <a:pt x="360" y="852"/>
                </a:lnTo>
                <a:lnTo>
                  <a:pt x="204" y="948"/>
                </a:lnTo>
                <a:lnTo>
                  <a:pt x="0" y="984"/>
                </a:lnTo>
                <a:lnTo>
                  <a:pt x="3" y="1044"/>
                </a:lnTo>
                <a:lnTo>
                  <a:pt x="984" y="103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022720" y="5346720"/>
            <a:ext cx="320760" cy="243000"/>
          </a:xfrm>
          <a:custGeom>
            <a:avLst/>
            <a:gdLst/>
            <a:ahLst/>
            <a:rect l="l" t="t" r="r" b="b"/>
            <a:pathLst>
              <a:path w="202" h="153">
                <a:moveTo>
                  <a:pt x="12" y="141"/>
                </a:moveTo>
                <a:cubicBezTo>
                  <a:pt x="39" y="153"/>
                  <a:pt x="79" y="146"/>
                  <a:pt x="105" y="145"/>
                </a:cubicBezTo>
                <a:cubicBezTo>
                  <a:pt x="127" y="143"/>
                  <a:pt x="135" y="143"/>
                  <a:pt x="162" y="144"/>
                </a:cubicBezTo>
                <a:cubicBezTo>
                  <a:pt x="172" y="148"/>
                  <a:pt x="181" y="148"/>
                  <a:pt x="192" y="147"/>
                </a:cubicBezTo>
                <a:cubicBezTo>
                  <a:pt x="200" y="136"/>
                  <a:pt x="198" y="142"/>
                  <a:pt x="201" y="132"/>
                </a:cubicBezTo>
                <a:cubicBezTo>
                  <a:pt x="200" y="102"/>
                  <a:pt x="202" y="55"/>
                  <a:pt x="187" y="24"/>
                </a:cubicBezTo>
                <a:cubicBezTo>
                  <a:pt x="185" y="7"/>
                  <a:pt x="165" y="1"/>
                  <a:pt x="150" y="0"/>
                </a:cubicBezTo>
                <a:cubicBezTo>
                  <a:pt x="116" y="2"/>
                  <a:pt x="102" y="41"/>
                  <a:pt x="70" y="46"/>
                </a:cubicBezTo>
                <a:cubicBezTo>
                  <a:pt x="63" y="49"/>
                  <a:pt x="58" y="51"/>
                  <a:pt x="51" y="52"/>
                </a:cubicBezTo>
                <a:cubicBezTo>
                  <a:pt x="43" y="55"/>
                  <a:pt x="36" y="56"/>
                  <a:pt x="27" y="57"/>
                </a:cubicBezTo>
                <a:cubicBezTo>
                  <a:pt x="19" y="62"/>
                  <a:pt x="14" y="67"/>
                  <a:pt x="7" y="73"/>
                </a:cubicBezTo>
                <a:cubicBezTo>
                  <a:pt x="0" y="87"/>
                  <a:pt x="2" y="81"/>
                  <a:pt x="0" y="90"/>
                </a:cubicBezTo>
                <a:cubicBezTo>
                  <a:pt x="0" y="104"/>
                  <a:pt x="0" y="119"/>
                  <a:pt x="1" y="133"/>
                </a:cubicBezTo>
                <a:cubicBezTo>
                  <a:pt x="1" y="138"/>
                  <a:pt x="8" y="147"/>
                  <a:pt x="12" y="141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983120" y="3930480"/>
            <a:ext cx="366840" cy="1625760"/>
          </a:xfrm>
          <a:custGeom>
            <a:avLst/>
            <a:gdLst/>
            <a:ahLst/>
            <a:rect l="l" t="t" r="r" b="b"/>
            <a:pathLst>
              <a:path w="231" h="1024">
                <a:moveTo>
                  <a:pt x="25" y="984"/>
                </a:moveTo>
                <a:cubicBezTo>
                  <a:pt x="28" y="847"/>
                  <a:pt x="34" y="709"/>
                  <a:pt x="37" y="572"/>
                </a:cubicBezTo>
                <a:cubicBezTo>
                  <a:pt x="33" y="476"/>
                  <a:pt x="30" y="440"/>
                  <a:pt x="33" y="340"/>
                </a:cubicBezTo>
                <a:cubicBezTo>
                  <a:pt x="30" y="269"/>
                  <a:pt x="25" y="210"/>
                  <a:pt x="29" y="140"/>
                </a:cubicBezTo>
                <a:cubicBezTo>
                  <a:pt x="28" y="100"/>
                  <a:pt x="0" y="32"/>
                  <a:pt x="41" y="4"/>
                </a:cubicBezTo>
                <a:cubicBezTo>
                  <a:pt x="122" y="9"/>
                  <a:pt x="91" y="0"/>
                  <a:pt x="133" y="28"/>
                </a:cubicBezTo>
                <a:cubicBezTo>
                  <a:pt x="156" y="62"/>
                  <a:pt x="125" y="22"/>
                  <a:pt x="153" y="44"/>
                </a:cubicBezTo>
                <a:cubicBezTo>
                  <a:pt x="157" y="47"/>
                  <a:pt x="158" y="53"/>
                  <a:pt x="161" y="56"/>
                </a:cubicBezTo>
                <a:cubicBezTo>
                  <a:pt x="164" y="59"/>
                  <a:pt x="169" y="61"/>
                  <a:pt x="173" y="64"/>
                </a:cubicBezTo>
                <a:cubicBezTo>
                  <a:pt x="185" y="82"/>
                  <a:pt x="194" y="97"/>
                  <a:pt x="209" y="112"/>
                </a:cubicBezTo>
                <a:cubicBezTo>
                  <a:pt x="212" y="120"/>
                  <a:pt x="227" y="134"/>
                  <a:pt x="227" y="143"/>
                </a:cubicBezTo>
                <a:cubicBezTo>
                  <a:pt x="227" y="170"/>
                  <a:pt x="213" y="216"/>
                  <a:pt x="213" y="216"/>
                </a:cubicBezTo>
                <a:cubicBezTo>
                  <a:pt x="215" y="282"/>
                  <a:pt x="217" y="319"/>
                  <a:pt x="225" y="376"/>
                </a:cubicBezTo>
                <a:cubicBezTo>
                  <a:pt x="224" y="399"/>
                  <a:pt x="224" y="421"/>
                  <a:pt x="221" y="444"/>
                </a:cubicBezTo>
                <a:cubicBezTo>
                  <a:pt x="220" y="452"/>
                  <a:pt x="213" y="468"/>
                  <a:pt x="213" y="468"/>
                </a:cubicBezTo>
                <a:cubicBezTo>
                  <a:pt x="207" y="564"/>
                  <a:pt x="209" y="508"/>
                  <a:pt x="209" y="636"/>
                </a:cubicBezTo>
                <a:cubicBezTo>
                  <a:pt x="213" y="623"/>
                  <a:pt x="222" y="582"/>
                  <a:pt x="221" y="596"/>
                </a:cubicBezTo>
                <a:cubicBezTo>
                  <a:pt x="208" y="724"/>
                  <a:pt x="231" y="865"/>
                  <a:pt x="173" y="980"/>
                </a:cubicBezTo>
                <a:cubicBezTo>
                  <a:pt x="151" y="1024"/>
                  <a:pt x="74" y="983"/>
                  <a:pt x="25" y="984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334120" y="4191120"/>
            <a:ext cx="0" cy="13716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029200" y="3962520"/>
            <a:ext cx="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64120" y="3917880"/>
            <a:ext cx="1635120" cy="1573200"/>
          </a:xfrm>
          <a:custGeom>
            <a:avLst/>
            <a:gdLst/>
            <a:ahLst/>
            <a:rect l="l" t="t" r="r" b="b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427560" y="3917880"/>
            <a:ext cx="1638000" cy="1573200"/>
          </a:xfrm>
          <a:custGeom>
            <a:avLst/>
            <a:gdLst/>
            <a:ahLst/>
            <a:rect l="l" t="t" r="r" b="b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409920" y="5573880"/>
            <a:ext cx="3289320" cy="7920"/>
          </a:xfrm>
          <a:custGeom>
            <a:avLst/>
            <a:gdLst/>
            <a:ahLst/>
            <a:rect l="l" t="t" r="r" b="b"/>
            <a:pathLst>
              <a:path w="2072" h="5">
                <a:moveTo>
                  <a:pt x="0" y="5"/>
                </a:moveTo>
                <a:lnTo>
                  <a:pt x="12" y="0"/>
                </a:lnTo>
                <a:lnTo>
                  <a:pt x="2072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705720" y="5562720"/>
            <a:ext cx="38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567480" y="382104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181480" y="6172200"/>
            <a:ext cx="49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8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800600" y="5791320"/>
            <a:ext cx="49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5029200" y="55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V="1">
            <a:off x="5410080" y="55623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9D10C-C16E-48EE-A95C-6156D2B4D4B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/>
          <p:nvPr/>
        </p:nvSpPr>
        <p:spPr>
          <a:xfrm>
            <a:off x="2666880" y="5486400"/>
            <a:ext cx="838440" cy="533520"/>
          </a:xfrm>
          <a:prstGeom prst="rect">
            <a:avLst/>
          </a:prstGeom>
          <a:solidFill>
            <a:srgbClr val="b8fac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Finding Normal Probabiliti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uppose  x  is normal with mean 8.0 and standard deviation 5.0.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Now Find P(x &lt; 8.6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7467480" y="11430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295960" y="4086360"/>
            <a:ext cx="1562040" cy="1647720"/>
          </a:xfrm>
          <a:custGeom>
            <a:avLst/>
            <a:gdLst/>
            <a:ahLst/>
            <a:rect l="l" t="t" r="r" b="b"/>
            <a:pathLst>
              <a:path w="984" h="1038">
                <a:moveTo>
                  <a:pt x="984" y="1026"/>
                </a:moveTo>
                <a:lnTo>
                  <a:pt x="978" y="0"/>
                </a:lnTo>
                <a:lnTo>
                  <a:pt x="886" y="54"/>
                </a:lnTo>
                <a:lnTo>
                  <a:pt x="796" y="170"/>
                </a:lnTo>
                <a:lnTo>
                  <a:pt x="714" y="322"/>
                </a:lnTo>
                <a:lnTo>
                  <a:pt x="636" y="466"/>
                </a:lnTo>
                <a:lnTo>
                  <a:pt x="588" y="544"/>
                </a:lnTo>
                <a:lnTo>
                  <a:pt x="522" y="644"/>
                </a:lnTo>
                <a:lnTo>
                  <a:pt x="456" y="738"/>
                </a:lnTo>
                <a:lnTo>
                  <a:pt x="360" y="846"/>
                </a:lnTo>
                <a:lnTo>
                  <a:pt x="204" y="942"/>
                </a:lnTo>
                <a:lnTo>
                  <a:pt x="0" y="978"/>
                </a:lnTo>
                <a:lnTo>
                  <a:pt x="12" y="1038"/>
                </a:lnTo>
                <a:lnTo>
                  <a:pt x="984" y="1026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851520" y="5499000"/>
            <a:ext cx="320760" cy="243000"/>
          </a:xfrm>
          <a:custGeom>
            <a:avLst/>
            <a:gdLst/>
            <a:ahLst/>
            <a:rect l="l" t="t" r="r" b="b"/>
            <a:pathLst>
              <a:path w="202" h="153">
                <a:moveTo>
                  <a:pt x="12" y="141"/>
                </a:moveTo>
                <a:cubicBezTo>
                  <a:pt x="39" y="153"/>
                  <a:pt x="79" y="146"/>
                  <a:pt x="105" y="145"/>
                </a:cubicBezTo>
                <a:cubicBezTo>
                  <a:pt x="127" y="143"/>
                  <a:pt x="135" y="143"/>
                  <a:pt x="162" y="144"/>
                </a:cubicBezTo>
                <a:cubicBezTo>
                  <a:pt x="172" y="148"/>
                  <a:pt x="181" y="148"/>
                  <a:pt x="192" y="147"/>
                </a:cubicBezTo>
                <a:cubicBezTo>
                  <a:pt x="200" y="136"/>
                  <a:pt x="198" y="142"/>
                  <a:pt x="201" y="132"/>
                </a:cubicBezTo>
                <a:cubicBezTo>
                  <a:pt x="200" y="102"/>
                  <a:pt x="202" y="55"/>
                  <a:pt x="187" y="24"/>
                </a:cubicBezTo>
                <a:cubicBezTo>
                  <a:pt x="185" y="7"/>
                  <a:pt x="165" y="1"/>
                  <a:pt x="150" y="0"/>
                </a:cubicBezTo>
                <a:cubicBezTo>
                  <a:pt x="116" y="2"/>
                  <a:pt x="102" y="41"/>
                  <a:pt x="70" y="46"/>
                </a:cubicBezTo>
                <a:cubicBezTo>
                  <a:pt x="63" y="49"/>
                  <a:pt x="58" y="51"/>
                  <a:pt x="51" y="52"/>
                </a:cubicBezTo>
                <a:cubicBezTo>
                  <a:pt x="43" y="55"/>
                  <a:pt x="36" y="56"/>
                  <a:pt x="27" y="57"/>
                </a:cubicBezTo>
                <a:cubicBezTo>
                  <a:pt x="19" y="62"/>
                  <a:pt x="14" y="67"/>
                  <a:pt x="7" y="73"/>
                </a:cubicBezTo>
                <a:cubicBezTo>
                  <a:pt x="0" y="87"/>
                  <a:pt x="2" y="81"/>
                  <a:pt x="0" y="90"/>
                </a:cubicBezTo>
                <a:cubicBezTo>
                  <a:pt x="0" y="104"/>
                  <a:pt x="0" y="119"/>
                  <a:pt x="1" y="133"/>
                </a:cubicBezTo>
                <a:cubicBezTo>
                  <a:pt x="1" y="138"/>
                  <a:pt x="8" y="147"/>
                  <a:pt x="12" y="141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6811920" y="4083120"/>
            <a:ext cx="366840" cy="1625400"/>
          </a:xfrm>
          <a:custGeom>
            <a:avLst/>
            <a:gdLst/>
            <a:ahLst/>
            <a:rect l="l" t="t" r="r" b="b"/>
            <a:pathLst>
              <a:path w="231" h="1024">
                <a:moveTo>
                  <a:pt x="25" y="984"/>
                </a:moveTo>
                <a:cubicBezTo>
                  <a:pt x="28" y="847"/>
                  <a:pt x="34" y="709"/>
                  <a:pt x="37" y="572"/>
                </a:cubicBezTo>
                <a:cubicBezTo>
                  <a:pt x="33" y="476"/>
                  <a:pt x="30" y="440"/>
                  <a:pt x="33" y="340"/>
                </a:cubicBezTo>
                <a:cubicBezTo>
                  <a:pt x="30" y="269"/>
                  <a:pt x="25" y="210"/>
                  <a:pt x="29" y="140"/>
                </a:cubicBezTo>
                <a:cubicBezTo>
                  <a:pt x="28" y="100"/>
                  <a:pt x="0" y="32"/>
                  <a:pt x="41" y="4"/>
                </a:cubicBezTo>
                <a:cubicBezTo>
                  <a:pt x="122" y="9"/>
                  <a:pt x="91" y="0"/>
                  <a:pt x="133" y="28"/>
                </a:cubicBezTo>
                <a:cubicBezTo>
                  <a:pt x="156" y="62"/>
                  <a:pt x="125" y="22"/>
                  <a:pt x="153" y="44"/>
                </a:cubicBezTo>
                <a:cubicBezTo>
                  <a:pt x="157" y="47"/>
                  <a:pt x="158" y="53"/>
                  <a:pt x="161" y="56"/>
                </a:cubicBezTo>
                <a:cubicBezTo>
                  <a:pt x="164" y="59"/>
                  <a:pt x="169" y="61"/>
                  <a:pt x="173" y="64"/>
                </a:cubicBezTo>
                <a:cubicBezTo>
                  <a:pt x="185" y="82"/>
                  <a:pt x="194" y="97"/>
                  <a:pt x="209" y="112"/>
                </a:cubicBezTo>
                <a:cubicBezTo>
                  <a:pt x="212" y="120"/>
                  <a:pt x="230" y="128"/>
                  <a:pt x="230" y="137"/>
                </a:cubicBezTo>
                <a:cubicBezTo>
                  <a:pt x="230" y="164"/>
                  <a:pt x="213" y="216"/>
                  <a:pt x="213" y="216"/>
                </a:cubicBezTo>
                <a:cubicBezTo>
                  <a:pt x="215" y="282"/>
                  <a:pt x="217" y="319"/>
                  <a:pt x="225" y="376"/>
                </a:cubicBezTo>
                <a:cubicBezTo>
                  <a:pt x="224" y="399"/>
                  <a:pt x="224" y="421"/>
                  <a:pt x="221" y="444"/>
                </a:cubicBezTo>
                <a:cubicBezTo>
                  <a:pt x="220" y="452"/>
                  <a:pt x="213" y="468"/>
                  <a:pt x="213" y="468"/>
                </a:cubicBezTo>
                <a:cubicBezTo>
                  <a:pt x="207" y="564"/>
                  <a:pt x="209" y="508"/>
                  <a:pt x="209" y="636"/>
                </a:cubicBezTo>
                <a:cubicBezTo>
                  <a:pt x="213" y="623"/>
                  <a:pt x="222" y="582"/>
                  <a:pt x="221" y="596"/>
                </a:cubicBezTo>
                <a:cubicBezTo>
                  <a:pt x="208" y="724"/>
                  <a:pt x="231" y="865"/>
                  <a:pt x="173" y="980"/>
                </a:cubicBezTo>
                <a:cubicBezTo>
                  <a:pt x="151" y="1024"/>
                  <a:pt x="74" y="983"/>
                  <a:pt x="25" y="984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162920" y="4343400"/>
            <a:ext cx="0" cy="13716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858000" y="4114800"/>
            <a:ext cx="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892920" y="4070520"/>
            <a:ext cx="1635120" cy="1573200"/>
          </a:xfrm>
          <a:custGeom>
            <a:avLst/>
            <a:gdLst/>
            <a:ahLst/>
            <a:rect l="l" t="t" r="r" b="b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256360" y="4070520"/>
            <a:ext cx="1638000" cy="1573200"/>
          </a:xfrm>
          <a:custGeom>
            <a:avLst/>
            <a:gdLst/>
            <a:ahLst/>
            <a:rect l="l" t="t" r="r" b="b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238720" y="5726160"/>
            <a:ext cx="3289320" cy="7920"/>
          </a:xfrm>
          <a:custGeom>
            <a:avLst/>
            <a:gdLst/>
            <a:ahLst/>
            <a:rect l="l" t="t" r="r" b="b"/>
            <a:pathLst>
              <a:path w="2072" h="5">
                <a:moveTo>
                  <a:pt x="0" y="5"/>
                </a:moveTo>
                <a:lnTo>
                  <a:pt x="12" y="0"/>
                </a:lnTo>
                <a:lnTo>
                  <a:pt x="2072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8526600" y="5661000"/>
            <a:ext cx="0" cy="144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8534520" y="5715000"/>
            <a:ext cx="38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905520" y="601812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8396280" y="3973680"/>
            <a:ext cx="184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7010640" y="6324480"/>
            <a:ext cx="62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0.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7543800" y="3733920"/>
            <a:ext cx="1206360" cy="454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04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943600" y="4267080"/>
            <a:ext cx="53352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629400" y="5943600"/>
            <a:ext cx="62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V="1">
            <a:off x="685800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7238880" y="57146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105520" y="3809880"/>
            <a:ext cx="1206360" cy="454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5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7086240" y="4191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09480" y="3886200"/>
            <a:ext cx="3962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x &lt; 8.6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(z &lt; 0.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(z &lt; 0) + P(0 &lt; z &lt; 0.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.5 + .0478 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54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57200" y="3809880"/>
            <a:ext cx="4267080" cy="2438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B99A0-7E9C-4AAA-8FA1-3BEB6BCD7FA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br>
              <a:rPr sz="37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Upper Tail Probabiliti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uppose  x  is normal with mean 8.0 and standard deviation 5.0.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Now Find P(x &gt; 8.6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391000" y="4176720"/>
            <a:ext cx="1314720" cy="1405080"/>
          </a:xfrm>
          <a:custGeom>
            <a:avLst/>
            <a:gdLst/>
            <a:ahLst/>
            <a:rect l="l" t="t" r="r" b="b"/>
            <a:pathLst>
              <a:path w="828" h="885">
                <a:moveTo>
                  <a:pt x="3" y="882"/>
                </a:moveTo>
                <a:lnTo>
                  <a:pt x="0" y="0"/>
                </a:lnTo>
                <a:lnTo>
                  <a:pt x="27" y="72"/>
                </a:lnTo>
                <a:lnTo>
                  <a:pt x="81" y="159"/>
                </a:lnTo>
                <a:lnTo>
                  <a:pt x="117" y="237"/>
                </a:lnTo>
                <a:lnTo>
                  <a:pt x="156" y="297"/>
                </a:lnTo>
                <a:lnTo>
                  <a:pt x="201" y="384"/>
                </a:lnTo>
                <a:lnTo>
                  <a:pt x="273" y="495"/>
                </a:lnTo>
                <a:lnTo>
                  <a:pt x="339" y="585"/>
                </a:lnTo>
                <a:lnTo>
                  <a:pt x="442" y="693"/>
                </a:lnTo>
                <a:lnTo>
                  <a:pt x="609" y="789"/>
                </a:lnTo>
                <a:lnTo>
                  <a:pt x="828" y="825"/>
                </a:lnTo>
                <a:lnTo>
                  <a:pt x="825" y="885"/>
                </a:lnTo>
                <a:lnTo>
                  <a:pt x="3" y="88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064120" y="3917880"/>
            <a:ext cx="1635120" cy="1573200"/>
          </a:xfrm>
          <a:custGeom>
            <a:avLst/>
            <a:gdLst/>
            <a:ahLst/>
            <a:rect l="l" t="t" r="r" b="b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427560" y="3917880"/>
            <a:ext cx="1638000" cy="1573200"/>
          </a:xfrm>
          <a:custGeom>
            <a:avLst/>
            <a:gdLst/>
            <a:ahLst/>
            <a:rect l="l" t="t" r="r" b="b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409920" y="5573880"/>
            <a:ext cx="3289320" cy="7920"/>
          </a:xfrm>
          <a:custGeom>
            <a:avLst/>
            <a:gdLst/>
            <a:ahLst/>
            <a:rect l="l" t="t" r="r" b="b"/>
            <a:pathLst>
              <a:path w="2072" h="5">
                <a:moveTo>
                  <a:pt x="0" y="5"/>
                </a:moveTo>
                <a:lnTo>
                  <a:pt x="12" y="0"/>
                </a:lnTo>
                <a:lnTo>
                  <a:pt x="2072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705720" y="5562720"/>
            <a:ext cx="38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567480" y="382104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181480" y="6172200"/>
            <a:ext cx="49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8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800600" y="5791320"/>
            <a:ext cx="49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5410080" y="55623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029200" y="3962520"/>
            <a:ext cx="0" cy="16002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4051F-BF34-4C33-B1B6-60312FC2DA5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6248520" y="3886200"/>
            <a:ext cx="0" cy="1600200"/>
          </a:xfrm>
          <a:prstGeom prst="line">
            <a:avLst/>
          </a:prstGeom>
          <a:ln w="31680">
            <a:solidFill>
              <a:srgbClr val="d5f7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211800" y="5302080"/>
            <a:ext cx="417600" cy="260640"/>
          </a:xfrm>
          <a:custGeom>
            <a:avLst/>
            <a:gdLst/>
            <a:ahLst/>
            <a:rect l="l" t="t" r="r" b="b"/>
            <a:pathLst>
              <a:path w="202" h="153">
                <a:moveTo>
                  <a:pt x="12" y="141"/>
                </a:moveTo>
                <a:cubicBezTo>
                  <a:pt x="39" y="153"/>
                  <a:pt x="79" y="146"/>
                  <a:pt x="105" y="145"/>
                </a:cubicBezTo>
                <a:cubicBezTo>
                  <a:pt x="127" y="143"/>
                  <a:pt x="135" y="143"/>
                  <a:pt x="162" y="144"/>
                </a:cubicBezTo>
                <a:cubicBezTo>
                  <a:pt x="172" y="148"/>
                  <a:pt x="181" y="148"/>
                  <a:pt x="192" y="147"/>
                </a:cubicBezTo>
                <a:cubicBezTo>
                  <a:pt x="200" y="136"/>
                  <a:pt x="198" y="142"/>
                  <a:pt x="201" y="132"/>
                </a:cubicBezTo>
                <a:cubicBezTo>
                  <a:pt x="200" y="102"/>
                  <a:pt x="202" y="55"/>
                  <a:pt x="187" y="24"/>
                </a:cubicBezTo>
                <a:cubicBezTo>
                  <a:pt x="185" y="7"/>
                  <a:pt x="165" y="1"/>
                  <a:pt x="150" y="0"/>
                </a:cubicBezTo>
                <a:cubicBezTo>
                  <a:pt x="116" y="2"/>
                  <a:pt x="102" y="41"/>
                  <a:pt x="70" y="46"/>
                </a:cubicBezTo>
                <a:cubicBezTo>
                  <a:pt x="63" y="49"/>
                  <a:pt x="58" y="51"/>
                  <a:pt x="51" y="52"/>
                </a:cubicBezTo>
                <a:cubicBezTo>
                  <a:pt x="43" y="55"/>
                  <a:pt x="36" y="56"/>
                  <a:pt x="27" y="57"/>
                </a:cubicBezTo>
                <a:cubicBezTo>
                  <a:pt x="19" y="62"/>
                  <a:pt x="14" y="67"/>
                  <a:pt x="7" y="73"/>
                </a:cubicBezTo>
                <a:cubicBezTo>
                  <a:pt x="0" y="87"/>
                  <a:pt x="2" y="81"/>
                  <a:pt x="0" y="90"/>
                </a:cubicBezTo>
                <a:cubicBezTo>
                  <a:pt x="0" y="104"/>
                  <a:pt x="0" y="119"/>
                  <a:pt x="1" y="133"/>
                </a:cubicBezTo>
                <a:cubicBezTo>
                  <a:pt x="1" y="138"/>
                  <a:pt x="8" y="147"/>
                  <a:pt x="12" y="141"/>
                </a:cubicBezTo>
                <a:close/>
              </a:path>
            </a:pathLst>
          </a:custGeom>
          <a:solidFill>
            <a:srgbClr val="d5f7fb"/>
          </a:solidFill>
          <a:ln w="12600">
            <a:solidFill>
              <a:srgbClr val="d5f7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553080" y="4114800"/>
            <a:ext cx="0" cy="1371600"/>
          </a:xfrm>
          <a:prstGeom prst="line">
            <a:avLst/>
          </a:prstGeom>
          <a:ln w="76320">
            <a:solidFill>
              <a:srgbClr val="d5f7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172200" y="3886200"/>
            <a:ext cx="412920" cy="1619280"/>
          </a:xfrm>
          <a:custGeom>
            <a:avLst/>
            <a:gdLst/>
            <a:ahLst/>
            <a:rect l="l" t="t" r="r" b="b"/>
            <a:pathLst>
              <a:path w="260" h="1020">
                <a:moveTo>
                  <a:pt x="25" y="984"/>
                </a:moveTo>
                <a:cubicBezTo>
                  <a:pt x="28" y="847"/>
                  <a:pt x="34" y="709"/>
                  <a:pt x="37" y="572"/>
                </a:cubicBezTo>
                <a:cubicBezTo>
                  <a:pt x="33" y="476"/>
                  <a:pt x="30" y="440"/>
                  <a:pt x="33" y="340"/>
                </a:cubicBezTo>
                <a:cubicBezTo>
                  <a:pt x="30" y="269"/>
                  <a:pt x="25" y="210"/>
                  <a:pt x="29" y="140"/>
                </a:cubicBezTo>
                <a:cubicBezTo>
                  <a:pt x="28" y="100"/>
                  <a:pt x="0" y="32"/>
                  <a:pt x="41" y="4"/>
                </a:cubicBezTo>
                <a:cubicBezTo>
                  <a:pt x="122" y="9"/>
                  <a:pt x="91" y="0"/>
                  <a:pt x="133" y="28"/>
                </a:cubicBezTo>
                <a:cubicBezTo>
                  <a:pt x="156" y="62"/>
                  <a:pt x="125" y="22"/>
                  <a:pt x="153" y="44"/>
                </a:cubicBezTo>
                <a:cubicBezTo>
                  <a:pt x="157" y="47"/>
                  <a:pt x="158" y="53"/>
                  <a:pt x="161" y="56"/>
                </a:cubicBezTo>
                <a:cubicBezTo>
                  <a:pt x="164" y="59"/>
                  <a:pt x="169" y="61"/>
                  <a:pt x="173" y="64"/>
                </a:cubicBezTo>
                <a:cubicBezTo>
                  <a:pt x="185" y="82"/>
                  <a:pt x="194" y="97"/>
                  <a:pt x="209" y="112"/>
                </a:cubicBezTo>
                <a:cubicBezTo>
                  <a:pt x="212" y="120"/>
                  <a:pt x="230" y="128"/>
                  <a:pt x="230" y="137"/>
                </a:cubicBezTo>
                <a:cubicBezTo>
                  <a:pt x="230" y="164"/>
                  <a:pt x="213" y="216"/>
                  <a:pt x="213" y="216"/>
                </a:cubicBezTo>
                <a:cubicBezTo>
                  <a:pt x="215" y="282"/>
                  <a:pt x="217" y="319"/>
                  <a:pt x="225" y="376"/>
                </a:cubicBezTo>
                <a:cubicBezTo>
                  <a:pt x="224" y="399"/>
                  <a:pt x="224" y="421"/>
                  <a:pt x="221" y="444"/>
                </a:cubicBezTo>
                <a:cubicBezTo>
                  <a:pt x="220" y="452"/>
                  <a:pt x="224" y="476"/>
                  <a:pt x="224" y="476"/>
                </a:cubicBezTo>
                <a:cubicBezTo>
                  <a:pt x="218" y="572"/>
                  <a:pt x="226" y="506"/>
                  <a:pt x="226" y="634"/>
                </a:cubicBezTo>
                <a:cubicBezTo>
                  <a:pt x="230" y="621"/>
                  <a:pt x="231" y="584"/>
                  <a:pt x="230" y="598"/>
                </a:cubicBezTo>
                <a:cubicBezTo>
                  <a:pt x="217" y="726"/>
                  <a:pt x="260" y="861"/>
                  <a:pt x="202" y="976"/>
                </a:cubicBezTo>
                <a:cubicBezTo>
                  <a:pt x="180" y="1020"/>
                  <a:pt x="74" y="983"/>
                  <a:pt x="25" y="984"/>
                </a:cubicBezTo>
                <a:close/>
              </a:path>
            </a:pathLst>
          </a:custGeom>
          <a:solidFill>
            <a:srgbClr val="d5f7fb"/>
          </a:solidFill>
          <a:ln w="12600">
            <a:solidFill>
              <a:srgbClr val="d5f7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324480" y="2666880"/>
            <a:ext cx="914400" cy="533520"/>
          </a:xfrm>
          <a:prstGeom prst="rect">
            <a:avLst/>
          </a:prstGeom>
          <a:solidFill>
            <a:srgbClr val="b8fac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575400" y="4145040"/>
            <a:ext cx="1314360" cy="1404720"/>
          </a:xfrm>
          <a:custGeom>
            <a:avLst/>
            <a:gdLst/>
            <a:ahLst/>
            <a:rect l="l" t="t" r="r" b="b"/>
            <a:pathLst>
              <a:path w="828" h="885">
                <a:moveTo>
                  <a:pt x="3" y="882"/>
                </a:moveTo>
                <a:lnTo>
                  <a:pt x="0" y="0"/>
                </a:lnTo>
                <a:lnTo>
                  <a:pt x="27" y="72"/>
                </a:lnTo>
                <a:lnTo>
                  <a:pt x="81" y="159"/>
                </a:lnTo>
                <a:lnTo>
                  <a:pt x="117" y="237"/>
                </a:lnTo>
                <a:lnTo>
                  <a:pt x="156" y="297"/>
                </a:lnTo>
                <a:lnTo>
                  <a:pt x="201" y="384"/>
                </a:lnTo>
                <a:lnTo>
                  <a:pt x="273" y="495"/>
                </a:lnTo>
                <a:lnTo>
                  <a:pt x="339" y="585"/>
                </a:lnTo>
                <a:lnTo>
                  <a:pt x="442" y="693"/>
                </a:lnTo>
                <a:lnTo>
                  <a:pt x="609" y="789"/>
                </a:lnTo>
                <a:lnTo>
                  <a:pt x="828" y="825"/>
                </a:lnTo>
                <a:lnTo>
                  <a:pt x="825" y="885"/>
                </a:lnTo>
                <a:lnTo>
                  <a:pt x="3" y="88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H="1">
            <a:off x="6858000" y="457200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791320" y="3886200"/>
            <a:ext cx="6094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/>
          </p:nvPr>
        </p:nvSpPr>
        <p:spPr>
          <a:xfrm>
            <a:off x="1066320" y="152352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Now Find P(x &gt; 8.6)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467480" y="11430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248520" y="3886200"/>
            <a:ext cx="1635120" cy="1573200"/>
          </a:xfrm>
          <a:custGeom>
            <a:avLst/>
            <a:gdLst/>
            <a:ahLst/>
            <a:rect l="l" t="t" r="r" b="b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611600" y="3886200"/>
            <a:ext cx="1638360" cy="1573200"/>
          </a:xfrm>
          <a:custGeom>
            <a:avLst/>
            <a:gdLst/>
            <a:ahLst/>
            <a:rect l="l" t="t" r="r" b="b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889760" y="5530680"/>
            <a:ext cx="381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365880" y="6140520"/>
            <a:ext cx="62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0.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985000" y="575928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6594480" y="5530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213600" y="3930480"/>
            <a:ext cx="0" cy="16002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362320" y="3929040"/>
            <a:ext cx="1676160" cy="1638360"/>
          </a:xfrm>
          <a:custGeom>
            <a:avLst/>
            <a:gdLst/>
            <a:ahLst/>
            <a:rect l="l" t="t" r="r" b="b"/>
            <a:pathLst>
              <a:path w="1056" h="1032">
                <a:moveTo>
                  <a:pt x="0" y="1029"/>
                </a:moveTo>
                <a:lnTo>
                  <a:pt x="3" y="0"/>
                </a:lnTo>
                <a:lnTo>
                  <a:pt x="84" y="15"/>
                </a:lnTo>
                <a:lnTo>
                  <a:pt x="216" y="150"/>
                </a:lnTo>
                <a:lnTo>
                  <a:pt x="300" y="303"/>
                </a:lnTo>
                <a:lnTo>
                  <a:pt x="378" y="450"/>
                </a:lnTo>
                <a:lnTo>
                  <a:pt x="429" y="543"/>
                </a:lnTo>
                <a:lnTo>
                  <a:pt x="501" y="654"/>
                </a:lnTo>
                <a:lnTo>
                  <a:pt x="567" y="741"/>
                </a:lnTo>
                <a:lnTo>
                  <a:pt x="670" y="849"/>
                </a:lnTo>
                <a:lnTo>
                  <a:pt x="837" y="945"/>
                </a:lnTo>
                <a:lnTo>
                  <a:pt x="1056" y="981"/>
                </a:lnTo>
                <a:lnTo>
                  <a:pt x="1056" y="1032"/>
                </a:lnTo>
                <a:lnTo>
                  <a:pt x="0" y="1029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362320" y="3962520"/>
            <a:ext cx="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397240" y="3917880"/>
            <a:ext cx="1635120" cy="1573200"/>
          </a:xfrm>
          <a:custGeom>
            <a:avLst/>
            <a:gdLst/>
            <a:ahLst/>
            <a:rect l="l" t="t" r="r" b="b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60320" y="3917880"/>
            <a:ext cx="1638360" cy="1573200"/>
          </a:xfrm>
          <a:custGeom>
            <a:avLst/>
            <a:gdLst/>
            <a:ahLst/>
            <a:rect l="l" t="t" r="r" b="b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43040" y="5573880"/>
            <a:ext cx="3289320" cy="7920"/>
          </a:xfrm>
          <a:custGeom>
            <a:avLst/>
            <a:gdLst/>
            <a:ahLst/>
            <a:rect l="l" t="t" r="r" b="b"/>
            <a:pathLst>
              <a:path w="2072" h="5">
                <a:moveTo>
                  <a:pt x="0" y="5"/>
                </a:moveTo>
                <a:lnTo>
                  <a:pt x="12" y="0"/>
                </a:lnTo>
                <a:lnTo>
                  <a:pt x="2072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030560" y="5508720"/>
            <a:ext cx="0" cy="144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038480" y="5562720"/>
            <a:ext cx="381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409840" y="586584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900600" y="382104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514600" y="6172200"/>
            <a:ext cx="62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0.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876920" y="3581280"/>
            <a:ext cx="1054080" cy="454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04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H="1">
            <a:off x="2743200" y="4191120"/>
            <a:ext cx="45720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133720" y="579132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2362320" y="55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2743200" y="55623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124080" y="3809880"/>
            <a:ext cx="1206720" cy="454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5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315200" y="3886200"/>
            <a:ext cx="1676520" cy="820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50 - .0478 = .45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838080" y="213372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x &gt; 8.6) = P(z &gt; 0.12) = P(z &gt; 0) - P(0 &lt; z &lt; 0.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.5 - .0478 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45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6218280" y="5517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594320" y="5541840"/>
            <a:ext cx="3289320" cy="7920"/>
          </a:xfrm>
          <a:custGeom>
            <a:avLst/>
            <a:gdLst/>
            <a:ahLst/>
            <a:rect l="l" t="t" r="r" b="b"/>
            <a:pathLst>
              <a:path w="2072" h="5">
                <a:moveTo>
                  <a:pt x="0" y="5"/>
                </a:moveTo>
                <a:lnTo>
                  <a:pt x="12" y="0"/>
                </a:lnTo>
                <a:lnTo>
                  <a:pt x="2072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990720" y="2133720"/>
            <a:ext cx="7238880" cy="1143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title"/>
          </p:nvPr>
        </p:nvSpPr>
        <p:spPr>
          <a:xfrm>
            <a:off x="1676520" y="380520"/>
            <a:ext cx="71071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br>
              <a:rPr sz="41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Upper Tail Probabiliti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E6E25-36C0-41AC-A0D7-20E89C6E94D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4711680" y="3962520"/>
            <a:ext cx="317520" cy="1600200"/>
          </a:xfrm>
          <a:custGeom>
            <a:avLst/>
            <a:gdLst/>
            <a:ahLst/>
            <a:rect l="l" t="t" r="r" b="b"/>
            <a:pathLst>
              <a:path w="200" h="1008">
                <a:moveTo>
                  <a:pt x="8" y="1008"/>
                </a:moveTo>
                <a:lnTo>
                  <a:pt x="0" y="166"/>
                </a:lnTo>
                <a:lnTo>
                  <a:pt x="26" y="126"/>
                </a:lnTo>
                <a:lnTo>
                  <a:pt x="64" y="76"/>
                </a:lnTo>
                <a:lnTo>
                  <a:pt x="96" y="42"/>
                </a:lnTo>
                <a:lnTo>
                  <a:pt x="126" y="22"/>
                </a:lnTo>
                <a:lnTo>
                  <a:pt x="152" y="0"/>
                </a:lnTo>
                <a:lnTo>
                  <a:pt x="200" y="0"/>
                </a:lnTo>
                <a:lnTo>
                  <a:pt x="200" y="1008"/>
                </a:lnTo>
                <a:lnTo>
                  <a:pt x="8" y="100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Lower Tail Probabiliti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uppose  x  is normal with mean 8.0 and standard deviation 5.0.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Now Find P(7.4 &lt; x &lt; 8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5029200" y="3962520"/>
            <a:ext cx="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105520" y="3962520"/>
            <a:ext cx="1593720" cy="1528560"/>
          </a:xfrm>
          <a:custGeom>
            <a:avLst/>
            <a:gdLst/>
            <a:ahLst/>
            <a:rect l="l" t="t" r="r" b="b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427560" y="3957480"/>
            <a:ext cx="1644480" cy="1532160"/>
          </a:xfrm>
          <a:custGeom>
            <a:avLst/>
            <a:gdLst/>
            <a:ahLst/>
            <a:rect l="l" t="t" r="r" b="b"/>
            <a:pathLst>
              <a:path w="1036" h="965">
                <a:moveTo>
                  <a:pt x="0" y="965"/>
                </a:moveTo>
                <a:lnTo>
                  <a:pt x="108" y="955"/>
                </a:lnTo>
                <a:lnTo>
                  <a:pt x="163" y="942"/>
                </a:lnTo>
                <a:lnTo>
                  <a:pt x="218" y="927"/>
                </a:lnTo>
                <a:lnTo>
                  <a:pt x="271" y="904"/>
                </a:lnTo>
                <a:lnTo>
                  <a:pt x="326" y="872"/>
                </a:lnTo>
                <a:lnTo>
                  <a:pt x="381" y="832"/>
                </a:lnTo>
                <a:lnTo>
                  <a:pt x="488" y="718"/>
                </a:lnTo>
                <a:lnTo>
                  <a:pt x="596" y="556"/>
                </a:lnTo>
                <a:lnTo>
                  <a:pt x="706" y="361"/>
                </a:lnTo>
                <a:lnTo>
                  <a:pt x="759" y="262"/>
                </a:lnTo>
                <a:lnTo>
                  <a:pt x="814" y="171"/>
                </a:lnTo>
                <a:lnTo>
                  <a:pt x="868" y="91"/>
                </a:lnTo>
                <a:lnTo>
                  <a:pt x="919" y="33"/>
                </a:lnTo>
                <a:lnTo>
                  <a:pt x="973" y="9"/>
                </a:lnTo>
                <a:lnTo>
                  <a:pt x="1036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409920" y="5573880"/>
            <a:ext cx="3289320" cy="7920"/>
          </a:xfrm>
          <a:custGeom>
            <a:avLst/>
            <a:gdLst/>
            <a:ahLst/>
            <a:rect l="l" t="t" r="r" b="b"/>
            <a:pathLst>
              <a:path w="2072" h="5">
                <a:moveTo>
                  <a:pt x="0" y="5"/>
                </a:moveTo>
                <a:lnTo>
                  <a:pt x="12" y="0"/>
                </a:lnTo>
                <a:lnTo>
                  <a:pt x="2072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705720" y="5562720"/>
            <a:ext cx="38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567480" y="382104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419720" y="6019920"/>
            <a:ext cx="49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7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800600" y="5791320"/>
            <a:ext cx="49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5029200" y="55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472428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BDBB2-6D80-4E94-BA7B-C9A1946D626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/>
          <p:nvPr/>
        </p:nvSpPr>
        <p:spPr>
          <a:xfrm>
            <a:off x="5715000" y="3809880"/>
            <a:ext cx="317520" cy="1600200"/>
          </a:xfrm>
          <a:custGeom>
            <a:avLst/>
            <a:gdLst/>
            <a:ahLst/>
            <a:rect l="l" t="t" r="r" b="b"/>
            <a:pathLst>
              <a:path w="200" h="1008">
                <a:moveTo>
                  <a:pt x="8" y="1008"/>
                </a:moveTo>
                <a:lnTo>
                  <a:pt x="0" y="166"/>
                </a:lnTo>
                <a:lnTo>
                  <a:pt x="26" y="126"/>
                </a:lnTo>
                <a:lnTo>
                  <a:pt x="64" y="76"/>
                </a:lnTo>
                <a:lnTo>
                  <a:pt x="96" y="42"/>
                </a:lnTo>
                <a:lnTo>
                  <a:pt x="126" y="22"/>
                </a:lnTo>
                <a:lnTo>
                  <a:pt x="152" y="0"/>
                </a:lnTo>
                <a:lnTo>
                  <a:pt x="200" y="0"/>
                </a:lnTo>
                <a:lnTo>
                  <a:pt x="200" y="1008"/>
                </a:lnTo>
                <a:lnTo>
                  <a:pt x="8" y="100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638680" y="3505320"/>
            <a:ext cx="2286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066680" y="5486400"/>
            <a:ext cx="914400" cy="533520"/>
          </a:xfrm>
          <a:prstGeom prst="rect">
            <a:avLst/>
          </a:prstGeom>
          <a:solidFill>
            <a:srgbClr val="b8fac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Lower Tail Probabiliti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85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Now Find P(7.4 &lt; x &lt; 8)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019920" y="3809880"/>
            <a:ext cx="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095880" y="3809880"/>
            <a:ext cx="1594080" cy="1528920"/>
          </a:xfrm>
          <a:custGeom>
            <a:avLst/>
            <a:gdLst/>
            <a:ahLst/>
            <a:rect l="l" t="t" r="r" b="b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417920" y="3805200"/>
            <a:ext cx="1644840" cy="1531800"/>
          </a:xfrm>
          <a:custGeom>
            <a:avLst/>
            <a:gdLst/>
            <a:ahLst/>
            <a:rect l="l" t="t" r="r" b="b"/>
            <a:pathLst>
              <a:path w="1036" h="965">
                <a:moveTo>
                  <a:pt x="0" y="965"/>
                </a:moveTo>
                <a:lnTo>
                  <a:pt x="108" y="955"/>
                </a:lnTo>
                <a:lnTo>
                  <a:pt x="163" y="942"/>
                </a:lnTo>
                <a:lnTo>
                  <a:pt x="218" y="927"/>
                </a:lnTo>
                <a:lnTo>
                  <a:pt x="271" y="904"/>
                </a:lnTo>
                <a:lnTo>
                  <a:pt x="326" y="872"/>
                </a:lnTo>
                <a:lnTo>
                  <a:pt x="381" y="832"/>
                </a:lnTo>
                <a:lnTo>
                  <a:pt x="488" y="718"/>
                </a:lnTo>
                <a:lnTo>
                  <a:pt x="596" y="556"/>
                </a:lnTo>
                <a:lnTo>
                  <a:pt x="706" y="361"/>
                </a:lnTo>
                <a:lnTo>
                  <a:pt x="759" y="262"/>
                </a:lnTo>
                <a:lnTo>
                  <a:pt x="814" y="171"/>
                </a:lnTo>
                <a:lnTo>
                  <a:pt x="868" y="91"/>
                </a:lnTo>
                <a:lnTo>
                  <a:pt x="919" y="33"/>
                </a:lnTo>
                <a:lnTo>
                  <a:pt x="973" y="9"/>
                </a:lnTo>
                <a:lnTo>
                  <a:pt x="1036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400640" y="5421240"/>
            <a:ext cx="3289320" cy="7920"/>
          </a:xfrm>
          <a:custGeom>
            <a:avLst/>
            <a:gdLst/>
            <a:ahLst/>
            <a:rect l="l" t="t" r="r" b="b"/>
            <a:pathLst>
              <a:path w="2072" h="5">
                <a:moveTo>
                  <a:pt x="0" y="5"/>
                </a:moveTo>
                <a:lnTo>
                  <a:pt x="12" y="0"/>
                </a:lnTo>
                <a:lnTo>
                  <a:pt x="2072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696080" y="5410080"/>
            <a:ext cx="381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410080" y="5867280"/>
            <a:ext cx="49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7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791320" y="5638680"/>
            <a:ext cx="49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5715000" y="5410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57200" y="38098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62120" y="2743200"/>
            <a:ext cx="396216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ormal distribution is symmetric, so we use the same table even if z-values are negati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7.4 &lt; x &lt; 8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(-0.12 &lt; z &lt;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04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467480" y="11430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184000" y="3124080"/>
            <a:ext cx="942840" cy="459720"/>
          </a:xfrm>
          <a:prstGeom prst="rect">
            <a:avLst/>
          </a:prstGeom>
          <a:solidFill>
            <a:srgbClr val="a0f8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04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98387-C949-46D4-BE9D-1E72ED988F9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Normal Probabilities in PHSt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7239240" cy="4038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use Excel and PHStat to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probabilities for any 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find   P(8 &lt; x &lt; 8.6)   when x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ly distributed with mean 8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deviation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8E2CD-D73C-45AD-99DD-D88508CE650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HStat Dialogue Box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5638680" cy="3292200"/>
          </a:xfrm>
          <a:prstGeom prst="rect">
            <a:avLst/>
          </a:prstGeom>
          <a:ln w="0">
            <a:noFill/>
          </a:ln>
        </p:spPr>
      </p:pic>
      <p:pic>
        <p:nvPicPr>
          <p:cNvPr id="1075" name="" descr=""/>
          <p:cNvPicPr/>
          <p:nvPr/>
        </p:nvPicPr>
        <p:blipFill>
          <a:blip r:embed="rId2"/>
          <a:stretch/>
        </p:blipFill>
        <p:spPr>
          <a:xfrm>
            <a:off x="6095880" y="3505320"/>
            <a:ext cx="2895840" cy="2895480"/>
          </a:xfrm>
          <a:prstGeom prst="rect">
            <a:avLst/>
          </a:prstGeom>
          <a:ln w="0">
            <a:noFill/>
          </a:ln>
        </p:spPr>
      </p:pic>
      <p:sp>
        <p:nvSpPr>
          <p:cNvPr id="1076" name=""/>
          <p:cNvSpPr/>
          <p:nvPr/>
        </p:nvSpPr>
        <p:spPr>
          <a:xfrm>
            <a:off x="5943600" y="31240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7315200" y="31240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209680" y="54864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desired options and enter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V="1">
            <a:off x="5410080" y="5105160"/>
            <a:ext cx="91440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AEE82-8CCA-46A6-8A6D-ED74533BC3C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HStat Outpu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1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381880" cy="3881160"/>
          </a:xfrm>
          <a:prstGeom prst="rect">
            <a:avLst/>
          </a:prstGeom>
          <a:ln w="0">
            <a:noFill/>
          </a:ln>
        </p:spPr>
      </p:pic>
      <p:sp>
        <p:nvSpPr>
          <p:cNvPr id="1082" name=""/>
          <p:cNvSpPr/>
          <p:nvPr/>
        </p:nvSpPr>
        <p:spPr>
          <a:xfrm>
            <a:off x="4267080" y="3886200"/>
            <a:ext cx="4572000" cy="2209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92F7A-BE0F-4233-99F2-F51B531B1F4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 flipH="1">
            <a:off x="159984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2057400" y="502920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1599840" y="5943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-2057400" y="365760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99840" y="45720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25909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533520"/>
            <a:ext cx="824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457200"/>
            <a:ext cx="7045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Binomial Distrib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38280" y="259092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00200" y="3962520"/>
            <a:ext cx="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43400" y="24382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28800" y="4343400"/>
            <a:ext cx="1676520" cy="454680"/>
          </a:xfrm>
          <a:prstGeom prst="rect">
            <a:avLst/>
          </a:prstGeom>
          <a:solidFill>
            <a:srgbClr val="bbd7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5715000"/>
            <a:ext cx="259092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geo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5029200"/>
            <a:ext cx="144792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1600200"/>
            <a:ext cx="2286000" cy="82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2743200"/>
            <a:ext cx="220968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re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-2057400" y="434340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9F238-2B0F-4BB2-AD4F-7F8A7AE09B4C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5257800" y="3962520"/>
            <a:ext cx="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H="1">
            <a:off x="525744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5257440" y="5943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-2057400" y="502920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-2057400" y="365760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248520" y="25909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57200" y="533520"/>
            <a:ext cx="824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523880" y="457200"/>
            <a:ext cx="7045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Uniform Distrib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105520" y="2743200"/>
            <a:ext cx="220968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343400" y="259092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343400" y="24382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276720" y="1600200"/>
            <a:ext cx="2286000" cy="82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5257440" y="45720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-2057400" y="434340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486400" y="4343400"/>
            <a:ext cx="167652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486400" y="5029200"/>
            <a:ext cx="1676520" cy="454680"/>
          </a:xfrm>
          <a:prstGeom prst="rect">
            <a:avLst/>
          </a:prstGeom>
          <a:solidFill>
            <a:srgbClr val="fcff9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486400" y="5715000"/>
            <a:ext cx="198108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9AB45-AEA6-4ACC-B7EF-8DEFBFD0C612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Uniform Distrib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142640" y="2209680"/>
            <a:ext cx="7010280" cy="24386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uniform distrib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probability distribution that has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qual probabil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all possible outcomes of the random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F1340-68E8-44F9-8907-2F85A8F1DE1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"/>
          <p:cNvSpPr/>
          <p:nvPr/>
        </p:nvSpPr>
        <p:spPr>
          <a:xfrm>
            <a:off x="1981080" y="2286000"/>
            <a:ext cx="5029200" cy="2209680"/>
          </a:xfrm>
          <a:prstGeom prst="rect">
            <a:avLst/>
          </a:prstGeom>
          <a:solidFill>
            <a:srgbClr val="fff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224720" y="1676520"/>
            <a:ext cx="51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tinuous Uniform Distrib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3581280" y="2362320"/>
                <a:ext cx="3297240" cy="19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  <m:e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 otherwi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5" name=""/>
          <p:cNvSpPr/>
          <p:nvPr/>
        </p:nvSpPr>
        <p:spPr>
          <a:xfrm>
            <a:off x="1752480" y="4724280"/>
            <a:ext cx="6324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(x) = value of the density function at any x valu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 = lower limit of the interv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 = upper limit of the interv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Uniform Distrib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7" name=""/>
          <p:cNvSpPr/>
          <p:nvPr/>
        </p:nvSpPr>
        <p:spPr>
          <a:xfrm>
            <a:off x="7543800" y="1143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429000" y="251460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133720" y="32004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BC371-4A62-42C4-8AF7-5FFE1B12E7BD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/>
          <p:nvPr/>
        </p:nvSpPr>
        <p:spPr>
          <a:xfrm>
            <a:off x="1905120" y="2819520"/>
            <a:ext cx="5333760" cy="914400"/>
          </a:xfrm>
          <a:prstGeom prst="rect">
            <a:avLst/>
          </a:prstGeom>
          <a:solidFill>
            <a:srgbClr val="fff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Uniform Distrib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2" name=""/>
          <p:cNvSpPr/>
          <p:nvPr/>
        </p:nvSpPr>
        <p:spPr>
          <a:xfrm>
            <a:off x="1295280" y="1676520"/>
            <a:ext cx="693432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iform Probability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the range   2 ≤ x ≤ 6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819520" y="4419720"/>
            <a:ext cx="0" cy="121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819520" y="5638680"/>
            <a:ext cx="411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657600" y="4876920"/>
            <a:ext cx="2438280" cy="761760"/>
          </a:xfrm>
          <a:prstGeom prst="rect">
            <a:avLst/>
          </a:prstGeom>
          <a:solidFill>
            <a:srgbClr val="a0c7f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50532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867280" y="5638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209680" y="4572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743200" y="48769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057400" y="3048120"/>
            <a:ext cx="64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 =           = .25   for  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 x ≤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048120" y="32004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-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276720" y="2819520"/>
            <a:ext cx="4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124080" y="3276720"/>
            <a:ext cx="72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858000" y="5562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209680" y="3962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7031B-6C4F-45C6-8206-0399C472A244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"/>
          <p:cNvSpPr/>
          <p:nvPr/>
        </p:nvSpPr>
        <p:spPr>
          <a:xfrm>
            <a:off x="5257800" y="3962520"/>
            <a:ext cx="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525744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5257440" y="5943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-2057400" y="502920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-2057400" y="365760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248520" y="25909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7200" y="533520"/>
            <a:ext cx="824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523880" y="457200"/>
            <a:ext cx="7045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Exponential Distrib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105520" y="2743200"/>
            <a:ext cx="220968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343400" y="259092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343400" y="24382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276720" y="1600200"/>
            <a:ext cx="2286000" cy="82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5257440" y="45720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-2057400" y="434340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486400" y="4343400"/>
            <a:ext cx="167652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486400" y="5029200"/>
            <a:ext cx="167652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486400" y="5715000"/>
            <a:ext cx="1981080" cy="454680"/>
          </a:xfrm>
          <a:prstGeom prst="rect">
            <a:avLst/>
          </a:prstGeom>
          <a:solidFill>
            <a:srgbClr val="fcff9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B453C-CDB1-4B21-8C97-6EC3399184A6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Exponential Distrib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measure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ime that elapses between two occurren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n event (the time between arriv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between trucks arriving at an unloading d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between transactions at an ATM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between phone calls to the main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63EF2-F34C-4E13-801A-474AEE26BE77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Exponential Distrib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6" name=""/>
              <p:cNvSpPr txBox="1"/>
              <p:nvPr/>
            </p:nvSpPr>
            <p:spPr>
              <a:xfrm>
                <a:off x="1854360" y="3200400"/>
                <a:ext cx="566568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77320" cy="16761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probability that an arrival time is equal to or less than some specified time  a  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066680" y="43434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here 1/</a:t>
            </a:r>
            <a:r>
              <a:rPr b="0" lang="el-GR" sz="23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is the mean time between even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62120" y="5105520"/>
            <a:ext cx="761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if th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number of occurrences per time peri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Poisson with mea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n th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ime between occurre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exponential with mean time 1/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62120" y="5105520"/>
            <a:ext cx="7543800" cy="1066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29582-BA7A-4B3C-A7FC-E40D904A1ABD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ponential Distrib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6934320" cy="1407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of the exponential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133720" y="2362320"/>
            <a:ext cx="4865400" cy="3733560"/>
          </a:xfrm>
          <a:prstGeom prst="rect">
            <a:avLst/>
          </a:prstGeom>
          <a:solidFill>
            <a:srgbClr val="ffffcd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V="1">
            <a:off x="3505320" y="4876920"/>
            <a:ext cx="1523880" cy="30456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3352680" y="4266720"/>
            <a:ext cx="838440" cy="68580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rot="5760000">
            <a:off x="4401360" y="2162880"/>
            <a:ext cx="1549080" cy="492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201" y="7892"/>
                </a:moveTo>
                <a:arcTo wR="10800" hR="10800" stAng="-937115" swAng="5955690"/>
                <a:lnTo>
                  <a:pt x="10800" y="10800"/>
                </a:lnTo>
                <a:close/>
              </a:path>
              <a:path fill="none" w="21600" h="21600">
                <a:moveTo>
                  <a:pt x="21201" y="7892"/>
                </a:moveTo>
                <a:arcTo wR="10800" hR="10800" stAng="-937115" swAng="5955690"/>
              </a:path>
            </a:pathLst>
          </a:custGeom>
          <a:noFill/>
          <a:ln cap="rnd"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666880" y="3200400"/>
            <a:ext cx="0" cy="2362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V="1">
            <a:off x="2666880" y="5559120"/>
            <a:ext cx="35164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133720" y="2590920"/>
            <a:ext cx="847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172200" y="548640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191120" y="3886200"/>
            <a:ext cx="1752480" cy="507960"/>
          </a:xfrm>
          <a:prstGeom prst="rect">
            <a:avLst/>
          </a:prstGeom>
          <a:solidFill>
            <a:srgbClr val="a0c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 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mean = 1.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029200" y="4572000"/>
            <a:ext cx="1752480" cy="483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 0.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mean = 2.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rot="5400000">
            <a:off x="6887160" y="263520"/>
            <a:ext cx="1017000" cy="9372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246" y="13541"/>
                </a:moveTo>
                <a:arcTo wR="10800" hR="10800" stAng="882202" swAng="4281185"/>
                <a:lnTo>
                  <a:pt x="10800" y="10800"/>
                </a:lnTo>
                <a:close/>
              </a:path>
              <a:path fill="none" w="21600" h="21600">
                <a:moveTo>
                  <a:pt x="21246" y="13541"/>
                </a:moveTo>
                <a:arcTo wR="10800" hR="10800" stAng="882202" swAng="4281185"/>
              </a:path>
            </a:pathLst>
          </a:custGeom>
          <a:noFill/>
          <a:ln cap="rnd"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751120" y="3740040"/>
            <a:ext cx="3219480" cy="1798920"/>
          </a:xfrm>
          <a:custGeom>
            <a:avLst/>
            <a:gdLst/>
            <a:ahLst/>
            <a:rect l="l" t="t" r="r" b="b"/>
            <a:pathLst>
              <a:path w="2028" h="1133">
                <a:moveTo>
                  <a:pt x="0" y="0"/>
                </a:moveTo>
                <a:cubicBezTo>
                  <a:pt x="62" y="157"/>
                  <a:pt x="36" y="767"/>
                  <a:pt x="374" y="950"/>
                </a:cubicBezTo>
                <a:cubicBezTo>
                  <a:pt x="712" y="1133"/>
                  <a:pt x="1684" y="1067"/>
                  <a:pt x="2028" y="1097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352680" y="3276720"/>
            <a:ext cx="1752840" cy="50796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 3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mean = .33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V="1">
            <a:off x="2819520" y="3581280"/>
            <a:ext cx="533160" cy="64296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4F0F3-0106-41CE-B67E-8DB3EE502337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"/>
          <p:cNvSpPr/>
          <p:nvPr/>
        </p:nvSpPr>
        <p:spPr>
          <a:xfrm>
            <a:off x="6172200" y="5334120"/>
            <a:ext cx="1066680" cy="609480"/>
          </a:xfrm>
          <a:prstGeom prst="rect">
            <a:avLst/>
          </a:prstGeom>
          <a:solidFill>
            <a:srgbClr val="fff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0" name=""/>
          <p:cNvSpPr/>
          <p:nvPr/>
        </p:nvSpPr>
        <p:spPr>
          <a:xfrm>
            <a:off x="1295280" y="1752480"/>
            <a:ext cx="716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ustomers arrive at the claims counter at the rate of 15 per hour (Poisson distributed).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hat is the probability that the arrival time between consecutive customers is less than five minu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219320" y="3581280"/>
            <a:ext cx="7391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between arrivals i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ly distributed with mean time between arrivals of 4 minutes (15 per 60 minutes, on aver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4.0, s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(x &lt; 5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 -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 –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(.25)(5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.71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E1273-AA05-4410-8DDB-1ABA99346B91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15328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2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key discret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omial, poisson, hypergeo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3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key continuous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, uniform, 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3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 probabilities using formulas and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3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d when to apply different distribu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3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ed distributions to decision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F3E27-DAA7-48F4-91F3-DD6BB2C47701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Binomial Distribu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aracteristics of the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Binomial Distributio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A trial has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only two possible outcomes</a:t>
            </a: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 – “success” or “failure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There is a fixed number, n, of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identical trial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The trials of the experiment are i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ndependent</a:t>
            </a: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 of each oth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The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probability of a success, p, remains constant</a:t>
            </a: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 from trial to tri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If p represents the probability of a success, then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(1-p) = q  is the probability of a fail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51FA7-D6C4-4FC5-922B-B184E56B540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inomial Distribution Setting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8000"/>
          </a:bodyPr>
          <a:p>
            <a:pPr marL="335880" indent="-33588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 manufacturing plant labels items as either defective or accep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 firm bidding for a contract will either get the contract or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 marketing research firm receives survey responses of “yes I will buy” or “no I will no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New job applicants either accept the offer or rejec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88DA8-1F13-4E4D-822C-0D187407892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unting Rule for Combination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combinatio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an outcome of an experiment where x objects are selected from a group of n obje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778120" y="2857680"/>
                <a:ext cx="3130560" cy="13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1447920" y="4572000"/>
            <a:ext cx="5638680" cy="15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! =n(n - 1)(n - 2) . . . (2)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! = x(x - 1)(x - 2) . . . (2)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! = 1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y defini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67E7B-0AAA-4C35-B223-CED6C3B916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dc:language>en-US</dc:language>
  <cp:lastModifiedBy>dy</cp:lastModifiedBy>
  <cp:lastPrinted>1998-11-22T23:37:53Z</cp:lastPrinted>
  <dcterms:modified xsi:type="dcterms:W3CDTF">2004-06-18T15:33:33Z</dcterms:modified>
  <cp:revision>74</cp:revision>
  <dc:subject>Chapter 5</dc:subject>
  <dc:title>Business Statistics: A Decision-Making Approach, 6th edition</dc:title>
</cp:coreProperties>
</file>