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1A378-8770-4328-9F77-925F359BD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B2860-F5CF-4B88-9B13-37F7B9DE06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A58BB-9B7B-4E18-8EE0-FDADB4F761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49394-3CE9-4BDB-9F3B-7BB74B6CD8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6A05B-917F-4A0D-912B-0BD3789AF3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076BA-ACF6-4B0B-B57B-8C7DDC5069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1 lg n = 2 ln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E4B3A-8E9A-4C98-BF70-26828B4C70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36600" y="687240"/>
            <a:ext cx="4842000" cy="36306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7BB80-E545-4066-8D4C-5A49083BEF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582AA-2D2B-46D6-91C7-2C9CCE7B14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F96F8-A67A-4D92-A8E0-D7429AD115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B9ED2-35F4-41DF-8645-84B30F1956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FFDF8-01BF-4CF6-8648-A06CBEB775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0D826-336D-4FA1-9737-1FF122CE92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18BD2-5A63-45FE-B364-DCE45E3D0E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07964-7265-4C7B-85B7-AAB528F6C8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9BB79-7B43-4EC6-AE7D-05AED56A68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E46E4-8A19-4BCF-95A9-2C47CEF085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5828F-CC84-4845-968F-06CDDE2FB8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BBC97-3DED-4F76-AA1C-E3253A4DFE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BA329-5E60-4459-BF7E-47CF3CBE92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0795A-EBFC-47C7-A509-D406AE37DB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612C3-5B44-41A7-988A-EFE9E3393D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EB63F-9C61-4407-92B4-F5188E0A82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B285A-7FEF-48BA-875E-081C210CD1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279F1-C551-4338-AD18-B983549047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2A818-C00A-438C-A505-6E13D82865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4C7A1-53A6-4264-B6B5-73FE788581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F87F8-35F6-4B05-BE77-0F5251C02B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81ABA-85A6-4D5F-A04C-57C38CA7C5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B8B08-BF27-4FA2-A3C7-4358E3ABA0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CD33E-3F59-448C-835B-CC41CD996C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36F93-4F0D-47FE-9140-419FAE6FC4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3AC66-D49C-4B9F-8E85-EF444251DD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06479-17BC-4561-91D1-EE8FC942C6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0E44F-3EFD-455A-94AB-3FFA5A64A2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EB575-B15E-4578-B383-A70221D05F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7031A-9F62-4D6F-878C-2D77132594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3A8FA-3A2A-4519-ADC9-76D9DD0BF6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7FB7F-1FB3-4FD7-81E1-DDA9D650B4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52CAE-ECEC-42A7-BC1B-B0E0F710E2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033D8-BC46-4A43-9B0D-F410912904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B5E21-73FC-442C-9FC6-F95CABA697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76903-43AF-471C-8D7A-D38B7117E7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3386B-26A3-435D-8620-881651C59E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6E324-0195-49EC-BA48-6421BDB9AF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6EE-DD98-4A46-A7ED-B710861D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FE9-505C-4AB2-A58D-F5B2C26D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513-01D5-41F2-91E6-DA9E9CCC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A88-25B3-4C5F-9A8C-58E1B319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1FCA-9B04-44D3-8C91-FA641494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2DF6-755E-4226-80C0-2334CCFF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1DEF-28E5-495C-B619-6B8EBCFB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2106-B1BB-4818-95E6-4B59C01D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B710-A233-4488-A484-2C6DD2A0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FE1A-7101-461A-9D93-6DF028DB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DEC9-8E3B-4F57-8ED5-4812D814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0D4-79A9-49D8-9085-26811034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83F4-8F4C-4BA9-9925-9B445DF3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D576-EC14-4E85-9F31-52DE0A39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9FFE-796F-4E72-B9AB-64A5CCD1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1BD5-7085-4800-8C0E-D98B0B28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D846-0982-42A6-9790-1A1B544F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301-1EB5-4556-B89C-1BD1F22C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1A1-FB3A-4DCF-9D4D-FE81FDCC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456-6202-4504-A8AD-83E8DDCC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607-F33E-43DA-8216-42E9F15E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509-ED86-4387-A945-58F038D4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CBF-B433-458F-B75A-59C2DF14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9A1-5FE7-412B-8F76-E58B4A84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14300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2327-AED2-4D77-A6C5-B497C806F33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60EF-8330-4C5F-9484-B31F92E7125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A230-5BBA-41C3-BB83-B85D5294CB4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664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ransform and Conquer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is group of techniques solves a problem by a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transformation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to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simpler/more convenient instance of the same  problem (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instance simplification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different representation of the same instance (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representation change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different problem for which an algorithm is already available (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problem reduction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8B6E-22E6-4CED-ACC2-88B5E4F53B2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earching Proble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Given a (multi)se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 keys  and a search 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ke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find an occurrenc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f any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 must be considered in the context of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le size (internal vs. external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ynamics of data (static vs. dynamic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ctionary operations (dynamic data)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 (search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06BB-BAF4-4D5A-A319-2DFCBE99FBD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axonomy of Searching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st searc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quential sear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sear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terpolation sear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ee search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search tre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balanced trees: AVL trees, red-black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ultiway balanced trees: 2-3 trees, 2-3-4 trees, B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as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en hashing (separate chaining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osed hashing (open addressing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2FF5-8F83-46AD-BFA2-4E502A2F9E3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inary Search Tre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rrange keys in a binary tree with the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binary search tree  property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4038480" y="2362320"/>
            <a:ext cx="497160" cy="5331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4419720" y="2895480"/>
            <a:ext cx="425160" cy="83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3580920" y="2895480"/>
            <a:ext cx="568440" cy="83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933800" y="2286000"/>
            <a:ext cx="17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4933800" y="4038480"/>
            <a:ext cx="17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705200" y="2895480"/>
            <a:ext cx="17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048120" y="3733920"/>
            <a:ext cx="993600" cy="1371600"/>
          </a:xfrm>
          <a:prstGeom prst="triangle">
            <a:avLst>
              <a:gd name="adj" fmla="val 50000"/>
            </a:avLst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4343400" y="3733920"/>
            <a:ext cx="993600" cy="1371600"/>
          </a:xfrm>
          <a:prstGeom prst="triangle">
            <a:avLst>
              <a:gd name="adj" fmla="val 50000"/>
            </a:avLst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685800" y="5715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5, 3, 1, 10, 12, 7,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723F-89B1-4255-A799-741690468C4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ictionary Operations on Binary Search Trees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 – straightforwar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ion – search for key, insert at leaf where search termina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on – 3 cas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ng key at a lea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ng key at node with single chil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ng key at node with two childr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 depends of the tree’s height: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,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ith height  average (random files) be about 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us all three operations hav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orst case efficiency: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verage case efficiency: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Bonu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: inorder traversal produces sorted li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134C-E5C7-4200-91BC-65E1CFB25E8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alanced Search Trees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ttractiveness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inary search tre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marred by the bad (linear) worst-case efficiency.  Two ideas to overcome it are: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rebalance binary search tree when a new insertion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makes the tree “too unbalanced”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VL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d-black trees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allow more than one key per node of a search tre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-3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-3-4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-trees</a:t>
            </a:r>
            <a:br>
              <a:rPr sz="24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723D-FBFE-424E-A4C8-FB452D7B830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85800" y="2666880"/>
            <a:ext cx="82296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alanced trees:  AVL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VL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binary search tree in which, for every node, the difference between the heights of its left and right subtrees, 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alance fac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s at most 1 (with the height of an empty tree defined as -1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70" name="Picture 4" descr="Fig 6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3070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914400" y="5715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ee (a) is an AVL tree; tree (b) is not an AVL t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7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CC7D-F125-4149-9A77-478DC49C372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609480" y="2743200"/>
            <a:ext cx="838224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otation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a key insertion violates the balance requirement at some node, the subtree rooted at that node is transformed via one of the fou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otations.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The rotation is always performed for a subtree rooted at an “unbalanced” node closest to the new leaf.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76" name="Picture 6" descr="Fig 6"/>
          <p:cNvPicPr/>
          <p:nvPr/>
        </p:nvPicPr>
        <p:blipFill>
          <a:blip r:embed="rId1"/>
          <a:stretch/>
        </p:blipFill>
        <p:spPr>
          <a:xfrm>
            <a:off x="0" y="2743200"/>
            <a:ext cx="5029200" cy="1887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Fig 6"/>
          <p:cNvPicPr/>
          <p:nvPr/>
        </p:nvPicPr>
        <p:blipFill>
          <a:blip r:embed="rId2"/>
          <a:stretch/>
        </p:blipFill>
        <p:spPr>
          <a:xfrm>
            <a:off x="4572000" y="2743200"/>
            <a:ext cx="4572000" cy="18781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1"/>
          <p:cNvSpPr/>
          <p:nvPr/>
        </p:nvSpPr>
        <p:spPr>
          <a:xfrm>
            <a:off x="11430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ngl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5334120" y="4952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ubl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R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57DE-3358-440D-A965-EF05C089642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eneral case: Single R-rot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82" name="Picture 4" descr="Chapter06c_23"/>
          <p:cNvPicPr/>
          <p:nvPr/>
        </p:nvPicPr>
        <p:blipFill>
          <a:blip r:embed="rId1"/>
          <a:stretch/>
        </p:blipFill>
        <p:spPr>
          <a:xfrm>
            <a:off x="533520" y="1600200"/>
            <a:ext cx="86104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1DCF-DEC0-4A28-A885-583068E8D69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eneral case: Double LR-rot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85" name="Picture 7" descr="Chapter06c_24"/>
          <p:cNvPicPr/>
          <p:nvPr/>
        </p:nvPicPr>
        <p:blipFill>
          <a:blip r:embed="rId1"/>
          <a:stretch/>
        </p:blipFill>
        <p:spPr>
          <a:xfrm>
            <a:off x="457200" y="1424160"/>
            <a:ext cx="86868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7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BF61-C811-4478-BBE9-AC6F1AAF690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62120" y="1752480"/>
            <a:ext cx="80010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VL tree construction - an 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 an AVL tree for the list  5, 6, 8, 3, 2, 4, 7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90" name="Picture 4" descr="Fig 6"/>
          <p:cNvPicPr/>
          <p:nvPr/>
        </p:nvPicPr>
        <p:blipFill>
          <a:blip r:embed="rId1"/>
          <a:stretch/>
        </p:blipFill>
        <p:spPr>
          <a:xfrm>
            <a:off x="457200" y="1752480"/>
            <a:ext cx="8686800" cy="209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Fig 6"/>
          <p:cNvPicPr/>
          <p:nvPr/>
        </p:nvPicPr>
        <p:blipFill>
          <a:blip r:embed="rId2"/>
          <a:stretch/>
        </p:blipFill>
        <p:spPr>
          <a:xfrm>
            <a:off x="457200" y="4038480"/>
            <a:ext cx="86868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61D0-479E-4B5D-9CE8-3BF27A477D0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stance simplification - Presort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ve a problem’s instance  by transforming it int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other simpler/easier instance of the sam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esort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ny problems involving lists are easier when list is sorted, e.g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uting the median (selection problem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ecking if all elements  are distinct (element uniqueness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so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pological sorting helps solving some problems for dag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sorting is used in many geometric algorithm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7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17C3-03C5-4B32-A8EE-6EE3D83CCC1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838080" y="1219320"/>
            <a:ext cx="792504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VL tree construction - an example (cont.)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96" name="Picture 7" descr="Fig 6"/>
          <p:cNvPicPr/>
          <p:nvPr/>
        </p:nvPicPr>
        <p:blipFill>
          <a:blip r:embed="rId1"/>
          <a:stretch/>
        </p:blipFill>
        <p:spPr>
          <a:xfrm>
            <a:off x="1295280" y="1143000"/>
            <a:ext cx="7010640" cy="2502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Fig 6"/>
          <p:cNvPicPr/>
          <p:nvPr/>
        </p:nvPicPr>
        <p:blipFill>
          <a:blip r:embed="rId2"/>
          <a:stretch/>
        </p:blipFill>
        <p:spPr>
          <a:xfrm>
            <a:off x="762120" y="3886200"/>
            <a:ext cx="83818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5407-4AE0-4E73-9948-4DE22DC4A95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AVL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66840"/>
            <a:ext cx="8686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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1.4404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+ 2)  - 1.3277                    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verage height: 1.0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+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0.1 for larg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found empirically)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earch and insertion are O(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letion is more complicated but is also O(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advantages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requent rot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ity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similar idea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d-black tre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height of subtrees is allowed to differ by up to a factor of 2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99F4-89E2-4464-8130-9A6D7BE8F03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ultiway Search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ultiway search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search tree that allow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re than one key in the same node of the tre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A node of a search tree is called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o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f it contain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ordered keys (which divide the entire key range in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rvals pointed to by the node’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nks to its children):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: Every node in a classical binary search tree is a 2-nod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895480" y="3639960"/>
            <a:ext cx="3657600" cy="8557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 &lt; 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1932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… &lt; 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1447920" y="5029200"/>
            <a:ext cx="1066680" cy="60948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6"/>
          <p:cNvSpPr/>
          <p:nvPr/>
        </p:nvSpPr>
        <p:spPr>
          <a:xfrm>
            <a:off x="3429000" y="5029200"/>
            <a:ext cx="1295280" cy="60948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7"/>
          <p:cNvSpPr/>
          <p:nvPr/>
        </p:nvSpPr>
        <p:spPr>
          <a:xfrm>
            <a:off x="6095880" y="5029200"/>
            <a:ext cx="1219320" cy="5335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1932"/>
                </a:solidFill>
                <a:latin typeface="Times New Roman"/>
              </a:rPr>
              <a:t>n-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8"/>
          <p:cNvSpPr/>
          <p:nvPr/>
        </p:nvSpPr>
        <p:spPr>
          <a:xfrm flipH="1">
            <a:off x="1980720" y="4343400"/>
            <a:ext cx="1295640" cy="685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9"/>
          <p:cNvSpPr/>
          <p:nvPr/>
        </p:nvSpPr>
        <p:spPr>
          <a:xfrm>
            <a:off x="4038480" y="4495680"/>
            <a:ext cx="0" cy="53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172200" y="4343400"/>
            <a:ext cx="533520" cy="685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C511-EBA5-4AEC-BA24-8EF3D74AB25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2-3 Tree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3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-3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search tree th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 have 2-nodes and 3-nod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eight-balanced (all leaves are on the same level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2-3 tree is constructed by successive insertions of keys given, with a new key always inserted into a leaf of the tree.  If the leaf is a 3-node, it’s split into two with the middle key promoted to the parent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14" name="Picture 4" descr="Fig 6"/>
          <p:cNvPicPr/>
          <p:nvPr/>
        </p:nvPicPr>
        <p:blipFill>
          <a:blip r:embed="rId1"/>
          <a:stretch/>
        </p:blipFill>
        <p:spPr>
          <a:xfrm>
            <a:off x="1066680" y="2590920"/>
            <a:ext cx="73915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AFA1-94C7-4C91-AD0A-4F01B69B977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2-3 tree construction – an 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 a 2-3 tree the list  9, 5, 8, 3, 2, 4, 7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18" name="Picture 4" descr="Fig 6"/>
          <p:cNvPicPr/>
          <p:nvPr/>
        </p:nvPicPr>
        <p:blipFill>
          <a:blip r:embed="rId1"/>
          <a:stretch/>
        </p:blipFill>
        <p:spPr>
          <a:xfrm>
            <a:off x="533520" y="1905120"/>
            <a:ext cx="861048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4B59-0F55-485C-A59A-304015DBCC2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2-3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+ 1) - 1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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+ 1)  -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earch, insertion, and deletion are in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dea of 2-3 tree can be generalized by allowing more keys per nod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-3-4 tree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-tre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E33E-E0AF-4486-972C-D77A22C46B3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aps and Heap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ea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binary tree with keys at its nodes (one key per node) such tha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essentially complete, i.e., all its levels are full except possibly the last level, where only some rightmost keys may be miss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key at each node i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≥ keys at its childr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2209680" y="3352680"/>
            <a:ext cx="2361960" cy="1295280"/>
            <a:chOff x="2209680" y="3352680"/>
            <a:chExt cx="2361960" cy="1295280"/>
          </a:xfrm>
        </p:grpSpPr>
        <p:sp>
          <p:nvSpPr>
            <p:cNvPr id="226" name="AutoShape 5"/>
            <p:cNvSpPr/>
            <p:nvPr/>
          </p:nvSpPr>
          <p:spPr>
            <a:xfrm>
              <a:off x="2361960" y="3352680"/>
              <a:ext cx="2209680" cy="1066680"/>
            </a:xfrm>
            <a:prstGeom prst="triangle">
              <a:avLst>
                <a:gd name="adj" fmla="val 50000"/>
              </a:avLst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Oval 6"/>
            <p:cNvSpPr/>
            <p:nvPr/>
          </p:nvSpPr>
          <p:spPr>
            <a:xfrm>
              <a:off x="3733560" y="4419360"/>
              <a:ext cx="76320" cy="763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Oval 7"/>
            <p:cNvSpPr/>
            <p:nvPr/>
          </p:nvSpPr>
          <p:spPr>
            <a:xfrm>
              <a:off x="3581280" y="4572000"/>
              <a:ext cx="75960" cy="7596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8"/>
            <p:cNvSpPr/>
            <p:nvPr/>
          </p:nvSpPr>
          <p:spPr>
            <a:xfrm flipH="1">
              <a:off x="3657240" y="4495680"/>
              <a:ext cx="76320" cy="76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Group 9"/>
            <p:cNvGrpSpPr/>
            <p:nvPr/>
          </p:nvGrpSpPr>
          <p:grpSpPr>
            <a:xfrm>
              <a:off x="3124080" y="4419360"/>
              <a:ext cx="380880" cy="228600"/>
              <a:chOff x="3124080" y="4419360"/>
              <a:chExt cx="380880" cy="228600"/>
            </a:xfrm>
          </p:grpSpPr>
          <p:sp>
            <p:nvSpPr>
              <p:cNvPr id="231" name="Oval 10"/>
              <p:cNvSpPr/>
              <p:nvPr/>
            </p:nvSpPr>
            <p:spPr>
              <a:xfrm>
                <a:off x="3276360" y="441936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Oval 11"/>
              <p:cNvSpPr/>
              <p:nvPr/>
            </p:nvSpPr>
            <p:spPr>
              <a:xfrm>
                <a:off x="3124080" y="4571640"/>
                <a:ext cx="7596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Oval 12"/>
              <p:cNvSpPr/>
              <p:nvPr/>
            </p:nvSpPr>
            <p:spPr>
              <a:xfrm>
                <a:off x="3428640" y="457164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13"/>
              <p:cNvSpPr/>
              <p:nvPr/>
            </p:nvSpPr>
            <p:spPr>
              <a:xfrm flipH="1">
                <a:off x="3200040" y="4495680"/>
                <a:ext cx="7632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14"/>
              <p:cNvSpPr/>
              <p:nvPr/>
            </p:nvSpPr>
            <p:spPr>
              <a:xfrm>
                <a:off x="3352680" y="4495680"/>
                <a:ext cx="7596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15"/>
            <p:cNvGrpSpPr/>
            <p:nvPr/>
          </p:nvGrpSpPr>
          <p:grpSpPr>
            <a:xfrm>
              <a:off x="2666880" y="4419360"/>
              <a:ext cx="380880" cy="228600"/>
              <a:chOff x="2666880" y="4419360"/>
              <a:chExt cx="380880" cy="228600"/>
            </a:xfrm>
          </p:grpSpPr>
          <p:sp>
            <p:nvSpPr>
              <p:cNvPr id="237" name="Oval 16"/>
              <p:cNvSpPr/>
              <p:nvPr/>
            </p:nvSpPr>
            <p:spPr>
              <a:xfrm>
                <a:off x="2819160" y="441936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2666880" y="4571640"/>
                <a:ext cx="7596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2971440" y="457164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Line 19"/>
              <p:cNvSpPr/>
              <p:nvPr/>
            </p:nvSpPr>
            <p:spPr>
              <a:xfrm flipH="1">
                <a:off x="2742840" y="4495680"/>
                <a:ext cx="7632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Line 20"/>
              <p:cNvSpPr/>
              <p:nvPr/>
            </p:nvSpPr>
            <p:spPr>
              <a:xfrm>
                <a:off x="2895480" y="4495680"/>
                <a:ext cx="7596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21"/>
            <p:cNvGrpSpPr/>
            <p:nvPr/>
          </p:nvGrpSpPr>
          <p:grpSpPr>
            <a:xfrm>
              <a:off x="2209680" y="4419360"/>
              <a:ext cx="380880" cy="228600"/>
              <a:chOff x="2209680" y="4419360"/>
              <a:chExt cx="380880" cy="2286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2361960" y="441936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2209680" y="4571640"/>
                <a:ext cx="7596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2514240" y="457164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Line 25"/>
              <p:cNvSpPr/>
              <p:nvPr/>
            </p:nvSpPr>
            <p:spPr>
              <a:xfrm flipH="1">
                <a:off x="2285640" y="4495680"/>
                <a:ext cx="7632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Line 26"/>
              <p:cNvSpPr/>
              <p:nvPr/>
            </p:nvSpPr>
            <p:spPr>
              <a:xfrm>
                <a:off x="2438280" y="4495680"/>
                <a:ext cx="7596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5768-D672-4EDC-9A8B-B7C44F03CFA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llustration of the heap’s defini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51" name="Picture 10" descr="Fig 6"/>
          <p:cNvPicPr/>
          <p:nvPr/>
        </p:nvPicPr>
        <p:blipFill>
          <a:blip r:embed="rId1"/>
          <a:stretch/>
        </p:blipFill>
        <p:spPr>
          <a:xfrm>
            <a:off x="457200" y="1676520"/>
            <a:ext cx="8686800" cy="16635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2"/>
          <p:cNvSpPr/>
          <p:nvPr/>
        </p:nvSpPr>
        <p:spPr>
          <a:xfrm>
            <a:off x="121932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he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41911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 a he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71629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 a he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838080" y="5181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457200" y="4876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: Heap’s elements are ordered top down (along any path 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down from its root), but they are not ordered left to 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6E30-D9BC-4367-8424-13FEA448EDF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me Important Properties of a Heap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,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ere exists a unique binary tree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nodes th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essentially complete,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oot contains the largest ke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ubtree rooted at any node of a heap is also a heap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heap can be represented as an arr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D91A-16D2-423A-901E-EFDA684A7B6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ap’s Array Represent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ore heap’s elements in an array (whose elements indexed, for convenience, 1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n top-down left-to-right ord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ft child of nod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t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ight child of nod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t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rent of nod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t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rental nodes are represented in the first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c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4343400" y="5638680"/>
            <a:ext cx="76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1752480" y="251460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685800" y="403848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1066680" y="327672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2438280" y="327672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3"/>
          <p:cNvSpPr/>
          <p:nvPr/>
        </p:nvSpPr>
        <p:spPr>
          <a:xfrm flipH="1">
            <a:off x="1295280" y="2819520"/>
            <a:ext cx="45720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4"/>
          <p:cNvSpPr/>
          <p:nvPr/>
        </p:nvSpPr>
        <p:spPr>
          <a:xfrm flipH="1">
            <a:off x="914040" y="3657600"/>
            <a:ext cx="22860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2209680" y="2819520"/>
            <a:ext cx="38124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1736640" y="2857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2571840" y="3733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2438280" y="2971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3562200" y="281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Oval 20"/>
          <p:cNvSpPr/>
          <p:nvPr/>
        </p:nvSpPr>
        <p:spPr>
          <a:xfrm>
            <a:off x="1371600" y="403848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Oval 21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1447920" y="3657600"/>
            <a:ext cx="15228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23"/>
          <p:cNvSpPr/>
          <p:nvPr/>
        </p:nvSpPr>
        <p:spPr>
          <a:xfrm flipH="1">
            <a:off x="2361960" y="3657600"/>
            <a:ext cx="15228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Group 25"/>
          <p:cNvGrpSpPr/>
          <p:nvPr/>
        </p:nvGrpSpPr>
        <p:grpSpPr>
          <a:xfrm>
            <a:off x="5715000" y="2666880"/>
            <a:ext cx="2286000" cy="993240"/>
            <a:chOff x="5715000" y="2666880"/>
            <a:chExt cx="2286000" cy="993240"/>
          </a:xfrm>
        </p:grpSpPr>
        <p:sp>
          <p:nvSpPr>
            <p:cNvPr id="280" name="Text Box 26"/>
            <p:cNvSpPr/>
            <p:nvPr/>
          </p:nvSpPr>
          <p:spPr>
            <a:xfrm>
              <a:off x="5851440" y="30862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Rectangle 27"/>
            <p:cNvSpPr/>
            <p:nvPr/>
          </p:nvSpPr>
          <p:spPr>
            <a:xfrm>
              <a:off x="5715000" y="3086280"/>
              <a:ext cx="2286000" cy="57132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28"/>
            <p:cNvSpPr/>
            <p:nvPr/>
          </p:nvSpPr>
          <p:spPr>
            <a:xfrm>
              <a:off x="609588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29"/>
            <p:cNvSpPr/>
            <p:nvPr/>
          </p:nvSpPr>
          <p:spPr>
            <a:xfrm>
              <a:off x="7615080" y="304812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30"/>
            <p:cNvSpPr/>
            <p:nvPr/>
          </p:nvSpPr>
          <p:spPr>
            <a:xfrm>
              <a:off x="800100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31"/>
            <p:cNvSpPr/>
            <p:nvPr/>
          </p:nvSpPr>
          <p:spPr>
            <a:xfrm>
              <a:off x="647676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32"/>
            <p:cNvSpPr/>
            <p:nvPr/>
          </p:nvSpPr>
          <p:spPr>
            <a:xfrm>
              <a:off x="685800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Line 33"/>
            <p:cNvSpPr/>
            <p:nvPr/>
          </p:nvSpPr>
          <p:spPr>
            <a:xfrm>
              <a:off x="723888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Text Box 34"/>
            <p:cNvSpPr/>
            <p:nvPr/>
          </p:nvSpPr>
          <p:spPr>
            <a:xfrm>
              <a:off x="5716440" y="2666880"/>
              <a:ext cx="22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   2   3   4   5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Text Box 35"/>
            <p:cNvSpPr/>
            <p:nvPr/>
          </p:nvSpPr>
          <p:spPr>
            <a:xfrm>
              <a:off x="5716440" y="3200400"/>
              <a:ext cx="22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9   5   3   1   4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Line 41"/>
          <p:cNvSpPr/>
          <p:nvPr/>
        </p:nvSpPr>
        <p:spPr>
          <a:xfrm>
            <a:off x="3886200" y="342900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E01E-4AD6-4279-978E-9C5DABB0555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w fast can we sort 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 of algorithms involving sorting depends 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 of sorting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heor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see Sec. 11.2):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isons are necessary in the worst case to sort a list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y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an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mparison-based algorithm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: Abou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mparisons are also sufficient to sort array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by mergesort)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7DD5-8948-4033-BC34-91E63536B7B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0: Initialize the structure with keys in the order giv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028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: Starting with the last (rightmost) parental node, fix the heap rooted at it, if it doesn’t satisfy the heap condition: keep exchanging  it with its largest child until the heap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dition holds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: Repeat Step 1 for the preceding parental nod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609120" y="228240"/>
            <a:ext cx="758844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ap Construction (bottom-up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42FA-8BD7-40EC-9432-302AABAC8FE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Heap Construc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96" name="Picture 4" descr="Fig 6"/>
          <p:cNvPicPr/>
          <p:nvPr/>
        </p:nvPicPr>
        <p:blipFill>
          <a:blip r:embed="rId1"/>
          <a:stretch/>
        </p:blipFill>
        <p:spPr>
          <a:xfrm>
            <a:off x="457200" y="1981080"/>
            <a:ext cx="8686800" cy="31687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609480" y="1295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 a heap for the list 2, 9, 7, 6, 5,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D63F-C47D-4E24-B08F-D012B755C06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seudopodia of bottom-up heap construc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300" name="Picture 3" descr="heapbottomup"/>
          <p:cNvPicPr/>
          <p:nvPr/>
        </p:nvPicPr>
        <p:blipFill>
          <a:blip r:embed="rId1"/>
          <a:stretch/>
        </p:blipFill>
        <p:spPr>
          <a:xfrm>
            <a:off x="1066680" y="1143000"/>
            <a:ext cx="74678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9991-7705-46E1-ACC8-650BC607CAC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: Construct a heap for a given lis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ke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2: Repeat operation of root removal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 tim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486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change keys in the root and in the last (rightmost) lea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486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rease heap size by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486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necessary,  swap new root with larger child until the heap condition hol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ap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6C61-204C-4807-9669-61142782AC6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rt the list  2,  9,  7,  6,  5,  8  by heapsor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 (heap construction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tage 2 (root/max removal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  9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  5   8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  8   2   5   7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8   6   5   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7   6   8   2   5 |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9   8   6   5   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  7   2   5 |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8   6   5   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5   6   7   2 |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   6   8   2   5   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  5   2 |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  6   5 |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2   5 |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2 | 6  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2 | 6  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| 5   6  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Sorting by Heap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40C4-D376-4A93-A8B4-29070AEF6CD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: Build heap for a given lis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ke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rst-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2: Repeat operation of root removal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 times (fix heap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rst-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th worst-case and average-case efficiency: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-place: y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bility: no (e.g., 1  1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2286000" y="198108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99"/>
                </a:solidFill>
                <a:latin typeface="Symbol"/>
                <a:ea typeface="Symbol"/>
              </a:rPr>
              <a:t>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668680" y="2057400"/>
            <a:ext cx="5865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-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2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i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=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(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– 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1))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286000" y="2438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2209680" y="1828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2895480" y="2666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nodes at leve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3505320" y="2514240"/>
            <a:ext cx="75960" cy="30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2362320" y="455544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Symbol"/>
                <a:ea typeface="Symbol"/>
              </a:rPr>
              <a:t>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2286000" y="5028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i=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2133720" y="4342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2438280" y="462204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Heap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1190-8611-422C-8D4A-EBEE65555C6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riority queu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he ADT of a set of elements with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erical priorities with the following operation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 element with highest prior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e element with highest prior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 element with assigned priority (see below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eap is a very efficient way for implementing priority queu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ways to handle priority queue in which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highest priority = smallest numb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iority Queu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58D5-A7FA-43C7-991F-95A6D055853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sertion of a New Element into a Heap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 the new element at last position in heap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e it with its parent and, if it violates heap condition,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change th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tinue comparing the new element with nodes up the tree until the heap condition is satisfi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 key 1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O(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326" name="Picture 4" descr="Fig 6"/>
          <p:cNvPicPr/>
          <p:nvPr/>
        </p:nvPicPr>
        <p:blipFill>
          <a:blip r:embed="rId1"/>
          <a:stretch/>
        </p:blipFill>
        <p:spPr>
          <a:xfrm>
            <a:off x="685800" y="4267080"/>
            <a:ext cx="84582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4D27-9EC7-4C09-B5FB-C5FAB018B25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rner’s Rule For Polynomial Evalu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n a polynomial of degre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-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…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d a specific valu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find the valu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t that point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brute-force algorithm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;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wnto 0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d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retur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+ 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tur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EF9B-F057-4100-A3F0-CE925932A27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rner’s Ru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99136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x) =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5 =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1) - 5 =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) + 1) - 5 =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1) + 3) + 1) - 5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bstitution into the last formula leads to a faster algorithm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ame sequence of computations are obtained by simply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arranging the coefficient in a table and proceeding as follow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efficien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5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D5C9-4FC2-403E-B660-EEBCD49BB49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earching with presort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: Search for a give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A[0..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]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sorting-based algorith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  Sort the array by an efficient sorting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2  Apply binary search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+ O(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=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od or bad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y do we have our dictionaries, telephone directories, etc. sorted?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3F77-5C0A-4BA2-B37F-B9BB8FBAC2A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rner’s Rule pseudoco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2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 of Horner’s Rule: # multiplications = # additions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ynthetic divis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by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-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Le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5.  Fi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: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3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336" name="Picture 4" descr="6_5a"/>
          <p:cNvPicPr/>
          <p:nvPr/>
        </p:nvPicPr>
        <p:blipFill>
          <a:blip r:embed="rId1"/>
          <a:stretch/>
        </p:blipFill>
        <p:spPr>
          <a:xfrm>
            <a:off x="533520" y="1219320"/>
            <a:ext cx="84582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3560-8249-477E-80A3-7EAFC5CF734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omputing  </a:t>
            </a:r>
            <a:r>
              <a:rPr b="1" i="1" lang="en-U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r>
              <a:rPr b="1" i="1" lang="en-US" sz="4400" spc="-1" strike="noStrike" baseline="30000">
                <a:solidFill>
                  <a:srgbClr val="ccff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 (revisited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30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Left-to-right binary exponenti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itialize product accumulator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1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c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’s binary expansion from left to right and do the following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current binary digit is 0, square the accumulator (S);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binary digit is 1, square the accumulator and multiply it b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SM)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  Compute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 Here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13 = 1101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rep. of 13:              1             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0                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SM         S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SM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cumulator:   1           1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=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1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computed left-to-right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≤ 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≤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 =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9404-1597-4102-91BB-6BBE2F4F6AA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Computing  </a:t>
            </a:r>
            <a:r>
              <a:rPr b="0" i="1" lang="en-U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r>
              <a:rPr b="0" i="1" lang="en-US" sz="4400" spc="-1" strike="noStrike" baseline="30000">
                <a:solidFill>
                  <a:srgbClr val="ccffff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6090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Right-to-left binary exponenti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c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’s binary expansion from right to left and compute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s the product of terms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i="1" lang="en-US" sz="2400" spc="-1" strike="noStrike" baseline="50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rresponding to 1’s in this expansion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Comput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1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the right-to-left binary exponentiation.  Here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13 = 1101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0                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8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a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 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i="1" lang="en-US" sz="2400" spc="-1" strike="noStrike" baseline="50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erms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8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*   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*                         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:     produc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(computed right-to-lef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same as that of left-to-right binary exponentiatio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D7F5-F1DA-4415-A1E3-6B02E570DC5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oblem Reduc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variation of transform-and-conquer solves a problem by a transforming it into different problem for which an algorithm is already availabl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be of practical value, the combined time of the transformation and solving the other problem should be smaller than solving the problem as given by another method.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4C03-04CC-4BFC-91DF-36F9627D0C7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xamples of Solving Problems by Reduc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uting lc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via computing gcd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 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nting number of paths of leng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a graph by raising the graph’s adjacency matrix to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 power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ansforming a maximization problem to a minimization problem and vice versa (also, min-heap construction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near programm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duction to graph problems (e.g., solving puzzles via state-space graphs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05E3-8233-41B6-9108-167A664C203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lement Uniqueness with presort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sorting-based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lgorithm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age 1: sort by efficient sorting algorithm (e.g. mergesor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age 2: scan array to check pairs of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djac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el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fficiency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+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=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rute force algorithm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Compare all pairs of elemen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Efficiency: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other algorithm?  Has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stance simplification 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– Gaussian Elimina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n: A system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inear equation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knowns with an arbitrary coefficient matrix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ansform to: An equivalent system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inear equation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knowns with an upper triangular coefficient matrix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ve the latter by substitutions starting with the last equation  and moving up to the first one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,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495680" y="571500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lide Number Placeholder 1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2D6D-3603-4A3F-9403-84ED2C26C5F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aussian Elimination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transformation is accomplished by a sequence of elementary operations on the system’s coefficient matrix  (which don’t change the system’s solution)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place each of the subsequent rows (i.e., row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, …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by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a  difference between that row and an appropriate multiple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of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 row to make the new coefficient in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lumn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of that row 0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4D3F-D8EA-4EAF-810A-285D91656BD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Gaussian Elimin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09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ve       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  6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1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-3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aussian elimin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1   6                                     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1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3  -1   1  11  row2 – (3/2)*row1    0   5  -1/2   2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  1  -1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3  row3 – (1/2)*row1     0   3  -3/2  -6  row3–(3/5)*row2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1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6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0   5  -1/2   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0   0  -6/5 -36/5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ckward substitu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-36/5) / (-6/5) = 6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2+(1/2)*6) / 5 =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6 – 6 + 4*1)/2 =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Slide Number Placeholder 1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F8DC-F25B-4F57-83A0-E911670FF85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seudocode and Efficiency of Gaussian Elimina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30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: Reduction to an upper-triangular matri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   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+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* 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/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 //improve!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2: Back substitutions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down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j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]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/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Slide Number Placeholder 1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D02F-5967-4F8F-AFB1-9AF54F1A235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OUAHID</cp:lastModifiedBy>
  <dcterms:modified xsi:type="dcterms:W3CDTF">2013-06-12T07:56:43Z</dcterms:modified>
  <cp:revision>138</cp:revision>
  <dc:subject/>
  <dc:title>Chapter 6: Transform-and-Conquer</dc:title>
</cp:coreProperties>
</file>