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30EB-B87E-4D4F-8D4A-E4C8102023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azimuth-interactive.com/ESS9_Videos/pdfcases/Chapter06_Case1.pdf" TargetMode="External"/><Relationship Id="rId2" Type="http://schemas.openxmlformats.org/officeDocument/2006/relationships/hyperlink" Target="http://azimuth-interactive.com/ESS9_Videos/pdfcases/Chapter06_Case1.pdf" TargetMode="External"/><Relationship Id="rId3" Type="http://schemas.openxmlformats.org/officeDocument/2006/relationships/hyperlink" Target="http://azimuth-interactive.com/ESS9_Videos/pdfcases/Chapter06_Case1.pdf" TargetMode="External"/><Relationship Id="rId4" Type="http://schemas.openxmlformats.org/officeDocument/2006/relationships/hyperlink" Target="http://azimuth-interactive.com/ESS9_Videos/pdfcases/Chapter06_Case2.pdf" TargetMode="External"/><Relationship Id="rId5" Type="http://schemas.openxmlformats.org/officeDocument/2006/relationships/hyperlink" Target="http://azimuth-interactive.com/ESS9_Videos/pdfcases/Chapter06_Case2.pdf" TargetMode="External"/><Relationship Id="rId6" Type="http://schemas.openxmlformats.org/officeDocument/2006/relationships/hyperlink" Target="http://www.youtube.com/watch?v=akzNWS5dygQ" TargetMode="External"/><Relationship Id="rId7" Type="http://schemas.openxmlformats.org/officeDocument/2006/relationships/hyperlink" Target="http://www.youtube.com/watch?v=akzNWS5dygQ" TargetMode="External"/><Relationship Id="rId8" Type="http://schemas.openxmlformats.org/officeDocument/2006/relationships/hyperlink" Target="http://www.youtube.com/watch?v=akzNWS5dygQ" TargetMode="External"/><Relationship Id="rId9" Type="http://schemas.openxmlformats.org/officeDocument/2006/relationships/hyperlink" Target="http://www.youtube.com/watch?v=7DXsocKcpN0" TargetMode="External"/><Relationship Id="rId10" Type="http://schemas.openxmlformats.org/officeDocument/2006/relationships/hyperlink" Target="http://www.youtube.com/watch?v=7DXsocKcpN0" TargetMode="External"/><Relationship Id="rId11" Type="http://schemas.openxmlformats.org/officeDocument/2006/relationships/hyperlink" Target="http://www.microsoft.com/video/en/us/details/dfc2576d-d543-49f9-bdf3-062616e442f5" TargetMode="External"/><Relationship Id="rId12" Type="http://schemas.openxmlformats.org/officeDocument/2006/relationships/slide" Target="../slides/slide1.xml"/><Relationship Id="rId1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E6A8-3273-455E-A78B-03CE21EA4B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hree instructional videos available for this chap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mmunications, the Internet, and Wireles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Cisco </a:t>
            </a:r>
            <a:r>
              <a:rPr b="0" lang="en-US" sz="1200" spc="-1" strike="noStrike" u="sng">
                <a:solidFill>
                  <a:srgbClr val="ccccff"/>
                </a:solidFill>
                <a:uFillTx/>
                <a:latin typeface="Times New Roman"/>
                <a:hlinkClick r:id="rId2"/>
              </a:rPr>
              <a:t>Telepresence</a:t>
            </a:r>
            <a:r>
              <a:rPr b="0" lang="en-US" sz="1200" spc="-1" strike="noStrike" u="sng">
                <a:solidFill>
                  <a:srgbClr val="ccccff"/>
                </a:solidFill>
                <a:uFillTx/>
                <a:latin typeface="Times New Roman"/>
                <a:hlinkClick r:id="rId3"/>
              </a:rPr>
              <a:t>: Meeting Without Trav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4"/>
              </a:rPr>
              <a:t>Unified Communications Systems With Virtual Collaboration: IBM and </a:t>
            </a:r>
            <a:r>
              <a:rPr b="0" lang="en-US" sz="1200" spc="-1" strike="noStrike" u="sng">
                <a:solidFill>
                  <a:srgbClr val="ccccff"/>
                </a:solidFill>
                <a:uFillTx/>
                <a:latin typeface="Times New Roman"/>
                <a:hlinkClick r:id="rId5"/>
              </a:rPr>
              <a:t>Fort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u="sng">
                <a:solidFill>
                  <a:srgbClr val="ccccff"/>
                </a:solidFill>
                <a:uFillTx/>
                <a:latin typeface="Times New Roman"/>
                <a:hlinkClick r:id="rId6"/>
              </a:rPr>
              <a:t>AT&amp;T Launches Managed Cisco </a:t>
            </a:r>
            <a:r>
              <a:rPr b="0" lang="en-US" sz="1200" spc="-1" strike="noStrike" u="sng">
                <a:solidFill>
                  <a:srgbClr val="ccccff"/>
                </a:solidFill>
                <a:uFillTx/>
                <a:latin typeface="Times New Roman"/>
                <a:hlinkClick r:id="rId7"/>
              </a:rPr>
              <a:t>Telepresence</a:t>
            </a:r>
            <a:r>
              <a:rPr b="0" lang="en-US" sz="1200" spc="-1" strike="noStrike" u="sng">
                <a:solidFill>
                  <a:srgbClr val="ccccff"/>
                </a:solidFill>
                <a:uFillTx/>
                <a:latin typeface="Times New Roman"/>
                <a:hlinkClick r:id="rId8"/>
              </a:rPr>
              <a:t>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u="sng">
                <a:solidFill>
                  <a:srgbClr val="ccccff"/>
                </a:solidFill>
                <a:uFillTx/>
                <a:latin typeface="Times New Roman"/>
                <a:hlinkClick r:id="rId9"/>
              </a:rPr>
              <a:t>CNN </a:t>
            </a:r>
            <a:r>
              <a:rPr b="0" lang="en-US" sz="1200" spc="-1" strike="noStrike" u="sng">
                <a:solidFill>
                  <a:srgbClr val="ccccff"/>
                </a:solidFill>
                <a:uFillTx/>
                <a:latin typeface="Times New Roman"/>
                <a:hlinkClick r:id="rId10"/>
              </a:rPr>
              <a:t>Telepres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3 </a:t>
            </a:r>
            <a:r>
              <a:rPr b="0" lang="en-US" sz="1200" spc="-1" strike="noStrike" u="sng">
                <a:solidFill>
                  <a:srgbClr val="ccccff"/>
                </a:solidFill>
                <a:uFillTx/>
                <a:latin typeface="Times New Roman"/>
                <a:hlinkClick r:id="rId11"/>
              </a:rPr>
              <a:t>Microsoft: Unified Communications and Pos Malaysi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additional components one might expect to find in the network of a large company that has many locations and thousands of employees (illustrated on the next slide). Ask students what is meant by “backend systems.” Note that many firms are dispensing with traditional landline telephone networks and using Internet telephones that run on existing internal data networks and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2D0F-7C1E-42F6-98F0-DE84F4066E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large company’s network. Note the difference between the wireless LAN, which allows wireless access within the office, and the mobile Wi-Fi network, which allows Internet access to employees outside of offices. The advantage of telephone-based wireless systems is that they do not require a Wi-Fi hotspot to work, and in fact can connect users to the entire globe through their telephone networks. Cable network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major competitors of telephone company Internet provider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do not really have a mobile option although Optimum Cable (Comcast) is developing a Wi-Max capability that could potentially serve an entire metropolitan area. This development will take many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414C-C011-4DB7-ACF7-9E3BCB5B40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following two slides look at the main technologies in use today for networks: client/server computing, packet switching, and TCP/IP. Ask students what advantages client/server computing  has over centralized mainfram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A365-5973-40FE-A7E0-81932379F4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today, looking at the second, packet switching. Note that circuit-switched networks were expensive and wasted available communications capacit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 circuit had to be maintained whether data was being sent or not. It is also important to note that packet switching enables packets to follow many different paths. What is the advantage of this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C0C1-A827-4BC8-92D2-5443D7DACA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packet switching works, showing a message being split into three packets, sent along different routes, and then reassembled at the destination. Note that each packet contains a packet number, message number, and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34E4-92C9-46BA-997D-8ED138BCEE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in use today, and looks at the third TCP/IP. Note that in a network, there are typically many different types of hardware and software components that need to work together to transmit and receive information. Different components in a network communicate with one another only by adhering to a common set of rules called protocols. In the past, many diverse proprietary and incompatible protocols often forced business firms to purchase computing and communications equipment from a single vendor. But today, corporate networks are increasingly using a single, common, worldwide standard called Transmission Control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F6FE-DC18-46F6-921F-68DCFED332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layers of the DOD reference model for TCP/IP.  Note that what happens, when computer A sends a message to computer B, is that the data that computer A creates is transferred within that computer from the application layer to subsequent layers in sequence. In this process it is split into packets, and information is added at each stage, ultimately translating the packets into a form that can be transferred over the network interface. After traveling over the network interface, the packets are reassembled at the recipient computer, from the network interface layer up, ultimately for use by the applica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9598-F17B-49E7-A245-40EBEEC456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ypes of networks that organizations use. Ask students what the differences are between digital and analog signals. Ask students to describe and distinguish between LANs, CANs, WANs, and MANs, and also to talk about their different range of operation. Note that a network can be defined by the way the clients interact (client/server versus peer-to-peer); the type of physical medium to carry signals (Ethernet, Fast Ethernet, etc.), and the way in which computers are connected and send signals to each other (topology).</a:t>
            </a: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01AA-677A-4DFD-BF62-C674D36989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s between digital and analog signals, and shows how digital signals can be sent to other computers over analog cables such as telephone and cable lines which are analog. Note that digital signals are representations of the two binary digits, 0 and 1, and are represented logically as on and off electrical pulses (in reality as different voltages). Ask students what MODEM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CDDB-ECB7-47C9-8042-BE134A0C35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in topologies in use in LANs. In a star topology, all devices on the network connect to a single hub and all network traffic flows through the hub. In an extended star network, multiple layers or hubs are organized into a hierarchy. In a bus topology, one station transmits signals, which travel in both directions along a single transmission segment. All of the signals are broadcast in both directions to the entire network. All machines on the network receive the same signals, and software installed on the client’s enables each client to listen for messages addressed specifically to it. A ring topology connects network components in a closed loop. Messages pass from computer to computer in only one direction around the loop, and only one station at a time may transmit. The ring topology is primarily found in older LANs using Token Ring networking software. Ask students which of the topologies is the most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A9F2-7364-4FB4-A1FE-E70C65CB1A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principle technologies used in networking and the Internet. Ask students what the difference is between a network and the Internet. Why is networking so important to modern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35EE-019C-4722-A749-065367C698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media involved in network transmission. Note that many of the telephone systems in buildings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sted wires installed for analog communication, but they can be used for digital communication as well. Also, today, telecommunications companies are starting to bring fiber optic cable into the home for high-speed Internet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haracteristic of microwave transmission means that transmission stations must be 37 miles a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nsmission capacity of a medium (bps) is dependent on its frequency, which is measured in hertz, or cycles per second. Ask students to define bandwidth (it is the difference between the highest and lowest frequencies that can be accommodated on a singl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0D07-C82C-417A-9A91-58A20ECAE9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use of satellites by BP Amoco to transmit seismic data from exploration ships to research centers around the globe via a mobile satellite link. Ask students about the circumstances where satellite communication is an 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60BB-76BB-4193-9F90-D843C31BDF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what the Internet i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sk students to describe it and what they use it for. The text refers to the Internet as the most extensive public communication system and the world’s largest implementation of client/serve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connect to the Internet. Do any of their families use dial-up (telephone/modem)? Do any use satellite? Note that T lines are leased, dedicated lines suitable for businesses or government agencies requiring high-speed guaranteed service levels. Do students know that the Internet does not guarantee any service level, and only agrees to make a “best eff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62F4-F19B-4386-AB90-F467D854D6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how the domain name system works. Note that the “root” domain is the period that is used before the top-level domain, such as .edu or .com. Give students an example Internet address, such as myserver.myspace.com and ask them what the top-, second-, and third-level domai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5BCB-6272-4BB3-B19A-78E27104B4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rchitecture of the Internet. Note that MAEs (metropolitan area exchanges) are hubs where the backbone intersects regional and local networks and where backbone networks connect with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07EC-35C1-4CBB-958B-7CC91D9D32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hat the Internet is, here looking at the services, or applications, that the Internet supports. Notice that the Internet comprises many more services than just e-mail and the Web. Ask students which of these services, beyond e-mail and the World Wide Web have they used, and if they have, to describe how it works.  Students who have cable Internet telephones are using Vo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pular technologies that use the Internet as a platform are VoIP, unified communications, and virtual private networks. Ask students what the value to business is of each of thes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E6CB-DDBF-4632-995F-471239411E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video cases for this chapter for more on network neutrality. Ask students if this debate is a political debate among large Internet players, or is it a moral and ethical issue?  Ask students to find analogies, such as toll highways versus freeways, or peak time pricing for electricity. Should trucks be charged a higher fee for the use of highways than autos because they cause greater wear and tear on roads given their weight?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91AB-3A89-458A-BFAA-4DA4B9BB1D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services that an Internet server computer can offer: Web sites (HTTP), e-mail (SMTP), file transfer (FTP), newsgroups (NNTP). It illustrates where on the path between client and backend systems these services 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F8BB-51DB-419D-847F-649086B989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how VoIP works. The voice messages are digitized and transported over the Internet in the same packet-switching method as traditional Internet data. Gateways are simply computers (network devices) that maintain the interface with the Internet in a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2B12-09FC-40CB-9443-44DE7510FD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virtual private network works. The rectangles A, B, C, and D represent different computers on the VPN. In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unneling, packets of data are encrypted and wrapped inside IP packets. By adding this wrapper around a network message to hide its content, business firms create a private connection that travels through the public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7882-7BDC-4A17-9BD5-C7C6FABEA7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ireless networks at home? How many have a smartphone that uses a 3G network? What’s the difference between a 3G network and Wi-Fi? How many students have seen an RFID tag? </a:t>
            </a: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F126-4975-4801-99AF-68EE6ABEE6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would feel about e-mail and Internet monitoring as a manager</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n ask how they would feel about it as an employee. Can they appreciate the ethical dilemma as well as the business upside of monitoring? As managers, would they support the idea of monitoring employee use of the Internet to ensure employees are really working and not fooling around on eBay?</a:t>
            </a: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9BBD-BA4A-4538-AF94-3579CD20D6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one of the most popular services on the Internet, the Web, and the main protocols enabling the Web. The Web is an interlinked connection of Web sites, which are collections of Web pages linked to a home page. These pages are created using a text markup language call HTML, and transmitted to user’s Web browsers by HTTP. Web page addresses (URLs) are composed of the domain name of the Web site and the file location of the individual Web page. Ask students if any have created Web pages using HTML, and if so, to describe what this is like. How have they made the Web pages visible to others on the Web? There is a learning track available online that shows students how to create Web pages using basic 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F407-80EE-4B01-9CCE-C8E06EFA2B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people find information of interest on the Web. The primary method is through search engines, which today act as major portals to the Web. Ask students where their initial points of entry are on the Web, and how they find information they are interested in.  Most will be Google users, but ask if they have looked at Bing, the Microsoft search engine that is showing some prom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discusses how big the Web is, in terms of pages. Google visited 50 billion Web pages in 2009, but this doesn’t include the “deep Web.” Ask students what the “deep Web” is.  Web pages a available only to subscribers for a fee  (“premium content”) do not allow crawlers to index the pages. Shopping bots are always fun to visit in class. Ask students what they might be interested in having you shop for, and then use one of the shop bots like Shopzilla or Pricegrab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33EB-66E9-4EF6-BDC8-BB99254752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eb 2.0 services. Software mashups and widgets were discussed in Chapter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use a blog reader, such as Google Reader, to read their blogs. If they have, they have used RSS to pull in the content from their blogs to read them in one place. Note that wikis are used in business to share information. The text cites the example of Motorola, whose sales reps use wikis to share sales information. Instead of developing a different pitch for each client, reps reuse the information posted on the wiki. How do companies use blogs and R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8477-80DF-4555-85F6-946F75A67F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in very high level diagram how Google works. At the foundation of Google’s search engine are two concept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page ranking and the indexing of combinations of words. Ask students if they have a favorite search engine, and if so, why that search is their favo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154A0-8F72-4FCC-99DD-1E77595A0F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anks the major search engines according to popularity, or percentage of total number of searches performed. Google is a clear favorite. Is this due to the superiority of their search engine or does it involve other factors such as their clean interface, or their reach, which makes their ad platform more valuable to adverti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FD1C-D164-4476-AB08-D8B513F2FF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Internet standards and Web technologies within the firm to create intranets and extranets. Ask students what the value to businesses is for both. Both intranets and extranets reduce operational costs by providing the connectivity to coordinate disparate business processes within the firm and to link electronically to customers and suppliers. Extranets often are employed for collaborating with other companies for supply chain management, product design and development, and training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6AA4-4162-4AE0-8712-0B3F9A9007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ontinuing revolution in wireless communication. Ask students what changes or improvements have happened in their cell phone service over the past two years. Have they purchased or upgraded a cell phone in that time, and if so,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3G networks are widely used in Japan, South Korea, Taiwan, Hong Kong, Singapore, and parts of northern Europe, but such services are not yet available in many U.S. locations. To compensate, U.S. cellular carriers have upgraded their networks to support higher-speed transmission. These interim 2.5G networks provide data transmission rates ranging from 60 to 354 Kbps, enabling cell phones to be used for Web access, music downloads, and other broadband services.” How many students are using 3G phones? Apple’s newest iPhone uses a 3G network. Do users note the difference?  The next evolution in wireless communication, termed 4G, will be entirely packet-switched and capable of providing between 1 Mbps and 1 Gbps speeds, with premium quality and high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3925-AEB4-4DBF-B0F5-96D10ADAD0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urrent standards in wireless networking. Ask students if they have any Bluetooth or wireless devices they use for computing. Note that in most Wi-Fi communications, wireless devices communicate with a wired LAN using an access 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E51E-2122-4A92-99BC-8B995EAF5F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s of Bluetooth for a PAN. Bluetooth connects wireless keyboards and mice to PCs or cell phones to earpieces without wires. Bluetooth has low-power requirements, making it appropriate for battery-powered handheld computers, and cell phones. Most cell phones today are Bluetooth enabled, allowing them to connect to other wireless devices (like earphones) and P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7CAB-29D4-49A4-B215-387C00F93A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illustrates what happens when large organizations fail to make continuous improvements in their infrastructure. As a result, they tend to have outdated infrastructures at a time when they are facing significant demand for their goods and services. Public sector agencies in particular are prone to this pattern of IT investment.  </a:t>
            </a: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BA57-DCC9-40DA-83A8-720BDCF42D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n 802.11 wireless LAN operating in infrastructure mode that connects a small number of mobile devices to a larger wired LAN. Most wireless devices are client machines. The servers that the mobile client stations need to use are on the wired LAN. The access point controls the wireless stations and acts as a bridge between the main wired LAN and the wireless LAN. (A bridge connects two LANs based on different technologies like your wireless network to your BlueRay player so you can download Internet movies from Netflix and watch them on your TV). The access point also controls the wireles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105A-1E0F-4040-95C4-003BC59F1B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ireless networking and Wi-Fi. Ask students if they have ever connected to the Internet through a hotspot at an airport, coffee shop, hotel, or other location. Was there an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other drawbacks, beside security, there are to Wi-Fi (roaming difficulties, interference). Note that wireless networks based on the upcoming 802.11n specification will solve interference problems by using multiple wireless antennas in tandem to transmit and receive data and technology to coordinate multiple simultaneous radio signals. What is this technology called? (M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361A-EE3E-4159-B618-A89CE08E9D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of two wireless technologies having a major impact on business, radio frequency ID. Ask students for examples of where RFID is used today. The text provides the example of Wal-Mart using RFID to manage inventory and supply chains. Ask students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5E42-2A9C-434F-8065-D851BD959A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RFI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cost of RFID tags used to be too costly for widespread implementation, today the cost is about 10 cents for a passive tag, so RFID is becoming more cos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special hardware and software is needed to use RFID. (To filter, aggregate, and prevent RFID data from overloading business networks and system applications.) Also, applications will need to be redesigned to accept massive volumes of frequently generated RFID data and to share those data with other applications. Major enterprise software vendors, including SAP and Oracle-PeopleSoft, now offer RFID-ready versions of their supply chain manag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102B-B914-48DC-8BF0-482E58A2D8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RFID 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RFID potentially poses any ethic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349D-21D7-4AB9-AD94-E907711059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 second wireless technology having a major impact on business, wireless sensor networks. Note that the wireless sensors are linked into an interconnected network that routes the data to a computer f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E961-6CD7-421B-83E6-C72B40FBAF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lower level nodes and higher level nodes at work in a wireless sensor network. Note that the server that data from the sensors is sent to acts as a gateway to a network based on Interne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0D8D-FF8B-4910-A467-87CE7E602A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 will also restructure its business processes so that the majority of functions are performed through the network.</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B435-DBB1-41BF-8258-BE961762E1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1694-04DD-4FED-A243-1A93A8E9B7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cent developments in networking technologies. Ask students to give an example of convergence. How fast is broadband today? Do all of the students have broadband? Note that in 2000, typical Internet access speeds were 56 kbps over a telephone line, costing 25 cents per kilobit, whereas today broadband speeds are 1 to 5 mbps, costing 1 cent per kilobit. Are students aware of how fast their Internet connections are at home, school, or work? Ask students if they know the speed of their cell phone’s Internet connection.  The point here is to try and raise awareness of telecommunications systems among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0E46-EA50-4EF9-B64F-5C4CB422A6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743040" indent="0">
              <a:spcBef>
                <a:spcPts val="7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lide describes what a network is along with the components that you will find in a simple network (illustrated on the next slide.) Ask students to describe the function of an NIC. What is a connection medium? Ask students to describe the purpose of a hub, switch, and router.</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564A-3F08-4C3F-B8A8-17D87B6960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simple network. Although the NOS is shown as part of the server, note that, depending on the type of software, an NOS may also be designed to reside on client computers. Do some students have a home computer network? Ask them to describe the elements of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6A7B-3F10-4C63-8167-FCEC581E00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4AF71BAB-53D3-4F21-A804-6F89BAB491F4}"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2"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83"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6"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87"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8"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pic>
        <p:nvPicPr>
          <p:cNvPr id="89" name="" descr=""/>
          <p:cNvPicPr/>
          <p:nvPr/>
        </p:nvPicPr>
        <p:blipFill>
          <a:blip r:embed="rId2"/>
          <a:stretch/>
        </p:blipFill>
        <p:spPr>
          <a:xfrm>
            <a:off x="3429000" y="2128680"/>
            <a:ext cx="4876920" cy="4195800"/>
          </a:xfrm>
          <a:prstGeom prst="rect">
            <a:avLst/>
          </a:prstGeom>
          <a:ln w="0">
            <a:noFill/>
          </a:ln>
        </p:spPr>
      </p:pic>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93"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a:t>
            </a:r>
            <a:r>
              <a:rPr b="0" lang="en-US" sz="2000" spc="-1" strike="noStrike">
                <a:solidFill>
                  <a:srgbClr val="000000"/>
                </a:solidFill>
                <a:latin typeface="Arial"/>
              </a:rPr>
              <a:t>largest implementation of client/server computing</a:t>
            </a:r>
            <a:endParaRPr b="0" lang="en-US" sz="2000" spc="-1" strike="noStrike">
              <a:solidFill>
                <a:srgbClr val="000000"/>
              </a:solidFill>
              <a:latin typeface="Arial"/>
            </a:endParaRPr>
          </a:p>
        </p:txBody>
      </p:sp>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97"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cket switching more efficient use of network’s communications capacity</a:t>
            </a:r>
            <a:endParaRPr b="0" lang="en-US" sz="2000" spc="-1" strike="noStrike">
              <a:solidFill>
                <a:srgbClr val="000000"/>
              </a:solidFill>
              <a:latin typeface="Arial"/>
            </a:endParaRPr>
          </a:p>
        </p:txBody>
      </p:sp>
      <p:sp>
        <p:nvSpPr>
          <p:cNvPr id="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Picture 2" descr=""/>
          <p:cNvPicPr/>
          <p:nvPr/>
        </p:nvPicPr>
        <p:blipFill>
          <a:blip r:embed="rId2"/>
          <a:stretch/>
        </p:blipFill>
        <p:spPr>
          <a:xfrm>
            <a:off x="2438280" y="2340000"/>
            <a:ext cx="6324840" cy="3451320"/>
          </a:xfrm>
          <a:prstGeom prst="rect">
            <a:avLst/>
          </a:prstGeom>
          <a:ln w="0">
            <a:noFill/>
          </a:ln>
        </p:spPr>
      </p:pic>
      <p:sp>
        <p:nvSpPr>
          <p:cNvPr id="100"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02"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3"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07"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tocols: </a:t>
            </a:r>
            <a:r>
              <a:rPr b="0" lang="en-US" sz="2000" spc="-1" strike="noStrike">
                <a:solidFill>
                  <a:srgbClr val="000000"/>
                </a:solidFill>
                <a:latin typeface="Arial"/>
                <a:ea typeface="Times New Roman"/>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twork interface layer</a:t>
            </a:r>
            <a:endParaRPr b="0" lang="en-US" sz="18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11"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2"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3" name="Picture 9" descr="fig06"/>
          <p:cNvPicPr/>
          <p:nvPr/>
        </p:nvPicPr>
        <p:blipFill>
          <a:blip r:embed="rId2"/>
          <a:stretch/>
        </p:blipFill>
        <p:spPr>
          <a:xfrm>
            <a:off x="3886200" y="2666880"/>
            <a:ext cx="2666880" cy="3691080"/>
          </a:xfrm>
          <a:prstGeom prst="rect">
            <a:avLst/>
          </a:prstGeom>
          <a:ln w="0">
            <a:noFill/>
          </a:ln>
        </p:spPr>
      </p:pic>
      <p:sp>
        <p:nvSpPr>
          <p:cNvPr id="1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6" name="Rectangle 12"/>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mpus-area networks (CANs)</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7"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0"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1" name="Text Box 6"/>
          <p:cNvSpPr/>
          <p:nvPr/>
        </p:nvSpPr>
        <p:spPr>
          <a:xfrm>
            <a:off x="1143000" y="4495680"/>
            <a:ext cx="6858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odem is a device that translates digital signals from a computer into analog form so that they can be transmitted over analog telephone lines. The modem also translates analog signals back into digital form for the receiving computer.</a:t>
            </a:r>
            <a:endParaRPr b="0" lang="en-US" sz="1600" spc="-1" strike="noStrike">
              <a:solidFill>
                <a:srgbClr val="000000"/>
              </a:solidFill>
              <a:latin typeface="Arial"/>
            </a:endParaRPr>
          </a:p>
        </p:txBody>
      </p:sp>
      <p:sp>
        <p:nvSpPr>
          <p:cNvPr id="122"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23" name="Picture 2" descr=""/>
          <p:cNvPicPr/>
          <p:nvPr/>
        </p:nvPicPr>
        <p:blipFill>
          <a:blip r:embed="rId2"/>
          <a:stretch/>
        </p:blipFill>
        <p:spPr>
          <a:xfrm>
            <a:off x="152280" y="2828880"/>
            <a:ext cx="8837640" cy="1179720"/>
          </a:xfrm>
          <a:prstGeom prst="rect">
            <a:avLst/>
          </a:prstGeom>
          <a:ln w="0">
            <a:noFill/>
          </a:ln>
        </p:spPr>
      </p:pic>
      <p:sp>
        <p:nvSpPr>
          <p:cNvPr id="1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6"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7"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2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29" name="Picture 2" descr=""/>
          <p:cNvPicPr/>
          <p:nvPr/>
        </p:nvPicPr>
        <p:blipFill>
          <a:blip r:embed="rId2"/>
          <a:stretch/>
        </p:blipFill>
        <p:spPr>
          <a:xfrm>
            <a:off x="3276720" y="2160720"/>
            <a:ext cx="4876560" cy="4240080"/>
          </a:xfrm>
          <a:prstGeom prst="rect">
            <a:avLst/>
          </a:prstGeom>
          <a:ln w="0">
            <a:noFill/>
          </a:ln>
        </p:spPr>
      </p:pic>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do the Internet and Internet technology work and how do they support communication and 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isted wire (mod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axial cable</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ber optics and optical network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nse wavelength division multiplexing (DWDM)</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transmission media and devices</a:t>
            </a:r>
            <a:endParaRPr b="0" lang="en-US" sz="24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crowave</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ellites</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ellular telephone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mission speed (hertz, bandwidth)</a:t>
            </a:r>
            <a:endParaRPr b="0" lang="en-US" sz="2400" spc="-1" strike="noStrike">
              <a:solidFill>
                <a:srgbClr val="000000"/>
              </a:solidFill>
              <a:latin typeface="Arial"/>
            </a:endParaRPr>
          </a:p>
        </p:txBody>
      </p:sp>
      <p:sp>
        <p:nvSpPr>
          <p:cNvPr id="132"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36"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7"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3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39" name="Picture 2" descr=""/>
          <p:cNvPicPr/>
          <p:nvPr/>
        </p:nvPicPr>
        <p:blipFill>
          <a:blip r:embed="rId2"/>
          <a:stretch/>
        </p:blipFill>
        <p:spPr>
          <a:xfrm>
            <a:off x="2590920" y="2286000"/>
            <a:ext cx="6283080" cy="3362400"/>
          </a:xfrm>
          <a:prstGeom prst="rect">
            <a:avLst/>
          </a:prstGeom>
          <a:ln w="0">
            <a:noFill/>
          </a:ln>
        </p:spPr>
      </p:pic>
      <p:sp>
        <p:nvSpPr>
          <p:cNvPr id="1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a:t>
            </a:r>
            <a:endParaRPr b="0" lang="en-US" sz="2200" spc="-1" strike="noStrike">
              <a:solidFill>
                <a:srgbClr val="000000"/>
              </a:solidFill>
              <a:latin typeface="Arial"/>
            </a:endParaRPr>
          </a:p>
          <a:p>
            <a:pPr lvl="2" marL="108576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2" marL="108576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 and governance</a:t>
            </a:r>
            <a:endParaRPr b="0" lang="en-US" sz="2200" spc="-1" strike="noStrike">
              <a:solidFill>
                <a:srgbClr val="000000"/>
              </a:solidFill>
              <a:latin typeface="Arial"/>
            </a:endParaRPr>
          </a:p>
          <a:p>
            <a:pPr lvl="2" marL="1085760" indent="-228600">
              <a:lnSpc>
                <a:spcPct val="14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 IPv6 and Internet2</a:t>
            </a:r>
            <a:endParaRPr b="0" lang="en-US" sz="2200" spc="-1" strike="noStrike">
              <a:solidFill>
                <a:srgbClr val="000000"/>
              </a:solidFill>
              <a:latin typeface="Arial"/>
            </a:endParaRPr>
          </a:p>
          <a:p>
            <a:pPr marL="343080" indent="-343080">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46"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47"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48"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49" name="Picture 9" descr=""/>
          <p:cNvPicPr/>
          <p:nvPr/>
        </p:nvPicPr>
        <p:blipFill>
          <a:blip r:embed="rId2"/>
          <a:stretch/>
        </p:blipFill>
        <p:spPr>
          <a:xfrm>
            <a:off x="3308400" y="2209680"/>
            <a:ext cx="5378400" cy="4191120"/>
          </a:xfrm>
          <a:prstGeom prst="rect">
            <a:avLst/>
          </a:prstGeom>
          <a:ln w="0">
            <a:noFill/>
          </a:ln>
        </p:spPr>
      </p:pic>
      <p:sp>
        <p:nvSpPr>
          <p:cNvPr id="1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52"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3"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5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55" name="Picture 2" descr=""/>
          <p:cNvPicPr/>
          <p:nvPr/>
        </p:nvPicPr>
        <p:blipFill>
          <a:blip r:embed="rId2"/>
          <a:stretch/>
        </p:blipFill>
        <p:spPr>
          <a:xfrm>
            <a:off x="3429000" y="2133720"/>
            <a:ext cx="5308560" cy="4190760"/>
          </a:xfrm>
          <a:prstGeom prst="rect">
            <a:avLst/>
          </a:prstGeom>
          <a:ln w="0">
            <a:noFill/>
          </a:ln>
        </p:spPr>
      </p:pic>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5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59" name="Rectangle 10"/>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tting and instant messaging</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sgroup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lnet</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Transfer Protocol (FT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 Wide Web</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oI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irtual private network (VPN)</a:t>
            </a:r>
            <a:endParaRPr b="0" lang="en-US" sz="2400" spc="-1" strike="noStrike">
              <a:solidFill>
                <a:srgbClr val="000000"/>
              </a:solidFill>
              <a:latin typeface="Arial"/>
            </a:endParaRPr>
          </a:p>
        </p:txBody>
      </p:sp>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62"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Network Neutrality Continue?</a:t>
            </a:r>
            <a:endParaRPr b="0" lang="en-US" sz="2400" spc="-1" strike="noStrike">
              <a:solidFill>
                <a:srgbClr val="000000"/>
              </a:solidFill>
              <a:latin typeface="Arial"/>
            </a:endParaRPr>
          </a:p>
        </p:txBody>
      </p:sp>
      <p:sp>
        <p:nvSpPr>
          <p:cNvPr id="163"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Picture 9" descr=""/>
          <p:cNvPicPr/>
          <p:nvPr/>
        </p:nvPicPr>
        <p:blipFill>
          <a:blip r:embed="rId2"/>
          <a:stretch/>
        </p:blipFill>
        <p:spPr>
          <a:xfrm>
            <a:off x="2590920" y="2133720"/>
            <a:ext cx="6324480" cy="2984400"/>
          </a:xfrm>
          <a:prstGeom prst="rect">
            <a:avLst/>
          </a:prstGeom>
          <a:ln w="0">
            <a:noFill/>
          </a:ln>
        </p:spPr>
      </p:pic>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67" name="Text Box 4"/>
          <p:cNvSpPr/>
          <p:nvPr/>
        </p:nvSpPr>
        <p:spPr>
          <a:xfrm>
            <a:off x="1068480" y="57150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68" name="Text Box 5"/>
          <p:cNvSpPr/>
          <p:nvPr/>
        </p:nvSpPr>
        <p:spPr>
          <a:xfrm>
            <a:off x="76320" y="2644920"/>
            <a:ext cx="2438280" cy="252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6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72"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73"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7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75" name="Picture 2" descr=""/>
          <p:cNvPicPr/>
          <p:nvPr/>
        </p:nvPicPr>
        <p:blipFill>
          <a:blip r:embed="rId2"/>
          <a:stretch/>
        </p:blipFill>
        <p:spPr>
          <a:xfrm>
            <a:off x="609480" y="1601640"/>
            <a:ext cx="7923240" cy="274176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78"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79"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tunnel” connection over the Internet. It protects data transmitted over the public Internet by encoding the data and “wrapping”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8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81" name="Picture 2" descr=""/>
          <p:cNvPicPr/>
          <p:nvPr/>
        </p:nvPicPr>
        <p:blipFill>
          <a:blip r:embed="rId2"/>
          <a:stretch/>
        </p:blipFill>
        <p:spPr>
          <a:xfrm>
            <a:off x="2057400" y="2100240"/>
            <a:ext cx="4648320" cy="3000240"/>
          </a:xfrm>
          <a:prstGeom prst="rect">
            <a:avLst/>
          </a:prstGeom>
          <a:ln w="0">
            <a:noFill/>
          </a:ln>
        </p:spPr>
      </p:pic>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5"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184"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185"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8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88"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89"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form resource locators</a:t>
            </a:r>
            <a:r>
              <a:rPr b="1" lang="en-US" sz="2000" spc="-1" strike="noStrike">
                <a:solidFill>
                  <a:srgbClr val="000000"/>
                </a:solidFill>
                <a:latin typeface="Arial"/>
                <a:ea typeface="Times New Roman"/>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for locating and managing Web pages</a:t>
            </a:r>
            <a:endParaRPr b="0" lang="en-US" sz="2000" spc="-1" strike="noStrike">
              <a:solidFill>
                <a:srgbClr val="000000"/>
              </a:solidFill>
              <a:latin typeface="Arial"/>
            </a:endParaRPr>
          </a:p>
        </p:txBody>
      </p:sp>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92"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3"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day, major source of Internet advertising revenue via </a:t>
            </a:r>
            <a:r>
              <a:rPr b="1" lang="en-US" sz="2000" spc="-1" strike="noStrike">
                <a:solidFill>
                  <a:srgbClr val="000000"/>
                </a:solidFill>
                <a:latin typeface="Arial"/>
                <a:ea typeface="Times New Roman"/>
              </a:rPr>
              <a:t>search engine marketing</a:t>
            </a:r>
            <a:r>
              <a:rPr b="0" lang="en-US" sz="2000" spc="-1" strike="noStrike">
                <a:solidFill>
                  <a:srgbClr val="000000"/>
                </a:solidFill>
                <a:latin typeface="Arial"/>
                <a:ea typeface="Times New Roman"/>
              </a:rPr>
              <a:t>, using complex algorithms and page ranking techniques to locate results</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hopping bots </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a:t>
            </a:r>
            <a:r>
              <a:rPr b="0" lang="en-US" sz="2000" spc="-1" strike="noStrike">
                <a:solidFill>
                  <a:srgbClr val="000000"/>
                </a:solidFill>
                <a:latin typeface="Arial"/>
              </a:rPr>
              <a:t>se intelligent agent software for searching Internet for shopping information</a:t>
            </a:r>
            <a:endParaRPr b="0" lang="en-US" sz="20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96"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7"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econd-generation interactive Internet-based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gs: </a:t>
            </a:r>
            <a:r>
              <a:rPr b="0" lang="en-US" sz="2000" spc="-1" strike="noStrike">
                <a:solidFill>
                  <a:srgbClr val="000000"/>
                </a:solidFill>
                <a:latin typeface="Arial"/>
                <a:ea typeface="Times New Roman"/>
              </a:rPr>
              <a:t>chronological, informal Web sites created by individuals using easy-to-use Weblog publishing too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SS (Really Simple Syndication): </a:t>
            </a:r>
            <a:r>
              <a:rPr b="0" lang="en-US" sz="2000" spc="-1" strike="noStrike">
                <a:solidFill>
                  <a:srgbClr val="000000"/>
                </a:solidFill>
                <a:latin typeface="Arial"/>
                <a:ea typeface="Times New Roman"/>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kis: </a:t>
            </a:r>
            <a:r>
              <a:rPr b="0" lang="en-US" sz="2000" spc="-1" strike="noStrike">
                <a:solidFill>
                  <a:srgbClr val="000000"/>
                </a:solidFill>
                <a:latin typeface="Arial"/>
                <a:ea typeface="Times New Roman"/>
              </a:rPr>
              <a:t>c</a:t>
            </a:r>
            <a:r>
              <a:rPr b="0" lang="en-US" sz="2000" spc="-1" strike="noStrike">
                <a:solidFill>
                  <a:srgbClr val="000000"/>
                </a:solidFill>
                <a:latin typeface="Arial"/>
              </a:rPr>
              <a:t>ollaborative Web sites where visitors can add, delete, or modify content on the site</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Picture 2" descr=""/>
          <p:cNvPicPr/>
          <p:nvPr/>
        </p:nvPicPr>
        <p:blipFill>
          <a:blip r:embed="rId2"/>
          <a:stretch/>
        </p:blipFill>
        <p:spPr>
          <a:xfrm>
            <a:off x="2666880" y="2057400"/>
            <a:ext cx="6324840" cy="3968640"/>
          </a:xfrm>
          <a:prstGeom prst="rect">
            <a:avLst/>
          </a:prstGeom>
          <a:ln w="0">
            <a:noFill/>
          </a:ln>
        </p:spPr>
      </p:pic>
      <p:sp>
        <p:nvSpPr>
          <p:cNvPr id="20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01"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02"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0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5" name="Picture 2" descr=""/>
          <p:cNvPicPr/>
          <p:nvPr/>
        </p:nvPicPr>
        <p:blipFill>
          <a:blip r:embed="rId2"/>
          <a:stretch/>
        </p:blipFill>
        <p:spPr>
          <a:xfrm>
            <a:off x="838080" y="2057400"/>
            <a:ext cx="7467840" cy="4162320"/>
          </a:xfrm>
          <a:prstGeom prst="rect">
            <a:avLst/>
          </a:prstGeom>
          <a:ln w="0">
            <a:noFill/>
          </a:ln>
        </p:spPr>
      </p:pic>
      <p:sp>
        <p:nvSpPr>
          <p:cNvPr id="206"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jor Web Search Engines</a:t>
            </a:r>
            <a:endParaRPr b="0" lang="en-US" sz="2400" spc="-1" strike="noStrike">
              <a:solidFill>
                <a:srgbClr val="000000"/>
              </a:solidFill>
              <a:latin typeface="Arial"/>
            </a:endParaRPr>
          </a:p>
        </p:txBody>
      </p:sp>
      <p:sp>
        <p:nvSpPr>
          <p:cNvPr id="207" name="Text Box 4"/>
          <p:cNvSpPr/>
          <p:nvPr/>
        </p:nvSpPr>
        <p:spPr>
          <a:xfrm>
            <a:off x="2058840" y="56530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8"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56 percent of all Web searches. </a:t>
            </a:r>
            <a:endParaRPr b="0" lang="en-US" sz="1600" spc="-1" strike="noStrike">
              <a:solidFill>
                <a:srgbClr val="000000"/>
              </a:solidFill>
              <a:latin typeface="Arial"/>
            </a:endParaRPr>
          </a:p>
        </p:txBody>
      </p:sp>
      <p:sp>
        <p:nvSpPr>
          <p:cNvPr id="20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21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13" name="Rectangle 9"/>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existing network infrastructure with Internet connectivity standards software developed for the Web.</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 networked applications that can run on many types of computer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tected by firewall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low authorized vendors and customers access to an internal intranet.</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collaboration.</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so subject to firewall protection.</a:t>
            </a:r>
            <a:endParaRPr b="0" lang="en-US" sz="20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devic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DAs, BlackBerry, smart phon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ited States: </a:t>
            </a:r>
            <a:r>
              <a:rPr b="1" lang="en-US" sz="2000" spc="-1" strike="noStrike">
                <a:solidFill>
                  <a:srgbClr val="000000"/>
                </a:solidFill>
                <a:latin typeface="Arial"/>
                <a:ea typeface="Times New Roman"/>
              </a:rPr>
              <a:t>CDM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st of rest of world: </a:t>
            </a:r>
            <a:r>
              <a:rPr b="1" lang="en-US" sz="2000" spc="-1" strike="noStrike">
                <a:solidFill>
                  <a:srgbClr val="000000"/>
                </a:solidFill>
                <a:latin typeface="Arial"/>
                <a:ea typeface="Times New Roman"/>
              </a:rPr>
              <a:t>GSM</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p:txBody>
      </p:sp>
      <p:sp>
        <p:nvSpPr>
          <p:cNvPr id="216"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t of standard: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a:t>
            </a:r>
            <a:r>
              <a:rPr b="1" lang="en-US" sz="2000" spc="-1" strike="noStrike">
                <a:solidFill>
                  <a:srgbClr val="000000"/>
                </a:solidFill>
                <a:latin typeface="Arial"/>
                <a:ea typeface="Times New Roman"/>
              </a:rPr>
              <a:t>access points</a:t>
            </a:r>
            <a:r>
              <a:rPr b="0" lang="en-US" sz="2000" spc="-1" strike="noStrike">
                <a:solidFill>
                  <a:srgbClr val="000000"/>
                </a:solidFill>
                <a:latin typeface="Arial"/>
                <a:ea typeface="Times New Roman"/>
              </a:rPr>
              <a:t>: device with radio receiver/transmitter for connecting wireless devices to a wired LAN</a:t>
            </a:r>
            <a:endParaRPr b="0" lang="en-US" sz="2000" spc="-1" strike="noStrike">
              <a:solidFill>
                <a:srgbClr val="000000"/>
              </a:solidFill>
              <a:latin typeface="Arial"/>
            </a:endParaRPr>
          </a:p>
        </p:txBody>
      </p:sp>
      <p:sp>
        <p:nvSpPr>
          <p:cNvPr id="219"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Picture 2" descr=""/>
          <p:cNvPicPr/>
          <p:nvPr/>
        </p:nvPicPr>
        <p:blipFill>
          <a:blip r:embed="rId2"/>
          <a:stretch/>
        </p:blipFill>
        <p:spPr>
          <a:xfrm>
            <a:off x="2971800" y="2057400"/>
            <a:ext cx="6008760" cy="4267080"/>
          </a:xfrm>
          <a:prstGeom prst="rect">
            <a:avLst/>
          </a:prstGeom>
          <a:ln w="0">
            <a:noFill/>
          </a:ln>
        </p:spPr>
      </p:pic>
      <p:sp>
        <p:nvSpPr>
          <p:cNvPr id="22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23"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24"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2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sp>
        <p:nvSpPr>
          <p:cNvPr id="58" name="PlaceHolder 1"/>
          <p:cNvSpPr>
            <a:spLocks noGrp="1"/>
          </p:cNvSpPr>
          <p:nvPr>
            <p:ph/>
          </p:nvPr>
        </p:nvSpPr>
        <p:spPr>
          <a:xfrm>
            <a:off x="304560" y="1722600"/>
            <a:ext cx="34290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Problem:</a:t>
            </a:r>
            <a:r>
              <a:rPr b="1" lang="en-US" sz="2800" spc="-1" strike="noStrike">
                <a:solidFill>
                  <a:srgbClr val="000000"/>
                </a:solidFill>
                <a:latin typeface="Arial"/>
              </a:rPr>
              <a:t> outdated physical facilities and IT infrastructur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Solutions: </a:t>
            </a:r>
            <a:r>
              <a:rPr b="1" lang="en-US" sz="2800" spc="-1" strike="noStrike">
                <a:solidFill>
                  <a:srgbClr val="000000"/>
                </a:solidFill>
                <a:latin typeface="Arial"/>
              </a:rPr>
              <a:t>upgrade both facilities and IT by 2013.</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 descr=""/>
          <p:cNvPicPr/>
          <p:nvPr/>
        </p:nvPicPr>
        <p:blipFill>
          <a:blip r:embed="rId2"/>
          <a:stretch/>
        </p:blipFill>
        <p:spPr>
          <a:xfrm>
            <a:off x="3657600" y="1828800"/>
            <a:ext cx="5162400" cy="434340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2" descr=""/>
          <p:cNvPicPr/>
          <p:nvPr/>
        </p:nvPicPr>
        <p:blipFill>
          <a:blip r:embed="rId2"/>
          <a:stretch/>
        </p:blipFill>
        <p:spPr>
          <a:xfrm>
            <a:off x="3352680" y="2133720"/>
            <a:ext cx="5486400" cy="4079880"/>
          </a:xfrm>
          <a:prstGeom prst="rect">
            <a:avLst/>
          </a:prstGeom>
          <a:ln w="0">
            <a:noFill/>
          </a:ln>
        </p:spPr>
      </p:pic>
      <p:sp>
        <p:nvSpPr>
          <p:cNvPr id="22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29"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30"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3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5"/>
          <p:cNvSpPr/>
          <p:nvPr/>
        </p:nvSpPr>
        <p:spPr>
          <a:xfrm>
            <a:off x="457200" y="1676520"/>
            <a:ext cx="82296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co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tspots: </a:t>
            </a:r>
            <a:r>
              <a:rPr b="0" lang="en-US" sz="2000" spc="-1" strike="noStrike">
                <a:solidFill>
                  <a:srgbClr val="000000"/>
                </a:solidFill>
                <a:latin typeface="Arial"/>
                <a:ea typeface="Times New Roman"/>
              </a:rPr>
              <a:t>o</a:t>
            </a:r>
            <a:r>
              <a:rPr b="0" lang="en-US" sz="2000" spc="-1" strike="noStrike">
                <a:solidFill>
                  <a:srgbClr val="000000"/>
                </a:solidFill>
                <a:latin typeface="Arial"/>
              </a:rPr>
              <a:t>ne or more access points in public place to provide maximum wireless coverage for a specific are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ak security feature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Max (802.16)</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access range of 31 mi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 WiMax antenna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roadband cellular wirel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ell services offer Wi-Fi capabilities for Internet access</a:t>
            </a:r>
            <a:endParaRPr b="0" lang="en-US" sz="2000" spc="-1" strike="noStrike">
              <a:solidFill>
                <a:srgbClr val="000000"/>
              </a:solidFill>
              <a:latin typeface="Arial"/>
            </a:endParaRPr>
          </a:p>
        </p:txBody>
      </p:sp>
      <p:sp>
        <p:nvSpPr>
          <p:cNvPr id="23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 RFID: </a:t>
            </a:r>
            <a:r>
              <a:rPr b="0" lang="en-US" sz="2000" spc="-1" strike="noStrike">
                <a:solidFill>
                  <a:srgbClr val="000000"/>
                </a:solidFill>
                <a:latin typeface="Arial"/>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ive RFID: </a:t>
            </a:r>
            <a:r>
              <a:rPr b="0" lang="en-US" sz="2000" spc="-1" strike="noStrike">
                <a:solidFill>
                  <a:srgbClr val="000000"/>
                </a:solidFill>
                <a:latin typeface="Arial"/>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43"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44" name="Text Box 5"/>
          <p:cNvSpPr/>
          <p:nvPr/>
        </p:nvSpPr>
        <p:spPr>
          <a:xfrm>
            <a:off x="152280" y="5562720"/>
            <a:ext cx="28195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900" spc="-1" strike="noStrike">
              <a:solidFill>
                <a:srgbClr val="000000"/>
              </a:solidFill>
              <a:latin typeface="Arial"/>
            </a:endParaRPr>
          </a:p>
        </p:txBody>
      </p:sp>
      <p:sp>
        <p:nvSpPr>
          <p:cNvPr id="24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pic>
        <p:nvPicPr>
          <p:cNvPr id="246" name="Picture 8" descr="fig06"/>
          <p:cNvPicPr/>
          <p:nvPr/>
        </p:nvPicPr>
        <p:blipFill>
          <a:blip r:embed="rId2"/>
          <a:stretch/>
        </p:blipFill>
        <p:spPr>
          <a:xfrm>
            <a:off x="1676520" y="2155680"/>
            <a:ext cx="7391160" cy="3254400"/>
          </a:xfrm>
          <a:prstGeom prst="rect">
            <a:avLst/>
          </a:prstGeom>
          <a:ln w="0">
            <a:noFill/>
          </a:ln>
        </p:spPr>
      </p:pic>
      <p:sp>
        <p:nvSpPr>
          <p:cNvPr id="2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Picture 2" descr=""/>
          <p:cNvPicPr/>
          <p:nvPr/>
        </p:nvPicPr>
        <p:blipFill>
          <a:blip r:embed="rId2"/>
          <a:stretch/>
        </p:blipFill>
        <p:spPr>
          <a:xfrm>
            <a:off x="2666880" y="1984320"/>
            <a:ext cx="6324840" cy="4111560"/>
          </a:xfrm>
          <a:prstGeom prst="rect">
            <a:avLst/>
          </a:prstGeom>
          <a:ln w="0">
            <a:noFill/>
          </a:ln>
        </p:spPr>
      </p:pic>
      <p:sp>
        <p:nvSpPr>
          <p:cNvPr id="2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53"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54"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5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8" name="" descr=""/>
          <p:cNvPicPr/>
          <p:nvPr/>
        </p:nvPicPr>
        <p:blipFill>
          <a:blip r:embed="rId2"/>
          <a:stretch/>
        </p:blipFill>
        <p:spPr>
          <a:xfrm>
            <a:off x="1066680" y="1523880"/>
            <a:ext cx="7242120" cy="2363760"/>
          </a:xfrm>
          <a:prstGeom prst="rect">
            <a:avLst/>
          </a:prstGeom>
          <a:ln w="9360">
            <a:solidFill>
              <a:srgbClr val="ffffff"/>
            </a:solidFill>
            <a:miter/>
          </a:ln>
        </p:spPr>
      </p:pic>
      <p:sp>
        <p:nvSpPr>
          <p:cNvPr id="259" name=""/>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60"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LAWA management</a:t>
            </a:r>
            <a:r>
              <a:rPr b="1" lang="en-US" sz="2400" spc="-1" strike="noStrike">
                <a:solidFill>
                  <a:srgbClr val="000000"/>
                </a:solidFill>
                <a:latin typeface="Arial"/>
              </a:rPr>
              <a:t> is setting up an Ethernet local-area network throughout the airport and will allow smaller airlines access to this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hastening the communication and flow of information.</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in contemporary networking technolog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pic>
        <p:nvPicPr>
          <p:cNvPr id="65" name="" descr=""/>
          <p:cNvPicPr/>
          <p:nvPr/>
        </p:nvPicPr>
        <p:blipFill>
          <a:blip r:embed="rId2"/>
          <a:stretch/>
        </p:blipFill>
        <p:spPr>
          <a:xfrm>
            <a:off x="228600" y="1981080"/>
            <a:ext cx="8763120" cy="427212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68" name="Rectangle 6"/>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than 60 percent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69"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2"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73"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ice </a:t>
            </a:r>
            <a:r>
              <a:rPr b="0" lang="en-US" sz="2000" spc="-1" strike="noStrike">
                <a:solidFill>
                  <a:srgbClr val="000000"/>
                </a:solidFill>
                <a:latin typeface="Arial"/>
              </a:rPr>
              <a:t>used to route packets of data through different networks, ensuring that data sent gets to the correct address</a:t>
            </a:r>
            <a:endParaRPr b="0" lang="en-US" sz="2000" spc="-1" strike="noStrike">
              <a:solidFill>
                <a:srgbClr val="000000"/>
              </a:solidFill>
              <a:latin typeface="Arial"/>
            </a:endParaRPr>
          </a:p>
        </p:txBody>
      </p:sp>
      <p:sp>
        <p:nvSpPr>
          <p:cNvPr id="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Picture 10" descr=""/>
          <p:cNvPicPr/>
          <p:nvPr/>
        </p:nvPicPr>
        <p:blipFill>
          <a:blip r:embed="rId2"/>
          <a:stretch/>
        </p:blipFill>
        <p:spPr>
          <a:xfrm>
            <a:off x="2514600" y="2133720"/>
            <a:ext cx="6404040" cy="3456000"/>
          </a:xfrm>
          <a:prstGeom prst="rect">
            <a:avLst/>
          </a:prstGeom>
          <a:ln w="0">
            <a:noFill/>
          </a:ln>
        </p:spPr>
      </p:pic>
      <p:sp>
        <p:nvSpPr>
          <p:cNvPr id="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78"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79"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10-10-27T16:10:05Z</dcterms:modified>
  <cp:revision>556</cp:revision>
  <dc:subject/>
  <dc:title>PowerPoint Presentation</dc:title>
</cp:coreProperties>
</file>