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C016-01B5-42D2-A180-64C7FEAD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3D16-BDFA-4D1B-98EF-3113EA3B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2760-A057-47D5-9E04-602115FAF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CAFD-40C7-4653-8CA7-6805B727A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2CB4-8DDB-494A-8A1D-A3B57AFB6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8C4-32D1-474A-86B5-67986426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4765-AB70-447F-B3C6-432AE5F4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0E53-C751-46A9-BE68-09C77414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9194-F7A8-43B1-B2AC-FF73DEB18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679D-041F-4EA7-ABAC-C8D7353E0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07AB-B8AB-4AF0-ACC0-9AB332F84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A4D-4D7D-44B2-855E-667CB7D6D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3778-F265-4714-B910-A82EC0600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722-E2C4-4CE1-9893-BEE0ED60E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FB67-27F5-49EE-B08B-53C63D124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3F49-8E7E-46A6-905C-5D4AE4998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7B5F-278A-4EB2-8888-826CB7D0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366B-95EF-4CF2-9136-964D47B77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1B12-3D34-44F7-A41E-500D5C1B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2DCA-39C2-4DA7-B712-B62D3CDC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EFB2-E355-47DF-8AA4-DE24116B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C512-C56B-4B2A-A644-C853F491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4F15-9E85-425B-917A-B7013B8F9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01BA-016F-41C1-BE98-9EB69B813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FCF8-5405-40F4-B4F9-4E249507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5739-C95C-491C-91F7-9F71F126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7AB0-A058-49E0-A845-ED65E836A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E101-8F73-4880-B2BE-3A0EE4EF8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4146-5794-4E04-A331-9D8AA5187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BD2B-9894-4A46-9B4F-EAD3B243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98F-51A9-4CFF-AA94-FB25831E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C056-D116-4B02-8A24-97DBF2D44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8F14-7F93-4F39-976F-DB3F25F9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571B-7B9B-41E9-915F-87E5F4784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C992-5F19-434E-8F5C-F77C1A52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0720-A52B-42AD-92F7-96C0CF5B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BCE4-0534-4837-A5CE-26128B6F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F7F6-B150-42D2-AA78-1A5965AB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C87A-8C0F-4B2F-8485-A4E8AA1D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8360-A06A-4089-BE5E-B722C5AB2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9684-E7CB-4137-9C13-EE04BD4A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84F-8AD5-4C59-A463-9026EC321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ADA3-3BD5-4D36-8175-81ECF244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C42B-D913-43E9-8519-A5325C60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A03F-06D5-44B5-A159-12E738259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D69F-95E5-4940-84EF-830BADE18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EEF1-661D-43E9-BC83-0CB8C27F9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3FE-A77E-4CA4-8440-8FA39F21D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B5C0-5C9D-4461-B083-6299A468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B785-B86D-4E10-961D-EB61AE18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3624-35AF-4C0E-B23D-6A4C2C1C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3F7D-BC02-449A-8450-BBD9E2A5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87B9-A7EC-4C83-B5DD-D5D6F4B3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5495-6E63-4E7B-ABB8-A0C61ECD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5B3E-444A-49FC-B435-E831A9D6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246C-911B-4A0E-8DCA-CD9AE442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AD41-0366-44A9-B0FC-283CC408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E35C-65C1-40FD-AF71-866BD9EE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3963-D395-40F6-B13E-DDDA51D6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4FB6-0D90-4DA2-9619-806BA77C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2E8C-25A2-4326-9A7C-8E80A3B5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999920" y="5807160"/>
              <a:ext cx="91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lectronic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Structure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of Atoms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Electronic Structure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of Atom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Bruce E. Burste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electromagnetic radiation travels at the same velocity:  the speed of light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3.0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/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0" name="Picture 5" descr="06_04"/>
          <p:cNvPicPr/>
          <p:nvPr/>
        </p:nvPicPr>
        <p:blipFill>
          <a:blip r:embed="rId1"/>
          <a:srcRect l="0" t="0" r="0" b="3847"/>
          <a:stretch/>
        </p:blipFill>
        <p:spPr>
          <a:xfrm>
            <a:off x="4114800" y="1600200"/>
            <a:ext cx="502920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nature of light does not explain how an object can glow when its temperature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x Planck explained it by assuming that energy comes in packets called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uant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4" name="Picture 5" descr="06_05"/>
          <p:cNvPicPr/>
          <p:nvPr/>
        </p:nvPicPr>
        <p:blipFill>
          <a:blip r:embed="rId1"/>
          <a:srcRect l="0" t="0" r="0" b="3701"/>
          <a:stretch/>
        </p:blipFill>
        <p:spPr>
          <a:xfrm>
            <a:off x="519120" y="1981080"/>
            <a:ext cx="36561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instein used this assumption to explain the photoelectric effe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 concluded that energy is proportional to frequenc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anck’s constant, 6.626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-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8" name="Picture 5" descr="06_07ab"/>
          <p:cNvPicPr/>
          <p:nvPr/>
        </p:nvPicPr>
        <p:blipFill>
          <a:blip r:embed="rId1"/>
          <a:srcRect l="0" t="0" r="0" b="8340"/>
          <a:stretch/>
        </p:blipFill>
        <p:spPr>
          <a:xfrm>
            <a:off x="4876920" y="236520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one knows the wavelength of light, one can calculate the energy in one photon, or packet, of that light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2" name="Picture 5" descr="06_09"/>
          <p:cNvPicPr/>
          <p:nvPr/>
        </p:nvPicPr>
        <p:blipFill>
          <a:blip r:embed="rId1"/>
          <a:srcRect l="0" t="0" r="0" b="3704"/>
          <a:stretch/>
        </p:blipFill>
        <p:spPr>
          <a:xfrm>
            <a:off x="5105520" y="1600200"/>
            <a:ext cx="29304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other mystery in the early 20th century involved the emission spectra observed from energy emitted by atoms and molecu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6" name="Picture 5" descr="06_11b"/>
          <p:cNvPicPr/>
          <p:nvPr/>
        </p:nvPicPr>
        <p:blipFill>
          <a:blip r:embed="rId1"/>
          <a:srcRect l="0" t="0" r="0" b="3706"/>
          <a:stretch/>
        </p:blipFill>
        <p:spPr>
          <a:xfrm>
            <a:off x="457200" y="1828800"/>
            <a:ext cx="323856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toms and molecules one does not observe a continuous spectrum, as one gets from a white light sour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ine spectru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discrete wavelengths is obser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0" name="Picture 6" descr="06_10"/>
          <p:cNvPicPr/>
          <p:nvPr/>
        </p:nvPicPr>
        <p:blipFill>
          <a:blip r:embed="rId1"/>
          <a:srcRect l="0" t="0" r="0" b="3853"/>
          <a:stretch/>
        </p:blipFill>
        <p:spPr>
          <a:xfrm>
            <a:off x="4952880" y="178128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6_12abedit"/>
          <p:cNvPicPr/>
          <p:nvPr/>
        </p:nvPicPr>
        <p:blipFill>
          <a:blip r:embed="rId2"/>
          <a:stretch/>
        </p:blipFill>
        <p:spPr>
          <a:xfrm>
            <a:off x="4648320" y="4336920"/>
            <a:ext cx="419076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an atom can only occupy certain orbits (corresponding to certain energies)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5" name="Picture 5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permitted orbits have specific, “allowed” energies; these energies will not be radiated from the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nergy is only absorbed or emitted in such a way as to move an electron from one “allowed” energy state to another; the energy is defined by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52680" y="1752120"/>
            <a:ext cx="5639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absorbed or emitted from the process of electron promotion or demotion can be calculated by the equatio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7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1"/>
          <p:cNvGrpSpPr/>
          <p:nvPr/>
        </p:nvGrpSpPr>
        <p:grpSpPr>
          <a:xfrm>
            <a:off x="4061880" y="3444840"/>
            <a:ext cx="3483360" cy="875880"/>
            <a:chOff x="4061880" y="3444840"/>
            <a:chExt cx="3483360" cy="875880"/>
          </a:xfrm>
        </p:grpSpPr>
        <p:sp>
          <p:nvSpPr>
            <p:cNvPr id="139" name="Rectangle 5"/>
            <p:cNvSpPr/>
            <p:nvPr/>
          </p:nvSpPr>
          <p:spPr>
            <a:xfrm>
              <a:off x="4061880" y="3611520"/>
              <a:ext cx="17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5608800" y="3470400"/>
              <a:ext cx="193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(          )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5851800" y="3444840"/>
              <a:ext cx="497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i="1" lang="en-US" sz="24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r>
                <a:rPr b="0" i="1" lang="en-US" sz="24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891040" y="3867120"/>
              <a:ext cx="4194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43" name="Group 13"/>
            <p:cNvGrpSpPr/>
            <p:nvPr/>
          </p:nvGrpSpPr>
          <p:grpSpPr>
            <a:xfrm>
              <a:off x="6797880" y="3444840"/>
              <a:ext cx="488520" cy="875880"/>
              <a:chOff x="6797880" y="3444840"/>
              <a:chExt cx="488520" cy="875880"/>
            </a:xfrm>
          </p:grpSpPr>
          <p:sp>
            <p:nvSpPr>
              <p:cNvPr id="144" name="Rectangle 14"/>
              <p:cNvSpPr/>
              <p:nvPr/>
            </p:nvSpPr>
            <p:spPr>
              <a:xfrm>
                <a:off x="6797880" y="3444840"/>
                <a:ext cx="488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i</a:t>
                </a:r>
                <a:r>
                  <a:rPr b="0" i="1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45" name="Line 15"/>
              <p:cNvSpPr/>
              <p:nvPr/>
            </p:nvSpPr>
            <p:spPr>
              <a:xfrm>
                <a:off x="6832440" y="3867120"/>
                <a:ext cx="418680" cy="0"/>
              </a:xfrm>
              <a:prstGeom prst="line">
                <a:avLst/>
              </a:prstGeom>
              <a:ln w="255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6"/>
            <p:cNvSpPr/>
            <p:nvPr/>
          </p:nvSpPr>
          <p:spPr>
            <a:xfrm>
              <a:off x="6438960" y="35751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147" name="Rectangle 20"/>
          <p:cNvSpPr/>
          <p:nvPr/>
        </p:nvSpPr>
        <p:spPr>
          <a:xfrm>
            <a:off x="3352680" y="4371840"/>
            <a:ext cx="54864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Rydberg constant, 2.1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,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initial and final energy levels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ther 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rotons were discovered by Rutherford in 1919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eutrons were discovered by James Chadwick in 1932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Wave Nature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uis de Broglie posited that if light can have material properties, matter should exhibit wave propert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e demonstrated that the relationship between mass and wavelength wa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3806280" y="4648320"/>
            <a:ext cx="1530360" cy="1068840"/>
            <a:chOff x="3806280" y="4648320"/>
            <a:chExt cx="1530360" cy="1068840"/>
          </a:xfrm>
        </p:grpSpPr>
        <p:sp>
          <p:nvSpPr>
            <p:cNvPr id="152" name="Rectangle 4"/>
            <p:cNvSpPr/>
            <p:nvPr/>
          </p:nvSpPr>
          <p:spPr>
            <a:xfrm>
              <a:off x="3806280" y="4943520"/>
              <a:ext cx="7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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53" name="Group 7"/>
            <p:cNvGrpSpPr/>
            <p:nvPr/>
          </p:nvGrpSpPr>
          <p:grpSpPr>
            <a:xfrm>
              <a:off x="4574880" y="4648320"/>
              <a:ext cx="761760" cy="1068840"/>
              <a:chOff x="4574880" y="4648320"/>
              <a:chExt cx="761760" cy="1068840"/>
            </a:xfrm>
          </p:grpSpPr>
          <p:sp>
            <p:nvSpPr>
              <p:cNvPr id="154" name="Rectangle 5"/>
              <p:cNvSpPr/>
              <p:nvPr/>
            </p:nvSpPr>
            <p:spPr>
              <a:xfrm>
                <a:off x="4580640" y="4648320"/>
                <a:ext cx="723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mv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55" name="Line 6"/>
              <p:cNvSpPr/>
              <p:nvPr/>
            </p:nvSpPr>
            <p:spPr>
              <a:xfrm>
                <a:off x="4574880" y="5213520"/>
                <a:ext cx="761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Uncertainty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isenberg showed that the more precisely the momentum of a particle is known, the less precisely is its position know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many cases, our uncertainty of the whereabouts of an electron is greater than the size of the atom itself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2886120" y="3378240"/>
            <a:ext cx="3335400" cy="1068840"/>
            <a:chOff x="2886120" y="3378240"/>
            <a:chExt cx="3335400" cy="1068840"/>
          </a:xfrm>
        </p:grpSpPr>
        <p:sp>
          <p:nvSpPr>
            <p:cNvPr id="160" name="Rectangle 4"/>
            <p:cNvSpPr/>
            <p:nvPr/>
          </p:nvSpPr>
          <p:spPr>
            <a:xfrm>
              <a:off x="2886120" y="3594240"/>
              <a:ext cx="251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mv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61" name="Group 7"/>
            <p:cNvGrpSpPr/>
            <p:nvPr/>
          </p:nvGrpSpPr>
          <p:grpSpPr>
            <a:xfrm>
              <a:off x="5591160" y="3378240"/>
              <a:ext cx="630360" cy="1068840"/>
              <a:chOff x="5591160" y="3378240"/>
              <a:chExt cx="630360" cy="1068840"/>
            </a:xfrm>
          </p:grpSpPr>
          <p:sp>
            <p:nvSpPr>
              <p:cNvPr id="162" name="Rectangle 5"/>
              <p:cNvSpPr/>
              <p:nvPr/>
            </p:nvSpPr>
            <p:spPr>
              <a:xfrm>
                <a:off x="5591160" y="3378240"/>
                <a:ext cx="630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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>
                <a:off x="5639040" y="3917880"/>
                <a:ext cx="533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rwin Schrödinger developed a mathematical treatment into which both the wave and particle nature of matter could be incorpo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known as 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7" name="Picture 5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0" name="Picture 4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equation is designated with a lower case Greek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s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quare of the wave equation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gives a probability density map of where an electron has a certain statistical likelihood of being at any given instant in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Numb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the wave equation gives a set of wave functions, or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rbital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their corresponding energ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rbital describes a spatial distribution of electron densit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 orbital is described by a set of three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quantum number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incipal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incipal quantum numb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describes the energy level on which the orbital resid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≥ 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quantum number defines the shape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0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use letter designations to communicate the different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, therefore, the shapes and types of orbital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828800" y="2438280"/>
          <a:ext cx="5486400" cy="1143000"/>
        </p:xfrm>
        <a:graphic>
          <a:graphicData uri="http://schemas.openxmlformats.org/drawingml/2006/table">
            <a:tbl>
              <a:tblPr/>
              <a:tblGrid>
                <a:gridCol w="2851200"/>
                <a:gridCol w="644400"/>
                <a:gridCol w="646200"/>
                <a:gridCol w="698400"/>
                <a:gridCol w="646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of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Type of orbita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magnetic quantum number describes the three-dimensional orientation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on any given energy level, there can be up to 1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, 3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7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et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rbitals with the sam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m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el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orbital types within a shell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bshell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0" name="Picture 8" descr="06_T02"/>
          <p:cNvPicPr/>
          <p:nvPr/>
        </p:nvPicPr>
        <p:blipFill>
          <a:blip r:embed="rId1"/>
          <a:srcRect l="0" t="8891" r="0" b="8107"/>
          <a:stretch/>
        </p:blipFill>
        <p:spPr>
          <a:xfrm>
            <a:off x="1409760" y="3657600"/>
            <a:ext cx="632448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electrons are the only particles that have a charg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neutrons have essentially the same ma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electron is so small we ignore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1" name="Picture 12" descr="02_T01"/>
          <p:cNvPicPr/>
          <p:nvPr/>
        </p:nvPicPr>
        <p:blipFill>
          <a:blip r:embed="rId1"/>
          <a:srcRect l="0" t="19230" r="0" b="11549"/>
          <a:stretch/>
        </p:blipFill>
        <p:spPr>
          <a:xfrm>
            <a:off x="1474920" y="4343400"/>
            <a:ext cx="61927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0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spherical in shap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dius of the sphere increases with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4" name="Picture 5" descr="06_19"/>
          <p:cNvPicPr/>
          <p:nvPr/>
        </p:nvPicPr>
        <p:blipFill>
          <a:blip r:embed="rId1"/>
          <a:srcRect l="0" t="0" r="0" b="3700"/>
          <a:stretch/>
        </p:blipFill>
        <p:spPr>
          <a:xfrm>
            <a:off x="609480" y="1828800"/>
            <a:ext cx="2414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bserving a graph of probabilities of finding an electron versus distance from the nucleus, we see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posses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−1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od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or regions where there is 0 probability of finding an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8" name="Picture 6" descr="06_18"/>
          <p:cNvPicPr/>
          <p:nvPr/>
        </p:nvPicPr>
        <p:blipFill>
          <a:blip r:embed="rId1"/>
          <a:srcRect l="0" t="0" r="0" b="13131"/>
          <a:stretch/>
        </p:blipFill>
        <p:spPr>
          <a:xfrm>
            <a:off x="228600" y="1752480"/>
            <a:ext cx="4343400" cy="167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06_21"/>
          <p:cNvPicPr/>
          <p:nvPr/>
        </p:nvPicPr>
        <p:blipFill>
          <a:blip r:embed="rId2"/>
          <a:srcRect l="0" t="0" r="0" b="7893"/>
          <a:stretch/>
        </p:blipFill>
        <p:spPr>
          <a:xfrm>
            <a:off x="0" y="3962520"/>
            <a:ext cx="4317840" cy="2503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1447920" y="64008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1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have two lobes with a node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4" name="Picture 7" descr="06_22"/>
          <p:cNvPicPr/>
          <p:nvPr/>
        </p:nvPicPr>
        <p:blipFill>
          <a:blip r:embed="rId1"/>
          <a:srcRect l="0" t="0" r="0" b="19228"/>
          <a:stretch/>
        </p:blipFill>
        <p:spPr>
          <a:xfrm>
            <a:off x="1201680" y="4114800"/>
            <a:ext cx="673596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86040" y="175212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is 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ur of the fiv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have 4 lobes; the other resembles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with a doughnut around the cen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8" name="Picture 5" descr="06_23"/>
          <p:cNvPicPr/>
          <p:nvPr/>
        </p:nvPicPr>
        <p:blipFill>
          <a:blip r:embed="rId1"/>
          <a:srcRect l="0" t="0" r="0" b="3562"/>
          <a:stretch/>
        </p:blipFill>
        <p:spPr>
          <a:xfrm>
            <a:off x="457200" y="1981080"/>
            <a:ext cx="4952880" cy="356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one-electron hydrogen atom, orbitals on the same energy level have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at is, they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2" name="Picture 5" descr="06_17"/>
          <p:cNvPicPr/>
          <p:nvPr/>
        </p:nvPicPr>
        <p:blipFill>
          <a:blip r:embed="rId1"/>
          <a:srcRect l="0" t="0" r="0" b="3701"/>
          <a:stretch/>
        </p:blipFill>
        <p:spPr>
          <a:xfrm>
            <a:off x="4981680" y="1981080"/>
            <a:ext cx="31417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electrons increases, though, so does the repulsion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many-electron atoms, orbitals on the same energy level are no longer degene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6" name="Picture 5" descr="06_24"/>
          <p:cNvPicPr/>
          <p:nvPr/>
        </p:nvPicPr>
        <p:blipFill>
          <a:blip r:embed="rId1"/>
          <a:srcRect l="0" t="0" r="0" b="3702"/>
          <a:stretch/>
        </p:blipFill>
        <p:spPr>
          <a:xfrm>
            <a:off x="380880" y="1676520"/>
            <a:ext cx="38131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1920s, it was discovered that two electrons in the same orbital do not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“spin” of an electron describes its magnetic field, which affects its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0" name="Picture 8" descr="06_27"/>
          <p:cNvPicPr/>
          <p:nvPr/>
        </p:nvPicPr>
        <p:blipFill>
          <a:blip r:embed="rId1"/>
          <a:srcRect l="0" t="0" r="0" b="6621"/>
          <a:stretch/>
        </p:blipFill>
        <p:spPr>
          <a:xfrm>
            <a:off x="4648320" y="2484360"/>
            <a:ext cx="4267080" cy="26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led to a fourth quantum number, the spin quantum number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in quantum number has only 2 allowed values:  +1/2 and −1/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4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uli Exclusion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 two electrons in the same atom can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no two electrons in the same atom can have identical sets of quantum numb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8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2" name="Picture 7" descr="COEFF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ymbols of El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lements are symbolized by one or two lett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5" name="Picture 20" descr="02_12-01unsymbol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6" name="Picture 5" descr="ORBITAL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superscript denoting the number of electrons in those orbitals.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0" name="Picture 5" descr="superscript"/>
          <p:cNvPicPr/>
          <p:nvPr/>
        </p:nvPicPr>
        <p:blipFill>
          <a:blip r:embed="rId1"/>
          <a:srcRect l="14000" t="28000" r="63008" b="54000"/>
          <a:stretch/>
        </p:blipFill>
        <p:spPr>
          <a:xfrm>
            <a:off x="1219320" y="3200400"/>
            <a:ext cx="11602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box in the diagram represents one orbit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arrows represent th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rection of the arrow represents the relative spin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4" name="Picture 5" descr="06_28-01UN"/>
          <p:cNvPicPr/>
          <p:nvPr/>
        </p:nvPicPr>
        <p:blipFill>
          <a:blip r:embed="rId1"/>
          <a:srcRect l="0" t="0" r="0" b="6447"/>
          <a:stretch/>
        </p:blipFill>
        <p:spPr>
          <a:xfrm>
            <a:off x="5029200" y="2438280"/>
            <a:ext cx="2895480" cy="13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und’s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degenerate orbitals, the lowest energy is attained when the number of electrons with the same spin is maximized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8" name="Picture 5" descr="06_28-05UN"/>
          <p:cNvPicPr/>
          <p:nvPr/>
        </p:nvPicPr>
        <p:blipFill>
          <a:blip r:embed="rId1"/>
          <a:srcRect l="0" t="0" r="0" b="11102"/>
          <a:stretch/>
        </p:blipFill>
        <p:spPr>
          <a:xfrm>
            <a:off x="685800" y="3351240"/>
            <a:ext cx="380988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fill orbitals in increasing order of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blocks on the periodic table (shaded in different colors in this chart) correspond to different types of orbital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2" name="Picture 5" descr="06_29"/>
          <p:cNvPicPr/>
          <p:nvPr/>
        </p:nvPicPr>
        <p:blipFill>
          <a:blip r:embed="rId1"/>
          <a:srcRect l="0" t="0" r="0" b="3739"/>
          <a:stretch/>
        </p:blipFill>
        <p:spPr>
          <a:xfrm>
            <a:off x="4648320" y="2638440"/>
            <a:ext cx="380988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me irregularities occur when there are enough electrons to half-fil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on a given r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6" name="Picture 10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instance, the electron configuration for copper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her than the expected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0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occurs because the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are very close in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nomalies occur i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block atoms, as well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4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Numb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atoms of the same element have the same number of protons: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tomic number (Z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9" name="Picture 11" descr="02_12-01unatomic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Ma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atom in atomic mass units (amu) is the total number of protons and neutrons in th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3" name="Picture 12" descr="02_12-01unmass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are atoms of the same element with different mas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have different numbers of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7" name="Group 19"/>
          <p:cNvGrpSpPr/>
          <p:nvPr/>
        </p:nvGrpSpPr>
        <p:grpSpPr>
          <a:xfrm>
            <a:off x="772200" y="3429000"/>
            <a:ext cx="1298880" cy="1312920"/>
            <a:chOff x="772200" y="3429000"/>
            <a:chExt cx="1298880" cy="1312920"/>
          </a:xfrm>
        </p:grpSpPr>
        <p:sp>
          <p:nvSpPr>
            <p:cNvPr id="78" name="Rectangle 17"/>
            <p:cNvSpPr/>
            <p:nvPr/>
          </p:nvSpPr>
          <p:spPr>
            <a:xfrm>
              <a:off x="77220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134028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0" name="Group 20"/>
          <p:cNvGrpSpPr/>
          <p:nvPr/>
        </p:nvGrpSpPr>
        <p:grpSpPr>
          <a:xfrm>
            <a:off x="2651760" y="3429000"/>
            <a:ext cx="1298880" cy="1312920"/>
            <a:chOff x="2651760" y="3429000"/>
            <a:chExt cx="1298880" cy="1312920"/>
          </a:xfrm>
        </p:grpSpPr>
        <p:sp>
          <p:nvSpPr>
            <p:cNvPr id="81" name="Rectangle 21"/>
            <p:cNvSpPr/>
            <p:nvPr/>
          </p:nvSpPr>
          <p:spPr>
            <a:xfrm>
              <a:off x="265176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2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21984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4531320" y="3429000"/>
            <a:ext cx="1298880" cy="1312920"/>
            <a:chOff x="4531320" y="3429000"/>
            <a:chExt cx="1298880" cy="1312920"/>
          </a:xfrm>
        </p:grpSpPr>
        <p:sp>
          <p:nvSpPr>
            <p:cNvPr id="84" name="Rectangle 24"/>
            <p:cNvSpPr/>
            <p:nvPr/>
          </p:nvSpPr>
          <p:spPr>
            <a:xfrm>
              <a:off x="453132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3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5" name="Rectangle 25"/>
            <p:cNvSpPr/>
            <p:nvPr/>
          </p:nvSpPr>
          <p:spPr>
            <a:xfrm>
              <a:off x="509940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6410880" y="3429000"/>
            <a:ext cx="1298880" cy="1312920"/>
            <a:chOff x="6410880" y="3429000"/>
            <a:chExt cx="1298880" cy="1312920"/>
          </a:xfrm>
        </p:grpSpPr>
        <p:sp>
          <p:nvSpPr>
            <p:cNvPr id="87" name="Rectangle 27"/>
            <p:cNvSpPr/>
            <p:nvPr/>
          </p:nvSpPr>
          <p:spPr>
            <a:xfrm>
              <a:off x="641088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4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697896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understand the electronic structure of atoms, one must understand the nature of electromagnetic rad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stance between corresponding points on adjacent waves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velength 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2" name="Picture 5" descr="06_03a-c"/>
          <p:cNvPicPr/>
          <p:nvPr/>
        </p:nvPicPr>
        <p:blipFill>
          <a:blip r:embed="rId1"/>
          <a:srcRect l="0" t="0" r="73553" b="38460"/>
          <a:stretch/>
        </p:blipFill>
        <p:spPr>
          <a:xfrm>
            <a:off x="2933640" y="1752480"/>
            <a:ext cx="327672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waves passing a given point per unit of time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waves traveling at the same velocity, the longer the wavelength, the smaller the frequen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6" name="Picture 5" descr="06_04-01UNE6-1"/>
          <p:cNvPicPr/>
          <p:nvPr/>
        </p:nvPicPr>
        <p:blipFill>
          <a:blip r:embed="rId1"/>
          <a:srcRect l="0" t="0" r="0" b="5369"/>
          <a:stretch/>
        </p:blipFill>
        <p:spPr>
          <a:xfrm>
            <a:off x="380880" y="2928960"/>
            <a:ext cx="3810240" cy="21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1:01:38Z</dcterms:created>
  <dc:creator>John Bookstaver</dc:creator>
  <dc:description/>
  <dc:language>en-US</dc:language>
  <cp:lastModifiedBy>aaalobaid</cp:lastModifiedBy>
  <dcterms:modified xsi:type="dcterms:W3CDTF">2014-09-03T09:11:39Z</dcterms:modified>
  <cp:revision>74</cp:revision>
  <dc:subject/>
  <dc:title>Chapter 6 Electronic Structure of Atoms</dc:title>
</cp:coreProperties>
</file>