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A9B5-2120-4232-94C6-F2F536BE8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A7D2-1CA2-4667-9243-D000D5D0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11A1-71E8-4BB6-9E3F-944A99D2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C9C9-1236-4DEF-A330-51CB2D5E5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CEDD-BEF5-43AD-8B25-017CC000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135B-F956-4363-A96F-44F5B806C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1C83-DCA3-4367-BEB4-81FA5DF87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2EC6-5DC1-4B66-B6E4-8C9EEFF1F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FFD9-CC6D-49A7-8B9C-350D624E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6AA9-D2CB-46C4-BED4-AE6748D9F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FF31-CDD5-4118-8D23-019AF83C2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C968-92BA-42E5-9677-469B1D091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7507-43A0-411C-AD3C-EEF5BF0B5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E35C-90F1-4024-992F-F51A4F65B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87AC-C12B-4F84-8F30-31D8DF209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7A92-058A-457C-9E51-2E73FB82E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7D71-C99F-409A-8A9D-1F62E1565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00EB-00A0-4E59-A7E1-5B9206E8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B46E-81F3-42FD-8A58-0DD32FFDC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2F03-DC43-487D-816C-6A9DBED44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F65-5917-44AB-B523-2433BB518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F3F5-5B9A-4CF5-B416-167D19993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C3CD-D996-404F-98E9-78F7E4B5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131E-5DB8-4EBD-AC0E-138F73205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45DB-B35D-4C52-B23A-8ED2069A9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6E2D-E700-4AC6-AD2E-7AFAF659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D29F-2D0E-4C0E-A857-028314C44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6A24-7EA1-4B53-9A34-35336886F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E426-46BE-4B74-A6C6-356A7727B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324F-EB29-48FB-97AC-0D3C6155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9CE0-AF01-4AAA-86AF-FCAE287B3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0AE5-F8F5-47BE-AD2F-29240B49A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CAA0-1DC2-483F-8C66-18B7A113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6B37-7B9A-45D8-B4EE-2425C48B2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9488-B482-4F36-BB7B-11934911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188C-A91A-4E33-860A-DC327C878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77EC-CA38-400C-B419-5A8ABD169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94B0-C666-4338-A464-6014E019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9A70-0598-4182-9F10-8A765134D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CF72-D415-47C9-9FFE-75C2E00B4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81EA-A196-4A69-B83E-27F99BEB2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9856-49F2-4BAA-BD30-2750D0956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AD7B-02D5-423A-8128-C73DD3646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4A54-1FD2-4BFB-A11B-FD2969A8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655C-3205-4125-A97F-27C69CFA3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1E57-8701-4558-AF1B-6722E84C4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0C28-F960-4ADA-AA6B-3D96653E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C1D7-7B7C-4C08-ACB0-96CFDA670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8BEA-7F2D-4B91-B3CA-9782F816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C30B-46C8-40F5-85DB-47BF1AB0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0D6E-2838-4AB8-A28C-F928D76D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87CB-03EC-4BD2-BA70-C6FA7D6C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4940B-7D83-4BFA-A38F-776FE32B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EBA4-7321-44E5-8807-1C7C35A3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4DD4-1806-4FE8-ABB3-A043D826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8A78-1037-4DD5-95E2-6016BC77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A836-031F-4148-81AE-30B76A7F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7A52-B1A6-49CD-91D2-7B1CA0DB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0A42-F7BF-4942-8E33-675ACEA5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772B-EF5A-4280-8184-8E88704F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7014-DBD7-4E21-A954-50E11AFE4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999920" y="5807160"/>
              <a:ext cx="91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lectronic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Structure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of Atoms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6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Electronic Structure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of Atoms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; H. Eugene LeMay, Jr.;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d Bruce E. Burste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ohn D. Bookstaver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t. Charles Community Colleg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ttleville, MO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magnetic Radi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electromagnetic radiation travels at the same velocity:  the speed of light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3.00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/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0" name="Picture 5" descr="06_04"/>
          <p:cNvPicPr/>
          <p:nvPr/>
        </p:nvPicPr>
        <p:blipFill>
          <a:blip r:embed="rId1"/>
          <a:srcRect l="0" t="0" r="0" b="3847"/>
          <a:stretch/>
        </p:blipFill>
        <p:spPr>
          <a:xfrm>
            <a:off x="4114800" y="1600200"/>
            <a:ext cx="502920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nature of light does not explain how an object can glow when its temperature in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ax Planck explained it by assuming that energy comes in packets called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quant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4" name="Picture 5" descr="06_05"/>
          <p:cNvPicPr/>
          <p:nvPr/>
        </p:nvPicPr>
        <p:blipFill>
          <a:blip r:embed="rId1"/>
          <a:srcRect l="0" t="0" r="0" b="3701"/>
          <a:stretch/>
        </p:blipFill>
        <p:spPr>
          <a:xfrm>
            <a:off x="519120" y="1981080"/>
            <a:ext cx="36561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instein used this assumption to explain the photoelectric effe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 concluded that energy is proportional to frequenc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Planck’s constant, 6.626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3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-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8" name="Picture 5" descr="06_07ab"/>
          <p:cNvPicPr/>
          <p:nvPr/>
        </p:nvPicPr>
        <p:blipFill>
          <a:blip r:embed="rId1"/>
          <a:srcRect l="0" t="0" r="0" b="8340"/>
          <a:stretch/>
        </p:blipFill>
        <p:spPr>
          <a:xfrm>
            <a:off x="4876920" y="2365200"/>
            <a:ext cx="40384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one knows the wavelength of light, one can calculate the energy in one photon, or packet, of that light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2" name="Picture 5" descr="06_09"/>
          <p:cNvPicPr/>
          <p:nvPr/>
        </p:nvPicPr>
        <p:blipFill>
          <a:blip r:embed="rId1"/>
          <a:srcRect l="0" t="0" r="0" b="3704"/>
          <a:stretch/>
        </p:blipFill>
        <p:spPr>
          <a:xfrm>
            <a:off x="5105520" y="1600200"/>
            <a:ext cx="29304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other mystery in the early 20th century involved the emission spectra observed from energy emitted by atoms and molecu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6" name="Picture 5" descr="06_11b"/>
          <p:cNvPicPr/>
          <p:nvPr/>
        </p:nvPicPr>
        <p:blipFill>
          <a:blip r:embed="rId1"/>
          <a:srcRect l="0" t="0" r="0" b="3706"/>
          <a:stretch/>
        </p:blipFill>
        <p:spPr>
          <a:xfrm>
            <a:off x="457200" y="1828800"/>
            <a:ext cx="323856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toms and molecules one does not observe a continuous spectrum, as one gets from a white light sour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ly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ine spectru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discrete wavelengths is observ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0" name="Picture 6" descr="06_10"/>
          <p:cNvPicPr/>
          <p:nvPr/>
        </p:nvPicPr>
        <p:blipFill>
          <a:blip r:embed="rId1"/>
          <a:srcRect l="0" t="0" r="0" b="3853"/>
          <a:stretch/>
        </p:blipFill>
        <p:spPr>
          <a:xfrm>
            <a:off x="4952880" y="1781280"/>
            <a:ext cx="3048120" cy="242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6_12abedit"/>
          <p:cNvPicPr/>
          <p:nvPr/>
        </p:nvPicPr>
        <p:blipFill>
          <a:blip r:embed="rId2"/>
          <a:stretch/>
        </p:blipFill>
        <p:spPr>
          <a:xfrm>
            <a:off x="4648320" y="4336920"/>
            <a:ext cx="4190760" cy="140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an atom can only occupy certain orbits (corresponding to certain energies)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5" name="Picture 5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permitted orbits have specific, “allowed” energies; these energies will not be radiated from the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9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80920" y="198072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nergy is only absorbed or emitted in such a way as to move an electron from one “allowed” energy state to another; the energy is defined by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3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52680" y="1752120"/>
            <a:ext cx="5639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energy absorbed or emitted from the process of electron promotion or demotion can be calculated by the equatio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7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21"/>
          <p:cNvGrpSpPr/>
          <p:nvPr/>
        </p:nvGrpSpPr>
        <p:grpSpPr>
          <a:xfrm>
            <a:off x="4061880" y="3444840"/>
            <a:ext cx="3483360" cy="875880"/>
            <a:chOff x="4061880" y="3444840"/>
            <a:chExt cx="3483360" cy="875880"/>
          </a:xfrm>
        </p:grpSpPr>
        <p:sp>
          <p:nvSpPr>
            <p:cNvPr id="139" name="Rectangle 5"/>
            <p:cNvSpPr/>
            <p:nvPr/>
          </p:nvSpPr>
          <p:spPr>
            <a:xfrm>
              <a:off x="4061880" y="3611520"/>
              <a:ext cx="175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5608800" y="3470400"/>
              <a:ext cx="193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(          )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5851800" y="3444840"/>
              <a:ext cx="497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i="1" lang="en-US" sz="2400" spc="-1" strike="noStrike" baseline="-25000">
                  <a:solidFill>
                    <a:srgbClr val="c82e32"/>
                  </a:solidFill>
                  <a:latin typeface="Arial"/>
                </a:rPr>
                <a:t>f</a:t>
              </a:r>
              <a:r>
                <a:rPr b="0" i="1" lang="en-US" sz="24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891040" y="3867120"/>
              <a:ext cx="4194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43" name="Group 13"/>
            <p:cNvGrpSpPr/>
            <p:nvPr/>
          </p:nvGrpSpPr>
          <p:grpSpPr>
            <a:xfrm>
              <a:off x="6797880" y="3444840"/>
              <a:ext cx="488520" cy="875880"/>
              <a:chOff x="6797880" y="3444840"/>
              <a:chExt cx="488520" cy="875880"/>
            </a:xfrm>
          </p:grpSpPr>
          <p:sp>
            <p:nvSpPr>
              <p:cNvPr id="144" name="Rectangle 14"/>
              <p:cNvSpPr/>
              <p:nvPr/>
            </p:nvSpPr>
            <p:spPr>
              <a:xfrm>
                <a:off x="6797880" y="3444840"/>
                <a:ext cx="4885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i</a:t>
                </a:r>
                <a:r>
                  <a:rPr b="0" i="1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45" name="Line 15"/>
              <p:cNvSpPr/>
              <p:nvPr/>
            </p:nvSpPr>
            <p:spPr>
              <a:xfrm>
                <a:off x="6832440" y="3867120"/>
                <a:ext cx="418680" cy="0"/>
              </a:xfrm>
              <a:prstGeom prst="line">
                <a:avLst/>
              </a:prstGeom>
              <a:ln w="2556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6"/>
            <p:cNvSpPr/>
            <p:nvPr/>
          </p:nvSpPr>
          <p:spPr>
            <a:xfrm>
              <a:off x="6438960" y="35751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147" name="Rectangle 20"/>
          <p:cNvSpPr/>
          <p:nvPr/>
        </p:nvSpPr>
        <p:spPr>
          <a:xfrm>
            <a:off x="3352680" y="4371840"/>
            <a:ext cx="54864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Rydberg constant, 2.1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,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initial and final energy levels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ther 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rotons were discovered by Rutherford in 1919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eutrons were discovered by James Chadwick in 1932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Wave Nature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uis de Broglie posited that if light can have material properties, matter should exhibit wave propert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e demonstrated that the relationship between mass and wavelength wa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3806280" y="4648320"/>
            <a:ext cx="1530360" cy="1068840"/>
            <a:chOff x="3806280" y="4648320"/>
            <a:chExt cx="1530360" cy="1068840"/>
          </a:xfrm>
        </p:grpSpPr>
        <p:sp>
          <p:nvSpPr>
            <p:cNvPr id="152" name="Rectangle 4"/>
            <p:cNvSpPr/>
            <p:nvPr/>
          </p:nvSpPr>
          <p:spPr>
            <a:xfrm>
              <a:off x="3806280" y="4943520"/>
              <a:ext cx="7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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53" name="Group 7"/>
            <p:cNvGrpSpPr/>
            <p:nvPr/>
          </p:nvGrpSpPr>
          <p:grpSpPr>
            <a:xfrm>
              <a:off x="4574880" y="4648320"/>
              <a:ext cx="761760" cy="1068840"/>
              <a:chOff x="4574880" y="4648320"/>
              <a:chExt cx="761760" cy="1068840"/>
            </a:xfrm>
          </p:grpSpPr>
          <p:sp>
            <p:nvSpPr>
              <p:cNvPr id="154" name="Rectangle 5"/>
              <p:cNvSpPr/>
              <p:nvPr/>
            </p:nvSpPr>
            <p:spPr>
              <a:xfrm>
                <a:off x="4580640" y="4648320"/>
                <a:ext cx="7232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mv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55" name="Line 6"/>
              <p:cNvSpPr/>
              <p:nvPr/>
            </p:nvSpPr>
            <p:spPr>
              <a:xfrm>
                <a:off x="4574880" y="5213520"/>
                <a:ext cx="7617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Uncertainty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isenberg showed that the more precisely the momentum of a particle is known, the less precisely is its position know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many cases, our uncertainty of the whereabouts of an electron is greater than the size of the atom itself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2886120" y="3378240"/>
            <a:ext cx="3335400" cy="1068840"/>
            <a:chOff x="2886120" y="3378240"/>
            <a:chExt cx="3335400" cy="1068840"/>
          </a:xfrm>
        </p:grpSpPr>
        <p:sp>
          <p:nvSpPr>
            <p:cNvPr id="160" name="Rectangle 4"/>
            <p:cNvSpPr/>
            <p:nvPr/>
          </p:nvSpPr>
          <p:spPr>
            <a:xfrm>
              <a:off x="2886120" y="3594240"/>
              <a:ext cx="251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mv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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61" name="Group 7"/>
            <p:cNvGrpSpPr/>
            <p:nvPr/>
          </p:nvGrpSpPr>
          <p:grpSpPr>
            <a:xfrm>
              <a:off x="5591160" y="3378240"/>
              <a:ext cx="630360" cy="1068840"/>
              <a:chOff x="5591160" y="3378240"/>
              <a:chExt cx="630360" cy="1068840"/>
            </a:xfrm>
          </p:grpSpPr>
          <p:sp>
            <p:nvSpPr>
              <p:cNvPr id="162" name="Rectangle 5"/>
              <p:cNvSpPr/>
              <p:nvPr/>
            </p:nvSpPr>
            <p:spPr>
              <a:xfrm>
                <a:off x="5591160" y="3378240"/>
                <a:ext cx="630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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>
                <a:off x="5639040" y="3917880"/>
                <a:ext cx="5331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rwin Schrödinger developed a mathematical treatment into which both the wave and particle nature of matter could be incorporat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known as 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7" name="Picture 5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0" name="Picture 4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equation is designated with a lower case Greek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s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quare of the wave equation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gives a probability density map of where an electron has a certain statistical likelihood of being at any given instant in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Numb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lving the wave equation gives a set of wave functions, or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orbital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nd their corresponding energ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ach orbital describes a spatial distribution of electron densit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 orbital is described by a set of three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quantum number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incipal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principal quantum number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describes the energy level on which the orbital resid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≥ 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quantum number defines the shape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0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use letter designations to communicate the different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, therefore, the shapes and types of orbital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828800" y="2438280"/>
          <a:ext cx="5486400" cy="1143000"/>
        </p:xfrm>
        <a:graphic>
          <a:graphicData uri="http://schemas.openxmlformats.org/drawingml/2006/table">
            <a:tbl>
              <a:tblPr/>
              <a:tblGrid>
                <a:gridCol w="2851200"/>
                <a:gridCol w="644400"/>
                <a:gridCol w="646200"/>
                <a:gridCol w="698400"/>
                <a:gridCol w="6462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of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Type of orbita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magnetic quantum number describes the three-dimensional orientation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on any given energy level, there can be up to 1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, 3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5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7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et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rbitals with the sam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m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hel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orbital types within a shell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bshell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0" name="Picture 8" descr="06_T02"/>
          <p:cNvPicPr/>
          <p:nvPr/>
        </p:nvPicPr>
        <p:blipFill>
          <a:blip r:embed="rId1"/>
          <a:srcRect l="0" t="8891" r="0" b="8107"/>
          <a:stretch/>
        </p:blipFill>
        <p:spPr>
          <a:xfrm>
            <a:off x="1409760" y="3657600"/>
            <a:ext cx="632448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electrons are the only particles that have a charg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neutrons have essentially the same ma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electron is so small we ignore i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1" name="Picture 12" descr="02_T01"/>
          <p:cNvPicPr/>
          <p:nvPr/>
        </p:nvPicPr>
        <p:blipFill>
          <a:blip r:embed="rId1"/>
          <a:srcRect l="0" t="19230" r="0" b="11549"/>
          <a:stretch/>
        </p:blipFill>
        <p:spPr>
          <a:xfrm>
            <a:off x="1474920" y="4343400"/>
            <a:ext cx="61927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0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spherical in shap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adius of the sphere increases with 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4" name="Picture 5" descr="06_19"/>
          <p:cNvPicPr/>
          <p:nvPr/>
        </p:nvPicPr>
        <p:blipFill>
          <a:blip r:embed="rId1"/>
          <a:srcRect l="0" t="0" r="0" b="3700"/>
          <a:stretch/>
        </p:blipFill>
        <p:spPr>
          <a:xfrm>
            <a:off x="609480" y="1828800"/>
            <a:ext cx="2414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bserving a graph of probabilities of finding an electron versus distance from the nucleus, we see th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posses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−1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ode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or regions where there is 0 probability of finding an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8" name="Picture 6" descr="06_18"/>
          <p:cNvPicPr/>
          <p:nvPr/>
        </p:nvPicPr>
        <p:blipFill>
          <a:blip r:embed="rId1"/>
          <a:srcRect l="0" t="0" r="0" b="13131"/>
          <a:stretch/>
        </p:blipFill>
        <p:spPr>
          <a:xfrm>
            <a:off x="228600" y="1752480"/>
            <a:ext cx="4343400" cy="1670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06_21"/>
          <p:cNvPicPr/>
          <p:nvPr/>
        </p:nvPicPr>
        <p:blipFill>
          <a:blip r:embed="rId2"/>
          <a:srcRect l="0" t="0" r="0" b="7893"/>
          <a:stretch/>
        </p:blipFill>
        <p:spPr>
          <a:xfrm>
            <a:off x="0" y="3962520"/>
            <a:ext cx="4317840" cy="2503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0"/>
          <p:cNvSpPr/>
          <p:nvPr/>
        </p:nvSpPr>
        <p:spPr>
          <a:xfrm>
            <a:off x="1447920" y="64008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1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have two lobes with a node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4" name="Picture 7" descr="06_22"/>
          <p:cNvPicPr/>
          <p:nvPr/>
        </p:nvPicPr>
        <p:blipFill>
          <a:blip r:embed="rId1"/>
          <a:srcRect l="0" t="0" r="0" b="19228"/>
          <a:stretch/>
        </p:blipFill>
        <p:spPr>
          <a:xfrm>
            <a:off x="1201680" y="4114800"/>
            <a:ext cx="673596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86040" y="175212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is 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ur of the fiv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have 4 lobes; the other resembles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with a doughnut around the cen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8" name="Picture 5" descr="06_23"/>
          <p:cNvPicPr/>
          <p:nvPr/>
        </p:nvPicPr>
        <p:blipFill>
          <a:blip r:embed="rId1"/>
          <a:srcRect l="0" t="0" r="0" b="3562"/>
          <a:stretch/>
        </p:blipFill>
        <p:spPr>
          <a:xfrm>
            <a:off x="457200" y="1981080"/>
            <a:ext cx="4952880" cy="356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one-electron hydrogen atom, orbitals on the same energy level have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at is, they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2" name="Picture 5" descr="06_17"/>
          <p:cNvPicPr/>
          <p:nvPr/>
        </p:nvPicPr>
        <p:blipFill>
          <a:blip r:embed="rId1"/>
          <a:srcRect l="0" t="0" r="0" b="3701"/>
          <a:stretch/>
        </p:blipFill>
        <p:spPr>
          <a:xfrm>
            <a:off x="4981680" y="1981080"/>
            <a:ext cx="31417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electrons increases, though, so does the repulsion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n many-electron atoms, orbitals on the same energy level are no longer degene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6" name="Picture 5" descr="06_24"/>
          <p:cNvPicPr/>
          <p:nvPr/>
        </p:nvPicPr>
        <p:blipFill>
          <a:blip r:embed="rId1"/>
          <a:srcRect l="0" t="0" r="0" b="3702"/>
          <a:stretch/>
        </p:blipFill>
        <p:spPr>
          <a:xfrm>
            <a:off x="380880" y="1676520"/>
            <a:ext cx="38131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1920s, it was discovered that two electrons in the same orbital do not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“spin” of an electron describes its magnetic field, which affects its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0" name="Picture 8" descr="06_27"/>
          <p:cNvPicPr/>
          <p:nvPr/>
        </p:nvPicPr>
        <p:blipFill>
          <a:blip r:embed="rId1"/>
          <a:srcRect l="0" t="0" r="0" b="6621"/>
          <a:stretch/>
        </p:blipFill>
        <p:spPr>
          <a:xfrm>
            <a:off x="4648320" y="2484360"/>
            <a:ext cx="4267080" cy="262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led to a fourth quantum number, the spin quantum number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pin quantum number has only 2 allowed values:  +1/2 and −1/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4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uli Exclusion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 two electrons in the same atom can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no two electrons in the same atom can have identical sets of quantum numb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8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2" name="Picture 7" descr="COEFF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ymbols of Eleme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lements are symbolized by one or two lett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5" name="Picture 20" descr="02_12-01unsymbol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6" name="Picture 5" descr="ORBITAL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superscript denoting the number of electrons in those orbitals.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0" name="Picture 5" descr="superscript"/>
          <p:cNvPicPr/>
          <p:nvPr/>
        </p:nvPicPr>
        <p:blipFill>
          <a:blip r:embed="rId1"/>
          <a:srcRect l="14000" t="28000" r="63008" b="54000"/>
          <a:stretch/>
        </p:blipFill>
        <p:spPr>
          <a:xfrm>
            <a:off x="1219320" y="3200400"/>
            <a:ext cx="11602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box in the diagram represents one orbit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lf-arrows represent th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rection of the arrow represents the relative spin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4" name="Picture 5" descr="06_28-01UN"/>
          <p:cNvPicPr/>
          <p:nvPr/>
        </p:nvPicPr>
        <p:blipFill>
          <a:blip r:embed="rId1"/>
          <a:srcRect l="0" t="0" r="0" b="6447"/>
          <a:stretch/>
        </p:blipFill>
        <p:spPr>
          <a:xfrm>
            <a:off x="5029200" y="2438280"/>
            <a:ext cx="2895480" cy="13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und’s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degenerate orbitals, the lowest energy is attained when the number of electrons with the same spin is maximized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8" name="Picture 5" descr="06_28-05UN"/>
          <p:cNvPicPr/>
          <p:nvPr/>
        </p:nvPicPr>
        <p:blipFill>
          <a:blip r:embed="rId1"/>
          <a:srcRect l="0" t="0" r="0" b="11102"/>
          <a:stretch/>
        </p:blipFill>
        <p:spPr>
          <a:xfrm>
            <a:off x="685800" y="3351240"/>
            <a:ext cx="380988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fill orbitals in increasing order of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blocks on the periodic table (shaded in different colors in this chart) correspond to different types of orbital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2" name="Picture 5" descr="06_29"/>
          <p:cNvPicPr/>
          <p:nvPr/>
        </p:nvPicPr>
        <p:blipFill>
          <a:blip r:embed="rId1"/>
          <a:srcRect l="0" t="0" r="0" b="3739"/>
          <a:stretch/>
        </p:blipFill>
        <p:spPr>
          <a:xfrm>
            <a:off x="4648320" y="2638440"/>
            <a:ext cx="3809880" cy="26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me irregularities occur when there are enough electrons to half-fil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on a given r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6" name="Picture 10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instance, the electron configuration for copper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her than the expected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0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occurs because the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are very close in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nomalies occur i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block atoms, as well.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4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Numb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atoms of the same element have the same number of protons: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atomic number (Z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9" name="Picture 11" descr="02_12-01unatomic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Ma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atom in atomic mass units (amu) is the total number of protons and neutrons in th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3" name="Picture 12" descr="02_12-01unmass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676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are atoms of the same element with different mas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have different numbers of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7" name="Group 19"/>
          <p:cNvGrpSpPr/>
          <p:nvPr/>
        </p:nvGrpSpPr>
        <p:grpSpPr>
          <a:xfrm>
            <a:off x="772200" y="3429000"/>
            <a:ext cx="1298880" cy="1312920"/>
            <a:chOff x="772200" y="3429000"/>
            <a:chExt cx="1298880" cy="1312920"/>
          </a:xfrm>
        </p:grpSpPr>
        <p:sp>
          <p:nvSpPr>
            <p:cNvPr id="78" name="Rectangle 17"/>
            <p:cNvSpPr/>
            <p:nvPr/>
          </p:nvSpPr>
          <p:spPr>
            <a:xfrm>
              <a:off x="77220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134028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0" name="Group 20"/>
          <p:cNvGrpSpPr/>
          <p:nvPr/>
        </p:nvGrpSpPr>
        <p:grpSpPr>
          <a:xfrm>
            <a:off x="2651760" y="3429000"/>
            <a:ext cx="1298880" cy="1312920"/>
            <a:chOff x="2651760" y="3429000"/>
            <a:chExt cx="1298880" cy="1312920"/>
          </a:xfrm>
        </p:grpSpPr>
        <p:sp>
          <p:nvSpPr>
            <p:cNvPr id="81" name="Rectangle 21"/>
            <p:cNvSpPr/>
            <p:nvPr/>
          </p:nvSpPr>
          <p:spPr>
            <a:xfrm>
              <a:off x="265176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2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321984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4531320" y="3429000"/>
            <a:ext cx="1298880" cy="1312920"/>
            <a:chOff x="4531320" y="3429000"/>
            <a:chExt cx="1298880" cy="1312920"/>
          </a:xfrm>
        </p:grpSpPr>
        <p:sp>
          <p:nvSpPr>
            <p:cNvPr id="84" name="Rectangle 24"/>
            <p:cNvSpPr/>
            <p:nvPr/>
          </p:nvSpPr>
          <p:spPr>
            <a:xfrm>
              <a:off x="453132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3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5" name="Rectangle 25"/>
            <p:cNvSpPr/>
            <p:nvPr/>
          </p:nvSpPr>
          <p:spPr>
            <a:xfrm>
              <a:off x="509940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6410880" y="3429000"/>
            <a:ext cx="1298880" cy="1312920"/>
            <a:chOff x="6410880" y="3429000"/>
            <a:chExt cx="1298880" cy="1312920"/>
          </a:xfrm>
        </p:grpSpPr>
        <p:sp>
          <p:nvSpPr>
            <p:cNvPr id="87" name="Rectangle 27"/>
            <p:cNvSpPr/>
            <p:nvPr/>
          </p:nvSpPr>
          <p:spPr>
            <a:xfrm>
              <a:off x="641088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4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697896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understand the electronic structure of atoms, one must understand the nature of electromagnetic rad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stance between corresponding points on adjacent waves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avelength 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2" name="Picture 5" descr="06_03a-c"/>
          <p:cNvPicPr/>
          <p:nvPr/>
        </p:nvPicPr>
        <p:blipFill>
          <a:blip r:embed="rId1"/>
          <a:srcRect l="0" t="0" r="73553" b="38460"/>
          <a:stretch/>
        </p:blipFill>
        <p:spPr>
          <a:xfrm>
            <a:off x="2933640" y="1752480"/>
            <a:ext cx="327672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waves passing a given point per unit of time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waves traveling at the same velocity, the longer the wavelength, the smaller the frequen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6" name="Picture 5" descr="06_04-01UNE6-1"/>
          <p:cNvPicPr/>
          <p:nvPr/>
        </p:nvPicPr>
        <p:blipFill>
          <a:blip r:embed="rId1"/>
          <a:srcRect l="0" t="0" r="0" b="5369"/>
          <a:stretch/>
        </p:blipFill>
        <p:spPr>
          <a:xfrm>
            <a:off x="380880" y="2928960"/>
            <a:ext cx="3810240" cy="21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1:01:38Z</dcterms:created>
  <dc:creator>John Bookstaver</dc:creator>
  <dc:description/>
  <dc:language>en-US</dc:language>
  <cp:lastModifiedBy>aaalobaid</cp:lastModifiedBy>
  <dcterms:modified xsi:type="dcterms:W3CDTF">2014-09-03T09:11:39Z</dcterms:modified>
  <cp:revision>74</cp:revision>
  <dc:subject/>
  <dc:title>Chapter 6 Electronic Structure of Atoms</dc:title>
</cp:coreProperties>
</file>