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D4DA-1FE2-4651-8D08-E99572272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8BEF-DCB8-4EE2-8187-CC4E4806A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8B9D-B4CA-4DDC-90BF-ADFA2EDB9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3E23-E4BC-4D72-9A3F-FA6EE79B2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945C-9484-4B44-B8A8-F1867804C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26F9-3F73-4E0B-B7C1-7B9B9E02B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58B2-7079-4656-BFFC-28EC0F0FC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AE44-DF97-471C-A689-B67057DF8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54F9-D77F-498C-946A-572DCBCA0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913E-5274-4F17-A063-C4FA489A5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1BF4-05FB-42BA-882D-F3FD35D8C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ABDD-375E-43A6-A13D-1B3CFAF6F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78BB-23CF-4D2F-8BBD-749A75F04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CE7B-E716-4AA9-83D4-AE41C73BE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00A9-DF91-48EB-915E-257C3C891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41E7-3819-468D-A39B-226A4A1B3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4AF1-2B5C-488F-A4DA-30C28A9E9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42C1-DBB1-4E1E-A886-77BDA50EC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3EB7-1A43-4FE0-AC49-73E329392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D4AC-7158-46DE-9AAC-458FB59E4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C030-7E95-411E-B8A4-D070BD5E7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FE76-F549-4F06-A02D-8E4DA3AAD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263A-224F-4C3A-B867-E56CDD143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591D-910B-4EE5-92D7-6DA12387F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5FA4-28FD-4031-9669-C2FC0B88C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1D8C-5A79-4FFE-94E1-79A709862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E8E2-2E15-47C2-9430-B4D1DFE0A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0EF3-111C-48BA-9167-2C9555400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CC78-5BDD-4A75-B6C3-72C06D11F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BD07-0193-430E-878D-54E896F47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C8A6-DDD1-4E86-93CC-0C424CD82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AD61-ED27-4A0C-8EC0-96F5864FB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44E3-79E4-4B7F-B89F-2D444A55C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0D58-49F2-4408-8079-0EAFA54FA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EB76-7E4A-41F9-BC44-7C84773A6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152E-005B-4540-AAAE-A480FA7EB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0D7F-7D59-4795-9F12-C19AB6E0D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8279-D785-42EB-98C3-08F14BF32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6161-2F34-4759-A160-C8F88DD6B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7B55-4D7D-4EEE-882A-BEE7AABEA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1A82-3E0A-4F26-8ADD-36E7266EB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2558-7AD9-4DA2-9C4B-A91080B0F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73F8-0850-4CDE-A0D3-0B471F44E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5847-FB56-471C-8A7E-1CF47A345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5173-E571-418A-9352-59274BC7B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7CD1-65FF-4843-A551-A0C6F3461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B125-0398-4955-90C0-41E818EEF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B270-72AC-4C06-AF4D-6DB49C877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67A7C-14A3-4A59-BDBB-9B2AC506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9B3D3-8318-4ECC-8F9F-EB11FCEE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76B01-7B04-4ECF-86F4-7B80C179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2746E-D8E0-48C0-9CCC-2AD9AE94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713A4-0FFF-4390-BF62-4F4C768E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D1FAD-2979-4A65-A77E-952105D2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CCDC4-E7B3-4FDE-B1C2-70E7D542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E0D7C-E93C-4D27-87F2-03291CBA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A49C7-2CC3-4470-A389-50CF1CC2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A0DAB-D4F4-4F74-8D34-E52DAD11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3E2FA-D400-4D06-B974-CA462742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B25BB-0EC9-4392-9C61-844CB768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BCBD-6D1B-4E0C-80B6-F4162465E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7999920" y="5807160"/>
              <a:ext cx="91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Electronic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Structure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of Atoms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hapter 6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Electronic Structure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of Atoms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76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Chemistry, The Central Scienc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, 11th edition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odore L. Brown; H. Eugene LeMay, Jr.;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nd Bruce E. Bursten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6320" y="5486400"/>
            <a:ext cx="4495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John D. Bookstaver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St. Charles Community College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ottleville, MO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73A2-848B-4089-80AC-C16815A6A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magnetic Radi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3276360"/>
            <a:ext cx="4114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ll electromagnetic radiation travels at the same velocity:  the speed of light (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,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3.00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m/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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9" name="Picture 5" descr="06_04"/>
          <p:cNvPicPr/>
          <p:nvPr/>
        </p:nvPicPr>
        <p:blipFill>
          <a:blip r:embed="rId1"/>
          <a:srcRect l="0" t="0" r="0" b="3847"/>
          <a:stretch/>
        </p:blipFill>
        <p:spPr>
          <a:xfrm>
            <a:off x="4114800" y="1600200"/>
            <a:ext cx="5029200" cy="2933640"/>
          </a:xfrm>
          <a:prstGeom prst="rect">
            <a:avLst/>
          </a:prstGeom>
          <a:ln w="0">
            <a:noFill/>
          </a:ln>
        </p:spPr>
      </p:pic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7F96-38D4-4788-8685-F28EA660A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wave nature of light does not explain how an object can glow when its temperature increa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ax Planck explained it by assuming that energy comes in packets called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quant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4" name="Picture 5" descr="06_05"/>
          <p:cNvPicPr/>
          <p:nvPr/>
        </p:nvPicPr>
        <p:blipFill>
          <a:blip r:embed="rId1"/>
          <a:srcRect l="0" t="0" r="0" b="3701"/>
          <a:stretch/>
        </p:blipFill>
        <p:spPr>
          <a:xfrm>
            <a:off x="519120" y="1981080"/>
            <a:ext cx="365616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E98C-29D9-419A-AE76-210E7EF37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instein used this assumption to explain the photoelectric effec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e concluded that energy is proportional to frequenc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Planck’s constant, 6.626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−3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J-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9" name="Picture 5" descr="06_07ab"/>
          <p:cNvPicPr/>
          <p:nvPr/>
        </p:nvPicPr>
        <p:blipFill>
          <a:blip r:embed="rId1"/>
          <a:srcRect l="0" t="0" r="0" b="8340"/>
          <a:stretch/>
        </p:blipFill>
        <p:spPr>
          <a:xfrm>
            <a:off x="4876920" y="2365200"/>
            <a:ext cx="4038480" cy="2665440"/>
          </a:xfrm>
          <a:prstGeom prst="rect">
            <a:avLst/>
          </a:prstGeom>
          <a:ln w="0">
            <a:noFill/>
          </a:ln>
        </p:spPr>
      </p:pic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DBF9-3C72-43FD-99FE-730FF8E5B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if one knows the wavelength of light, one can calculate the energy in one photon, or packet, of that light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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4" name="Picture 5" descr="06_09"/>
          <p:cNvPicPr/>
          <p:nvPr/>
        </p:nvPicPr>
        <p:blipFill>
          <a:blip r:embed="rId1"/>
          <a:srcRect l="0" t="0" r="0" b="3704"/>
          <a:stretch/>
        </p:blipFill>
        <p:spPr>
          <a:xfrm>
            <a:off x="5105520" y="1600200"/>
            <a:ext cx="2930400" cy="4343400"/>
          </a:xfrm>
          <a:prstGeom prst="rect">
            <a:avLst/>
          </a:prstGeom>
          <a:ln w="0">
            <a:noFill/>
          </a:ln>
        </p:spPr>
      </p:pic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EED2-960B-42C6-8136-53E5BABBB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other mystery in the early 20th century involved the emission spectra observed from energy emitted by atoms and molecul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9" name="Picture 5" descr="06_11b"/>
          <p:cNvPicPr/>
          <p:nvPr/>
        </p:nvPicPr>
        <p:blipFill>
          <a:blip r:embed="rId1"/>
          <a:srcRect l="0" t="0" r="0" b="3706"/>
          <a:stretch/>
        </p:blipFill>
        <p:spPr>
          <a:xfrm>
            <a:off x="457200" y="1828800"/>
            <a:ext cx="3238560" cy="480060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9634-B660-412B-B106-92CCE423F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atoms and molecules one does not observe a continuous spectrum, as one gets from a white light sour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ly a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line spectrum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discrete wavelengths is observ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4" name="Picture 6" descr="06_10"/>
          <p:cNvPicPr/>
          <p:nvPr/>
        </p:nvPicPr>
        <p:blipFill>
          <a:blip r:embed="rId1"/>
          <a:srcRect l="0" t="0" r="0" b="3853"/>
          <a:stretch/>
        </p:blipFill>
        <p:spPr>
          <a:xfrm>
            <a:off x="4952880" y="1781280"/>
            <a:ext cx="3048120" cy="2425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06_12abedit"/>
          <p:cNvPicPr/>
          <p:nvPr/>
        </p:nvPicPr>
        <p:blipFill>
          <a:blip r:embed="rId2"/>
          <a:stretch/>
        </p:blipFill>
        <p:spPr>
          <a:xfrm>
            <a:off x="4648320" y="4336920"/>
            <a:ext cx="4190760" cy="1406520"/>
          </a:xfrm>
          <a:prstGeom prst="rect">
            <a:avLst/>
          </a:prstGeom>
          <a:ln w="0">
            <a:noFill/>
          </a:ln>
        </p:spPr>
      </p:pic>
      <p:sp>
        <p:nvSpPr>
          <p:cNvPr id="13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9561-FEFE-48BA-B358-B606C7E0D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lectrons in an atom can only occupy certain orbits (corresponding to certain energies)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40" name="Picture 5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9CB3-4DE6-4191-B759-A640C9706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lectrons in permitted orbits have specific, “allowed” energies; these energies will not be radiated from the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45" name="Picture 4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7677-4D9E-4154-9C26-FCFE2DE12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580920" y="1980720"/>
            <a:ext cx="5410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nergy is only absorbed or emitted in such a way as to move an electron from one “allowed” energy state to another; the energy is defined by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50" name="Picture 4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4F4B-B900-47FF-A648-40B8C19EE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352680" y="1752120"/>
            <a:ext cx="56390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energy absorbed or emitted from the process of electron promotion or demotion can be calculated by the equation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55" name="Picture 4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21"/>
          <p:cNvGrpSpPr/>
          <p:nvPr/>
        </p:nvGrpSpPr>
        <p:grpSpPr>
          <a:xfrm>
            <a:off x="4061880" y="3444840"/>
            <a:ext cx="3483360" cy="875880"/>
            <a:chOff x="4061880" y="3444840"/>
            <a:chExt cx="3483360" cy="875880"/>
          </a:xfrm>
        </p:grpSpPr>
        <p:sp>
          <p:nvSpPr>
            <p:cNvPr id="157" name="Rectangle 5"/>
            <p:cNvSpPr/>
            <p:nvPr/>
          </p:nvSpPr>
          <p:spPr>
            <a:xfrm>
              <a:off x="4061880" y="3611520"/>
              <a:ext cx="1750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E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= 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5608800" y="3470400"/>
              <a:ext cx="193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(          )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5851800" y="3444840"/>
              <a:ext cx="4975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i="1" lang="en-US" sz="2400" spc="-1" strike="noStrike" baseline="-25000">
                  <a:solidFill>
                    <a:srgbClr val="c82e32"/>
                  </a:solidFill>
                  <a:latin typeface="Arial"/>
                </a:rPr>
                <a:t>f</a:t>
              </a:r>
              <a:r>
                <a:rPr b="0" i="1" lang="en-US" sz="2400" spc="-1" strike="noStrike" baseline="30000">
                  <a:solidFill>
                    <a:srgbClr val="c82e32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60" name="Line 8"/>
            <p:cNvSpPr/>
            <p:nvPr/>
          </p:nvSpPr>
          <p:spPr>
            <a:xfrm>
              <a:off x="5891040" y="3867120"/>
              <a:ext cx="41940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61" name="Group 13"/>
            <p:cNvGrpSpPr/>
            <p:nvPr/>
          </p:nvGrpSpPr>
          <p:grpSpPr>
            <a:xfrm>
              <a:off x="6797880" y="3444840"/>
              <a:ext cx="488520" cy="875880"/>
              <a:chOff x="6797880" y="3444840"/>
              <a:chExt cx="488520" cy="875880"/>
            </a:xfrm>
          </p:grpSpPr>
          <p:sp>
            <p:nvSpPr>
              <p:cNvPr id="162" name="Rectangle 14"/>
              <p:cNvSpPr/>
              <p:nvPr/>
            </p:nvSpPr>
            <p:spPr>
              <a:xfrm>
                <a:off x="6797880" y="3444840"/>
                <a:ext cx="48852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i="1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i</a:t>
                </a:r>
                <a:r>
                  <a:rPr b="0" i="1" lang="en-US" sz="24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63" name="Line 15"/>
              <p:cNvSpPr/>
              <p:nvPr/>
            </p:nvSpPr>
            <p:spPr>
              <a:xfrm>
                <a:off x="6832440" y="3867120"/>
                <a:ext cx="418680" cy="0"/>
              </a:xfrm>
              <a:prstGeom prst="line">
                <a:avLst/>
              </a:prstGeom>
              <a:ln w="2556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  <p:sp>
          <p:nvSpPr>
            <p:cNvPr id="164" name="Rectangle 16"/>
            <p:cNvSpPr/>
            <p:nvPr/>
          </p:nvSpPr>
          <p:spPr>
            <a:xfrm>
              <a:off x="6438960" y="35751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sp>
        <p:nvSpPr>
          <p:cNvPr id="165" name="Rectangle 20"/>
          <p:cNvSpPr/>
          <p:nvPr/>
        </p:nvSpPr>
        <p:spPr>
          <a:xfrm>
            <a:off x="3352680" y="4371840"/>
            <a:ext cx="548640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the Rydberg constant, 2.18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J,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initial and final energy levels of the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6" name="Slide Number Placeholder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DDD7-2E74-4256-BB63-7B089FD2C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ther Subatomic Particl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rotons were discovered by Rutherford in 1919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Neutrons were discovered by James Chadwick in 1932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2909-D474-413D-B5E9-03E9D4337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Wave Nature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Louis de Broglie posited that if light can have material properties, matter should exhibit wave properti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e demonstrated that the relationship between mass and wavelength wa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3806280" y="4648320"/>
            <a:ext cx="1530360" cy="1068840"/>
            <a:chOff x="3806280" y="4648320"/>
            <a:chExt cx="1530360" cy="1068840"/>
          </a:xfrm>
        </p:grpSpPr>
        <p:sp>
          <p:nvSpPr>
            <p:cNvPr id="171" name="Rectangle 4"/>
            <p:cNvSpPr/>
            <p:nvPr/>
          </p:nvSpPr>
          <p:spPr>
            <a:xfrm>
              <a:off x="3806280" y="4943520"/>
              <a:ext cx="75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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72" name="Group 7"/>
            <p:cNvGrpSpPr/>
            <p:nvPr/>
          </p:nvGrpSpPr>
          <p:grpSpPr>
            <a:xfrm>
              <a:off x="4574880" y="4648320"/>
              <a:ext cx="761760" cy="1068840"/>
              <a:chOff x="4574880" y="4648320"/>
              <a:chExt cx="761760" cy="1068840"/>
            </a:xfrm>
          </p:grpSpPr>
          <p:sp>
            <p:nvSpPr>
              <p:cNvPr id="173" name="Rectangle 5"/>
              <p:cNvSpPr/>
              <p:nvPr/>
            </p:nvSpPr>
            <p:spPr>
              <a:xfrm>
                <a:off x="4580640" y="4648320"/>
                <a:ext cx="7232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mv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74" name="Line 6"/>
              <p:cNvSpPr/>
              <p:nvPr/>
            </p:nvSpPr>
            <p:spPr>
              <a:xfrm>
                <a:off x="4574880" y="5213520"/>
                <a:ext cx="76176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9EA4-27A2-4CFA-AFA2-E96206AA4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Uncertainty Princi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eisenberg showed that the more precisely the momentum of a particle is known, the less precisely is its position known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many cases, our uncertainty of the whereabouts of an electron is greater than the size of the atom itself!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79" name="Group 8"/>
          <p:cNvGrpSpPr/>
          <p:nvPr/>
        </p:nvGrpSpPr>
        <p:grpSpPr>
          <a:xfrm>
            <a:off x="2886120" y="3378240"/>
            <a:ext cx="3335400" cy="1068840"/>
            <a:chOff x="2886120" y="3378240"/>
            <a:chExt cx="3335400" cy="1068840"/>
          </a:xfrm>
        </p:grpSpPr>
        <p:sp>
          <p:nvSpPr>
            <p:cNvPr id="180" name="Rectangle 4"/>
            <p:cNvSpPr/>
            <p:nvPr/>
          </p:nvSpPr>
          <p:spPr>
            <a:xfrm>
              <a:off x="2886120" y="3594240"/>
              <a:ext cx="251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x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) (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mv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)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</a:t>
              </a:r>
              <a:endParaRPr b="0" lang="en-US" sz="32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81" name="Group 7"/>
            <p:cNvGrpSpPr/>
            <p:nvPr/>
          </p:nvGrpSpPr>
          <p:grpSpPr>
            <a:xfrm>
              <a:off x="5591160" y="3378240"/>
              <a:ext cx="630360" cy="1068840"/>
              <a:chOff x="5591160" y="3378240"/>
              <a:chExt cx="630360" cy="1068840"/>
            </a:xfrm>
          </p:grpSpPr>
          <p:sp>
            <p:nvSpPr>
              <p:cNvPr id="182" name="Rectangle 5"/>
              <p:cNvSpPr/>
              <p:nvPr/>
            </p:nvSpPr>
            <p:spPr>
              <a:xfrm>
                <a:off x="5591160" y="3378240"/>
                <a:ext cx="6303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i="1" lang="en-US" sz="32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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83" name="Line 6"/>
              <p:cNvSpPr/>
              <p:nvPr/>
            </p:nvSpPr>
            <p:spPr>
              <a:xfrm>
                <a:off x="5639040" y="3917880"/>
                <a:ext cx="53316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64A1-86F2-4B40-9B87-633F017E7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Mechanic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rwin Schrödinger developed a mathematical treatment into which both the wave and particle nature of matter could be incorporat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known as </a:t>
            </a:r>
            <a:r>
              <a:rPr b="0" lang="en-US" sz="2800" spc="-1" strike="noStrike">
                <a:solidFill>
                  <a:srgbClr val="072e93"/>
                </a:solidFill>
                <a:latin typeface="Arial"/>
              </a:rPr>
              <a:t>quantum mechanic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88" name="Picture 5" descr="06_16"/>
          <p:cNvPicPr/>
          <p:nvPr/>
        </p:nvPicPr>
        <p:blipFill>
          <a:blip r:embed="rId1"/>
          <a:srcRect l="0" t="0" r="0" b="5380"/>
          <a:stretch/>
        </p:blipFill>
        <p:spPr>
          <a:xfrm>
            <a:off x="4800600" y="2057400"/>
            <a:ext cx="3809880" cy="3716280"/>
          </a:xfrm>
          <a:prstGeom prst="rect">
            <a:avLst/>
          </a:prstGeom>
          <a:ln w="0">
            <a:noFill/>
          </a:ln>
        </p:spPr>
      </p:pic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BFC6-EBEB-4040-BE64-2D2693369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Mechanic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2" name="Picture 4" descr="06_16"/>
          <p:cNvPicPr/>
          <p:nvPr/>
        </p:nvPicPr>
        <p:blipFill>
          <a:blip r:embed="rId1"/>
          <a:srcRect l="0" t="0" r="0" b="5380"/>
          <a:stretch/>
        </p:blipFill>
        <p:spPr>
          <a:xfrm>
            <a:off x="4800600" y="2057400"/>
            <a:ext cx="3809880" cy="37162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wave equation is designated with a lower case Greek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si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quare of the wave equation,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gives a probability density map of where an electron has a certain statistical likelihood of being at any given instant in tim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9674-348D-41AA-AA00-B5D15B483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Numbe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lving the wave equation gives a set of wave functions, or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orbital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and their corresponding energi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Each orbital describes a spatial distribution of electron density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n orbital is described by a set of three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quantum number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E4FF-CFA9-4BB0-9A97-86F51B0E9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incipal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principal quantum number,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describes the energy level on which the orbital resid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≥ 1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6FA6-C455-4E5A-B067-5D30B5CBF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gular Momentum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quantum number defines the shape of the orbita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llowed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ranging from 0 to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e use letter designations to communicate the different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nd, therefore, the shapes and types of orbital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413B-DBC8-44A5-9DA2-CA5263F38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gular Momentum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828800" y="2438280"/>
          <a:ext cx="5486400" cy="1143000"/>
        </p:xfrm>
        <a:graphic>
          <a:graphicData uri="http://schemas.openxmlformats.org/drawingml/2006/table">
            <a:tbl>
              <a:tblPr/>
              <a:tblGrid>
                <a:gridCol w="2851200"/>
                <a:gridCol w="644400"/>
                <a:gridCol w="646200"/>
                <a:gridCol w="698400"/>
                <a:gridCol w="6462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of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872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Type of orbital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872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AA7B-16A0-4085-A29A-EC4ABD68D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gnetic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magnetic quantum number describes the three-dimensional orientation of the orbita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llowed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ranging from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-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≤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≤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 on any given energy level, there can be up to 1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, 3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5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7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etc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5347-7E64-4BFF-8573-909ADAF47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gnetic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rbitals with the sam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m a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hel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ifferent orbital types within a shell ar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ubshell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8" name="Picture 8" descr="06_T02"/>
          <p:cNvPicPr/>
          <p:nvPr/>
        </p:nvPicPr>
        <p:blipFill>
          <a:blip r:embed="rId1"/>
          <a:srcRect l="0" t="8891" r="0" b="8107"/>
          <a:stretch/>
        </p:blipFill>
        <p:spPr>
          <a:xfrm>
            <a:off x="1409760" y="3657600"/>
            <a:ext cx="6324480" cy="2209680"/>
          </a:xfrm>
          <a:prstGeom prst="rect">
            <a:avLst/>
          </a:prstGeom>
          <a:ln w="0">
            <a:noFill/>
          </a:ln>
        </p:spPr>
      </p:pic>
      <p:sp>
        <p:nvSpPr>
          <p:cNvPr id="2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50D7-30DD-4F5A-8459-2C2B19C72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ubatomic Particl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rotons and electrons are the only particles that have a charg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rotons and neutrons have essentially the same mas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ass of an electron is so small we ignore i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3" name="Picture 12" descr="02_T01"/>
          <p:cNvPicPr/>
          <p:nvPr/>
        </p:nvPicPr>
        <p:blipFill>
          <a:blip r:embed="rId1"/>
          <a:srcRect l="0" t="19230" r="0" b="11549"/>
          <a:stretch/>
        </p:blipFill>
        <p:spPr>
          <a:xfrm>
            <a:off x="1474920" y="4343400"/>
            <a:ext cx="6192720" cy="1371600"/>
          </a:xfrm>
          <a:prstGeom prst="rect">
            <a:avLst/>
          </a:prstGeom>
          <a:ln w="0">
            <a:noFill/>
          </a:ln>
        </p:spPr>
      </p:pic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F187-23A2-4018-85D2-56723B3F2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is 0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are spherical in shap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radius of the sphere increases with 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3" name="Picture 5" descr="06_19"/>
          <p:cNvPicPr/>
          <p:nvPr/>
        </p:nvPicPr>
        <p:blipFill>
          <a:blip r:embed="rId1"/>
          <a:srcRect l="0" t="0" r="0" b="3700"/>
          <a:stretch/>
        </p:blipFill>
        <p:spPr>
          <a:xfrm>
            <a:off x="609480" y="1828800"/>
            <a:ext cx="241488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EB92-BB75-43A1-A774-8405B1574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s 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bserving a graph of probabilities of finding an electron versus distance from the nucleus, we see that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posses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−1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node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or regions where there is 0 probability of finding an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8" name="Picture 6" descr="06_18"/>
          <p:cNvPicPr/>
          <p:nvPr/>
        </p:nvPicPr>
        <p:blipFill>
          <a:blip r:embed="rId1"/>
          <a:srcRect l="0" t="0" r="0" b="13131"/>
          <a:stretch/>
        </p:blipFill>
        <p:spPr>
          <a:xfrm>
            <a:off x="228600" y="1752480"/>
            <a:ext cx="4343400" cy="1670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06_21"/>
          <p:cNvPicPr/>
          <p:nvPr/>
        </p:nvPicPr>
        <p:blipFill>
          <a:blip r:embed="rId2"/>
          <a:srcRect l="0" t="0" r="0" b="7893"/>
          <a:stretch/>
        </p:blipFill>
        <p:spPr>
          <a:xfrm>
            <a:off x="0" y="3962520"/>
            <a:ext cx="4317840" cy="2503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0"/>
          <p:cNvSpPr/>
          <p:nvPr/>
        </p:nvSpPr>
        <p:spPr>
          <a:xfrm>
            <a:off x="1447920" y="6400800"/>
            <a:ext cx="2514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D6A0-8E30-41A7-8DBE-496C2E4AD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is 1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have two lobes with a node between the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5" name="Picture 7" descr="06_22"/>
          <p:cNvPicPr/>
          <p:nvPr/>
        </p:nvPicPr>
        <p:blipFill>
          <a:blip r:embed="rId1"/>
          <a:srcRect l="0" t="0" r="0" b="19228"/>
          <a:stretch/>
        </p:blipFill>
        <p:spPr>
          <a:xfrm>
            <a:off x="1201680" y="4114800"/>
            <a:ext cx="6735960" cy="211788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7CEF-CCFF-480B-A5A6-6A9E261D6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486040" y="1752120"/>
            <a:ext cx="3505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a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 is 2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ur of the fiv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have 4 lobes; the other resembles a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 with a doughnut around the cen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0" name="Picture 5" descr="06_23"/>
          <p:cNvPicPr/>
          <p:nvPr/>
        </p:nvPicPr>
        <p:blipFill>
          <a:blip r:embed="rId1"/>
          <a:srcRect l="0" t="0" r="0" b="3562"/>
          <a:stretch/>
        </p:blipFill>
        <p:spPr>
          <a:xfrm>
            <a:off x="457200" y="1981080"/>
            <a:ext cx="4952880" cy="3565800"/>
          </a:xfrm>
          <a:prstGeom prst="rect">
            <a:avLst/>
          </a:prstGeom>
          <a:ln w="0">
            <a:noFill/>
          </a:ln>
        </p:spPr>
      </p:pic>
      <p:sp>
        <p:nvSpPr>
          <p:cNvPr id="2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3F59-5DA1-4DBD-A874-C1C0313CC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ies of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a one-electron hydrogen atom, orbitals on the same energy level have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at is, they ar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5" name="Picture 5" descr="06_17"/>
          <p:cNvPicPr/>
          <p:nvPr/>
        </p:nvPicPr>
        <p:blipFill>
          <a:blip r:embed="rId1"/>
          <a:srcRect l="0" t="0" r="0" b="3701"/>
          <a:stretch/>
        </p:blipFill>
        <p:spPr>
          <a:xfrm>
            <a:off x="4981680" y="1981080"/>
            <a:ext cx="3141720" cy="3962520"/>
          </a:xfrm>
          <a:prstGeom prst="rect">
            <a:avLst/>
          </a:prstGeom>
          <a:ln w="0">
            <a:noFill/>
          </a:ln>
        </p:spPr>
      </p:pic>
      <p:sp>
        <p:nvSpPr>
          <p:cNvPr id="2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C2CE-7DB8-492D-B1CE-67B7424F2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ies of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the number of electrons increases, though, so does the repulsion between the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in many-electron atoms, orbitals on the same energy level are no longer degenerat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0" name="Picture 5" descr="06_24"/>
          <p:cNvPicPr/>
          <p:nvPr/>
        </p:nvPicPr>
        <p:blipFill>
          <a:blip r:embed="rId1"/>
          <a:srcRect l="0" t="0" r="0" b="3702"/>
          <a:stretch/>
        </p:blipFill>
        <p:spPr>
          <a:xfrm>
            <a:off x="380880" y="1676520"/>
            <a:ext cx="3813120" cy="449568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EC11-FC73-41AD-A57C-11930378F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pin Quantum Number,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he 1920s, it was discovered that two electrons in the same orbital do not have exactly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“spin” of an electron describes its magnetic field, which affects its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5" name="Picture 8" descr="06_27"/>
          <p:cNvPicPr/>
          <p:nvPr/>
        </p:nvPicPr>
        <p:blipFill>
          <a:blip r:embed="rId1"/>
          <a:srcRect l="0" t="0" r="0" b="6621"/>
          <a:stretch/>
        </p:blipFill>
        <p:spPr>
          <a:xfrm>
            <a:off x="4648320" y="2484360"/>
            <a:ext cx="4267080" cy="262116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1DD9-2AC3-417C-87A0-14373EEE4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pin Quantum Number,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led to a fourth quantum number, the spin quantum number,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pin quantum number has only 2 allowed values:  +1/2 and −1/2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0" name="Picture 4" descr="06_25"/>
          <p:cNvPicPr/>
          <p:nvPr/>
        </p:nvPicPr>
        <p:blipFill>
          <a:blip r:embed="rId1"/>
          <a:srcRect l="0" t="0" r="0" b="3716"/>
          <a:stretch/>
        </p:blipFill>
        <p:spPr>
          <a:xfrm>
            <a:off x="4648320" y="2308320"/>
            <a:ext cx="3809880" cy="333036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52F1-022B-43C5-AAA4-64080680A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auli Exclusion Princi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o two electrons in the same atom can have exactly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no two electrons in the same atom can have identical sets of quantum numbe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5" name="Picture 4" descr="06_25"/>
          <p:cNvPicPr/>
          <p:nvPr/>
        </p:nvPicPr>
        <p:blipFill>
          <a:blip r:embed="rId1"/>
          <a:srcRect l="0" t="0" r="0" b="3716"/>
          <a:stretch/>
        </p:blipFill>
        <p:spPr>
          <a:xfrm>
            <a:off x="4648320" y="2308320"/>
            <a:ext cx="3809880" cy="3330360"/>
          </a:xfrm>
          <a:prstGeom prst="rect">
            <a:avLst/>
          </a:prstGeom>
          <a:ln w="0">
            <a:noFill/>
          </a:ln>
        </p:spPr>
      </p:pic>
      <p:sp>
        <p:nvSpPr>
          <p:cNvPr id="2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B5E2-7920-49AB-8AE0-26320F95F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70" name="Picture 7" descr="COEFF"/>
          <p:cNvPicPr/>
          <p:nvPr/>
        </p:nvPicPr>
        <p:blipFill>
          <a:blip r:embed="rId1"/>
          <a:srcRect l="14000" t="28000" r="64008" b="54000"/>
          <a:stretch/>
        </p:blipFill>
        <p:spPr>
          <a:xfrm>
            <a:off x="1219320" y="3200400"/>
            <a:ext cx="1114200" cy="911160"/>
          </a:xfrm>
          <a:prstGeom prst="rect">
            <a:avLst/>
          </a:prstGeom>
          <a:ln w="0">
            <a:noFill/>
          </a:ln>
        </p:spPr>
      </p:pic>
      <p:sp>
        <p:nvSpPr>
          <p:cNvPr id="2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5F17-8CF4-4C03-B2F1-45E5BF62B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ymbols of Eleme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lements are symbolized by one or two lette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8" name="Picture 20" descr="02_12-01unsymbol"/>
          <p:cNvPicPr/>
          <p:nvPr/>
        </p:nvPicPr>
        <p:blipFill>
          <a:blip r:embed="rId1"/>
          <a:stretch/>
        </p:blipFill>
        <p:spPr>
          <a:xfrm>
            <a:off x="1309680" y="1981080"/>
            <a:ext cx="6524640" cy="1981440"/>
          </a:xfrm>
          <a:prstGeom prst="rect">
            <a:avLst/>
          </a:prstGeom>
          <a:ln w="0">
            <a:noFill/>
          </a:ln>
        </p:spPr>
      </p:pic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9D63-1357-4716-965D-4C7D3F9DE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letter denoting the type of orbita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75" name="Picture 5" descr="ORBITAL"/>
          <p:cNvPicPr/>
          <p:nvPr/>
        </p:nvPicPr>
        <p:blipFill>
          <a:blip r:embed="rId1"/>
          <a:srcRect l="14000" t="28000" r="64008" b="54000"/>
          <a:stretch/>
        </p:blipFill>
        <p:spPr>
          <a:xfrm>
            <a:off x="1219320" y="3200400"/>
            <a:ext cx="1114200" cy="911160"/>
          </a:xfrm>
          <a:prstGeom prst="rect">
            <a:avLst/>
          </a:prstGeom>
          <a:ln w="0">
            <a:noFill/>
          </a:ln>
        </p:spPr>
      </p:pic>
      <p:sp>
        <p:nvSpPr>
          <p:cNvPr id="2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3BA0-FAB5-4940-A803-A1BCE8A7F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letter denoting the type of orbita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superscript denoting the number of electrons in those orbitals.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80" name="Picture 5" descr="superscript"/>
          <p:cNvPicPr/>
          <p:nvPr/>
        </p:nvPicPr>
        <p:blipFill>
          <a:blip r:embed="rId1"/>
          <a:srcRect l="14000" t="28000" r="63008" b="54000"/>
          <a:stretch/>
        </p:blipFill>
        <p:spPr>
          <a:xfrm>
            <a:off x="1219320" y="3200400"/>
            <a:ext cx="1160280" cy="90792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2977-7662-45C1-986E-5CAE23450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rbital Diagram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ach box in the diagram represents one orbital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alf-arrows represent the elec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direction of the arrow represents the relative spin of the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85" name="Picture 5" descr="06_28-01UN"/>
          <p:cNvPicPr/>
          <p:nvPr/>
        </p:nvPicPr>
        <p:blipFill>
          <a:blip r:embed="rId1"/>
          <a:srcRect l="0" t="0" r="0" b="6447"/>
          <a:stretch/>
        </p:blipFill>
        <p:spPr>
          <a:xfrm>
            <a:off x="5029200" y="2438280"/>
            <a:ext cx="2895480" cy="1368720"/>
          </a:xfrm>
          <a:prstGeom prst="rect">
            <a:avLst/>
          </a:prstGeom>
          <a:ln w="0">
            <a:noFill/>
          </a:ln>
        </p:spPr>
      </p:pic>
      <p:sp>
        <p:nvSpPr>
          <p:cNvPr id="2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5F15-5B1F-42F7-A046-E25C8A437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Hund’s Ru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degenerate orbitals, the lowest energy is attained when the number of electrons with the same spin is maximized.”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90" name="Picture 5" descr="06_28-05UN"/>
          <p:cNvPicPr/>
          <p:nvPr/>
        </p:nvPicPr>
        <p:blipFill>
          <a:blip r:embed="rId1"/>
          <a:srcRect l="0" t="0" r="0" b="11102"/>
          <a:stretch/>
        </p:blipFill>
        <p:spPr>
          <a:xfrm>
            <a:off x="685800" y="3351240"/>
            <a:ext cx="3809880" cy="122076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B5B5-4560-434F-A042-C5AF71180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fill orbitals in increasing order of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ifferent blocks on the periodic table (shaded in different colors in this chart) correspond to different types of orbital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95" name="Picture 5" descr="06_29"/>
          <p:cNvPicPr/>
          <p:nvPr/>
        </p:nvPicPr>
        <p:blipFill>
          <a:blip r:embed="rId1"/>
          <a:srcRect l="0" t="0" r="0" b="3739"/>
          <a:stretch/>
        </p:blipFill>
        <p:spPr>
          <a:xfrm>
            <a:off x="4648320" y="2638440"/>
            <a:ext cx="3809880" cy="2695680"/>
          </a:xfrm>
          <a:prstGeom prst="rect">
            <a:avLst/>
          </a:prstGeom>
          <a:ln w="0">
            <a:noFill/>
          </a:ln>
        </p:spPr>
      </p:pic>
      <p:sp>
        <p:nvSpPr>
          <p:cNvPr id="2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59E2-5D78-49A2-BA6E-4C5A5D520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ome irregularities occur when there are enough electrons to half-fill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on a given row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00" name="Picture 10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  <p:sp>
        <p:nvSpPr>
          <p:cNvPr id="3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C443-D2FB-4A01-ABD7-118C52E81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instance, the electron configuration for copper i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Ar]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her than the expected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Ar]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05" name="Picture 4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  <p:sp>
        <p:nvSpPr>
          <p:cNvPr id="3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C65A-B22E-45F6-9209-AFE5B2BF2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occurs because the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are very close in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se anomalies occur in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-block atoms, as well.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10" name="Picture 4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  <p:sp>
        <p:nvSpPr>
          <p:cNvPr id="3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4F6A-CAD1-4CDB-A123-E491189BF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tomic Numb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ll atoms of the same element have the same number of protons: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atomic number (Z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3" name="Picture 11" descr="02_12-01unatomic"/>
          <p:cNvPicPr/>
          <p:nvPr/>
        </p:nvPicPr>
        <p:blipFill>
          <a:blip r:embed="rId1"/>
          <a:stretch/>
        </p:blipFill>
        <p:spPr>
          <a:xfrm>
            <a:off x="1309680" y="1981080"/>
            <a:ext cx="6524640" cy="1981440"/>
          </a:xfrm>
          <a:prstGeom prst="rect">
            <a:avLst/>
          </a:prstGeom>
          <a:ln w="0">
            <a:noFill/>
          </a:ln>
        </p:spPr>
      </p:pic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D1A6-7D61-4B54-930B-4BD0CFD84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tomic Ma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ass of an atom in atomic mass units (amu) is the total number of protons and neutrons in the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8" name="Picture 12" descr="02_12-01unmass"/>
          <p:cNvPicPr/>
          <p:nvPr/>
        </p:nvPicPr>
        <p:blipFill>
          <a:blip r:embed="rId1"/>
          <a:stretch/>
        </p:blipFill>
        <p:spPr>
          <a:xfrm>
            <a:off x="1309680" y="1981080"/>
            <a:ext cx="6524640" cy="198144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0B8E-D527-4AB6-A27F-AB2217D93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Isotop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16761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sotopes are atoms of the same element with different mas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sotopes have different numbers of neu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83" name="Group 19"/>
          <p:cNvGrpSpPr/>
          <p:nvPr/>
        </p:nvGrpSpPr>
        <p:grpSpPr>
          <a:xfrm>
            <a:off x="772200" y="3429000"/>
            <a:ext cx="1298880" cy="1312920"/>
            <a:chOff x="772200" y="3429000"/>
            <a:chExt cx="1298880" cy="1312920"/>
          </a:xfrm>
        </p:grpSpPr>
        <p:sp>
          <p:nvSpPr>
            <p:cNvPr id="84" name="Rectangle 17"/>
            <p:cNvSpPr/>
            <p:nvPr/>
          </p:nvSpPr>
          <p:spPr>
            <a:xfrm>
              <a:off x="77220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1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85" name="Rectangle 18"/>
            <p:cNvSpPr/>
            <p:nvPr/>
          </p:nvSpPr>
          <p:spPr>
            <a:xfrm>
              <a:off x="134028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grpSp>
        <p:nvGrpSpPr>
          <p:cNvPr id="86" name="Group 20"/>
          <p:cNvGrpSpPr/>
          <p:nvPr/>
        </p:nvGrpSpPr>
        <p:grpSpPr>
          <a:xfrm>
            <a:off x="2651760" y="3429000"/>
            <a:ext cx="1298880" cy="1312920"/>
            <a:chOff x="2651760" y="3429000"/>
            <a:chExt cx="1298880" cy="1312920"/>
          </a:xfrm>
        </p:grpSpPr>
        <p:sp>
          <p:nvSpPr>
            <p:cNvPr id="87" name="Rectangle 21"/>
            <p:cNvSpPr/>
            <p:nvPr/>
          </p:nvSpPr>
          <p:spPr>
            <a:xfrm>
              <a:off x="265176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2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321984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grpSp>
        <p:nvGrpSpPr>
          <p:cNvPr id="89" name="Group 23"/>
          <p:cNvGrpSpPr/>
          <p:nvPr/>
        </p:nvGrpSpPr>
        <p:grpSpPr>
          <a:xfrm>
            <a:off x="4531320" y="3429000"/>
            <a:ext cx="1298880" cy="1312920"/>
            <a:chOff x="4531320" y="3429000"/>
            <a:chExt cx="1298880" cy="1312920"/>
          </a:xfrm>
        </p:grpSpPr>
        <p:sp>
          <p:nvSpPr>
            <p:cNvPr id="90" name="Rectangle 24"/>
            <p:cNvSpPr/>
            <p:nvPr/>
          </p:nvSpPr>
          <p:spPr>
            <a:xfrm>
              <a:off x="453132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3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509940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grpSp>
        <p:nvGrpSpPr>
          <p:cNvPr id="92" name="Group 26"/>
          <p:cNvGrpSpPr/>
          <p:nvPr/>
        </p:nvGrpSpPr>
        <p:grpSpPr>
          <a:xfrm>
            <a:off x="6410880" y="3429000"/>
            <a:ext cx="1298880" cy="1312920"/>
            <a:chOff x="6410880" y="3429000"/>
            <a:chExt cx="1298880" cy="1312920"/>
          </a:xfrm>
        </p:grpSpPr>
        <p:sp>
          <p:nvSpPr>
            <p:cNvPr id="93" name="Rectangle 27"/>
            <p:cNvSpPr/>
            <p:nvPr/>
          </p:nvSpPr>
          <p:spPr>
            <a:xfrm>
              <a:off x="641088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4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94" name="Rectangle 28"/>
            <p:cNvSpPr/>
            <p:nvPr/>
          </p:nvSpPr>
          <p:spPr>
            <a:xfrm>
              <a:off x="697896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sp>
        <p:nvSpPr>
          <p:cNvPr id="95" name="Slide Number Placeholder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959E-8DB2-4AF9-A9F4-DC2EE72BE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av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3885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o understand the electronic structure of atoms, one must understand the nature of electromagnetic radia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distance between corresponding points on adjacent waves is th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avelength (</a:t>
            </a:r>
            <a:r>
              <a:rPr b="0" i="1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9" name="Picture 5" descr="06_03a-c"/>
          <p:cNvPicPr/>
          <p:nvPr/>
        </p:nvPicPr>
        <p:blipFill>
          <a:blip r:embed="rId1"/>
          <a:srcRect l="0" t="0" r="73553" b="38460"/>
          <a:stretch/>
        </p:blipFill>
        <p:spPr>
          <a:xfrm>
            <a:off x="2933640" y="1752480"/>
            <a:ext cx="3276720" cy="194328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1C3E-D8E2-48D2-9BB4-E8DB4EF3B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av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number of waves passing a given point per unit of time is th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72e9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waves traveling at the same velocity, the longer the wavelength, the smaller the frequenc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4" name="Picture 5" descr="06_04-01UNE6-1"/>
          <p:cNvPicPr/>
          <p:nvPr/>
        </p:nvPicPr>
        <p:blipFill>
          <a:blip r:embed="rId1"/>
          <a:srcRect l="0" t="0" r="0" b="5369"/>
          <a:stretch/>
        </p:blipFill>
        <p:spPr>
          <a:xfrm>
            <a:off x="380880" y="2928960"/>
            <a:ext cx="3810240" cy="210024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4F12-EC23-4DC2-8145-DBCE2B809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21:01:38Z</dcterms:created>
  <dc:creator>John Bookstaver</dc:creator>
  <dc:description/>
  <dc:language>en-US</dc:language>
  <cp:lastModifiedBy>hessah</cp:lastModifiedBy>
  <dcterms:modified xsi:type="dcterms:W3CDTF">2016-09-26T18:54:07Z</dcterms:modified>
  <cp:revision>91</cp:revision>
  <dc:subject/>
  <dc:title>Chapter 6 Electronic Structure of Atoms</dc:title>
</cp:coreProperties>
</file>