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6239-7C66-441A-813F-2B602435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E707-0D86-420E-A3FC-5A94105B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44C-4E9D-4F43-A560-4FEC63CC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AD5-BAFE-4359-8FDB-2A8F4D8A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5D7-0F77-43B6-AA2E-17F316AB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19F8-6C8F-4407-9725-1240F10F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6F2D-0ABB-4182-ACD3-2DC16D6B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7B6-A588-4563-8936-4AF968DB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DE3-308C-4D6D-9FD2-239443EE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8708-04A8-41AA-AC2D-DA7DAB1A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F48-1FE6-4630-951C-A4892A59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910-32A5-4C13-9F66-CC805B38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D11-A374-4803-A047-7F06BC37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6D3B-5EEC-4AA0-B456-6670C7BC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6DF-7BF8-466C-A717-F89C8E80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D14-C479-4A88-8C0F-89D54CA2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04B8-93F8-48B6-9ECF-31F4EB48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F648-20A6-448C-B8B3-25E37C90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D742-ADFC-40ED-A18F-8E18D25D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3B81-C5C3-456F-80F9-DD1E98E20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DD1D-2A07-4616-B3D5-4DAEBD6E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500-A8EA-45D6-9A3F-2C4345084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3DE-7FAB-4F4E-9666-C8E64822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AB8-55E5-4C8C-88C6-39086C8E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42CD-171A-404B-A9D4-DB9B5441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DA9F-0F94-40CC-8E19-D135E68B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748C-B7FF-43F5-B3CB-D536160C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8BC8-BB41-45E8-A206-CA699BF8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875C-977A-46AE-ABBC-8589F561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EB3-DC8F-4360-AC59-B956E3EF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2F77-EEC5-4CC9-97F6-E01E7247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B6D-836F-42EF-8A2C-22AF79883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B022-36DA-4A1E-A411-E230CDDD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7E4-7372-45A0-8ABE-BAB09A903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844-C896-4E06-941B-DF93576E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AC9-99D9-4AED-AE37-C10A713B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0A79-3D23-4C7D-9852-E87B380C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1CF-C418-4A47-9246-8831C906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2B3-DC99-4438-9264-BCECFAE8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D81-51C5-4781-A77A-8854E008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4BD-34FC-4BAC-BDF4-E0A961C3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3DA-3565-4E21-BD29-C7117A5F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476-5E14-484A-B079-13C2AA6A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0D6F-0A70-472F-A857-B67A29D9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44C-7BB6-4CA1-AAF6-568149D8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3C24-FC4C-4433-9AB4-AD9C1F5A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834A-3BB9-4EFA-A508-F3587AE0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979-485F-4027-9E5B-BD8534FF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EB4A-A02A-4325-94A3-098C845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8ACA-12ED-4172-97D7-690E3CF8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C26B-7F47-49FC-90E8-16F3458E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BEB1-66D9-4941-8E60-107041F8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E288-7F48-492D-9E43-9F8B436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AA1A-DF43-46B8-9049-A19F7D7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F587-A026-4EE7-ABDD-AC5D0EC9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7AA0-E8E3-4469-8C61-65B9389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4B80-B9FC-47F8-BF10-ABC1A3A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81E9-50D8-4761-B101-FB60CA4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A461-EEF3-443D-A55B-5672D1F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B757-EA8E-42E4-930F-43DEE8D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FAF2-94D8-4A09-96D2-AAB4050C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4EA-20C1-49D4-8051-BFEEBFD6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9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29AA-4460-4FB4-9198-382AEE9C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434-455B-4E35-8BCB-3FC905B7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08A-738A-432A-915A-0395614E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DD9C-975F-4556-A2A0-ACC37ABF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99D-5AB3-4B70-8C66-933E6E575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4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3CB-83F4-4E55-86A5-615C2D97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0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766-C7AF-4C46-BC29-3C8BC9F62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5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990-6C75-4C63-8732-B42DB8F5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0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8C1-013B-447E-9134-F3E5C513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5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57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62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64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65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6F9A-77D9-4FA1-8ACA-E498FF7C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A835-77DD-442B-B989-DAAA82CE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71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73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74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353-DCF0-4A9A-B655-67E22440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8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8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8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8EA-C797-4A08-8A99-91130044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8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5CA-5395-4503-8034-FB233C2AD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2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1CF-5E68-4B99-AB5C-71FA20CC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83D7-B2D0-4256-89DB-A4102A581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379-5D05-4720-82AB-52F3BCB8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482-0269-4007-932B-FE283FEA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FFEA-4AC8-4109-A155-D519E309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A46-7EF6-4E0C-B9C4-4CE6FD3E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931-36F5-4DAB-8127-24FC38C6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3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39B7-FAC3-4E14-B9E3-234E1DD5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3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A44-279B-419A-9D2F-8D0AEB49F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E8C-4486-418E-B35A-0683CE73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5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C4B-0B4B-487D-B17D-526349B9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E2C-C357-40DA-B32F-9280CA3C1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5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9247-776F-4CB5-B5DB-E7E0AA33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0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81C-928C-415E-8600-A3BA231E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5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EE40-A52E-4A9C-B323-79DD60C7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867-D1BE-4B8A-BF31-F35D8895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DE3-BC89-43C7-9228-69BBAD6C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0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161C-3349-4E94-9ADC-B73F0EE10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483-4496-4542-A86E-3602B3A0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5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50F-0616-49B6-AB40-A45F8E2EC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187-1B70-4D8C-9134-FE64E02E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5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404-6021-41C3-8B84-7638296F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0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91E-C6CF-4D95-9EF7-56963D21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5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243A-AF02-4C35-873F-C8136508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0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3F1A-3FBF-4789-B123-F3D792AF6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5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0CE2-4AC2-4380-A4F2-5D05F293E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F5D-080A-41D3-83E1-B90582F3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9D1E-AC76-4664-B4CB-2693E2F1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918-FCFB-48F1-8B7A-B87F4116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84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7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90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93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95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C95-44EE-4267-9FF1-1840154B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8337-3BBC-4D5E-B120-E83CFED4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1FA-9731-49AD-B5CE-955F4E95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hessah</cp:lastModifiedBy>
  <dcterms:modified xsi:type="dcterms:W3CDTF">2016-09-26T18:54:07Z</dcterms:modified>
  <cp:revision>91</cp:revision>
  <dc:subject/>
  <dc:title>Chapter 6 Electronic Structure of Atoms</dc:title>
</cp:coreProperties>
</file>