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Click to move the slide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94B1E9-A416-4A49-985B-4EF96DE059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BF5C94-1A63-42EC-9E0C-D531371334E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927A94-161D-4127-A56A-1E88301557B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0F3BDC-EB1C-4EEE-935B-0C530E92735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5E41BC-2FBB-4372-9828-F32091E03C9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843EC8-4A2B-48DB-8AF9-564EA0DC56C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8E5C18-AB5A-4DDC-B4EA-D4C387A41E7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C9D3E4-52E8-4F79-8EE9-F79C5449F09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9406F2-E2A0-4340-B457-ADA3D8C051B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46C89C-5EC6-41AE-B6DE-F8201DD9FE0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754CE5-BF78-452E-B737-07FD3488FF4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C9F9BF-0F3A-41F6-AC19-C7A3019B175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F679D4-889A-490C-82C2-9B82BB3C1A2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8497F8-050D-42DA-8E1F-913E6BD27FD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227809-1C07-4BC0-AB62-17705DA7407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97CAD6-57D1-4BBA-B8F2-80AB7A3BD3F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91EDDB-45FC-42DE-A1CD-66187F4B380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13CB52-76CC-4AF4-AA1C-3E904505259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A48B69-BA11-401D-A481-D2F669E4258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E2A39C-A303-4C0E-A2E5-15623464A39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257480" y="68580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8F4E69-0318-451B-951A-1C55A177953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24CFC6-637E-4C95-95D2-86E75EB0CC8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A800-30A1-41D5-BC19-445AEB1BF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160" y="1266840"/>
            <a:ext cx="838188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3160" y="3829320"/>
            <a:ext cx="838188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AA10-0BCF-48F3-9FA1-BA05B8A81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1266840"/>
            <a:ext cx="40903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28320" y="1266840"/>
            <a:ext cx="40903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160" y="3829320"/>
            <a:ext cx="40903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828320" y="3829320"/>
            <a:ext cx="40903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BCE8-85A5-4D76-9D9F-0BB288761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1266840"/>
            <a:ext cx="26985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67080" y="1266840"/>
            <a:ext cx="26985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201000" y="1266840"/>
            <a:ext cx="26985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533160" y="3829320"/>
            <a:ext cx="26985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67080" y="3829320"/>
            <a:ext cx="26985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201000" y="3829320"/>
            <a:ext cx="26985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E21B-AA3E-4307-B065-EC842DC83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F2969-AECD-4A0E-A95F-9A1FDF9E6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533160" y="1266840"/>
            <a:ext cx="838188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8C68B-1512-4AD6-B954-2F517A4EC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1266840"/>
            <a:ext cx="838188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87669-52D1-4316-80DB-205CC656D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1266840"/>
            <a:ext cx="40903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8320" y="1266840"/>
            <a:ext cx="40903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DAF29-746A-417A-8567-E1181E4C8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7B06C-2D17-4C30-9D3A-8A48F1A94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533520" y="151920"/>
            <a:ext cx="8610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9575F-9F8E-4DC6-A6F9-7C785BED3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160" y="1266840"/>
            <a:ext cx="40903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28320" y="1266840"/>
            <a:ext cx="40903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33160" y="3829320"/>
            <a:ext cx="40903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0F267-C96D-495E-93AC-C4D7E40B7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533160" y="1266840"/>
            <a:ext cx="838188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29F3-62C3-45DF-9AA2-3F11F07F0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160" y="1266840"/>
            <a:ext cx="40903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28320" y="1266840"/>
            <a:ext cx="40903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828320" y="3829320"/>
            <a:ext cx="40903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582A3-2810-4884-A1E9-02E64CCA0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160" y="1266840"/>
            <a:ext cx="40903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28320" y="1266840"/>
            <a:ext cx="40903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33160" y="3829320"/>
            <a:ext cx="838188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4C522-C464-403F-B4DD-46FF456AA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160" y="1266840"/>
            <a:ext cx="838188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33160" y="3829320"/>
            <a:ext cx="838188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3C588-38A5-42E1-832B-FBFD50473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160" y="1266840"/>
            <a:ext cx="40903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28320" y="1266840"/>
            <a:ext cx="40903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33160" y="3829320"/>
            <a:ext cx="40903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828320" y="3829320"/>
            <a:ext cx="40903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AB1D3-A2E4-4EEB-BE01-D9A974F69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160" y="1266840"/>
            <a:ext cx="26985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367080" y="1266840"/>
            <a:ext cx="26985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01000" y="1266840"/>
            <a:ext cx="26985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533160" y="3829320"/>
            <a:ext cx="26985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367080" y="3829320"/>
            <a:ext cx="26985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201000" y="3829320"/>
            <a:ext cx="26985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9202B-AC9C-4055-AF92-B87CEA935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1266840"/>
            <a:ext cx="838188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68E7-4E32-4F88-8729-8EE8B5BB0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1266840"/>
            <a:ext cx="40903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28320" y="1266840"/>
            <a:ext cx="40903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B509-1C53-454A-95A3-A703027A7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026A-38A8-4160-ABB5-E5948B873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533520" y="151920"/>
            <a:ext cx="8610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92E4-5EC0-4362-BB4D-C8C7C6EE5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160" y="1266840"/>
            <a:ext cx="40903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28320" y="1266840"/>
            <a:ext cx="40903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160" y="3829320"/>
            <a:ext cx="40903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FC46-388E-4DB3-90FC-938F4ADD7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160" y="1266840"/>
            <a:ext cx="40903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28320" y="1266840"/>
            <a:ext cx="40903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828320" y="3829320"/>
            <a:ext cx="40903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38B0-71B2-41DB-85CE-EE60033FC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160" y="1266840"/>
            <a:ext cx="40903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828320" y="1266840"/>
            <a:ext cx="40903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33160" y="3829320"/>
            <a:ext cx="838188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1E37-660A-4321-A72A-C6E431864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"/>
          <p:cNvGrpSpPr/>
          <p:nvPr/>
        </p:nvGrpSpPr>
        <p:grpSpPr>
          <a:xfrm>
            <a:off x="8329680" y="733320"/>
            <a:ext cx="720720" cy="532080"/>
            <a:chOff x="8329680" y="733320"/>
            <a:chExt cx="720720" cy="532080"/>
          </a:xfrm>
        </p:grpSpPr>
        <p:sp>
          <p:nvSpPr>
            <p:cNvPr id="1" name="AutoShape 4"/>
            <p:cNvSpPr/>
            <p:nvPr/>
          </p:nvSpPr>
          <p:spPr>
            <a:xfrm flipH="1" rot="10800000">
              <a:off x="8832960" y="733320"/>
              <a:ext cx="21744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utoShape 5"/>
            <p:cNvSpPr/>
            <p:nvPr/>
          </p:nvSpPr>
          <p:spPr>
            <a:xfrm flipH="1" rot="10800000">
              <a:off x="8582400" y="733320"/>
              <a:ext cx="21924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AutoShape 6"/>
            <p:cNvSpPr/>
            <p:nvPr/>
          </p:nvSpPr>
          <p:spPr>
            <a:xfrm flipH="1" rot="10800000">
              <a:off x="8329680" y="733320"/>
              <a:ext cx="21888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" name="Group 7"/>
          <p:cNvGrpSpPr/>
          <p:nvPr/>
        </p:nvGrpSpPr>
        <p:grpSpPr>
          <a:xfrm>
            <a:off x="77400" y="6040440"/>
            <a:ext cx="531720" cy="726840"/>
            <a:chOff x="77400" y="6040440"/>
            <a:chExt cx="531720" cy="726840"/>
          </a:xfrm>
        </p:grpSpPr>
        <p:sp>
          <p:nvSpPr>
            <p:cNvPr id="5" name="AutoShape 8"/>
            <p:cNvSpPr/>
            <p:nvPr/>
          </p:nvSpPr>
          <p:spPr>
            <a:xfrm flipH="1" rot="5400000">
              <a:off x="234000" y="5883120"/>
              <a:ext cx="21744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AutoShape 9"/>
            <p:cNvSpPr/>
            <p:nvPr/>
          </p:nvSpPr>
          <p:spPr>
            <a:xfrm flipH="1" rot="5400000">
              <a:off x="233280" y="6142680"/>
              <a:ext cx="21888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AutoShape 10"/>
            <p:cNvSpPr/>
            <p:nvPr/>
          </p:nvSpPr>
          <p:spPr>
            <a:xfrm flipH="1" rot="5400000">
              <a:off x="233280" y="6391800"/>
              <a:ext cx="21924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body"/>
          </p:nvPr>
        </p:nvSpPr>
        <p:spPr>
          <a:xfrm>
            <a:off x="533160" y="1266840"/>
            <a:ext cx="838188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ftr" idx="2"/>
          </p:nvPr>
        </p:nvSpPr>
        <p:spPr>
          <a:xfrm>
            <a:off x="1219320" y="6400440"/>
            <a:ext cx="6400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A. Levitin “Introduction to the Design &amp; Analysis of Algorithms,” 3rd ed., Ch. 7 ©2012 Pearson Education, Inc. Upper Saddle River, NJ. All Rights Reserve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sldNum" idx="3"/>
          </p:nvPr>
        </p:nvSpPr>
        <p:spPr>
          <a:xfrm>
            <a:off x="7092720" y="655272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43E48-CF54-4E32-B932-504B89375D05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Rectangle 15"/>
          <p:cNvSpPr/>
          <p:nvPr/>
        </p:nvSpPr>
        <p:spPr>
          <a:xfrm>
            <a:off x="227160" y="0"/>
            <a:ext cx="22860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AutoShape 16"/>
          <p:cNvSpPr/>
          <p:nvPr/>
        </p:nvSpPr>
        <p:spPr>
          <a:xfrm flipH="1">
            <a:off x="304200" y="914400"/>
            <a:ext cx="8839080" cy="228600"/>
          </a:xfrm>
          <a:custGeom>
            <a:avLst/>
            <a:gdLst>
              <a:gd name="textAreaLeft" fmla="*/ -360 w 8839080"/>
              <a:gd name="textAreaRight" fmla="*/ 8839080 w 88390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1" y="0"/>
                </a:lnTo>
                <a:lnTo>
                  <a:pt x="21600" y="10800"/>
                </a:lnTo>
                <a:lnTo>
                  <a:pt x="2122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Rectangle 17"/>
          <p:cNvSpPr/>
          <p:nvPr/>
        </p:nvSpPr>
        <p:spPr>
          <a:xfrm>
            <a:off x="1981080" y="2179800"/>
            <a:ext cx="19080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" name="Group 18"/>
          <p:cNvGrpSpPr/>
          <p:nvPr/>
        </p:nvGrpSpPr>
        <p:grpSpPr>
          <a:xfrm>
            <a:off x="77760" y="5903640"/>
            <a:ext cx="533520" cy="749160"/>
            <a:chOff x="77760" y="5903640"/>
            <a:chExt cx="533520" cy="749160"/>
          </a:xfrm>
        </p:grpSpPr>
        <p:sp>
          <p:nvSpPr>
            <p:cNvPr id="16" name="AutoShape 19"/>
            <p:cNvSpPr/>
            <p:nvPr/>
          </p:nvSpPr>
          <p:spPr>
            <a:xfrm rot="16200000">
              <a:off x="226080" y="5756400"/>
              <a:ext cx="23796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AutoShape 20"/>
            <p:cNvSpPr/>
            <p:nvPr/>
          </p:nvSpPr>
          <p:spPr>
            <a:xfrm rot="16200000">
              <a:off x="223560" y="6010200"/>
              <a:ext cx="23976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AutoShape 21"/>
            <p:cNvSpPr/>
            <p:nvPr/>
          </p:nvSpPr>
          <p:spPr>
            <a:xfrm rot="16200000">
              <a:off x="225360" y="6266880"/>
              <a:ext cx="237960" cy="5335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5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grpSp>
        <p:nvGrpSpPr>
          <p:cNvPr id="20" name="Group 23"/>
          <p:cNvGrpSpPr/>
          <p:nvPr/>
        </p:nvGrpSpPr>
        <p:grpSpPr>
          <a:xfrm>
            <a:off x="8190000" y="731880"/>
            <a:ext cx="739800" cy="533520"/>
            <a:chOff x="8190000" y="731880"/>
            <a:chExt cx="739800" cy="533520"/>
          </a:xfrm>
        </p:grpSpPr>
        <p:sp>
          <p:nvSpPr>
            <p:cNvPr id="21" name="AutoShape 24"/>
            <p:cNvSpPr/>
            <p:nvPr/>
          </p:nvSpPr>
          <p:spPr>
            <a:xfrm>
              <a:off x="8691480" y="733320"/>
              <a:ext cx="23832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AutoShape 25"/>
            <p:cNvSpPr/>
            <p:nvPr/>
          </p:nvSpPr>
          <p:spPr>
            <a:xfrm>
              <a:off x="8442360" y="733320"/>
              <a:ext cx="23976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AutoShape 26"/>
            <p:cNvSpPr/>
            <p:nvPr/>
          </p:nvSpPr>
          <p:spPr>
            <a:xfrm>
              <a:off x="8190000" y="731880"/>
              <a:ext cx="237960" cy="5335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1" name="Rectangle 3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Rectangle 4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" name="Rectangle 10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Oval 11"/>
          <p:cNvSpPr/>
          <p:nvPr/>
        </p:nvSpPr>
        <p:spPr>
          <a:xfrm>
            <a:off x="4419720" y="9907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Rectangle 12"/>
          <p:cNvSpPr/>
          <p:nvPr/>
        </p:nvSpPr>
        <p:spPr>
          <a:xfrm rot="16200000">
            <a:off x="4457520" y="-2934000"/>
            <a:ext cx="228600" cy="9144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533160" y="1266840"/>
            <a:ext cx="838188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A. Levitin “Introduction to the Design &amp; Analysis of Algorithms,” 3rd ed., Ch. 7 ©2012 Pearson Education, Inc. Upper Saddle River, NJ. All Rights Reserve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A6477-4B6D-447A-BE8E-416C14CEAE95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7093080" y="655308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AAB88-EAB1-42CE-987B-B50601D34FA1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Space-for-time tradeoffs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160" y="1266840"/>
            <a:ext cx="838188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wo varieties of space-for-time algorithms: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input enhancemen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—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preprocess the input (or its part) to store some info to be used later in solving the problem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unting sort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ring searching algorithm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prestructuring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—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preprocess the input to make accessing its elements easier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hashing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ndexing schemes (e.g., B-trees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lide Number Placeholder 5"/>
          <p:cNvSpPr/>
          <p:nvPr/>
        </p:nvSpPr>
        <p:spPr>
          <a:xfrm>
            <a:off x="7093080" y="655308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2B5DC-39AB-492F-8B8C-D8646ACF38B5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Good-suffix shift in Boyer-Moore algorithm</a:t>
            </a:r>
            <a:endParaRPr b="1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83822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Good-suffix shift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s applied after 0 &lt;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k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&lt;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last characters were matched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= the distance between matched suffix of siz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and its rightmost occurrence in the pattern that is not preceded by the same character as the suffix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xample: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CABABA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1) = 4    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f there is no such occurrence, match the longest part of th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-character suffix with corresponding prefix; 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f there are no such suffix-prefix matches,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=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m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xample: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WOWWOW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2) = 5,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3) = 3,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4) = 3,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5) = 3 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5"/>
          <p:cNvSpPr/>
          <p:nvPr/>
        </p:nvSpPr>
        <p:spPr>
          <a:xfrm>
            <a:off x="7093080" y="655308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4E3FD-A6E6-41E4-B0FB-8CB2576DE992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61048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Good-suffix shift in the Boyer-Moore alg. (cont.)</a:t>
            </a:r>
            <a:endParaRPr b="1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120" y="1266840"/>
            <a:ext cx="853452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fter matching successfully 0 &lt;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k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&lt;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characters, the algorithm shifts the pattern right by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                        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= max {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}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her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ax{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-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 1} is bad-symbol shif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is good-suffix shif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lide Number Placeholder 5"/>
          <p:cNvSpPr/>
          <p:nvPr/>
        </p:nvSpPr>
        <p:spPr>
          <a:xfrm>
            <a:off x="7093080" y="655308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62825-0D74-4709-8FF0-7BAB5A20B4A9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Boyer-Moore Algorithm (cont.)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96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ep 1  Fill in the bad-symbol shift tabl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96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ep 2  Fill in the good-suffix shift tabl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96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ep 3  Align the pattern against the beginning of the tex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96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ep 4  Repeat until a matching substring is found or text ends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96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mpare the corresponding characters right to left.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96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f no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haracters match, retrieve entry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t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from the bad-symbol table for the text’s character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c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ausing the mismatch and shift the pattern to the right by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t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.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f 0 &lt;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k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&lt;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characters are matched,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retrieve entry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t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from the bad-symbol table for the text’s character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c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ausing the mismatch and entry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from the good-suffix table and shift the pattern to the right by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963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                        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= max {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}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her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ax{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-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 1}.</a:t>
            </a:r>
            <a:br>
              <a:rPr sz="1200"/>
            </a:b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96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1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6"/>
          <p:cNvSpPr/>
          <p:nvPr/>
        </p:nvSpPr>
        <p:spPr>
          <a:xfrm>
            <a:off x="7093080" y="655308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E2669-A11D-463D-A225-9129C54A2053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Rectangle 80"/>
          <p:cNvSpPr/>
          <p:nvPr/>
        </p:nvSpPr>
        <p:spPr>
          <a:xfrm>
            <a:off x="609480" y="4114800"/>
            <a:ext cx="2057400" cy="2438280"/>
          </a:xfrm>
          <a:prstGeom prst="rect">
            <a:avLst/>
          </a:prstGeom>
          <a:solidFill>
            <a:srgbClr val="99ff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Example of Boyer-Moore alg. application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33520" y="1266480"/>
            <a:ext cx="8610480" cy="52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96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96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96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96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99"/>
              </a:solidFill>
              <a:latin typeface="Times New Roman"/>
            </a:endParaRPr>
          </a:p>
          <a:p>
            <a:pPr marL="96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99"/>
              </a:solidFill>
              <a:latin typeface="Times New Roman"/>
            </a:endParaRPr>
          </a:p>
          <a:p>
            <a:pPr marL="96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99"/>
              </a:solidFill>
              <a:latin typeface="Times New Roman"/>
            </a:endParaRPr>
          </a:p>
          <a:p>
            <a:pPr marL="96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B E S S _ K N E W _ A B O U T _ B A O B A B 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96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B A O B A B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96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            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n-US" sz="20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t</a:t>
            </a:r>
            <a:r>
              <a:rPr b="1" lang="en-US" sz="20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K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) = 6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   B A O B A B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96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     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n-US" sz="20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t</a:t>
            </a:r>
            <a:r>
              <a:rPr b="1" lang="en-US" sz="20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_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)-2 = 4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96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                        </a:t>
            </a:r>
            <a:r>
              <a:rPr b="1" i="1" lang="en-US" sz="2000" spc="-1" strike="noStrike" u="sng">
                <a:solidFill>
                  <a:srgbClr val="ffff99"/>
                </a:solidFill>
                <a:uFillTx/>
                <a:latin typeface="Times New Roman"/>
              </a:rPr>
              <a:t>d</a:t>
            </a:r>
            <a:r>
              <a:rPr b="1" lang="en-US" sz="20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000" spc="-1" strike="noStrike" u="sng">
                <a:solidFill>
                  <a:srgbClr val="ffff99"/>
                </a:solidFill>
                <a:uFillTx/>
                <a:latin typeface="Times New Roman"/>
              </a:rPr>
              <a:t>(2) = 5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96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B A O B A B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96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                      </a:t>
            </a:r>
            <a:r>
              <a:rPr b="1" i="1" lang="en-US" sz="2000" spc="-1" strike="noStrike" u="sng">
                <a:solidFill>
                  <a:srgbClr val="ffff99"/>
                </a:solidFill>
                <a:uFillTx/>
                <a:latin typeface="Times New Roman"/>
              </a:rPr>
              <a:t>d</a:t>
            </a:r>
            <a:r>
              <a:rPr b="1" lang="en-US" sz="20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000" spc="-1" strike="noStrike" u="sng">
                <a:solidFill>
                  <a:srgbClr val="ffff99"/>
                </a:solidFill>
                <a:uFillTx/>
                <a:latin typeface="Times New Roman"/>
              </a:rPr>
              <a:t> = </a:t>
            </a:r>
            <a:r>
              <a:rPr b="1" i="1" lang="en-US" sz="2000" spc="-1" strike="noStrike" u="sng">
                <a:solidFill>
                  <a:srgbClr val="ffff99"/>
                </a:solidFill>
                <a:uFillTx/>
                <a:latin typeface="Times New Roman"/>
              </a:rPr>
              <a:t>t</a:t>
            </a:r>
            <a:r>
              <a:rPr b="1" lang="en-US" sz="20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000" spc="-1" strike="noStrike" u="sng">
                <a:solidFill>
                  <a:srgbClr val="ffff99"/>
                </a:solidFill>
                <a:uFillTx/>
                <a:latin typeface="Times New Roman"/>
              </a:rPr>
              <a:t>(</a:t>
            </a:r>
            <a:r>
              <a:rPr b="1" lang="en-US" sz="2000" spc="-1" strike="noStrike" u="sng">
                <a:solidFill>
                  <a:srgbClr val="ffff99"/>
                </a:solidFill>
                <a:uFillTx/>
                <a:latin typeface="Courier New"/>
              </a:rPr>
              <a:t>_</a:t>
            </a:r>
            <a:r>
              <a:rPr b="1" lang="en-US" sz="2000" spc="-1" strike="noStrike" u="sng">
                <a:solidFill>
                  <a:srgbClr val="ffff99"/>
                </a:solidFill>
                <a:uFillTx/>
                <a:latin typeface="Times New Roman"/>
              </a:rPr>
              <a:t>)-1 = 5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96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                     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n-US" sz="20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(1) = 2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96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B A O B A B 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(success)</a:t>
            </a:r>
            <a:r>
              <a:rPr b="1" lang="en-US" sz="14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99"/>
                </a:solidFill>
                <a:latin typeface="Courier New"/>
              </a:rPr>
              <a:t>    </a:t>
            </a:r>
            <a:br>
              <a:rPr sz="1400"/>
            </a:br>
            <a:endParaRPr b="1" lang="en-US" sz="1400" spc="-1" strike="noStrike">
              <a:solidFill>
                <a:srgbClr val="ffff99"/>
              </a:solidFill>
              <a:latin typeface="Times New Roman"/>
            </a:endParaRPr>
          </a:p>
          <a:p>
            <a:pPr marL="96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228" name="Group 4"/>
          <p:cNvGrpSpPr/>
          <p:nvPr/>
        </p:nvGrpSpPr>
        <p:grpSpPr>
          <a:xfrm>
            <a:off x="609480" y="1219320"/>
            <a:ext cx="8382240" cy="1371600"/>
            <a:chOff x="609480" y="1219320"/>
            <a:chExt cx="8382240" cy="1371600"/>
          </a:xfrm>
        </p:grpSpPr>
        <p:grpSp>
          <p:nvGrpSpPr>
            <p:cNvPr id="229" name="Group 5"/>
            <p:cNvGrpSpPr/>
            <p:nvPr/>
          </p:nvGrpSpPr>
          <p:grpSpPr>
            <a:xfrm>
              <a:off x="609480" y="1219320"/>
              <a:ext cx="8305920" cy="1371600"/>
              <a:chOff x="609480" y="1219320"/>
              <a:chExt cx="8305920" cy="1371600"/>
            </a:xfrm>
          </p:grpSpPr>
          <p:grpSp>
            <p:nvGrpSpPr>
              <p:cNvPr id="230" name="Group 6"/>
              <p:cNvGrpSpPr/>
              <p:nvPr/>
            </p:nvGrpSpPr>
            <p:grpSpPr>
              <a:xfrm>
                <a:off x="609480" y="1219320"/>
                <a:ext cx="8001000" cy="1371240"/>
                <a:chOff x="609480" y="1219320"/>
                <a:chExt cx="8001000" cy="1371240"/>
              </a:xfrm>
            </p:grpSpPr>
            <p:sp>
              <p:nvSpPr>
                <p:cNvPr id="231" name="Rectangle 7"/>
                <p:cNvSpPr/>
                <p:nvPr/>
              </p:nvSpPr>
              <p:spPr>
                <a:xfrm>
                  <a:off x="609480" y="1219320"/>
                  <a:ext cx="8001000" cy="685440"/>
                </a:xfrm>
                <a:prstGeom prst="rect">
                  <a:avLst/>
                </a:prstGeom>
                <a:solidFill>
                  <a:srgbClr val="99ffcc"/>
                </a:solidFill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1932"/>
                      </a:solidFill>
                      <a:latin typeface="Courier New"/>
                    </a:rPr>
                    <a:t>A B C D E F G H I J K L M N O P Q R S T U V W X Y Z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Rectangle 8"/>
                <p:cNvSpPr/>
                <p:nvPr/>
              </p:nvSpPr>
              <p:spPr>
                <a:xfrm>
                  <a:off x="609480" y="1904760"/>
                  <a:ext cx="8001000" cy="685440"/>
                </a:xfrm>
                <a:prstGeom prst="rect">
                  <a:avLst/>
                </a:prstGeom>
                <a:solidFill>
                  <a:srgbClr val="99ffcc"/>
                </a:solidFill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1932"/>
                      </a:solidFill>
                      <a:latin typeface="Courier New"/>
                    </a:rPr>
                    <a:t>1 2 6 6 6 6 6 6 6 6 6 6 6 6 3 6 6 6 6 6 6 6 6 6 6 6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Line 9"/>
                <p:cNvSpPr/>
                <p:nvPr/>
              </p:nvSpPr>
              <p:spPr>
                <a:xfrm>
                  <a:off x="95256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Line 10"/>
                <p:cNvSpPr/>
                <p:nvPr/>
              </p:nvSpPr>
              <p:spPr>
                <a:xfrm>
                  <a:off x="400032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Line 11"/>
                <p:cNvSpPr/>
                <p:nvPr/>
              </p:nvSpPr>
              <p:spPr>
                <a:xfrm>
                  <a:off x="430524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Line 12"/>
                <p:cNvSpPr/>
                <p:nvPr/>
              </p:nvSpPr>
              <p:spPr>
                <a:xfrm>
                  <a:off x="491472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Line 13"/>
                <p:cNvSpPr/>
                <p:nvPr/>
              </p:nvSpPr>
              <p:spPr>
                <a:xfrm>
                  <a:off x="521964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Line 14"/>
                <p:cNvSpPr/>
                <p:nvPr/>
              </p:nvSpPr>
              <p:spPr>
                <a:xfrm>
                  <a:off x="552456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Line 15"/>
                <p:cNvSpPr/>
                <p:nvPr/>
              </p:nvSpPr>
              <p:spPr>
                <a:xfrm>
                  <a:off x="582912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Line 16"/>
                <p:cNvSpPr/>
                <p:nvPr/>
              </p:nvSpPr>
              <p:spPr>
                <a:xfrm>
                  <a:off x="613404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Line 17"/>
                <p:cNvSpPr/>
                <p:nvPr/>
              </p:nvSpPr>
              <p:spPr>
                <a:xfrm>
                  <a:off x="643896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Line 18"/>
                <p:cNvSpPr/>
                <p:nvPr/>
              </p:nvSpPr>
              <p:spPr>
                <a:xfrm>
                  <a:off x="674352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Line 19"/>
                <p:cNvSpPr/>
                <p:nvPr/>
              </p:nvSpPr>
              <p:spPr>
                <a:xfrm>
                  <a:off x="704844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Line 20"/>
                <p:cNvSpPr/>
                <p:nvPr/>
              </p:nvSpPr>
              <p:spPr>
                <a:xfrm>
                  <a:off x="735336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Line 21"/>
                <p:cNvSpPr/>
                <p:nvPr/>
              </p:nvSpPr>
              <p:spPr>
                <a:xfrm>
                  <a:off x="765792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Line 22"/>
                <p:cNvSpPr/>
                <p:nvPr/>
              </p:nvSpPr>
              <p:spPr>
                <a:xfrm>
                  <a:off x="796284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Line 23"/>
                <p:cNvSpPr/>
                <p:nvPr/>
              </p:nvSpPr>
              <p:spPr>
                <a:xfrm>
                  <a:off x="826776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Line 24"/>
                <p:cNvSpPr/>
                <p:nvPr/>
              </p:nvSpPr>
              <p:spPr>
                <a:xfrm>
                  <a:off x="369576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Line 25"/>
                <p:cNvSpPr/>
                <p:nvPr/>
              </p:nvSpPr>
              <p:spPr>
                <a:xfrm>
                  <a:off x="339084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Line 26"/>
                <p:cNvSpPr/>
                <p:nvPr/>
              </p:nvSpPr>
              <p:spPr>
                <a:xfrm>
                  <a:off x="308592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Line 27"/>
                <p:cNvSpPr/>
                <p:nvPr/>
              </p:nvSpPr>
              <p:spPr>
                <a:xfrm>
                  <a:off x="278136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Line 28"/>
                <p:cNvSpPr/>
                <p:nvPr/>
              </p:nvSpPr>
              <p:spPr>
                <a:xfrm>
                  <a:off x="247644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Line 29"/>
                <p:cNvSpPr/>
                <p:nvPr/>
              </p:nvSpPr>
              <p:spPr>
                <a:xfrm>
                  <a:off x="217152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Line 30"/>
                <p:cNvSpPr/>
                <p:nvPr/>
              </p:nvSpPr>
              <p:spPr>
                <a:xfrm>
                  <a:off x="186696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Line 31"/>
                <p:cNvSpPr/>
                <p:nvPr/>
              </p:nvSpPr>
              <p:spPr>
                <a:xfrm>
                  <a:off x="156204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Line 32"/>
                <p:cNvSpPr/>
                <p:nvPr/>
              </p:nvSpPr>
              <p:spPr>
                <a:xfrm>
                  <a:off x="125712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Line 33"/>
                <p:cNvSpPr/>
                <p:nvPr/>
              </p:nvSpPr>
              <p:spPr>
                <a:xfrm>
                  <a:off x="457200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8" name="Rectangle 34"/>
              <p:cNvSpPr/>
              <p:nvPr/>
            </p:nvSpPr>
            <p:spPr>
              <a:xfrm>
                <a:off x="8610480" y="1219320"/>
                <a:ext cx="304920" cy="1371600"/>
              </a:xfrm>
              <a:prstGeom prst="rect">
                <a:avLst/>
              </a:prstGeom>
              <a:solidFill>
                <a:srgbClr val="99ffcc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9" name="Line 35"/>
            <p:cNvSpPr/>
            <p:nvPr/>
          </p:nvSpPr>
          <p:spPr>
            <a:xfrm>
              <a:off x="8610480" y="1905120"/>
              <a:ext cx="3049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Text Box 36"/>
            <p:cNvSpPr/>
            <p:nvPr/>
          </p:nvSpPr>
          <p:spPr>
            <a:xfrm>
              <a:off x="8534520" y="1219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1932"/>
                  </a:solidFill>
                  <a:latin typeface="Times New Roman"/>
                </a:rPr>
                <a:t>_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Text Box 37"/>
            <p:cNvSpPr/>
            <p:nvPr/>
          </p:nvSpPr>
          <p:spPr>
            <a:xfrm>
              <a:off x="8610480" y="205740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1932"/>
                  </a:solidFill>
                  <a:latin typeface="Courier New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62" name=""/>
          <p:cNvGraphicFramePr/>
          <p:nvPr/>
        </p:nvGraphicFramePr>
        <p:xfrm>
          <a:off x="609480" y="4114800"/>
          <a:ext cx="2057400" cy="2413080"/>
        </p:xfrm>
        <a:graphic>
          <a:graphicData uri="http://schemas.openxmlformats.org/drawingml/2006/table">
            <a:tbl>
              <a:tblPr/>
              <a:tblGrid>
                <a:gridCol w="457200"/>
                <a:gridCol w="1143000"/>
                <a:gridCol w="457200"/>
              </a:tblGrid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1932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001932"/>
                          </a:solidFill>
                          <a:latin typeface="Times New Roman"/>
                        </a:rPr>
                        <a:t>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1932"/>
                          </a:solidFill>
                          <a:latin typeface="Times New Roman"/>
                        </a:rPr>
                        <a:t>patter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1932"/>
                          </a:solidFill>
                          <a:latin typeface="Times New Roman"/>
                        </a:rPr>
                        <a:t>d</a:t>
                      </a:r>
                      <a:r>
                        <a:rPr b="1" lang="en-US" sz="2000" spc="-1" strike="noStrike" baseline="-25000">
                          <a:solidFill>
                            <a:srgbClr val="001932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1932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1932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1932"/>
                          </a:solidFill>
                          <a:latin typeface="Courier New"/>
                        </a:rPr>
                        <a:t>BAO</a:t>
                      </a:r>
                      <a:r>
                        <a:rPr b="1" lang="en-US" sz="2000" spc="-1" strike="noStrike">
                          <a:solidFill>
                            <a:srgbClr val="001932"/>
                          </a:solidFill>
                          <a:latin typeface="Courier New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1932"/>
                          </a:solidFill>
                          <a:latin typeface="Courier New"/>
                        </a:rPr>
                        <a:t>A</a:t>
                      </a:r>
                      <a:r>
                        <a:rPr b="1" lang="en-US" sz="2000" spc="-1" strike="noStrike">
                          <a:solidFill>
                            <a:srgbClr val="001932"/>
                          </a:solidFill>
                          <a:latin typeface="Courier New"/>
                        </a:rPr>
                        <a:t>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1932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1932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1932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1932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1932"/>
                          </a:solidFill>
                          <a:latin typeface="Courier New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1932"/>
                          </a:solidFill>
                          <a:latin typeface="Courier New"/>
                        </a:rPr>
                        <a:t>AOB</a:t>
                      </a:r>
                      <a:r>
                        <a:rPr b="1" lang="en-US" sz="2000" spc="-1" strike="noStrike">
                          <a:solidFill>
                            <a:srgbClr val="001932"/>
                          </a:solidFill>
                          <a:latin typeface="Courier New"/>
                        </a:rPr>
                        <a:t>A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1932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1932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1932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1932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1932"/>
                          </a:solidFill>
                          <a:latin typeface="Courier New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1932"/>
                          </a:solidFill>
                          <a:latin typeface="Courier New"/>
                        </a:rPr>
                        <a:t>AO</a:t>
                      </a:r>
                      <a:r>
                        <a:rPr b="1" lang="en-US" sz="2000" spc="-1" strike="noStrike">
                          <a:solidFill>
                            <a:srgbClr val="001932"/>
                          </a:solidFill>
                          <a:latin typeface="Courier New"/>
                        </a:rPr>
                        <a:t>BA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1932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1932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1932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1932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1932"/>
                          </a:solidFill>
                          <a:latin typeface="Courier New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1932"/>
                          </a:solidFill>
                          <a:latin typeface="Courier New"/>
                        </a:rPr>
                        <a:t>A</a:t>
                      </a:r>
                      <a:r>
                        <a:rPr b="1" lang="en-US" sz="2000" spc="-1" strike="noStrike">
                          <a:solidFill>
                            <a:srgbClr val="001932"/>
                          </a:solidFill>
                          <a:latin typeface="Courier New"/>
                        </a:rPr>
                        <a:t>OBA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1932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1932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1932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1932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1932"/>
                          </a:solidFill>
                          <a:latin typeface="Courier New"/>
                        </a:rPr>
                        <a:t>BAOBA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1932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1932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3" name="Line 87"/>
          <p:cNvSpPr/>
          <p:nvPr/>
        </p:nvSpPr>
        <p:spPr>
          <a:xfrm>
            <a:off x="2666880" y="4114800"/>
            <a:ext cx="0" cy="2438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Line 88"/>
          <p:cNvSpPr/>
          <p:nvPr/>
        </p:nvSpPr>
        <p:spPr>
          <a:xfrm>
            <a:off x="609480" y="4114800"/>
            <a:ext cx="0" cy="2438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Group 96"/>
          <p:cNvGrpSpPr/>
          <p:nvPr/>
        </p:nvGrpSpPr>
        <p:grpSpPr>
          <a:xfrm>
            <a:off x="609480" y="4114800"/>
            <a:ext cx="2057400" cy="2438280"/>
            <a:chOff x="609480" y="4114800"/>
            <a:chExt cx="2057400" cy="2438280"/>
          </a:xfrm>
        </p:grpSpPr>
        <p:sp>
          <p:nvSpPr>
            <p:cNvPr id="266" name="Line 81"/>
            <p:cNvSpPr/>
            <p:nvPr/>
          </p:nvSpPr>
          <p:spPr>
            <a:xfrm>
              <a:off x="609480" y="4572000"/>
              <a:ext cx="20574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Line 82"/>
            <p:cNvSpPr/>
            <p:nvPr/>
          </p:nvSpPr>
          <p:spPr>
            <a:xfrm>
              <a:off x="609480" y="4952880"/>
              <a:ext cx="20574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Line 83"/>
            <p:cNvSpPr/>
            <p:nvPr/>
          </p:nvSpPr>
          <p:spPr>
            <a:xfrm>
              <a:off x="609480" y="5334120"/>
              <a:ext cx="20574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Line 84"/>
            <p:cNvSpPr/>
            <p:nvPr/>
          </p:nvSpPr>
          <p:spPr>
            <a:xfrm>
              <a:off x="609480" y="5715000"/>
              <a:ext cx="20574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Line 85"/>
            <p:cNvSpPr/>
            <p:nvPr/>
          </p:nvSpPr>
          <p:spPr>
            <a:xfrm>
              <a:off x="609480" y="6095880"/>
              <a:ext cx="20574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Line 86"/>
            <p:cNvSpPr/>
            <p:nvPr/>
          </p:nvSpPr>
          <p:spPr>
            <a:xfrm>
              <a:off x="609480" y="6553080"/>
              <a:ext cx="20574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Line 90"/>
            <p:cNvSpPr/>
            <p:nvPr/>
          </p:nvSpPr>
          <p:spPr>
            <a:xfrm>
              <a:off x="1066680" y="4114800"/>
              <a:ext cx="0" cy="24382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Line 91"/>
            <p:cNvSpPr/>
            <p:nvPr/>
          </p:nvSpPr>
          <p:spPr>
            <a:xfrm>
              <a:off x="2209680" y="4114800"/>
              <a:ext cx="0" cy="24382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Line 95"/>
            <p:cNvSpPr/>
            <p:nvPr/>
          </p:nvSpPr>
          <p:spPr>
            <a:xfrm>
              <a:off x="609480" y="4114800"/>
              <a:ext cx="20574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5"/>
          <p:cNvSpPr/>
          <p:nvPr/>
        </p:nvSpPr>
        <p:spPr>
          <a:xfrm>
            <a:off x="7093080" y="655308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CAB6B-BD05-4BDB-B483-6F7FAE1369CA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Boyer-Moore example from their paper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80880" y="1266840"/>
            <a:ext cx="87631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ind pattern 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A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_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THAT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WHICH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_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FINALLY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_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HALTS.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_ _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A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_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THA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Slide Number Placeholder 5"/>
          <p:cNvSpPr/>
          <p:nvPr/>
        </p:nvSpPr>
        <p:spPr>
          <a:xfrm>
            <a:off x="7093080" y="655308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9AACA-1E94-4A47-A89F-8425E44574D1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Hashing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80880" y="1266840"/>
            <a:ext cx="87631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A very efficient method  for implementing a </a:t>
            </a: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dictionary,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i.e.,</a:t>
            </a: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a set with the operations: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ind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nsert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delet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Based on representation-change and space-for-time tradeoff ideas</a:t>
            </a:r>
            <a:br>
              <a:rPr sz="2800"/>
            </a:b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Important applications: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ymbol table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databases 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extendible hashing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Slide Number Placeholder 5"/>
          <p:cNvSpPr/>
          <p:nvPr/>
        </p:nvSpPr>
        <p:spPr>
          <a:xfrm>
            <a:off x="7093080" y="655308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6F107-4850-4D8F-9521-8066CB4B9995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Hash tables and hash functions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53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idea of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hashing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s to map keys of a given file of siz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nto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table of siz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m,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alled th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hash table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y using a predefined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unction, called th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hash functio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  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h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K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location (cell) in the hash tabl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xample: student records, key = SSN.  Hash function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h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=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mod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m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her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s some integer (typically, prime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f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= 1000, where is record with SSN= 314159265 stored?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Generally, a hash function should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6858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e easy to comput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6858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distribute keys about evenly throughout the hash tabl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Slide Number Placeholder 5"/>
          <p:cNvSpPr/>
          <p:nvPr/>
        </p:nvSpPr>
        <p:spPr>
          <a:xfrm>
            <a:off x="7093080" y="655308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AE4C0-0A0D-4D3A-9B99-04C941BFE907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Collisions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560" y="1266480"/>
            <a:ext cx="8839080" cy="55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f 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h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K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= h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K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, there is a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collisio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Good hash functions result in fewer collisions but some collisions should be expected 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birthday paradox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wo principal hashing schemes handle collisions differently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: 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Open hashing</a:t>
            </a:r>
            <a:br>
              <a:rPr sz="2000"/>
            </a:br>
            <a:r>
              <a:rPr b="0" i="1" lang="en-US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– 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each cell is a header of linked list of all keys hashed to it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Closed hashing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one key per cell  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in case of collision, finds another cell by 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linear probing: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use next free bucket 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double hashing: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use second hash function to compute increment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Slide Number Placeholder 5"/>
          <p:cNvSpPr/>
          <p:nvPr/>
        </p:nvSpPr>
        <p:spPr>
          <a:xfrm>
            <a:off x="7093080" y="655308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E37C8-3ECE-424D-9A6A-CADBBDB914AB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Open hashing (Separate chaining)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Keys are stored in linked lists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outside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a hash table whos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lements serve as the lists’ headers.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xample: 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A, FOOL, AND, HIS, MONEY, ARE, SOON, PARTED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h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= sum of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‘s letters’ positions in the alphabet MOD 13</a:t>
            </a:r>
            <a:br>
              <a:rPr sz="2400"/>
            </a:b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609480" y="3276720"/>
          <a:ext cx="8077320" cy="792000"/>
        </p:xfrm>
        <a:graphic>
          <a:graphicData uri="http://schemas.openxmlformats.org/drawingml/2006/table">
            <a:tbl>
              <a:tblPr/>
              <a:tblGrid>
                <a:gridCol w="762120"/>
                <a:gridCol w="457200"/>
                <a:gridCol w="914400"/>
                <a:gridCol w="762120"/>
                <a:gridCol w="766800"/>
                <a:gridCol w="1290600"/>
                <a:gridCol w="838080"/>
                <a:gridCol w="990720"/>
                <a:gridCol w="12952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Ke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FOO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AN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HI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MONE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A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SOON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PART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h</a:t>
                      </a: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(</a:t>
                      </a:r>
                      <a:r>
                        <a:rPr b="1" i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K</a:t>
                      </a: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1" name=""/>
          <p:cNvGraphicFramePr/>
          <p:nvPr/>
        </p:nvGraphicFramePr>
        <p:xfrm>
          <a:off x="457200" y="4572000"/>
          <a:ext cx="8305920" cy="396720"/>
        </p:xfrm>
        <a:graphic>
          <a:graphicData uri="http://schemas.openxmlformats.org/drawingml/2006/table">
            <a:tbl>
              <a:tblPr/>
              <a:tblGrid>
                <a:gridCol w="665280"/>
                <a:gridCol w="582480"/>
                <a:gridCol w="655560"/>
                <a:gridCol w="582840"/>
                <a:gridCol w="509400"/>
                <a:gridCol w="509760"/>
                <a:gridCol w="655560"/>
                <a:gridCol w="874800"/>
                <a:gridCol w="363240"/>
                <a:gridCol w="801720"/>
                <a:gridCol w="509760"/>
                <a:gridCol w="728640"/>
                <a:gridCol w="8668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2" name="Text Box 66"/>
          <p:cNvSpPr/>
          <p:nvPr/>
        </p:nvSpPr>
        <p:spPr>
          <a:xfrm>
            <a:off x="1219320" y="52578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Line 67"/>
          <p:cNvSpPr/>
          <p:nvPr/>
        </p:nvSpPr>
        <p:spPr>
          <a:xfrm>
            <a:off x="1371600" y="4952880"/>
            <a:ext cx="0" cy="3812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Line 68"/>
          <p:cNvSpPr/>
          <p:nvPr/>
        </p:nvSpPr>
        <p:spPr>
          <a:xfrm>
            <a:off x="6248520" y="4952880"/>
            <a:ext cx="0" cy="3812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Line 69"/>
          <p:cNvSpPr/>
          <p:nvPr/>
        </p:nvSpPr>
        <p:spPr>
          <a:xfrm>
            <a:off x="7543800" y="4952880"/>
            <a:ext cx="0" cy="3812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Line 70"/>
          <p:cNvSpPr/>
          <p:nvPr/>
        </p:nvSpPr>
        <p:spPr>
          <a:xfrm>
            <a:off x="8381880" y="4952880"/>
            <a:ext cx="0" cy="3812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Text Box 71"/>
          <p:cNvSpPr/>
          <p:nvPr/>
        </p:nvSpPr>
        <p:spPr>
          <a:xfrm>
            <a:off x="5791320" y="525780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FOO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Line 72"/>
          <p:cNvSpPr/>
          <p:nvPr/>
        </p:nvSpPr>
        <p:spPr>
          <a:xfrm>
            <a:off x="4267080" y="4952880"/>
            <a:ext cx="0" cy="3812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Text Box 73"/>
          <p:cNvSpPr/>
          <p:nvPr/>
        </p:nvSpPr>
        <p:spPr>
          <a:xfrm>
            <a:off x="3886200" y="52578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A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Line 74"/>
          <p:cNvSpPr/>
          <p:nvPr/>
        </p:nvSpPr>
        <p:spPr>
          <a:xfrm>
            <a:off x="6934320" y="4952880"/>
            <a:ext cx="0" cy="3812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Text Box 75"/>
          <p:cNvSpPr/>
          <p:nvPr/>
        </p:nvSpPr>
        <p:spPr>
          <a:xfrm>
            <a:off x="6629400" y="525780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H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Line 76"/>
          <p:cNvSpPr/>
          <p:nvPr/>
        </p:nvSpPr>
        <p:spPr>
          <a:xfrm>
            <a:off x="5029200" y="4952880"/>
            <a:ext cx="0" cy="3812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Text Box 77"/>
          <p:cNvSpPr/>
          <p:nvPr/>
        </p:nvSpPr>
        <p:spPr>
          <a:xfrm>
            <a:off x="4648320" y="5410080"/>
            <a:ext cx="1143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Rectangle 78"/>
          <p:cNvSpPr/>
          <p:nvPr/>
        </p:nvSpPr>
        <p:spPr>
          <a:xfrm>
            <a:off x="4572000" y="52578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MONE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Text Box 79"/>
          <p:cNvSpPr/>
          <p:nvPr/>
        </p:nvSpPr>
        <p:spPr>
          <a:xfrm>
            <a:off x="7162920" y="52578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A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Text Box 80"/>
          <p:cNvSpPr/>
          <p:nvPr/>
        </p:nvSpPr>
        <p:spPr>
          <a:xfrm>
            <a:off x="7848720" y="52578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PAR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Line 81"/>
          <p:cNvSpPr/>
          <p:nvPr/>
        </p:nvSpPr>
        <p:spPr>
          <a:xfrm>
            <a:off x="7543800" y="5562720"/>
            <a:ext cx="0" cy="3808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Text Box 82"/>
          <p:cNvSpPr/>
          <p:nvPr/>
        </p:nvSpPr>
        <p:spPr>
          <a:xfrm>
            <a:off x="7086600" y="58672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SO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Text Box 83"/>
          <p:cNvSpPr/>
          <p:nvPr/>
        </p:nvSpPr>
        <p:spPr>
          <a:xfrm>
            <a:off x="8077320" y="42670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Text Box 84"/>
          <p:cNvSpPr/>
          <p:nvPr/>
        </p:nvSpPr>
        <p:spPr>
          <a:xfrm>
            <a:off x="7315200" y="4267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Text Box 85"/>
          <p:cNvSpPr/>
          <p:nvPr/>
        </p:nvSpPr>
        <p:spPr>
          <a:xfrm>
            <a:off x="6629400" y="4267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Text Box 86"/>
          <p:cNvSpPr/>
          <p:nvPr/>
        </p:nvSpPr>
        <p:spPr>
          <a:xfrm>
            <a:off x="6019920" y="42670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Text Box 87"/>
          <p:cNvSpPr/>
          <p:nvPr/>
        </p:nvSpPr>
        <p:spPr>
          <a:xfrm>
            <a:off x="5410080" y="4267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Text Box 88"/>
          <p:cNvSpPr/>
          <p:nvPr/>
        </p:nvSpPr>
        <p:spPr>
          <a:xfrm>
            <a:off x="4800600" y="4267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Text Box 89"/>
          <p:cNvSpPr/>
          <p:nvPr/>
        </p:nvSpPr>
        <p:spPr>
          <a:xfrm>
            <a:off x="4038480" y="4267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Text Box 90"/>
          <p:cNvSpPr/>
          <p:nvPr/>
        </p:nvSpPr>
        <p:spPr>
          <a:xfrm>
            <a:off x="3429000" y="4267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Text Box 91"/>
          <p:cNvSpPr/>
          <p:nvPr/>
        </p:nvSpPr>
        <p:spPr>
          <a:xfrm>
            <a:off x="2971800" y="4267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Text Box 92"/>
          <p:cNvSpPr/>
          <p:nvPr/>
        </p:nvSpPr>
        <p:spPr>
          <a:xfrm>
            <a:off x="2362320" y="42670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Text Box 93"/>
          <p:cNvSpPr/>
          <p:nvPr/>
        </p:nvSpPr>
        <p:spPr>
          <a:xfrm>
            <a:off x="1752480" y="4267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Text Box 94"/>
          <p:cNvSpPr/>
          <p:nvPr/>
        </p:nvSpPr>
        <p:spPr>
          <a:xfrm>
            <a:off x="1143000" y="4267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Text Box 95"/>
          <p:cNvSpPr/>
          <p:nvPr/>
        </p:nvSpPr>
        <p:spPr>
          <a:xfrm>
            <a:off x="533520" y="42670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Rectangle 96"/>
          <p:cNvSpPr/>
          <p:nvPr/>
        </p:nvSpPr>
        <p:spPr>
          <a:xfrm>
            <a:off x="657000" y="6248520"/>
            <a:ext cx="210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arch for 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K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Slide Number Placeholder 5"/>
          <p:cNvSpPr/>
          <p:nvPr/>
        </p:nvSpPr>
        <p:spPr>
          <a:xfrm>
            <a:off x="7093080" y="655308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B55FA-930A-46F3-AAF5-A938623F2636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Open hashing (cont.)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09120" y="1266840"/>
            <a:ext cx="85345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f hash function distributes keys uniformly, average length of linked list will be </a:t>
            </a:r>
            <a:r>
              <a:rPr b="1" lang="el-GR" sz="2400" spc="-1" strike="noStrike">
                <a:solidFill>
                  <a:srgbClr val="ffff99"/>
                </a:solidFill>
                <a:latin typeface="Times New Roman"/>
              </a:rPr>
              <a:t>α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/m.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is ratio is called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load factor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verage number of probes in successful,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 and unsuccessful   searches,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U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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1+</a:t>
            </a:r>
            <a:r>
              <a:rPr b="1" lang="el-GR" sz="2400" spc="-1" strike="noStrike">
                <a:solidFill>
                  <a:srgbClr val="ffff99"/>
                </a:solidFill>
                <a:latin typeface="Times New Roman"/>
              </a:rPr>
              <a:t>α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/2,   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U = </a:t>
            </a:r>
            <a:r>
              <a:rPr b="1" lang="el-GR" sz="2400" spc="-1" strike="noStrike">
                <a:solidFill>
                  <a:srgbClr val="ffff99"/>
                </a:solidFill>
                <a:latin typeface="Times New Roman"/>
              </a:rPr>
              <a:t>α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oad </a:t>
            </a:r>
            <a:r>
              <a:rPr b="1" lang="el-GR" sz="2400" spc="-1" strike="noStrike">
                <a:solidFill>
                  <a:srgbClr val="ffff99"/>
                </a:solidFill>
                <a:latin typeface="Times New Roman"/>
              </a:rPr>
              <a:t>α is typically kept small (ideally, about 1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Open hashing still works if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 &gt; m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5"/>
          <p:cNvSpPr/>
          <p:nvPr/>
        </p:nvSpPr>
        <p:spPr>
          <a:xfrm>
            <a:off x="7093080" y="655308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E4B7B-490F-402D-BC6E-FD79C89CF23F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Review: String searching by brute force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266840"/>
            <a:ext cx="85345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9619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atter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: a string of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characters to search for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9619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tex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: a (long) string of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characters to search i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9619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9619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Brute force algorithm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9619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ep 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lign pattern at beginning of tex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9619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ep 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oving from left to right, compare each character of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attern to the corresponding character in text until   either all characters are found to match (successful search) or a mismatch is detected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9619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ep 3  While a mismatch is detected and the text is not yet exhausted, realign pattern one position to the right and repeat Step 2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Slide Number Placeholder 5"/>
          <p:cNvSpPr/>
          <p:nvPr/>
        </p:nvSpPr>
        <p:spPr>
          <a:xfrm>
            <a:off x="7093080" y="655308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3D737-5A05-47B3-9581-D5FC60F4002A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Closed hashing (Open addressing)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61048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Keys are stored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inside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a hash table.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457200" y="3276720"/>
          <a:ext cx="8686800" cy="3170160"/>
        </p:xfrm>
        <a:graphic>
          <a:graphicData uri="http://schemas.openxmlformats.org/drawingml/2006/table">
            <a:tbl>
              <a:tblPr/>
              <a:tblGrid>
                <a:gridCol w="1281240"/>
                <a:gridCol w="365040"/>
                <a:gridCol w="334800"/>
                <a:gridCol w="304920"/>
                <a:gridCol w="304920"/>
                <a:gridCol w="304560"/>
                <a:gridCol w="838440"/>
                <a:gridCol w="1218960"/>
                <a:gridCol w="381240"/>
                <a:gridCol w="990360"/>
                <a:gridCol w="685800"/>
                <a:gridCol w="762120"/>
                <a:gridCol w="914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FOO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AN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FOO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AN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FOO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HI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AN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MONE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FOO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HI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AN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MONE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FOO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HI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A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AN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MONE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FOO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HI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A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SO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PART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AN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MONE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FOO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HI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A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SO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0" name=""/>
          <p:cNvGraphicFramePr/>
          <p:nvPr/>
        </p:nvGraphicFramePr>
        <p:xfrm>
          <a:off x="533520" y="1828800"/>
          <a:ext cx="8610480" cy="853920"/>
        </p:xfrm>
        <a:graphic>
          <a:graphicData uri="http://schemas.openxmlformats.org/drawingml/2006/table">
            <a:tbl>
              <a:tblPr/>
              <a:tblGrid>
                <a:gridCol w="955440"/>
                <a:gridCol w="644760"/>
                <a:gridCol w="914400"/>
                <a:gridCol w="838080"/>
                <a:gridCol w="838080"/>
                <a:gridCol w="1219320"/>
                <a:gridCol w="914400"/>
                <a:gridCol w="990720"/>
                <a:gridCol w="1295280"/>
              </a:tblGrid>
              <a:tr h="45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Ke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FOO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AN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HI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MONE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A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SOON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PART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h</a:t>
                      </a: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(</a:t>
                      </a:r>
                      <a:r>
                        <a:rPr b="1" i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K</a:t>
                      </a: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1" name="Line 164"/>
          <p:cNvSpPr/>
          <p:nvPr/>
        </p:nvSpPr>
        <p:spPr>
          <a:xfrm>
            <a:off x="237960" y="6248520"/>
            <a:ext cx="371520" cy="1440"/>
          </a:xfrm>
          <a:prstGeom prst="line">
            <a:avLst/>
          </a:prstGeom>
          <a:ln w="936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Text Box 165"/>
          <p:cNvSpPr/>
          <p:nvPr/>
        </p:nvSpPr>
        <p:spPr>
          <a:xfrm>
            <a:off x="914400" y="29718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Text Box 166"/>
          <p:cNvSpPr/>
          <p:nvPr/>
        </p:nvSpPr>
        <p:spPr>
          <a:xfrm>
            <a:off x="1676520" y="29718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Text Box 167"/>
          <p:cNvSpPr/>
          <p:nvPr/>
        </p:nvSpPr>
        <p:spPr>
          <a:xfrm>
            <a:off x="2057400" y="29718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Text Box 168"/>
          <p:cNvSpPr/>
          <p:nvPr/>
        </p:nvSpPr>
        <p:spPr>
          <a:xfrm>
            <a:off x="2362320" y="29718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Text Box 169"/>
          <p:cNvSpPr/>
          <p:nvPr/>
        </p:nvSpPr>
        <p:spPr>
          <a:xfrm>
            <a:off x="2666880" y="29718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Text Box 170"/>
          <p:cNvSpPr/>
          <p:nvPr/>
        </p:nvSpPr>
        <p:spPr>
          <a:xfrm>
            <a:off x="3048120" y="29718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Text Box 171"/>
          <p:cNvSpPr/>
          <p:nvPr/>
        </p:nvSpPr>
        <p:spPr>
          <a:xfrm>
            <a:off x="3581280" y="29718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Text Box 172"/>
          <p:cNvSpPr/>
          <p:nvPr/>
        </p:nvSpPr>
        <p:spPr>
          <a:xfrm>
            <a:off x="4648320" y="29718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Text Box 173"/>
          <p:cNvSpPr/>
          <p:nvPr/>
        </p:nvSpPr>
        <p:spPr>
          <a:xfrm>
            <a:off x="5410080" y="29718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Text Box 174"/>
          <p:cNvSpPr/>
          <p:nvPr/>
        </p:nvSpPr>
        <p:spPr>
          <a:xfrm>
            <a:off x="6172200" y="29718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Text Box 175"/>
          <p:cNvSpPr/>
          <p:nvPr/>
        </p:nvSpPr>
        <p:spPr>
          <a:xfrm>
            <a:off x="6858000" y="29718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Text Box 176"/>
          <p:cNvSpPr/>
          <p:nvPr/>
        </p:nvSpPr>
        <p:spPr>
          <a:xfrm>
            <a:off x="7543800" y="29718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Text Box 177"/>
          <p:cNvSpPr/>
          <p:nvPr/>
        </p:nvSpPr>
        <p:spPr>
          <a:xfrm>
            <a:off x="8381880" y="29718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Slide Number Placeholder 5"/>
          <p:cNvSpPr/>
          <p:nvPr/>
        </p:nvSpPr>
        <p:spPr>
          <a:xfrm>
            <a:off x="7093080" y="655308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7A25E-6ADE-4E15-B1B1-89E4D97EEBE8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Closed hashing (cont.)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566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Does not work if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 &gt; m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voids pointer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Deletions ar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o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straightforward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Number of probes to find/insert/delete a key depends on  load factor </a:t>
            </a:r>
            <a:r>
              <a:rPr b="1" lang="el-GR" sz="2400" spc="-1" strike="noStrike">
                <a:solidFill>
                  <a:srgbClr val="ffff99"/>
                </a:solidFill>
                <a:latin typeface="Times New Roman"/>
              </a:rPr>
              <a:t>α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/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m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(hash table density) and collision resolution strategy.   For linear probing:  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S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= (½) (1+ 1/(1- </a:t>
            </a:r>
            <a:r>
              <a:rPr b="1" lang="el-GR" sz="2400" spc="-1" strike="noStrike">
                <a:solidFill>
                  <a:srgbClr val="ffff99"/>
                </a:solidFill>
                <a:latin typeface="Times New Roman"/>
              </a:rPr>
              <a:t>α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)  and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U =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(½) (1+ 1/(1- </a:t>
            </a:r>
            <a:r>
              <a:rPr b="1" lang="el-GR" sz="2400" spc="-1" strike="noStrike">
                <a:solidFill>
                  <a:srgbClr val="ffff99"/>
                </a:solidFill>
                <a:latin typeface="Times New Roman"/>
              </a:rPr>
              <a:t>α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²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s the table gets filled (</a:t>
            </a:r>
            <a:r>
              <a:rPr b="1" lang="el-GR" sz="2400" spc="-1" strike="noStrike">
                <a:solidFill>
                  <a:srgbClr val="ffff99"/>
                </a:solidFill>
                <a:latin typeface="Times New Roman"/>
              </a:rPr>
              <a:t>α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approaches 1), number of probes  in linear probing increases dramatically: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348" name="Picture 4" descr="closedhashing"/>
          <p:cNvPicPr/>
          <p:nvPr/>
        </p:nvPicPr>
        <p:blipFill>
          <a:blip r:embed="rId1"/>
          <a:stretch/>
        </p:blipFill>
        <p:spPr>
          <a:xfrm>
            <a:off x="1143000" y="4572000"/>
            <a:ext cx="51055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5"/>
          <p:cNvSpPr/>
          <p:nvPr/>
        </p:nvSpPr>
        <p:spPr>
          <a:xfrm>
            <a:off x="7093080" y="655308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9D250-498D-49F6-95F7-6CA8F95D20CD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String searching by preprocessing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160" y="1266840"/>
            <a:ext cx="838188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veral string searching algorithms are based on the inpu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nhancement idea of  preprocessing the pattern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Knuth-Morris-Pratt (KMP)  algorithm preprocesses   pattern left to right to get useful information for later searching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oyer -Moore algorithm preprocesses pattern right to left and store information into two table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Horspool’s algorithm simplifies the Boyer-Moore algorithm by using just one tabl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5"/>
          <p:cNvSpPr/>
          <p:nvPr/>
        </p:nvSpPr>
        <p:spPr>
          <a:xfrm>
            <a:off x="7093080" y="655308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36826-64EF-4AF4-B5F1-35360EAB14B9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Horspool’s Algorithm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1266840"/>
            <a:ext cx="838188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simplified version of Boyer-Moore algorithm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reprocesses pattern to generate a shift table that determines how much to shift the pattern when a mismatch occurs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lways makes a shift based on the text’s character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c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ligned with the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las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character in the pattern according to the shift table’s entry for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5"/>
          <p:cNvSpPr/>
          <p:nvPr/>
        </p:nvSpPr>
        <p:spPr>
          <a:xfrm>
            <a:off x="7093080" y="655308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C5244-2EA8-444F-84E5-9A007B42C998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How far to shift?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ook at first (rightmost) character in text that was compared: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character is not in the patter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.....</a:t>
            </a:r>
            <a:r>
              <a:rPr b="1" i="1" lang="en-US" sz="2000" spc="-1" strike="noStrike">
                <a:solidFill>
                  <a:srgbClr val="ffff99"/>
                </a:solidFill>
                <a:latin typeface="Courier New"/>
              </a:rPr>
              <a:t>c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...................... 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99"/>
                </a:solidFill>
                <a:latin typeface="Courier New"/>
              </a:rPr>
              <a:t>c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not in pattern)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BAOBAB</a:t>
            </a:r>
            <a:br>
              <a:rPr sz="2000"/>
            </a:b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character is in the pattern (but not the rightmost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.....O...................... 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O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occurs once in pattern)</a:t>
            </a:r>
            <a:br>
              <a:rPr sz="2000"/>
            </a:b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  BAOBAB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.....A...................... 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A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occurs twice in pattern)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BAOBAB</a:t>
            </a:r>
            <a:br>
              <a:rPr sz="2000"/>
            </a:b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rightmost characters do match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.....B......................                    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BAOBAB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5"/>
          <p:cNvSpPr/>
          <p:nvPr/>
        </p:nvSpPr>
        <p:spPr>
          <a:xfrm>
            <a:off x="7093080" y="655308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67C11-7582-463E-8CA5-A6853722DE49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Shift table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hift sizes can be precomputed by the formula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distance from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’s rightmost occurrence in pattern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 among its first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m-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1 characters to its right end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=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 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attern’s length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 otherwis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y scanning pattern before search begins and stored in a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able called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shift table</a:t>
            </a:r>
            <a:br>
              <a:rPr sz="2400"/>
            </a:b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hift table is indexed by text and pattern alphabet 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g, for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BAOBAB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5165640" y="5448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3" name="Group 5"/>
          <p:cNvGrpSpPr/>
          <p:nvPr/>
        </p:nvGrpSpPr>
        <p:grpSpPr>
          <a:xfrm>
            <a:off x="914400" y="5181480"/>
            <a:ext cx="8001000" cy="1371240"/>
            <a:chOff x="914400" y="5181480"/>
            <a:chExt cx="8001000" cy="1371240"/>
          </a:xfrm>
        </p:grpSpPr>
        <p:sp>
          <p:nvSpPr>
            <p:cNvPr id="134" name="Rectangle 6"/>
            <p:cNvSpPr/>
            <p:nvPr/>
          </p:nvSpPr>
          <p:spPr>
            <a:xfrm>
              <a:off x="914400" y="5181480"/>
              <a:ext cx="8001000" cy="685440"/>
            </a:xfrm>
            <a:prstGeom prst="rect">
              <a:avLst/>
            </a:prstGeom>
            <a:solidFill>
              <a:srgbClr val="99ffcc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1932"/>
                  </a:solidFill>
                  <a:latin typeface="Courier New"/>
                </a:rPr>
                <a:t>A B C D E F G H I J K L M N O P Q R S T U V W X Y Z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Rectangle 7"/>
            <p:cNvSpPr/>
            <p:nvPr/>
          </p:nvSpPr>
          <p:spPr>
            <a:xfrm>
              <a:off x="914400" y="5866920"/>
              <a:ext cx="8001000" cy="685440"/>
            </a:xfrm>
            <a:prstGeom prst="rect">
              <a:avLst/>
            </a:prstGeom>
            <a:solidFill>
              <a:srgbClr val="99ffcc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1932"/>
                  </a:solidFill>
                  <a:latin typeface="Courier New"/>
                </a:rPr>
                <a:t>1 2 6 6 6 6 6 6 6 6 6 6 6 6 3 6 6 6 6 6 6 6 6 6 6 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Line 8"/>
            <p:cNvSpPr/>
            <p:nvPr/>
          </p:nvSpPr>
          <p:spPr>
            <a:xfrm>
              <a:off x="1257480" y="5181480"/>
              <a:ext cx="0" cy="1371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Line 9"/>
            <p:cNvSpPr/>
            <p:nvPr/>
          </p:nvSpPr>
          <p:spPr>
            <a:xfrm>
              <a:off x="4305240" y="5181480"/>
              <a:ext cx="0" cy="1371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Line 10"/>
            <p:cNvSpPr/>
            <p:nvPr/>
          </p:nvSpPr>
          <p:spPr>
            <a:xfrm>
              <a:off x="4610160" y="5181480"/>
              <a:ext cx="0" cy="1371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Line 11"/>
            <p:cNvSpPr/>
            <p:nvPr/>
          </p:nvSpPr>
          <p:spPr>
            <a:xfrm>
              <a:off x="5219640" y="5181480"/>
              <a:ext cx="0" cy="1371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Line 12"/>
            <p:cNvSpPr/>
            <p:nvPr/>
          </p:nvSpPr>
          <p:spPr>
            <a:xfrm>
              <a:off x="5524560" y="5181480"/>
              <a:ext cx="0" cy="1371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Line 13"/>
            <p:cNvSpPr/>
            <p:nvPr/>
          </p:nvSpPr>
          <p:spPr>
            <a:xfrm>
              <a:off x="5829480" y="5181480"/>
              <a:ext cx="0" cy="1371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Line 14"/>
            <p:cNvSpPr/>
            <p:nvPr/>
          </p:nvSpPr>
          <p:spPr>
            <a:xfrm>
              <a:off x="6134040" y="5181480"/>
              <a:ext cx="0" cy="1371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Line 15"/>
            <p:cNvSpPr/>
            <p:nvPr/>
          </p:nvSpPr>
          <p:spPr>
            <a:xfrm>
              <a:off x="6438960" y="5181480"/>
              <a:ext cx="0" cy="1371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Line 16"/>
            <p:cNvSpPr/>
            <p:nvPr/>
          </p:nvSpPr>
          <p:spPr>
            <a:xfrm>
              <a:off x="6743880" y="5181480"/>
              <a:ext cx="0" cy="1371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Line 17"/>
            <p:cNvSpPr/>
            <p:nvPr/>
          </p:nvSpPr>
          <p:spPr>
            <a:xfrm>
              <a:off x="7048440" y="5181480"/>
              <a:ext cx="0" cy="1371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Line 18"/>
            <p:cNvSpPr/>
            <p:nvPr/>
          </p:nvSpPr>
          <p:spPr>
            <a:xfrm>
              <a:off x="7353360" y="5181480"/>
              <a:ext cx="0" cy="1371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Line 19"/>
            <p:cNvSpPr/>
            <p:nvPr/>
          </p:nvSpPr>
          <p:spPr>
            <a:xfrm>
              <a:off x="7658280" y="5181480"/>
              <a:ext cx="0" cy="1371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Line 20"/>
            <p:cNvSpPr/>
            <p:nvPr/>
          </p:nvSpPr>
          <p:spPr>
            <a:xfrm>
              <a:off x="7962840" y="5181480"/>
              <a:ext cx="0" cy="1371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Line 21"/>
            <p:cNvSpPr/>
            <p:nvPr/>
          </p:nvSpPr>
          <p:spPr>
            <a:xfrm>
              <a:off x="8267760" y="5181480"/>
              <a:ext cx="0" cy="1371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Line 22"/>
            <p:cNvSpPr/>
            <p:nvPr/>
          </p:nvSpPr>
          <p:spPr>
            <a:xfrm>
              <a:off x="8572680" y="5181480"/>
              <a:ext cx="0" cy="1371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Line 23"/>
            <p:cNvSpPr/>
            <p:nvPr/>
          </p:nvSpPr>
          <p:spPr>
            <a:xfrm>
              <a:off x="4000680" y="5181480"/>
              <a:ext cx="0" cy="1371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Line 24"/>
            <p:cNvSpPr/>
            <p:nvPr/>
          </p:nvSpPr>
          <p:spPr>
            <a:xfrm>
              <a:off x="3695760" y="5181480"/>
              <a:ext cx="0" cy="1371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Line 25"/>
            <p:cNvSpPr/>
            <p:nvPr/>
          </p:nvSpPr>
          <p:spPr>
            <a:xfrm>
              <a:off x="3390840" y="5181480"/>
              <a:ext cx="0" cy="1371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Line 26"/>
            <p:cNvSpPr/>
            <p:nvPr/>
          </p:nvSpPr>
          <p:spPr>
            <a:xfrm>
              <a:off x="3086280" y="5181480"/>
              <a:ext cx="0" cy="1371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Line 27"/>
            <p:cNvSpPr/>
            <p:nvPr/>
          </p:nvSpPr>
          <p:spPr>
            <a:xfrm>
              <a:off x="2781360" y="5181480"/>
              <a:ext cx="0" cy="1371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Line 28"/>
            <p:cNvSpPr/>
            <p:nvPr/>
          </p:nvSpPr>
          <p:spPr>
            <a:xfrm>
              <a:off x="2476440" y="5181480"/>
              <a:ext cx="0" cy="1371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Line 29"/>
            <p:cNvSpPr/>
            <p:nvPr/>
          </p:nvSpPr>
          <p:spPr>
            <a:xfrm>
              <a:off x="2171880" y="5181480"/>
              <a:ext cx="0" cy="1371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Line 30"/>
            <p:cNvSpPr/>
            <p:nvPr/>
          </p:nvSpPr>
          <p:spPr>
            <a:xfrm>
              <a:off x="1866960" y="5181480"/>
              <a:ext cx="0" cy="1371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Line 31"/>
            <p:cNvSpPr/>
            <p:nvPr/>
          </p:nvSpPr>
          <p:spPr>
            <a:xfrm>
              <a:off x="1562040" y="5181480"/>
              <a:ext cx="0" cy="1371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Line 32"/>
            <p:cNvSpPr/>
            <p:nvPr/>
          </p:nvSpPr>
          <p:spPr>
            <a:xfrm>
              <a:off x="4876920" y="5181480"/>
              <a:ext cx="0" cy="1371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5"/>
          <p:cNvSpPr/>
          <p:nvPr/>
        </p:nvSpPr>
        <p:spPr>
          <a:xfrm>
            <a:off x="7093080" y="655308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A22ED-5335-48DB-9DD2-8BD261EDFFCF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Example of Horspool’s alg. application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3160" y="1266840"/>
            <a:ext cx="838188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BARD LOVED BANANA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BAOBAB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BAOBAB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BAOBAB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BAOBAB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unsuccessful search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164" name="Group 74"/>
          <p:cNvGrpSpPr/>
          <p:nvPr/>
        </p:nvGrpSpPr>
        <p:grpSpPr>
          <a:xfrm>
            <a:off x="609480" y="1219320"/>
            <a:ext cx="8382240" cy="1371600"/>
            <a:chOff x="609480" y="1219320"/>
            <a:chExt cx="8382240" cy="1371600"/>
          </a:xfrm>
        </p:grpSpPr>
        <p:grpSp>
          <p:nvGrpSpPr>
            <p:cNvPr id="165" name="Group 73"/>
            <p:cNvGrpSpPr/>
            <p:nvPr/>
          </p:nvGrpSpPr>
          <p:grpSpPr>
            <a:xfrm>
              <a:off x="609480" y="1219320"/>
              <a:ext cx="8305920" cy="1371600"/>
              <a:chOff x="609480" y="1219320"/>
              <a:chExt cx="8305920" cy="1371600"/>
            </a:xfrm>
          </p:grpSpPr>
          <p:grpSp>
            <p:nvGrpSpPr>
              <p:cNvPr id="166" name="Group 32"/>
              <p:cNvGrpSpPr/>
              <p:nvPr/>
            </p:nvGrpSpPr>
            <p:grpSpPr>
              <a:xfrm>
                <a:off x="609480" y="1219320"/>
                <a:ext cx="8001000" cy="1371240"/>
                <a:chOff x="609480" y="1219320"/>
                <a:chExt cx="8001000" cy="1371240"/>
              </a:xfrm>
            </p:grpSpPr>
            <p:sp>
              <p:nvSpPr>
                <p:cNvPr id="167" name="Rectangle 33"/>
                <p:cNvSpPr/>
                <p:nvPr/>
              </p:nvSpPr>
              <p:spPr>
                <a:xfrm>
                  <a:off x="609480" y="1219320"/>
                  <a:ext cx="8001000" cy="685440"/>
                </a:xfrm>
                <a:prstGeom prst="rect">
                  <a:avLst/>
                </a:prstGeom>
                <a:solidFill>
                  <a:srgbClr val="99ffcc"/>
                </a:solidFill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1932"/>
                      </a:solidFill>
                      <a:latin typeface="Courier New"/>
                    </a:rPr>
                    <a:t>A B C D E F G H I J K L M N O P Q R S T U V W X Y Z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Rectangle 34"/>
                <p:cNvSpPr/>
                <p:nvPr/>
              </p:nvSpPr>
              <p:spPr>
                <a:xfrm>
                  <a:off x="609480" y="1904760"/>
                  <a:ext cx="8001000" cy="685440"/>
                </a:xfrm>
                <a:prstGeom prst="rect">
                  <a:avLst/>
                </a:prstGeom>
                <a:solidFill>
                  <a:srgbClr val="99ffcc"/>
                </a:solidFill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1932"/>
                      </a:solidFill>
                      <a:latin typeface="Courier New"/>
                    </a:rPr>
                    <a:t>1 2 6 6 6 6 6 6 6 6 6 6 6 6 3 6 6 6 6 6 6 6 6 6 6 6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Line 35"/>
                <p:cNvSpPr/>
                <p:nvPr/>
              </p:nvSpPr>
              <p:spPr>
                <a:xfrm>
                  <a:off x="95256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Line 36"/>
                <p:cNvSpPr/>
                <p:nvPr/>
              </p:nvSpPr>
              <p:spPr>
                <a:xfrm>
                  <a:off x="400032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Line 37"/>
                <p:cNvSpPr/>
                <p:nvPr/>
              </p:nvSpPr>
              <p:spPr>
                <a:xfrm>
                  <a:off x="430524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Line 38"/>
                <p:cNvSpPr/>
                <p:nvPr/>
              </p:nvSpPr>
              <p:spPr>
                <a:xfrm>
                  <a:off x="491472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Line 39"/>
                <p:cNvSpPr/>
                <p:nvPr/>
              </p:nvSpPr>
              <p:spPr>
                <a:xfrm>
                  <a:off x="521964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Line 40"/>
                <p:cNvSpPr/>
                <p:nvPr/>
              </p:nvSpPr>
              <p:spPr>
                <a:xfrm>
                  <a:off x="552456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Line 41"/>
                <p:cNvSpPr/>
                <p:nvPr/>
              </p:nvSpPr>
              <p:spPr>
                <a:xfrm>
                  <a:off x="582912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Line 42"/>
                <p:cNvSpPr/>
                <p:nvPr/>
              </p:nvSpPr>
              <p:spPr>
                <a:xfrm>
                  <a:off x="613404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Line 43"/>
                <p:cNvSpPr/>
                <p:nvPr/>
              </p:nvSpPr>
              <p:spPr>
                <a:xfrm>
                  <a:off x="643896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Line 44"/>
                <p:cNvSpPr/>
                <p:nvPr/>
              </p:nvSpPr>
              <p:spPr>
                <a:xfrm>
                  <a:off x="674352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Line 45"/>
                <p:cNvSpPr/>
                <p:nvPr/>
              </p:nvSpPr>
              <p:spPr>
                <a:xfrm>
                  <a:off x="704844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Line 46"/>
                <p:cNvSpPr/>
                <p:nvPr/>
              </p:nvSpPr>
              <p:spPr>
                <a:xfrm>
                  <a:off x="735336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Line 47"/>
                <p:cNvSpPr/>
                <p:nvPr/>
              </p:nvSpPr>
              <p:spPr>
                <a:xfrm>
                  <a:off x="765792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Line 48"/>
                <p:cNvSpPr/>
                <p:nvPr/>
              </p:nvSpPr>
              <p:spPr>
                <a:xfrm>
                  <a:off x="796284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Line 49"/>
                <p:cNvSpPr/>
                <p:nvPr/>
              </p:nvSpPr>
              <p:spPr>
                <a:xfrm>
                  <a:off x="826776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Line 50"/>
                <p:cNvSpPr/>
                <p:nvPr/>
              </p:nvSpPr>
              <p:spPr>
                <a:xfrm>
                  <a:off x="369576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Line 51"/>
                <p:cNvSpPr/>
                <p:nvPr/>
              </p:nvSpPr>
              <p:spPr>
                <a:xfrm>
                  <a:off x="339084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Line 52"/>
                <p:cNvSpPr/>
                <p:nvPr/>
              </p:nvSpPr>
              <p:spPr>
                <a:xfrm>
                  <a:off x="308592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Line 53"/>
                <p:cNvSpPr/>
                <p:nvPr/>
              </p:nvSpPr>
              <p:spPr>
                <a:xfrm>
                  <a:off x="278136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Line 54"/>
                <p:cNvSpPr/>
                <p:nvPr/>
              </p:nvSpPr>
              <p:spPr>
                <a:xfrm>
                  <a:off x="247644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Line 55"/>
                <p:cNvSpPr/>
                <p:nvPr/>
              </p:nvSpPr>
              <p:spPr>
                <a:xfrm>
                  <a:off x="217152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Line 56"/>
                <p:cNvSpPr/>
                <p:nvPr/>
              </p:nvSpPr>
              <p:spPr>
                <a:xfrm>
                  <a:off x="186696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Line 57"/>
                <p:cNvSpPr/>
                <p:nvPr/>
              </p:nvSpPr>
              <p:spPr>
                <a:xfrm>
                  <a:off x="156204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Line 58"/>
                <p:cNvSpPr/>
                <p:nvPr/>
              </p:nvSpPr>
              <p:spPr>
                <a:xfrm>
                  <a:off x="125712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Line 59"/>
                <p:cNvSpPr/>
                <p:nvPr/>
              </p:nvSpPr>
              <p:spPr>
                <a:xfrm>
                  <a:off x="457200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4" name="Rectangle 67"/>
              <p:cNvSpPr/>
              <p:nvPr/>
            </p:nvSpPr>
            <p:spPr>
              <a:xfrm>
                <a:off x="8610480" y="1219320"/>
                <a:ext cx="304920" cy="1371600"/>
              </a:xfrm>
              <a:prstGeom prst="rect">
                <a:avLst/>
              </a:prstGeom>
              <a:solidFill>
                <a:srgbClr val="99ffcc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5" name="Line 68"/>
            <p:cNvSpPr/>
            <p:nvPr/>
          </p:nvSpPr>
          <p:spPr>
            <a:xfrm>
              <a:off x="8610480" y="1905120"/>
              <a:ext cx="3049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Text Box 71"/>
            <p:cNvSpPr/>
            <p:nvPr/>
          </p:nvSpPr>
          <p:spPr>
            <a:xfrm>
              <a:off x="8534520" y="1219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1932"/>
                  </a:solidFill>
                  <a:latin typeface="Times New Roman"/>
                </a:rPr>
                <a:t>_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Text Box 72"/>
            <p:cNvSpPr/>
            <p:nvPr/>
          </p:nvSpPr>
          <p:spPr>
            <a:xfrm>
              <a:off x="8610480" y="205740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1932"/>
                  </a:solidFill>
                  <a:latin typeface="Courier New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5"/>
          <p:cNvSpPr/>
          <p:nvPr/>
        </p:nvSpPr>
        <p:spPr>
          <a:xfrm>
            <a:off x="7093080" y="655308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0BCE1-7E75-4FFB-9029-9DCEDC3DB202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Boyer-Moore algorithm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3160" y="1266840"/>
            <a:ext cx="838188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ased on same two ideas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mparing pattern characters to text from right to left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recomputing shift sizes in two tables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bad-symbol table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ndicates how much to shift based on text’s character causing a mismatch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good-suffix table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ndicates how much to shift based on matched part (suffix) of the patter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5"/>
          <p:cNvSpPr/>
          <p:nvPr/>
        </p:nvSpPr>
        <p:spPr>
          <a:xfrm>
            <a:off x="7093080" y="655308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C33CF-3E8F-4557-8538-9C9B0950A9AE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Bad-symbol shift in Boyer-Moore algorithm</a:t>
            </a:r>
            <a:endParaRPr b="1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3160" y="1266840"/>
            <a:ext cx="838188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f the rightmost character of the pattern doesn’t match, BM algorithm acts as Horspool’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f the rightmost character of the pattern does match, BM compares preceding characters right to left until either all pattern’s characters match or a mismatch on text’s character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c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s encountered after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k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&gt; 0 matche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ext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                              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attern 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ad-symbol shift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ax{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c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-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 1}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1447920" y="3733920"/>
            <a:ext cx="6933960" cy="457200"/>
          </a:xfrm>
          <a:prstGeom prst="rect">
            <a:avLst/>
          </a:prstGeom>
          <a:solidFill>
            <a:srgbClr val="99ff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1932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Line 5"/>
          <p:cNvSpPr/>
          <p:nvPr/>
        </p:nvSpPr>
        <p:spPr>
          <a:xfrm>
            <a:off x="4648320" y="3733920"/>
            <a:ext cx="0" cy="457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Line 6"/>
          <p:cNvSpPr/>
          <p:nvPr/>
        </p:nvSpPr>
        <p:spPr>
          <a:xfrm>
            <a:off x="5105520" y="3733920"/>
            <a:ext cx="0" cy="457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Line 7"/>
          <p:cNvSpPr/>
          <p:nvPr/>
        </p:nvSpPr>
        <p:spPr>
          <a:xfrm>
            <a:off x="6477120" y="3733920"/>
            <a:ext cx="0" cy="457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Rectangle 8"/>
          <p:cNvSpPr/>
          <p:nvPr/>
        </p:nvSpPr>
        <p:spPr>
          <a:xfrm>
            <a:off x="3733920" y="4724280"/>
            <a:ext cx="2743200" cy="457200"/>
          </a:xfrm>
          <a:prstGeom prst="rect">
            <a:avLst/>
          </a:prstGeom>
          <a:solidFill>
            <a:srgbClr val="99ff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Line 9"/>
          <p:cNvSpPr/>
          <p:nvPr/>
        </p:nvSpPr>
        <p:spPr>
          <a:xfrm>
            <a:off x="5105520" y="4724280"/>
            <a:ext cx="0" cy="457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Line 10"/>
          <p:cNvSpPr/>
          <p:nvPr/>
        </p:nvSpPr>
        <p:spPr>
          <a:xfrm>
            <a:off x="4648320" y="4724280"/>
            <a:ext cx="0" cy="457200"/>
          </a:xfrm>
          <a:prstGeom prst="line">
            <a:avLst/>
          </a:prstGeom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Line 11"/>
          <p:cNvSpPr/>
          <p:nvPr/>
        </p:nvSpPr>
        <p:spPr>
          <a:xfrm>
            <a:off x="4876920" y="4267080"/>
            <a:ext cx="0" cy="381240"/>
          </a:xfrm>
          <a:prstGeom prst="line">
            <a:avLst/>
          </a:prstGeom>
          <a:ln w="1260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Line 12"/>
          <p:cNvSpPr/>
          <p:nvPr/>
        </p:nvSpPr>
        <p:spPr>
          <a:xfrm>
            <a:off x="4952880" y="4267080"/>
            <a:ext cx="0" cy="381240"/>
          </a:xfrm>
          <a:prstGeom prst="line">
            <a:avLst/>
          </a:prstGeom>
          <a:ln w="1260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Line 13"/>
          <p:cNvSpPr/>
          <p:nvPr/>
        </p:nvSpPr>
        <p:spPr>
          <a:xfrm flipV="1">
            <a:off x="4800600" y="4343040"/>
            <a:ext cx="304920" cy="152280"/>
          </a:xfrm>
          <a:prstGeom prst="line">
            <a:avLst/>
          </a:prstGeom>
          <a:ln w="1260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Text Box 15"/>
          <p:cNvSpPr/>
          <p:nvPr/>
        </p:nvSpPr>
        <p:spPr>
          <a:xfrm>
            <a:off x="5105520" y="42670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1932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match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3T17:38:43Z</dcterms:created>
  <dc:creator>Anany Levitin</dc:creator>
  <dc:description/>
  <dc:language>en-US</dc:language>
  <cp:lastModifiedBy>OUAHID</cp:lastModifiedBy>
  <dcterms:modified xsi:type="dcterms:W3CDTF">2013-06-12T07:57:13Z</dcterms:modified>
  <cp:revision>95</cp:revision>
  <dc:subject/>
  <dc:title>Chapter 7:  Space and Time Tradeoffs </dc:title>
</cp:coreProperties>
</file>