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B80C8-D3AB-404B-9F7D-9D8E1DE6B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C631C-ADB1-443D-915B-FE9926E582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4DDC1-2F07-4FCC-B40F-00061BDB54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9E53F-97E6-4310-8FA4-A7DA36E478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2231E-E9CC-46AA-8CB6-2A3201DD15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FA6AD-2507-4CA0-93DD-63BEE0284E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293C5-AF40-419C-91A4-6337DB02D8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D0090-BCEB-4287-AEBD-4DD27DBC8E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92A72-CF70-464B-99E4-FC8780F417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B2426-5C4D-4776-A7E0-AB35D69661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4F1E5-340D-474E-BC6C-9B45A46EC5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340EF-9B54-4359-BE92-A12C9E7378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251C6-AF45-43BF-86AE-73B7159C5B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AAF6F-A8D5-4EA9-9C30-836B83A433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16D9A-9A6C-463D-AAF9-E6855FF3FC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9A477-F287-4A60-81D8-7FAAF8A4B4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049D1-363F-4C63-8592-C49039FF20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A3D12-8403-4C54-A6ED-614B960715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014BC-11F3-4B34-B9A8-490E09FAA4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59045-B27E-4E2C-8797-A2A6E6A051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7480" y="68580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B31FB-73F0-457C-B3C2-43ABA7BBC8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0D1AB-9925-4778-9974-5F6DB394DE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4FCE-634E-4F9B-A982-5FADD2E8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160" y="382932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4AD-F379-439C-8D23-B2BEA6F6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2832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41A-E7BF-4B10-B3BC-8F5D6314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6708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0100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3316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6708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0100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8D0-5D2A-44FD-88BF-26A2D41B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B50F-AC31-4545-B08D-C77E65BF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AC9B-E179-4B9B-88F9-3404B2A6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0B8D-0FA9-4B00-A0EF-0C3CED79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97EF-A937-4F50-89CF-03D50FFC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CCA5-A938-493B-9A60-955DD2A6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610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E862-B87D-4FC0-9DBE-564349DD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86BF-FFF8-4C9C-9FA4-81ACE93F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544-C8E0-41D0-88AC-9DCCCB31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832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9E7A-A7DC-4EBC-A05E-3ADA4846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F375-8E9A-42BB-852D-4B2B0D2B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3160" y="382932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6A0A-2F93-431F-88F9-B750B2E7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832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5DC3-6627-48B3-BFD6-1AD92CD8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6708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01000" y="126684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3316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6708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01000" y="3829320"/>
            <a:ext cx="269856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912D-2F51-479A-A5D8-3BD8744D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4D3E-3205-44C0-AE47-E5D37384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6CB-9BBB-4716-9EC8-369706E4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A495-BECD-4B07-AC8E-3103DFDB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610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4DD-3B57-4417-8B37-8B806A18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009A-2922-4BF3-87E6-DE6D3AE8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28320" y="382932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573C-3546-4EFE-BEAD-CA541CCD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8320" y="1266840"/>
            <a:ext cx="40903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160" y="3829320"/>
            <a:ext cx="838188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0370-5B1F-48A3-BFD5-EEE6647D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. Levitin “Introduction to the Design &amp; Analysis of Algorithms,” 3rd ed., Ch. 7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09272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19B0-9261-4742-B2F1-C07EAF61E9E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7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CFC6-439E-4AD7-B5CD-8429025DA4A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5F74-B097-4488-9858-FFED530039F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pace-for-time tradeoff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varieties of space-for-time algorithms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input enhance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reprocess the input (or its part) to store some info to be used later in solving the problem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nting sor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ring searching algorith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restructur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reprocess the input to make accessing its elements easi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as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dexing schemes (e.g., B-tree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27A1-0B81-466C-8AE3-9A6D79F747C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Good-suffix shift in Boyer-Moore algorithm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822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od-suffix shif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pplied after 0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ast characters were match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the distance between matched suffix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its rightmost occurrence in the pattern that is not preceded by the same character as the suffix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CABAB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1) = 4   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re is no such occurrence, match the longest part of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haracter suffix with corresponding prefix;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re are no such suffix-prefix matches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WOWWOW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2) = 5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3) = 3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4) = 3,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5) = 3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B8D2-AF2B-4078-9B0C-495DF89A978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Good-suffix shift in the Boyer-Moore alg. (cont.)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fter matching successfully 0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s, the algorithm shifts the pattern right b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max 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}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x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1} is bad-symbol shif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s good-suffix shif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9E43-0B26-4AC3-987B-24EA9AC3226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oyer-Moore Algorithm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Fill in the bad-symbol shift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 Fill in the good-suffix shift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Align the pattern against the beginning of the tex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4  Repeat until a matching substring is found or text end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e the corresponding characters right to left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no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s match, retrieve entr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rom the bad-symbol table for the text’s charac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using the mismatch and shift the pattern to the right b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0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s are matched,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etrieve entr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rom the bad-symbol table for the text’s charac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using the mismatch and entry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from the good-suffix table and shift the pattern to the right b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max 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}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x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1}.</a:t>
            </a:r>
            <a:br>
              <a:rPr sz="12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6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C9DF-89F2-4560-97E9-C12BAB7A6A8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80"/>
          <p:cNvSpPr/>
          <p:nvPr/>
        </p:nvSpPr>
        <p:spPr>
          <a:xfrm>
            <a:off x="609480" y="4114800"/>
            <a:ext cx="2057400" cy="243828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Boyer-Moore alg. applic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266480"/>
            <a:ext cx="861048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6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 E S S _ K N E W _ A B O U T _ B A O B A B 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 A O B A 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= 6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B A O B A 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-2 = 4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               </a:t>
            </a:r>
            <a:r>
              <a:rPr b="1" i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(2) = 5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 A O B A 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r>
              <a:rPr b="1" i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 = </a:t>
            </a:r>
            <a:r>
              <a:rPr b="1" i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(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Courier New"/>
              </a:rPr>
              <a:t>_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)-1 = 5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1) = 2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 A O B A B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success)</a:t>
            </a:r>
            <a:r>
              <a:rPr b="1" lang="en-US" sz="1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99"/>
                </a:solidFill>
                <a:latin typeface="Courier New"/>
              </a:rPr>
              <a:t>    </a:t>
            </a:r>
            <a:br>
              <a:rPr sz="1400"/>
            </a:b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  <a:p>
            <a:pPr marL="96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609480" y="1219320"/>
            <a:ext cx="8382240" cy="1371600"/>
            <a:chOff x="609480" y="1219320"/>
            <a:chExt cx="8382240" cy="1371600"/>
          </a:xfrm>
        </p:grpSpPr>
        <p:grpSp>
          <p:nvGrpSpPr>
            <p:cNvPr id="229" name="Group 5"/>
            <p:cNvGrpSpPr/>
            <p:nvPr/>
          </p:nvGrpSpPr>
          <p:grpSpPr>
            <a:xfrm>
              <a:off x="609480" y="1219320"/>
              <a:ext cx="8305920" cy="1371600"/>
              <a:chOff x="609480" y="1219320"/>
              <a:chExt cx="8305920" cy="1371600"/>
            </a:xfrm>
          </p:grpSpPr>
          <p:grpSp>
            <p:nvGrpSpPr>
              <p:cNvPr id="230" name="Group 6"/>
              <p:cNvGrpSpPr/>
              <p:nvPr/>
            </p:nvGrpSpPr>
            <p:grpSpPr>
              <a:xfrm>
                <a:off x="609480" y="1219320"/>
                <a:ext cx="8001000" cy="1371240"/>
                <a:chOff x="609480" y="1219320"/>
                <a:chExt cx="8001000" cy="1371240"/>
              </a:xfrm>
            </p:grpSpPr>
            <p:sp>
              <p:nvSpPr>
                <p:cNvPr id="231" name="Rectangle 7"/>
                <p:cNvSpPr/>
                <p:nvPr/>
              </p:nvSpPr>
              <p:spPr>
                <a:xfrm>
                  <a:off x="609480" y="1219320"/>
                  <a:ext cx="8001000" cy="685440"/>
                </a:xfrm>
                <a:prstGeom prst="rect">
                  <a:avLst/>
                </a:prstGeom>
                <a:solidFill>
                  <a:srgbClr val="99ff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1932"/>
                      </a:solidFill>
                      <a:latin typeface="Courier New"/>
                    </a:rPr>
                    <a:t>A B C D E F G H I J K L M N O P Q R S T U V W X Y Z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8"/>
                <p:cNvSpPr/>
                <p:nvPr/>
              </p:nvSpPr>
              <p:spPr>
                <a:xfrm>
                  <a:off x="609480" y="1904760"/>
                  <a:ext cx="8001000" cy="685440"/>
                </a:xfrm>
                <a:prstGeom prst="rect">
                  <a:avLst/>
                </a:prstGeom>
                <a:solidFill>
                  <a:srgbClr val="99ff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1932"/>
                      </a:solidFill>
                      <a:latin typeface="Courier New"/>
                    </a:rPr>
                    <a:t>1 2 6 6 6 6 6 6 6 6 6 6 6 6 3 6 6 6 6 6 6 6 6 6 6 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Line 9"/>
                <p:cNvSpPr/>
                <p:nvPr/>
              </p:nvSpPr>
              <p:spPr>
                <a:xfrm>
                  <a:off x="9525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Line 10"/>
                <p:cNvSpPr/>
                <p:nvPr/>
              </p:nvSpPr>
              <p:spPr>
                <a:xfrm>
                  <a:off x="40003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Line 11"/>
                <p:cNvSpPr/>
                <p:nvPr/>
              </p:nvSpPr>
              <p:spPr>
                <a:xfrm>
                  <a:off x="43052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Line 12"/>
                <p:cNvSpPr/>
                <p:nvPr/>
              </p:nvSpPr>
              <p:spPr>
                <a:xfrm>
                  <a:off x="49147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Line 13"/>
                <p:cNvSpPr/>
                <p:nvPr/>
              </p:nvSpPr>
              <p:spPr>
                <a:xfrm>
                  <a:off x="52196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Line 14"/>
                <p:cNvSpPr/>
                <p:nvPr/>
              </p:nvSpPr>
              <p:spPr>
                <a:xfrm>
                  <a:off x="55245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Line 15"/>
                <p:cNvSpPr/>
                <p:nvPr/>
              </p:nvSpPr>
              <p:spPr>
                <a:xfrm>
                  <a:off x="58291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Line 16"/>
                <p:cNvSpPr/>
                <p:nvPr/>
              </p:nvSpPr>
              <p:spPr>
                <a:xfrm>
                  <a:off x="61340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17"/>
                <p:cNvSpPr/>
                <p:nvPr/>
              </p:nvSpPr>
              <p:spPr>
                <a:xfrm>
                  <a:off x="64389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Line 18"/>
                <p:cNvSpPr/>
                <p:nvPr/>
              </p:nvSpPr>
              <p:spPr>
                <a:xfrm>
                  <a:off x="67435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Line 19"/>
                <p:cNvSpPr/>
                <p:nvPr/>
              </p:nvSpPr>
              <p:spPr>
                <a:xfrm>
                  <a:off x="70484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Line 20"/>
                <p:cNvSpPr/>
                <p:nvPr/>
              </p:nvSpPr>
              <p:spPr>
                <a:xfrm>
                  <a:off x="73533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Line 21"/>
                <p:cNvSpPr/>
                <p:nvPr/>
              </p:nvSpPr>
              <p:spPr>
                <a:xfrm>
                  <a:off x="76579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Line 22"/>
                <p:cNvSpPr/>
                <p:nvPr/>
              </p:nvSpPr>
              <p:spPr>
                <a:xfrm>
                  <a:off x="79628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Line 23"/>
                <p:cNvSpPr/>
                <p:nvPr/>
              </p:nvSpPr>
              <p:spPr>
                <a:xfrm>
                  <a:off x="82677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Line 24"/>
                <p:cNvSpPr/>
                <p:nvPr/>
              </p:nvSpPr>
              <p:spPr>
                <a:xfrm>
                  <a:off x="36957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Line 25"/>
                <p:cNvSpPr/>
                <p:nvPr/>
              </p:nvSpPr>
              <p:spPr>
                <a:xfrm>
                  <a:off x="33908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26"/>
                <p:cNvSpPr/>
                <p:nvPr/>
              </p:nvSpPr>
              <p:spPr>
                <a:xfrm>
                  <a:off x="30859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27"/>
                <p:cNvSpPr/>
                <p:nvPr/>
              </p:nvSpPr>
              <p:spPr>
                <a:xfrm>
                  <a:off x="27813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Line 28"/>
                <p:cNvSpPr/>
                <p:nvPr/>
              </p:nvSpPr>
              <p:spPr>
                <a:xfrm>
                  <a:off x="24764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Line 29"/>
                <p:cNvSpPr/>
                <p:nvPr/>
              </p:nvSpPr>
              <p:spPr>
                <a:xfrm>
                  <a:off x="21715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Line 30"/>
                <p:cNvSpPr/>
                <p:nvPr/>
              </p:nvSpPr>
              <p:spPr>
                <a:xfrm>
                  <a:off x="18669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Line 31"/>
                <p:cNvSpPr/>
                <p:nvPr/>
              </p:nvSpPr>
              <p:spPr>
                <a:xfrm>
                  <a:off x="15620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Line 32"/>
                <p:cNvSpPr/>
                <p:nvPr/>
              </p:nvSpPr>
              <p:spPr>
                <a:xfrm>
                  <a:off x="12571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Line 33"/>
                <p:cNvSpPr/>
                <p:nvPr/>
              </p:nvSpPr>
              <p:spPr>
                <a:xfrm>
                  <a:off x="457200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" name="Rectangle 34"/>
              <p:cNvSpPr/>
              <p:nvPr/>
            </p:nvSpPr>
            <p:spPr>
              <a:xfrm>
                <a:off x="8610480" y="1219320"/>
                <a:ext cx="304920" cy="1371600"/>
              </a:xfrm>
              <a:prstGeom prst="rect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9" name="Line 35"/>
            <p:cNvSpPr/>
            <p:nvPr/>
          </p:nvSpPr>
          <p:spPr>
            <a:xfrm>
              <a:off x="8610480" y="1905120"/>
              <a:ext cx="304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Text Box 36"/>
            <p:cNvSpPr/>
            <p:nvPr/>
          </p:nvSpPr>
          <p:spPr>
            <a:xfrm>
              <a:off x="8534520" y="1219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932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 Box 37"/>
            <p:cNvSpPr/>
            <p:nvPr/>
          </p:nvSpPr>
          <p:spPr>
            <a:xfrm>
              <a:off x="8610480" y="20574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62" name=""/>
          <p:cNvGraphicFramePr/>
          <p:nvPr/>
        </p:nvGraphicFramePr>
        <p:xfrm>
          <a:off x="609480" y="4114800"/>
          <a:ext cx="2057400" cy="2413080"/>
        </p:xfrm>
        <a:graphic>
          <a:graphicData uri="http://schemas.openxmlformats.org/drawingml/2006/table">
            <a:tbl>
              <a:tblPr/>
              <a:tblGrid>
                <a:gridCol w="457200"/>
                <a:gridCol w="1143000"/>
                <a:gridCol w="4572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patter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d</a:t>
                      </a:r>
                      <a:r>
                        <a:rPr b="1" lang="en-US" sz="2000" spc="-1" strike="noStrike" baseline="-25000">
                          <a:solidFill>
                            <a:srgbClr val="001932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AO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OB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O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A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OB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Courier New"/>
                        </a:rPr>
                        <a:t>BAOBA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1932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Line 87"/>
          <p:cNvSpPr/>
          <p:nvPr/>
        </p:nvSpPr>
        <p:spPr>
          <a:xfrm>
            <a:off x="2666880" y="4114800"/>
            <a:ext cx="0" cy="2438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88"/>
          <p:cNvSpPr/>
          <p:nvPr/>
        </p:nvSpPr>
        <p:spPr>
          <a:xfrm>
            <a:off x="609480" y="4114800"/>
            <a:ext cx="0" cy="2438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Group 96"/>
          <p:cNvGrpSpPr/>
          <p:nvPr/>
        </p:nvGrpSpPr>
        <p:grpSpPr>
          <a:xfrm>
            <a:off x="609480" y="4114800"/>
            <a:ext cx="2057400" cy="2438280"/>
            <a:chOff x="609480" y="4114800"/>
            <a:chExt cx="2057400" cy="2438280"/>
          </a:xfrm>
        </p:grpSpPr>
        <p:sp>
          <p:nvSpPr>
            <p:cNvPr id="266" name="Line 81"/>
            <p:cNvSpPr/>
            <p:nvPr/>
          </p:nvSpPr>
          <p:spPr>
            <a:xfrm>
              <a:off x="609480" y="457200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Line 82"/>
            <p:cNvSpPr/>
            <p:nvPr/>
          </p:nvSpPr>
          <p:spPr>
            <a:xfrm>
              <a:off x="609480" y="495288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Line 83"/>
            <p:cNvSpPr/>
            <p:nvPr/>
          </p:nvSpPr>
          <p:spPr>
            <a:xfrm>
              <a:off x="609480" y="533412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Line 84"/>
            <p:cNvSpPr/>
            <p:nvPr/>
          </p:nvSpPr>
          <p:spPr>
            <a:xfrm>
              <a:off x="609480" y="571500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Line 85"/>
            <p:cNvSpPr/>
            <p:nvPr/>
          </p:nvSpPr>
          <p:spPr>
            <a:xfrm>
              <a:off x="609480" y="609588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86"/>
            <p:cNvSpPr/>
            <p:nvPr/>
          </p:nvSpPr>
          <p:spPr>
            <a:xfrm>
              <a:off x="609480" y="655308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Line 90"/>
            <p:cNvSpPr/>
            <p:nvPr/>
          </p:nvSpPr>
          <p:spPr>
            <a:xfrm>
              <a:off x="1066680" y="4114800"/>
              <a:ext cx="0" cy="243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91"/>
            <p:cNvSpPr/>
            <p:nvPr/>
          </p:nvSpPr>
          <p:spPr>
            <a:xfrm>
              <a:off x="2209680" y="4114800"/>
              <a:ext cx="0" cy="2438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Line 95"/>
            <p:cNvSpPr/>
            <p:nvPr/>
          </p:nvSpPr>
          <p:spPr>
            <a:xfrm>
              <a:off x="609480" y="4114800"/>
              <a:ext cx="2057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7F04-4980-4E3F-A8BF-777D40A8DFF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oyer-Moore example from their paper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880" y="1266840"/>
            <a:ext cx="87631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 pattern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HA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WHIC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FINALL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HALTS.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_ _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A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_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TH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E49E-B8C3-4B66-8EA3-B8B5B4D4FF8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588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ash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266840"/>
            <a:ext cx="87631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 very efficient method  for implementing a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dictionary,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.e.,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 set with the operations: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d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sert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Based on representation-change and space-for-time tradeoff ideas</a:t>
            </a:r>
            <a:br>
              <a:rPr sz="2800"/>
            </a:b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mportant applications: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ymbol tab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atabases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extendible hash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AD49-102C-40F9-B357-F0AC6DE0717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ash tables and hash function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idea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sh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to map keys of a given file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t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table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sh tab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using a predefin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unction, called th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ash func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location (cell) in the hash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student records, key = SSN.  Hash function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mo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some integer (typically, prim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1000, where is record with SSN= 314159265 stored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enerally, a hash function should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 easy to compu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858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stribute keys about evenly throughout the hash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BCCA-BD6F-497B-A29B-80154F086EC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ollision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266480"/>
            <a:ext cx="8839080" cy="55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= 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 there is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ollis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od hash functions result in fewer collisions but some collisions should be expected 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irthday paradox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wo principal hashing schemes handle collisions differently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Open hashing</a:t>
            </a:r>
            <a:br>
              <a:rPr sz="2000"/>
            </a:br>
            <a:r>
              <a:rPr b="0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ach cell is a header of linked list of all keys hashed to i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Closed hashing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one key per cell 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in case of collision, finds another cell by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linear probing: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use next free bucket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double hashing: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use second hash function to compute increment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C01E-5CC9-4580-9AA3-EE9CD719A5F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n hashing (Separate chaining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eys are stored in linked lists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outsi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 hash table who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lements serve as the lists’ header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, FOOL, AND, HIS, MONEY, ARE, SOON, PART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sum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‘s letters’ positions in the alphabet MOD 13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09480" y="3276720"/>
          <a:ext cx="8077320" cy="792000"/>
        </p:xfrm>
        <a:graphic>
          <a:graphicData uri="http://schemas.openxmlformats.org/drawingml/2006/table">
            <a:tbl>
              <a:tblPr/>
              <a:tblGrid>
                <a:gridCol w="762120"/>
                <a:gridCol w="457200"/>
                <a:gridCol w="914400"/>
                <a:gridCol w="762120"/>
                <a:gridCol w="766800"/>
                <a:gridCol w="1290600"/>
                <a:gridCol w="838080"/>
                <a:gridCol w="990720"/>
                <a:gridCol w="1295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AR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57200" y="4572000"/>
          <a:ext cx="8305920" cy="396720"/>
        </p:xfrm>
        <a:graphic>
          <a:graphicData uri="http://schemas.openxmlformats.org/drawingml/2006/table">
            <a:tbl>
              <a:tblPr/>
              <a:tblGrid>
                <a:gridCol w="665280"/>
                <a:gridCol w="582480"/>
                <a:gridCol w="655560"/>
                <a:gridCol w="582840"/>
                <a:gridCol w="509400"/>
                <a:gridCol w="509760"/>
                <a:gridCol w="655560"/>
                <a:gridCol w="874800"/>
                <a:gridCol w="363240"/>
                <a:gridCol w="801720"/>
                <a:gridCol w="509760"/>
                <a:gridCol w="728640"/>
                <a:gridCol w="8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Text Box 66"/>
          <p:cNvSpPr/>
          <p:nvPr/>
        </p:nvSpPr>
        <p:spPr>
          <a:xfrm>
            <a:off x="1219320" y="52578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67"/>
          <p:cNvSpPr/>
          <p:nvPr/>
        </p:nvSpPr>
        <p:spPr>
          <a:xfrm>
            <a:off x="137160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68"/>
          <p:cNvSpPr/>
          <p:nvPr/>
        </p:nvSpPr>
        <p:spPr>
          <a:xfrm>
            <a:off x="624852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69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70"/>
          <p:cNvSpPr/>
          <p:nvPr/>
        </p:nvSpPr>
        <p:spPr>
          <a:xfrm>
            <a:off x="838188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71"/>
          <p:cNvSpPr/>
          <p:nvPr/>
        </p:nvSpPr>
        <p:spPr>
          <a:xfrm>
            <a:off x="5791320" y="52578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Line 72"/>
          <p:cNvSpPr/>
          <p:nvPr/>
        </p:nvSpPr>
        <p:spPr>
          <a:xfrm>
            <a:off x="426708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73"/>
          <p:cNvSpPr/>
          <p:nvPr/>
        </p:nvSpPr>
        <p:spPr>
          <a:xfrm>
            <a:off x="3886200" y="5257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Line 74"/>
          <p:cNvSpPr/>
          <p:nvPr/>
        </p:nvSpPr>
        <p:spPr>
          <a:xfrm>
            <a:off x="693432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5"/>
          <p:cNvSpPr/>
          <p:nvPr/>
        </p:nvSpPr>
        <p:spPr>
          <a:xfrm>
            <a:off x="6629400" y="5257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76"/>
          <p:cNvSpPr/>
          <p:nvPr/>
        </p:nvSpPr>
        <p:spPr>
          <a:xfrm>
            <a:off x="5029200" y="495288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77"/>
          <p:cNvSpPr/>
          <p:nvPr/>
        </p:nvSpPr>
        <p:spPr>
          <a:xfrm>
            <a:off x="4648320" y="5410080"/>
            <a:ext cx="1143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78"/>
          <p:cNvSpPr/>
          <p:nvPr/>
        </p:nvSpPr>
        <p:spPr>
          <a:xfrm>
            <a:off x="4572000" y="5257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ON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79"/>
          <p:cNvSpPr/>
          <p:nvPr/>
        </p:nvSpPr>
        <p:spPr>
          <a:xfrm>
            <a:off x="7162920" y="5257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80"/>
          <p:cNvSpPr/>
          <p:nvPr/>
        </p:nvSpPr>
        <p:spPr>
          <a:xfrm>
            <a:off x="7848720" y="525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AR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81"/>
          <p:cNvSpPr/>
          <p:nvPr/>
        </p:nvSpPr>
        <p:spPr>
          <a:xfrm>
            <a:off x="7543800" y="55627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82"/>
          <p:cNvSpPr/>
          <p:nvPr/>
        </p:nvSpPr>
        <p:spPr>
          <a:xfrm>
            <a:off x="7086600" y="5867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83"/>
          <p:cNvSpPr/>
          <p:nvPr/>
        </p:nvSpPr>
        <p:spPr>
          <a:xfrm>
            <a:off x="80773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84"/>
          <p:cNvSpPr/>
          <p:nvPr/>
        </p:nvSpPr>
        <p:spPr>
          <a:xfrm>
            <a:off x="73152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85"/>
          <p:cNvSpPr/>
          <p:nvPr/>
        </p:nvSpPr>
        <p:spPr>
          <a:xfrm>
            <a:off x="66294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86"/>
          <p:cNvSpPr/>
          <p:nvPr/>
        </p:nvSpPr>
        <p:spPr>
          <a:xfrm>
            <a:off x="60199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87"/>
          <p:cNvSpPr/>
          <p:nvPr/>
        </p:nvSpPr>
        <p:spPr>
          <a:xfrm>
            <a:off x="54100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88"/>
          <p:cNvSpPr/>
          <p:nvPr/>
        </p:nvSpPr>
        <p:spPr>
          <a:xfrm>
            <a:off x="48006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89"/>
          <p:cNvSpPr/>
          <p:nvPr/>
        </p:nvSpPr>
        <p:spPr>
          <a:xfrm>
            <a:off x="40384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90"/>
          <p:cNvSpPr/>
          <p:nvPr/>
        </p:nvSpPr>
        <p:spPr>
          <a:xfrm>
            <a:off x="34290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91"/>
          <p:cNvSpPr/>
          <p:nvPr/>
        </p:nvSpPr>
        <p:spPr>
          <a:xfrm>
            <a:off x="29718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92"/>
          <p:cNvSpPr/>
          <p:nvPr/>
        </p:nvSpPr>
        <p:spPr>
          <a:xfrm>
            <a:off x="23623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93"/>
          <p:cNvSpPr/>
          <p:nvPr/>
        </p:nvSpPr>
        <p:spPr>
          <a:xfrm>
            <a:off x="175248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94"/>
          <p:cNvSpPr/>
          <p:nvPr/>
        </p:nvSpPr>
        <p:spPr>
          <a:xfrm>
            <a:off x="1143000" y="4267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95"/>
          <p:cNvSpPr/>
          <p:nvPr/>
        </p:nvSpPr>
        <p:spPr>
          <a:xfrm>
            <a:off x="5335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96"/>
          <p:cNvSpPr/>
          <p:nvPr/>
        </p:nvSpPr>
        <p:spPr>
          <a:xfrm>
            <a:off x="657000" y="6248520"/>
            <a:ext cx="21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 for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K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DCE5-0026-4F21-98BB-7484F29CABA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pen hashing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hash function distributes keys uniformly, average length of linked list will be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/m.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ratio is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load facto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verage number of probes in successful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and unsuccessful   searches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1+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2,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 =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ad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 is typically kept small (ideally, about 1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en hashing still works if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&gt; 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D7BC-79BA-4093-9BB9-1C8C3ED652F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Review: String searching by brute forc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atter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string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s to search fo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ex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(long) string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s to search i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Brute force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ign pattern at beginning of tex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ving from left to right, compare each character of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ttern to the corresponding character in text until   either all characters are found to match (successful search) or a mismatch is detecte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961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While a mismatch is detected and the text is not yet exhausted, realign pattern one position to the right and repeat Step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6672-5A3B-4D2A-9C59-91BF230A117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ed hashing (Open addressing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6104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eys are stored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insid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 hash tabl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457200" y="3276720"/>
          <a:ext cx="8686800" cy="3170160"/>
        </p:xfrm>
        <a:graphic>
          <a:graphicData uri="http://schemas.openxmlformats.org/drawingml/2006/table">
            <a:tbl>
              <a:tblPr/>
              <a:tblGrid>
                <a:gridCol w="1281240"/>
                <a:gridCol w="365040"/>
                <a:gridCol w="334800"/>
                <a:gridCol w="304920"/>
                <a:gridCol w="304920"/>
                <a:gridCol w="304560"/>
                <a:gridCol w="838440"/>
                <a:gridCol w="1218960"/>
                <a:gridCol w="381240"/>
                <a:gridCol w="990360"/>
                <a:gridCol w="685800"/>
                <a:gridCol w="762120"/>
                <a:gridCol w="914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AR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33520" y="1828800"/>
          <a:ext cx="8610480" cy="853920"/>
        </p:xfrm>
        <a:graphic>
          <a:graphicData uri="http://schemas.openxmlformats.org/drawingml/2006/table">
            <a:tbl>
              <a:tblPr/>
              <a:tblGrid>
                <a:gridCol w="955440"/>
                <a:gridCol w="644760"/>
                <a:gridCol w="914400"/>
                <a:gridCol w="838080"/>
                <a:gridCol w="838080"/>
                <a:gridCol w="1219320"/>
                <a:gridCol w="914400"/>
                <a:gridCol w="990720"/>
                <a:gridCol w="1295280"/>
              </a:tblGrid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FO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AR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887400"/>
                          <a:tab algn="l" pos="1774800"/>
                          <a:tab algn="l" pos="2662200"/>
                          <a:tab algn="l" pos="3549600"/>
                          <a:tab algn="l" pos="4437000"/>
                          <a:tab algn="l" pos="5324400"/>
                          <a:tab algn="l" pos="6211800"/>
                          <a:tab algn="l" pos="7099200"/>
                          <a:tab algn="l" pos="7986600"/>
                          <a:tab algn="l" pos="8874000"/>
                          <a:tab algn="l" pos="9761400"/>
                          <a:tab algn="l" pos="10648800"/>
                        </a:tabLst>
                      </a:pPr>
                      <a:r>
                        <a:rPr b="1" lang="en-US" sz="20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Line 164"/>
          <p:cNvSpPr/>
          <p:nvPr/>
        </p:nvSpPr>
        <p:spPr>
          <a:xfrm>
            <a:off x="237960" y="6248520"/>
            <a:ext cx="371520" cy="1440"/>
          </a:xfrm>
          <a:prstGeom prst="line">
            <a:avLst/>
          </a:prstGeom>
          <a:ln w="93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65"/>
          <p:cNvSpPr/>
          <p:nvPr/>
        </p:nvSpPr>
        <p:spPr>
          <a:xfrm>
            <a:off x="9144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66"/>
          <p:cNvSpPr/>
          <p:nvPr/>
        </p:nvSpPr>
        <p:spPr>
          <a:xfrm>
            <a:off x="16765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67"/>
          <p:cNvSpPr/>
          <p:nvPr/>
        </p:nvSpPr>
        <p:spPr>
          <a:xfrm>
            <a:off x="20574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68"/>
          <p:cNvSpPr/>
          <p:nvPr/>
        </p:nvSpPr>
        <p:spPr>
          <a:xfrm>
            <a:off x="23623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169"/>
          <p:cNvSpPr/>
          <p:nvPr/>
        </p:nvSpPr>
        <p:spPr>
          <a:xfrm>
            <a:off x="26668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170"/>
          <p:cNvSpPr/>
          <p:nvPr/>
        </p:nvSpPr>
        <p:spPr>
          <a:xfrm>
            <a:off x="30481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171"/>
          <p:cNvSpPr/>
          <p:nvPr/>
        </p:nvSpPr>
        <p:spPr>
          <a:xfrm>
            <a:off x="35812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72"/>
          <p:cNvSpPr/>
          <p:nvPr/>
        </p:nvSpPr>
        <p:spPr>
          <a:xfrm>
            <a:off x="46483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173"/>
          <p:cNvSpPr/>
          <p:nvPr/>
        </p:nvSpPr>
        <p:spPr>
          <a:xfrm>
            <a:off x="54100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174"/>
          <p:cNvSpPr/>
          <p:nvPr/>
        </p:nvSpPr>
        <p:spPr>
          <a:xfrm>
            <a:off x="617220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75"/>
          <p:cNvSpPr/>
          <p:nvPr/>
        </p:nvSpPr>
        <p:spPr>
          <a:xfrm>
            <a:off x="685800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176"/>
          <p:cNvSpPr/>
          <p:nvPr/>
        </p:nvSpPr>
        <p:spPr>
          <a:xfrm>
            <a:off x="754380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177"/>
          <p:cNvSpPr/>
          <p:nvPr/>
        </p:nvSpPr>
        <p:spPr>
          <a:xfrm>
            <a:off x="8381880" y="2971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A3A0-E9BB-4231-8B01-B4DF59F9211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osed hashing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es not work i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&gt; 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voids point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letions a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straightforwar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probes to find/insert/delete a key depends on  load factor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hash table density) and collision resolution strategy.   For linear probing: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(½) (1+ 1/(1-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)  and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U =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½) (1+ 1/(1- 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²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s the table gets filled (</a:t>
            </a:r>
            <a:r>
              <a:rPr b="1" lang="el-GR" sz="2400" spc="-1" strike="noStrike">
                <a:solidFill>
                  <a:srgbClr val="ffff99"/>
                </a:solidFill>
                <a:latin typeface="Times New Roman"/>
              </a:rPr>
              <a:t>α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pproaches 1), number of probes  in linear probing increases dramatically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348" name="Picture 4" descr="closedhashing"/>
          <p:cNvPicPr/>
          <p:nvPr/>
        </p:nvPicPr>
        <p:blipFill>
          <a:blip r:embed="rId1"/>
          <a:stretch/>
        </p:blipFill>
        <p:spPr>
          <a:xfrm>
            <a:off x="1143000" y="4572000"/>
            <a:ext cx="5105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2E8D-18BB-4F81-B42C-9D673C3ECCB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tring searching by preprocessin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ral string searching algorithms are based on the inpu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nhancement idea of  preprocessing the pattern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nuth-Morris-Pratt (KMP)  algorithm preprocesses   pattern left to right to get useful information for later searc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yer -Moore algorithm preprocesses pattern right to left and store information into two tab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rspool’s algorithm simplifies the Boyer-Moore algorithm by using just one tabl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C96E-E9B8-4560-A2A8-258267E71F1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rspool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simplified version of Boyer-Moore algorith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processes pattern to generate a shift table that determines how much to shift the pattern when a mismatch occur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ways makes a shift based on the text’s charac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igned with the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as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haracter in the pattern according to the shift table’s entry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FC36-E208-4DC3-B49D-A7F926D696C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How far to shift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ok at first (rightmost) character in text that was compared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haracter is not in the patter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.................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Courier New"/>
              </a:rPr>
              <a:t>c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not in pattern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AOBAB</a:t>
            </a: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character is in the pattern (but not the rightmos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O......................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O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ccurs once in pattern)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BAOBAB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A......................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occurs twice in pattern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AOBAB</a:t>
            </a:r>
            <a:br>
              <a:rPr sz="2000"/>
            </a:b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rightmost characters do matc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.....B......................                   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Courier New"/>
              </a:rPr>
              <a:t>BAOBAB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3459-4B79-4049-86BA-6003446B5AE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hift tabl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hift sizes can be precomputed by the formula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stance fro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’s rightmost occurrence in pattern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among its firs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 characters to its right en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ttern’s leng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otherwis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scanning pattern before search begins and stored in a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able calle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hift table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hift table is indexed by text and pattern alphabet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g, for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165640" y="5448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914400" y="5181480"/>
            <a:ext cx="8001000" cy="1371240"/>
            <a:chOff x="914400" y="5181480"/>
            <a:chExt cx="8001000" cy="1371240"/>
          </a:xfrm>
        </p:grpSpPr>
        <p:sp>
          <p:nvSpPr>
            <p:cNvPr id="134" name="Rectangle 6"/>
            <p:cNvSpPr/>
            <p:nvPr/>
          </p:nvSpPr>
          <p:spPr>
            <a:xfrm>
              <a:off x="914400" y="5181480"/>
              <a:ext cx="8001000" cy="68544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A B C D E F G H I J K L M N O P Q R S T U V W X Y 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914400" y="5866920"/>
              <a:ext cx="8001000" cy="685440"/>
            </a:xfrm>
            <a:prstGeom prst="rect">
              <a:avLst/>
            </a:prstGeom>
            <a:solidFill>
              <a:srgbClr val="99ffcc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1 2 6 6 6 6 6 6 6 6 6 6 6 6 3 6 6 6 6 6 6 6 6 6 6 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12574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43052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46101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Line 11"/>
            <p:cNvSpPr/>
            <p:nvPr/>
          </p:nvSpPr>
          <p:spPr>
            <a:xfrm>
              <a:off x="52196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55245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13"/>
            <p:cNvSpPr/>
            <p:nvPr/>
          </p:nvSpPr>
          <p:spPr>
            <a:xfrm>
              <a:off x="58294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14"/>
            <p:cNvSpPr/>
            <p:nvPr/>
          </p:nvSpPr>
          <p:spPr>
            <a:xfrm>
              <a:off x="61340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15"/>
            <p:cNvSpPr/>
            <p:nvPr/>
          </p:nvSpPr>
          <p:spPr>
            <a:xfrm>
              <a:off x="64389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Line 16"/>
            <p:cNvSpPr/>
            <p:nvPr/>
          </p:nvSpPr>
          <p:spPr>
            <a:xfrm>
              <a:off x="67438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Line 17"/>
            <p:cNvSpPr/>
            <p:nvPr/>
          </p:nvSpPr>
          <p:spPr>
            <a:xfrm>
              <a:off x="70484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Line 18"/>
            <p:cNvSpPr/>
            <p:nvPr/>
          </p:nvSpPr>
          <p:spPr>
            <a:xfrm>
              <a:off x="73533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19"/>
            <p:cNvSpPr/>
            <p:nvPr/>
          </p:nvSpPr>
          <p:spPr>
            <a:xfrm>
              <a:off x="76582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Line 20"/>
            <p:cNvSpPr/>
            <p:nvPr/>
          </p:nvSpPr>
          <p:spPr>
            <a:xfrm>
              <a:off x="79628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Line 21"/>
            <p:cNvSpPr/>
            <p:nvPr/>
          </p:nvSpPr>
          <p:spPr>
            <a:xfrm>
              <a:off x="82677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Line 22"/>
            <p:cNvSpPr/>
            <p:nvPr/>
          </p:nvSpPr>
          <p:spPr>
            <a:xfrm>
              <a:off x="85726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Line 23"/>
            <p:cNvSpPr/>
            <p:nvPr/>
          </p:nvSpPr>
          <p:spPr>
            <a:xfrm>
              <a:off x="40006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>
              <a:off x="36957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>
              <a:off x="33908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30862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7813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>
              <a:off x="24764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Line 29"/>
            <p:cNvSpPr/>
            <p:nvPr/>
          </p:nvSpPr>
          <p:spPr>
            <a:xfrm>
              <a:off x="217188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Line 30"/>
            <p:cNvSpPr/>
            <p:nvPr/>
          </p:nvSpPr>
          <p:spPr>
            <a:xfrm>
              <a:off x="186696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Line 31"/>
            <p:cNvSpPr/>
            <p:nvPr/>
          </p:nvSpPr>
          <p:spPr>
            <a:xfrm>
              <a:off x="156204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Line 32"/>
            <p:cNvSpPr/>
            <p:nvPr/>
          </p:nvSpPr>
          <p:spPr>
            <a:xfrm>
              <a:off x="4876920" y="5181480"/>
              <a:ext cx="0" cy="137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1F94-6045-4E5E-A3AC-C046606B2A1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 of Horspool’s alg. applica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RD LOVED BANANA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Courier New"/>
              </a:rPr>
              <a:t>BAOBAB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unsuccessful search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164" name="Group 74"/>
          <p:cNvGrpSpPr/>
          <p:nvPr/>
        </p:nvGrpSpPr>
        <p:grpSpPr>
          <a:xfrm>
            <a:off x="609480" y="1219320"/>
            <a:ext cx="8382240" cy="1371600"/>
            <a:chOff x="609480" y="1219320"/>
            <a:chExt cx="8382240" cy="1371600"/>
          </a:xfrm>
        </p:grpSpPr>
        <p:grpSp>
          <p:nvGrpSpPr>
            <p:cNvPr id="165" name="Group 73"/>
            <p:cNvGrpSpPr/>
            <p:nvPr/>
          </p:nvGrpSpPr>
          <p:grpSpPr>
            <a:xfrm>
              <a:off x="609480" y="1219320"/>
              <a:ext cx="8305920" cy="1371600"/>
              <a:chOff x="609480" y="1219320"/>
              <a:chExt cx="8305920" cy="1371600"/>
            </a:xfrm>
          </p:grpSpPr>
          <p:grpSp>
            <p:nvGrpSpPr>
              <p:cNvPr id="166" name="Group 32"/>
              <p:cNvGrpSpPr/>
              <p:nvPr/>
            </p:nvGrpSpPr>
            <p:grpSpPr>
              <a:xfrm>
                <a:off x="609480" y="1219320"/>
                <a:ext cx="8001000" cy="1371240"/>
                <a:chOff x="609480" y="1219320"/>
                <a:chExt cx="8001000" cy="1371240"/>
              </a:xfrm>
            </p:grpSpPr>
            <p:sp>
              <p:nvSpPr>
                <p:cNvPr id="167" name="Rectangle 33"/>
                <p:cNvSpPr/>
                <p:nvPr/>
              </p:nvSpPr>
              <p:spPr>
                <a:xfrm>
                  <a:off x="609480" y="1219320"/>
                  <a:ext cx="8001000" cy="685440"/>
                </a:xfrm>
                <a:prstGeom prst="rect">
                  <a:avLst/>
                </a:prstGeom>
                <a:solidFill>
                  <a:srgbClr val="99ff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1932"/>
                      </a:solidFill>
                      <a:latin typeface="Courier New"/>
                    </a:rPr>
                    <a:t>A B C D E F G H I J K L M N O P Q R S T U V W X Y Z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34"/>
                <p:cNvSpPr/>
                <p:nvPr/>
              </p:nvSpPr>
              <p:spPr>
                <a:xfrm>
                  <a:off x="609480" y="1904760"/>
                  <a:ext cx="8001000" cy="685440"/>
                </a:xfrm>
                <a:prstGeom prst="rect">
                  <a:avLst/>
                </a:prstGeom>
                <a:solidFill>
                  <a:srgbClr val="99ffcc"/>
                </a:solidFill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1932"/>
                      </a:solidFill>
                      <a:latin typeface="Courier New"/>
                    </a:rPr>
                    <a:t>1 2 6 6 6 6 6 6 6 6 6 6 6 6 3 6 6 6 6 6 6 6 6 6 6 6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35"/>
                <p:cNvSpPr/>
                <p:nvPr/>
              </p:nvSpPr>
              <p:spPr>
                <a:xfrm>
                  <a:off x="9525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36"/>
                <p:cNvSpPr/>
                <p:nvPr/>
              </p:nvSpPr>
              <p:spPr>
                <a:xfrm>
                  <a:off x="40003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37"/>
                <p:cNvSpPr/>
                <p:nvPr/>
              </p:nvSpPr>
              <p:spPr>
                <a:xfrm>
                  <a:off x="43052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38"/>
                <p:cNvSpPr/>
                <p:nvPr/>
              </p:nvSpPr>
              <p:spPr>
                <a:xfrm>
                  <a:off x="49147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39"/>
                <p:cNvSpPr/>
                <p:nvPr/>
              </p:nvSpPr>
              <p:spPr>
                <a:xfrm>
                  <a:off x="52196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40"/>
                <p:cNvSpPr/>
                <p:nvPr/>
              </p:nvSpPr>
              <p:spPr>
                <a:xfrm>
                  <a:off x="55245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41"/>
                <p:cNvSpPr/>
                <p:nvPr/>
              </p:nvSpPr>
              <p:spPr>
                <a:xfrm>
                  <a:off x="58291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42"/>
                <p:cNvSpPr/>
                <p:nvPr/>
              </p:nvSpPr>
              <p:spPr>
                <a:xfrm>
                  <a:off x="61340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43"/>
                <p:cNvSpPr/>
                <p:nvPr/>
              </p:nvSpPr>
              <p:spPr>
                <a:xfrm>
                  <a:off x="64389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44"/>
                <p:cNvSpPr/>
                <p:nvPr/>
              </p:nvSpPr>
              <p:spPr>
                <a:xfrm>
                  <a:off x="67435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45"/>
                <p:cNvSpPr/>
                <p:nvPr/>
              </p:nvSpPr>
              <p:spPr>
                <a:xfrm>
                  <a:off x="70484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46"/>
                <p:cNvSpPr/>
                <p:nvPr/>
              </p:nvSpPr>
              <p:spPr>
                <a:xfrm>
                  <a:off x="73533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47"/>
                <p:cNvSpPr/>
                <p:nvPr/>
              </p:nvSpPr>
              <p:spPr>
                <a:xfrm>
                  <a:off x="76579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48"/>
                <p:cNvSpPr/>
                <p:nvPr/>
              </p:nvSpPr>
              <p:spPr>
                <a:xfrm>
                  <a:off x="79628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49"/>
                <p:cNvSpPr/>
                <p:nvPr/>
              </p:nvSpPr>
              <p:spPr>
                <a:xfrm>
                  <a:off x="82677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50"/>
                <p:cNvSpPr/>
                <p:nvPr/>
              </p:nvSpPr>
              <p:spPr>
                <a:xfrm>
                  <a:off x="36957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51"/>
                <p:cNvSpPr/>
                <p:nvPr/>
              </p:nvSpPr>
              <p:spPr>
                <a:xfrm>
                  <a:off x="33908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52"/>
                <p:cNvSpPr/>
                <p:nvPr/>
              </p:nvSpPr>
              <p:spPr>
                <a:xfrm>
                  <a:off x="30859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Line 53"/>
                <p:cNvSpPr/>
                <p:nvPr/>
              </p:nvSpPr>
              <p:spPr>
                <a:xfrm>
                  <a:off x="27813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54"/>
                <p:cNvSpPr/>
                <p:nvPr/>
              </p:nvSpPr>
              <p:spPr>
                <a:xfrm>
                  <a:off x="24764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55"/>
                <p:cNvSpPr/>
                <p:nvPr/>
              </p:nvSpPr>
              <p:spPr>
                <a:xfrm>
                  <a:off x="21715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Line 56"/>
                <p:cNvSpPr/>
                <p:nvPr/>
              </p:nvSpPr>
              <p:spPr>
                <a:xfrm>
                  <a:off x="186696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Line 57"/>
                <p:cNvSpPr/>
                <p:nvPr/>
              </p:nvSpPr>
              <p:spPr>
                <a:xfrm>
                  <a:off x="156204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Line 58"/>
                <p:cNvSpPr/>
                <p:nvPr/>
              </p:nvSpPr>
              <p:spPr>
                <a:xfrm>
                  <a:off x="125712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Line 59"/>
                <p:cNvSpPr/>
                <p:nvPr/>
              </p:nvSpPr>
              <p:spPr>
                <a:xfrm>
                  <a:off x="4572000" y="1219320"/>
                  <a:ext cx="0" cy="13712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Rectangle 67"/>
              <p:cNvSpPr/>
              <p:nvPr/>
            </p:nvSpPr>
            <p:spPr>
              <a:xfrm>
                <a:off x="8610480" y="1219320"/>
                <a:ext cx="304920" cy="1371600"/>
              </a:xfrm>
              <a:prstGeom prst="rect">
                <a:avLst/>
              </a:prstGeom>
              <a:solidFill>
                <a:srgbClr val="99ffcc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Line 68"/>
            <p:cNvSpPr/>
            <p:nvPr/>
          </p:nvSpPr>
          <p:spPr>
            <a:xfrm>
              <a:off x="8610480" y="1905120"/>
              <a:ext cx="304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Text Box 71"/>
            <p:cNvSpPr/>
            <p:nvPr/>
          </p:nvSpPr>
          <p:spPr>
            <a:xfrm>
              <a:off x="8534520" y="1219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1932"/>
                  </a:solidFill>
                  <a:latin typeface="Times New Roman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Text Box 72"/>
            <p:cNvSpPr/>
            <p:nvPr/>
          </p:nvSpPr>
          <p:spPr>
            <a:xfrm>
              <a:off x="8610480" y="20574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1932"/>
                  </a:solidFill>
                  <a:latin typeface="Courier New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90BB-013D-4B7F-A309-8B722A1599F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Boyer-Moore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sed on same two idea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ing pattern characters to text from right to left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ecomputing shift sizes in two table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ad-symbol tabl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dicates how much to shift based on text’s character causing a mismatch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good-suffix tabl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dicates how much to shift based on matched part (suffix) of the patter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7093080" y="655308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0A85-2497-4AD8-8801-592E209261F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Bad-symbol shift in Boyer-Moore algorithm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266840"/>
            <a:ext cx="838188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rightmost character of the pattern doesn’t match, BM algorithm acts as Horspool’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the rightmost character of the pattern does match, BM compares preceding characters right to left until either all pattern’s characters match or a mismatch on text’s charac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encountered aft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&gt; 0 match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ex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ttern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d-symbol shift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x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c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-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1}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447920" y="3733920"/>
            <a:ext cx="6933960" cy="4572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4648320" y="373392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5105520" y="373392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7"/>
          <p:cNvSpPr/>
          <p:nvPr/>
        </p:nvSpPr>
        <p:spPr>
          <a:xfrm>
            <a:off x="6477120" y="373392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3733920" y="4724280"/>
            <a:ext cx="2743200" cy="45720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9"/>
          <p:cNvSpPr/>
          <p:nvPr/>
        </p:nvSpPr>
        <p:spPr>
          <a:xfrm>
            <a:off x="5105520" y="47242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648320" y="4724280"/>
            <a:ext cx="0" cy="4572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4876920" y="4267080"/>
            <a:ext cx="0" cy="381240"/>
          </a:xfrm>
          <a:prstGeom prst="line">
            <a:avLst/>
          </a:prstGeom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4952880" y="4267080"/>
            <a:ext cx="0" cy="381240"/>
          </a:xfrm>
          <a:prstGeom prst="line">
            <a:avLst/>
          </a:prstGeom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V="1">
            <a:off x="4800600" y="4343040"/>
            <a:ext cx="304920" cy="152280"/>
          </a:xfrm>
          <a:prstGeom prst="line">
            <a:avLst/>
          </a:prstGeom>
          <a:ln w="1260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105520" y="4267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1932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match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OUAHID</cp:lastModifiedBy>
  <dcterms:modified xsi:type="dcterms:W3CDTF">2013-06-12T07:57:13Z</dcterms:modified>
  <cp:revision>95</cp:revision>
  <dc:subject/>
  <dc:title>Chapter 7:  Space and Time Tradeoffs </dc:title>
</cp:coreProperties>
</file>