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555E-9F80-4C79-A374-7242CA71A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D99F-8867-4E18-95F8-4B0337ADC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A543-752B-4383-95FC-0072DB9C9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3195-1C29-47F2-9683-EF34E6CA6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ADFB-D1E0-47A8-829C-42FE62018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032C-4B50-4B3E-8E60-8A5D7E37B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221B-E6A8-41BA-B674-D60091C38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507F-1F89-4B24-B088-4F5FCCDD0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53A8-4127-45CD-8996-C15358411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00EC-3CE5-474C-871E-D7789D01A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4A99-86E7-480F-B1EB-19C373C98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DFC6-F2C5-4E00-8D57-D453422BC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09BA-8591-4B87-B1FE-C3A4F6C78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DBBB-866A-4105-AC84-2104CC956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A09E-5D2E-4FF0-BB1E-A6C4629AC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4999-6EF8-4261-9DA7-B0F4C9F5E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-234000" y="657864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-</a:t>
            </a:r>
            <a:fld id="{0507A713-4943-49C3-A658-46A1AA97CB2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Text Box 13"/>
          <p:cNvSpPr/>
          <p:nvPr/>
        </p:nvSpPr>
        <p:spPr>
          <a:xfrm>
            <a:off x="87480" y="6545160"/>
            <a:ext cx="16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486240" y="650700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inuous Probability Distribution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838080" y="3890880"/>
            <a:ext cx="2667240" cy="1900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8" name="Picture 15" descr="0721"/>
          <p:cNvPicPr/>
          <p:nvPr/>
        </p:nvPicPr>
        <p:blipFill>
          <a:blip r:embed="rId1"/>
          <a:stretch/>
        </p:blipFill>
        <p:spPr>
          <a:xfrm>
            <a:off x="1271520" y="3592440"/>
            <a:ext cx="2598840" cy="30844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4730760" y="2941560"/>
            <a:ext cx="40305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840 and $1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3" descr="0723"/>
          <p:cNvPicPr/>
          <p:nvPr/>
        </p:nvPicPr>
        <p:blipFill>
          <a:blip r:embed="rId2"/>
          <a:stretch/>
        </p:blipFill>
        <p:spPr>
          <a:xfrm>
            <a:off x="5038560" y="3583080"/>
            <a:ext cx="2575080" cy="309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a </a:t>
            </a: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iles and that the distribution of miles follows the normal probability distribution. Layton wants to set the minimum guaranteed mileage so that </a:t>
            </a: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he tires will have to be replac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inimum guaranteed mileage should Layton annou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5" descr="0726"/>
          <p:cNvPicPr/>
          <p:nvPr/>
        </p:nvPicPr>
        <p:blipFill>
          <a:blip r:embed="rId1"/>
          <a:srcRect l="0" t="0" r="54556" b="45793"/>
          <a:stretch/>
        </p:blipFill>
        <p:spPr>
          <a:xfrm>
            <a:off x="1135080" y="4197240"/>
            <a:ext cx="3071880" cy="174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Object 1"/>
              <p:cNvSpPr txBox="1"/>
              <p:nvPr/>
            </p:nvSpPr>
            <p:spPr>
              <a:xfrm>
                <a:off x="4894200" y="2362320"/>
                <a:ext cx="4079880" cy="37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X using the formula: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0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0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he value of z is found using the 4% inform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area between 67,900 and x is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00, found by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0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 Appendix 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, the area closest to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00 is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99, whic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ives a z alue of 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substituting into the equation: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-67,9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,05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, then solving for x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,05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-67,900</m:t>
                        </m:r>
                      </m:e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,900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,050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,3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104840" y="1914480"/>
            <a:ext cx="69343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rmal distribution (a continuous distribution) yields a good approximation of the binomial distribution (a discrete distribution) for large values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rmal probability distribution is generally a good approximation to the binomial probability distribution whe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(1-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re both greater than 5.  This is because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, a binomial distribution gets closer and closer to a normal distrib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5"/>
          <p:cNvGrpSpPr/>
          <p:nvPr/>
        </p:nvGrpSpPr>
        <p:grpSpPr>
          <a:xfrm>
            <a:off x="1649520" y="3571920"/>
            <a:ext cx="6175440" cy="2514600"/>
            <a:chOff x="1649520" y="3571920"/>
            <a:chExt cx="6175440" cy="2514600"/>
          </a:xfrm>
        </p:grpSpPr>
        <p:pic>
          <p:nvPicPr>
            <p:cNvPr id="158" name="Picture 28" descr="0729"/>
            <p:cNvPicPr/>
            <p:nvPr/>
          </p:nvPicPr>
          <p:blipFill>
            <a:blip r:embed="rId1"/>
            <a:stretch/>
          </p:blipFill>
          <p:spPr>
            <a:xfrm>
              <a:off x="1649520" y="3571920"/>
              <a:ext cx="6175440" cy="22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9" descr=""/>
            <p:cNvPicPr/>
            <p:nvPr/>
          </p:nvPicPr>
          <p:blipFill>
            <a:blip r:embed="rId2"/>
            <a:stretch/>
          </p:blipFill>
          <p:spPr>
            <a:xfrm>
              <a:off x="1677960" y="5906880"/>
              <a:ext cx="6020640" cy="1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ontinuity Correction Factor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97960" y="1904760"/>
            <a:ext cx="3729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alue .5 subtracted or added, depending on the problem, to a selected value when a binomial probability distribution (a discrete probability distribution) is being approximated by a continuous probability distribution (the normal distribu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of four cases may ar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probabilit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t least X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, use the are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bo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probability tha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re than X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, use the are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bo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probability tha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 or few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, use the are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lo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.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probability tha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ewer than X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, use the are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lo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4408560" y="2590920"/>
            <a:ext cx="3906720" cy="24192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5167440" y="1763640"/>
            <a:ext cx="370836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ounded Rectangle 14"/>
          <p:cNvSpPr/>
          <p:nvPr/>
        </p:nvSpPr>
        <p:spPr>
          <a:xfrm>
            <a:off x="584280" y="1797120"/>
            <a:ext cx="7985160" cy="712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795"/>
              </a:gs>
              <a:gs pos="100000">
                <a:srgbClr val="fff8e0"/>
              </a:gs>
            </a:gsLst>
            <a:lin ang="16200000"/>
          </a:gradFill>
          <a:ln w="9360">
            <a:solidFill>
              <a:srgbClr val="e5b6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04880" y="1819080"/>
            <a:ext cx="7610400" cy="50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se the management of the Santoni Pizza Restaurant found that 70 percent of its new customers return for another meal. For a week in which 80 new (first-time) customers dined at Santoni’s, 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what is the probability that 60 or more will return for another me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Normal Approximation to the Binomial -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3"/>
          <p:cNvGrpSpPr/>
          <p:nvPr/>
        </p:nvGrpSpPr>
        <p:grpSpPr>
          <a:xfrm>
            <a:off x="1477800" y="2644920"/>
            <a:ext cx="6940440" cy="4212720"/>
            <a:chOff x="1477800" y="2644920"/>
            <a:chExt cx="6940440" cy="4212720"/>
          </a:xfrm>
        </p:grpSpPr>
        <p:pic>
          <p:nvPicPr>
            <p:cNvPr id="169" name="Picture 28" descr="0733"/>
            <p:cNvPicPr/>
            <p:nvPr/>
          </p:nvPicPr>
          <p:blipFill>
            <a:blip r:embed="rId1"/>
            <a:stretch/>
          </p:blipFill>
          <p:spPr>
            <a:xfrm>
              <a:off x="1477800" y="2644920"/>
              <a:ext cx="6810120" cy="3571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" name="Group 25"/>
            <p:cNvGrpSpPr/>
            <p:nvPr/>
          </p:nvGrpSpPr>
          <p:grpSpPr>
            <a:xfrm>
              <a:off x="3123000" y="4748400"/>
              <a:ext cx="5295240" cy="2109240"/>
              <a:chOff x="3123000" y="4748400"/>
              <a:chExt cx="5295240" cy="2109240"/>
            </a:xfrm>
          </p:grpSpPr>
          <p:grpSp>
            <p:nvGrpSpPr>
              <p:cNvPr id="171" name="Group 24"/>
              <p:cNvGrpSpPr/>
              <p:nvPr/>
            </p:nvGrpSpPr>
            <p:grpSpPr>
              <a:xfrm>
                <a:off x="3123000" y="5005080"/>
                <a:ext cx="3948480" cy="1852560"/>
                <a:chOff x="3123000" y="5005080"/>
                <a:chExt cx="3948480" cy="1852560"/>
              </a:xfrm>
            </p:grpSpPr>
            <p:sp>
              <p:nvSpPr>
                <p:cNvPr id="172" name="Rectangle 20"/>
                <p:cNvSpPr/>
                <p:nvPr/>
              </p:nvSpPr>
              <p:spPr>
                <a:xfrm>
                  <a:off x="3123000" y="5005080"/>
                  <a:ext cx="1028520" cy="1266480"/>
                </a:xfrm>
                <a:prstGeom prst="rect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Text Box 21"/>
                <p:cNvSpPr/>
                <p:nvPr/>
              </p:nvSpPr>
              <p:spPr>
                <a:xfrm>
                  <a:off x="3816720" y="6581160"/>
                  <a:ext cx="3254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(X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≥ 60) = 0.063+0.048+ … + 0.001 = 0.19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22"/>
                <p:cNvSpPr/>
                <p:nvPr/>
              </p:nvSpPr>
              <p:spPr>
                <a:xfrm>
                  <a:off x="3942000" y="6290640"/>
                  <a:ext cx="266040" cy="37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Rectangle 23"/>
              <p:cNvSpPr/>
              <p:nvPr/>
            </p:nvSpPr>
            <p:spPr>
              <a:xfrm>
                <a:off x="7075440" y="4748400"/>
                <a:ext cx="1342800" cy="126648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5038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e management of the Santoni Pizza Restaurant found that 70 percent of its new customers return for another meal. For a week in which 80 new (first-time) customers dined at Santoni’s, </a:t>
            </a: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what is the probability that 60 or more will return for another me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p 1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n and the variance of a binomial distribution and find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to 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59.5  (x-.5, the correction fac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termine the area from 59.5 and bey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Normal Approximation to the Binomial -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3" descr="0734"/>
          <p:cNvPicPr/>
          <p:nvPr/>
        </p:nvPicPr>
        <p:blipFill>
          <a:blip r:embed="rId1"/>
          <a:stretch/>
        </p:blipFill>
        <p:spPr>
          <a:xfrm>
            <a:off x="4851360" y="2006640"/>
            <a:ext cx="3952800" cy="4467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mean and the standard deviation for a </a:t>
            </a:r>
            <a:r>
              <a:rPr b="0" i="1" lang="en-US" sz="2000" spc="-1" strike="noStrike">
                <a:solidFill>
                  <a:srgbClr val="33cc33"/>
                </a:solidFill>
                <a:latin typeface="Arial"/>
              </a:rPr>
              <a:t>uniform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the characteristics of the </a:t>
            </a:r>
            <a:r>
              <a:rPr b="0" i="1" lang="en-US" sz="2000" spc="-1" strike="noStrike">
                <a:solidFill>
                  <a:srgbClr val="33cc33"/>
                </a:solidFill>
                <a:latin typeface="Arial"/>
              </a:rPr>
              <a:t>normal probability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he Uniform Distribu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27120" y="1904760"/>
            <a:ext cx="329544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form probability distribution is perhaps the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implest distrib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continuous random varia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istribution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ectangular in sha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is defined by minimum and maximum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0703"/>
          <p:cNvPicPr/>
          <p:nvPr/>
        </p:nvPicPr>
        <p:blipFill>
          <a:blip r:embed="rId1"/>
          <a:srcRect l="0" t="0" r="0" b="18319"/>
          <a:stretch/>
        </p:blipFill>
        <p:spPr>
          <a:xfrm>
            <a:off x="576360" y="3732120"/>
            <a:ext cx="3325680" cy="2009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" descr="0704"/>
          <p:cNvPicPr/>
          <p:nvPr/>
        </p:nvPicPr>
        <p:blipFill>
          <a:blip r:embed="rId2"/>
          <a:stretch/>
        </p:blipFill>
        <p:spPr>
          <a:xfrm>
            <a:off x="4186080" y="2679840"/>
            <a:ext cx="4791240" cy="2136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27120" y="1905120"/>
            <a:ext cx="306216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rizona State University provides bus service to students while they are on campus. A bus arrives at the North Main Street and College Drive stop every 30 minutes between 6 A.M. and 11 P.M. during weekdays. Students arrive at the bus stop at random times. The time that a student waits is uniformly distributed from 0 to 30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graph of this distrib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 area of this uniform distribution is 1.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ill a student “typically” have to wait for a bus? In other words what is the mean waiting time? What is the standard deviation of the waiting ti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a student will wait between 10 and 20 minu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0" name="Picture 12" descr="0706"/>
          <p:cNvPicPr/>
          <p:nvPr/>
        </p:nvPicPr>
        <p:blipFill>
          <a:blip r:embed="rId1"/>
          <a:stretch/>
        </p:blipFill>
        <p:spPr>
          <a:xfrm>
            <a:off x="4253040" y="1763640"/>
            <a:ext cx="4890960" cy="17542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8"/>
          <p:cNvGrpSpPr/>
          <p:nvPr/>
        </p:nvGrpSpPr>
        <p:grpSpPr>
          <a:xfrm>
            <a:off x="4338720" y="4789440"/>
            <a:ext cx="4092480" cy="488880"/>
            <a:chOff x="4338720" y="4789440"/>
            <a:chExt cx="4092480" cy="488880"/>
          </a:xfrm>
        </p:grpSpPr>
        <p:pic>
          <p:nvPicPr>
            <p:cNvPr id="112" name="Picture 7" descr="0707"/>
            <p:cNvPicPr/>
            <p:nvPr/>
          </p:nvPicPr>
          <p:blipFill>
            <a:blip r:embed="rId2"/>
            <a:srcRect l="0" t="0" r="0" b="59734"/>
            <a:stretch/>
          </p:blipFill>
          <p:spPr>
            <a:xfrm>
              <a:off x="4338720" y="4803120"/>
              <a:ext cx="2412360" cy="47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7" descr="0707"/>
            <p:cNvPicPr/>
            <p:nvPr/>
          </p:nvPicPr>
          <p:blipFill>
            <a:blip r:embed="rId3"/>
            <a:srcRect l="0" t="51760" r="0" b="0"/>
            <a:stretch/>
          </p:blipFill>
          <p:spPr>
            <a:xfrm>
              <a:off x="6446880" y="4789440"/>
              <a:ext cx="1984320" cy="46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4" name="Picture 6" descr=""/>
          <p:cNvPicPr/>
          <p:nvPr/>
        </p:nvPicPr>
        <p:blipFill>
          <a:blip r:embed="rId4"/>
          <a:stretch/>
        </p:blipFill>
        <p:spPr>
          <a:xfrm>
            <a:off x="4272120" y="3483000"/>
            <a:ext cx="4595760" cy="78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" name="Object 1"/>
              <p:cNvSpPr txBox="1"/>
              <p:nvPr/>
            </p:nvSpPr>
            <p:spPr>
              <a:xfrm>
                <a:off x="4303800" y="5684760"/>
                <a:ext cx="26892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Wait Time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heigh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3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Normal Probability Distribu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42520" y="1904760"/>
            <a:ext cx="39546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bell-shap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as a single peak at the center of the 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ymmetric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symptot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ve gets closer and closer to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xis but never actually touches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 normal distribution is determined by the mean,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ithmetic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ean, med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ode are eq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rea under the curve is 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half the area under the normal curve is to the right of this center point and the other half to the left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8" descr="0711"/>
          <p:cNvPicPr/>
          <p:nvPr/>
        </p:nvPicPr>
        <p:blipFill>
          <a:blip r:embed="rId1"/>
          <a:stretch/>
        </p:blipFill>
        <p:spPr>
          <a:xfrm>
            <a:off x="1047600" y="4848120"/>
            <a:ext cx="2897280" cy="180972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16"/>
          <p:cNvGrpSpPr/>
          <p:nvPr/>
        </p:nvGrpSpPr>
        <p:grpSpPr>
          <a:xfrm>
            <a:off x="5021280" y="2209680"/>
            <a:ext cx="3579840" cy="4058280"/>
            <a:chOff x="5021280" y="2209680"/>
            <a:chExt cx="3579840" cy="4058280"/>
          </a:xfrm>
        </p:grpSpPr>
        <p:grpSp>
          <p:nvGrpSpPr>
            <p:cNvPr id="121" name="Group 6"/>
            <p:cNvGrpSpPr/>
            <p:nvPr/>
          </p:nvGrpSpPr>
          <p:grpSpPr>
            <a:xfrm>
              <a:off x="5021280" y="2664360"/>
              <a:ext cx="1804320" cy="1705680"/>
              <a:chOff x="5021280" y="2664360"/>
              <a:chExt cx="1804320" cy="1705680"/>
            </a:xfrm>
          </p:grpSpPr>
          <p:pic>
            <p:nvPicPr>
              <p:cNvPr id="122" name="Picture 15" descr="0712b"/>
              <p:cNvPicPr/>
              <p:nvPr/>
            </p:nvPicPr>
            <p:blipFill>
              <a:blip r:embed="rId2"/>
              <a:stretch/>
            </p:blipFill>
            <p:spPr>
              <a:xfrm>
                <a:off x="5021280" y="2664360"/>
                <a:ext cx="1804320" cy="140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Rectangle 8"/>
              <p:cNvSpPr/>
              <p:nvPr/>
            </p:nvSpPr>
            <p:spPr>
              <a:xfrm>
                <a:off x="5294160" y="3971520"/>
                <a:ext cx="1463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9"/>
            <p:cNvGrpSpPr/>
            <p:nvPr/>
          </p:nvGrpSpPr>
          <p:grpSpPr>
            <a:xfrm>
              <a:off x="6825960" y="2666880"/>
              <a:ext cx="1594440" cy="1868040"/>
              <a:chOff x="6825960" y="2666880"/>
              <a:chExt cx="1594440" cy="1868040"/>
            </a:xfrm>
          </p:grpSpPr>
          <p:pic>
            <p:nvPicPr>
              <p:cNvPr id="125" name="Picture 13" descr="0712a"/>
              <p:cNvPicPr/>
              <p:nvPr/>
            </p:nvPicPr>
            <p:blipFill>
              <a:blip r:embed="rId3"/>
              <a:stretch/>
            </p:blipFill>
            <p:spPr>
              <a:xfrm>
                <a:off x="6825960" y="2666880"/>
                <a:ext cx="1594440" cy="13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Rectangle 11"/>
              <p:cNvSpPr/>
              <p:nvPr/>
            </p:nvSpPr>
            <p:spPr>
              <a:xfrm>
                <a:off x="6941880" y="3984120"/>
                <a:ext cx="1470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qual Means and Different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12"/>
            <p:cNvGrpSpPr/>
            <p:nvPr/>
          </p:nvGrpSpPr>
          <p:grpSpPr>
            <a:xfrm>
              <a:off x="5071320" y="4587840"/>
              <a:ext cx="3529800" cy="1680120"/>
              <a:chOff x="5071320" y="4587840"/>
              <a:chExt cx="3529800" cy="1680120"/>
            </a:xfrm>
          </p:grpSpPr>
          <p:pic>
            <p:nvPicPr>
              <p:cNvPr id="128" name="Picture 17" descr="0712c"/>
              <p:cNvPicPr/>
              <p:nvPr/>
            </p:nvPicPr>
            <p:blipFill>
              <a:blip r:embed="rId4"/>
              <a:stretch/>
            </p:blipFill>
            <p:spPr>
              <a:xfrm>
                <a:off x="5071320" y="4587840"/>
                <a:ext cx="3529800" cy="14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Rectangle 14"/>
              <p:cNvSpPr/>
              <p:nvPr/>
            </p:nvSpPr>
            <p:spPr>
              <a:xfrm>
                <a:off x="5213160" y="6021720"/>
                <a:ext cx="318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Equal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Rectangle 15"/>
            <p:cNvSpPr/>
            <p:nvPr/>
          </p:nvSpPr>
          <p:spPr>
            <a:xfrm>
              <a:off x="5732280" y="2209680"/>
              <a:ext cx="218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mily of Distrib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e Standard Normal  Probability Distribut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32796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so called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200" spc="-1" strike="noStrike">
                <a:solidFill>
                  <a:srgbClr val="33cc33"/>
                </a:solidFill>
                <a:latin typeface="Arial"/>
              </a:rPr>
              <a:t>z-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12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signed distance between a selected value, designate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pulation mean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ivided by the population standard deviation,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9" descr="0713"/>
          <p:cNvPicPr/>
          <p:nvPr/>
        </p:nvPicPr>
        <p:blipFill>
          <a:blip r:embed="rId1"/>
          <a:stretch/>
        </p:blipFill>
        <p:spPr>
          <a:xfrm>
            <a:off x="1263600" y="3787920"/>
            <a:ext cx="2013120" cy="709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0714"/>
          <p:cNvPicPr/>
          <p:nvPr/>
        </p:nvPicPr>
        <p:blipFill>
          <a:blip r:embed="rId2"/>
          <a:stretch/>
        </p:blipFill>
        <p:spPr>
          <a:xfrm>
            <a:off x="3728880" y="2963880"/>
            <a:ext cx="5121360" cy="305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ekly incomes of shift foremen in the glass industry follow the normal probability distribution with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ean of $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tandard deviation of $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000" spc="-1" strike="noStrike">
                <a:solidFill>
                  <a:srgbClr val="33cc33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income, let’s call 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1,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 For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9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39560" y="1904760"/>
            <a:ext cx="3135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68 percent of the batteries failed between what two valu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95 percent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ly all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0717"/>
          <p:cNvPicPr/>
          <p:nvPr/>
        </p:nvPicPr>
        <p:blipFill>
          <a:blip r:embed="rId1"/>
          <a:stretch/>
        </p:blipFill>
        <p:spPr>
          <a:xfrm>
            <a:off x="3579840" y="2220840"/>
            <a:ext cx="5332320" cy="398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7" descr="0720"/>
          <p:cNvPicPr/>
          <p:nvPr/>
        </p:nvPicPr>
        <p:blipFill>
          <a:blip r:embed="rId1"/>
          <a:stretch/>
        </p:blipFill>
        <p:spPr>
          <a:xfrm>
            <a:off x="3332160" y="1998720"/>
            <a:ext cx="5396040" cy="3197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591480" y="515160"/>
            <a:ext cx="816264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weekly income of a shift foreman in the glass industry is normally distributed with a mean of $1,000 and a standard deviation of $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5" descr="0719"/>
          <p:cNvPicPr/>
          <p:nvPr/>
        </p:nvPicPr>
        <p:blipFill>
          <a:blip r:embed="rId2"/>
          <a:srcRect l="0" t="17356" r="48680" b="18155"/>
          <a:stretch/>
        </p:blipFill>
        <p:spPr>
          <a:xfrm>
            <a:off x="792000" y="3976560"/>
            <a:ext cx="2457720" cy="1695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User</cp:lastModifiedBy>
  <dcterms:modified xsi:type="dcterms:W3CDTF">2013-09-29T16:41:34Z</dcterms:modified>
  <cp:revision>206</cp:revision>
  <dc:subject>Normal Probability Distribution</dc:subject>
  <dc:title>Chapter 7</dc:title>
</cp:coreProperties>
</file>