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12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C6D1-F953-48EC-8423-9D1BFCCF8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56D6-0F71-47F9-A501-4506EDDFB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EE27-F62A-48AB-831F-187955B5B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4D08-EB37-4360-A1C3-0EADF5254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727B-80A7-49D5-87F2-9A28657E2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F8D3-47E1-4B52-BFF7-FDAE5540B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FB96-8C12-4A8C-BB02-CDBA722AF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5E51-5D2F-4821-861E-F70ED6B0C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BD85-475E-414D-A323-46E0EB874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B4B6-4A05-4B8C-9C08-37AF43633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F0BE-93BB-41F5-9E55-E9DAB0871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DB37-2AB5-4D6E-9DC2-68CAEB465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2254-7F26-4F4E-8EC1-F3582DFB5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30EC-7FF5-4954-8735-4B54D94F0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5695-3A75-449B-911B-1A664C262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E430-3CC0-4D33-9F73-09B2A6EB0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8F07-71B9-4E54-BF40-D8889333A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EF16-F1F1-4A7A-A981-2A9D3C586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428B-CCBE-4D27-A2C8-5F76A3439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6964-3DBE-45F3-BD14-999D25C83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2BAA-96C8-48C0-B5FE-F366FD1EC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71C9-5366-42F8-9E3B-3C34F9F33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C427-4112-4A48-8D2B-6C96CD805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75D9-A349-453C-9BC0-81409E82A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08D3-86FB-4472-BE79-12DD6178D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16C8-8A6C-400F-A5CC-790575454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9016-61E6-4CBB-B8AB-F9A77DFCF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D1F0-00E9-47E9-BD39-B637D5FF3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6676-3936-4B06-A7F0-CF956FDE9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2BAC-06C0-47D3-A7FF-F17AEABD5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45E4-C887-46F6-A25E-A765011E5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A0D8-FA97-467A-8459-260CEB6FD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C48E-F287-42D7-AC42-225CF20A5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62E6-6867-4C61-866A-7B6514CCF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1C6C-A7F7-4D0A-A4FA-A039FD16B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0FAA-03A6-409E-AAED-ECC8DDE22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102B-B901-4CE2-AEAF-E26257B05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60EE-7D85-4744-B392-CD98B2A7C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4991-D908-4D1E-8787-6A52B9D8E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9D6F-05B3-4A9B-AEC1-EF3A233A0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5D41-BC4B-4A36-8F6B-EF0245BC7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01D1-E111-4E61-8B49-9ACAF3997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F8A4-FFEE-4D2F-A864-44FAF4CF2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AEBA-9DB0-4C22-8255-18AE4F177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7932-A772-4E9D-80BB-610C292AF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B06F-02BE-41A6-A0AA-235E962B6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5975-11F1-43B9-A920-9DAE0EE3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367E9-BD35-4183-84BC-4FEE41B0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70E1-3C52-4C33-B151-3F14988D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984B7-69BE-4F77-A1EA-FD2BAF5D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DDF08-73A8-4D12-849F-CB300357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D7A32-392C-4078-9381-C1C4C265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4CB55-1D9B-461D-9E30-2E810B70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21E2D-87F9-486E-A4EB-A38B9914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9ECB0-4FE2-4BE7-8FF2-1CE974A1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B6F83-983D-4EBE-BC57-B4E67923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64D30-7FE4-44C7-930F-554A822F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5521-D845-4BE3-91B5-27B7B0F0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6A1E-27E8-4DAE-9035-BC5D59113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10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8024040" y="5913360"/>
              <a:ext cx="86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Chem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Bond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hapter 8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oncepts of Chemical Bonding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584360" y="76320"/>
            <a:ext cx="63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Chemistry, The Central Scienc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, 11th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odore L. Brown, H. Eugene LeMay, Jr., and Bruce E. Bu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6320" y="563868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John D. Bookst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St. Charles Community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ottleville, 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y accounting for all three energies (ionization energy, electron affinity, and lattice energy), we can get a good idea of the energetics involved in such a proces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8" name="Picture 5" descr="08_04"/>
          <p:cNvPicPr/>
          <p:nvPr/>
        </p:nvPicPr>
        <p:blipFill>
          <a:blip r:embed="rId1"/>
          <a:srcRect l="0" t="0" r="0" b="3706"/>
          <a:stretch/>
        </p:blipFill>
        <p:spPr>
          <a:xfrm>
            <a:off x="304920" y="1676520"/>
            <a:ext cx="368460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3240" y="2514600"/>
            <a:ext cx="41907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se phenomena also helps explain the “octet rule.”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2" name="Picture 6" descr="07_T02cropped2"/>
          <p:cNvPicPr/>
          <p:nvPr/>
        </p:nvPicPr>
        <p:blipFill>
          <a:blip r:embed="rId1"/>
          <a:stretch/>
        </p:blipFill>
        <p:spPr>
          <a:xfrm>
            <a:off x="4572000" y="1828800"/>
            <a:ext cx="3809880" cy="2209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363600" y="4295880"/>
            <a:ext cx="8399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etals, for instance, tend to stop losing electrons once they attain a noble gas configuration because energy would be expended that cannot be overcome by lattice ener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4343400" y="2133720"/>
            <a:ext cx="3657600" cy="1143000"/>
          </a:xfrm>
          <a:prstGeom prst="ellipse">
            <a:avLst/>
          </a:prstGeom>
          <a:noFill/>
          <a:ln w="19080">
            <a:solidFill>
              <a:srgbClr val="c82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86200" y="1676160"/>
            <a:ext cx="5029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covalent bonds atoms share elec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 are several electrostatic interactions in these bonds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ttractions between electrons and nuclei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Repulsions between electrons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Repulsions between nuclei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8" name="Picture 5" descr="08_05cropped"/>
          <p:cNvPicPr/>
          <p:nvPr/>
        </p:nvPicPr>
        <p:blipFill>
          <a:blip r:embed="rId1"/>
          <a:stretch/>
        </p:blipFill>
        <p:spPr>
          <a:xfrm>
            <a:off x="685800" y="1600200"/>
            <a:ext cx="318276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olar Covalent Bo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ough atoms often form compounds by sharing electrons, the electrons are not always shared equall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2" name="Picture 7" descr="08_07"/>
          <p:cNvPicPr/>
          <p:nvPr/>
        </p:nvPicPr>
        <p:blipFill>
          <a:blip r:embed="rId1"/>
          <a:srcRect l="0" t="0" r="34001" b="5905"/>
          <a:stretch/>
        </p:blipFill>
        <p:spPr>
          <a:xfrm>
            <a:off x="228600" y="2057400"/>
            <a:ext cx="4495680" cy="20350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380880" y="44197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luorine pulls harder on the electrons it shares with hydrogen than hydrogen 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65040" y="5332320"/>
            <a:ext cx="786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the fluorine end of the molecule has more electron density than the hydrogen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egativit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lectronegativity is the ability of atoms in a molecule to attract electrons to themselv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 the periodic chart, electronegativity increases as you go…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from left to right across a row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from the bottom to the top of a column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8" name="Picture 7" descr="08_06cropped"/>
          <p:cNvPicPr/>
          <p:nvPr/>
        </p:nvPicPr>
        <p:blipFill>
          <a:blip r:embed="rId1"/>
          <a:stretch/>
        </p:blipFill>
        <p:spPr>
          <a:xfrm>
            <a:off x="4648320" y="1854360"/>
            <a:ext cx="4495680" cy="378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08_08"/>
          <p:cNvPicPr/>
          <p:nvPr/>
        </p:nvPicPr>
        <p:blipFill>
          <a:blip r:embed="rId1"/>
          <a:srcRect l="0" t="0" r="0" b="6102"/>
          <a:stretch/>
        </p:blipFill>
        <p:spPr>
          <a:xfrm>
            <a:off x="4952880" y="2759040"/>
            <a:ext cx="41148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olar Covalent Bo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5257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n two atoms share electrons unequally, a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bond dipol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result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dipole mome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produced by two equal but opposite charges separated by a distance,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is calculated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c82e32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measured in debyes (D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olar Covalent Bo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943600" y="1980720"/>
            <a:ext cx="3200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greater the difference in electronegativity, the more polar is the bon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6" name="Picture 9" descr="08_09"/>
          <p:cNvPicPr/>
          <p:nvPr/>
        </p:nvPicPr>
        <p:blipFill>
          <a:blip r:embed="rId1"/>
          <a:srcRect l="0" t="0" r="0" b="8228"/>
          <a:stretch/>
        </p:blipFill>
        <p:spPr>
          <a:xfrm>
            <a:off x="838080" y="4267080"/>
            <a:ext cx="7162920" cy="1773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08_T03"/>
          <p:cNvPicPr/>
          <p:nvPr/>
        </p:nvPicPr>
        <p:blipFill>
          <a:blip r:embed="rId2"/>
          <a:srcRect l="0" t="20584" r="0" b="6773"/>
          <a:stretch/>
        </p:blipFill>
        <p:spPr>
          <a:xfrm>
            <a:off x="304920" y="1905120"/>
            <a:ext cx="5333760" cy="1676160"/>
          </a:xfrm>
          <a:prstGeom prst="rect">
            <a:avLst/>
          </a:prstGeom>
          <a:ln w="0">
            <a:noFill/>
          </a:ln>
        </p:spPr>
      </p:pic>
      <p:sp>
        <p:nvSpPr>
          <p:cNvPr id="128" name="Line 13"/>
          <p:cNvSpPr/>
          <p:nvPr/>
        </p:nvSpPr>
        <p:spPr>
          <a:xfrm>
            <a:off x="533520" y="1916280"/>
            <a:ext cx="4038480" cy="0"/>
          </a:xfrm>
          <a:prstGeom prst="line">
            <a:avLst/>
          </a:prstGeom>
          <a:ln w="38160">
            <a:solidFill>
              <a:srgbClr val="00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ewis structures are representations of molecules showing all electrons, bonding and nonbonding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2" name="Picture 14" descr="08_05-03UN"/>
          <p:cNvPicPr/>
          <p:nvPr/>
        </p:nvPicPr>
        <p:blipFill>
          <a:blip r:embed="rId1"/>
          <a:srcRect l="0" t="0" r="0" b="16566"/>
          <a:stretch/>
        </p:blipFill>
        <p:spPr>
          <a:xfrm>
            <a:off x="685800" y="2286000"/>
            <a:ext cx="77724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14440" y="17521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ind the sum of valence electrons of all atoms in the polyatomic ion or molecu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If it is an anion, add one electron for each negative charg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If it is a cation, subtract one electron for each positive charg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371600" y="1980720"/>
            <a:ext cx="2286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PCl</a:t>
            </a:r>
            <a:r>
              <a:rPr b="0" lang="en-US" sz="8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221480" y="419112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4"/>
                </a:solidFill>
                <a:latin typeface="Arial"/>
              </a:rPr>
              <a:t>5   +  3(7) =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21"/>
          <p:cNvCxnSpPr>
            <a:stCxn id="137" idx="1"/>
            <a:endCxn id="136" idx="1"/>
          </p:cNvCxnSpPr>
          <p:nvPr/>
        </p:nvCxnSpPr>
        <p:spPr>
          <a:xfrm flipH="1" rot="10800000">
            <a:off x="1218240" y="2818800"/>
            <a:ext cx="153000" cy="1662840"/>
          </a:xfrm>
          <a:prstGeom prst="curvedConnector5">
            <a:avLst>
              <a:gd name="adj1" fmla="val -270754"/>
              <a:gd name="adj2" fmla="val 50000"/>
              <a:gd name="adj3" fmla="val -270754"/>
            </a:avLst>
          </a:prstGeom>
          <a:ln w="9360">
            <a:solidFill>
              <a:srgbClr val="001964"/>
            </a:solidFill>
            <a:miter/>
            <a:tailEnd len="med" type="triangle" w="med"/>
          </a:ln>
        </p:spPr>
      </p:cxnSp>
      <p:sp>
        <p:nvSpPr>
          <p:cNvPr id="139" name="Freeform 25"/>
          <p:cNvSpPr/>
          <p:nvPr/>
        </p:nvSpPr>
        <p:spPr>
          <a:xfrm>
            <a:off x="2895480" y="2662200"/>
            <a:ext cx="1122480" cy="1604880"/>
          </a:xfrm>
          <a:custGeom>
            <a:avLst/>
            <a:gdLst>
              <a:gd name="textAreaLeft" fmla="*/ 0 w 1122480"/>
              <a:gd name="textAreaRight" fmla="*/ 1122840 w 112248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707" h="1011">
                <a:moveTo>
                  <a:pt x="0" y="1011"/>
                </a:moveTo>
                <a:cubicBezTo>
                  <a:pt x="102" y="929"/>
                  <a:pt x="523" y="675"/>
                  <a:pt x="615" y="521"/>
                </a:cubicBezTo>
                <a:cubicBezTo>
                  <a:pt x="707" y="367"/>
                  <a:pt x="627" y="172"/>
                  <a:pt x="553" y="86"/>
                </a:cubicBezTo>
                <a:cubicBezTo>
                  <a:pt x="479" y="0"/>
                  <a:pt x="248" y="20"/>
                  <a:pt x="168" y="3"/>
                </a:cubicBezTo>
              </a:path>
            </a:pathLst>
          </a:custGeom>
          <a:noFill/>
          <a:ln w="9360">
            <a:solidFill>
              <a:srgbClr val="00196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central atom is th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electronegative element that isn’t hydrogen.  Connect the outer atoms to it by single bond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02760" y="5105520"/>
            <a:ext cx="451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eep track of the electr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26 - 6 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none"/>
          <p:cNvPicPr/>
          <p:nvPr/>
        </p:nvPicPr>
        <p:blipFill>
          <a:blip r:embed="rId1"/>
          <a:stretch/>
        </p:blipFill>
        <p:spPr>
          <a:xfrm>
            <a:off x="152280" y="2362320"/>
            <a:ext cx="4332240" cy="274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08_01covalent"/>
          <p:cNvPicPr/>
          <p:nvPr/>
        </p:nvPicPr>
        <p:blipFill>
          <a:blip r:embed="rId1"/>
          <a:stretch/>
        </p:blipFill>
        <p:spPr>
          <a:xfrm>
            <a:off x="2209680" y="3200400"/>
            <a:ext cx="2075040" cy="1833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08_01covalenttrans"/>
          <p:cNvPicPr/>
          <p:nvPr/>
        </p:nvPicPr>
        <p:blipFill>
          <a:blip r:embed="rId2"/>
          <a:stretch/>
        </p:blipFill>
        <p:spPr>
          <a:xfrm>
            <a:off x="2209680" y="3200400"/>
            <a:ext cx="2075040" cy="1833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emical Bo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6200" y="16761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ree basic types of bond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onic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lectrostatic attraction between ions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ovalent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Sharing of electrons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etallic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Metal atoms bonded to several other atoms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0" name="Picture 8" descr="08_01covalent"/>
          <p:cNvPicPr/>
          <p:nvPr/>
        </p:nvPicPr>
        <p:blipFill>
          <a:blip r:embed="rId3"/>
          <a:stretch/>
        </p:blipFill>
        <p:spPr>
          <a:xfrm>
            <a:off x="380880" y="1598760"/>
            <a:ext cx="1938600" cy="183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08_01ionictrans"/>
          <p:cNvPicPr/>
          <p:nvPr/>
        </p:nvPicPr>
        <p:blipFill>
          <a:blip r:embed="rId4"/>
          <a:stretch/>
        </p:blipFill>
        <p:spPr>
          <a:xfrm>
            <a:off x="380880" y="1587600"/>
            <a:ext cx="1938600" cy="1830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08_01metallic"/>
          <p:cNvPicPr/>
          <p:nvPr/>
        </p:nvPicPr>
        <p:blipFill>
          <a:blip r:embed="rId5"/>
          <a:stretch/>
        </p:blipFill>
        <p:spPr>
          <a:xfrm>
            <a:off x="380880" y="4800600"/>
            <a:ext cx="1938600" cy="183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ill the octets of the outer atom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48" name="Picture 7" descr="outer"/>
          <p:cNvPicPr/>
          <p:nvPr/>
        </p:nvPicPr>
        <p:blipFill>
          <a:blip r:embed="rId1"/>
          <a:stretch/>
        </p:blipFill>
        <p:spPr>
          <a:xfrm>
            <a:off x="152280" y="2362320"/>
            <a:ext cx="4332240" cy="27478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302760" y="5105520"/>
            <a:ext cx="451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eep track of the electr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26 - 6 = 20; 20 - 18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ill the octet of the central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53" name="Picture 5" descr="full"/>
          <p:cNvPicPr/>
          <p:nvPr/>
        </p:nvPicPr>
        <p:blipFill>
          <a:blip r:embed="rId1"/>
          <a:stretch/>
        </p:blipFill>
        <p:spPr>
          <a:xfrm>
            <a:off x="152280" y="2362320"/>
            <a:ext cx="4332240" cy="2747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301680" y="5105520"/>
            <a:ext cx="53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eep track of the electr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26 - 6 = 20; 20 - 18 = 2; 2 - 2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90760" y="1980720"/>
            <a:ext cx="47242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you run out of electrons before the central atom has an octet…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m multiple bonds until it do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58" name="Picture 8" descr="08_09-05UNEx8-7"/>
          <p:cNvPicPr/>
          <p:nvPr/>
        </p:nvPicPr>
        <p:blipFill>
          <a:blip r:embed="rId1"/>
          <a:srcRect l="0" t="0" r="0" b="10914"/>
          <a:stretch/>
        </p:blipFill>
        <p:spPr>
          <a:xfrm>
            <a:off x="228600" y="2590920"/>
            <a:ext cx="3886200" cy="996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08_09-06UNEx8-7"/>
          <p:cNvPicPr/>
          <p:nvPr/>
        </p:nvPicPr>
        <p:blipFill>
          <a:blip r:embed="rId2"/>
          <a:srcRect l="0" t="0" r="0" b="15460"/>
          <a:stretch/>
        </p:blipFill>
        <p:spPr>
          <a:xfrm>
            <a:off x="685800" y="4938840"/>
            <a:ext cx="7315200" cy="1089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18288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n assign formal charg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For each atom, count the electrons in lone pairs and half the electrons it shares with other atoms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Subtract that from the number of valence electrons for that atom:  the difference is its formal charg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63" name="Picture 7" descr="08_09-10UN"/>
          <p:cNvPicPr/>
          <p:nvPr/>
        </p:nvPicPr>
        <p:blipFill>
          <a:blip r:embed="rId1"/>
          <a:srcRect l="0" t="0" r="0" b="10974"/>
          <a:stretch/>
        </p:blipFill>
        <p:spPr>
          <a:xfrm>
            <a:off x="380880" y="4281480"/>
            <a:ext cx="7772400" cy="173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2" descr="Withcharges"/>
          <p:cNvPicPr/>
          <p:nvPr/>
        </p:nvPicPr>
        <p:blipFill>
          <a:blip r:embed="rId1"/>
          <a:stretch/>
        </p:blipFill>
        <p:spPr>
          <a:xfrm>
            <a:off x="687240" y="4648320"/>
            <a:ext cx="7769520" cy="927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best Lewis structure…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s the one with the fewest charg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uts a negative charge on the most electronegative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68" name="Picture 11" descr="Withoutcharges"/>
          <p:cNvPicPr/>
          <p:nvPr/>
        </p:nvPicPr>
        <p:blipFill>
          <a:blip r:embed="rId2"/>
          <a:stretch/>
        </p:blipFill>
        <p:spPr>
          <a:xfrm>
            <a:off x="685800" y="4648320"/>
            <a:ext cx="7772400" cy="927000"/>
          </a:xfrm>
          <a:prstGeom prst="rect">
            <a:avLst/>
          </a:prstGeom>
          <a:ln w="0">
            <a:noFill/>
          </a:ln>
        </p:spPr>
      </p:pic>
      <p:sp>
        <p:nvSpPr>
          <p:cNvPr id="169" name="Oval 13"/>
          <p:cNvSpPr/>
          <p:nvPr/>
        </p:nvSpPr>
        <p:spPr>
          <a:xfrm>
            <a:off x="6172200" y="4876920"/>
            <a:ext cx="2362320" cy="838080"/>
          </a:xfrm>
          <a:prstGeom prst="ellipse">
            <a:avLst/>
          </a:prstGeom>
          <a:noFill/>
          <a:ln w="19080">
            <a:solidFill>
              <a:srgbClr val="c82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is the Lewis structure we would draw for ozone, 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73" name="Picture 7" descr="ozone"/>
          <p:cNvPicPr/>
          <p:nvPr/>
        </p:nvPicPr>
        <p:blipFill>
          <a:blip r:embed="rId1"/>
          <a:stretch/>
        </p:blipFill>
        <p:spPr>
          <a:xfrm>
            <a:off x="4876920" y="2209680"/>
            <a:ext cx="3582720" cy="1835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5106600" y="36115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497640" y="1981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ut this is at odds with the true, observed structure of ozone, in which…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both O-O bonds are the same length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both outer oxygens have a charge of -1/2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79" name="Picture 5" descr="08_11"/>
          <p:cNvPicPr/>
          <p:nvPr/>
        </p:nvPicPr>
        <p:blipFill>
          <a:blip r:embed="rId1"/>
          <a:srcRect l="0" t="0" r="0" b="3074"/>
          <a:stretch/>
        </p:blipFill>
        <p:spPr>
          <a:xfrm>
            <a:off x="533520" y="1600200"/>
            <a:ext cx="297972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e Lewis structure cannot accurately depict a molecule like ozon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use multiple structures, resonance structures, to describe the molecu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83" name="Picture 5" descr="Resonance"/>
          <p:cNvPicPr/>
          <p:nvPr/>
        </p:nvPicPr>
        <p:blipFill>
          <a:blip r:embed="rId1"/>
          <a:stretch/>
        </p:blipFill>
        <p:spPr>
          <a:xfrm>
            <a:off x="4724280" y="3429000"/>
            <a:ext cx="3810240" cy="1427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657240" y="21337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Just as green is a synthesis of blue and yellow…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zone is a synthesis of these two resonance structur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87" name="Picture 10" descr="Resonance3"/>
          <p:cNvPicPr/>
          <p:nvPr/>
        </p:nvPicPr>
        <p:blipFill>
          <a:blip r:embed="rId1"/>
          <a:stretch/>
        </p:blipFill>
        <p:spPr>
          <a:xfrm>
            <a:off x="609480" y="1600200"/>
            <a:ext cx="2614680" cy="5027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Resonance4"/>
          <p:cNvPicPr/>
          <p:nvPr/>
        </p:nvPicPr>
        <p:blipFill>
          <a:blip r:embed="rId2"/>
          <a:stretch/>
        </p:blipFill>
        <p:spPr>
          <a:xfrm>
            <a:off x="609480" y="1600200"/>
            <a:ext cx="2614680" cy="502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ruth, the electrons that form the second C-O bond in the double bonds below do not always sit between that C and that O, but rather can move among the two oxygens and the carb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are not </a:t>
            </a: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localiz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; they are </a:t>
            </a: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delocaliz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2" name="Picture 7" descr="08_12-04UNEx8-10"/>
          <p:cNvPicPr/>
          <p:nvPr/>
        </p:nvPicPr>
        <p:blipFill>
          <a:blip r:embed="rId1"/>
          <a:srcRect l="0" t="0" r="0" b="7690"/>
          <a:stretch/>
        </p:blipFill>
        <p:spPr>
          <a:xfrm>
            <a:off x="1125360" y="4572000"/>
            <a:ext cx="68932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Ionic Bonding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organic compound benzene, C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has two resonance structur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commonly depicted as a hexagon with a circle inside to signify the delocalized electrons in the ring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6" name="Picture 8" descr="08_13-01UN"/>
          <p:cNvPicPr/>
          <p:nvPr/>
        </p:nvPicPr>
        <p:blipFill>
          <a:blip r:embed="rId1"/>
          <a:srcRect l="0" t="0" r="0" b="5767"/>
          <a:stretch/>
        </p:blipFill>
        <p:spPr>
          <a:xfrm>
            <a:off x="533520" y="2749680"/>
            <a:ext cx="4038480" cy="1593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08_13-02UN"/>
          <p:cNvPicPr/>
          <p:nvPr/>
        </p:nvPicPr>
        <p:blipFill>
          <a:blip r:embed="rId2"/>
          <a:srcRect l="0" t="0" r="0" b="12833"/>
          <a:stretch/>
        </p:blipFill>
        <p:spPr>
          <a:xfrm>
            <a:off x="228600" y="5586480"/>
            <a:ext cx="5334120" cy="100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xceptions to the Octet Ru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 are three types of ions or molecules that do not follow the octet rule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ons or molecules with an odd number of electron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ons or molecules with less than an octet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ons or molecules with more than eight valence electrons (an expanded octet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dd Number of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ough relatively rare and usually quite unstable and reactive, there are ions and molecules with an odd number of elec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4" name="Picture 12" descr="08_13-04UN"/>
          <p:cNvPicPr/>
          <p:nvPr/>
        </p:nvPicPr>
        <p:blipFill>
          <a:blip r:embed="rId1"/>
          <a:srcRect l="0" t="0" r="0" b="14942"/>
          <a:stretch/>
        </p:blipFill>
        <p:spPr>
          <a:xfrm>
            <a:off x="685800" y="4114800"/>
            <a:ext cx="7772400" cy="111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ewer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onsider BF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Giving boron a filled octet places a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charge on the boron and a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positiv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charge on fluorin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would not be an accurate picture of the distribution of electrons in BF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8" name="Picture 5" descr="08_13-06UN"/>
          <p:cNvPicPr/>
          <p:nvPr/>
        </p:nvPicPr>
        <p:blipFill>
          <a:blip r:embed="rId1"/>
          <a:srcRect l="0" t="0" r="0" b="11538"/>
          <a:stretch/>
        </p:blipFill>
        <p:spPr>
          <a:xfrm>
            <a:off x="849240" y="1752480"/>
            <a:ext cx="744372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ewer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structures that put a double bond between boron and fluorine are much less important than the one that leaves boron with only 6 valence elec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2" name="Picture 5" descr="08_13-07UN"/>
          <p:cNvPicPr/>
          <p:nvPr/>
        </p:nvPicPr>
        <p:blipFill>
          <a:blip r:embed="rId1"/>
          <a:srcRect l="0" t="0" r="0" b="11539"/>
          <a:stretch/>
        </p:blipFill>
        <p:spPr>
          <a:xfrm>
            <a:off x="1047600" y="4343400"/>
            <a:ext cx="704700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ewer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lesson is:  if filling the octet of the central atom results in a negative charge on the central atom and a positive charge on the more electronegative outer atom, don’t fill the octet of the central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6" name="Picture 4" descr="08_13-07UN"/>
          <p:cNvPicPr/>
          <p:nvPr/>
        </p:nvPicPr>
        <p:blipFill>
          <a:blip r:embed="rId1"/>
          <a:srcRect l="0" t="0" r="0" b="11539"/>
          <a:stretch/>
        </p:blipFill>
        <p:spPr>
          <a:xfrm>
            <a:off x="1047600" y="4343400"/>
            <a:ext cx="704700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ore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only way PCl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can exist is if phosphorus has 10 electrons around i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allowed to expand the octet of atoms on the 3rd row or below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Presumably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orbitals in these atoms participate in bonding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0" name="Picture 5" descr="08_13-09UN"/>
          <p:cNvPicPr/>
          <p:nvPr/>
        </p:nvPicPr>
        <p:blipFill>
          <a:blip r:embed="rId1"/>
          <a:srcRect l="0" t="0" r="0" b="4340"/>
          <a:stretch/>
        </p:blipFill>
        <p:spPr>
          <a:xfrm>
            <a:off x="380880" y="211932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ore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ven though we can draw a Lewis structure for the phosphate ion that has only 8 electrons around the central phosphorus, the better structure puts a double bond between the phosphorus and one of the oxyge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4" name="Picture 5" descr="08_13-14UN"/>
          <p:cNvPicPr/>
          <p:nvPr/>
        </p:nvPicPr>
        <p:blipFill>
          <a:blip r:embed="rId1"/>
          <a:srcRect l="0" t="0" r="0" b="7579"/>
          <a:stretch/>
        </p:blipFill>
        <p:spPr>
          <a:xfrm>
            <a:off x="1541520" y="4187880"/>
            <a:ext cx="60609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ore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eliminates the charge on the phosphorus and the charge on one of the oxyge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lesson is:  when the central atom in on the 3rd row or below and expanding its octet eliminates some formal charges, do so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8" name="Picture 4" descr="08_13-14UN"/>
          <p:cNvPicPr/>
          <p:nvPr/>
        </p:nvPicPr>
        <p:blipFill>
          <a:blip r:embed="rId1"/>
          <a:srcRect l="0" t="0" r="0" b="7579"/>
          <a:stretch/>
        </p:blipFill>
        <p:spPr>
          <a:xfrm>
            <a:off x="1541520" y="4187880"/>
            <a:ext cx="60609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ovalent Bond Str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ost simply, the strength of a bond is measured by determining how much energy is required to break the bon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is the </a:t>
            </a: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bond enthalpy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bond enthalpy for a Cl-Cl bond,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(Cl-Cl), is measured to be 242 kJ/mol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2" name="Picture 5" descr="08_13-15UN"/>
          <p:cNvPicPr/>
          <p:nvPr/>
        </p:nvPicPr>
        <p:blipFill>
          <a:blip r:embed="rId1"/>
          <a:srcRect l="0" t="0" r="0" b="22773"/>
          <a:stretch/>
        </p:blipFill>
        <p:spPr>
          <a:xfrm>
            <a:off x="685800" y="1828800"/>
            <a:ext cx="777240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we saw in the last chapter, it takes 495 kJ/mol to remove electrons from sodiu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8" name="Picture 9" descr="07_T02IE"/>
          <p:cNvPicPr/>
          <p:nvPr/>
        </p:nvPicPr>
        <p:blipFill>
          <a:blip r:embed="rId1"/>
          <a:stretch/>
        </p:blipFill>
        <p:spPr>
          <a:xfrm>
            <a:off x="685800" y="2916360"/>
            <a:ext cx="3809880" cy="224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verage Bond Enthalp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table lists the average bond enthalpies for many different types of bond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verage bond enthalpies are positive, because bond breaking is an endothermic proces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6" name="Picture 8" descr="08_T04"/>
          <p:cNvPicPr/>
          <p:nvPr/>
        </p:nvPicPr>
        <p:blipFill>
          <a:blip r:embed="rId1"/>
          <a:srcRect l="0" t="0" r="0" b="4896"/>
          <a:stretch/>
        </p:blipFill>
        <p:spPr>
          <a:xfrm>
            <a:off x="4038480" y="1504800"/>
            <a:ext cx="4724640" cy="40579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9"/>
          <p:cNvSpPr/>
          <p:nvPr/>
        </p:nvSpPr>
        <p:spPr>
          <a:xfrm>
            <a:off x="4114800" y="1546200"/>
            <a:ext cx="685800" cy="152280"/>
          </a:xfrm>
          <a:prstGeom prst="rect">
            <a:avLst/>
          </a:prstGeom>
          <a:solidFill>
            <a:srgbClr val="007cb2"/>
          </a:solidFill>
          <a:ln w="9360">
            <a:solidFill>
              <a:srgbClr val="00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verage Bond Enthalp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OTE:  These ar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averag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bond enthalpies, not absolute bond enthalpies; the C-H bonds in methane, C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will be a bit different than the C-H bond in chloroform, CHCl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1" name="Picture 4" descr="08_T04"/>
          <p:cNvPicPr/>
          <p:nvPr/>
        </p:nvPicPr>
        <p:blipFill>
          <a:blip r:embed="rId1"/>
          <a:srcRect l="0" t="0" r="0" b="4896"/>
          <a:stretch/>
        </p:blipFill>
        <p:spPr>
          <a:xfrm>
            <a:off x="4038480" y="1504800"/>
            <a:ext cx="4724640" cy="40579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4114800" y="1546200"/>
            <a:ext cx="685800" cy="152280"/>
          </a:xfrm>
          <a:prstGeom prst="rect">
            <a:avLst/>
          </a:prstGeom>
          <a:solidFill>
            <a:srgbClr val="007cb2"/>
          </a:solidFill>
          <a:ln w="9360">
            <a:solidFill>
              <a:srgbClr val="00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thalpies of Rea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267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Yet another way to estimate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a reaction is to compare the bond enthalpies of bonds broken to the bond enthalpies of the new bonds form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6" name="Picture 5" descr="08_14"/>
          <p:cNvPicPr/>
          <p:nvPr/>
        </p:nvPicPr>
        <p:blipFill>
          <a:blip r:embed="rId1"/>
          <a:srcRect l="0" t="0" r="0" b="3717"/>
          <a:stretch/>
        </p:blipFill>
        <p:spPr>
          <a:xfrm>
            <a:off x="4572000" y="1839960"/>
            <a:ext cx="4267080" cy="37288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6"/>
          <p:cNvSpPr/>
          <p:nvPr/>
        </p:nvSpPr>
        <p:spPr>
          <a:xfrm>
            <a:off x="228600" y="5353200"/>
            <a:ext cx="74008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other wor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rx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(bond enthalpies of bonds broken)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(bond enthalpies of bonds form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thalpies of Rea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l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HCl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his example, one C-H bond and one Cl-Cl bond are broken; one C-Cl and one H-Cl bond are form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1" name="Picture 4" descr="08_14"/>
          <p:cNvPicPr/>
          <p:nvPr/>
        </p:nvPicPr>
        <p:blipFill>
          <a:blip r:embed="rId1"/>
          <a:srcRect l="0" t="0" r="0" b="3717"/>
          <a:stretch/>
        </p:blipFill>
        <p:spPr>
          <a:xfrm>
            <a:off x="4572000" y="1839960"/>
            <a:ext cx="4267080" cy="372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thalpies of Rea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0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,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690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[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C-H) +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Cl-Cl)] - [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C-Cl) +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H-Cl)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690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[(413 kJ) + (242 kJ)] - [(328 kJ) + (431 kJ)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690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(655 kJ) - (759 kJ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690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-104 kJ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ond Enthalpy and Bond L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can also measure an average bond length for different bond typ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the number of bonds between two atoms increases, the bond length decrea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8" name="Picture 10" descr="08_T05"/>
          <p:cNvPicPr/>
          <p:nvPr/>
        </p:nvPicPr>
        <p:blipFill>
          <a:blip r:embed="rId1"/>
          <a:srcRect l="0" t="8449" r="0" b="7038"/>
          <a:stretch/>
        </p:blipFill>
        <p:spPr>
          <a:xfrm>
            <a:off x="1746360" y="1752480"/>
            <a:ext cx="5651280" cy="2286000"/>
          </a:xfrm>
          <a:prstGeom prst="rect">
            <a:avLst/>
          </a:prstGeom>
          <a:ln w="0">
            <a:noFill/>
          </a:ln>
        </p:spPr>
      </p:pic>
      <p:sp>
        <p:nvSpPr>
          <p:cNvPr id="259" name="Line 11"/>
          <p:cNvSpPr/>
          <p:nvPr/>
        </p:nvSpPr>
        <p:spPr>
          <a:xfrm>
            <a:off x="2666880" y="1762200"/>
            <a:ext cx="4114800" cy="0"/>
          </a:xfrm>
          <a:prstGeom prst="line">
            <a:avLst/>
          </a:prstGeom>
          <a:ln w="25560">
            <a:solidFill>
              <a:srgbClr val="00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get 349 kJ/mol back by giving electrons to chlorin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2" name="Picture 7" descr="07_12EA"/>
          <p:cNvPicPr/>
          <p:nvPr/>
        </p:nvPicPr>
        <p:blipFill>
          <a:blip r:embed="rId1"/>
          <a:stretch/>
        </p:blipFill>
        <p:spPr>
          <a:xfrm>
            <a:off x="4764240" y="1981080"/>
            <a:ext cx="35766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ut these numbers don’t explain why the reaction of sodium metal and chlorine gas to form sodium chloride is so exothermic!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6" name="Picture 5" descr="08_02cropped"/>
          <p:cNvPicPr/>
          <p:nvPr/>
        </p:nvPicPr>
        <p:blipFill>
          <a:blip r:embed="rId1"/>
          <a:stretch/>
        </p:blipFill>
        <p:spPr>
          <a:xfrm>
            <a:off x="0" y="2003400"/>
            <a:ext cx="525780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 must be a third piece to the puzz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at is as yet unaccounted for is the electrostatic attraction between the newly-formed sodium cation and chloride an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80" name="Picture 6" descr="02_21-02UN"/>
          <p:cNvPicPr/>
          <p:nvPr/>
        </p:nvPicPr>
        <p:blipFill>
          <a:blip r:embed="rId1"/>
          <a:srcRect l="0" t="0" r="0" b="5617"/>
          <a:stretch/>
        </p:blipFill>
        <p:spPr>
          <a:xfrm>
            <a:off x="4191120" y="1752480"/>
            <a:ext cx="4278240" cy="200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02_21-03UN"/>
          <p:cNvPicPr/>
          <p:nvPr/>
        </p:nvPicPr>
        <p:blipFill>
          <a:blip r:embed="rId2"/>
          <a:srcRect l="0" t="0" r="0" b="6976"/>
          <a:stretch/>
        </p:blipFill>
        <p:spPr>
          <a:xfrm>
            <a:off x="4191120" y="3733920"/>
            <a:ext cx="4653000" cy="2008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Lattice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third piece of the puzzle is the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lattice energy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The energy required to completely separate a mole of a solid ionic compound into its gaseous i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nergy associated with electrostatic interactions is governed by Coulomb’s law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3366360" y="5181480"/>
            <a:ext cx="2466000" cy="1136160"/>
            <a:chOff x="3366360" y="5181480"/>
            <a:chExt cx="2466000" cy="1136160"/>
          </a:xfrm>
        </p:grpSpPr>
        <p:sp>
          <p:nvSpPr>
            <p:cNvPr id="86" name="Rectangle 5"/>
            <p:cNvSpPr/>
            <p:nvPr/>
          </p:nvSpPr>
          <p:spPr>
            <a:xfrm>
              <a:off x="3366360" y="5425920"/>
              <a:ext cx="132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E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el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8"/>
            <p:cNvGrpSpPr/>
            <p:nvPr/>
          </p:nvGrpSpPr>
          <p:grpSpPr>
            <a:xfrm>
              <a:off x="4689360" y="5181480"/>
              <a:ext cx="1143000" cy="1136160"/>
              <a:chOff x="4689360" y="5181480"/>
              <a:chExt cx="1143000" cy="1136160"/>
            </a:xfrm>
          </p:grpSpPr>
          <p:sp>
            <p:nvSpPr>
              <p:cNvPr id="88" name="Rectangle 6"/>
              <p:cNvSpPr/>
              <p:nvPr/>
            </p:nvSpPr>
            <p:spPr>
              <a:xfrm>
                <a:off x="4737960" y="5181480"/>
                <a:ext cx="103104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Times New Roman"/>
                  </a:rPr>
                  <a:t>Q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1</a:t>
                </a:r>
                <a:r>
                  <a:rPr b="0" i="1" lang="en-US" sz="3200" spc="-1" strike="noStrike">
                    <a:solidFill>
                      <a:srgbClr val="c82e32"/>
                    </a:solidFill>
                    <a:latin typeface="Times New Roman"/>
                  </a:rPr>
                  <a:t>Q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7"/>
              <p:cNvSpPr/>
              <p:nvPr/>
            </p:nvSpPr>
            <p:spPr>
              <a:xfrm>
                <a:off x="4689360" y="5773680"/>
                <a:ext cx="114300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Lattice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320" y="19047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attice energy, then, increases with the charge on the i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6320" y="289548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also increases with decreasing size of 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08_T02"/>
          <p:cNvPicPr/>
          <p:nvPr/>
        </p:nvPicPr>
        <p:blipFill>
          <a:blip r:embed="rId1"/>
          <a:srcRect l="0" t="8402" r="0" b="3927"/>
          <a:stretch/>
        </p:blipFill>
        <p:spPr>
          <a:xfrm>
            <a:off x="3581280" y="2590920"/>
            <a:ext cx="487692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3:14:25Z</dcterms:created>
  <dc:creator>John Bookstaver</dc:creator>
  <dc:description/>
  <dc:language>en-US</dc:language>
  <cp:lastModifiedBy>hessah</cp:lastModifiedBy>
  <dcterms:modified xsi:type="dcterms:W3CDTF">2015-09-13T12:02:54Z</dcterms:modified>
  <cp:revision>52</cp:revision>
  <dc:subject/>
  <dc:title>Chapter 8 Concepts of Chemical Bonding</dc:title>
</cp:coreProperties>
</file>