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CAC0-05B4-4A0D-AEE2-E41E4D4A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A18-83BA-4138-ADD8-A0363E125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A60-277D-41A1-8BF6-EEE82894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EE9B-4734-4E92-9C36-E414F4E9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53D-F0A0-4D83-8291-8F6B5623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46F-0055-4AD6-913F-6B92E52B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30B-9EB2-4A32-B384-19DDD43D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4B0B-0A1C-4810-B839-467C50FE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136-C37C-497C-A254-361C782D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769-C1F0-4F3C-8246-DEDA665A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AED-27CE-4BE5-8C0E-D94C65CC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FB5-4916-4723-BF4C-DC1A4D0F5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010-7872-4F1E-BD67-E67BA9EC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5665-1D15-40FD-85E9-B9A14AF6E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A8A-793B-481F-9797-3EB6389B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9CB2-CC30-4893-A3D8-50E83262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FD6-75D2-453F-9B4A-C24FF0BF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A062-5EEA-4F03-B6EA-F0BF5941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52A-8F6B-4D00-866C-F78E2D67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15A5-5966-4D8B-8671-A1592A0F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28E2-A19A-4818-ADF5-7FA32D46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5512-BD44-4D65-AEB0-0E222718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30B-FD3C-4C37-9A78-77174F70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A573-26B4-42C9-A23D-ADD99E68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719-E2AE-4F68-9845-39B03E8C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16B-2C8A-4A48-A928-9C06A5AA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A0B-8E02-43B2-874F-4D0B3AE1F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BC0-344C-44EB-8ED4-F2D3AF830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9D54-9997-4700-828C-3A4B02F1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5392-E6D8-4589-98DF-159032CF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0D94-9DA4-421C-A7C7-D48B588AD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1617-814C-469F-8DD7-73357A19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55C-5CCD-486C-B932-70CA9D96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654-6296-4B5C-AC4D-62F3C270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26E-6F75-4F1B-867E-2DD73835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7C8-3099-4364-9DC4-5E86C0E25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E54-7A71-4398-B759-C1F130D8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FBF-F9D0-4BE9-B42B-01D4820D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F4DD-2303-4F2F-9C58-0DBBDC89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E5E8-AF23-490F-A540-E7897973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AF5-55A2-4CD6-8ABF-A3071A065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399-6457-4FBB-9D5B-26D686D7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2AF-397F-4FC6-8F7F-734DB920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894-214A-4B59-930A-E68D9C84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9B6C-FEED-4E49-9C74-3E8D7953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55C-ED69-41E8-82F0-24E34DB28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1E78-1858-49B7-A536-0E6AA1A4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E930-D102-47FE-BE88-437D8DB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AACA-B7E1-4C8C-8794-62E9633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D9CE-58CC-4039-8653-B9710501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5372-32F8-41B9-BC4D-C7E334B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0954-19D3-426A-8E52-4B9A5D87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3EE0-DA19-451A-B650-2090829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24E8-F7A3-4BB8-8C9A-DE4B74F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CD4A-D663-4363-B244-A463979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3014-9C5B-49D7-ABC8-13FE983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B9C7-51A0-4060-B227-46A54EB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75D7-D098-48F2-BEE2-2245051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5086-C642-49E5-BDD6-4E20FDFC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8024040" y="5913360"/>
              <a:ext cx="86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Bon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8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oncepts of Chemical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584360" y="763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6386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accounting for all three energies (ionization energy, electron affinity, and lattice energy), we can get a good idea of the energetics involved in such a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8" name="Picture 5" descr="08_04"/>
          <p:cNvPicPr/>
          <p:nvPr/>
        </p:nvPicPr>
        <p:blipFill>
          <a:blip r:embed="rId1"/>
          <a:srcRect l="0" t="0" r="0" b="3706"/>
          <a:stretch/>
        </p:blipFill>
        <p:spPr>
          <a:xfrm>
            <a:off x="304920" y="1676520"/>
            <a:ext cx="368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240" y="2514600"/>
            <a:ext cx="4190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phenomena also helps explain the “octet rule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2" name="Picture 6" descr="07_T02cropped2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2209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363600" y="4295880"/>
            <a:ext cx="839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s, for instance, tend to stop losing electrons once they attain a noble gas configuration because energy would be expended that cannot be overcome by lattice e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343400" y="2133720"/>
            <a:ext cx="3657600" cy="114300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covalent bonds atoms shar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are several electrostatic interactions in these bonds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ttractions between electrons and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Repulsions between nucle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8_05cropped"/>
          <p:cNvPicPr/>
          <p:nvPr/>
        </p:nvPicPr>
        <p:blipFill>
          <a:blip r:embed="rId1"/>
          <a:stretch/>
        </p:blipFill>
        <p:spPr>
          <a:xfrm>
            <a:off x="685800" y="1600200"/>
            <a:ext cx="3182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atoms often form compounds by sharing electrons, the electrons are not always shared equall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7" descr="08_07"/>
          <p:cNvPicPr/>
          <p:nvPr/>
        </p:nvPicPr>
        <p:blipFill>
          <a:blip r:embed="rId1"/>
          <a:srcRect l="0" t="0" r="34001" b="5905"/>
          <a:stretch/>
        </p:blipFill>
        <p:spPr>
          <a:xfrm>
            <a:off x="228600" y="2057400"/>
            <a:ext cx="4495680" cy="2035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380880" y="4419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luorine pulls harder on the electrons it shares with hydrogen than hydroge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65040" y="5332320"/>
            <a:ext cx="786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fluorine end of the molecule has more electron density than the hydrogen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lectronegativity is the ability of atoms in a molecule to attract electrons to themselv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 the periodic chart, electronegativity increases as you go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left to right across a row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rom the bottom to the top of a column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8" name="Picture 7" descr="08_06cropped"/>
          <p:cNvPicPr/>
          <p:nvPr/>
        </p:nvPicPr>
        <p:blipFill>
          <a:blip r:embed="rId1"/>
          <a:stretch/>
        </p:blipFill>
        <p:spPr>
          <a:xfrm>
            <a:off x="4648320" y="1854360"/>
            <a:ext cx="449568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8_08"/>
          <p:cNvPicPr/>
          <p:nvPr/>
        </p:nvPicPr>
        <p:blipFill>
          <a:blip r:embed="rId1"/>
          <a:srcRect l="0" t="0" r="0" b="6102"/>
          <a:stretch/>
        </p:blipFill>
        <p:spPr>
          <a:xfrm>
            <a:off x="4952880" y="2759040"/>
            <a:ext cx="41148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525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two atoms share electrons unequally,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ond dipol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resul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dipole mo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duced by two equal but opposite charges separated by a distance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is calculated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c82e32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measured in debyes (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43600" y="1980720"/>
            <a:ext cx="3200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greater the difference in electronegativity, the more polar is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6" name="Picture 9" descr="08_09"/>
          <p:cNvPicPr/>
          <p:nvPr/>
        </p:nvPicPr>
        <p:blipFill>
          <a:blip r:embed="rId1"/>
          <a:srcRect l="0" t="0" r="0" b="8228"/>
          <a:stretch/>
        </p:blipFill>
        <p:spPr>
          <a:xfrm>
            <a:off x="838080" y="4267080"/>
            <a:ext cx="716292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08_T03"/>
          <p:cNvPicPr/>
          <p:nvPr/>
        </p:nvPicPr>
        <p:blipFill>
          <a:blip r:embed="rId2"/>
          <a:srcRect l="0" t="20584" r="0" b="6773"/>
          <a:stretch/>
        </p:blipFill>
        <p:spPr>
          <a:xfrm>
            <a:off x="304920" y="1905120"/>
            <a:ext cx="5333760" cy="167616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>
            <a:off x="533520" y="1916280"/>
            <a:ext cx="4038480" cy="0"/>
          </a:xfrm>
          <a:prstGeom prst="line">
            <a:avLst/>
          </a:prstGeom>
          <a:ln w="381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ewis structures are representations of molecules showing all electrons, bonding and nonbond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2" name="Picture 14" descr="08_05-03UN"/>
          <p:cNvPicPr/>
          <p:nvPr/>
        </p:nvPicPr>
        <p:blipFill>
          <a:blip r:embed="rId1"/>
          <a:srcRect l="0" t="0" r="0" b="16566"/>
          <a:stretch/>
        </p:blipFill>
        <p:spPr>
          <a:xfrm>
            <a:off x="685800" y="22860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nd the sum of valence electrons of all atoms in the polyatomic ion or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n anion, add one electron for each nega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If it is a cation, subtract one electron for each positive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371600" y="1980720"/>
            <a:ext cx="2286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8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221480" y="4191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4"/>
                </a:solidFill>
                <a:latin typeface="Arial"/>
              </a:rPr>
              <a:t>5   +  3(7) =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21"/>
          <p:cNvCxnSpPr>
            <a:stCxn id="137" idx="1"/>
            <a:endCxn id="136" idx="1"/>
          </p:cNvCxnSpPr>
          <p:nvPr/>
        </p:nvCxnSpPr>
        <p:spPr>
          <a:xfrm flipH="1" rot="10800000">
            <a:off x="1218240" y="2818800"/>
            <a:ext cx="153000" cy="1662840"/>
          </a:xfrm>
          <a:prstGeom prst="curvedConnector5">
            <a:avLst>
              <a:gd name="adj1" fmla="val -270754"/>
              <a:gd name="adj2" fmla="val 50000"/>
              <a:gd name="adj3" fmla="val -270754"/>
            </a:avLst>
          </a:prstGeom>
          <a:ln w="9360">
            <a:solidFill>
              <a:srgbClr val="001964"/>
            </a:solidFill>
            <a:miter/>
            <a:tailEnd len="med" type="triangle" w="med"/>
          </a:ln>
        </p:spPr>
      </p:cxnSp>
      <p:sp>
        <p:nvSpPr>
          <p:cNvPr id="139" name="Freeform 25"/>
          <p:cNvSpPr/>
          <p:nvPr/>
        </p:nvSpPr>
        <p:spPr>
          <a:xfrm>
            <a:off x="2895480" y="2662200"/>
            <a:ext cx="1122480" cy="1604880"/>
          </a:xfrm>
          <a:custGeom>
            <a:avLst/>
            <a:gdLst>
              <a:gd name="textAreaLeft" fmla="*/ 0 w 1122480"/>
              <a:gd name="textAreaRight" fmla="*/ 1122840 w 112248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707" h="1011">
                <a:moveTo>
                  <a:pt x="0" y="1011"/>
                </a:moveTo>
                <a:cubicBezTo>
                  <a:pt x="102" y="929"/>
                  <a:pt x="523" y="675"/>
                  <a:pt x="615" y="521"/>
                </a:cubicBezTo>
                <a:cubicBezTo>
                  <a:pt x="707" y="367"/>
                  <a:pt x="627" y="172"/>
                  <a:pt x="553" y="86"/>
                </a:cubicBezTo>
                <a:cubicBezTo>
                  <a:pt x="479" y="0"/>
                  <a:pt x="248" y="20"/>
                  <a:pt x="168" y="3"/>
                </a:cubicBezTo>
              </a:path>
            </a:pathLst>
          </a:custGeom>
          <a:noFill/>
          <a:ln w="9360">
            <a:solidFill>
              <a:srgbClr val="00196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central atom is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electronegative element that isn’t hydrogen.  Connect the outer atoms to it by single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none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08_01covalent"/>
          <p:cNvPicPr/>
          <p:nvPr/>
        </p:nvPicPr>
        <p:blipFill>
          <a:blip r:embed="rId1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08_01covalenttrans"/>
          <p:cNvPicPr/>
          <p:nvPr/>
        </p:nvPicPr>
        <p:blipFill>
          <a:blip r:embed="rId2"/>
          <a:stretch/>
        </p:blipFill>
        <p:spPr>
          <a:xfrm>
            <a:off x="2209680" y="3200400"/>
            <a:ext cx="2075040" cy="1833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cal Bo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620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ree basic types of bond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static attraction between i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haring of electron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etallic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etal atoms bonded to several other atoms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0" name="Picture 8" descr="08_01covalent"/>
          <p:cNvPicPr/>
          <p:nvPr/>
        </p:nvPicPr>
        <p:blipFill>
          <a:blip r:embed="rId3"/>
          <a:stretch/>
        </p:blipFill>
        <p:spPr>
          <a:xfrm>
            <a:off x="380880" y="159876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8_01ionictrans"/>
          <p:cNvPicPr/>
          <p:nvPr/>
        </p:nvPicPr>
        <p:blipFill>
          <a:blip r:embed="rId4"/>
          <a:stretch/>
        </p:blipFill>
        <p:spPr>
          <a:xfrm>
            <a:off x="380880" y="1587600"/>
            <a:ext cx="1938600" cy="183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08_01metallic"/>
          <p:cNvPicPr/>
          <p:nvPr/>
        </p:nvPicPr>
        <p:blipFill>
          <a:blip r:embed="rId5"/>
          <a:stretch/>
        </p:blipFill>
        <p:spPr>
          <a:xfrm>
            <a:off x="380880" y="4800600"/>
            <a:ext cx="1938600" cy="183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s of the outer atom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8" name="Picture 7" descr="outer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02760" y="5105520"/>
            <a:ext cx="451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3" name="Picture 5" descr="full"/>
          <p:cNvPicPr/>
          <p:nvPr/>
        </p:nvPicPr>
        <p:blipFill>
          <a:blip r:embed="rId1"/>
          <a:stretch/>
        </p:blipFill>
        <p:spPr>
          <a:xfrm>
            <a:off x="152280" y="2362320"/>
            <a:ext cx="4332240" cy="274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301680" y="5105520"/>
            <a:ext cx="53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Keep track of the electr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26 - 6 = 20; 20 - 18 = 2; 2 - 2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724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you run out of electrons before the central atom has an octet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m multiple bonds until it d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8" name="Picture 8" descr="08_09-05UNEx8-7"/>
          <p:cNvPicPr/>
          <p:nvPr/>
        </p:nvPicPr>
        <p:blipFill>
          <a:blip r:embed="rId1"/>
          <a:srcRect l="0" t="0" r="0" b="10914"/>
          <a:stretch/>
        </p:blipFill>
        <p:spPr>
          <a:xfrm>
            <a:off x="228600" y="2590920"/>
            <a:ext cx="3886200" cy="996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08_09-06UNEx8-7"/>
          <p:cNvPicPr/>
          <p:nvPr/>
        </p:nvPicPr>
        <p:blipFill>
          <a:blip r:embed="rId2"/>
          <a:srcRect l="0" t="0" r="0" b="15460"/>
          <a:stretch/>
        </p:blipFill>
        <p:spPr>
          <a:xfrm>
            <a:off x="685800" y="4938840"/>
            <a:ext cx="731520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8288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n assign formal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or each atom, count the electrons in lone pairs and half the electrons it shares with other atom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ubtract that from the number of valence electrons for that atom:  the difference is its formal charg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3" name="Picture 7" descr="08_09-10UN"/>
          <p:cNvPicPr/>
          <p:nvPr/>
        </p:nvPicPr>
        <p:blipFill>
          <a:blip r:embed="rId1"/>
          <a:srcRect l="0" t="0" r="0" b="10974"/>
          <a:stretch/>
        </p:blipFill>
        <p:spPr>
          <a:xfrm>
            <a:off x="380880" y="4281480"/>
            <a:ext cx="7772400" cy="173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Withcharges"/>
          <p:cNvPicPr/>
          <p:nvPr/>
        </p:nvPicPr>
        <p:blipFill>
          <a:blip r:embed="rId1"/>
          <a:stretch/>
        </p:blipFill>
        <p:spPr>
          <a:xfrm>
            <a:off x="687240" y="4648320"/>
            <a:ext cx="7769520" cy="927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riting Lewis Struct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best Lewis structure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 the one with the fewest charg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uts a negative charge on the most electronegativ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8" name="Picture 11" descr="Withoutcharges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927000"/>
          </a:xfrm>
          <a:prstGeom prst="rect">
            <a:avLst/>
          </a:prstGeom>
          <a:ln w="0">
            <a:noFill/>
          </a:ln>
        </p:spPr>
      </p:pic>
      <p:sp>
        <p:nvSpPr>
          <p:cNvPr id="169" name="Oval 13"/>
          <p:cNvSpPr/>
          <p:nvPr/>
        </p:nvSpPr>
        <p:spPr>
          <a:xfrm>
            <a:off x="6172200" y="4876920"/>
            <a:ext cx="236232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is the Lewis structure we would draw for ozone, 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3" name="Picture 7" descr="ozone"/>
          <p:cNvPicPr/>
          <p:nvPr/>
        </p:nvPicPr>
        <p:blipFill>
          <a:blip r:embed="rId1"/>
          <a:stretch/>
        </p:blipFill>
        <p:spPr>
          <a:xfrm>
            <a:off x="4876920" y="2209680"/>
            <a:ext cx="3582720" cy="1835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106600" y="36115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49764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is is at odds with the true, observed structure of ozone, in which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-O bonds are the same length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th outer oxygens have a charge of -1/2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9" name="Picture 5" descr="08_11"/>
          <p:cNvPicPr/>
          <p:nvPr/>
        </p:nvPicPr>
        <p:blipFill>
          <a:blip r:embed="rId1"/>
          <a:srcRect l="0" t="0" r="0" b="3074"/>
          <a:stretch/>
        </p:blipFill>
        <p:spPr>
          <a:xfrm>
            <a:off x="533520" y="1600200"/>
            <a:ext cx="2979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Lewis structure cannot accurately depict a molecule like ozo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use multiple structures, resonance structures, to describe the molecu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3" name="Picture 5" descr="Resonance"/>
          <p:cNvPicPr/>
          <p:nvPr/>
        </p:nvPicPr>
        <p:blipFill>
          <a:blip r:embed="rId1"/>
          <a:stretch/>
        </p:blipFill>
        <p:spPr>
          <a:xfrm>
            <a:off x="4724280" y="3429000"/>
            <a:ext cx="381024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57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Just as green is a synthesis of blue and yellow…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zone is a synthesis of these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7" name="Picture 10" descr="Resonance3"/>
          <p:cNvPicPr/>
          <p:nvPr/>
        </p:nvPicPr>
        <p:blipFill>
          <a:blip r:embed="rId1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Resonance4"/>
          <p:cNvPicPr/>
          <p:nvPr/>
        </p:nvPicPr>
        <p:blipFill>
          <a:blip r:embed="rId2"/>
          <a:stretch/>
        </p:blipFill>
        <p:spPr>
          <a:xfrm>
            <a:off x="609480" y="1600200"/>
            <a:ext cx="2614680" cy="50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ruth, the electrons that form the second C-O bond in the double bonds below do not always sit between that C and that O, but rather can move among the two oxygens and the carb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not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they ar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delocaliz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2" name="Picture 7" descr="08_12-04UNEx8-10"/>
          <p:cNvPicPr/>
          <p:nvPr/>
        </p:nvPicPr>
        <p:blipFill>
          <a:blip r:embed="rId1"/>
          <a:srcRect l="0" t="0" r="0" b="7690"/>
          <a:stretch/>
        </p:blipFill>
        <p:spPr>
          <a:xfrm>
            <a:off x="1125360" y="4572000"/>
            <a:ext cx="6893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Ionic Bonding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rganic compound benzene, C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has two resonance structur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commonly depicted as a hexagon with a circle inside to signify the delocalized electrons in the 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6" name="Picture 8" descr="08_13-01UN"/>
          <p:cNvPicPr/>
          <p:nvPr/>
        </p:nvPicPr>
        <p:blipFill>
          <a:blip r:embed="rId1"/>
          <a:srcRect l="0" t="0" r="0" b="5767"/>
          <a:stretch/>
        </p:blipFill>
        <p:spPr>
          <a:xfrm>
            <a:off x="533520" y="2749680"/>
            <a:ext cx="4038480" cy="1593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8_13-02UN"/>
          <p:cNvPicPr/>
          <p:nvPr/>
        </p:nvPicPr>
        <p:blipFill>
          <a:blip r:embed="rId2"/>
          <a:srcRect l="0" t="0" r="0" b="12833"/>
          <a:stretch/>
        </p:blipFill>
        <p:spPr>
          <a:xfrm>
            <a:off x="228600" y="5586480"/>
            <a:ext cx="5334120" cy="100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ceptions to the Octet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types of ions or molecules that do not follow the octet rule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an odd number of electron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less than an octet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ons or molecules with more than eight valence electrons (an expanded octet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dd Number of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ough relatively rare and usually quite unstable and reactive, there are ions and molecules with an odd number of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12" descr="08_13-04UN"/>
          <p:cNvPicPr/>
          <p:nvPr/>
        </p:nvPicPr>
        <p:blipFill>
          <a:blip r:embed="rId1"/>
          <a:srcRect l="0" t="0" r="0" b="14942"/>
          <a:stretch/>
        </p:blipFill>
        <p:spPr>
          <a:xfrm>
            <a:off x="685800" y="4114800"/>
            <a:ext cx="77724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onsider BF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Giving boron a filled octet places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the boron and a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charge on fluorin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would not be an accurate picture of the distribution of electrons in BF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8_13-06UN"/>
          <p:cNvPicPr/>
          <p:nvPr/>
        </p:nvPicPr>
        <p:blipFill>
          <a:blip r:embed="rId1"/>
          <a:srcRect l="0" t="0" r="0" b="11538"/>
          <a:stretch/>
        </p:blipFill>
        <p:spPr>
          <a:xfrm>
            <a:off x="849240" y="1752480"/>
            <a:ext cx="744372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structures that put a double bond between boron and fluorine are much less important than the one that leaves boron with only 6 valenc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Fewer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if filling the octet of the central atom results in a negative charge on the central atom and a positive charge on the more electronegative outer atom, don’t fill the octet of the central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4" descr="08_13-07UN"/>
          <p:cNvPicPr/>
          <p:nvPr/>
        </p:nvPicPr>
        <p:blipFill>
          <a:blip r:embed="rId1"/>
          <a:srcRect l="0" t="0" r="0" b="11539"/>
          <a:stretch/>
        </p:blipFill>
        <p:spPr>
          <a:xfrm>
            <a:off x="1047600" y="4343400"/>
            <a:ext cx="70470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only way P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n exist is if phosphorus has 10 electrons around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allowed to expand the octet of atoms on the 3rd row or bel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sumably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orbitals in these atoms participate in bonding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5" descr="08_13-09UN"/>
          <p:cNvPicPr/>
          <p:nvPr/>
        </p:nvPicPr>
        <p:blipFill>
          <a:blip r:embed="rId1"/>
          <a:srcRect l="0" t="0" r="0" b="4340"/>
          <a:stretch/>
        </p:blipFill>
        <p:spPr>
          <a:xfrm>
            <a:off x="380880" y="211932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ven though we can draw a Lewis structure for the phosphate ion that has only 8 electrons around the central phosphorus, the better structure puts a double bond between the phosphorus and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5" descr="08_13-14UN"/>
          <p:cNvPicPr/>
          <p:nvPr/>
        </p:nvPicPr>
        <p:blipFill>
          <a:blip r:embed="rId1"/>
          <a:srcRect l="0" t="0" r="0" b="7579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ore Than Eight Electr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eliminates the charge on the phosphorus and the charge on one of the oxyge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lesson is:  when the central atom in on the 3rd row or below and expanding its octet eliminates some formal charges, do so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8_13-14UN"/>
          <p:cNvPicPr/>
          <p:nvPr/>
        </p:nvPicPr>
        <p:blipFill>
          <a:blip r:embed="rId1"/>
          <a:srcRect l="0" t="0" r="0" b="7579"/>
          <a:stretch/>
        </p:blipFill>
        <p:spPr>
          <a:xfrm>
            <a:off x="1541520" y="4187880"/>
            <a:ext cx="606096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ovalent Bond Str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ost simply, the strength of a bond is measured by determining how much energy is required to break the bon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</a:t>
            </a:r>
            <a:r>
              <a:rPr b="0" lang="en-US" sz="2800" spc="-1" strike="noStrike">
                <a:solidFill>
                  <a:srgbClr val="001964"/>
                </a:solidFill>
                <a:latin typeface="Arial"/>
              </a:rPr>
              <a:t>bond enthalp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bond enthalpy for a Cl-Cl bond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Cl-Cl), is measured to be 242 kJ/mo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5" descr="08_13-15UN"/>
          <p:cNvPicPr/>
          <p:nvPr/>
        </p:nvPicPr>
        <p:blipFill>
          <a:blip r:embed="rId1"/>
          <a:srcRect l="0" t="0" r="0" b="22773"/>
          <a:stretch/>
        </p:blipFill>
        <p:spPr>
          <a:xfrm>
            <a:off x="685800" y="1828800"/>
            <a:ext cx="77724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we saw in the last chapter, it takes 495 kJ/mol to remove electrons from sod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" name="Picture 9" descr="07_T02IE"/>
          <p:cNvPicPr/>
          <p:nvPr/>
        </p:nvPicPr>
        <p:blipFill>
          <a:blip r:embed="rId1"/>
          <a:stretch/>
        </p:blipFill>
        <p:spPr>
          <a:xfrm>
            <a:off x="685800" y="2916360"/>
            <a:ext cx="380988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table lists the average bond enthalpies for many different types of bon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verage bond enthalpies are positive, because bond breaking is an endothermic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8" descr="08_T04"/>
          <p:cNvPicPr/>
          <p:nvPr/>
        </p:nvPicPr>
        <p:blipFill>
          <a:blip r:embed="rId1"/>
          <a:srcRect l="0" t="0" r="0" b="4896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verage Bond Enthalp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TE:  These a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ond enthalpies, not absolute bond enthalpies; the C-H bonds in methane, 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will be a bit different than the C-H bond in chloroform, CH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1" name="Picture 4" descr="08_T04"/>
          <p:cNvPicPr/>
          <p:nvPr/>
        </p:nvPicPr>
        <p:blipFill>
          <a:blip r:embed="rId1"/>
          <a:srcRect l="0" t="0" r="0" b="4896"/>
          <a:stretch/>
        </p:blipFill>
        <p:spPr>
          <a:xfrm>
            <a:off x="4038480" y="1504800"/>
            <a:ext cx="4724640" cy="405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4114800" y="1546200"/>
            <a:ext cx="68580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Yet another way to estimate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reaction is to compare the bond enthalpies of bonds broken to the bond enthalpies of the new bonds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6" name="Picture 5" descr="08_14"/>
          <p:cNvPicPr/>
          <p:nvPr/>
        </p:nvPicPr>
        <p:blipFill>
          <a:blip r:embed="rId1"/>
          <a:srcRect l="0" t="0" r="0" b="3717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28600" y="5353200"/>
            <a:ext cx="74008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other wor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x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broken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(bond enthalpies of bonds for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+ HCl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example, one C-H bond and one Cl-Cl bond are broken; one C-Cl and one H-Cl bond are form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1" name="Picture 4" descr="08_14"/>
          <p:cNvPicPr/>
          <p:nvPr/>
        </p:nvPicPr>
        <p:blipFill>
          <a:blip r:embed="rId1"/>
          <a:srcRect l="0" t="0" r="0" b="3717"/>
          <a:stretch/>
        </p:blipFill>
        <p:spPr>
          <a:xfrm>
            <a:off x="4572000" y="1839960"/>
            <a:ext cx="426708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thalpies of Rea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,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H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l-Cl)] - [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C-Cl) +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(H-Cl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[(413 kJ) + (242 kJ)] - [(328 kJ) + (431 kJ)]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655 kJ) - (759 kJ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69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-104 k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ond Enthalpy and Bond Length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can also measure an average bond length for different bond typ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bonds between two atoms increases, the bond length de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Picture 10" descr="08_T05"/>
          <p:cNvPicPr/>
          <p:nvPr/>
        </p:nvPicPr>
        <p:blipFill>
          <a:blip r:embed="rId1"/>
          <a:srcRect l="0" t="8449" r="0" b="7038"/>
          <a:stretch/>
        </p:blipFill>
        <p:spPr>
          <a:xfrm>
            <a:off x="1746360" y="1752480"/>
            <a:ext cx="565128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Line 11"/>
          <p:cNvSpPr/>
          <p:nvPr/>
        </p:nvSpPr>
        <p:spPr>
          <a:xfrm>
            <a:off x="2666880" y="1762200"/>
            <a:ext cx="4114800" cy="0"/>
          </a:xfrm>
          <a:prstGeom prst="line">
            <a:avLst/>
          </a:prstGeom>
          <a:ln w="255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get 349 kJ/mol back by giving electrons to chlorin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" name="Picture 7" descr="07_12EA"/>
          <p:cNvPicPr/>
          <p:nvPr/>
        </p:nvPicPr>
        <p:blipFill>
          <a:blip r:embed="rId1"/>
          <a:stretch/>
        </p:blipFill>
        <p:spPr>
          <a:xfrm>
            <a:off x="4764240" y="198108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ut these numbers don’t explain why the reaction of sodium metal and chlorine gas to form sodium chloride is so exothermic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6" name="Picture 5" descr="08_02cropped"/>
          <p:cNvPicPr/>
          <p:nvPr/>
        </p:nvPicPr>
        <p:blipFill>
          <a:blip r:embed="rId1"/>
          <a:stretch/>
        </p:blipFill>
        <p:spPr>
          <a:xfrm>
            <a:off x="0" y="2003400"/>
            <a:ext cx="52578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etics of Ionic Bonding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 must be a third piece to the puzz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at is as yet unaccounted for is the electrostatic attraction between the newly-formed sodium cation and chloride an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0" name="Picture 6" descr="02_21-02UN"/>
          <p:cNvPicPr/>
          <p:nvPr/>
        </p:nvPicPr>
        <p:blipFill>
          <a:blip r:embed="rId1"/>
          <a:srcRect l="0" t="0" r="0" b="5617"/>
          <a:stretch/>
        </p:blipFill>
        <p:spPr>
          <a:xfrm>
            <a:off x="4191120" y="1752480"/>
            <a:ext cx="4278240" cy="200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02_21-03UN"/>
          <p:cNvPicPr/>
          <p:nvPr/>
        </p:nvPicPr>
        <p:blipFill>
          <a:blip r:embed="rId2"/>
          <a:srcRect l="0" t="0" r="0" b="6976"/>
          <a:stretch/>
        </p:blipFill>
        <p:spPr>
          <a:xfrm>
            <a:off x="4191120" y="3733920"/>
            <a:ext cx="46530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third piece of the puzzle is the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lattice energy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The energy required to completely separate a mole of a solid ionic compound into its gaseous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nergy associated with electrostatic interactions is governed by Coulomb’s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3366360" y="5181480"/>
            <a:ext cx="2466000" cy="1136160"/>
            <a:chOff x="3366360" y="5181480"/>
            <a:chExt cx="2466000" cy="1136160"/>
          </a:xfrm>
        </p:grpSpPr>
        <p:sp>
          <p:nvSpPr>
            <p:cNvPr id="86" name="Rectangle 5"/>
            <p:cNvSpPr/>
            <p:nvPr/>
          </p:nvSpPr>
          <p:spPr>
            <a:xfrm>
              <a:off x="3366360" y="5425920"/>
              <a:ext cx="132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el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4689360" y="5181480"/>
              <a:ext cx="1143000" cy="1136160"/>
              <a:chOff x="4689360" y="5181480"/>
              <a:chExt cx="1143000" cy="113616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4737960" y="5181480"/>
                <a:ext cx="103104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1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Q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4689360" y="5773680"/>
                <a:ext cx="11430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attice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ttice energy, then, increases with the charge on the 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320" y="2895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also increases with decreasing size of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08_T02"/>
          <p:cNvPicPr/>
          <p:nvPr/>
        </p:nvPicPr>
        <p:blipFill>
          <a:blip r:embed="rId1"/>
          <a:srcRect l="0" t="8402" r="0" b="3927"/>
          <a:stretch/>
        </p:blipFill>
        <p:spPr>
          <a:xfrm>
            <a:off x="3581280" y="25909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3:14:25Z</dcterms:created>
  <dc:creator>John Bookstaver</dc:creator>
  <dc:description/>
  <dc:language>en-US</dc:language>
  <cp:lastModifiedBy>hessah</cp:lastModifiedBy>
  <dcterms:modified xsi:type="dcterms:W3CDTF">2015-09-13T12:02:54Z</dcterms:modified>
  <cp:revision>52</cp:revision>
  <dc:subject/>
  <dc:title>Chapter 8 Concepts of Chemical Bonding</dc:title>
</cp:coreProperties>
</file>