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3C2CCB-A736-4A52-9D28-FE3B9061E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F8B2FC-4370-46F0-B3D2-9A370F32E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utoXchange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E64BFF-4337-4F2E-A069-4B33D6481E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451AB9-E907-41E7-9B81-7DAC1376FF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56E6E9-59F1-4D49-859E-F0F9AFDF48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1E02AE-EE70-4221-9897-8D7947CEFE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635EA7-D5E6-467D-9EFD-CD61C9134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88793-4333-4D99-BC3F-7FA11189BC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6A54F8-AD74-4DCA-9DB4-232DDEDA5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F3CEBA-D69A-4E23-AD6D-743750A63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765475-4066-434D-96D4-BBC879454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3EF064-E23E-45E1-9238-04F9B51DD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87257F-5D68-4A2A-8B9B-AF6AF0635E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996493-25A2-4C92-A46B-84EF0E0B2A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182377-1815-4BC1-9B73-F2B7DFEBE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B2AAD3-E0F7-4CFF-941C-480BD150DF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5052C-7B64-45CD-948A-E8897990DA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404717-580D-455D-BABC-0638B3CD39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5DE7F8-9D17-4298-A08C-77C78607F4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4878E8-C64D-495B-98E8-B18F297519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BA42C9-5FF3-4875-B8CA-4997D5AF44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D0807-6033-421D-8682-039E4C904D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67107F-D856-496A-BD2B-751A82D175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872C3D-C2E4-419B-BB36-3117067721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54C22-F669-4285-9607-54CF4A06D5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AFECB6-2312-414F-A187-2AF097319D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D96BD-E9FC-43C2-A2F6-78605A2C6D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C15311-D154-49E7-9971-A592534A98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8AA27C-2A7C-40B2-B286-2B3AE4001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A6C5AF-6831-4393-AAAD-E1803BCA22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64DED2-5F48-4464-84DD-DA3C476F28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5B1C45-B605-4E64-BBB0-DD891712B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36A42-26E4-43E2-BDDB-6383A615D2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B32AC7-25E1-47A8-B923-0D703DA291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4519B-A727-4306-8BFD-C22DD716F6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495AF-F1D2-463E-9DD7-CED4B6D974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40F4E-7D91-4A96-B86B-9F35A9958E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EB7DBC-D694-44D8-944D-38459F3552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7A0842-5364-4AD6-AB54-9290982C18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B7414C-2970-4C69-9EAA-489F02DAD3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671073-B2C5-4FA7-98B1-B4EC3D2243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A869EB-8D5B-4E4C-A713-26182E0A5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4B432463-F6E9-4AF7-A317-A85B91838C5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1"/>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1"/>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1"/>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Picture 7" descr="Ess9_Fig-09-05"/>
          <p:cNvPicPr/>
          <p:nvPr/>
        </p:nvPicPr>
        <p:blipFill>
          <a:blip r:embed="rId1"/>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1"/>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
          <p:cNvPicPr/>
          <p:nvPr/>
        </p:nvPicPr>
        <p:blipFill>
          <a:blip r:embed="rId1"/>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Picture 9" descr="Ess9_Fig-09-09"/>
          <p:cNvPicPr/>
          <p:nvPr/>
        </p:nvPicPr>
        <p:blipFill>
          <a:blip r:embed="rId1"/>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SC09-01"/>
          <p:cNvPicPr/>
          <p:nvPr/>
        </p:nvPicPr>
        <p:blipFill>
          <a:blip r:embed="rId1"/>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8"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Picture 7" descr="Ess9_Ch-09-Opening Diagram"/>
          <p:cNvPicPr/>
          <p:nvPr/>
        </p:nvPicPr>
        <p:blipFill>
          <a:blip r:embed="rId1"/>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Picture 9" descr="Ess9_Fig-09-01"/>
          <p:cNvPicPr/>
          <p:nvPr/>
        </p:nvPicPr>
        <p:blipFill>
          <a:blip r:embed="rId1"/>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59:06Z</dcterms:modified>
  <cp:revision>722</cp:revision>
  <dc:subject/>
  <dc:title>PowerPoint Presentation</dc:title>
</cp:coreProperties>
</file>