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6F93B-CE56-442C-9A65-6C61CBDF9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C4F40-3EDB-4101-BEBF-30AA6464D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90362-B28C-4348-A811-E3D2233F6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C8C77-52CB-420D-B9DC-8DDC71DD2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C9850-98D9-425E-805A-DBA94ED08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86E53-C65A-4DA7-92BB-A8FDCCC81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153EE-D42A-4AD4-A06C-A8AF879CD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68D32-FC5F-4B12-8FB4-DB753C0DC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632A7-A781-4826-A159-0FA6A3F36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4DDD9-E603-4AEE-8711-10DFA75BD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FF18E-2C78-4FCB-91F1-02C295540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0E3E6-D390-4F30-86C2-4BED0CFA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F5F4B-3D35-4232-88FB-C12DBE2B8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D570A-1379-478D-B964-DF0FB33D7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5C83B-5347-4BC0-80E1-4D773ABAF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44824-8702-4F84-BEF0-90F75A7A1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4D69B-579E-430B-A14A-0DBE71E14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B18A7-ACAD-46D6-A34A-2D96EAD9B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8193-93B0-4B8A-8A5E-313AC0536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E623-3E8F-48E2-8B04-CBF72C9DF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BE2C-8BBC-4337-ADA7-0929BC418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BD697-E5A4-44E8-9523-BF002F480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F5DCF-D661-4123-8E93-40E6F2F65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DAFF-1F10-4DFB-A852-6497D38DA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EF54-AFF6-4C13-8EB3-3977DD7E59D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1299-19BC-4B62-909F-CA0A2E3EA682}"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pic>
        <p:nvPicPr>
          <p:cNvPr id="101" name="Picture 4" descr="GearHead"/>
          <p:cNvPicPr/>
          <p:nvPr/>
        </p:nvPicPr>
        <p:blipFill>
          <a:blip r:embed="rId2"/>
          <a:stretch/>
        </p:blipFill>
        <p:spPr>
          <a:xfrm>
            <a:off x="6788160" y="581040"/>
            <a:ext cx="1822320" cy="2009880"/>
          </a:xfrm>
          <a:prstGeom prst="rect">
            <a:avLst/>
          </a:prstGeom>
          <a:ln w="0">
            <a:noFill/>
          </a:ln>
        </p:spPr>
      </p:pic>
      <p:pic>
        <p:nvPicPr>
          <p:cNvPr id="102" name="Picture 5" descr=""/>
          <p:cNvPicPr/>
          <p:nvPr/>
        </p:nvPicPr>
        <p:blipFill>
          <a:blip r:embed="rId3"/>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211D-99DD-4066-B1F1-D98AE85736B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14A9-65B9-4390-8C83-85A279D7A1A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9AFD-C367-4D4F-82E3-E6198F0A245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1835-F632-494F-932A-EFC45290AEC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70B3-4A54-4F2C-9BD5-D33F41E0C1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81E6-F86C-4A2A-AC06-95C061B7CD6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4854-B380-4DE4-BB46-7516FB78E83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6B7D-EC8E-4DAC-AEF5-84DD501D5EC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453E-7C69-4482-8177-F5B96DB38E4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2570-C804-400C-8C4A-1D609938A9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6BC0-9FC3-47A5-8AFC-366D24D00D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89C5-7C09-4D19-B01E-AA49643EF2E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D083-54A0-4F88-9F6D-3735855D98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A3A7-79ED-431A-9CF7-66A75EA9BBC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7D90-48B6-4AE2-97C5-0301D593AA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F69B-5F53-4FDB-8812-662A786255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16FA-0BBB-409A-86F7-0EA125B619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8090-0651-4182-B1F8-986F75054CB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DB34-3A95-4398-A61D-781AF52B98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FA42-A7F0-48A1-806B-0419610D634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B8B5-EDF2-45F6-8DEF-11DB045ECBD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E3DB-CA69-4557-B005-E5E257F666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9B2B-EEAE-4555-B558-D139AFB8937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0CD2-90D9-4F4F-99F7-8206CC7E1E5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0094-2F3A-4AC8-9A6E-7AD448385E8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7E7A-ECF8-4B0D-BC12-F8903A7A13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F9D0-D713-445A-A314-B5E6498175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4B4B-777B-40F0-93D3-BFD7164D20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DF37-5693-4501-B9E9-32EED8B917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2763-625A-4CBA-84D2-B77C34F79A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BBE9-9DB6-4999-A398-336CE1270F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E959-FF60-4730-8ABF-E3973F557B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3D63-1FF7-4C6D-9E5E-E6182E6230C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69D6-F2A1-46E0-91F9-C0730039425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6BEF-033F-4937-81A0-5E05198234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1851-9BF3-4AC5-A003-F54ACD6706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Basit</cp:lastModifiedBy>
  <dcterms:modified xsi:type="dcterms:W3CDTF">2010-09-11T05:52:22Z</dcterms:modified>
  <cp:revision>47</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