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8D9-ED52-47AD-9976-1C8F9A08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1A9-D51F-4A20-AC9E-A584617F429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AA9E-3EDD-46BE-99BB-061169FCD15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C233-83B2-4A97-86F4-AAC4BC56C6C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6627-E432-41EB-8BEA-B9AA247E8E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5B1-2763-4798-A51B-2A6F9F07275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EA83-1005-4C5D-90D0-477AD790DA5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59B-5C86-48E4-90EF-4862FEFFD13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5D61-6E18-4F65-90E6-A163F5013F9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618-7655-47E9-B3E5-1F526C653E3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741-F531-4381-98B8-7DDC4EB95ED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E36F-8CA4-4A6C-8593-A2EF54D3F9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3BB-3048-45EA-98A7-93BED4E57D2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8BA5-8AA1-4015-B28F-808BECE4CAE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2DFE-3ECF-4630-9173-89354249934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DB24-15DE-48F9-B752-4D71E87D497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B50-7274-4B19-B6CF-E404162CFB1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F2C-B310-4BF7-917E-7E910DC3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657-95CC-43B9-9079-399C4D63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F94-4F19-451F-A4ED-A2A58D40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6D3-A314-4F9F-8694-7F12716A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0D9-0A14-436C-94D3-94379CA0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63D-BE06-414E-A9AA-9567B8B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3C2-2600-4B92-8224-7375588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02CD-0AC4-43DA-B79D-AE6732C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AA06-A4C4-4CDA-9EEE-D2DF765E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F387-A055-4674-ACC2-E2B3E7DB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D58-6E2A-40EA-B849-D9ABB71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067-0630-4E64-9DB3-9C4BEE9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6980-B421-468B-9B5A-E09F1CA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6DA-59C1-49DE-82EF-2C89897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AD2-81E7-4052-B148-2D309EE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F7E-F0ED-4362-858F-437C9D06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85A8-7028-4125-882B-7C4C379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56D-756B-4439-99FA-A89A480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96E-9E84-4B71-86FF-3D4F8AC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F18-1321-4074-9AA5-B029312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613-6AAD-4E9B-AF40-13FD3A9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A56-E7BF-478D-8144-6205D0F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65D-1123-4A74-B9FB-8AD89D7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09-F490-4AD9-8829-BE4C8C0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D2B1-9D64-4777-BC14-0F4326A0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045-E78E-41DB-918B-5E4A8457EB6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S44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formation Systems Engine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r. Ashraf Yousse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7200" y="2166840"/>
            <a:ext cx="7734240" cy="2455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27320" y="2665440"/>
            <a:ext cx="66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54080" y="2419200"/>
            <a:ext cx="7626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formance to explicitly stated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functional and performance requirement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explicitly documented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development criteria standard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and implicit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characteristics that are expected of all professionally developed software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Quality Assurance (SQ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QA gro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ews the process description for compliance with organizational policy, internal software standards, externally imposed standards (e.g., ISO-9001), and other parts of the software project pl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, documents, and tracks deviations from the process and verifies that corrections have been ma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s selected work products; identifies, documents, and tracks deviations; verifies that corrections have been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ically reports the results of its work to the projec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compliance items are tracked until they are resol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ganizational process of changing over from the current information system to a new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284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over from the old information system to a new one by turning off the old system when the new one is turned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284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the old information system and the new one at the same time until management decides the old system can be turned 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ocation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out an information system at one site and using the experience to decide if and how the new system should be deployed throughout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d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from the old information system to the new one incrementally, starting with one or a few functional components and then gradually extending the installation to cover the whole new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Installation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190440" y="2133720"/>
            <a:ext cx="4381560" cy="21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800600" y="2171880"/>
            <a:ext cx="4127400" cy="2082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685800" y="4572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876920" y="4572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 Location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296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d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88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cumenting The System</a:t>
            </a:r>
            <a:br>
              <a:rPr sz="40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ed information about a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design specifications, its internal workings and its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documentation that is part of the program source code or is generated at compile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documentation that includes the outcome of structured diagramming techniques such as data flow and entity-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cumenting The Syst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ten or other visual information about an application system, how it works, and how to us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ing use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source has been information systems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-oriented documentation is now often supplied by vendors and users themse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in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training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mputer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system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anagement of System Implement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62120" y="39625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in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ing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exp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-aided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cour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help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raining man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ources, such as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is extremely important to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.D. Power and Associates survey found user support to be number one criterion contributing to user satisfaction with personal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rganizations provide support by two m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de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formation Cen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rganizational unit whose mission is to support users in exploiting inform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ff might perform the following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new hardware or software and set up user accou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 with users writing programs in fourth-generatio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ct data from organizational databases onto personal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 basic on-demand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a demonstration site for viewing hardware and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with users to submit system chan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lp Des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point of contact for all user inquiries and problems about a particular information system or for all users in a particular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Implementation Sometimes Fails</a:t>
            </a:r>
            <a:br>
              <a:rPr sz="40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onditions necessary for a successful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upport of the system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ment of users in the development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Implementation Sometimes Fai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ights about implement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ment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ment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t of project definition and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stic user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success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t to which system i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satisfaction with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plan is developed during the analysis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ing the design phase, a unit test plan and a system test plan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ctual testing is done during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plans provide improved communication among all parties involved in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 as check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esting Process</a:t>
            </a:r>
            <a:br>
              <a:rPr sz="4400"/>
            </a:b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(SWE- 13.3,13.6, 14.2, 14.3, SAD-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testing is confirming that the system satisfie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must be plan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C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fic scenario of transactions, queries or navigation paths that represent a typical, critical or abnormal use of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 and results should be thoroughly documented so they can be repeated for each revision of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odule is tested alone in an attempt to discover any errors in its code, also called modul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bringing together all of the modules that a program comprises for testing purposes.  Modules are typically integrated in a top-down, incremental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ringing together of all the programs that a system comprises for testing purposes.  Programs are typically integrated in a top-down, incremental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6200" y="457200"/>
            <a:ext cx="464040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-Box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968720" y="1758960"/>
            <a:ext cx="63720" cy="114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956120" y="1744560"/>
            <a:ext cx="88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006880" y="1901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29040" y="2044800"/>
            <a:ext cx="35568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816440" y="203040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5006880" y="2273400"/>
            <a:ext cx="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4435560" y="245916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270320" y="2658960"/>
            <a:ext cx="355680" cy="200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257720" y="264492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388120" y="2687760"/>
            <a:ext cx="35532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375160" y="2673360"/>
            <a:ext cx="3812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4448160" y="245916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5209920" y="24591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5565600" y="245916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4448160" y="288756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5565600" y="291636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4448160" y="304488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5006880" y="304488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829040" y="3273480"/>
            <a:ext cx="35568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4816440" y="325908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5006880" y="350208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5006880" y="3844800"/>
            <a:ext cx="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006880" y="19591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006880" y="39020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5883120" y="1959120"/>
            <a:ext cx="0" cy="19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2089080" y="4443480"/>
            <a:ext cx="46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our goal is to ensure that a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095200" y="4800600"/>
            <a:ext cx="49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 and conditions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2094840" y="5157720"/>
            <a:ext cx="457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executed at least onc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31"/>
          <p:cNvSpPr/>
          <p:nvPr/>
        </p:nvSpPr>
        <p:spPr>
          <a:xfrm>
            <a:off x="4778280" y="2330280"/>
            <a:ext cx="444600" cy="271800"/>
          </a:xfrm>
          <a:prstGeom prst="diamond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4778280" y="3745080"/>
            <a:ext cx="444600" cy="271440"/>
          </a:xfrm>
          <a:prstGeom prst="diamond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5006880" y="4059360"/>
            <a:ext cx="0" cy="3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34" descr=""/>
          <p:cNvPicPr/>
          <p:nvPr/>
        </p:nvPicPr>
        <p:blipFill>
          <a:blip r:embed="rId1"/>
          <a:stretch/>
        </p:blipFill>
        <p:spPr>
          <a:xfrm>
            <a:off x="2563920" y="1174680"/>
            <a:ext cx="2068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045120" y="2076480"/>
            <a:ext cx="1206720" cy="1304640"/>
            <a:chOff x="6045120" y="2076480"/>
            <a:chExt cx="1206720" cy="1304640"/>
          </a:xfrm>
        </p:grpSpPr>
        <p:sp>
          <p:nvSpPr>
            <p:cNvPr id="152" name="Freeform 3"/>
            <p:cNvSpPr/>
            <p:nvPr/>
          </p:nvSpPr>
          <p:spPr>
            <a:xfrm>
              <a:off x="6889680" y="2853720"/>
              <a:ext cx="149400" cy="40716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6202440" y="2196000"/>
              <a:ext cx="1049400" cy="118512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6045120" y="2733840"/>
              <a:ext cx="146160" cy="64728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6045120" y="2374560"/>
              <a:ext cx="993960" cy="4665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6889680" y="2076480"/>
              <a:ext cx="149400" cy="40572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16080" y="927000"/>
            <a:ext cx="608976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ack-Box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4565520" y="4343400"/>
            <a:ext cx="889200" cy="1425240"/>
            <a:chOff x="4565520" y="4343400"/>
            <a:chExt cx="889200" cy="1425240"/>
          </a:xfrm>
        </p:grpSpPr>
        <p:sp>
          <p:nvSpPr>
            <p:cNvPr id="159" name="Freeform 10"/>
            <p:cNvSpPr/>
            <p:nvPr/>
          </p:nvSpPr>
          <p:spPr>
            <a:xfrm>
              <a:off x="4778280" y="4882680"/>
              <a:ext cx="95400" cy="885600"/>
            </a:xfrm>
            <a:custGeom>
              <a:avLst/>
              <a:gdLst/>
              <a:ahLst/>
              <a:rect l="l" t="t" r="r" b="b"/>
              <a:pathLst>
                <a:path w="60" h="496">
                  <a:moveTo>
                    <a:pt x="59" y="495"/>
                  </a:move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  <a:lnTo>
                    <a:pt x="59" y="495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4672080" y="4403880"/>
              <a:ext cx="782640" cy="1364760"/>
            </a:xfrm>
            <a:custGeom>
              <a:avLst/>
              <a:gdLst/>
              <a:ahLst/>
              <a:rect l="l" t="t" r="r" b="b"/>
              <a:pathLst>
                <a:path w="493" h="764">
                  <a:moveTo>
                    <a:pt x="230" y="0"/>
                  </a:moveTo>
                  <a:lnTo>
                    <a:pt x="492" y="133"/>
                  </a:lnTo>
                  <a:lnTo>
                    <a:pt x="362" y="198"/>
                  </a:lnTo>
                  <a:lnTo>
                    <a:pt x="362" y="663"/>
                  </a:lnTo>
                  <a:lnTo>
                    <a:pt x="132" y="763"/>
                  </a:lnTo>
                  <a:lnTo>
                    <a:pt x="132" y="299"/>
                  </a:lnTo>
                  <a:lnTo>
                    <a:pt x="0" y="365"/>
                  </a:lnTo>
                  <a:lnTo>
                    <a:pt x="2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4565520" y="4343400"/>
              <a:ext cx="466920" cy="707400"/>
            </a:xfrm>
            <a:custGeom>
              <a:avLst/>
              <a:gdLst/>
              <a:ahLst/>
              <a:rect l="l" t="t" r="r" b="b"/>
              <a:pathLst>
                <a:path w="294" h="396">
                  <a:moveTo>
                    <a:pt x="65" y="395"/>
                  </a:moveTo>
                  <a:lnTo>
                    <a:pt x="0" y="362"/>
                  </a:lnTo>
                  <a:lnTo>
                    <a:pt x="228" y="0"/>
                  </a:lnTo>
                  <a:lnTo>
                    <a:pt x="293" y="33"/>
                  </a:lnTo>
                  <a:lnTo>
                    <a:pt x="65" y="395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3165480" y="2300400"/>
            <a:ext cx="3062160" cy="2622240"/>
            <a:chOff x="3165480" y="2300400"/>
            <a:chExt cx="3062160" cy="2622240"/>
          </a:xfrm>
        </p:grpSpPr>
        <p:sp>
          <p:nvSpPr>
            <p:cNvPr id="163" name="Freeform 14"/>
            <p:cNvSpPr/>
            <p:nvPr/>
          </p:nvSpPr>
          <p:spPr>
            <a:xfrm>
              <a:off x="3165480" y="3318480"/>
              <a:ext cx="625320" cy="1604160"/>
            </a:xfrm>
            <a:custGeom>
              <a:avLst/>
              <a:gdLst/>
              <a:ahLst/>
              <a:rect l="l" t="t" r="r" b="b"/>
              <a:pathLst>
                <a:path w="394" h="898">
                  <a:moveTo>
                    <a:pt x="0" y="0"/>
                  </a:moveTo>
                  <a:lnTo>
                    <a:pt x="393" y="232"/>
                  </a:lnTo>
                  <a:lnTo>
                    <a:pt x="393" y="897"/>
                  </a:lnTo>
                  <a:lnTo>
                    <a:pt x="0" y="664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3165480" y="2300400"/>
              <a:ext cx="3062160" cy="1423440"/>
            </a:xfrm>
            <a:custGeom>
              <a:avLst/>
              <a:gdLst/>
              <a:ahLst/>
              <a:rect l="l" t="t" r="r" b="b"/>
              <a:pathLst>
                <a:path w="1929" h="797">
                  <a:moveTo>
                    <a:pt x="0" y="564"/>
                  </a:moveTo>
                  <a:lnTo>
                    <a:pt x="399" y="796"/>
                  </a:lnTo>
                  <a:lnTo>
                    <a:pt x="1928" y="200"/>
                  </a:lnTo>
                  <a:lnTo>
                    <a:pt x="1594" y="0"/>
                  </a:lnTo>
                  <a:lnTo>
                    <a:pt x="0" y="564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3801960" y="2660760"/>
              <a:ext cx="2425680" cy="2261880"/>
            </a:xfrm>
            <a:custGeom>
              <a:avLst/>
              <a:gdLst/>
              <a:ahLst/>
              <a:rect l="l" t="t" r="r" b="b"/>
              <a:pathLst>
                <a:path w="1528" h="1266">
                  <a:moveTo>
                    <a:pt x="0" y="598"/>
                  </a:moveTo>
                  <a:lnTo>
                    <a:pt x="0" y="1265"/>
                  </a:lnTo>
                  <a:lnTo>
                    <a:pt x="1527" y="565"/>
                  </a:lnTo>
                  <a:lnTo>
                    <a:pt x="1527" y="0"/>
                  </a:lnTo>
                  <a:lnTo>
                    <a:pt x="0" y="5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Freeform 17"/>
          <p:cNvSpPr/>
          <p:nvPr/>
        </p:nvSpPr>
        <p:spPr>
          <a:xfrm>
            <a:off x="4489560" y="1584360"/>
            <a:ext cx="466560" cy="166680"/>
          </a:xfrm>
          <a:custGeom>
            <a:avLst/>
            <a:gdLst/>
            <a:ahLst/>
            <a:rect l="l" t="t" r="r" b="b"/>
            <a:pathLst>
              <a:path w="294" h="93">
                <a:moveTo>
                  <a:pt x="0" y="61"/>
                </a:moveTo>
                <a:lnTo>
                  <a:pt x="65" y="92"/>
                </a:lnTo>
                <a:lnTo>
                  <a:pt x="293" y="30"/>
                </a:lnTo>
                <a:lnTo>
                  <a:pt x="228" y="0"/>
                </a:lnTo>
                <a:lnTo>
                  <a:pt x="0" y="61"/>
                </a:lnTo>
              </a:path>
            </a:pathLst>
          </a:custGeom>
          <a:solidFill>
            <a:srgbClr val="7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4199040" y="1643040"/>
            <a:ext cx="1030320" cy="1184040"/>
            <a:chOff x="4199040" y="1643040"/>
            <a:chExt cx="1030320" cy="1184040"/>
          </a:xfrm>
        </p:grpSpPr>
        <p:sp>
          <p:nvSpPr>
            <p:cNvPr id="168" name="Freeform 19"/>
            <p:cNvSpPr/>
            <p:nvPr/>
          </p:nvSpPr>
          <p:spPr>
            <a:xfrm>
              <a:off x="4867200" y="2225160"/>
              <a:ext cx="362160" cy="153360"/>
            </a:xfrm>
            <a:custGeom>
              <a:avLst/>
              <a:gdLst/>
              <a:ahLst/>
              <a:rect l="l" t="t" r="r" b="b"/>
              <a:pathLst>
                <a:path w="228" h="86">
                  <a:moveTo>
                    <a:pt x="64" y="85"/>
                  </a:moveTo>
                  <a:lnTo>
                    <a:pt x="227" y="27"/>
                  </a:lnTo>
                  <a:lnTo>
                    <a:pt x="156" y="0"/>
                  </a:lnTo>
                  <a:lnTo>
                    <a:pt x="0" y="58"/>
                  </a:lnTo>
                  <a:lnTo>
                    <a:pt x="64" y="8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4313160" y="1643040"/>
              <a:ext cx="916200" cy="1184040"/>
            </a:xfrm>
            <a:custGeom>
              <a:avLst/>
              <a:gdLst/>
              <a:ahLst/>
              <a:rect l="l" t="t" r="r" b="b"/>
              <a:pathLst>
                <a:path w="577" h="663">
                  <a:moveTo>
                    <a:pt x="183" y="66"/>
                  </a:moveTo>
                  <a:lnTo>
                    <a:pt x="414" y="0"/>
                  </a:lnTo>
                  <a:lnTo>
                    <a:pt x="414" y="411"/>
                  </a:lnTo>
                  <a:lnTo>
                    <a:pt x="576" y="351"/>
                  </a:lnTo>
                  <a:lnTo>
                    <a:pt x="316" y="662"/>
                  </a:lnTo>
                  <a:lnTo>
                    <a:pt x="0" y="562"/>
                  </a:lnTo>
                  <a:lnTo>
                    <a:pt x="183" y="496"/>
                  </a:lnTo>
                  <a:lnTo>
                    <a:pt x="183" y="6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4199040" y="2480400"/>
              <a:ext cx="398520" cy="165960"/>
            </a:xfrm>
            <a:custGeom>
              <a:avLst/>
              <a:gdLst/>
              <a:ahLst/>
              <a:rect l="l" t="t" r="r" b="b"/>
              <a:pathLst>
                <a:path w="251" h="93">
                  <a:moveTo>
                    <a:pt x="70" y="92"/>
                  </a:moveTo>
                  <a:lnTo>
                    <a:pt x="0" y="59"/>
                  </a:lnTo>
                  <a:lnTo>
                    <a:pt x="185" y="0"/>
                  </a:lnTo>
                  <a:lnTo>
                    <a:pt x="250" y="30"/>
                  </a:lnTo>
                  <a:lnTo>
                    <a:pt x="70" y="92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4502160" y="1701720"/>
              <a:ext cx="95400" cy="825480"/>
            </a:xfrm>
            <a:custGeom>
              <a:avLst/>
              <a:gdLst/>
              <a:ahLst/>
              <a:rect l="l" t="t" r="r" b="b"/>
              <a:pathLst>
                <a:path w="60" h="462">
                  <a:moveTo>
                    <a:pt x="0" y="429"/>
                  </a:moveTo>
                  <a:lnTo>
                    <a:pt x="59" y="461"/>
                  </a:ln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23"/>
          <p:cNvGrpSpPr/>
          <p:nvPr/>
        </p:nvGrpSpPr>
        <p:grpSpPr>
          <a:xfrm>
            <a:off x="2425680" y="3676680"/>
            <a:ext cx="1206360" cy="1304640"/>
            <a:chOff x="2425680" y="3676680"/>
            <a:chExt cx="1206360" cy="1304640"/>
          </a:xfrm>
        </p:grpSpPr>
        <p:sp>
          <p:nvSpPr>
            <p:cNvPr id="173" name="Freeform 24"/>
            <p:cNvSpPr/>
            <p:nvPr/>
          </p:nvSpPr>
          <p:spPr>
            <a:xfrm>
              <a:off x="3270240" y="4453920"/>
              <a:ext cx="149400" cy="40716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2583000" y="3796200"/>
              <a:ext cx="1049040" cy="118512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2425680" y="4334040"/>
              <a:ext cx="146160" cy="64728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2425680" y="3974760"/>
              <a:ext cx="993960" cy="4665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3270240" y="3676680"/>
              <a:ext cx="149400" cy="40572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" name="Rectangle 29"/>
          <p:cNvSpPr/>
          <p:nvPr/>
        </p:nvSpPr>
        <p:spPr>
          <a:xfrm>
            <a:off x="2347920" y="1770120"/>
            <a:ext cx="211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5244120" y="5027760"/>
            <a:ext cx="114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2537280" y="49561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6537960" y="33559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y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WE- 26.1, 26.3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merican Heritage Dictio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in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aracteristic or attribute of someth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ftware, two kinds of quality may be encountered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y of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compasses requirements, specifications, and the design of the syst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y of con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issue focused primarily on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satisfaction = compliant product + good quality + delivery within budget and 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Ashraf Youssef</cp:lastModifiedBy>
  <dcterms:modified xsi:type="dcterms:W3CDTF">2017-09-26T00:22:02Z</dcterms:modified>
  <cp:revision>117</cp:revision>
  <dc:subject/>
  <dc:title>Modern  Systems Analysis and Design  Joey F. George  Jeffrey A. Hoffer  Joseph S. Valacich</dc:title>
</cp:coreProperties>
</file>