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4DEE-52B0-4CEB-9C95-1A6CA3620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666B-B063-4201-B0E3-403F530EE31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72C3-1F90-4398-B5D5-456C3B9B69B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9A7F-E105-43AB-A870-2AD8FDE8355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7CBD-A73E-4B45-B670-C538289BBBD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7EB1-2B08-4A63-9F8D-231081E1BC7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1590-F8CE-4D3C-84E8-3E5DA12F0E8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847B-5B85-4B1D-8C4F-602921F8482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48B3-F841-4813-90EF-86E120B9EA7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1743-C458-4A66-9837-5F79C479834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6B53-6F96-42A5-A6F1-A4DC11E1617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FBDD-B861-4428-969C-D4A71E62EA9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3C84-8277-4402-AD0C-34250E74ED9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7A38-EE52-421B-94F3-0C95B1D7386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523C-CDA3-43EC-BEF2-D4FDB3585A7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9C39-BEB7-4537-A51E-1E3CA4026A7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7E3D-A4B7-4B4F-8A23-8EFACF0547C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92D-7DBA-4227-BBEF-6596C509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EFA-49E0-4DBB-9212-4A835BD9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38D-CC2A-41D9-8CA6-D0B4A007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178-04E3-4400-8539-8C851F7C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35AE-55FA-44D9-84E8-CF4A40D8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E659-7BD4-4AB4-B2E5-2EA60D39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8793-6980-4346-B194-372161EA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7E85-2E2C-41AB-B91F-C49CCD00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34E8-9C7E-4CCE-9E67-82077087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321F-68EC-4966-BA09-EF2C4C04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0AB2-A8E3-4D10-AD20-67E96178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25B-EF2F-4CCB-B863-999BB0C9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DDB8-5599-4ADC-998E-1497D7D7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E197-FFC2-43F3-A566-825B880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EDA2-8F37-4E58-8BDB-2B895D0E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A8ED-1BA8-46DC-96E6-5BB299F0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3F23-F300-4E4F-9F11-9346D067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B91-2561-4172-AEE2-5B80E9E2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ECF-B456-49A3-9EBF-9C71C974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4D7-14A4-4ADC-8613-0B43EED6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7F0-A3A4-4323-B15B-B3715FF6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BCA-3D01-4B5D-A0D4-C333F500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9DE-6A18-41A9-A4CB-269BB52D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838-28C2-4D7D-BEC6-63606119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78F8-119B-4F5F-9BF7-8FC3859A2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9B9E-2EFD-469E-9DDC-BD3BC29F04C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S44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formation Systems Engineer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r. Ashraf Youssef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27200" y="2166840"/>
            <a:ext cx="7734240" cy="2455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Qu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327320" y="2665440"/>
            <a:ext cx="66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54080" y="2419200"/>
            <a:ext cx="76262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formance to explicitly stated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Palatino"/>
              </a:rPr>
              <a:t>functional and performance requirements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explicitly documented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Palatino"/>
              </a:rPr>
              <a:t>development criteria standards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and implicit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Palatino"/>
              </a:rPr>
              <a:t>characteristics that are expected of all professionally developed software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Quality Assurance (SQ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QA grou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iews the process description for compliance with organizational policy, internal software standards, externally imposed standards (e.g., ISO-9001), and other parts of the software project pl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, documents, and tracks deviations from the process and verifies that corrections have been ma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s selected work products; identifies, documents, and tracks deviations; verifies that corrections have been m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iodically reports the results of its work to the projec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compliance items are tracked until they are resol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allation</a:t>
            </a:r>
            <a:br>
              <a:rPr sz="4400"/>
            </a:b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(SAD- 17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rganizational process of changing over from the current information system to a new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Insta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284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over from the old information system to a new one by turning off the old system when the new one is turned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Insta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284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ning the old information system and the new one at the same time until management decides the old system can be turned 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ocation insta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ing out an information system at one site and using the experience to decide if and how the new system should be deployed throughout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d Insta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ing from the old information system to the new one incrementally, starting with one or a few functional components and then gradually extending the installation to cover the whole new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of Installation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190440" y="2133720"/>
            <a:ext cx="4381560" cy="2171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800600" y="2171880"/>
            <a:ext cx="4127400" cy="2082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685800" y="4572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Instal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876920" y="4572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Instal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gle Location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2968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d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88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ocumenting The System</a:t>
            </a:r>
            <a:br>
              <a:rPr sz="4000"/>
            </a:b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(SAD- 17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doc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ailed information about a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design specifications, its internal workings and its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documentation that is part of the program source code or is generated at compile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documentation that includes the outcome of structured diagramming techniques such as data flow and entity-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ocumenting The Syst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ten or other visual information about an application system, how it works, and how to us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ring use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source has been information systems depar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-oriented documentation is now often supplied by vendors and users themsel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ining Information System Us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tential training top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computer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system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al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insta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Management of System Implementa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762120" y="39625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ining Information System Us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ing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 exp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-aided 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l cour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help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to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raining manu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ources, such as vend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pporting Information System Us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is extremely important to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.D. Power and Associates survey found user support to be number one criterion contributing to user satisfaction with personal comp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organizations provide support by two me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 de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upporting Information System Use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formation Cente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rganizational unit whose mission is to support users in exploiting information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ff might perform the following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 new hardware or software and set up user accou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lt with users writing programs in fourth-generation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ract data from organizational databases onto personal comp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 basic on-demand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a demonstration site for viewing hardware and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with users to submit system chan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upporting Information System Use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Help Desk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point of contact for all user inquiries and problems about a particular information system or for all users in a particular depar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y Implementation Sometimes Fails</a:t>
            </a:r>
            <a:br>
              <a:rPr sz="4000"/>
            </a:b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(SAD- 17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conditions necessary for a successful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upport of the system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ment of users in the development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y Implementation Sometimes Fai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ights about implement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ment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ment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t of project definition and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stic user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success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t to which system i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satisfaction with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pplication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plan is developed during the analysis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ing the design phase, a unit test plan and a system test plan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ctual testing is done during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plans provide improved communication among all parties involved in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 as check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pplication Test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Testing Process</a:t>
            </a:r>
            <a:br>
              <a:rPr sz="4400"/>
            </a:b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(SWE- 13.3,13.6, 14.2, 14.3, SAD-17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urpose of the testing is confirming that the system satisfies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must be plan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 C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fic scenario of transactions, queries or navigation paths that represent a typical, critical or abnormal use of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 and results should be thoroughly documented so they can be repeated for each revision of an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pplication Test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odule is tested alone in an attempt to discover any errors in its code, also called modul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of bringing together all of the modules that a program comprises for testing purposes.  Modules are typically integrated in a top-down, incremental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pplication Test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ringing together of all the programs that a system comprises for testing purposes.  Programs are typically integrated in a top-down, incremental fash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6200" y="457200"/>
            <a:ext cx="4640400" cy="1392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-Box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4968720" y="1758960"/>
            <a:ext cx="63720" cy="114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956120" y="1744560"/>
            <a:ext cx="88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5006880" y="1901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829040" y="2044800"/>
            <a:ext cx="355680" cy="19980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4816440" y="2030400"/>
            <a:ext cx="3808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5006880" y="2273400"/>
            <a:ext cx="0" cy="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9"/>
          <p:cNvSpPr/>
          <p:nvPr/>
        </p:nvSpPr>
        <p:spPr>
          <a:xfrm flipH="1">
            <a:off x="4435560" y="245916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4270320" y="2658960"/>
            <a:ext cx="355680" cy="20016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257720" y="2644920"/>
            <a:ext cx="3808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5388120" y="2687760"/>
            <a:ext cx="355320" cy="19980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375160" y="2673360"/>
            <a:ext cx="38124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4448160" y="2459160"/>
            <a:ext cx="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5"/>
          <p:cNvSpPr/>
          <p:nvPr/>
        </p:nvSpPr>
        <p:spPr>
          <a:xfrm flipH="1">
            <a:off x="5209920" y="245916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5565600" y="2459160"/>
            <a:ext cx="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4448160" y="288756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5565600" y="291636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4448160" y="3044880"/>
            <a:ext cx="110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20"/>
          <p:cNvSpPr/>
          <p:nvPr/>
        </p:nvSpPr>
        <p:spPr>
          <a:xfrm>
            <a:off x="5006880" y="3044880"/>
            <a:ext cx="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4829040" y="3273480"/>
            <a:ext cx="355680" cy="199800"/>
          </a:xfrm>
          <a:prstGeom prst="rect">
            <a:avLst/>
          </a:prstGeom>
          <a:solidFill>
            <a:srgbClr val="ffcf0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4816440" y="3259080"/>
            <a:ext cx="38088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5006880" y="350208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5006880" y="3844800"/>
            <a:ext cx="0" cy="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5006880" y="19591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5006880" y="39020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27"/>
          <p:cNvSpPr/>
          <p:nvPr/>
        </p:nvSpPr>
        <p:spPr>
          <a:xfrm>
            <a:off x="5883120" y="1959120"/>
            <a:ext cx="0" cy="192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2089080" y="4443480"/>
            <a:ext cx="467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 our goal is to ensure that al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2095200" y="4800600"/>
            <a:ext cx="4907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 and conditions ha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2094840" y="5157720"/>
            <a:ext cx="457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en executed at least once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31"/>
          <p:cNvSpPr/>
          <p:nvPr/>
        </p:nvSpPr>
        <p:spPr>
          <a:xfrm>
            <a:off x="4778280" y="2330280"/>
            <a:ext cx="444600" cy="271800"/>
          </a:xfrm>
          <a:prstGeom prst="diamond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32"/>
          <p:cNvSpPr/>
          <p:nvPr/>
        </p:nvSpPr>
        <p:spPr>
          <a:xfrm>
            <a:off x="4778280" y="3745080"/>
            <a:ext cx="444600" cy="271440"/>
          </a:xfrm>
          <a:prstGeom prst="diamond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5006880" y="4059360"/>
            <a:ext cx="0" cy="35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34" descr=""/>
          <p:cNvPicPr/>
          <p:nvPr/>
        </p:nvPicPr>
        <p:blipFill>
          <a:blip r:embed="rId1"/>
          <a:stretch/>
        </p:blipFill>
        <p:spPr>
          <a:xfrm>
            <a:off x="2563920" y="1174680"/>
            <a:ext cx="2068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045120" y="2076480"/>
            <a:ext cx="1206720" cy="1304640"/>
            <a:chOff x="6045120" y="2076480"/>
            <a:chExt cx="1206720" cy="1304640"/>
          </a:xfrm>
        </p:grpSpPr>
        <p:sp>
          <p:nvSpPr>
            <p:cNvPr id="152" name="Freeform 3"/>
            <p:cNvSpPr/>
            <p:nvPr/>
          </p:nvSpPr>
          <p:spPr>
            <a:xfrm>
              <a:off x="6889680" y="2853720"/>
              <a:ext cx="149400" cy="407160"/>
            </a:xfrm>
            <a:custGeom>
              <a:avLst/>
              <a:gdLst/>
              <a:ahLst/>
              <a:rect l="l" t="t" r="r" b="b"/>
              <a:pathLst>
                <a:path w="94" h="228">
                  <a:moveTo>
                    <a:pt x="93" y="227"/>
                  </a:moveTo>
                  <a:lnTo>
                    <a:pt x="93" y="65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93" y="227"/>
                  </a:lnTo>
                </a:path>
              </a:pathLst>
            </a:custGeom>
            <a:solidFill>
              <a:srgbClr val="0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Freeform 4"/>
            <p:cNvSpPr/>
            <p:nvPr/>
          </p:nvSpPr>
          <p:spPr>
            <a:xfrm>
              <a:off x="6202440" y="2196000"/>
              <a:ext cx="1049400" cy="1185120"/>
            </a:xfrm>
            <a:custGeom>
              <a:avLst/>
              <a:gdLst/>
              <a:ahLst/>
              <a:rect l="l" t="t" r="r" b="b"/>
              <a:pathLst>
                <a:path w="661" h="663">
                  <a:moveTo>
                    <a:pt x="528" y="165"/>
                  </a:moveTo>
                  <a:lnTo>
                    <a:pt x="0" y="364"/>
                  </a:lnTo>
                  <a:lnTo>
                    <a:pt x="0" y="662"/>
                  </a:lnTo>
                  <a:lnTo>
                    <a:pt x="528" y="430"/>
                  </a:lnTo>
                  <a:lnTo>
                    <a:pt x="528" y="596"/>
                  </a:lnTo>
                  <a:lnTo>
                    <a:pt x="660" y="265"/>
                  </a:lnTo>
                  <a:lnTo>
                    <a:pt x="528" y="0"/>
                  </a:lnTo>
                  <a:lnTo>
                    <a:pt x="528" y="165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Freeform 5"/>
            <p:cNvSpPr/>
            <p:nvPr/>
          </p:nvSpPr>
          <p:spPr>
            <a:xfrm>
              <a:off x="6045120" y="2733840"/>
              <a:ext cx="146160" cy="647280"/>
            </a:xfrm>
            <a:custGeom>
              <a:avLst/>
              <a:gdLst/>
              <a:ahLst/>
              <a:rect l="l" t="t" r="r" b="b"/>
              <a:pathLst>
                <a:path w="92" h="362">
                  <a:moveTo>
                    <a:pt x="91" y="66"/>
                  </a:moveTo>
                  <a:lnTo>
                    <a:pt x="91" y="361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91" y="66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>
              <a:off x="6045120" y="2374560"/>
              <a:ext cx="993960" cy="466560"/>
            </a:xfrm>
            <a:custGeom>
              <a:avLst/>
              <a:gdLst/>
              <a:ahLst/>
              <a:rect l="l" t="t" r="r" b="b"/>
              <a:pathLst>
                <a:path w="626" h="261">
                  <a:moveTo>
                    <a:pt x="0" y="195"/>
                  </a:moveTo>
                  <a:lnTo>
                    <a:pt x="98" y="260"/>
                  </a:lnTo>
                  <a:lnTo>
                    <a:pt x="625" y="65"/>
                  </a:lnTo>
                  <a:lnTo>
                    <a:pt x="525" y="0"/>
                  </a:lnTo>
                  <a:lnTo>
                    <a:pt x="0" y="195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6889680" y="2076480"/>
              <a:ext cx="149400" cy="405720"/>
            </a:xfrm>
            <a:custGeom>
              <a:avLst/>
              <a:gdLst/>
              <a:ahLst/>
              <a:rect l="l" t="t" r="r" b="b"/>
              <a:pathLst>
                <a:path w="94" h="227">
                  <a:moveTo>
                    <a:pt x="93" y="65"/>
                  </a:moveTo>
                  <a:lnTo>
                    <a:pt x="0" y="0"/>
                  </a:lnTo>
                  <a:lnTo>
                    <a:pt x="0" y="161"/>
                  </a:lnTo>
                  <a:lnTo>
                    <a:pt x="93" y="226"/>
                  </a:lnTo>
                  <a:lnTo>
                    <a:pt x="93" y="6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16080" y="927000"/>
            <a:ext cx="6089760" cy="3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ack-Box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8" name="Group 9"/>
          <p:cNvGrpSpPr/>
          <p:nvPr/>
        </p:nvGrpSpPr>
        <p:grpSpPr>
          <a:xfrm>
            <a:off x="4565520" y="4343400"/>
            <a:ext cx="889200" cy="1425240"/>
            <a:chOff x="4565520" y="4343400"/>
            <a:chExt cx="889200" cy="1425240"/>
          </a:xfrm>
        </p:grpSpPr>
        <p:sp>
          <p:nvSpPr>
            <p:cNvPr id="159" name="Freeform 10"/>
            <p:cNvSpPr/>
            <p:nvPr/>
          </p:nvSpPr>
          <p:spPr>
            <a:xfrm>
              <a:off x="4778280" y="4882680"/>
              <a:ext cx="95400" cy="885600"/>
            </a:xfrm>
            <a:custGeom>
              <a:avLst/>
              <a:gdLst/>
              <a:ahLst/>
              <a:rect l="l" t="t" r="r" b="b"/>
              <a:pathLst>
                <a:path w="60" h="496">
                  <a:moveTo>
                    <a:pt x="59" y="495"/>
                  </a:moveTo>
                  <a:lnTo>
                    <a:pt x="59" y="33"/>
                  </a:lnTo>
                  <a:lnTo>
                    <a:pt x="0" y="0"/>
                  </a:lnTo>
                  <a:lnTo>
                    <a:pt x="0" y="429"/>
                  </a:lnTo>
                  <a:lnTo>
                    <a:pt x="59" y="495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Freeform 11"/>
            <p:cNvSpPr/>
            <p:nvPr/>
          </p:nvSpPr>
          <p:spPr>
            <a:xfrm>
              <a:off x="4672080" y="4403880"/>
              <a:ext cx="782640" cy="1364760"/>
            </a:xfrm>
            <a:custGeom>
              <a:avLst/>
              <a:gdLst/>
              <a:ahLst/>
              <a:rect l="l" t="t" r="r" b="b"/>
              <a:pathLst>
                <a:path w="493" h="764">
                  <a:moveTo>
                    <a:pt x="230" y="0"/>
                  </a:moveTo>
                  <a:lnTo>
                    <a:pt x="492" y="133"/>
                  </a:lnTo>
                  <a:lnTo>
                    <a:pt x="362" y="198"/>
                  </a:lnTo>
                  <a:lnTo>
                    <a:pt x="362" y="663"/>
                  </a:lnTo>
                  <a:lnTo>
                    <a:pt x="132" y="763"/>
                  </a:lnTo>
                  <a:lnTo>
                    <a:pt x="132" y="299"/>
                  </a:lnTo>
                  <a:lnTo>
                    <a:pt x="0" y="365"/>
                  </a:lnTo>
                  <a:lnTo>
                    <a:pt x="23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Freeform 12"/>
            <p:cNvSpPr/>
            <p:nvPr/>
          </p:nvSpPr>
          <p:spPr>
            <a:xfrm>
              <a:off x="4565520" y="4343400"/>
              <a:ext cx="466920" cy="707400"/>
            </a:xfrm>
            <a:custGeom>
              <a:avLst/>
              <a:gdLst/>
              <a:ahLst/>
              <a:rect l="l" t="t" r="r" b="b"/>
              <a:pathLst>
                <a:path w="294" h="396">
                  <a:moveTo>
                    <a:pt x="65" y="395"/>
                  </a:moveTo>
                  <a:lnTo>
                    <a:pt x="0" y="362"/>
                  </a:lnTo>
                  <a:lnTo>
                    <a:pt x="228" y="0"/>
                  </a:lnTo>
                  <a:lnTo>
                    <a:pt x="293" y="33"/>
                  </a:lnTo>
                  <a:lnTo>
                    <a:pt x="65" y="395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" name="Group 13"/>
          <p:cNvGrpSpPr/>
          <p:nvPr/>
        </p:nvGrpSpPr>
        <p:grpSpPr>
          <a:xfrm>
            <a:off x="3165480" y="2300400"/>
            <a:ext cx="3062160" cy="2622240"/>
            <a:chOff x="3165480" y="2300400"/>
            <a:chExt cx="3062160" cy="2622240"/>
          </a:xfrm>
        </p:grpSpPr>
        <p:sp>
          <p:nvSpPr>
            <p:cNvPr id="163" name="Freeform 14"/>
            <p:cNvSpPr/>
            <p:nvPr/>
          </p:nvSpPr>
          <p:spPr>
            <a:xfrm>
              <a:off x="3165480" y="3318480"/>
              <a:ext cx="625320" cy="1604160"/>
            </a:xfrm>
            <a:custGeom>
              <a:avLst/>
              <a:gdLst/>
              <a:ahLst/>
              <a:rect l="l" t="t" r="r" b="b"/>
              <a:pathLst>
                <a:path w="394" h="898">
                  <a:moveTo>
                    <a:pt x="0" y="0"/>
                  </a:moveTo>
                  <a:lnTo>
                    <a:pt x="393" y="232"/>
                  </a:lnTo>
                  <a:lnTo>
                    <a:pt x="393" y="897"/>
                  </a:lnTo>
                  <a:lnTo>
                    <a:pt x="0" y="664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5"/>
            <p:cNvSpPr/>
            <p:nvPr/>
          </p:nvSpPr>
          <p:spPr>
            <a:xfrm>
              <a:off x="3165480" y="2300400"/>
              <a:ext cx="3062160" cy="1423440"/>
            </a:xfrm>
            <a:custGeom>
              <a:avLst/>
              <a:gdLst/>
              <a:ahLst/>
              <a:rect l="l" t="t" r="r" b="b"/>
              <a:pathLst>
                <a:path w="1929" h="797">
                  <a:moveTo>
                    <a:pt x="0" y="564"/>
                  </a:moveTo>
                  <a:lnTo>
                    <a:pt x="399" y="796"/>
                  </a:lnTo>
                  <a:lnTo>
                    <a:pt x="1928" y="200"/>
                  </a:lnTo>
                  <a:lnTo>
                    <a:pt x="1594" y="0"/>
                  </a:lnTo>
                  <a:lnTo>
                    <a:pt x="0" y="564"/>
                  </a:lnTo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6"/>
            <p:cNvSpPr/>
            <p:nvPr/>
          </p:nvSpPr>
          <p:spPr>
            <a:xfrm>
              <a:off x="3801960" y="2660760"/>
              <a:ext cx="2425680" cy="2261880"/>
            </a:xfrm>
            <a:custGeom>
              <a:avLst/>
              <a:gdLst/>
              <a:ahLst/>
              <a:rect l="l" t="t" r="r" b="b"/>
              <a:pathLst>
                <a:path w="1528" h="1266">
                  <a:moveTo>
                    <a:pt x="0" y="598"/>
                  </a:moveTo>
                  <a:lnTo>
                    <a:pt x="0" y="1265"/>
                  </a:lnTo>
                  <a:lnTo>
                    <a:pt x="1527" y="565"/>
                  </a:lnTo>
                  <a:lnTo>
                    <a:pt x="1527" y="0"/>
                  </a:lnTo>
                  <a:lnTo>
                    <a:pt x="0" y="59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Freeform 17"/>
          <p:cNvSpPr/>
          <p:nvPr/>
        </p:nvSpPr>
        <p:spPr>
          <a:xfrm>
            <a:off x="4489560" y="1584360"/>
            <a:ext cx="466560" cy="166680"/>
          </a:xfrm>
          <a:custGeom>
            <a:avLst/>
            <a:gdLst/>
            <a:ahLst/>
            <a:rect l="l" t="t" r="r" b="b"/>
            <a:pathLst>
              <a:path w="294" h="93">
                <a:moveTo>
                  <a:pt x="0" y="61"/>
                </a:moveTo>
                <a:lnTo>
                  <a:pt x="65" y="92"/>
                </a:lnTo>
                <a:lnTo>
                  <a:pt x="293" y="30"/>
                </a:lnTo>
                <a:lnTo>
                  <a:pt x="228" y="0"/>
                </a:lnTo>
                <a:lnTo>
                  <a:pt x="0" y="61"/>
                </a:lnTo>
              </a:path>
            </a:pathLst>
          </a:custGeom>
          <a:solidFill>
            <a:srgbClr val="7f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4199040" y="1643040"/>
            <a:ext cx="1030320" cy="1184040"/>
            <a:chOff x="4199040" y="1643040"/>
            <a:chExt cx="1030320" cy="1184040"/>
          </a:xfrm>
        </p:grpSpPr>
        <p:sp>
          <p:nvSpPr>
            <p:cNvPr id="168" name="Freeform 19"/>
            <p:cNvSpPr/>
            <p:nvPr/>
          </p:nvSpPr>
          <p:spPr>
            <a:xfrm>
              <a:off x="4867200" y="2225160"/>
              <a:ext cx="362160" cy="153360"/>
            </a:xfrm>
            <a:custGeom>
              <a:avLst/>
              <a:gdLst/>
              <a:ahLst/>
              <a:rect l="l" t="t" r="r" b="b"/>
              <a:pathLst>
                <a:path w="228" h="86">
                  <a:moveTo>
                    <a:pt x="64" y="85"/>
                  </a:moveTo>
                  <a:lnTo>
                    <a:pt x="227" y="27"/>
                  </a:lnTo>
                  <a:lnTo>
                    <a:pt x="156" y="0"/>
                  </a:lnTo>
                  <a:lnTo>
                    <a:pt x="0" y="58"/>
                  </a:lnTo>
                  <a:lnTo>
                    <a:pt x="64" y="8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4313160" y="1643040"/>
              <a:ext cx="916200" cy="1184040"/>
            </a:xfrm>
            <a:custGeom>
              <a:avLst/>
              <a:gdLst/>
              <a:ahLst/>
              <a:rect l="l" t="t" r="r" b="b"/>
              <a:pathLst>
                <a:path w="577" h="663">
                  <a:moveTo>
                    <a:pt x="183" y="66"/>
                  </a:moveTo>
                  <a:lnTo>
                    <a:pt x="414" y="0"/>
                  </a:lnTo>
                  <a:lnTo>
                    <a:pt x="414" y="411"/>
                  </a:lnTo>
                  <a:lnTo>
                    <a:pt x="576" y="351"/>
                  </a:lnTo>
                  <a:lnTo>
                    <a:pt x="316" y="662"/>
                  </a:lnTo>
                  <a:lnTo>
                    <a:pt x="0" y="562"/>
                  </a:lnTo>
                  <a:lnTo>
                    <a:pt x="183" y="496"/>
                  </a:lnTo>
                  <a:lnTo>
                    <a:pt x="183" y="66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4199040" y="2480400"/>
              <a:ext cx="398520" cy="165960"/>
            </a:xfrm>
            <a:custGeom>
              <a:avLst/>
              <a:gdLst/>
              <a:ahLst/>
              <a:rect l="l" t="t" r="r" b="b"/>
              <a:pathLst>
                <a:path w="251" h="93">
                  <a:moveTo>
                    <a:pt x="70" y="92"/>
                  </a:moveTo>
                  <a:lnTo>
                    <a:pt x="0" y="59"/>
                  </a:lnTo>
                  <a:lnTo>
                    <a:pt x="185" y="0"/>
                  </a:lnTo>
                  <a:lnTo>
                    <a:pt x="250" y="30"/>
                  </a:lnTo>
                  <a:lnTo>
                    <a:pt x="70" y="92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4502160" y="1701720"/>
              <a:ext cx="95400" cy="825480"/>
            </a:xfrm>
            <a:custGeom>
              <a:avLst/>
              <a:gdLst/>
              <a:ahLst/>
              <a:rect l="l" t="t" r="r" b="b"/>
              <a:pathLst>
                <a:path w="60" h="462">
                  <a:moveTo>
                    <a:pt x="0" y="429"/>
                  </a:moveTo>
                  <a:lnTo>
                    <a:pt x="59" y="461"/>
                  </a:lnTo>
                  <a:lnTo>
                    <a:pt x="59" y="33"/>
                  </a:lnTo>
                  <a:lnTo>
                    <a:pt x="0" y="0"/>
                  </a:lnTo>
                  <a:lnTo>
                    <a:pt x="0" y="429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" name="Group 23"/>
          <p:cNvGrpSpPr/>
          <p:nvPr/>
        </p:nvGrpSpPr>
        <p:grpSpPr>
          <a:xfrm>
            <a:off x="2425680" y="3676680"/>
            <a:ext cx="1206360" cy="1304640"/>
            <a:chOff x="2425680" y="3676680"/>
            <a:chExt cx="1206360" cy="1304640"/>
          </a:xfrm>
        </p:grpSpPr>
        <p:sp>
          <p:nvSpPr>
            <p:cNvPr id="173" name="Freeform 24"/>
            <p:cNvSpPr/>
            <p:nvPr/>
          </p:nvSpPr>
          <p:spPr>
            <a:xfrm>
              <a:off x="3270240" y="4453920"/>
              <a:ext cx="149400" cy="407160"/>
            </a:xfrm>
            <a:custGeom>
              <a:avLst/>
              <a:gdLst/>
              <a:ahLst/>
              <a:rect l="l" t="t" r="r" b="b"/>
              <a:pathLst>
                <a:path w="94" h="228">
                  <a:moveTo>
                    <a:pt x="93" y="227"/>
                  </a:moveTo>
                  <a:lnTo>
                    <a:pt x="93" y="65"/>
                  </a:lnTo>
                  <a:lnTo>
                    <a:pt x="0" y="0"/>
                  </a:lnTo>
                  <a:lnTo>
                    <a:pt x="0" y="162"/>
                  </a:lnTo>
                  <a:lnTo>
                    <a:pt x="93" y="227"/>
                  </a:lnTo>
                </a:path>
              </a:pathLst>
            </a:custGeom>
            <a:solidFill>
              <a:srgbClr val="0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2583000" y="3796200"/>
              <a:ext cx="1049040" cy="1185120"/>
            </a:xfrm>
            <a:custGeom>
              <a:avLst/>
              <a:gdLst/>
              <a:ahLst/>
              <a:rect l="l" t="t" r="r" b="b"/>
              <a:pathLst>
                <a:path w="661" h="663">
                  <a:moveTo>
                    <a:pt x="528" y="165"/>
                  </a:moveTo>
                  <a:lnTo>
                    <a:pt x="0" y="364"/>
                  </a:lnTo>
                  <a:lnTo>
                    <a:pt x="0" y="662"/>
                  </a:lnTo>
                  <a:lnTo>
                    <a:pt x="528" y="430"/>
                  </a:lnTo>
                  <a:lnTo>
                    <a:pt x="528" y="596"/>
                  </a:lnTo>
                  <a:lnTo>
                    <a:pt x="660" y="265"/>
                  </a:lnTo>
                  <a:lnTo>
                    <a:pt x="528" y="0"/>
                  </a:lnTo>
                  <a:lnTo>
                    <a:pt x="528" y="165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Freeform 26"/>
            <p:cNvSpPr/>
            <p:nvPr/>
          </p:nvSpPr>
          <p:spPr>
            <a:xfrm>
              <a:off x="2425680" y="4334040"/>
              <a:ext cx="146160" cy="647280"/>
            </a:xfrm>
            <a:custGeom>
              <a:avLst/>
              <a:gdLst/>
              <a:ahLst/>
              <a:rect l="l" t="t" r="r" b="b"/>
              <a:pathLst>
                <a:path w="92" h="362">
                  <a:moveTo>
                    <a:pt x="91" y="66"/>
                  </a:moveTo>
                  <a:lnTo>
                    <a:pt x="91" y="361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91" y="66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Freeform 27"/>
            <p:cNvSpPr/>
            <p:nvPr/>
          </p:nvSpPr>
          <p:spPr>
            <a:xfrm>
              <a:off x="2425680" y="3974760"/>
              <a:ext cx="993960" cy="466560"/>
            </a:xfrm>
            <a:custGeom>
              <a:avLst/>
              <a:gdLst/>
              <a:ahLst/>
              <a:rect l="l" t="t" r="r" b="b"/>
              <a:pathLst>
                <a:path w="626" h="261">
                  <a:moveTo>
                    <a:pt x="0" y="195"/>
                  </a:moveTo>
                  <a:lnTo>
                    <a:pt x="98" y="260"/>
                  </a:lnTo>
                  <a:lnTo>
                    <a:pt x="625" y="65"/>
                  </a:lnTo>
                  <a:lnTo>
                    <a:pt x="525" y="0"/>
                  </a:lnTo>
                  <a:lnTo>
                    <a:pt x="0" y="195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Freeform 28"/>
            <p:cNvSpPr/>
            <p:nvPr/>
          </p:nvSpPr>
          <p:spPr>
            <a:xfrm>
              <a:off x="3270240" y="3676680"/>
              <a:ext cx="149400" cy="405720"/>
            </a:xfrm>
            <a:custGeom>
              <a:avLst/>
              <a:gdLst/>
              <a:ahLst/>
              <a:rect l="l" t="t" r="r" b="b"/>
              <a:pathLst>
                <a:path w="94" h="227">
                  <a:moveTo>
                    <a:pt x="93" y="65"/>
                  </a:moveTo>
                  <a:lnTo>
                    <a:pt x="0" y="0"/>
                  </a:lnTo>
                  <a:lnTo>
                    <a:pt x="0" y="161"/>
                  </a:lnTo>
                  <a:lnTo>
                    <a:pt x="93" y="226"/>
                  </a:lnTo>
                  <a:lnTo>
                    <a:pt x="93" y="65"/>
                  </a:lnTo>
                </a:path>
              </a:pathLst>
            </a:custGeom>
            <a:solidFill>
              <a:srgbClr val="00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" name="Rectangle 29"/>
          <p:cNvSpPr/>
          <p:nvPr/>
        </p:nvSpPr>
        <p:spPr>
          <a:xfrm>
            <a:off x="2347920" y="1770120"/>
            <a:ext cx="211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5244120" y="5027760"/>
            <a:ext cx="114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2537280" y="495612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32"/>
          <p:cNvSpPr/>
          <p:nvPr/>
        </p:nvSpPr>
        <p:spPr>
          <a:xfrm>
            <a:off x="6537960" y="33559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lity</a:t>
            </a:r>
            <a:br>
              <a:rPr sz="4400"/>
            </a:b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(SWE- 26.1, 26.3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merican Heritage Dictio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fin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haracteristic or attribute of someth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oftware, two kinds of quality may be encountered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Quality of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compasses requirements, specifications, and the design of the syste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Quality of conform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issue focused primarily on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satisfaction = compliant product + good quality + delivery within budget and sche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Ashraf Youssef</cp:lastModifiedBy>
  <dcterms:modified xsi:type="dcterms:W3CDTF">2017-09-26T00:22:02Z</dcterms:modified>
  <cp:revision>117</cp:revision>
  <dc:subject/>
  <dc:title>Modern  Systems Analysis and Design  Joey F. George  Jeffrey A. Hoffer  Joseph S. Valacich</dc:title>
</cp:coreProperties>
</file>