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6175-E147-45A5-9F68-531020CC0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4943-755B-465B-BDD5-4FAA39A3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C516-3B78-4605-A8CA-755266A6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67D0-0580-4FDA-825C-143248EA9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9821-B6AA-448B-8960-D14126B5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AF4A-FEBB-4121-990B-2CD8F217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3971-F7ED-4CE5-8D32-55213C2D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7C28-0199-47D6-8F7C-4CACBDC6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5697-8B9C-4855-84FE-C85E1134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2F08-93B9-451D-B55D-32A1BF79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4EEA-FA21-4ECC-B2DB-D3A443A2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5479-2DBC-4794-A529-7C14B754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D7AB-B219-4F28-9AAB-0BF4806A5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نظم المعلومات الإدا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فصل الأ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اهية نظم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نواع نظم المعلوم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قرارا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غير هيك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نظام دعم القرارات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Support System (D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نظم الخبير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t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0000"/>
                </a:solidFill>
                <a:latin typeface="Arial"/>
              </a:rPr>
              <a:t>العلاقة بين نظام المعلومات و المستويات الإد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3"/>
          <p:cNvGraphicFramePr/>
          <p:nvPr/>
        </p:nvGraphicFramePr>
        <p:xfrm>
          <a:off x="2449440" y="1600200"/>
          <a:ext cx="42451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9440" y="1600200"/>
                    <a:ext cx="42451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0000"/>
                </a:solidFill>
                <a:latin typeface="Arial"/>
              </a:rPr>
              <a:t>التغيرات العالمية المؤثرة على أهمية نظم المعلوم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توجه نحو عولمة الإقتص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توجه نحو الإقتصاد القائم على خدمات المعلوم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ظهور شكل جديد من المنظم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عدد اقل من المستويات الإدا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لا مركز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الفصل بين القيام بالعمل و الموق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تقليل التكلفة باستخدام اجراءات آ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زيادة سرعة الإستجاب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تغيير العملية الإدا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أعادة تعريف حدود المنظ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نظم المعلومات و دورها في اتخاذ القرار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راحل اتخاذ القرار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إستخبار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تصم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رحلة الإختيار و التنفي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0000"/>
                </a:solidFill>
                <a:latin typeface="Arial"/>
              </a:rPr>
              <a:t>العلاقة بين مراحل اتخاذ القرارات و انواع المعلوم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1523880" y="1523880"/>
          <a:ext cx="597708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597708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درجة هيكلة القرار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قرارات هيك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قرارات غير هيك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أنواع نظم المعلوم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 algn="r" rtl="1">
              <a:spcBef>
                <a:spcPts val="499"/>
              </a:spcBef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2060"/>
                </a:solidFill>
                <a:latin typeface="Arial"/>
              </a:rPr>
              <a:t>نظم معالجة البيانات</a:t>
            </a:r>
            <a:r>
              <a:rPr b="1" lang="ar-SA" sz="20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وهي تحويل الأرقام والحروف بغرض زيادة منفعة استخدمها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i="1" lang="ar-SA" sz="2000" spc="-1" strike="noStrike">
                <a:solidFill>
                  <a:srgbClr val="002060"/>
                </a:solidFill>
                <a:latin typeface="Arial"/>
              </a:rPr>
              <a:t>نظم المعلومات الإداري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وتكون في شكل تقارير دورية يمكن للمديرين  استخدامها في اتخاذ القرارا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2060"/>
                </a:solidFill>
                <a:latin typeface="Arial"/>
              </a:rPr>
              <a:t>3</a:t>
            </a:r>
            <a:r>
              <a:rPr b="1" i="1" lang="ar-SA" sz="2000" spc="-1" strike="noStrike">
                <a:solidFill>
                  <a:srgbClr val="002060"/>
                </a:solidFill>
                <a:latin typeface="Arial"/>
              </a:rPr>
              <a:t>)نظم دعم القرار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وهي تلك النظم التي تساند المدير في حل المشاكل غير الهيكلي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2060"/>
                </a:solidFill>
                <a:latin typeface="Arial"/>
              </a:rPr>
              <a:t>4</a:t>
            </a:r>
            <a:r>
              <a:rPr b="1" i="1" lang="ar-SA" sz="2000" spc="-1" strike="noStrike">
                <a:solidFill>
                  <a:srgbClr val="002060"/>
                </a:solidFill>
                <a:latin typeface="Arial"/>
              </a:rPr>
              <a:t>)النظم الخبيرة والذكاء الاصطناعي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وهي تختص بالآلة وجعلها قادرة على ممارسة سلوك ويمكن  أن يوصف  بأنة ذكاء إذا قام به العنصر البشري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أهدا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عريف دور الحاسب في حيات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عريف نظم المعلومات الإدارية و مكونات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عريف أهمية نظم المعلومات الإدارية في المنظ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دور الحاسب في المنظم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حفظ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عالجة البيان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نظيم و عرض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شاركة الملف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وفير الوق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نظم المعلومات الإدا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ظام متكامل لكل من العنصر البشري و الآلة و الذي يهدف إلى تزويد المنظمة بالمعلومات اللازمة لتدعيم و استمرار العمليات العادية و اليومية للمشروع سواء كانت تلك المعلومات تتعلق بالعمليات الداخلية للمنظمة أو واجهات النظام مع البيئة الخارجية كما و تدعم هذا المعلومات عمليات اتخاذ القرار بمختلف مستويات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عناصر التعري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ظام متكامل من الآلة و العنصر البش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عمل النظام على تزويد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دعم النظام عملية اتخاذ القر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وجد النظام ضمن مشروع أو تنظ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ستخدام الحاس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جراءات معرفة للتعامل مع الحاس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ستخدام نماذج خاص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ستخدام قواعد البيان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228600" y="668160"/>
          <a:ext cx="861048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68160"/>
                    <a:ext cx="861048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ملامح الأساسية لنظم المعلوم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جود اجراءات محد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جود العنصر البش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جود فرق بين نظم المعلومات و الحاسب الآلي و برمجيا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هناك فرق بين البيانات و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جود برمجيات مختلفة لنظم المعلومات لتدعيم القرارات بمختلف اشكال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ظام المعلومات هو أحد النظم الفرعية في المنظ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نواع نظم المعلوم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قرارات الهيك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نظام معالجة التعاملات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action Processing System (T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نظام معالجة البيانات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Processing System (D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نواع نظم المعلوم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قرارا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شبه هيك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نظام المعلومات الإدارية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Information System (M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17:20:03Z</dcterms:created>
  <dc:creator>Qasem Kharma</dc:creator>
  <dc:description/>
  <dc:language>en-US</dc:language>
  <cp:lastModifiedBy>mashael</cp:lastModifiedBy>
  <dcterms:modified xsi:type="dcterms:W3CDTF">2012-09-10T07:04:55Z</dcterms:modified>
  <cp:revision>17</cp:revision>
  <dc:subject/>
  <dc:title>نظم المعلومات الإدارية</dc:title>
</cp:coreProperties>
</file>