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C05-2ECA-4886-8652-76DAD2D5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D26-4D75-4897-9936-5FCA9A0E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2F4C-2951-40B9-AB18-B7CE0A2E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8FC-5B12-4E00-99DF-68CF5A28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CB8-BD4A-4A07-BADB-4950DBBB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1B5-8E34-41DC-9FF6-6AE5D65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EA8-DDF7-4811-812A-5D1860FF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518-7B9D-4FEC-B012-165F345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A518-60E2-4379-87F2-E8557B92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C71-A481-4796-8FEE-2DBE047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42E8-6962-4316-9FC3-FD4F477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5347-3CE0-4B7C-BDB2-82CCBD8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5526-593E-45CB-ADCD-6B237984E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اهية نظم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دعم القرار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Support System (D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نظم الخبير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نظام المعلومات و المستوي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449440" y="1600200"/>
          <a:ext cx="4245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9440" y="1600200"/>
                    <a:ext cx="4245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غيرات العالمية المؤثرة على أهمية نظ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عولمة الإقتص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جه نحو الإقتصاد القائم على خدمات 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ظهور شكل جديد من المنظ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عدد اقل من المستويات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لا 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فصل بين القيام بالعمل و الموق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قليل التكلفة باستخدام اجراءات آ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زيادة سرعة الإستج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غيير العملية الإد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أعادة تعريف حدود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و دورها في اتخاذ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راحل اتخاذ القرا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إستخب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صم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رحلة الإختيار و التنفي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علاقة بين مراحل اتخاذ القرارات و انواع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523880" y="1523880"/>
          <a:ext cx="59770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770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رجة هيكلة القرار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رارات غير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r" rtl="1">
              <a:spcBef>
                <a:spcPts val="499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معالجة البيانات</a:t>
            </a:r>
            <a:r>
              <a:rPr b="1" lang="ar-SA" sz="20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حويل الأرقام والحروف بغرض زيادة منفعة استخدم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نظم المعلومات الإدار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تكون في شكل تقارير دورية يمكن للمديرين  استخدامها في اتخاذ القرارا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نظم دعم القرار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لك النظم التي تساند المدير في حل المشاكل غير الهيكل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1" i="1" lang="ar-SA" sz="2000" spc="-1" strike="noStrike">
                <a:solidFill>
                  <a:srgbClr val="002060"/>
                </a:solidFill>
                <a:latin typeface="Arial"/>
              </a:rPr>
              <a:t>)النظم الخبيرة والذكاء الاصطناع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هي تختص بالآلة وجعلها قادرة على ممارسة سلوك ويمكن  أن يوصف  بأنة ذكاء إذا قام به العنصر البشر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5088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دور الحاسب في حيات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نظم المعلومات الإدارية و مكون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عريف أهمية نظم المعلومات الإدار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ور الحاسب في المنظ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حفظ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الجة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ظيم و عرض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شاركة المل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لكل من العنصر البشري و الآلة و الذي يهدف إلى تزويد المنظمة بالمعلومات اللازمة لتدعيم و استمرار العمليات العادية و اليومية للمشروع سواء كانت تلك المعلومات تتعلق بالعمليات الداخلية للمنظمة أو واجهات النظام مع البيئة الخارجية كما و تدعم هذا المعلومات عمليات اتخاذ القرار بمختلف مستو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ناصر التعري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متكامل من الآلة و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عمل النظام على تزويد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دعم النظام عملية اتخاذ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وجد النظام ضمن مشروع أو 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جراءات معرفة للتعامل مع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نماذج خاص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ستخدام قواعد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28600" y="668160"/>
          <a:ext cx="861048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لامح الأساسية ل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جراءات 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العنصر البش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فرق بين نظم المعلومات و الحاسب الآلي و برمج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ناك فرق بين البيانات و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جود برمجيات مختلفة لنظم المعلومات لتدعيم القرارات بمختلف اشكا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ظام المعلومات هو أحد النظم الفرعية في المنظ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 ال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تعامل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Processing System (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معالجة البيانات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Processing System (D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نواع نظم المعلو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رارا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به هيك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ظام المعلومات الإداري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17:20:03Z</dcterms:created>
  <dc:creator>Qasem Kharma</dc:creator>
  <dc:description/>
  <dc:language>en-US</dc:language>
  <cp:lastModifiedBy>mashael</cp:lastModifiedBy>
  <dcterms:modified xsi:type="dcterms:W3CDTF">2012-09-10T07:04:55Z</dcterms:modified>
  <cp:revision>17</cp:revision>
  <dc:subject/>
  <dc:title>نظم المعلومات الإدارية</dc:title>
</cp:coreProperties>
</file>