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1AC-FA6A-463A-953B-501AB2F2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F04A-1D3E-4068-93E6-196EA24C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4F2-DCFE-4C63-8D72-82703E5B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D7B-913F-47B2-A1F2-1CF9EDC0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4CF-2349-4AC9-B13F-17C4C27A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13C2-7BDB-4C65-8B3F-CA1E9E82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8955-8275-4163-8E5E-B3B44ADC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F1BC-0D46-4839-A23A-76D9940B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3F02-B67A-4AF2-A5BA-CDD538EE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C6E-DD3B-4C3C-ADF6-A7C98FEE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89D5-D8D7-42FE-BDA0-6908CC36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129-9274-4EF1-8682-591CDF35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702F-C164-4F5F-8094-E9EF82B6C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89154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10: One- and Two-Sample Tests of Hypothe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14300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a population with some unknown parame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We are interested in testing (confirming or denying) some conjectures abou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For example, we might be interested in testing the conjecture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 given value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743200"/>
            <a:ext cx="8686800" cy="38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0.1-10.3: Introduction +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A statistical hypothesis is a conjecture concerning (or a statement about)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For example, 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n unknown parameter of the population, we may be interested in testing the conjecture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some specific val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We usually test the null hypo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ull Hypothe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ainst one of the following alternative hypothe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320" y="152280"/>
            <a:ext cx="891540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7: Single Sample: Tests on a Single Mean (Variance Unknow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 random sample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from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unknown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9000" y="2057400"/>
            <a:ext cx="4265280" cy="939960"/>
            <a:chOff x="459000" y="2057400"/>
            <a:chExt cx="4265280" cy="939960"/>
          </a:xfrm>
        </p:grpSpPr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1197000" y="2057400"/>
                  <a:ext cx="352728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t</m:t>
                      </m:r>
                      <m:r>
                        <m:t xml:space="preserve">(</m:t>
                      </m:r>
                      <m:r>
                        <m:t xml:space="preserve">ν</m:t>
                      </m:r>
                      <m:r>
                        <m:t xml:space="preserve">)</m:t>
                      </m:r>
                      <m:r>
                        <m:t xml:space="preserve">;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3" name=""/>
            <p:cNvSpPr/>
            <p:nvPr/>
          </p:nvSpPr>
          <p:spPr>
            <a:xfrm>
              <a:off x="459000" y="22860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560" y="3048120"/>
            <a:ext cx="4190760" cy="922320"/>
            <a:chOff x="457560" y="3048120"/>
            <a:chExt cx="4190760" cy="922320"/>
          </a:xfrm>
        </p:grpSpPr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185840" y="3048120"/>
                  <a:ext cx="346248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"/>
            <p:cNvSpPr/>
            <p:nvPr/>
          </p:nvSpPr>
          <p:spPr>
            <a:xfrm>
              <a:off x="457560" y="3276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560" y="4114800"/>
            <a:ext cx="3352320" cy="459720"/>
            <a:chOff x="457560" y="4114800"/>
            <a:chExt cx="3352320" cy="459720"/>
          </a:xfrm>
        </p:grpSpPr>
        <p:sp>
          <p:nvSpPr>
            <p:cNvPr id="138" name=""/>
            <p:cNvSpPr/>
            <p:nvPr/>
          </p:nvSpPr>
          <p:spPr>
            <a:xfrm>
              <a:off x="1371600" y="41148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Procedu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560" y="41148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4440" y="228600"/>
            <a:ext cx="166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pothe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152280"/>
            <a:ext cx="0" cy="647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228600"/>
            <a:ext cx="16002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28600"/>
            <a:ext cx="152388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152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152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289080"/>
            <a:ext cx="152388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&l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4479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st Statistic (T.S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22860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727360"/>
            <a:ext cx="19051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.R.and A.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f 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228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228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41148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0480" y="41911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78000" y="4191120"/>
            <a:ext cx="66610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jec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nd accep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t the significance leve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510552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18880" y="5213520"/>
            <a:ext cx="2397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&gt;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Sided T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5105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5105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5181480"/>
            <a:ext cx="2319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Sided T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5200" y="5181480"/>
            <a:ext cx="2399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&gt;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Sided T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962520" y="1420920"/>
                <a:ext cx="25905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 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4" name=""/>
          <p:cNvGraphicFramePr/>
          <p:nvPr/>
        </p:nvGraphicFramePr>
        <p:xfrm>
          <a:off x="2133720" y="2316240"/>
          <a:ext cx="2209680" cy="17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316240"/>
                    <a:ext cx="2209680" cy="17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419720" y="2332080"/>
          <a:ext cx="2209680" cy="163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32080"/>
                    <a:ext cx="220968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705720" y="2362320"/>
          <a:ext cx="2133360" cy="16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2362320"/>
                    <a:ext cx="21333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320" y="15228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random sample of 12 homes included in a planned study indicates that vacuum cleaners expend an average of 42 kilowatt-hours per year with a standard deviation of 11.9 kilowatt-hours, does this suggest at the 0.05 level of significance that the vacuum cleaners expend, on the average, less than 46 kilowatt-hours annually? Assume the population of kilowatt-hours to be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19160" y="3191040"/>
            <a:ext cx="6433920" cy="3583440"/>
            <a:chOff x="119160" y="3191040"/>
            <a:chExt cx="6433920" cy="3583440"/>
          </a:xfrm>
        </p:grpSpPr>
        <p:sp>
          <p:nvSpPr>
            <p:cNvPr id="172" name=""/>
            <p:cNvSpPr/>
            <p:nvPr/>
          </p:nvSpPr>
          <p:spPr>
            <a:xfrm>
              <a:off x="119160" y="3191040"/>
              <a:ext cx="6433920" cy="35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2,      =42, S=11.9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average (mean) kilowatt-hours annual expense of a vacuum clea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 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T.S. 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1219320" y="3581280"/>
                  <a:ext cx="32832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943600" y="3471840"/>
            <a:ext cx="28954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76320" y="235080"/>
            <a:ext cx="8915400" cy="3683520"/>
            <a:chOff x="76320" y="235080"/>
            <a:chExt cx="8915400" cy="3683520"/>
          </a:xfrm>
        </p:grpSpPr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33520" y="235080"/>
                  <a:ext cx="403848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4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9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7" name=""/>
            <p:cNvSpPr/>
            <p:nvPr/>
          </p:nvSpPr>
          <p:spPr>
            <a:xfrm>
              <a:off x="76320" y="1219320"/>
              <a:ext cx="8915400" cy="26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df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=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Garamond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0.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7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ce T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16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.R. (T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16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.R.), we do not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 (i.e,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6) and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 46. Therefore, we conclude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not less than 46 kilowatt-hou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6320" y="2286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8: Two Samples: Tests on Two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cal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For two independent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52640" y="1066680"/>
            <a:ext cx="6933960" cy="2057400"/>
            <a:chOff x="152640" y="1066680"/>
            <a:chExt cx="6933960" cy="2057400"/>
          </a:xfrm>
        </p:grpSpPr>
        <p:sp>
          <p:nvSpPr>
            <p:cNvPr id="180" name=""/>
            <p:cNvSpPr/>
            <p:nvPr/>
          </p:nvSpPr>
          <p:spPr>
            <a:xfrm>
              <a:off x="990720" y="109692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and       are known, then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1295280" y="10666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2435400" y="1066680"/>
                  <a:ext cx="4600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152640" y="11430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1295280" y="1619280"/>
                  <a:ext cx="4572000" cy="15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5" name=""/>
          <p:cNvGrpSpPr/>
          <p:nvPr/>
        </p:nvGrpSpPr>
        <p:grpSpPr>
          <a:xfrm>
            <a:off x="152640" y="3124080"/>
            <a:ext cx="8991360" cy="3581640"/>
            <a:chOff x="152640" y="3124080"/>
            <a:chExt cx="8991360" cy="3581640"/>
          </a:xfrm>
        </p:grpSpPr>
        <p:sp>
          <p:nvSpPr>
            <p:cNvPr id="186" name=""/>
            <p:cNvSpPr/>
            <p:nvPr/>
          </p:nvSpPr>
          <p:spPr>
            <a:xfrm>
              <a:off x="152640" y="32004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90720" y="320040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and       are unknown but      =      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136836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243828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525780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94036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1324080" y="3657600"/>
                  <a:ext cx="5533920" cy="148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t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3" name=""/>
            <p:cNvSpPr/>
            <p:nvPr/>
          </p:nvSpPr>
          <p:spPr>
            <a:xfrm>
              <a:off x="457920" y="5181480"/>
              <a:ext cx="44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the pooled estimat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295280" y="5643720"/>
                  <a:ext cx="4114800" cy="106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76320" y="76320"/>
            <a:ext cx="8305560" cy="2498760"/>
            <a:chOff x="76320" y="76320"/>
            <a:chExt cx="8305560" cy="2498760"/>
          </a:xfrm>
        </p:grpSpPr>
        <p:sp>
          <p:nvSpPr>
            <p:cNvPr id="196" name=""/>
            <p:cNvSpPr/>
            <p:nvPr/>
          </p:nvSpPr>
          <p:spPr>
            <a:xfrm>
              <a:off x="76320" y="88920"/>
              <a:ext cx="8305560" cy="24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degrees of freedom of      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, suppose we need to test the null hypothes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rally, suppose we need to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or some specific valu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ainst one of the following alternative hypothe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4343400" y="76320"/>
                  <a:ext cx="36684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"/>
          <p:cNvGrpSpPr/>
          <p:nvPr/>
        </p:nvGrpSpPr>
        <p:grpSpPr>
          <a:xfrm>
            <a:off x="2057400" y="2362320"/>
            <a:ext cx="3241440" cy="1374480"/>
            <a:chOff x="2057400" y="2362320"/>
            <a:chExt cx="3241440" cy="137448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670120" y="2449440"/>
                  <a:ext cx="343080" cy="12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00" name=""/>
            <p:cNvGrpSpPr/>
            <p:nvPr/>
          </p:nvGrpSpPr>
          <p:grpSpPr>
            <a:xfrm>
              <a:off x="2057400" y="2362320"/>
              <a:ext cx="3241440" cy="1374480"/>
              <a:chOff x="2057400" y="2362320"/>
              <a:chExt cx="3241440" cy="13744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57400" y="2362320"/>
                <a:ext cx="97236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H</a:t>
                </a:r>
                <a:r>
                  <a:rPr b="0" lang="en-US" sz="2400" spc="-1" strike="noStrike" baseline="-30000">
                    <a:solidFill>
                      <a:srgbClr val="3333cc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29760" y="2362320"/>
                <a:ext cx="226908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gt;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lt;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76320" y="1143000"/>
            <a:ext cx="8991000" cy="3886200"/>
            <a:chOff x="76320" y="1143000"/>
            <a:chExt cx="8991000" cy="3886200"/>
          </a:xfrm>
        </p:grpSpPr>
        <p:sp>
          <p:nvSpPr>
            <p:cNvPr id="204" name=""/>
            <p:cNvSpPr/>
            <p:nvPr/>
          </p:nvSpPr>
          <p:spPr>
            <a:xfrm>
              <a:off x="76320" y="1143000"/>
              <a:ext cx="8762760" cy="3886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8120" y="1219320"/>
              <a:ext cx="1660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81080" y="114300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57400" y="1219320"/>
              <a:ext cx="21330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43400" y="1219320"/>
              <a:ext cx="21330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g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7080" y="1143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53080" y="1143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5360" y="1219320"/>
              <a:ext cx="19810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l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2280" y="2438280"/>
              <a:ext cx="1828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Statistic (T.S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320" y="2362320"/>
              <a:ext cx="876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2128680" y="2405160"/>
                  <a:ext cx="3052440" cy="12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2095560" y="3733920"/>
                  <a:ext cx="3771360" cy="12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t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16" name=""/>
            <p:cNvGrpSpPr/>
            <p:nvPr/>
          </p:nvGrpSpPr>
          <p:grpSpPr>
            <a:xfrm>
              <a:off x="4952880" y="4327560"/>
              <a:ext cx="4114440" cy="475560"/>
              <a:chOff x="4952880" y="4327560"/>
              <a:chExt cx="4114440" cy="475560"/>
            </a:xfrm>
          </p:grpSpPr>
          <p:sp>
            <p:nvSpPr>
              <p:cNvPr id="217" name=""/>
              <p:cNvSpPr/>
              <p:nvPr/>
            </p:nvSpPr>
            <p:spPr>
              <a:xfrm>
                <a:off x="4952880" y="4343400"/>
                <a:ext cx="411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{if      =       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unknown}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8" name=""/>
                  <p:cNvSpPr txBox="1"/>
                  <p:nvPr/>
                </p:nvSpPr>
                <p:spPr>
                  <a:xfrm>
                    <a:off x="5382720" y="43275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9" name=""/>
                  <p:cNvSpPr txBox="1"/>
                  <p:nvPr/>
                </p:nvSpPr>
                <p:spPr>
                  <a:xfrm>
                    <a:off x="6171840" y="43275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20" name=""/>
            <p:cNvGrpSpPr/>
            <p:nvPr/>
          </p:nvGrpSpPr>
          <p:grpSpPr>
            <a:xfrm>
              <a:off x="5257800" y="2498760"/>
              <a:ext cx="3809520" cy="475560"/>
              <a:chOff x="5257800" y="2498760"/>
              <a:chExt cx="3809520" cy="475560"/>
            </a:xfrm>
          </p:grpSpPr>
          <p:sp>
            <p:nvSpPr>
              <p:cNvPr id="221" name=""/>
              <p:cNvSpPr/>
              <p:nvPr/>
            </p:nvSpPr>
            <p:spPr>
              <a:xfrm>
                <a:off x="5257800" y="2514600"/>
                <a:ext cx="380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{if       and      are known}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2" name=""/>
                  <p:cNvSpPr txBox="1"/>
                  <p:nvPr/>
                </p:nvSpPr>
                <p:spPr>
                  <a:xfrm>
                    <a:off x="5736960" y="24987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3" name=""/>
                  <p:cNvSpPr txBox="1"/>
                  <p:nvPr/>
                </p:nvSpPr>
                <p:spPr>
                  <a:xfrm>
                    <a:off x="6830640" y="24987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52280" y="457200"/>
            <a:ext cx="8839440" cy="5791320"/>
            <a:chOff x="152280" y="457200"/>
            <a:chExt cx="8839440" cy="5791320"/>
          </a:xfrm>
        </p:grpSpPr>
        <p:sp>
          <p:nvSpPr>
            <p:cNvPr id="225" name=""/>
            <p:cNvSpPr/>
            <p:nvPr/>
          </p:nvSpPr>
          <p:spPr>
            <a:xfrm>
              <a:off x="228600" y="594000"/>
              <a:ext cx="190512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and A.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19720" y="45720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45720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2280" y="4496040"/>
              <a:ext cx="883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0480" y="457200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78000" y="4496040"/>
              <a:ext cx="6661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t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280" y="5334120"/>
              <a:ext cx="883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2280" y="457200"/>
              <a:ext cx="8839440" cy="579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7400" y="457200"/>
              <a:ext cx="0" cy="57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4" name=""/>
            <p:cNvGraphicFramePr/>
            <p:nvPr/>
          </p:nvGraphicFramePr>
          <p:xfrm>
            <a:off x="2114640" y="519120"/>
            <a:ext cx="2228760" cy="169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14640" y="519120"/>
                      <a:ext cx="2228760" cy="16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"/>
            <p:cNvGraphicFramePr/>
            <p:nvPr/>
          </p:nvGraphicFramePr>
          <p:xfrm>
            <a:off x="4457880" y="533520"/>
            <a:ext cx="2171520" cy="1676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57880" y="533520"/>
                      <a:ext cx="217152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8" name=""/>
            <p:cNvGraphicFramePr/>
            <p:nvPr/>
          </p:nvGraphicFramePr>
          <p:xfrm>
            <a:off x="6858000" y="533520"/>
            <a:ext cx="2114640" cy="1673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0" y="533520"/>
                      <a:ext cx="2114640" cy="16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0" name=""/>
            <p:cNvGraphicFramePr/>
            <p:nvPr/>
          </p:nvGraphicFramePr>
          <p:xfrm>
            <a:off x="2124000" y="2748240"/>
            <a:ext cx="2219400" cy="1671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24000" y="2748240"/>
                      <a:ext cx="2219400" cy="167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"/>
            <p:cNvGraphicFramePr/>
            <p:nvPr/>
          </p:nvGraphicFramePr>
          <p:xfrm>
            <a:off x="4495680" y="2743200"/>
            <a:ext cx="2132280" cy="1676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95680" y="2743200"/>
                      <a:ext cx="213228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6858000" y="2743200"/>
            <a:ext cx="2133720" cy="1673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58000" y="2743200"/>
                      <a:ext cx="2133720" cy="16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>
              <a:off x="2133720" y="2210040"/>
              <a:ext cx="4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5680" y="221004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81680" y="221004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94840" y="5361120"/>
              <a:ext cx="2397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.S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.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wo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56440" y="5349960"/>
              <a:ext cx="239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.S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.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72240" y="5334120"/>
              <a:ext cx="231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.S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.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0572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6320" y="41904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10.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periment was performed to compare the abrasive wear of two different laminated materials. Twelve pieces of material 1 were tested by exposing each piece to a machine measuring wear. Teen pieces of material 2 were similarly tested. In each case, the depth of wear was observed. The samples of material 1 gave an average wear of 85 units with a sample standard deviation of 4, while the samples of materials 2 gave an average wear of 81 and a sample standard deviation of 5. Can we conclude at the 0.05 level of significance that the mean abrasive wear of material 1 exceeds that of material 2 by more than 2 units? Assume populations to be approximately normal with equal vari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112680" y="76320"/>
            <a:ext cx="8040600" cy="5975640"/>
            <a:chOff x="112680" y="76320"/>
            <a:chExt cx="8040600" cy="5975640"/>
          </a:xfrm>
        </p:grpSpPr>
        <p:sp>
          <p:nvSpPr>
            <p:cNvPr id="256" name=""/>
            <p:cNvSpPr/>
            <p:nvPr/>
          </p:nvSpPr>
          <p:spPr>
            <a:xfrm>
              <a:off x="112680" y="76320"/>
              <a:ext cx="3781800" cy="59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terial 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material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8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=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 equivalently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gt;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Calc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304920" y="1219320"/>
                  <a:ext cx="38556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2895480" y="1219320"/>
                  <a:ext cx="43344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228600" y="4876920"/>
                  <a:ext cx="79246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800600" y="768240"/>
            <a:ext cx="35812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371600" y="-76320"/>
            <a:ext cx="5257080" cy="1828800"/>
            <a:chOff x="1371600" y="-76320"/>
            <a:chExt cx="5257080" cy="1828800"/>
          </a:xfrm>
        </p:grpSpPr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981080" y="228600"/>
                  <a:ext cx="316080" cy="15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6" name=""/>
            <p:cNvGrpSpPr/>
            <p:nvPr/>
          </p:nvGrpSpPr>
          <p:grpSpPr>
            <a:xfrm>
              <a:off x="1371600" y="-76320"/>
              <a:ext cx="5257080" cy="1599840"/>
              <a:chOff x="1371600" y="-76320"/>
              <a:chExt cx="5257080" cy="1599840"/>
            </a:xfrm>
          </p:grpSpPr>
          <p:sp>
            <p:nvSpPr>
              <p:cNvPr id="47" name=""/>
              <p:cNvSpPr/>
              <p:nvPr/>
            </p:nvSpPr>
            <p:spPr>
              <a:xfrm>
                <a:off x="1371600" y="-76320"/>
                <a:ext cx="813960" cy="15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85560" y="-76320"/>
                <a:ext cx="1220760" cy="15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g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406320" y="-76320"/>
                <a:ext cx="3222360" cy="15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Alternative Hypo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r Research Hypothesi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" name=""/>
          <p:cNvSpPr/>
          <p:nvPr/>
        </p:nvSpPr>
        <p:spPr>
          <a:xfrm>
            <a:off x="22860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ituations in testing a statistical hypo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19320" y="2362320"/>
          <a:ext cx="6019560" cy="2298600"/>
        </p:xfrm>
        <a:graphic>
          <a:graphicData uri="http://schemas.openxmlformats.org/drawingml/2006/table">
            <a:tbl>
              <a:tblPr/>
              <a:tblGrid>
                <a:gridCol w="1752480"/>
                <a:gridCol w="2133720"/>
                <a:gridCol w="2133360"/>
              </a:tblGrid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is 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is 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Accepting 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Correct Deci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Type II err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Rejecting 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Type I err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Correct Deci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76320" y="4711680"/>
            <a:ext cx="769608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I error =  Rejec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en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II error = Accep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en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Type I error) = P(Rejec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|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rue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Type II error) = P(Accep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|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false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76320" y="371520"/>
            <a:ext cx="8915400" cy="3954960"/>
            <a:chOff x="76320" y="371520"/>
            <a:chExt cx="8915400" cy="3954960"/>
          </a:xfrm>
        </p:grpSpPr>
        <p:sp>
          <p:nvSpPr>
            <p:cNvPr id="262" name=""/>
            <p:cNvSpPr/>
            <p:nvPr/>
          </p:nvSpPr>
          <p:spPr>
            <a:xfrm>
              <a:off x="76320" y="371520"/>
              <a:ext cx="7696080" cy="17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.4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=12+10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= 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1.7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T.S.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609480" y="1908360"/>
                  <a:ext cx="5181840" cy="12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85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81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478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4" name=""/>
            <p:cNvSpPr/>
            <p:nvPr/>
          </p:nvSpPr>
          <p:spPr>
            <a:xfrm>
              <a:off x="76320" y="3003480"/>
              <a:ext cx="89154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nce T=1.04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.R. (T=1.04&lt; 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1.725), we accept (do not reject)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2 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320" y="1522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11 One Sample: Tests on a Single Propor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219320" y="762120"/>
          <a:ext cx="54864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54864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8" name=""/>
          <p:cNvGrpSpPr/>
          <p:nvPr/>
        </p:nvGrpSpPr>
        <p:grpSpPr>
          <a:xfrm>
            <a:off x="152640" y="2833560"/>
            <a:ext cx="8991360" cy="3948120"/>
            <a:chOff x="152640" y="2833560"/>
            <a:chExt cx="8991360" cy="3948120"/>
          </a:xfrm>
        </p:grpSpPr>
        <p:sp>
          <p:nvSpPr>
            <p:cNvPr id="269" name=""/>
            <p:cNvSpPr/>
            <p:nvPr/>
          </p:nvSpPr>
          <p:spPr>
            <a:xfrm>
              <a:off x="228600" y="283356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cal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Population proportion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p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1214280" y="3994200"/>
                  <a:ext cx="480564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ype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1" name=""/>
            <p:cNvSpPr/>
            <p:nvPr/>
          </p:nvSpPr>
          <p:spPr>
            <a:xfrm>
              <a:off x="152640" y="32004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2640" y="41911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43000" y="480060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sample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 the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Sample proportion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 the sampl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1219320" y="5486400"/>
                  <a:ext cx="3110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1600200" y="5931000"/>
                  <a:ext cx="657360" cy="85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154440" y="48006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640" y="51814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2640" y="5562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154440" y="152280"/>
            <a:ext cx="8303760" cy="1797120"/>
            <a:chOff x="154440" y="152280"/>
            <a:chExt cx="8303760" cy="1797120"/>
          </a:xfrm>
        </p:grpSpPr>
        <p:sp>
          <p:nvSpPr>
            <p:cNvPr id="280" name=""/>
            <p:cNvSpPr/>
            <p:nvPr/>
          </p:nvSpPr>
          <p:spPr>
            <a:xfrm>
              <a:off x="762120" y="15228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larg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hav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4440" y="1522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762120" y="685800"/>
                  <a:ext cx="2590560" cy="12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q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np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q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3" name=""/>
            <p:cNvSpPr/>
            <p:nvPr/>
          </p:nvSpPr>
          <p:spPr>
            <a:xfrm>
              <a:off x="3352680" y="83808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N(0,1)     (Approximately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152280" y="152280"/>
            <a:ext cx="8796600" cy="6688800"/>
            <a:chOff x="152280" y="152280"/>
            <a:chExt cx="8796600" cy="6688800"/>
          </a:xfrm>
        </p:grpSpPr>
        <p:sp>
          <p:nvSpPr>
            <p:cNvPr id="285" name=""/>
            <p:cNvSpPr/>
            <p:nvPr/>
          </p:nvSpPr>
          <p:spPr>
            <a:xfrm>
              <a:off x="152280" y="152280"/>
              <a:ext cx="8763120" cy="655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4440" y="228600"/>
              <a:ext cx="166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57400" y="152280"/>
              <a:ext cx="0" cy="64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228600"/>
              <a:ext cx="16002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48320" y="22860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g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43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29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62920" y="28908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l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8600" y="1447920"/>
              <a:ext cx="182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Statistic (T.S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2280" y="259092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2280" y="13716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8600" y="3032280"/>
              <a:ext cx="190512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and A.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43400" y="25909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29400" y="25909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2280" y="441972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0480" y="449568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78000" y="4495680"/>
              <a:ext cx="6661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t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2280" y="541008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18880" y="5518080"/>
              <a:ext cx="23979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wo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43400" y="5410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29400" y="5410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29400" y="5486400"/>
              <a:ext cx="23194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45920" y="5486400"/>
              <a:ext cx="231444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2743200" y="1413000"/>
                  <a:ext cx="2743200" cy="11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p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9" name=""/>
            <p:cNvSpPr/>
            <p:nvPr/>
          </p:nvSpPr>
          <p:spPr>
            <a:xfrm>
              <a:off x="5683320" y="1600200"/>
              <a:ext cx="2823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N(0,1) 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0" name=""/>
            <p:cNvGraphicFramePr/>
            <p:nvPr/>
          </p:nvGraphicFramePr>
          <p:xfrm>
            <a:off x="2057400" y="2666880"/>
            <a:ext cx="2209680" cy="1676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2666880"/>
                      <a:ext cx="220968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2" name=""/>
            <p:cNvGraphicFramePr/>
            <p:nvPr/>
          </p:nvGraphicFramePr>
          <p:xfrm>
            <a:off x="4343400" y="2666880"/>
            <a:ext cx="2209680" cy="1676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666880"/>
                      <a:ext cx="220968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4" name=""/>
            <p:cNvGraphicFramePr/>
            <p:nvPr/>
          </p:nvGraphicFramePr>
          <p:xfrm>
            <a:off x="6705720" y="2743200"/>
            <a:ext cx="2133360" cy="162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05720" y="2743200"/>
                      <a:ext cx="2133360" cy="162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52280"/>
            <a:ext cx="8839440" cy="6245640"/>
            <a:chOff x="152280" y="152280"/>
            <a:chExt cx="8839440" cy="6245640"/>
          </a:xfrm>
        </p:grpSpPr>
        <p:sp>
          <p:nvSpPr>
            <p:cNvPr id="54" name=""/>
            <p:cNvSpPr/>
            <p:nvPr/>
          </p:nvSpPr>
          <p:spPr>
            <a:xfrm>
              <a:off x="152280" y="152280"/>
              <a:ext cx="8839440" cy="45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level of significance of the tes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P(Type I error) = P(Rejec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|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One-sided alternative hypothes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wo-sided alternative hypothes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test procedure for rejec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ccep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or accep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rejec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involves the following step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4343400"/>
              <a:ext cx="8686800" cy="20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Determining a test statistic (T.S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Determining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    Determining the rejection region (R.R.) and the acceptance region (A.R.) of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 of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epends on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152280"/>
            <a:ext cx="73915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9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determines the direction of the R.R.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termines the size of the R.R.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6320" y="1066680"/>
            <a:ext cx="9067680" cy="3063960"/>
            <a:chOff x="76320" y="1066680"/>
            <a:chExt cx="9067680" cy="3063960"/>
          </a:xfrm>
        </p:grpSpPr>
        <p:graphicFrame>
          <p:nvGraphicFramePr>
            <p:cNvPr id="58" name=""/>
            <p:cNvGraphicFramePr/>
            <p:nvPr/>
          </p:nvGraphicFramePr>
          <p:xfrm>
            <a:off x="228600" y="1079640"/>
            <a:ext cx="2590920" cy="219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079640"/>
                      <a:ext cx="2590920" cy="21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3200400" y="1066680"/>
            <a:ext cx="2590920" cy="217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00400" y="1066680"/>
                      <a:ext cx="2590920" cy="217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6172200" y="1066680"/>
            <a:ext cx="2590920" cy="217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72200" y="1066680"/>
                      <a:ext cx="2590920" cy="217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>
              <a:off x="76320" y="3306600"/>
              <a:ext cx="2971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wo-sided alternative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24080" y="3306600"/>
              <a:ext cx="3048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alternative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5880" y="3276720"/>
              <a:ext cx="3048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alternative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28600" y="408636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   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rejec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ccep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if the value of the T.S. falls in the R.R.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, and vice ve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320" y="15228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5: Single Sample: Tests Concerning a Single Mean (Variance Know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 random sample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from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(known)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1752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33880" y="2133720"/>
            <a:ext cx="2599920" cy="519120"/>
            <a:chOff x="533880" y="2133720"/>
            <a:chExt cx="2599920" cy="51912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1219320" y="2209680"/>
                  <a:ext cx="1914480" cy="4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"/>
            <p:cNvSpPr/>
            <p:nvPr/>
          </p:nvSpPr>
          <p:spPr>
            <a:xfrm>
              <a:off x="533880" y="2133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33880" y="2590920"/>
            <a:ext cx="3047400" cy="823680"/>
            <a:chOff x="533880" y="2590920"/>
            <a:chExt cx="3047400" cy="823680"/>
          </a:xfrm>
        </p:grpSpPr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219320" y="2590920"/>
                  <a:ext cx="2361960" cy="8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5" name=""/>
            <p:cNvSpPr/>
            <p:nvPr/>
          </p:nvSpPr>
          <p:spPr>
            <a:xfrm>
              <a:off x="533880" y="27432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33880" y="3429000"/>
            <a:ext cx="4495320" cy="824040"/>
            <a:chOff x="533880" y="3429000"/>
            <a:chExt cx="4495320" cy="824040"/>
          </a:xfrm>
        </p:grpSpPr>
        <p:grpSp>
          <p:nvGrpSpPr>
            <p:cNvPr id="77" name=""/>
            <p:cNvGrpSpPr/>
            <p:nvPr/>
          </p:nvGrpSpPr>
          <p:grpSpPr>
            <a:xfrm>
              <a:off x="1143000" y="3429000"/>
              <a:ext cx="3886200" cy="824040"/>
              <a:chOff x="1143000" y="3429000"/>
              <a:chExt cx="3886200" cy="824040"/>
            </a:xfrm>
          </p:grpSpPr>
          <mc:AlternateContent>
            <mc:Choice xmlns:a14="http://schemas.microsoft.com/office/drawing/2010/main" Requires="a14">
              <p:sp>
                <p:nvSpPr>
                  <p:cNvPr id="78" name=""/>
                  <p:cNvSpPr txBox="1"/>
                  <p:nvPr/>
                </p:nvSpPr>
                <p:spPr>
                  <a:xfrm>
                    <a:off x="1143000" y="3429000"/>
                    <a:ext cx="1852560" cy="82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9" name=""/>
                  <p:cNvSpPr txBox="1"/>
                  <p:nvPr/>
                </p:nvSpPr>
                <p:spPr>
                  <a:xfrm>
                    <a:off x="3684600" y="3429000"/>
                    <a:ext cx="1344600" cy="80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0" name=""/>
              <p:cNvSpPr/>
              <p:nvPr/>
            </p:nvSpPr>
            <p:spPr>
              <a:xfrm>
                <a:off x="3124080" y="358164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533880" y="35812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33880" y="4343400"/>
            <a:ext cx="3123720" cy="459720"/>
            <a:chOff x="533880" y="4343400"/>
            <a:chExt cx="3123720" cy="459720"/>
          </a:xfrm>
        </p:grpSpPr>
        <p:sp>
          <p:nvSpPr>
            <p:cNvPr id="83" name=""/>
            <p:cNvSpPr/>
            <p:nvPr/>
          </p:nvSpPr>
          <p:spPr>
            <a:xfrm>
              <a:off x="1066680" y="43434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Procedure: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3880" y="43434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52280" y="152280"/>
            <a:ext cx="8796600" cy="6477120"/>
            <a:chOff x="152280" y="152280"/>
            <a:chExt cx="8796600" cy="6477120"/>
          </a:xfrm>
        </p:grpSpPr>
        <p:sp>
          <p:nvSpPr>
            <p:cNvPr id="86" name=""/>
            <p:cNvSpPr/>
            <p:nvPr/>
          </p:nvSpPr>
          <p:spPr>
            <a:xfrm>
              <a:off x="152280" y="152280"/>
              <a:ext cx="8763120" cy="647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4440" y="228600"/>
              <a:ext cx="166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7400" y="152280"/>
              <a:ext cx="0" cy="64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57400" y="228600"/>
              <a:ext cx="16002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48320" y="22860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43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29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62920" y="28908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600" y="1447920"/>
              <a:ext cx="182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Statistic (T.S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280" y="22860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2280" y="13716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3352680" y="1411200"/>
                  <a:ext cx="259092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>
              <a:off x="228600" y="2727360"/>
              <a:ext cx="190512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and A.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9" name=""/>
            <p:cNvGraphicFramePr/>
            <p:nvPr/>
          </p:nvGraphicFramePr>
          <p:xfrm>
            <a:off x="2085840" y="2325600"/>
            <a:ext cx="2257560" cy="171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85840" y="2325600"/>
                      <a:ext cx="2257560" cy="17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4343400" y="22860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4381560" y="2333520"/>
            <a:ext cx="2247840" cy="165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81560" y="2333520"/>
                      <a:ext cx="224784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6705720" y="2365200"/>
            <a:ext cx="2133360" cy="1673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05720" y="2365200"/>
                      <a:ext cx="2133360" cy="16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6629400" y="22860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280" y="41148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0480" y="419112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78000" y="4191120"/>
              <a:ext cx="6661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t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280" y="510552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18880" y="5213520"/>
              <a:ext cx="23979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wo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3400" y="51055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29400" y="51055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29400" y="5181480"/>
              <a:ext cx="23194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5920" y="5181480"/>
              <a:ext cx="231444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320" y="1522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andom sample of 100 recorded deaths in the United States during the past year showed an average of 71.8 years. Assuming a population standard deviation of 8.9 year, does this seem to indicate that the mean life span today is greater than 70 years? Use a 0.05 level of signific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6320" y="2433600"/>
            <a:ext cx="6095880" cy="3890880"/>
            <a:chOff x="76320" y="2433600"/>
            <a:chExt cx="6095880" cy="3890880"/>
          </a:xfrm>
        </p:grpSpPr>
        <p:sp>
          <p:nvSpPr>
            <p:cNvPr id="118" name=""/>
            <p:cNvSpPr/>
            <p:nvPr/>
          </p:nvSpPr>
          <p:spPr>
            <a:xfrm>
              <a:off x="76320" y="2433600"/>
              <a:ext cx="6095880" cy="35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00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71.8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8.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average (mean) life sp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gt; 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T.S.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1676520" y="2814480"/>
                  <a:ext cx="3808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838080" y="5405400"/>
                  <a:ext cx="426744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</m:num>
                        <m:den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9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0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86400" y="2970360"/>
            <a:ext cx="312408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320" y="152280"/>
            <a:ext cx="891540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Level of signific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.R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.6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&gt; 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.6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ce Z=2.0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.R., i.e., Z=2.02&gt;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rejec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05 and accep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70. Therefore, we conclude that the mean life span today is greater than 70 year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0080" y="3581280"/>
            <a:ext cx="889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anufacturer of sports equipment has developed a new synthetic fishing line that he claims has a mean breaking strength of 8 kilograms with a standard deviation of 0.5 kilograms. Test the hypothesis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8 kg against the alternative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kg if a random sample of 50 lines is tested and found to have a  mean breaking strength of 7.8 kg. Use a 0.01 level of signific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76320" y="142920"/>
            <a:ext cx="8915400" cy="6460560"/>
            <a:chOff x="76320" y="142920"/>
            <a:chExt cx="8915400" cy="6460560"/>
          </a:xfrm>
        </p:grpSpPr>
        <p:sp>
          <p:nvSpPr>
            <p:cNvPr id="125" name=""/>
            <p:cNvSpPr/>
            <p:nvPr/>
          </p:nvSpPr>
          <p:spPr>
            <a:xfrm>
              <a:off x="135000" y="142920"/>
              <a:ext cx="5732280" cy="39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0,       =7.8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5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1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 = 0.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mean breaking str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.S.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990720" y="3352680"/>
                  <a:ext cx="411480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0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1447920" y="509760"/>
                  <a:ext cx="328320" cy="3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76320" y="4483080"/>
              <a:ext cx="8915400" cy="21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2.575 and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5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nce Z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83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, i.e., Z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83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1 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8. Therefore, we conclude that the claim is not correc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57800" y="241200"/>
            <a:ext cx="35812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0:00Z</dcterms:created>
  <dc:creator> </dc:creator>
  <dc:description/>
  <dc:language>en-US</dc:language>
  <cp:lastModifiedBy> </cp:lastModifiedBy>
  <dcterms:modified xsi:type="dcterms:W3CDTF">2004-08-01T22:20:34Z</dcterms:modified>
  <cp:revision>6</cp:revision>
  <dc:subject/>
  <dc:title>عرض تقديمي من PowerPoint</dc:title>
</cp:coreProperties>
</file>