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CBD-074A-4EBF-99F5-7FCBE600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765-7C69-4790-8B5B-34DEEE5B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154-063C-4D4A-9238-390F6C05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C33-66C7-4EAC-B5E6-538AFA20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4D9-ECBB-430B-9DED-C0A78E2C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7C0-5F4B-498D-B008-E7237B1F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F4A-9B8A-4D4A-98B9-2CA1976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7BF-6FBB-4558-9554-6CAE5258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66E-3DB7-4CD0-AF1B-D75EB5C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BDA-6D08-408B-BBCE-6A3BB84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8A8-3792-462A-83CA-D06B9CD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A27-C69D-49C5-BE7C-F03B5BB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FBD-1EE0-4439-9B97-EBD5DA7AD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uilder claims that heat pumps are installed in 70% of all homes being constructed today in the city of Richmond. Would you agree with this claim if a random survey of new homes in the city shows that 8 out of 15 homes had heat pumps installed? Use a 0.10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589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Proportion of homes with heat pumps installed in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o. of homes with heat pumps installed in the sample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roportion of homes with heat pumps installe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8760" y="4056120"/>
                <a:ext cx="29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419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3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0"/>
            <a:ext cx="8686800" cy="6921000"/>
            <a:chOff x="76320" y="0"/>
            <a:chExt cx="8686800" cy="6921000"/>
          </a:xfrm>
        </p:grpSpPr>
        <p:sp>
          <p:nvSpPr>
            <p:cNvPr id="47" name=""/>
            <p:cNvSpPr/>
            <p:nvPr/>
          </p:nvSpPr>
          <p:spPr>
            <a:xfrm>
              <a:off x="165960" y="0"/>
              <a:ext cx="380196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0.7    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evel of signific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" y="2286000"/>
                  <a:ext cx="43434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3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06360" y="3276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57200" y="3740040"/>
                  <a:ext cx="52959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76320" y="4800600"/>
              <a:ext cx="86868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.6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7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.7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1. Therefore, we agree with the clai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0" y="60948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10.12 Two Samples: Tests o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143000"/>
            <a:ext cx="6248520" cy="4800600"/>
            <a:chOff x="1066680" y="1143000"/>
            <a:chExt cx="6248520" cy="4800600"/>
          </a:xfrm>
        </p:grpSpPr>
        <p:graphicFrame>
          <p:nvGraphicFramePr>
            <p:cNvPr id="55" name=""/>
            <p:cNvGraphicFramePr/>
            <p:nvPr/>
          </p:nvGraphicFramePr>
          <p:xfrm>
            <a:off x="1066680" y="1143000"/>
            <a:ext cx="6172200" cy="240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61722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1066680" y="3505320"/>
            <a:ext cx="6248520" cy="24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505320"/>
                      <a:ext cx="62485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624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3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378000"/>
            <a:ext cx="8915400" cy="5413320"/>
            <a:chOff x="76320" y="378000"/>
            <a:chExt cx="8915400" cy="5413320"/>
          </a:xfrm>
        </p:grpSpPr>
        <p:sp>
          <p:nvSpPr>
            <p:cNvPr id="62" name=""/>
            <p:cNvSpPr/>
            <p:nvPr/>
          </p:nvSpPr>
          <p:spPr>
            <a:xfrm>
              <a:off x="76320" y="378000"/>
              <a:ext cx="891540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457200" y="4121280"/>
                  <a:ext cx="10666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480" y="428940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4289400"/>
              <a:ext cx="44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1-st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57200" y="4899240"/>
                  <a:ext cx="121932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1681560" y="50515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0" y="512784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38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08000"/>
            <a:ext cx="9067680" cy="2635200"/>
            <a:chOff x="76320" y="108000"/>
            <a:chExt cx="9067680" cy="2635200"/>
          </a:xfrm>
        </p:grpSpPr>
        <p:sp>
          <p:nvSpPr>
            <p:cNvPr id="71" name=""/>
            <p:cNvSpPr/>
            <p:nvPr/>
          </p:nvSpPr>
          <p:spPr>
            <a:xfrm>
              <a:off x="76320" y="108000"/>
              <a:ext cx="906768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33520" y="1371600"/>
                  <a:ext cx="337644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4005360" y="1523880"/>
              <a:ext cx="37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 N(0,1)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8120" y="2743200"/>
            <a:ext cx="3620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we need to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9880" y="2743200"/>
            <a:ext cx="2743200" cy="1687680"/>
            <a:chOff x="3809880" y="2743200"/>
            <a:chExt cx="2743200" cy="168768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4343400" y="3135240"/>
                  <a:ext cx="3110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"/>
            <p:cNvGrpSpPr/>
            <p:nvPr/>
          </p:nvGrpSpPr>
          <p:grpSpPr>
            <a:xfrm>
              <a:off x="3809880" y="2743200"/>
              <a:ext cx="2743200" cy="1374840"/>
              <a:chOff x="3809880" y="2743200"/>
              <a:chExt cx="2743200" cy="1374840"/>
            </a:xfrm>
          </p:grpSpPr>
          <p:sp>
            <p:nvSpPr>
              <p:cNvPr id="78" name=""/>
              <p:cNvSpPr/>
              <p:nvPr/>
            </p:nvSpPr>
            <p:spPr>
              <a:xfrm>
                <a:off x="3809880" y="2743200"/>
                <a:ext cx="6858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95680" y="2743200"/>
                <a:ext cx="20574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122040" y="4419720"/>
            <a:ext cx="2382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9880" y="4721400"/>
            <a:ext cx="2743200" cy="1374480"/>
            <a:chOff x="3809880" y="4721400"/>
            <a:chExt cx="2743200" cy="13744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378320" y="4732200"/>
                  <a:ext cx="311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"/>
            <p:cNvGrpSpPr/>
            <p:nvPr/>
          </p:nvGrpSpPr>
          <p:grpSpPr>
            <a:xfrm>
              <a:off x="3809880" y="4721400"/>
              <a:ext cx="2743200" cy="1374480"/>
              <a:chOff x="3809880" y="4721400"/>
              <a:chExt cx="2743200" cy="13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3809880" y="4721400"/>
                <a:ext cx="6858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5680" y="4721400"/>
                <a:ext cx="20574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840" y="152280"/>
            <a:ext cx="90201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under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ooled estimate of the propor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866880"/>
            <a:ext cx="4038480" cy="961920"/>
            <a:chOff x="990720" y="866880"/>
            <a:chExt cx="4038480" cy="9619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90720" y="866880"/>
                  <a:ext cx="190476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740040" y="1095480"/>
                  <a:ext cx="1289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121680" y="1828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(T.S.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62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286000"/>
                <a:ext cx="2438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31520" y="2438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N(0,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22:21:57Z</dcterms:created>
  <dc:creator> </dc:creator>
  <dc:description/>
  <dc:language>en-US</dc:language>
  <cp:lastModifiedBy> </cp:lastModifiedBy>
  <dcterms:modified xsi:type="dcterms:W3CDTF">2004-08-01T22:48:05Z</dcterms:modified>
  <cp:revision>2</cp:revision>
  <dc:subject/>
  <dc:title>عرض تقديمي من PowerPoint</dc:title>
</cp:coreProperties>
</file>