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5DCF7-1575-49DA-9163-3412DDB8AE4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969A4-F4EC-44CC-ADD8-3061AABA2C2A}" type="slidenum">
              <a:rPr b="0" lang="en-A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E7D39-1487-4904-943E-123C757F619E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C758A-DAF2-4349-A75F-AA9E8D1EF792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7C86B-95B3-4FB6-A16E-67636F1977C5}" type="slidenum">
              <a:rPr b="0" lang="en-A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8F600-FEC9-4DE4-A8D3-6093EA91D34B}" type="slidenum">
              <a:rPr b="0" lang="en-A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4EBA1-3292-4A66-8F63-5F257FC788C7}" type="slidenum">
              <a:rPr b="0" lang="en-A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9D44F-34F4-41AC-9F07-B2E89E9EB761}" type="slidenum">
              <a:rPr b="0" lang="en-A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4E0858-EF1B-4FDF-8BCA-8F7E00E8205D}" type="slidenum">
              <a:rPr b="0" lang="en-A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9AF89-16F6-493D-AC3A-1B3E942ED0DF}" type="slidenum">
              <a:rPr b="0" lang="en-A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FC39B2-0037-415E-BE89-36E69FE380C0}" type="slidenum">
              <a:rPr b="0" lang="en-A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352F8-89D7-4ABC-A85E-C9C60CE0E7B3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92FFBE-1894-45EB-A580-A7C0AD14A4AD}" type="slidenum">
              <a:rPr b="0" lang="en-A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C008B-D9CF-477D-B215-173E18C1E5B2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54918-3970-423C-8A33-2FEDA564069C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9D1F3-1B75-46FC-8489-5B3777D0E847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EFD26-D498-431F-B5CC-C13F51D21C00}" type="slidenum">
              <a:rPr b="0" lang="en-A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645E0-621E-4E25-9239-AED0311D8D2F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24E85-E2E9-4A24-B478-CF2D05DFA9AB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E1C8F-570E-4737-B5B9-B75525150DC7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F5AC6-877F-4F91-9BFB-3267F425F1B6}" type="slidenum">
              <a:rPr b="0" lang="en-A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579EC7-CF50-4BA4-B094-357D580D358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E87275-BFC7-42CD-AF26-21F708B73AA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327A81-C822-42D8-85A1-8CD259170E6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82EE2B-59F7-4039-AC48-7009897F716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2E014F-4091-43AD-B162-4F5CA9888E2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1CFEFA-F1D5-4D1C-8AE6-DBD2C03B929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83CD81-AD08-405B-A00C-9F8AC5AB926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7F9C98-5B89-4E6D-A64A-674630AA769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53C6A6-A8C2-4ECB-9F67-B18258105A9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F3CA2-E475-49C0-BD13-A57CCB0A6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F069A-6D2B-4B12-A665-965D4213D8B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479F8-3595-4522-9B6B-6AFE544D3B0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C522F-95E0-4A75-A5C1-BE6E3895069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9F0DE-E326-4C6D-9E50-EB5378132A1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59125-A474-48F5-AAEC-2B653E63672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0E111-DE25-47FA-9617-4C69D559A5E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D612D-D562-430B-A68D-5909D324BFF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A0C85-C423-490D-BB97-97B60CB3451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4E8D3-AD69-474A-8AC4-2893C08468E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FB83D-C32C-401C-B961-568D9C37E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76DE7-533F-44B9-99BF-7E47FFEE9C7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FB6B44-6CBE-466A-9750-10BAD15F4A0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B2199C-1B42-4215-84DF-83125D1C89D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F54455-0422-4714-AB57-44EA0937C96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A4E5FB-0294-4E76-8DD6-A115AC08E0D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4CD9CB-BC11-4B12-B038-50C5A5DB666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A3106A-0C91-48F9-906E-842809E0F2E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5510F8-7C97-4219-9C5D-FD0452362D3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4AC3AC-44A3-435B-B86C-22600FB4A5A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28145B-ECCF-4EBA-94D6-9116F7951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C1EE1-B2E8-4204-9DFE-86BC7EAA50A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B9295A-ACCA-4704-80A9-2F101E1C873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837C1E-7A9C-41B2-951D-6E91F1BF0EE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5A894C-5393-4C9D-9E1C-DC91010CDC7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819FFD-5977-454D-A0E9-38C0E6A6F52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C04975-AB42-48D1-BD92-A70932E26B1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1F9B47-765E-4BD9-A825-C08C4473371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ACE607-EF31-4E3F-82B3-F49762F45D0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4A6061-74ED-4DD0-8244-96FDC1796B9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50C064-B08F-4FED-8A01-57A582A8035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16E0C5-E451-4E4C-A764-F491B22F49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33B14-599E-44E4-8059-E591C55A59C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E92A99-2777-4B0F-B041-4B58A8BDC12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B1CB8B-E1A4-44B0-8DF1-F8C90AD73E7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160206-72E4-482D-AD3F-BD44A99076F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A7C4F0-D0F3-4585-A897-B6FF698EB7C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9EFC21-17BB-494A-A9F7-C3AC383E31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6B97D-C37C-4222-A14B-9C34C73B96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A63B6-464D-4115-8034-C9774B8187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F9ED3-BCA6-4FB2-8734-5D080DC4F0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4157B-11F8-48FE-8B86-56BE20831E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ED273-2CDF-470D-B1BA-F4CA66B87C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F8C75-AFA7-4452-9369-2954140D2F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37567-20BF-447C-B1F8-B2E851CA41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0174B-880B-4F79-BA28-323AF492AE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4976C-9912-4EA9-843D-FA59FD2E53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27BC0-453C-4378-932B-D1785C7473B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D9B33-71D4-48AD-9F68-47C00EFC26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237EF-D0C8-4978-AC5B-69C7D52D70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A57BC-779E-4893-B6D1-99BC49D834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39F3C-5612-4879-BCD2-D992FE3720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DC6B1-774B-424F-BCC6-18B1E52D18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E379B-4F8F-4AE0-9320-1431840E00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C5488-0653-4088-9DF9-66A8AA41B2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FA888-C60D-4E19-BA21-0C87F9E000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8FDFF-23C3-4BCD-827F-E561E37B16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C3CF6-EDF6-4AFB-B4EF-DE47C66516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037D2-A652-4CB5-B15D-09C3DC140A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95626-20B1-4F0C-8150-EA11AA71ABD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4106-3884-4DE4-98FC-9C09A3451C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8CFA-8749-4A87-B618-4D7C4790F04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309E-259F-4B19-9469-608D363AC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93A8-D314-4393-8FF2-DC822FCCDA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8360-A102-4032-B4E8-ECC87EF6EEE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1582-D44C-4324-9733-79CBFE9139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5D0D-A852-49EF-B8AC-148C5E9491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E981-0ED7-4F69-BBC7-4D2755E4585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1ABF-F3D7-4292-8421-80A077C36CE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3D97-AFCD-4D22-A80E-A0D3B9D537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0CEC-26EF-4394-8592-368DED04A2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1FF4-A9E3-4A8A-BBB2-7330F9F88FB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A6069-36B9-4F2D-9AF3-584DC00EF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6C41E-8F99-4F3B-B452-5A0273239DD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F1D33-BC5A-4E21-881B-99B64F558AC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BCE5E-2688-4431-8A20-73BC7D60675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DD13A-6B6C-444E-8769-AAAA339C98F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E2661-7320-4A9E-B3F2-12B30FF97CA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9699D0-CA84-42CA-A288-A26763A0A8F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B6895-FF93-4ADE-8DC1-661DAD2F697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00A89-62B5-43F3-B002-D3BE46E8EF4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926FAC-98F7-43FE-8E4E-6F628C0BE44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1B57F-5B9D-42D2-AAE5-2A1F1E3C8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50ADC-F614-42E9-A2C5-6CBE3775C24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DFAA91-EBC4-4A0B-AF22-8B6F038DF61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D045EF-EAF9-4E86-B256-7DAAA5C59D4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C50B77-31ED-466A-9239-13FB598E48A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76748B-2D15-49E4-82F8-BEE73369032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64A560-5EF4-4F76-AA31-7DD1FE12B59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0424E9-7356-4F74-BE6B-C55B6376155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56FE13-45DE-46A1-A7D2-84C6EF8673B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32256F-509C-4357-9D7B-49E6A9EAEA4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FC1784-66C8-409B-8B6C-37AA632C4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47A706-6DEA-40DB-80B8-775F8583028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142A15-64C4-4FC2-8350-CD2102D10FE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F656E1-396B-4039-8C24-32C4A61A3DE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0F843-4559-4FC4-B466-90450B55A27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C04B6-B626-43BF-B9EE-ED70B125315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025AA-D57C-4B56-87D9-3022836D163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852DE-3530-4071-B23A-C703E56B981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1820B-A3FA-4114-87E5-43A4C870E88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7E301-CFDD-4D79-B1C3-29853AFC769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DE37C-C19B-4AF1-9952-FBDFCF944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CFD1C-4A3E-4053-B18C-2B75D523EEB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E2683-3DB4-4FB5-AB34-F5CCD252C1F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13ECB-FB56-474F-97D2-75DEE23DCAE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79E3F-AABA-439E-BC26-A70F633FA91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E8A9F-9E14-4CC4-8A00-E9ADFF8527D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755B0-A08F-4063-A034-C35C0F67451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9054C3-E4BD-464D-BBEF-8E85C04126B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32E05F-7A4A-4ADD-8EFF-42AD95FCB0B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68B8B1-ECDC-42E6-BEFD-457D4D97450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D62C3A-3205-4AF2-85B1-9C73994F8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8F6A13-36DC-46B8-928E-1BACBB472B9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5F627C-B904-40B8-AADA-C228B4C491A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6647A3-6302-4A73-87CF-C4A541B72A9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4342EC-EF87-4E2F-AF43-5734A9DD4DF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6DE80B-FE59-47BD-B6EC-B063551D988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E18E75-AD11-476D-9347-B8B3D61E14E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D27C75-0651-4B77-AEF5-567E338DEAE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AD0817-9ABE-40BB-9CA8-0F60DF53B90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C54559-A251-48DF-B175-E9D4D35FF83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E25E47-3488-401D-BBA3-0E13E65FD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  <a:ea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8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12 - </a:t>
            </a:r>
            <a:fld id="{7CADB651-0BE8-4D7C-AA75-0A230C446D1B}" type="slidenum"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12 - </a:t>
            </a:r>
            <a:fld id="{278770F6-A793-4AC6-90ED-E5A7D177561E}" type="slidenum"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  <a:ea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4311C-6FD7-44CE-8D28-A30236437958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12 - </a:t>
            </a:r>
            <a:fld id="{8B4137A2-2174-4313-9137-54374FAE0965}" type="slidenum"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  <a:ea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2C12C-4764-46C6-B748-F6C41387344B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12 - </a:t>
            </a:r>
            <a:fld id="{458DDA20-C8F5-442C-81A9-0ACCFC0CAB0D}" type="slidenum"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  <a:ea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C821EC-68F5-4BF0-B741-ACED3DB12C1C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12 - </a:t>
            </a:r>
            <a:fld id="{EF0935E3-8348-4935-84C3-A9CE6626BE17}" type="slidenum"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  <a:ea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8C59E-8FED-4197-9141-6510E8C0AC44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12 - </a:t>
            </a:r>
            <a:fld id="{77D6066B-072E-4A79-8BF7-6B227D2F2CF6}" type="slidenum"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  <a:ea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F14F8-C826-4139-90FE-6B24992F9505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12 - </a:t>
            </a:r>
            <a:fld id="{43FDBA99-348F-4220-AA6A-A619D5D6E00D}" type="slidenum"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  <a:ea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39B935-0751-4525-8FE1-C2539BE999EE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12 - </a:t>
            </a:r>
            <a:fld id="{FAEC5992-F2C2-4D01-9EEF-5C2264F4F75F}" type="slidenum"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  <a:ea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D47800-4D46-495C-B1EE-A321898AA5C3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12 - </a:t>
            </a:r>
            <a:fld id="{7F03A366-F8C5-4E77-AFC5-39827E8F2BAD}" type="slidenum"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  <a:ea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A5C777-EA45-4C27-B8BF-690B7F790F88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12 - </a:t>
            </a:r>
            <a:fld id="{2330569E-7FB2-475F-A33F-D4F7018045D9}" type="slidenum"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  <a:ea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46FF2-40E9-4A85-9766-41C6051D8BC8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12 - </a:t>
            </a:r>
            <a:fld id="{9DD1B840-5517-4714-A6EB-41A734858E30}" type="slidenum"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  <a:ea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1FB73-1F72-417C-97C3-A1B9AB636472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12 - </a:t>
            </a:r>
            <a:fld id="{93CBDC62-2BD9-4DB4-8904-934BBA595B60}" type="slidenum"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  <a:ea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1832A9-77E5-46DB-83B4-D5898FCF6585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© 2011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0" y="0"/>
            <a:ext cx="9144000" cy="2239920"/>
          </a:xfrm>
          <a:prstGeom prst="rect">
            <a:avLst/>
          </a:prstGeom>
          <a:solidFill>
            <a:srgbClr val="c00a26"/>
          </a:solidFill>
          <a:ln w="0">
            <a:noFill/>
          </a:ln>
          <a:effectLst>
            <a:outerShdw dist="76320" dir="54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2120" y="282240"/>
            <a:ext cx="186696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d4d4d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530440" y="258840"/>
            <a:ext cx="460872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Supply-Chain Manag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Part 3 title art"/>
          <p:cNvPicPr/>
          <p:nvPr/>
        </p:nvPicPr>
        <p:blipFill>
          <a:blip r:embed="rId1"/>
          <a:stretch/>
        </p:blipFill>
        <p:spPr>
          <a:xfrm>
            <a:off x="2324160" y="1069920"/>
            <a:ext cx="6475320" cy="539136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646200" y="3389040"/>
            <a:ext cx="5037120" cy="18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PowerPoint presentation to accomp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Heizer and Re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Operations Management, 10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Principles of Operations Management, 8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7777"/>
                </a:solidFill>
                <a:latin typeface="Arial"/>
                <a:ea typeface="ＭＳ Ｐゴシック"/>
              </a:rPr>
              <a:t>PowerPoint slides by Jeff Hey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 11.1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czka-Trent Shipping is the logistics vendor for Handfield Manufacturing Co, in Ohio. Handfield has daily shipments of a power-steering pump from its Ohio plant to an auto assembly line in Alabama. The value of the standard shipment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250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Monczka-Trent has two options: (1) its standard 2-day shipment or (2) a subcontractor who will team drive overnight with an effective delivery of 1 day. The extra driver cos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7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Handfields's holding cost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nually for this kind of inven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Which option is most economic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) What production issues are not included in the data presented abo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 11.1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671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 Daily holding cost = (Annual holding cost  Cost)/Days in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.35  $250,000)/365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239.7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 in cost per day between shipping options = $17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daily holding cost ($239.73) is more tha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st of faster shipping ($175), use the fast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ontr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 Implications of added in-transit time to the production process: potential delay in activity for which the component is destined (new product development, quality test, the production process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© 2011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23600" y="523440"/>
            <a:ext cx="77216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ing Supply-Chain Perform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708840" y="2071800"/>
            <a:ext cx="66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8200" indent="-538200">
              <a:buClr>
                <a:srgbClr val="bf0922"/>
              </a:buClr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ts committed to inven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4"/>
          <p:cNvGrpSpPr/>
          <p:nvPr/>
        </p:nvGrpSpPr>
        <p:grpSpPr>
          <a:xfrm>
            <a:off x="1619280" y="2900520"/>
            <a:ext cx="5930640" cy="1321920"/>
            <a:chOff x="1619280" y="2900520"/>
            <a:chExt cx="5930640" cy="1321920"/>
          </a:xfrm>
        </p:grpSpPr>
        <p:sp>
          <p:nvSpPr>
            <p:cNvPr id="560" name="Text Box 5"/>
            <p:cNvSpPr/>
            <p:nvPr/>
          </p:nvSpPr>
          <p:spPr>
            <a:xfrm>
              <a:off x="1619280" y="3011400"/>
              <a:ext cx="19508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cent invested in invent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6"/>
            <p:cNvSpPr/>
            <p:nvPr/>
          </p:nvSpPr>
          <p:spPr>
            <a:xfrm>
              <a:off x="3527280" y="3331800"/>
              <a:ext cx="402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=                                  x 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7"/>
            <p:cNvGrpSpPr/>
            <p:nvPr/>
          </p:nvGrpSpPr>
          <p:grpSpPr>
            <a:xfrm>
              <a:off x="3976560" y="2900520"/>
              <a:ext cx="2543760" cy="1321920"/>
              <a:chOff x="3976560" y="2900520"/>
              <a:chExt cx="2543760" cy="1321920"/>
            </a:xfrm>
          </p:grpSpPr>
          <p:sp>
            <p:nvSpPr>
              <p:cNvPr id="563" name="Text Box 8"/>
              <p:cNvSpPr/>
              <p:nvPr/>
            </p:nvSpPr>
            <p:spPr>
              <a:xfrm>
                <a:off x="3976560" y="2950920"/>
                <a:ext cx="2522160" cy="127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otal inventory investm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otal asset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9"/>
              <p:cNvSpPr/>
              <p:nvPr/>
            </p:nvSpPr>
            <p:spPr>
              <a:xfrm>
                <a:off x="4098240" y="3742920"/>
                <a:ext cx="2279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AutoShape 10"/>
              <p:cNvSpPr/>
              <p:nvPr/>
            </p:nvSpPr>
            <p:spPr>
              <a:xfrm>
                <a:off x="3980880" y="2900520"/>
                <a:ext cx="2539440" cy="1320480"/>
              </a:xfrm>
              <a:prstGeom prst="bracketPair">
                <a:avLst>
                  <a:gd name="adj" fmla="val 17129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6" name="Text Box 11"/>
          <p:cNvSpPr/>
          <p:nvPr/>
        </p:nvSpPr>
        <p:spPr>
          <a:xfrm>
            <a:off x="923040" y="4591080"/>
            <a:ext cx="569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estment in inventory = $11.4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assets = $44.4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414000" y="5638680"/>
            <a:ext cx="83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cent invested in inventory = (11.4/44.4) x 100 = 25.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© 2011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23600" y="523440"/>
            <a:ext cx="77216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ing Supply-Chain Perform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7557840" y="591192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11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4"/>
          <p:cNvGrpSpPr/>
          <p:nvPr/>
        </p:nvGrpSpPr>
        <p:grpSpPr>
          <a:xfrm>
            <a:off x="1881720" y="2098800"/>
            <a:ext cx="5382000" cy="4029120"/>
            <a:chOff x="1881720" y="2098800"/>
            <a:chExt cx="5382000" cy="4029120"/>
          </a:xfrm>
        </p:grpSpPr>
        <p:sp>
          <p:nvSpPr>
            <p:cNvPr id="572" name="Text Box 5"/>
            <p:cNvSpPr/>
            <p:nvPr/>
          </p:nvSpPr>
          <p:spPr>
            <a:xfrm>
              <a:off x="1881720" y="2098800"/>
              <a:ext cx="538200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62080" indent="-262080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r" pos="430992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ventory as a % of Total Assets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with exceptional performanc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r" pos="430992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nufacturin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5%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Toyota 5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r" pos="430992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holesal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34%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Coca-Cola 2.9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r" pos="430992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staurant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2.9%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cDonald’s .05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r" pos="430992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tail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27%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Home Depot 25.7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6"/>
            <p:cNvSpPr/>
            <p:nvPr/>
          </p:nvSpPr>
          <p:spPr>
            <a:xfrm>
              <a:off x="2046240" y="2903400"/>
              <a:ext cx="5037120" cy="0"/>
            </a:xfrm>
            <a:prstGeom prst="line">
              <a:avLst/>
            </a:prstGeom>
            <a:ln w="57240">
              <a:solidFill>
                <a:srgbClr val="bf09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7"/>
            <p:cNvSpPr/>
            <p:nvPr/>
          </p:nvSpPr>
          <p:spPr>
            <a:xfrm>
              <a:off x="2046240" y="6127920"/>
              <a:ext cx="5037120" cy="0"/>
            </a:xfrm>
            <a:prstGeom prst="line">
              <a:avLst/>
            </a:prstGeom>
            <a:ln w="57240">
              <a:solidFill>
                <a:srgbClr val="bf09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© 2011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23600" y="523440"/>
            <a:ext cx="77216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ing Supply-Chain Perform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708120" y="2300400"/>
            <a:ext cx="422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bf0922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entory turn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4"/>
          <p:cNvGrpSpPr/>
          <p:nvPr/>
        </p:nvGrpSpPr>
        <p:grpSpPr>
          <a:xfrm>
            <a:off x="1905120" y="3129120"/>
            <a:ext cx="5340240" cy="1322280"/>
            <a:chOff x="1905120" y="3129120"/>
            <a:chExt cx="5340240" cy="1322280"/>
          </a:xfrm>
        </p:grpSpPr>
        <p:sp>
          <p:nvSpPr>
            <p:cNvPr id="579" name="Text Box 5"/>
            <p:cNvSpPr/>
            <p:nvPr/>
          </p:nvSpPr>
          <p:spPr>
            <a:xfrm>
              <a:off x="1905120" y="3411360"/>
              <a:ext cx="19512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ventory turn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6"/>
            <p:cNvSpPr/>
            <p:nvPr/>
          </p:nvSpPr>
          <p:spPr>
            <a:xfrm>
              <a:off x="3695760" y="3560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7"/>
            <p:cNvSpPr/>
            <p:nvPr/>
          </p:nvSpPr>
          <p:spPr>
            <a:xfrm>
              <a:off x="4133880" y="3179880"/>
              <a:ext cx="3030840" cy="12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st of goods sol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ventory invest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8"/>
            <p:cNvSpPr/>
            <p:nvPr/>
          </p:nvSpPr>
          <p:spPr>
            <a:xfrm>
              <a:off x="4256280" y="3657600"/>
              <a:ext cx="286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9"/>
            <p:cNvSpPr/>
            <p:nvPr/>
          </p:nvSpPr>
          <p:spPr>
            <a:xfrm>
              <a:off x="4138920" y="3129120"/>
              <a:ext cx="3106440" cy="132048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© 2011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23600" y="523440"/>
            <a:ext cx="77216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ing Supply-Chain Perform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6962400" y="582444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11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693720" y="2360520"/>
            <a:ext cx="7800840" cy="2909880"/>
            <a:chOff x="693720" y="2360520"/>
            <a:chExt cx="7800840" cy="2909880"/>
          </a:xfrm>
        </p:grpSpPr>
        <p:sp>
          <p:nvSpPr>
            <p:cNvPr id="588" name="Text Box 5"/>
            <p:cNvSpPr/>
            <p:nvPr/>
          </p:nvSpPr>
          <p:spPr>
            <a:xfrm>
              <a:off x="1618560" y="2360520"/>
              <a:ext cx="595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amples of Annual Inventory Turn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" name="Group 6"/>
            <p:cNvGrpSpPr/>
            <p:nvPr/>
          </p:nvGrpSpPr>
          <p:grpSpPr>
            <a:xfrm>
              <a:off x="693720" y="2846520"/>
              <a:ext cx="7800840" cy="2423880"/>
              <a:chOff x="693720" y="2846520"/>
              <a:chExt cx="7800840" cy="2423880"/>
            </a:xfrm>
          </p:grpSpPr>
          <p:sp>
            <p:nvSpPr>
              <p:cNvPr id="590" name="Text Box 7"/>
              <p:cNvSpPr/>
              <p:nvPr/>
            </p:nvSpPr>
            <p:spPr>
              <a:xfrm>
                <a:off x="693720" y="2887560"/>
                <a:ext cx="7800840" cy="23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r" pos="3222720"/>
                    <a:tab algn="l" pos="3948120"/>
                    <a:tab algn="r" pos="762012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Food, Beverage, Retail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anufactur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r" pos="3222720"/>
                    <a:tab algn="l" pos="3948120"/>
                    <a:tab algn="r" pos="762012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nheuser Busch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ell Computer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9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r" pos="3222720"/>
                    <a:tab algn="l" pos="3948120"/>
                    <a:tab algn="r" pos="762012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oca-Col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Johnson Control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2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r" pos="3222720"/>
                    <a:tab algn="l" pos="3948120"/>
                    <a:tab algn="r" pos="762012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ome Depo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oyota (overall)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r" pos="3222720"/>
                    <a:tab algn="l" pos="3948120"/>
                    <a:tab algn="r" pos="762012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cDonald’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1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issan (assembly)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5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Line 8"/>
              <p:cNvSpPr/>
              <p:nvPr/>
            </p:nvSpPr>
            <p:spPr>
              <a:xfrm>
                <a:off x="735120" y="2846520"/>
                <a:ext cx="7707240" cy="0"/>
              </a:xfrm>
              <a:prstGeom prst="line">
                <a:avLst/>
              </a:prstGeom>
              <a:ln w="57240">
                <a:solidFill>
                  <a:srgbClr val="bf09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Line 9"/>
              <p:cNvSpPr/>
              <p:nvPr/>
            </p:nvSpPr>
            <p:spPr>
              <a:xfrm>
                <a:off x="735120" y="3351240"/>
                <a:ext cx="7707240" cy="0"/>
              </a:xfrm>
              <a:prstGeom prst="line">
                <a:avLst/>
              </a:prstGeom>
              <a:ln w="28440">
                <a:solidFill>
                  <a:srgbClr val="bf09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Line 10"/>
              <p:cNvSpPr/>
              <p:nvPr/>
            </p:nvSpPr>
            <p:spPr>
              <a:xfrm>
                <a:off x="735120" y="5270400"/>
                <a:ext cx="7707240" cy="0"/>
              </a:xfrm>
              <a:prstGeom prst="line">
                <a:avLst/>
              </a:prstGeom>
              <a:ln w="57240">
                <a:solidFill>
                  <a:srgbClr val="bf09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Line 11"/>
            <p:cNvSpPr/>
            <p:nvPr/>
          </p:nvSpPr>
          <p:spPr>
            <a:xfrm>
              <a:off x="4457880" y="2844720"/>
              <a:ext cx="0" cy="2424240"/>
            </a:xfrm>
            <a:prstGeom prst="line">
              <a:avLst/>
            </a:prstGeom>
            <a:ln w="57240">
              <a:solidFill>
                <a:srgbClr val="bf09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© 2011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23600" y="523440"/>
            <a:ext cx="77216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ing Supply-Chain Perform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794160" y="1973160"/>
            <a:ext cx="37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bf0922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entory turn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4"/>
          <p:cNvGrpSpPr/>
          <p:nvPr/>
        </p:nvGrpSpPr>
        <p:grpSpPr>
          <a:xfrm>
            <a:off x="1073160" y="2792520"/>
            <a:ext cx="6975000" cy="2682720"/>
            <a:chOff x="1073160" y="2792520"/>
            <a:chExt cx="6975000" cy="2682720"/>
          </a:xfrm>
        </p:grpSpPr>
        <p:sp>
          <p:nvSpPr>
            <p:cNvPr id="599" name="Text Box 5"/>
            <p:cNvSpPr/>
            <p:nvPr/>
          </p:nvSpPr>
          <p:spPr>
            <a:xfrm>
              <a:off x="1115640" y="2792520"/>
              <a:ext cx="69325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363600"/>
                  <a:tab algn="r" pos="5195880"/>
                  <a:tab algn="r" pos="654516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et revenu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$32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63600"/>
                  <a:tab algn="r" pos="5195880"/>
                  <a:tab algn="r" pos="654516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st of goods sol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$14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63600"/>
                  <a:tab algn="r" pos="5195880"/>
                  <a:tab algn="r" pos="654516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ventor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63600"/>
                  <a:tab algn="r" pos="5195880"/>
                  <a:tab algn="r" pos="654516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w material inventory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$.7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63600"/>
                  <a:tab algn="r" pos="5195880"/>
                  <a:tab algn="r" pos="654516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ork-in-process inventory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$.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63600"/>
                  <a:tab algn="r" pos="5195880"/>
                  <a:tab algn="r" pos="654516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inished goods inventory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$.8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63600"/>
                  <a:tab algn="r" pos="5195880"/>
                  <a:tab algn="r" pos="654516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tal inventory investmen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$1.6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6"/>
            <p:cNvSpPr/>
            <p:nvPr/>
          </p:nvSpPr>
          <p:spPr>
            <a:xfrm>
              <a:off x="1073160" y="2813040"/>
              <a:ext cx="6908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7"/>
            <p:cNvSpPr/>
            <p:nvPr/>
          </p:nvSpPr>
          <p:spPr>
            <a:xfrm>
              <a:off x="1073160" y="5475240"/>
              <a:ext cx="6908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© 2011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23600" y="523440"/>
            <a:ext cx="77216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ing Supply-Chain Perform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3"/>
          <p:cNvGrpSpPr/>
          <p:nvPr/>
        </p:nvGrpSpPr>
        <p:grpSpPr>
          <a:xfrm>
            <a:off x="794160" y="1973160"/>
            <a:ext cx="7254000" cy="3502080"/>
            <a:chOff x="794160" y="1973160"/>
            <a:chExt cx="7254000" cy="3502080"/>
          </a:xfrm>
        </p:grpSpPr>
        <p:sp>
          <p:nvSpPr>
            <p:cNvPr id="605" name="Text Box 4"/>
            <p:cNvSpPr/>
            <p:nvPr/>
          </p:nvSpPr>
          <p:spPr>
            <a:xfrm>
              <a:off x="794160" y="1973160"/>
              <a:ext cx="37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49280" indent="-449280">
                <a:buClr>
                  <a:srgbClr val="bf0922"/>
                </a:buClr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ventory turnov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Group 5"/>
            <p:cNvGrpSpPr/>
            <p:nvPr/>
          </p:nvGrpSpPr>
          <p:grpSpPr>
            <a:xfrm>
              <a:off x="1073160" y="2792520"/>
              <a:ext cx="6975000" cy="2682720"/>
              <a:chOff x="1073160" y="2792520"/>
              <a:chExt cx="6975000" cy="2682720"/>
            </a:xfrm>
          </p:grpSpPr>
          <p:sp>
            <p:nvSpPr>
              <p:cNvPr id="607" name="Text Box 6"/>
              <p:cNvSpPr/>
              <p:nvPr/>
            </p:nvSpPr>
            <p:spPr>
              <a:xfrm>
                <a:off x="1115640" y="2792520"/>
                <a:ext cx="6932520" cy="26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et revenu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$32.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ost of goods sold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$14.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nventory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aw material inventory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$.7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ork-in-process inventory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$.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Finished goods inventory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$.8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otal inventory investmen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$1.6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7"/>
              <p:cNvSpPr/>
              <p:nvPr/>
            </p:nvSpPr>
            <p:spPr>
              <a:xfrm>
                <a:off x="1073160" y="2813040"/>
                <a:ext cx="6908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Line 8"/>
              <p:cNvSpPr/>
              <p:nvPr/>
            </p:nvSpPr>
            <p:spPr>
              <a:xfrm>
                <a:off x="1073160" y="5475240"/>
                <a:ext cx="6908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0" name="Rectangle 9"/>
          <p:cNvSpPr/>
          <p:nvPr/>
        </p:nvSpPr>
        <p:spPr>
          <a:xfrm>
            <a:off x="652320" y="2496960"/>
            <a:ext cx="7837560" cy="2627640"/>
          </a:xfrm>
          <a:prstGeom prst="rect">
            <a:avLst/>
          </a:prstGeom>
          <a:solidFill>
            <a:srgbClr val="d333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0"/>
          <p:cNvGrpSpPr/>
          <p:nvPr/>
        </p:nvGrpSpPr>
        <p:grpSpPr>
          <a:xfrm>
            <a:off x="1248480" y="2971800"/>
            <a:ext cx="6493680" cy="977760"/>
            <a:chOff x="1248480" y="2971800"/>
            <a:chExt cx="6493680" cy="977760"/>
          </a:xfrm>
        </p:grpSpPr>
        <p:sp>
          <p:nvSpPr>
            <p:cNvPr id="612" name="Text Box 11"/>
            <p:cNvSpPr/>
            <p:nvPr/>
          </p:nvSpPr>
          <p:spPr>
            <a:xfrm>
              <a:off x="1248480" y="3259080"/>
              <a:ext cx="322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ventory turnover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12"/>
            <p:cNvGrpSpPr/>
            <p:nvPr/>
          </p:nvGrpSpPr>
          <p:grpSpPr>
            <a:xfrm>
              <a:off x="4411440" y="2971800"/>
              <a:ext cx="3330720" cy="977760"/>
              <a:chOff x="4411440" y="2971800"/>
              <a:chExt cx="3330720" cy="977760"/>
            </a:xfrm>
          </p:grpSpPr>
          <p:sp>
            <p:nvSpPr>
              <p:cNvPr id="614" name="Text Box 13"/>
              <p:cNvSpPr/>
              <p:nvPr/>
            </p:nvSpPr>
            <p:spPr>
              <a:xfrm>
                <a:off x="4411440" y="2971800"/>
                <a:ext cx="3246840" cy="9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ost of goods sol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1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nventory investm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14"/>
              <p:cNvSpPr/>
              <p:nvPr/>
            </p:nvSpPr>
            <p:spPr>
              <a:xfrm>
                <a:off x="4491000" y="3488040"/>
                <a:ext cx="3251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Text Box 15"/>
          <p:cNvSpPr/>
          <p:nvPr/>
        </p:nvSpPr>
        <p:spPr>
          <a:xfrm>
            <a:off x="4029120" y="4133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14.2 / 1.69 = 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© 2011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23600" y="523440"/>
            <a:ext cx="77216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ing Supply-Chain Perform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3"/>
          <p:cNvGrpSpPr/>
          <p:nvPr/>
        </p:nvGrpSpPr>
        <p:grpSpPr>
          <a:xfrm>
            <a:off x="796320" y="1973160"/>
            <a:ext cx="7251840" cy="3502080"/>
            <a:chOff x="796320" y="1973160"/>
            <a:chExt cx="7251840" cy="3502080"/>
          </a:xfrm>
        </p:grpSpPr>
        <p:sp>
          <p:nvSpPr>
            <p:cNvPr id="620" name="Text Box 4"/>
            <p:cNvSpPr/>
            <p:nvPr/>
          </p:nvSpPr>
          <p:spPr>
            <a:xfrm>
              <a:off x="796320" y="1973160"/>
              <a:ext cx="37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49280" indent="-449280">
                <a:buClr>
                  <a:srgbClr val="bf0922"/>
                </a:buClr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ventory turnov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" name="Group 5"/>
            <p:cNvGrpSpPr/>
            <p:nvPr/>
          </p:nvGrpSpPr>
          <p:grpSpPr>
            <a:xfrm>
              <a:off x="1073160" y="2792520"/>
              <a:ext cx="6975000" cy="2682720"/>
              <a:chOff x="1073160" y="2792520"/>
              <a:chExt cx="6975000" cy="2682720"/>
            </a:xfrm>
          </p:grpSpPr>
          <p:sp>
            <p:nvSpPr>
              <p:cNvPr id="622" name="Text Box 6"/>
              <p:cNvSpPr/>
              <p:nvPr/>
            </p:nvSpPr>
            <p:spPr>
              <a:xfrm>
                <a:off x="1115640" y="2792520"/>
                <a:ext cx="6932520" cy="26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et revenu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$32.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ost of goods sold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$14.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nventory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aw material inventory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$.7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ork-in-process inventory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$.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Finished goods inventory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$.8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otal inventory investmen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$1.6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7"/>
              <p:cNvSpPr/>
              <p:nvPr/>
            </p:nvSpPr>
            <p:spPr>
              <a:xfrm>
                <a:off x="1073160" y="2813040"/>
                <a:ext cx="6908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8"/>
              <p:cNvSpPr/>
              <p:nvPr/>
            </p:nvSpPr>
            <p:spPr>
              <a:xfrm>
                <a:off x="1073160" y="5475240"/>
                <a:ext cx="6908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5" name="Group 9"/>
          <p:cNvGrpSpPr/>
          <p:nvPr/>
        </p:nvGrpSpPr>
        <p:grpSpPr>
          <a:xfrm>
            <a:off x="652320" y="2496960"/>
            <a:ext cx="7837560" cy="2627280"/>
            <a:chOff x="652320" y="2496960"/>
            <a:chExt cx="7837560" cy="2627280"/>
          </a:xfrm>
        </p:grpSpPr>
        <p:sp>
          <p:nvSpPr>
            <p:cNvPr id="626" name="Rectangle 10"/>
            <p:cNvSpPr/>
            <p:nvPr/>
          </p:nvSpPr>
          <p:spPr>
            <a:xfrm>
              <a:off x="652320" y="2496960"/>
              <a:ext cx="7837560" cy="2627280"/>
            </a:xfrm>
            <a:prstGeom prst="rect">
              <a:avLst/>
            </a:prstGeom>
            <a:solidFill>
              <a:srgbClr val="d3332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11"/>
            <p:cNvGrpSpPr/>
            <p:nvPr/>
          </p:nvGrpSpPr>
          <p:grpSpPr>
            <a:xfrm>
              <a:off x="1247760" y="2971440"/>
              <a:ext cx="6494400" cy="977760"/>
              <a:chOff x="1247760" y="2971440"/>
              <a:chExt cx="6494400" cy="977760"/>
            </a:xfrm>
          </p:grpSpPr>
          <p:sp>
            <p:nvSpPr>
              <p:cNvPr id="628" name="Text Box 12"/>
              <p:cNvSpPr/>
              <p:nvPr/>
            </p:nvSpPr>
            <p:spPr>
              <a:xfrm>
                <a:off x="1247760" y="3258720"/>
                <a:ext cx="322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nventory turnover =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9" name="Group 13"/>
              <p:cNvGrpSpPr/>
              <p:nvPr/>
            </p:nvGrpSpPr>
            <p:grpSpPr>
              <a:xfrm>
                <a:off x="4411440" y="2971440"/>
                <a:ext cx="3330720" cy="977760"/>
                <a:chOff x="4411440" y="2971440"/>
                <a:chExt cx="3330720" cy="977760"/>
              </a:xfrm>
            </p:grpSpPr>
            <p:sp>
              <p:nvSpPr>
                <p:cNvPr id="630" name="Text Box 14"/>
                <p:cNvSpPr/>
                <p:nvPr/>
              </p:nvSpPr>
              <p:spPr>
                <a:xfrm>
                  <a:off x="4411440" y="2971440"/>
                  <a:ext cx="3246840" cy="9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1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Cost of goods sol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1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Inventory investmen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5"/>
                <p:cNvSpPr/>
                <p:nvPr/>
              </p:nvSpPr>
              <p:spPr>
                <a:xfrm>
                  <a:off x="4491000" y="3487680"/>
                  <a:ext cx="325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2" name="Text Box 16"/>
            <p:cNvSpPr/>
            <p:nvPr/>
          </p:nvSpPr>
          <p:spPr>
            <a:xfrm>
              <a:off x="4027680" y="4133520"/>
              <a:ext cx="265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= 14.2 / 1.69 = 8.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Rectangle 17"/>
          <p:cNvSpPr/>
          <p:nvPr/>
        </p:nvSpPr>
        <p:spPr>
          <a:xfrm>
            <a:off x="419040" y="2874960"/>
            <a:ext cx="8591760" cy="3484440"/>
          </a:xfrm>
          <a:prstGeom prst="rect">
            <a:avLst/>
          </a:prstGeom>
          <a:solidFill>
            <a:srgbClr val="9fa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oup 18"/>
          <p:cNvGrpSpPr/>
          <p:nvPr/>
        </p:nvGrpSpPr>
        <p:grpSpPr>
          <a:xfrm>
            <a:off x="1212840" y="4176720"/>
            <a:ext cx="6669000" cy="1233360"/>
            <a:chOff x="1212840" y="4176720"/>
            <a:chExt cx="6669000" cy="1233360"/>
          </a:xfrm>
        </p:grpSpPr>
        <p:sp>
          <p:nvSpPr>
            <p:cNvPr id="635" name="Text Box 19"/>
            <p:cNvSpPr/>
            <p:nvPr/>
          </p:nvSpPr>
          <p:spPr>
            <a:xfrm>
              <a:off x="1212840" y="4406760"/>
              <a:ext cx="28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eeks of supply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Group 20"/>
            <p:cNvGrpSpPr/>
            <p:nvPr/>
          </p:nvGrpSpPr>
          <p:grpSpPr>
            <a:xfrm>
              <a:off x="4084560" y="4176720"/>
              <a:ext cx="3797280" cy="1233360"/>
              <a:chOff x="4084560" y="4176720"/>
              <a:chExt cx="3797280" cy="1233360"/>
            </a:xfrm>
          </p:grpSpPr>
          <p:sp>
            <p:nvSpPr>
              <p:cNvPr id="637" name="Text Box 21"/>
              <p:cNvSpPr/>
              <p:nvPr/>
            </p:nvSpPr>
            <p:spPr>
              <a:xfrm>
                <a:off x="4084560" y="4176720"/>
                <a:ext cx="3797280" cy="123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nventory investm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verage weekly cost of goods sol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22"/>
              <p:cNvSpPr/>
              <p:nvPr/>
            </p:nvSpPr>
            <p:spPr>
              <a:xfrm>
                <a:off x="4105080" y="4637160"/>
                <a:ext cx="375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9" name="Text Box 23"/>
          <p:cNvSpPr/>
          <p:nvPr/>
        </p:nvSpPr>
        <p:spPr>
          <a:xfrm>
            <a:off x="3706200" y="556416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1.69 / .273 = 6.19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4"/>
          <p:cNvGrpSpPr/>
          <p:nvPr/>
        </p:nvGrpSpPr>
        <p:grpSpPr>
          <a:xfrm>
            <a:off x="1697040" y="3216240"/>
            <a:ext cx="5916600" cy="752040"/>
            <a:chOff x="1697040" y="3216240"/>
            <a:chExt cx="5916600" cy="752040"/>
          </a:xfrm>
        </p:grpSpPr>
        <p:sp>
          <p:nvSpPr>
            <p:cNvPr id="641" name="Text Box 25"/>
            <p:cNvSpPr/>
            <p:nvPr/>
          </p:nvSpPr>
          <p:spPr>
            <a:xfrm>
              <a:off x="1697040" y="3216240"/>
              <a:ext cx="29239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verage weekly cost of goods sol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26"/>
            <p:cNvSpPr/>
            <p:nvPr/>
          </p:nvSpPr>
          <p:spPr>
            <a:xfrm>
              <a:off x="4701960" y="3362400"/>
              <a:ext cx="291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= $14.2 / 52 = $.2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 11.1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ow Distributing Corp. likes to track inventory by using weeks of supply as well as by inventory turn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What is its weeks of supp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What percent of Arrow's assets are committed to inven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What is Arrow's inventory turno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Object 2" descr=""/>
          <p:cNvPicPr/>
          <p:nvPr/>
        </p:nvPicPr>
        <p:blipFill>
          <a:blip r:embed="rId1"/>
          <a:stretch/>
        </p:blipFill>
        <p:spPr>
          <a:xfrm>
            <a:off x="1855800" y="4500720"/>
            <a:ext cx="5151600" cy="174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© 2011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5839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ly Chain Economic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861840" y="1779480"/>
            <a:ext cx="7418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bf0922"/>
                </a:solidFill>
                <a:latin typeface="Arial"/>
              </a:rPr>
              <a:t>Dollars of additional sales needed to equal $1 saved through the supply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4"/>
          <p:cNvGrpSpPr/>
          <p:nvPr/>
        </p:nvGrpSpPr>
        <p:grpSpPr>
          <a:xfrm>
            <a:off x="876240" y="3073320"/>
            <a:ext cx="7832880" cy="2590920"/>
            <a:chOff x="876240" y="3073320"/>
            <a:chExt cx="7832880" cy="2590920"/>
          </a:xfrm>
        </p:grpSpPr>
        <p:sp>
          <p:nvSpPr>
            <p:cNvPr id="519" name="Rectangle 5"/>
            <p:cNvSpPr/>
            <p:nvPr/>
          </p:nvSpPr>
          <p:spPr>
            <a:xfrm>
              <a:off x="3146400" y="3135240"/>
              <a:ext cx="50864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cent of Sales Spent in the Supply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6"/>
            <p:cNvSpPr/>
            <p:nvPr/>
          </p:nvSpPr>
          <p:spPr>
            <a:xfrm>
              <a:off x="876240" y="3479760"/>
              <a:ext cx="783288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ctr" pos="1054080"/>
                  <a:tab algn="ctr" pos="2336760"/>
                  <a:tab algn="ctr" pos="3135240"/>
                  <a:tab algn="ctr" pos="3948120"/>
                  <a:tab algn="ctr" pos="4746600"/>
                  <a:tab algn="ctr" pos="5559480"/>
                  <a:tab algn="ctr" pos="6372360"/>
                  <a:tab algn="ctr" pos="717084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cent Net Prof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054080"/>
                  <a:tab algn="ctr" pos="2336760"/>
                  <a:tab algn="ctr" pos="3135240"/>
                  <a:tab algn="ctr" pos="3948120"/>
                  <a:tab algn="ctr" pos="4746600"/>
                  <a:tab algn="ctr" pos="5559480"/>
                  <a:tab algn="ctr" pos="6372360"/>
                  <a:tab algn="ctr" pos="717084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 Fir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ctr" pos="1054080"/>
                  <a:tab algn="ctr" pos="2336760"/>
                  <a:tab algn="ctr" pos="3135240"/>
                  <a:tab algn="ctr" pos="3948120"/>
                  <a:tab algn="ctr" pos="4746600"/>
                  <a:tab algn="ctr" pos="5559480"/>
                  <a:tab algn="ctr" pos="6372360"/>
                  <a:tab algn="ctr" pos="717084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.78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3.2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3.8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4.76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6.2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9.09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6.6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ctr" pos="1054080"/>
                  <a:tab algn="ctr" pos="2336760"/>
                  <a:tab algn="ctr" pos="3135240"/>
                  <a:tab algn="ctr" pos="3948120"/>
                  <a:tab algn="ctr" pos="4746600"/>
                  <a:tab algn="ctr" pos="5559480"/>
                  <a:tab algn="ctr" pos="6372360"/>
                  <a:tab algn="ctr" pos="717084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.7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3.1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3.7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4.5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5.88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8.3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4.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ctr" pos="1054080"/>
                  <a:tab algn="ctr" pos="2336760"/>
                  <a:tab algn="ctr" pos="3135240"/>
                  <a:tab algn="ctr" pos="3948120"/>
                  <a:tab algn="ctr" pos="4746600"/>
                  <a:tab algn="ctr" pos="5559480"/>
                  <a:tab algn="ctr" pos="6372360"/>
                  <a:tab algn="ctr" pos="717084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.6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3.0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3.57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4.3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5.56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7.69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2.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ctr" pos="1054080"/>
                  <a:tab algn="ctr" pos="2336760"/>
                  <a:tab algn="ctr" pos="3135240"/>
                  <a:tab algn="ctr" pos="3948120"/>
                  <a:tab algn="ctr" pos="4746600"/>
                  <a:tab algn="ctr" pos="5559480"/>
                  <a:tab algn="ctr" pos="6372360"/>
                  <a:tab algn="ctr" pos="717084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.56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.9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3.4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4.17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5.26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7.1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1.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ctr" pos="1054080"/>
                  <a:tab algn="ctr" pos="2336760"/>
                  <a:tab algn="ctr" pos="3135240"/>
                  <a:tab algn="ctr" pos="3948120"/>
                  <a:tab algn="ctr" pos="4746600"/>
                  <a:tab algn="ctr" pos="5559480"/>
                  <a:tab algn="ctr" pos="6372360"/>
                  <a:tab algn="ctr" pos="717084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.5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.86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3.3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4.0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5.0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6.67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0.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7"/>
            <p:cNvSpPr/>
            <p:nvPr/>
          </p:nvSpPr>
          <p:spPr>
            <a:xfrm>
              <a:off x="1003320" y="4064040"/>
              <a:ext cx="751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8"/>
            <p:cNvSpPr/>
            <p:nvPr/>
          </p:nvSpPr>
          <p:spPr>
            <a:xfrm>
              <a:off x="1003320" y="3073320"/>
              <a:ext cx="7529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9"/>
            <p:cNvSpPr/>
            <p:nvPr/>
          </p:nvSpPr>
          <p:spPr>
            <a:xfrm>
              <a:off x="1003320" y="5664240"/>
              <a:ext cx="7529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10"/>
            <p:cNvSpPr/>
            <p:nvPr/>
          </p:nvSpPr>
          <p:spPr>
            <a:xfrm>
              <a:off x="3029040" y="3454560"/>
              <a:ext cx="5503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Rectangle 11"/>
          <p:cNvSpPr/>
          <p:nvPr/>
        </p:nvSpPr>
        <p:spPr>
          <a:xfrm>
            <a:off x="7061040" y="605484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1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 11.1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2" descr="Screen Shot 2015-12-05 at 9.42.05 PM.png"/>
          <p:cNvPicPr/>
          <p:nvPr/>
        </p:nvPicPr>
        <p:blipFill>
          <a:blip r:embed="rId1"/>
          <a:stretch/>
        </p:blipFill>
        <p:spPr>
          <a:xfrm>
            <a:off x="984240" y="1700280"/>
            <a:ext cx="7093080" cy="45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 11.6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able 11.4, determine the sales necessary to equal a dollar of savings on purchases for a company that h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A net profit of 4% and spends 40% of its revenue on purch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 net profit of 6% and spends 80% of its revenue on purch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 11.6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able 11.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 Net profit of 4%, spends 40% of its revenue on purchases. It will ta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3.1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ales to equal $1 saved through purcha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 Net profit of 6%, spends 80% of its revenue on purchases. It will ta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7.69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ales to equal $1 saved through purcha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© 2011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419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ndor Evalu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685800" y="1422360"/>
          <a:ext cx="7772400" cy="4998960"/>
        </p:xfrm>
        <a:graphic>
          <a:graphicData uri="http://schemas.openxmlformats.org/drawingml/2006/table">
            <a:tbl>
              <a:tblPr/>
              <a:tblGrid>
                <a:gridCol w="4406760"/>
                <a:gridCol w="1130400"/>
                <a:gridCol w="1104840"/>
                <a:gridCol w="1130400"/>
              </a:tblGrid>
              <a:tr h="623160">
                <a:tc>
                  <a:txBody>
                    <a:bodyPr lIns="90000" rIns="90000" tIns="64800" bIns="64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0" bIns="64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igh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0" bIns="64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cores (1-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0" bIns="64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ight x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gineering/research/innovation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duction process capability (flexibility/technical assista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stribution/delivery cap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Quality systems and perform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acilities/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inancial and managerial strength (stability and cost struct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formation systems capability (e-procurement, ER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tegrity (environmental compliance/ ethic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64800" bIns="64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 11.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4572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urchasing agent for Woolsey Enterprises in Golden, Colorado, you ask your buyer to provide you with a ranking of “excellent,” “good,” “fair,” or “poor” for a variety of characteristics for two potential vendors. You suggest that “Products” total be weighted 40% and the other three categories’ totals be weighted 20% each. The buyer has returned the following ran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of the two vendors would you sel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" descr="photo 4 (4).JPG"/>
          <p:cNvPicPr/>
          <p:nvPr/>
        </p:nvPicPr>
        <p:blipFill>
          <a:blip r:embed="rId1"/>
          <a:srcRect l="0" t="9576" r="0" b="14916"/>
          <a:stretch/>
        </p:blipFill>
        <p:spPr>
          <a:xfrm>
            <a:off x="614520" y="2854440"/>
            <a:ext cx="7692840" cy="30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 11.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5" descr="Screen Shot 2015-12-05 at 9.28.27 PM.png"/>
          <p:cNvPicPr/>
          <p:nvPr/>
        </p:nvPicPr>
        <p:blipFill>
          <a:blip r:embed="rId1"/>
          <a:stretch/>
        </p:blipFill>
        <p:spPr>
          <a:xfrm>
            <a:off x="1598760" y="1488960"/>
            <a:ext cx="5367240" cy="47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 11.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Screen Shot 2015-12-05 at 9.28.55 PM.png"/>
          <p:cNvPicPr/>
          <p:nvPr/>
        </p:nvPicPr>
        <p:blipFill>
          <a:blip r:embed="rId1"/>
          <a:stretch/>
        </p:blipFill>
        <p:spPr>
          <a:xfrm>
            <a:off x="1355760" y="1684440"/>
            <a:ext cx="591012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© 2011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23600" y="44784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st of Shipping Alternati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755640" y="1917720"/>
            <a:ext cx="70214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connectors = $1,75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ing cost = 40%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carrier is 1 day faster and $20 more 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4"/>
          <p:cNvGrpSpPr/>
          <p:nvPr/>
        </p:nvGrpSpPr>
        <p:grpSpPr>
          <a:xfrm>
            <a:off x="1152360" y="3492360"/>
            <a:ext cx="7500960" cy="1054080"/>
            <a:chOff x="1152360" y="3492360"/>
            <a:chExt cx="7500960" cy="1054080"/>
          </a:xfrm>
        </p:grpSpPr>
        <p:sp>
          <p:nvSpPr>
            <p:cNvPr id="544" name="Rectangle 5"/>
            <p:cNvSpPr/>
            <p:nvPr/>
          </p:nvSpPr>
          <p:spPr>
            <a:xfrm>
              <a:off x="1152360" y="3671640"/>
              <a:ext cx="26416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ily cost of holding 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6"/>
            <p:cNvSpPr/>
            <p:nvPr/>
          </p:nvSpPr>
          <p:spPr>
            <a:xfrm>
              <a:off x="3714840" y="3822480"/>
              <a:ext cx="49384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ctr" pos="1816200"/>
                  <a:tab algn="l" pos="353052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/3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Group 7"/>
            <p:cNvGrpSpPr/>
            <p:nvPr/>
          </p:nvGrpSpPr>
          <p:grpSpPr>
            <a:xfrm>
              <a:off x="4094280" y="3492360"/>
              <a:ext cx="3164760" cy="1054080"/>
              <a:chOff x="4094280" y="3492360"/>
              <a:chExt cx="3164760" cy="1054080"/>
            </a:xfrm>
          </p:grpSpPr>
          <p:sp>
            <p:nvSpPr>
              <p:cNvPr id="547" name="Rectangle 8"/>
              <p:cNvSpPr/>
              <p:nvPr/>
            </p:nvSpPr>
            <p:spPr>
              <a:xfrm>
                <a:off x="4094280" y="3519360"/>
                <a:ext cx="143640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nnual holding cos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9"/>
              <p:cNvSpPr/>
              <p:nvPr/>
            </p:nvSpPr>
            <p:spPr>
              <a:xfrm>
                <a:off x="5788080" y="3674880"/>
                <a:ext cx="1470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roduct val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AutoShape 10"/>
              <p:cNvSpPr/>
              <p:nvPr/>
            </p:nvSpPr>
            <p:spPr>
              <a:xfrm>
                <a:off x="4190760" y="3492360"/>
                <a:ext cx="3009600" cy="1054080"/>
              </a:xfrm>
              <a:prstGeom prst="bracketPair">
                <a:avLst>
                  <a:gd name="adj" fmla="val 17129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Rectangle 11"/>
          <p:cNvSpPr/>
          <p:nvPr/>
        </p:nvSpPr>
        <p:spPr>
          <a:xfrm>
            <a:off x="4214520" y="463716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(.40 x $1,750)/ 365 = $1.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2"/>
          <p:cNvSpPr/>
          <p:nvPr/>
        </p:nvSpPr>
        <p:spPr>
          <a:xfrm>
            <a:off x="581040" y="5145120"/>
            <a:ext cx="7948440" cy="100872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154800" bIns="154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it costs less to hold the product one day longer than it does for the faster shipping ($1.92 &lt; $20), we should use the cheaper, slower shi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0:33:31Z</dcterms:created>
  <dc:creator>Jeff Heyl</dc:creator>
  <dc:description/>
  <cp:keywords/>
  <dc:language>en-US</dc:language>
  <cp:lastModifiedBy>Moaad</cp:lastModifiedBy>
  <dcterms:modified xsi:type="dcterms:W3CDTF">2015-12-05T18:45:45Z</dcterms:modified>
  <cp:revision>696</cp:revision>
  <dc:subject>Chapter 12 - Inventory Management</dc:subject>
  <dc:title>Heizer/Render 11e</dc:title>
</cp:coreProperties>
</file>