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30893-8060-4E4A-8126-8D0350B1A9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F97E8-B27F-45A6-BA08-AD2DE646E9AC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4E3AD-3424-4FF2-BF20-A0A3B876551B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C3A8C-7379-4DB4-BC2F-DD3EE712AFF2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664CE-A98D-4269-ABE3-D9404ABED9E0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6E828-EE00-461E-BED1-7E82A00D42CC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7586F-7A21-47B0-9CBA-A0E963C71F28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6F82B-0DD6-4CF1-B6D8-BDC6D39A0944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33C91-9329-4A19-87B1-4807FDD81A02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4D928-E86E-480A-B703-ACDD7EBCE156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9A059-332B-4176-9180-7BB80B597CEB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1FE60-D2BF-4A79-8B97-77771209D32A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7899A-43FC-48BC-A8F1-C36FF34C86EF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D9C4A-7AA1-4265-847B-53D91A725DC9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A7913-33F3-48B1-AAE7-E6CA5CD239F0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3F37D-2E2C-4BD2-A19B-028934D0D0E4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F63B4-D3BC-4C7B-A138-5AAA1869962F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27069-581F-4F3C-9CED-24C5BF759103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BB7F9-42EC-4FAB-AACA-46A38192DC9D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1A053-E92F-4613-86B5-230725650C9C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90194-7168-490D-82BE-954890D252DE}" type="slidenum">
              <a:rPr b="0" lang="en-A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96E648-4332-4AFE-91FF-9921B41DB2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FB7D8F-BB1D-4F83-AB6D-EB4F8A23D2B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FBAE45-C77A-4FE5-B6F6-B8B718ECE1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95A5BD-F008-4967-960A-3086200041B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09294-91FA-496B-89DF-A0FE795AAB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53F4B-4915-4FFB-93BE-88F78BF037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75B980-999F-4C75-B0A1-BE30FDB82AF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46332-A93E-43DA-8241-644B20B3DD1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7455F6-084B-4302-A64A-88FB2191F7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2928-3D38-4E53-B61E-353B1E828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E7F35-FDA9-418B-B7FA-35D4045D81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70C6B-D84F-40E0-ACF3-1B283C512B9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E35B6-E457-48A4-B34D-384F863FB4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E061-AFB1-438A-B78E-97886485107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FAA8-9257-412B-BBB5-952BD41E73F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21C81-A8F5-4D05-B5D4-C1F57957758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80FE8-C78B-422A-8674-99ED3689D6E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5B94F-9E94-4225-9867-83CCFB72C8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B8611-6E79-4EBC-8F5C-99BD42ACC68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5C94A-BB45-47F7-BC6B-6D2D29478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4AAC0-86F6-441D-B084-B8DC70D5C47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415F4-9C80-452B-89AE-3D68DA1BDEB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69D44-C735-4E28-B926-51906625BB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060F6-F00F-4F42-A87F-28517799806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B47C7-FAD7-411F-AED8-A4B6682B66B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2B215-382D-4206-B29B-197263936E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470E2-92D4-4933-B5E8-DFE144E58A4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8233F-1E49-4113-92F1-20A6248187E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AB86D-61E4-47C6-808D-1640ED2D961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EE1A8-1D89-4A9A-8A33-7B39AFF0F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F000B-2124-49EB-83E1-9EB4939804E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D55CA-15F3-4D7B-AA10-DCB59B58358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6FAFB-A196-4F69-AD45-26BD98B8503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E1333-2B6F-4227-A639-138BF503189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B6CAB6-8E34-4D75-AAFF-8AE2F12043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E53D27-A086-49E9-B2FF-02022A5D92C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2A6082-DB8C-4FDF-8A20-9534392F2FA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788E32-AB2E-4C67-AB35-D5E75FFD1B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F0B201-5FC1-4A6D-8230-8B2C354E711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E02684-CE43-4265-8464-AE2F3F3956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8CABE5-58AF-4011-9AA1-1D8D350D24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D95A9-CAC0-4018-BFF1-36C562E713C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4988C1-67E7-4109-B352-BEAC5B035AE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2467C-9F7B-4594-99A7-E2F4EC54AF0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1B3941-9459-42B5-8B06-F3FDDC8C8EF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608F76-3C02-47A9-9FBA-B5A750929DA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164FFC-15F1-43EF-9F4C-AEAB4318F7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05D15-308C-4E3A-866A-5781D47401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648A-F01D-4733-A4DD-BEEA5F1DD2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9DBA-038D-4172-A763-59054BAD2F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01AF-8F72-4CAA-AFD0-DC05024D30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1454-C97A-4C96-8149-8E6A8F5651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5146-B880-47E4-9C6F-AFC61C959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2CCF-A978-452C-82D8-2F92C54B2E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6C5A-D4E1-4C47-A553-5C9EE9BFF9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432F-EAE8-4BF3-A94F-CCFB14562D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7940-14A0-489E-B9EA-52C55C4ADB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43ACE-F6E4-4EAB-A1C2-7062DD6F18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37439-956E-4BE5-9CF1-BCBF74FC02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92EC0-6B74-4DDC-8391-17742F9BFE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59688-0DBA-4247-9360-7D001460E9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D4B77-7CE5-4978-BEBC-98D4B8AD7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EF9CA-BC9A-4ED7-B0B6-A357CA25BF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89324-9F4F-4B94-82F8-00FE333261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55D33-1F7B-4689-9B5E-B56A75EC35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5A6E3-25E5-4F00-AD28-E8170783F6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9F924-B44A-49FC-932D-8A1B42FF7C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87EAF-F210-4E42-894A-EB499A1D10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E3AE2-ACE1-4D47-A17B-AE1EA9215B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9963-1080-4E39-8746-2414C14340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ACD8-7DE1-4F1D-B6DB-8432FC67CC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AC51-B9BD-4340-B742-DAD28D1B3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171A-FEE7-4F2C-84A4-86A206487E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276D-63B0-4074-9B1F-3B42BF8FD3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56E3-6FB2-420C-A1E8-E00139E842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67AB-CFCB-4E3B-A89C-DEF80ABA45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A6E8-E1DB-4777-94A0-21D97E9E60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3F61-CE64-46EF-B980-AFBBAEE86F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08AB-8FF5-47A8-9A6F-A519E3C48D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6CB-440B-4B65-84D0-4A624E27F9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D697-8064-4DC1-ACD0-E9D5249987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34ED1-6027-4AC4-82E3-B7CDF86F6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90FD0-12EC-4117-88A6-A852610886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4F8D9-7B47-44BF-81A5-8AC3E541D4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C3950-F55A-433B-A66C-CC4F8D85F9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EC768-21A5-45E4-BDE8-C6E2B7E139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30A44-BAAB-4708-83F6-2919289A926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243C7-0D89-4E55-A3EF-0297518370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FD3DC-4B2D-4AE6-8A0E-2F63A99D06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86874-F255-46F7-B2E8-706631B22B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9A0CB-502A-41E4-BBD7-5B6D9AB0DF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6EE09-D558-4595-809B-33DF9832C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F8814-3598-4C05-8F90-86E19A06852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D69E5-905D-4530-AA32-661D712A32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3A8D57-6EFE-4B7A-9ED4-216FF7E087D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A0176C-EF09-4350-9343-A88EB1F1F0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A80F3-972A-4307-ABD1-3C7DEC33620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7AD6A-54BC-48D9-A0FC-9F897EB23AF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B028D-3C00-4A08-B167-8EACB61D9C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E4978-A0A3-4838-9703-25779030442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6B690E-2166-4F7C-8009-7D8AAD02E1F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0E490-043A-4603-8141-65BD269FC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42B25-F8B6-4570-AF41-635BFA72257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20B81-9D35-4A06-B708-EF15AD5D6CF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0236F-3BFD-4C8B-BB5B-06172E2B89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05C5-308F-43FA-9770-ED968B20AF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DB44-E02C-4451-9DBF-3850FC5FDC2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77D4F-E68C-4CE8-87F4-59796A4031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399FE-49D7-49A7-88B7-92F3E00CF3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8D0B7-96B7-4DBB-956F-5098BE62956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9323-29E1-492A-AB18-30B28C9643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75A3-6402-45B1-956D-3E428FBC2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FF09-A37A-4AA9-AA08-600C460BCF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34B36-C653-45DB-9153-C1DC81971E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BE62-33B4-4CBF-A4F0-20ADFFF77F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2DEA-56EE-4F96-B1CF-69107216B4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7D3E-EE48-40DF-9BEF-617EBDC822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FA317-7B28-4D7E-9CF2-61A323E286D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5DA14-7609-4AB6-8FF4-90AF407F177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58251-D46E-485B-8BBD-80007342DA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E0296-6BCD-4ED4-BB6D-612A149124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2B4A2-8163-49E6-B2F4-860F640B9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E9AC3-19DE-4F3A-8727-24B5545852E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6BE17-B924-4E80-B732-DD06F995AB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BB77F-6EAC-4E99-A716-1E2E5054307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EBF07-43A9-4F49-A337-053754E9A61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24807-9428-41C0-AAC9-4EDD9474C4B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5BE66-7E54-43A1-AC40-F8ABD699C2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0F551-D2D5-4AFC-AF15-E55D4858BBD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4C054B-E54B-4617-85C0-F5C6C3C74CC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855AC8-153B-4C00-BB0F-2302BF944C7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484DE-B8F9-4ED8-B078-35ADF16AE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7A636DE0-3E79-4D34-836D-1A10CF8946C2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7EED86B1-FDDE-4A03-8E6E-38F05AC2F731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52065-C943-47E3-8EF8-24F6204D9DCB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2575A6CC-8E45-4E52-8130-6AE0BB6BFE69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B4C23-5B3E-49DD-9A38-9EB7910F2929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9634ACF5-4EEC-4B6F-AF3E-71AABC654AEE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BEFE3-86D4-4CF0-83A8-A642DB76B001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00BB10BE-658D-4668-9987-2820F8788323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B85CA-D286-4926-BB8C-4989E76F680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4C2D5B0E-E9FE-495F-9CB2-4EADBEEC276B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EC247-D1C1-46F0-9FDF-6F25D09103C5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7B5D6CEF-EDD3-4978-9E64-D6095967ABA6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62550-537D-47C3-9163-1E466598F8D4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2D8D76ED-F35E-4271-8B0C-6B1E209FFB28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9DB74-10A0-4772-90C5-C40027A8FF8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E5EAAF0F-ECF7-4945-A32D-93F209765C5D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BE743-2380-4E88-87F1-DFFE99CF2E6E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C85A414B-9DA6-4A23-A47F-539F7A65F7BC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D1143-ED31-4DDD-8FBD-5AC61FBE042F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A46DB608-1424-4CAA-92BF-C1118D79B0C7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B7F3E-422C-44AB-8860-2CA3911F3E10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12 - </a:t>
            </a:r>
            <a:fld id="{56F3685E-7F71-4A16-811F-D13561266242}" type="slidenum"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  <a:ea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0F685-24F4-4858-8426-339303D4156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c00a26"/>
          </a:solidFill>
          <a:ln w="0">
            <a:noFill/>
          </a:ln>
          <a:effectLst>
            <a:outerShdw dist="76320" dir="54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2120" y="282240"/>
            <a:ext cx="186696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d4d4d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530440" y="258840"/>
            <a:ext cx="460872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Supply-Chain 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Part 3 title art"/>
          <p:cNvPicPr/>
          <p:nvPr/>
        </p:nvPicPr>
        <p:blipFill>
          <a:blip r:embed="rId1"/>
          <a:stretch/>
        </p:blipFill>
        <p:spPr>
          <a:xfrm>
            <a:off x="2324160" y="1069920"/>
            <a:ext cx="6475320" cy="53913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46200" y="3389040"/>
            <a:ext cx="503712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PowerPoint presentation to ac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Heizer and R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Operations Management, 10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Principles of Operations Management, 8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Arial"/>
                <a:ea typeface="ＭＳ Ｐゴシック"/>
              </a:rPr>
              <a:t>PowerPoint slides by Jeff Hey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czka-Trent Shipping is the logistics vendor for Handfield Manufacturing Co, in Ohio. Handfield has daily shipments of a power-steering pump from its Ohio plant to an auto assembly line in Alabama. The value of the standard shipmen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50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Monczka-Trent has two options: (1) its standard 2-day shipment or (2) a subcontractor who will team drive overnight with an effective delivery of 1 day. The extra driver cos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17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andfields's holding cos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nually for this kind of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Which option is most economi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) What production issues are not included in the data presented abo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671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 Daily holding cost = (Annual holding cost  Cost)/Days in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.35  $250,000)/365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239.7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n cost per day between shipping options = $1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daily holding cost ($239.73) is more th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of faster shipping ($175), use the fast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ontr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 Implications of added in-transit time to the production process: potential delay in activity for which the component is destined (new product development, quality test, the production proces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708840" y="2071800"/>
            <a:ext cx="66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8200" indent="-538200">
              <a:buClr>
                <a:srgbClr val="bf0922"/>
              </a:buClr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ts committed to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4"/>
          <p:cNvGrpSpPr/>
          <p:nvPr/>
        </p:nvGrpSpPr>
        <p:grpSpPr>
          <a:xfrm>
            <a:off x="1619280" y="2900520"/>
            <a:ext cx="5930640" cy="1321920"/>
            <a:chOff x="1619280" y="2900520"/>
            <a:chExt cx="5930640" cy="1321920"/>
          </a:xfrm>
        </p:grpSpPr>
        <p:sp>
          <p:nvSpPr>
            <p:cNvPr id="560" name="Text Box 5"/>
            <p:cNvSpPr/>
            <p:nvPr/>
          </p:nvSpPr>
          <p:spPr>
            <a:xfrm>
              <a:off x="1619280" y="3011400"/>
              <a:ext cx="19508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rcent invested in invent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3527280" y="3331800"/>
              <a:ext cx="40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                                  x 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7"/>
            <p:cNvGrpSpPr/>
            <p:nvPr/>
          </p:nvGrpSpPr>
          <p:grpSpPr>
            <a:xfrm>
              <a:off x="3976560" y="2900520"/>
              <a:ext cx="2543760" cy="1321920"/>
              <a:chOff x="3976560" y="2900520"/>
              <a:chExt cx="2543760" cy="1321920"/>
            </a:xfrm>
          </p:grpSpPr>
          <p:sp>
            <p:nvSpPr>
              <p:cNvPr id="563" name="Text Box 8"/>
              <p:cNvSpPr/>
              <p:nvPr/>
            </p:nvSpPr>
            <p:spPr>
              <a:xfrm>
                <a:off x="3976560" y="2950920"/>
                <a:ext cx="2522160" cy="12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inventory invest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asse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9"/>
              <p:cNvSpPr/>
              <p:nvPr/>
            </p:nvSpPr>
            <p:spPr>
              <a:xfrm>
                <a:off x="4098240" y="3742920"/>
                <a:ext cx="227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10"/>
              <p:cNvSpPr/>
              <p:nvPr/>
            </p:nvSpPr>
            <p:spPr>
              <a:xfrm>
                <a:off x="3980880" y="2900520"/>
                <a:ext cx="2539440" cy="132048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6" name="Text Box 11"/>
          <p:cNvSpPr/>
          <p:nvPr/>
        </p:nvSpPr>
        <p:spPr>
          <a:xfrm>
            <a:off x="923040" y="4591080"/>
            <a:ext cx="56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stment in inventory = $11.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assets = $44.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414000" y="5638680"/>
            <a:ext cx="83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 invested in inventory = (11.4/44.4) x 100 = 25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7557840" y="59119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4"/>
          <p:cNvGrpSpPr/>
          <p:nvPr/>
        </p:nvGrpSpPr>
        <p:grpSpPr>
          <a:xfrm>
            <a:off x="1881720" y="2098800"/>
            <a:ext cx="5382000" cy="4029120"/>
            <a:chOff x="1881720" y="2098800"/>
            <a:chExt cx="5382000" cy="4029120"/>
          </a:xfrm>
        </p:grpSpPr>
        <p:sp>
          <p:nvSpPr>
            <p:cNvPr id="572" name="Text Box 5"/>
            <p:cNvSpPr/>
            <p:nvPr/>
          </p:nvSpPr>
          <p:spPr>
            <a:xfrm>
              <a:off x="1881720" y="2098800"/>
              <a:ext cx="538200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as a % of Total Asset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with exceptional performan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nufacturi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15%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Toyota 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lesal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34%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Coca-Cola 2.9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taurant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.9%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cDonald’s .0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2080" indent="-262080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r" pos="430992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tai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27%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Home Depot 25.7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"/>
            <p:cNvSpPr/>
            <p:nvPr/>
          </p:nvSpPr>
          <p:spPr>
            <a:xfrm>
              <a:off x="2046240" y="2903400"/>
              <a:ext cx="5037120" cy="0"/>
            </a:xfrm>
            <a:prstGeom prst="line">
              <a:avLst/>
            </a:prstGeom>
            <a:ln w="5724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7"/>
            <p:cNvSpPr/>
            <p:nvPr/>
          </p:nvSpPr>
          <p:spPr>
            <a:xfrm>
              <a:off x="2046240" y="6127920"/>
              <a:ext cx="5037120" cy="0"/>
            </a:xfrm>
            <a:prstGeom prst="line">
              <a:avLst/>
            </a:prstGeom>
            <a:ln w="5724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708120" y="2300400"/>
            <a:ext cx="422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bf0922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ntory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4"/>
          <p:cNvGrpSpPr/>
          <p:nvPr/>
        </p:nvGrpSpPr>
        <p:grpSpPr>
          <a:xfrm>
            <a:off x="1905120" y="3129120"/>
            <a:ext cx="5340240" cy="1322280"/>
            <a:chOff x="1905120" y="3129120"/>
            <a:chExt cx="5340240" cy="1322280"/>
          </a:xfrm>
        </p:grpSpPr>
        <p:sp>
          <p:nvSpPr>
            <p:cNvPr id="579" name="Text Box 5"/>
            <p:cNvSpPr/>
            <p:nvPr/>
          </p:nvSpPr>
          <p:spPr>
            <a:xfrm>
              <a:off x="1905120" y="3411360"/>
              <a:ext cx="19512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695760" y="3560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7"/>
            <p:cNvSpPr/>
            <p:nvPr/>
          </p:nvSpPr>
          <p:spPr>
            <a:xfrm>
              <a:off x="4133880" y="3179880"/>
              <a:ext cx="3030840" cy="12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st of goods s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inves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8"/>
            <p:cNvSpPr/>
            <p:nvPr/>
          </p:nvSpPr>
          <p:spPr>
            <a:xfrm>
              <a:off x="4256280" y="3657600"/>
              <a:ext cx="286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9"/>
            <p:cNvSpPr/>
            <p:nvPr/>
          </p:nvSpPr>
          <p:spPr>
            <a:xfrm>
              <a:off x="4138920" y="3129120"/>
              <a:ext cx="3106440" cy="13204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6962400" y="58244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1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693720" y="2360520"/>
            <a:ext cx="7800840" cy="2909880"/>
            <a:chOff x="693720" y="2360520"/>
            <a:chExt cx="7800840" cy="2909880"/>
          </a:xfrm>
        </p:grpSpPr>
        <p:sp>
          <p:nvSpPr>
            <p:cNvPr id="588" name="Text Box 5"/>
            <p:cNvSpPr/>
            <p:nvPr/>
          </p:nvSpPr>
          <p:spPr>
            <a:xfrm>
              <a:off x="1618560" y="2360520"/>
              <a:ext cx="595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s of Annual Inventory Turn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Group 6"/>
            <p:cNvGrpSpPr/>
            <p:nvPr/>
          </p:nvGrpSpPr>
          <p:grpSpPr>
            <a:xfrm>
              <a:off x="693720" y="2846520"/>
              <a:ext cx="7800840" cy="2423880"/>
              <a:chOff x="693720" y="2846520"/>
              <a:chExt cx="7800840" cy="2423880"/>
            </a:xfrm>
          </p:grpSpPr>
          <p:sp>
            <p:nvSpPr>
              <p:cNvPr id="590" name="Text Box 7"/>
              <p:cNvSpPr/>
              <p:nvPr/>
            </p:nvSpPr>
            <p:spPr>
              <a:xfrm>
                <a:off x="693720" y="2887560"/>
                <a:ext cx="7800840" cy="23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ood, Beverage, Retail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anufactur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nheuser Busch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ell Computer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ca-Col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hnson Control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me Depo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yota (overall)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r" pos="3222720"/>
                    <a:tab algn="l" pos="3948120"/>
                    <a:tab algn="r" pos="762012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McDonald’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1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issan (assembly)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735120" y="2846520"/>
                <a:ext cx="7707240" cy="0"/>
              </a:xfrm>
              <a:prstGeom prst="line">
                <a:avLst/>
              </a:prstGeom>
              <a:ln w="5724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735120" y="3351240"/>
                <a:ext cx="7707240" cy="0"/>
              </a:xfrm>
              <a:prstGeom prst="line">
                <a:avLst/>
              </a:prstGeom>
              <a:ln w="2844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10"/>
              <p:cNvSpPr/>
              <p:nvPr/>
            </p:nvSpPr>
            <p:spPr>
              <a:xfrm>
                <a:off x="735120" y="5270400"/>
                <a:ext cx="7707240" cy="0"/>
              </a:xfrm>
              <a:prstGeom prst="line">
                <a:avLst/>
              </a:prstGeom>
              <a:ln w="5724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Line 11"/>
            <p:cNvSpPr/>
            <p:nvPr/>
          </p:nvSpPr>
          <p:spPr>
            <a:xfrm>
              <a:off x="4457880" y="2844720"/>
              <a:ext cx="0" cy="2424240"/>
            </a:xfrm>
            <a:prstGeom prst="line">
              <a:avLst/>
            </a:prstGeom>
            <a:ln w="5724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794160" y="1973160"/>
            <a:ext cx="37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bf0922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entory turn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4"/>
          <p:cNvGrpSpPr/>
          <p:nvPr/>
        </p:nvGrpSpPr>
        <p:grpSpPr>
          <a:xfrm>
            <a:off x="1073160" y="2792520"/>
            <a:ext cx="6975000" cy="2682720"/>
            <a:chOff x="1073160" y="2792520"/>
            <a:chExt cx="6975000" cy="2682720"/>
          </a:xfrm>
        </p:grpSpPr>
        <p:sp>
          <p:nvSpPr>
            <p:cNvPr id="599" name="Text Box 5"/>
            <p:cNvSpPr/>
            <p:nvPr/>
          </p:nvSpPr>
          <p:spPr>
            <a:xfrm>
              <a:off x="1115640" y="2792520"/>
              <a:ext cx="6932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ven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32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st of goods sol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14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w material inventor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.7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ork-in-process inventor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.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nished goods inventor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.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363600"/>
                  <a:tab algn="r" pos="5195880"/>
                  <a:tab algn="r" pos="654516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tal inventory investme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$1.6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6"/>
            <p:cNvSpPr/>
            <p:nvPr/>
          </p:nvSpPr>
          <p:spPr>
            <a:xfrm>
              <a:off x="1073160" y="2813040"/>
              <a:ext cx="690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7"/>
            <p:cNvSpPr/>
            <p:nvPr/>
          </p:nvSpPr>
          <p:spPr>
            <a:xfrm>
              <a:off x="1073160" y="5475240"/>
              <a:ext cx="690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794160" y="1973160"/>
            <a:ext cx="7254000" cy="3502080"/>
            <a:chOff x="794160" y="1973160"/>
            <a:chExt cx="7254000" cy="3502080"/>
          </a:xfrm>
        </p:grpSpPr>
        <p:sp>
          <p:nvSpPr>
            <p:cNvPr id="605" name="Text Box 4"/>
            <p:cNvSpPr/>
            <p:nvPr/>
          </p:nvSpPr>
          <p:spPr>
            <a:xfrm>
              <a:off x="794160" y="1973160"/>
              <a:ext cx="37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49280" indent="-449280">
                <a:buClr>
                  <a:srgbClr val="bf0922"/>
                </a:buClr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turno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5"/>
            <p:cNvGrpSpPr/>
            <p:nvPr/>
          </p:nvGrpSpPr>
          <p:grpSpPr>
            <a:xfrm>
              <a:off x="1073160" y="2792520"/>
              <a:ext cx="6975000" cy="2682720"/>
              <a:chOff x="1073160" y="2792520"/>
              <a:chExt cx="6975000" cy="2682720"/>
            </a:xfrm>
          </p:grpSpPr>
          <p:sp>
            <p:nvSpPr>
              <p:cNvPr id="607" name="Text Box 6"/>
              <p:cNvSpPr/>
              <p:nvPr/>
            </p:nvSpPr>
            <p:spPr>
              <a:xfrm>
                <a:off x="1115640" y="2792520"/>
                <a:ext cx="693252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et revenu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32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st of goods sol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14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aw material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7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ork-in-process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nished goods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8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inventory investmen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1.6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7"/>
              <p:cNvSpPr/>
              <p:nvPr/>
            </p:nvSpPr>
            <p:spPr>
              <a:xfrm>
                <a:off x="1073160" y="2813040"/>
                <a:ext cx="690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8"/>
              <p:cNvSpPr/>
              <p:nvPr/>
            </p:nvSpPr>
            <p:spPr>
              <a:xfrm>
                <a:off x="1073160" y="5475240"/>
                <a:ext cx="6908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Rectangle 9"/>
          <p:cNvSpPr/>
          <p:nvPr/>
        </p:nvSpPr>
        <p:spPr>
          <a:xfrm>
            <a:off x="652320" y="2496960"/>
            <a:ext cx="7837560" cy="2627640"/>
          </a:xfrm>
          <a:prstGeom prst="rect">
            <a:avLst/>
          </a:prstGeom>
          <a:solidFill>
            <a:srgbClr val="d33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"/>
          <p:cNvGrpSpPr/>
          <p:nvPr/>
        </p:nvGrpSpPr>
        <p:grpSpPr>
          <a:xfrm>
            <a:off x="1248480" y="2971800"/>
            <a:ext cx="6493680" cy="977760"/>
            <a:chOff x="1248480" y="2971800"/>
            <a:chExt cx="6493680" cy="977760"/>
          </a:xfrm>
        </p:grpSpPr>
        <p:sp>
          <p:nvSpPr>
            <p:cNvPr id="612" name="Text Box 11"/>
            <p:cNvSpPr/>
            <p:nvPr/>
          </p:nvSpPr>
          <p:spPr>
            <a:xfrm>
              <a:off x="1248480" y="3259080"/>
              <a:ext cx="322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turnover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2"/>
            <p:cNvGrpSpPr/>
            <p:nvPr/>
          </p:nvGrpSpPr>
          <p:grpSpPr>
            <a:xfrm>
              <a:off x="4411440" y="2971800"/>
              <a:ext cx="3330720" cy="977760"/>
              <a:chOff x="4411440" y="2971800"/>
              <a:chExt cx="3330720" cy="977760"/>
            </a:xfrm>
          </p:grpSpPr>
          <p:sp>
            <p:nvSpPr>
              <p:cNvPr id="614" name="Text Box 13"/>
              <p:cNvSpPr/>
              <p:nvPr/>
            </p:nvSpPr>
            <p:spPr>
              <a:xfrm>
                <a:off x="4411440" y="2971800"/>
                <a:ext cx="3246840" cy="9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st of goods sol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1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 invest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14"/>
              <p:cNvSpPr/>
              <p:nvPr/>
            </p:nvSpPr>
            <p:spPr>
              <a:xfrm>
                <a:off x="4491000" y="3488040"/>
                <a:ext cx="3251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6" name="Text Box 15"/>
          <p:cNvSpPr/>
          <p:nvPr/>
        </p:nvSpPr>
        <p:spPr>
          <a:xfrm>
            <a:off x="4029120" y="4133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14.2 / 1.69 = 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23600" y="523440"/>
            <a:ext cx="77216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ing Supply-Chain Perform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3"/>
          <p:cNvGrpSpPr/>
          <p:nvPr/>
        </p:nvGrpSpPr>
        <p:grpSpPr>
          <a:xfrm>
            <a:off x="796320" y="1973160"/>
            <a:ext cx="7251840" cy="3502080"/>
            <a:chOff x="796320" y="1973160"/>
            <a:chExt cx="7251840" cy="3502080"/>
          </a:xfrm>
        </p:grpSpPr>
        <p:sp>
          <p:nvSpPr>
            <p:cNvPr id="620" name="Text Box 4"/>
            <p:cNvSpPr/>
            <p:nvPr/>
          </p:nvSpPr>
          <p:spPr>
            <a:xfrm>
              <a:off x="796320" y="1973160"/>
              <a:ext cx="37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49280" indent="-449280">
                <a:buClr>
                  <a:srgbClr val="bf0922"/>
                </a:buClr>
                <a:buFont typeface="Wingdings" charset="2"/>
                <a:buChar char="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ventory turnov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Group 5"/>
            <p:cNvGrpSpPr/>
            <p:nvPr/>
          </p:nvGrpSpPr>
          <p:grpSpPr>
            <a:xfrm>
              <a:off x="1073160" y="2792520"/>
              <a:ext cx="6975000" cy="2682720"/>
              <a:chOff x="1073160" y="2792520"/>
              <a:chExt cx="6975000" cy="2682720"/>
            </a:xfrm>
          </p:grpSpPr>
          <p:sp>
            <p:nvSpPr>
              <p:cNvPr id="622" name="Text Box 6"/>
              <p:cNvSpPr/>
              <p:nvPr/>
            </p:nvSpPr>
            <p:spPr>
              <a:xfrm>
                <a:off x="1115640" y="2792520"/>
                <a:ext cx="693252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Net revenu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32.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st of goods sol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14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Raw material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7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ork-in-process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nished goods inventory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.8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363600"/>
                    <a:tab algn="r" pos="5195880"/>
                    <a:tab algn="r" pos="654516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otal inventory investmen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$1.6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7"/>
              <p:cNvSpPr/>
              <p:nvPr/>
            </p:nvSpPr>
            <p:spPr>
              <a:xfrm>
                <a:off x="1073160" y="2813040"/>
                <a:ext cx="690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8"/>
              <p:cNvSpPr/>
              <p:nvPr/>
            </p:nvSpPr>
            <p:spPr>
              <a:xfrm>
                <a:off x="1073160" y="5475240"/>
                <a:ext cx="690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9"/>
          <p:cNvGrpSpPr/>
          <p:nvPr/>
        </p:nvGrpSpPr>
        <p:grpSpPr>
          <a:xfrm>
            <a:off x="652320" y="2496960"/>
            <a:ext cx="7837560" cy="2627280"/>
            <a:chOff x="652320" y="2496960"/>
            <a:chExt cx="7837560" cy="2627280"/>
          </a:xfrm>
        </p:grpSpPr>
        <p:sp>
          <p:nvSpPr>
            <p:cNvPr id="626" name="Rectangle 10"/>
            <p:cNvSpPr/>
            <p:nvPr/>
          </p:nvSpPr>
          <p:spPr>
            <a:xfrm>
              <a:off x="652320" y="2496960"/>
              <a:ext cx="7837560" cy="2627280"/>
            </a:xfrm>
            <a:prstGeom prst="rect">
              <a:avLst/>
            </a:prstGeom>
            <a:solidFill>
              <a:srgbClr val="d333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11"/>
            <p:cNvGrpSpPr/>
            <p:nvPr/>
          </p:nvGrpSpPr>
          <p:grpSpPr>
            <a:xfrm>
              <a:off x="1247760" y="2971440"/>
              <a:ext cx="6494400" cy="977760"/>
              <a:chOff x="1247760" y="2971440"/>
              <a:chExt cx="6494400" cy="977760"/>
            </a:xfrm>
          </p:grpSpPr>
          <p:sp>
            <p:nvSpPr>
              <p:cNvPr id="628" name="Text Box 12"/>
              <p:cNvSpPr/>
              <p:nvPr/>
            </p:nvSpPr>
            <p:spPr>
              <a:xfrm>
                <a:off x="1247760" y="3258720"/>
                <a:ext cx="322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 turnover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9" name="Group 13"/>
              <p:cNvGrpSpPr/>
              <p:nvPr/>
            </p:nvGrpSpPr>
            <p:grpSpPr>
              <a:xfrm>
                <a:off x="4411440" y="2971440"/>
                <a:ext cx="3330720" cy="977760"/>
                <a:chOff x="4411440" y="2971440"/>
                <a:chExt cx="3330720" cy="977760"/>
              </a:xfrm>
            </p:grpSpPr>
            <p:sp>
              <p:nvSpPr>
                <p:cNvPr id="630" name="Text Box 14"/>
                <p:cNvSpPr/>
                <p:nvPr/>
              </p:nvSpPr>
              <p:spPr>
                <a:xfrm>
                  <a:off x="4411440" y="2971440"/>
                  <a:ext cx="3246840" cy="9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1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Cost of goods sol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119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ventory investmen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5"/>
                <p:cNvSpPr/>
                <p:nvPr/>
              </p:nvSpPr>
              <p:spPr>
                <a:xfrm>
                  <a:off x="4491000" y="3487680"/>
                  <a:ext cx="325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2" name="Text Box 16"/>
            <p:cNvSpPr/>
            <p:nvPr/>
          </p:nvSpPr>
          <p:spPr>
            <a:xfrm>
              <a:off x="4027680" y="4133520"/>
              <a:ext cx="265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 14.2 / 1.69 = 8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17"/>
          <p:cNvSpPr/>
          <p:nvPr/>
        </p:nvSpPr>
        <p:spPr>
          <a:xfrm>
            <a:off x="419040" y="2874960"/>
            <a:ext cx="8591760" cy="3484440"/>
          </a:xfrm>
          <a:prstGeom prst="rect">
            <a:avLst/>
          </a:prstGeom>
          <a:solidFill>
            <a:srgbClr val="9fa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8"/>
          <p:cNvGrpSpPr/>
          <p:nvPr/>
        </p:nvGrpSpPr>
        <p:grpSpPr>
          <a:xfrm>
            <a:off x="1212840" y="4176720"/>
            <a:ext cx="6669000" cy="1233360"/>
            <a:chOff x="1212840" y="4176720"/>
            <a:chExt cx="6669000" cy="1233360"/>
          </a:xfrm>
        </p:grpSpPr>
        <p:sp>
          <p:nvSpPr>
            <p:cNvPr id="635" name="Text Box 19"/>
            <p:cNvSpPr/>
            <p:nvPr/>
          </p:nvSpPr>
          <p:spPr>
            <a:xfrm>
              <a:off x="1212840" y="4406760"/>
              <a:ext cx="28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eeks of supply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Group 20"/>
            <p:cNvGrpSpPr/>
            <p:nvPr/>
          </p:nvGrpSpPr>
          <p:grpSpPr>
            <a:xfrm>
              <a:off x="4084560" y="4176720"/>
              <a:ext cx="3797280" cy="1233360"/>
              <a:chOff x="4084560" y="4176720"/>
              <a:chExt cx="3797280" cy="1233360"/>
            </a:xfrm>
          </p:grpSpPr>
          <p:sp>
            <p:nvSpPr>
              <p:cNvPr id="637" name="Text Box 21"/>
              <p:cNvSpPr/>
              <p:nvPr/>
            </p:nvSpPr>
            <p:spPr>
              <a:xfrm>
                <a:off x="4084560" y="4176720"/>
                <a:ext cx="3797280" cy="12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ventory invest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verage weekly cost of goods sol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22"/>
              <p:cNvSpPr/>
              <p:nvPr/>
            </p:nvSpPr>
            <p:spPr>
              <a:xfrm>
                <a:off x="4105080" y="4637160"/>
                <a:ext cx="375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Text Box 23"/>
          <p:cNvSpPr/>
          <p:nvPr/>
        </p:nvSpPr>
        <p:spPr>
          <a:xfrm>
            <a:off x="3706200" y="556416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1.69 / .273 = 6.19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4"/>
          <p:cNvGrpSpPr/>
          <p:nvPr/>
        </p:nvGrpSpPr>
        <p:grpSpPr>
          <a:xfrm>
            <a:off x="1697040" y="3216240"/>
            <a:ext cx="5916600" cy="752040"/>
            <a:chOff x="1697040" y="3216240"/>
            <a:chExt cx="5916600" cy="752040"/>
          </a:xfrm>
        </p:grpSpPr>
        <p:sp>
          <p:nvSpPr>
            <p:cNvPr id="641" name="Text Box 25"/>
            <p:cNvSpPr/>
            <p:nvPr/>
          </p:nvSpPr>
          <p:spPr>
            <a:xfrm>
              <a:off x="1697040" y="3216240"/>
              <a:ext cx="29239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verage weekly cost of goods s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6"/>
            <p:cNvSpPr/>
            <p:nvPr/>
          </p:nvSpPr>
          <p:spPr>
            <a:xfrm>
              <a:off x="4701960" y="3362400"/>
              <a:ext cx="29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= $14.2 / 52 = $.2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ow Distributing Corp. likes to track inventory by using weeks of supply as well as by inventory turn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What is its weeks of supp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hat percent of Arrow's assets are committed to inven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What is Arrow's inventory turno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Object 2" descr=""/>
          <p:cNvPicPr/>
          <p:nvPr/>
        </p:nvPicPr>
        <p:blipFill>
          <a:blip r:embed="rId1"/>
          <a:stretch/>
        </p:blipFill>
        <p:spPr>
          <a:xfrm>
            <a:off x="1855800" y="4500720"/>
            <a:ext cx="5151600" cy="174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5839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y Chain Economic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861840" y="1779480"/>
            <a:ext cx="7418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bf0922"/>
                </a:solidFill>
                <a:latin typeface="Arial"/>
              </a:rPr>
              <a:t>Dollars of additional sales needed to equal $1 saved through the supply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4"/>
          <p:cNvGrpSpPr/>
          <p:nvPr/>
        </p:nvGrpSpPr>
        <p:grpSpPr>
          <a:xfrm>
            <a:off x="876240" y="3073320"/>
            <a:ext cx="7832880" cy="2590920"/>
            <a:chOff x="876240" y="3073320"/>
            <a:chExt cx="7832880" cy="2590920"/>
          </a:xfrm>
        </p:grpSpPr>
        <p:sp>
          <p:nvSpPr>
            <p:cNvPr id="519" name="Rectangle 5"/>
            <p:cNvSpPr/>
            <p:nvPr/>
          </p:nvSpPr>
          <p:spPr>
            <a:xfrm>
              <a:off x="3146400" y="3135240"/>
              <a:ext cx="50864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of Sales Spent in the Supply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6"/>
            <p:cNvSpPr/>
            <p:nvPr/>
          </p:nvSpPr>
          <p:spPr>
            <a:xfrm>
              <a:off x="876240" y="3479760"/>
              <a:ext cx="7832880" cy="21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Net Prof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Fir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0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7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2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8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7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6.2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9.09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6.6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7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1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7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5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.8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8.3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4.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6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0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5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3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.5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7.69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.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5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9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4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1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.2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7.14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1.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ctr" pos="1054080"/>
                  <a:tab algn="ctr" pos="2336760"/>
                  <a:tab algn="ctr" pos="3135240"/>
                  <a:tab algn="ctr" pos="3948120"/>
                  <a:tab algn="ctr" pos="4746600"/>
                  <a:tab algn="ctr" pos="5559480"/>
                  <a:tab algn="ctr" pos="6372360"/>
                  <a:tab algn="ctr" pos="717084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5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.8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.3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.0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.0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6.67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7"/>
            <p:cNvSpPr/>
            <p:nvPr/>
          </p:nvSpPr>
          <p:spPr>
            <a:xfrm>
              <a:off x="1003320" y="4064040"/>
              <a:ext cx="751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8"/>
            <p:cNvSpPr/>
            <p:nvPr/>
          </p:nvSpPr>
          <p:spPr>
            <a:xfrm>
              <a:off x="1003320" y="3073320"/>
              <a:ext cx="7529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9"/>
            <p:cNvSpPr/>
            <p:nvPr/>
          </p:nvSpPr>
          <p:spPr>
            <a:xfrm>
              <a:off x="1003320" y="5664240"/>
              <a:ext cx="7529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0"/>
            <p:cNvSpPr/>
            <p:nvPr/>
          </p:nvSpPr>
          <p:spPr>
            <a:xfrm>
              <a:off x="3029040" y="3454560"/>
              <a:ext cx="550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11"/>
          <p:cNvSpPr/>
          <p:nvPr/>
        </p:nvSpPr>
        <p:spPr>
          <a:xfrm>
            <a:off x="7061040" y="60548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" descr="Screen Shot 2015-12-05 at 9.42.05 PM.png"/>
          <p:cNvPicPr/>
          <p:nvPr/>
        </p:nvPicPr>
        <p:blipFill>
          <a:blip r:embed="rId1"/>
          <a:stretch/>
        </p:blipFill>
        <p:spPr>
          <a:xfrm>
            <a:off x="984240" y="1700280"/>
            <a:ext cx="709308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able 11.4, determine the sales necessary to equal a dollar of savings on purchases for a company that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net profit of 4% and spends 40% of its revenue on purc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net profit of 6% and spends 80% of its revenue on purc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able 11.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 Net profit of 4%, spends 40% of its revenue on purchases. It will t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.1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ales to equal $1 saved through purch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 Net profit of 6%, spends 80% of its revenue on purchases. It will ta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.69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ales to equal $1 saved through purcha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419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ndor Evalu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85800" y="1422360"/>
          <a:ext cx="7772400" cy="4998960"/>
        </p:xfrm>
        <a:graphic>
          <a:graphicData uri="http://schemas.openxmlformats.org/drawingml/2006/table">
            <a:tbl>
              <a:tblPr/>
              <a:tblGrid>
                <a:gridCol w="4406760"/>
                <a:gridCol w="1130400"/>
                <a:gridCol w="1104840"/>
                <a:gridCol w="1130400"/>
              </a:tblGrid>
              <a:tr h="623160">
                <a:tc>
                  <a:txBody>
                    <a:bodyPr lIns="90000" rIns="90000" tIns="64800" bIns="64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cores (1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eight x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gineering/research/innovation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duction process capability (flexibility/technical assista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istribution/delivery cap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ality systems and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cilities/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nancial and managerial strength (stability and cost struc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formation systems capability (e-procurement, ER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160"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ntegrity (environmental compliance/ ethi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64800" bIns="64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800" bIns="64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dec" pos="380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457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urchasing agent for Woolsey Enterprises in Golden, Colorado, you ask your buyer to provide you with a ranking of “excellent,” “good,” “fair,” or “poor” for a variety of characteristics for two potential vendors. You suggest that “Products” total be weighted 40% and the other three categories’ totals be weighted 20% each. The buyer has returned the following ran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two vendors would you sel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photo 4 (4).JPG"/>
          <p:cNvPicPr/>
          <p:nvPr/>
        </p:nvPicPr>
        <p:blipFill>
          <a:blip r:embed="rId1"/>
          <a:srcRect l="0" t="9576" r="0" b="14916"/>
          <a:stretch/>
        </p:blipFill>
        <p:spPr>
          <a:xfrm>
            <a:off x="614520" y="2854440"/>
            <a:ext cx="769284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Screen Shot 2015-12-05 at 9.28.27 PM.png"/>
          <p:cNvPicPr/>
          <p:nvPr/>
        </p:nvPicPr>
        <p:blipFill>
          <a:blip r:embed="rId1"/>
          <a:stretch/>
        </p:blipFill>
        <p:spPr>
          <a:xfrm>
            <a:off x="1598760" y="1488960"/>
            <a:ext cx="536724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11.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reen Shot 2015-12-05 at 9.28.55 PM.png"/>
          <p:cNvPicPr/>
          <p:nvPr/>
        </p:nvPicPr>
        <p:blipFill>
          <a:blip r:embed="rId1"/>
          <a:stretch/>
        </p:blipFill>
        <p:spPr>
          <a:xfrm>
            <a:off x="1355760" y="1684440"/>
            <a:ext cx="59101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© 2011 Pearson Education, Inc. publishing as Prentice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23600" y="447840"/>
            <a:ext cx="7721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st of Shipping Alterna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755640" y="1917720"/>
            <a:ext cx="702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connectors = $1,750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ing cost = 40%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carrier is 1 day faster and $20 more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4"/>
          <p:cNvGrpSpPr/>
          <p:nvPr/>
        </p:nvGrpSpPr>
        <p:grpSpPr>
          <a:xfrm>
            <a:off x="1152360" y="3492360"/>
            <a:ext cx="7500960" cy="1054080"/>
            <a:chOff x="1152360" y="3492360"/>
            <a:chExt cx="7500960" cy="1054080"/>
          </a:xfrm>
        </p:grpSpPr>
        <p:sp>
          <p:nvSpPr>
            <p:cNvPr id="544" name="Rectangle 5"/>
            <p:cNvSpPr/>
            <p:nvPr/>
          </p:nvSpPr>
          <p:spPr>
            <a:xfrm>
              <a:off x="1152360" y="3671640"/>
              <a:ext cx="2641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ily cost of holding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6"/>
            <p:cNvSpPr/>
            <p:nvPr/>
          </p:nvSpPr>
          <p:spPr>
            <a:xfrm>
              <a:off x="3714840" y="3822480"/>
              <a:ext cx="4938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ctr" pos="1816200"/>
                  <a:tab algn="l" pos="353052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3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7"/>
            <p:cNvGrpSpPr/>
            <p:nvPr/>
          </p:nvGrpSpPr>
          <p:grpSpPr>
            <a:xfrm>
              <a:off x="4094280" y="3492360"/>
              <a:ext cx="3164760" cy="1054080"/>
              <a:chOff x="4094280" y="3492360"/>
              <a:chExt cx="3164760" cy="1054080"/>
            </a:xfrm>
          </p:grpSpPr>
          <p:sp>
            <p:nvSpPr>
              <p:cNvPr id="547" name="Rectangle 8"/>
              <p:cNvSpPr/>
              <p:nvPr/>
            </p:nvSpPr>
            <p:spPr>
              <a:xfrm>
                <a:off x="4094280" y="3519360"/>
                <a:ext cx="14364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nual holding co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9"/>
              <p:cNvSpPr/>
              <p:nvPr/>
            </p:nvSpPr>
            <p:spPr>
              <a:xfrm>
                <a:off x="5788080" y="3674880"/>
                <a:ext cx="147096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roduct val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AutoShape 10"/>
              <p:cNvSpPr/>
              <p:nvPr/>
            </p:nvSpPr>
            <p:spPr>
              <a:xfrm>
                <a:off x="4190760" y="3492360"/>
                <a:ext cx="3009600" cy="105408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Rectangle 11"/>
          <p:cNvSpPr/>
          <p:nvPr/>
        </p:nvSpPr>
        <p:spPr>
          <a:xfrm>
            <a:off x="4214520" y="463716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.40 x $1,750)/ 365 = $1.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581040" y="5145120"/>
            <a:ext cx="7948440" cy="1008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154800" bIns="154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 costs less to hold the product one day longer than it does for the faster shipping ($1.92 &lt; $20), we should use the cheaper, slower shi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33:31Z</dcterms:created>
  <dc:creator>Jeff Heyl</dc:creator>
  <dc:description/>
  <cp:keywords/>
  <dc:language>en-US</dc:language>
  <cp:lastModifiedBy>Moaad</cp:lastModifiedBy>
  <dcterms:modified xsi:type="dcterms:W3CDTF">2015-12-05T18:45:45Z</dcterms:modified>
  <cp:revision>696</cp:revision>
  <dc:subject>Chapter 12 - Inventory Management</dc:subject>
  <dc:title>Heizer/Render 11e</dc:title>
</cp:coreProperties>
</file>