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8.png" ContentType="image/png"/>
  <Override PartName="/ppt/media/image12.jpeg" ContentType="image/jpeg"/>
  <Override PartName="/ppt/media/image11.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ACC4-2C2C-465A-9C95-D1096F6113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azimuth-interactive.com/ESS9_Videos/pdfcases/Chapterapter11_Case1.pdf" TargetMode="External"/><Relationship Id="rId2" Type="http://schemas.openxmlformats.org/officeDocument/2006/relationships/hyperlink" Target="http://www.azimuth-interactive.com/ESS9_Videos/pdfcases/Chapter11_Case2.pdf" TargetMode="External"/><Relationship Id="rId3" Type="http://schemas.openxmlformats.org/officeDocument/2006/relationships/hyperlink" Target="http://www.youtube.com/watch?v=E-o0QmS5TzM"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F395-114B-41F7-8DAD-0F59F6D666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one instructional video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IBM: Business Process Management in a Service-Oriented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Startup Appcelerator For Rapid Rich App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u="sng">
                <a:solidFill>
                  <a:srgbClr val="ccccff"/>
                </a:solidFill>
                <a:uFillTx/>
                <a:latin typeface="Times New Roman"/>
                <a:hlinkClick r:id="rId3"/>
              </a:rPr>
              <a:t>Salesforce and Google: Developing Sales Support Systems with Online Ap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3603-8EE0-4A6B-A8D5-2A853E3937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78F6-7941-4D08-ACC2-80E9B0EA54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bove figure represents just a sample of a full test plan, which would consist of similar tests for all of the major functions of the information system.</a:t>
            </a: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2B16-2C35-4D37-A2CC-3307407816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CF26-DB27-484C-986A-6C32BED79C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ystems are well-suited to the traditional systems development lifecycle? One answer is larger, complex systems requiring rigorous and formal requirements analysis and tight controls. What types of systems are not well-suited? Smaller, more individualized desktop systems are not suited for a traditional design process.  </a:t>
            </a: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D6A1-DB36-4CC6-A92E-26311D4E48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ing is an explicitly iterative process. The term iterative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potential advantages and disadvantages of prototyping. For example, why is prototyping useful if there is uncertainty in requirements? What kinds of essential steps might be glossed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FE00-EA22-41FA-9199-CB3E39AE74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C3B2-C70B-49B6-A853-675FDE4503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FFBE-0506-41F1-9F72-448FB443A2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64C6-21C7-463A-BF9A-DD8135468B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s requirements for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e amount of work involved in partnering and sharing work with a vendor. It may take anywhere from three months to a year to fully transfer work to a vendor. What other types of hidden costs can students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7EA7-781D-42C5-8D97-EC652BBF6D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activities involved in systems development and the various methodologies used to build information systems. Ask students to give their first impressions on how a new information system could produce organizational change. Give an example of a type of business and a new system, for example, a business that introduces an automated call-answering system to direct sales and technical inquiries to the right department.  </a:t>
            </a:r>
            <a:endParaRPr b="0" lang="en-US" sz="1200" spc="-1" strike="noStrike">
              <a:solidFill>
                <a:srgbClr val="000000"/>
              </a:solidFill>
              <a:latin typeface="Times New Roman"/>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933C-D448-4499-BA87-82D60C4C37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percent.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7C34-FCC8-407E-8994-03551D1C80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A246-9E71-4A9D-9A16-794961BC88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application development is one of several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CASE tools, prototyp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7C5D-096D-4893-BF5D-4DFAECEC6D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FD66-F1DD-4391-893B-C47C7A06BF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AC5C-6A2D-43EA-A82A-90168D380F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6202-59E7-4068-918B-9E3D893043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6D0A-5DF7-4515-849E-DD19EDC3DD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s credit, procurement, or placing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221C-F0B9-4222-BF06-FA34A123C6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C99E-1C75-4E9D-A8FF-2A4DE49E25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systems offer powerful solutions, but only if they can be implemented in a timely and economic fashion. Project management is the art of bringing together the skills and talents of a business firm to achieve some well defined objectives. The main dimensions of project management are given in the slide above. Ask students what has been their experience working on projects, or perhaps as project managers.  </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A07E-42EE-4943-9F32-0A67BEA24B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BBB4-9603-481B-926B-9A0164B388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y think were the most important factors leading to failure. Was it the technology, the management of the project, or the organization which was primarily to blame?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8E6C-F531-4B69-938E-C99B3E1A3D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are developed often for reasons that have nothing to do with the benefits to the firm. One of the more difficult tasks of management is to choose which of many projects should be developed, and how to rank order them in terms of positive impacts on the firm. Intangible benefits are often difficult to quantify, and yet may be the most important ultimately in terms of revenues and earnings.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D76A-FAD8-474D-9C08-A2E76A7D91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033F-8411-431D-B4DB-20DF6C719A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any have had experience with failed system projects, or worked with systems that were poorly designed. What factors do they think were involved? </a:t>
            </a: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EEA1-DA0D-4AC6-80DF-B608795803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D764-DCB4-43D1-8E76-F9DA1A8AF8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F794-7289-408E-97C9-1DC40B343D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4ED2-50A4-42B8-9792-219AB8429C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9F5D-4C70-46BB-8137-68702588F0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ystems are difficult both because of the different cultures involved, but also because of the scale of operations. One global system that has done fairly well is the international air traffic control system.  Even here however there are a number of issues related to culture. Pilots not understanding the control tower, and vice versa; in some cultures, co-pilots and navigators afraid to question the captain’s judgment even when he or she is wrong.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EA39-B4AA-4BDB-8036-A13A150E10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9990-FB27-4C8D-B36D-224C2FCB7E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513E-1D55-476F-9744-B7078C6B91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s sake, it is a solution to a problem or set of problems the organization perceives it is facing</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97CE-9692-4C0B-8407-DB20A779BE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the orange boxes (systems analysis) and the blue box (implementation): why doesn’t implementation fall into the category of systems analysis? (Because the analysis has already been performed and a solution has been chosen; the final task is to actually create the planned solution.)</a:t>
            </a: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652D-7C5F-475C-B6A6-D39692C0E2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ritical questions that businesses must ask as they begin to plan for the creation of a new information system. What would the result be if these questions were not thoroughly considered and answered prior to construction of the system?</a:t>
            </a:r>
            <a:endParaRPr b="0" lang="en-US" sz="12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6FB9-D23F-4C57-871A-200587CBB9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olutions might not require an information system to fix? Sometimes, existing information systems are sufficient, but users may not be sufficiently trained to use them, for example.</a:t>
            </a:r>
            <a:endParaRPr b="0" lang="en-US" sz="1200" spc="-1" strike="noStrike">
              <a:solidFill>
                <a:srgbClr val="000000"/>
              </a:solidFill>
              <a:latin typeface="Times New Roman"/>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5026-DBDC-4CE5-8840-8A735C9473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FC0E1C29-F683-41EF-B162-7DF597302FFE}"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124080" y="6545160"/>
            <a:ext cx="60199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2" name="Rectangle 1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asibility issu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asibility study</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s and benefi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and disadvan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 managemen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6" name="Rectangle 8"/>
          <p:cNvSpPr/>
          <p:nvPr/>
        </p:nvSpPr>
        <p:spPr>
          <a:xfrm>
            <a:off x="457200" y="19810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ing the change</a:t>
            </a:r>
            <a:endParaRPr b="0" lang="en-US" sz="2400" spc="-1" strike="noStrike">
              <a:solidFill>
                <a:srgbClr val="000000"/>
              </a:solidFill>
              <a:latin typeface="Arial"/>
            </a:endParaRPr>
          </a:p>
        </p:txBody>
      </p:sp>
      <p:sp>
        <p:nvSpPr>
          <p:cNvPr id="8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0"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1"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93" name="Picture 2" descr=""/>
          <p:cNvPicPr/>
          <p:nvPr/>
        </p:nvPicPr>
        <p:blipFill>
          <a:blip r:embed="rId1"/>
          <a:stretch/>
        </p:blipFill>
        <p:spPr>
          <a:xfrm>
            <a:off x="2649600" y="2209680"/>
            <a:ext cx="6113520" cy="4114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96"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97" name="Rectangle 1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0"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03" name="Picture 7" descr="fig11"/>
          <p:cNvPicPr/>
          <p:nvPr/>
        </p:nvPicPr>
        <p:blipFill>
          <a:blip r:embed="rId1"/>
          <a:stretch/>
        </p:blipFill>
        <p:spPr>
          <a:xfrm>
            <a:off x="3124080" y="2354400"/>
            <a:ext cx="5410440" cy="3360600"/>
          </a:xfrm>
          <a:prstGeom prst="rect">
            <a:avLst/>
          </a:prstGeom>
          <a:ln w="0">
            <a:noFill/>
          </a:ln>
        </p:spPr>
      </p:pic>
      <p:sp>
        <p:nvSpPr>
          <p:cNvPr id="1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06"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0"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245120" y="2209680"/>
            <a:ext cx="3527280" cy="419112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1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17"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0"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duces time required to produce a finished application</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ten leads to higher level of user involvement and satisfaction with syst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lso poses risks because systems are created so quickly, without formal development methodology, testing, documentation</a:t>
            </a:r>
            <a:endParaRPr b="0" lang="en-US" sz="20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4"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should information systems projects be selected and evaluated?</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28" name="Text Box 3"/>
          <p:cNvSpPr/>
          <p:nvPr/>
        </p:nvSpPr>
        <p:spPr>
          <a:xfrm>
            <a:off x="685800" y="5638680"/>
            <a:ext cx="77724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a firm spends $10 million on offshore outsourcing contracts, that company will actually spend 15.2 percent in extra costs even under the best-case scenario. In the worst-case scenario, where there is a dramatic drop in productivity along with exceptionally high transition and layoff costs, a firm can expect to pay up to 57 percent in extra costs on top of the $10 million outlay for an offshore contract.</a:t>
            </a:r>
            <a:endParaRPr b="0" lang="en-US" sz="9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31" name="Picture 2" descr=""/>
          <p:cNvPicPr/>
          <p:nvPr/>
        </p:nvPicPr>
        <p:blipFill>
          <a:blip r:embed="rId1"/>
          <a:stretch/>
        </p:blipFill>
        <p:spPr>
          <a:xfrm>
            <a:off x="914400" y="2133720"/>
            <a:ext cx="7362720" cy="3429000"/>
          </a:xfrm>
          <a:prstGeom prst="rect">
            <a:avLst/>
          </a:prstGeom>
          <a:ln w="0">
            <a:noFill/>
          </a:ln>
        </p:spPr>
      </p:pic>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457200" y="16002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Zimbra Zooms Ahead with OneView</a:t>
            </a:r>
            <a:endParaRPr b="0" lang="en-US" sz="2400" spc="-1" strike="noStrike">
              <a:solidFill>
                <a:srgbClr val="000000"/>
              </a:solidFill>
              <a:latin typeface="Arial"/>
            </a:endParaRPr>
          </a:p>
        </p:txBody>
      </p:sp>
      <p:sp>
        <p:nvSpPr>
          <p:cNvPr id="134" name="Rectangle 8"/>
          <p:cNvSpPr/>
          <p:nvPr/>
        </p:nvSpPr>
        <p:spPr>
          <a:xfrm>
            <a:off x="457200" y="205740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the steps in Zimbra’s sales process. How well did its old marketing automation system support that process? What problems did it create? What was the business impact of these problems?</a:t>
            </a:r>
            <a:endParaRPr b="0" lang="en-US" sz="2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and describe Zimbra’s requirements for a new marketing software package. If you were preparing the RFP for Zimbra’s new system, what questions would you ask?</a:t>
            </a:r>
            <a:endParaRPr b="0" lang="en-US" sz="2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new marketing system change the way Zimbra ran its business? How successful was i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8" name="Rectangle 10"/>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gility and scalability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pid application development (RAD)</a:t>
            </a:r>
            <a:endParaRPr b="0" lang="en-US" sz="24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reating workable systems in a very short period of time</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t application design (JAD)</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nd users and information systems specialists working together on design</a:t>
            </a:r>
            <a:endParaRPr b="0" lang="en-US" sz="2200" spc="-1" strike="noStrike">
              <a:solidFill>
                <a:srgbClr val="000000"/>
              </a:solidFill>
              <a:latin typeface="Arial"/>
            </a:endParaRPr>
          </a:p>
        </p:txBody>
      </p:sp>
      <p:sp>
        <p:nvSpPr>
          <p:cNvPr id="13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8"/>
          <p:cNvSpPr/>
          <p:nvPr/>
        </p:nvSpPr>
        <p:spPr>
          <a:xfrm>
            <a:off x="457200" y="16765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uctured methodologies</a:t>
            </a:r>
            <a:endParaRPr b="0" lang="en-US" sz="24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flow diagram</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cess specifications</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ucture chart</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evelopment</a:t>
            </a:r>
            <a:endParaRPr b="0" lang="en-US" sz="24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d on concepts of class and inheritance</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onent-based development and Web service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aided software engineering (CASE)</a:t>
            </a:r>
            <a:endParaRPr b="0" lang="en-US" sz="2400" spc="-1" strike="noStrike">
              <a:solidFill>
                <a:srgbClr val="000000"/>
              </a:solidFill>
              <a:latin typeface="Arial"/>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1"/>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2514600" y="2514600"/>
            <a:ext cx="6553080" cy="3710160"/>
          </a:xfrm>
          <a:prstGeom prst="rect">
            <a:avLst/>
          </a:prstGeom>
          <a:ln w="0">
            <a:noFill/>
          </a:ln>
        </p:spPr>
      </p:pic>
      <p:sp>
        <p:nvSpPr>
          <p:cNvPr id="145"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46"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47"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48"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1" name="Text Box 3"/>
          <p:cNvSpPr/>
          <p:nvPr/>
        </p:nvSpPr>
        <p:spPr>
          <a:xfrm>
            <a:off x="762120" y="5486400"/>
            <a:ext cx="7619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tructure chart shows the highest or most abstract level of design for a payroll system, providing an overview of the entire system.</a:t>
            </a:r>
            <a:endParaRPr b="0" lang="en-US" sz="1400" spc="-1" strike="noStrike">
              <a:solidFill>
                <a:srgbClr val="000000"/>
              </a:solidFill>
              <a:latin typeface="Arial"/>
            </a:endParaRPr>
          </a:p>
        </p:txBody>
      </p:sp>
      <p:sp>
        <p:nvSpPr>
          <p:cNvPr id="15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3"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pic>
        <p:nvPicPr>
          <p:cNvPr id="154" name="Picture 2" descr=""/>
          <p:cNvPicPr/>
          <p:nvPr/>
        </p:nvPicPr>
        <p:blipFill>
          <a:blip r:embed="rId1"/>
          <a:stretch/>
        </p:blipFill>
        <p:spPr>
          <a:xfrm>
            <a:off x="304920" y="2438280"/>
            <a:ext cx="8532720" cy="23353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57"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58"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59"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pic>
        <p:nvPicPr>
          <p:cNvPr id="160" name="Picture 8" descr="fig11"/>
          <p:cNvPicPr/>
          <p:nvPr/>
        </p:nvPicPr>
        <p:blipFill>
          <a:blip r:embed="rId1"/>
          <a:stretch/>
        </p:blipFill>
        <p:spPr>
          <a:xfrm>
            <a:off x="2286000" y="2209680"/>
            <a:ext cx="4789440" cy="356400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3"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64" name="Rectangle 4"/>
          <p:cNvSpPr/>
          <p:nvPr/>
        </p:nvSpPr>
        <p:spPr>
          <a:xfrm>
            <a:off x="457200" y="1828800"/>
            <a:ext cx="830592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heritanc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d to create e-commerce application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67"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68" name="Rectangle 4"/>
          <p:cNvSpPr/>
          <p:nvPr/>
        </p:nvSpPr>
        <p:spPr>
          <a:xfrm>
            <a:off x="457200" y="1828800"/>
            <a:ext cx="830592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vides software tools to automate the previously described methodologie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duces repetitive work in systems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SE tools facilitate clear documentation and coordination of team development effort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st productivity benefits if tools are used correctly</a:t>
            </a: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1"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172" name="Rectangle 4"/>
          <p:cNvSpPr/>
          <p:nvPr/>
        </p:nvSpPr>
        <p:spPr>
          <a:xfrm>
            <a:off x="457200" y="1523880"/>
            <a:ext cx="830592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lanned series of related activities for achieving a specific business objectiv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5"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Picture 5" descr=""/>
          <p:cNvPicPr/>
          <p:nvPr/>
        </p:nvPicPr>
        <p:blipFill>
          <a:blip r:embed="rId1"/>
          <a:stretch/>
        </p:blipFill>
        <p:spPr>
          <a:xfrm>
            <a:off x="4114800" y="1752480"/>
            <a:ext cx="4857840" cy="3048120"/>
          </a:xfrm>
          <a:prstGeom prst="rect">
            <a:avLst/>
          </a:prstGeom>
          <a:ln w="0">
            <a:noFill/>
          </a:ln>
        </p:spPr>
      </p:pic>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6"/>
          <p:cNvSpPr/>
          <p:nvPr/>
        </p:nvSpPr>
        <p:spPr>
          <a:xfrm>
            <a:off x="457200" y="161280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aiser Permanente Botches Its Kidney Transplant Center Project</a:t>
            </a:r>
            <a:endParaRPr b="0" lang="en-US" sz="2400" spc="-1" strike="noStrike">
              <a:solidFill>
                <a:srgbClr val="000000"/>
              </a:solidFill>
              <a:latin typeface="Arial"/>
            </a:endParaRPr>
          </a:p>
        </p:txBody>
      </p:sp>
      <p:sp>
        <p:nvSpPr>
          <p:cNvPr id="175" name="Rectangle 19"/>
          <p:cNvSpPr/>
          <p:nvPr/>
        </p:nvSpPr>
        <p:spPr>
          <a:xfrm>
            <a:off x="53352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assify and describe the problems Kaiser faced in setting up the transplant center. What was the role of information systems and information management in these problem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ere the people, organization, and technology factors responsible for those problem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steps would you have taken to increase the project’s chances for succes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re there any ethical problems created by this failed project? Explain your answer.</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1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79"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180" name="Rectangle 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termining project costs and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angible benefits</a:t>
            </a:r>
            <a:endParaRPr b="0" lang="en-US" sz="22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angible benefits</a:t>
            </a:r>
            <a:endParaRPr b="0" lang="en-US" sz="22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apital budgeting method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pla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folio analysis</a:t>
            </a:r>
            <a:endParaRPr b="0" lang="en-US" sz="2400" spc="-1" strike="noStrike">
              <a:solidFill>
                <a:srgbClr val="000000"/>
              </a:solidFill>
              <a:latin typeface="Arial"/>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coring model</a:t>
            </a:r>
            <a:endParaRPr b="0" lang="en-US" sz="22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3"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pic>
        <p:nvPicPr>
          <p:cNvPr id="186" name="Picture 7" descr="fig11"/>
          <p:cNvPicPr/>
          <p:nvPr/>
        </p:nvPicPr>
        <p:blipFill>
          <a:blip r:embed="rId1"/>
          <a:stretch/>
        </p:blipFill>
        <p:spPr>
          <a:xfrm>
            <a:off x="3200400" y="2133720"/>
            <a:ext cx="5562720" cy="297468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89"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T char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4"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195" name="Object 2"/>
          <p:cNvGraphicFramePr/>
          <p:nvPr/>
        </p:nvGraphicFramePr>
        <p:xfrm>
          <a:off x="457200" y="2247840"/>
          <a:ext cx="8277120" cy="3086280"/>
        </p:xfrm>
        <a:graphic>
          <a:graphicData uri="http://schemas.openxmlformats.org/presentationml/2006/ole">
            <p:oleObj r:id="rId1" spid="">
              <p:embed/>
              <p:pic>
                <p:nvPicPr>
                  <p:cNvPr id="196" name="Object 2" descr=""/>
                  <p:cNvPicPr/>
                  <p:nvPr/>
                </p:nvPicPr>
                <p:blipFill>
                  <a:blip r:embed="rId2"/>
                  <a:stretch/>
                </p:blipFill>
                <p:spPr>
                  <a:xfrm>
                    <a:off x="457200" y="2247840"/>
                    <a:ext cx="8277120" cy="3086280"/>
                  </a:xfrm>
                  <a:prstGeom prst="rect">
                    <a:avLst/>
                  </a:prstGeom>
                  <a:ln w="0">
                    <a:noFill/>
                  </a:ln>
                </p:spPr>
              </p:pic>
            </p:oleObj>
          </a:graphicData>
        </a:graphic>
      </p:graphicFrame>
      <p:sp>
        <p:nvSpPr>
          <p:cNvPr id="197" name="Text Box 4"/>
          <p:cNvSpPr/>
          <p:nvPr/>
        </p:nvSpPr>
        <p:spPr>
          <a:xfrm>
            <a:off x="990720" y="5562720"/>
            <a:ext cx="7238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endParaRPr b="0" lang="en-US" sz="9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202" name="Object 3"/>
          <p:cNvGraphicFramePr/>
          <p:nvPr/>
        </p:nvGraphicFramePr>
        <p:xfrm>
          <a:off x="152280" y="2482920"/>
          <a:ext cx="8839440" cy="2851200"/>
        </p:xfrm>
        <a:graphic>
          <a:graphicData uri="http://schemas.openxmlformats.org/presentationml/2006/ole">
            <p:oleObj r:id="rId1" spid="">
              <p:embed/>
              <p:pic>
                <p:nvPicPr>
                  <p:cNvPr id="203" name="Object 3" descr=""/>
                  <p:cNvPicPr/>
                  <p:nvPr/>
                </p:nvPicPr>
                <p:blipFill>
                  <a:blip r:embed="rId2"/>
                  <a:stretch/>
                </p:blipFill>
                <p:spPr>
                  <a:xfrm>
                    <a:off x="152280" y="2482920"/>
                    <a:ext cx="8839440" cy="2851200"/>
                  </a:xfrm>
                  <a:prstGeom prst="rect">
                    <a:avLst/>
                  </a:prstGeom>
                  <a:ln w="0">
                    <a:noFill/>
                  </a:ln>
                </p:spPr>
              </p:pic>
            </p:oleObj>
          </a:graphicData>
        </a:graphic>
      </p:graphicFrame>
      <p:sp>
        <p:nvSpPr>
          <p:cNvPr id="2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7"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208" name="Object 2"/>
          <p:cNvGraphicFramePr/>
          <p:nvPr/>
        </p:nvGraphicFramePr>
        <p:xfrm>
          <a:off x="609480" y="2133720"/>
          <a:ext cx="7991640" cy="3914640"/>
        </p:xfrm>
        <a:graphic>
          <a:graphicData uri="http://schemas.openxmlformats.org/presentationml/2006/ole">
            <p:oleObj r:id="rId1" spid="">
              <p:embed/>
              <p:pic>
                <p:nvPicPr>
                  <p:cNvPr id="209" name="Object 2" descr=""/>
                  <p:cNvPicPr/>
                  <p:nvPr/>
                </p:nvPicPr>
                <p:blipFill>
                  <a:blip r:embed="rId2"/>
                  <a:stretch/>
                </p:blipFill>
                <p:spPr>
                  <a:xfrm>
                    <a:off x="609480" y="2133720"/>
                    <a:ext cx="7991640" cy="3914640"/>
                  </a:xfrm>
                  <a:prstGeom prst="rect">
                    <a:avLst/>
                  </a:prstGeom>
                  <a:ln w="0">
                    <a:noFill/>
                  </a:ln>
                </p:spPr>
              </p:pic>
            </p:oleObj>
          </a:graphicData>
        </a:graphic>
      </p:graphicFrame>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38509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3"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214"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5" name="Picture 16" descr="Fig-14-9"/>
          <p:cNvPicPr/>
          <p:nvPr/>
        </p:nvPicPr>
        <p:blipFill>
          <a:blip r:embed="rId1"/>
          <a:stretch/>
        </p:blipFill>
        <p:spPr>
          <a:xfrm>
            <a:off x="2514600" y="2286000"/>
            <a:ext cx="5921280" cy="3581280"/>
          </a:xfrm>
          <a:prstGeom prst="rect">
            <a:avLst/>
          </a:prstGeom>
          <a:ln w="0">
            <a:noFill/>
          </a:ln>
        </p:spPr>
      </p:pic>
      <p:sp>
        <p:nvSpPr>
          <p:cNvPr id="21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8"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9"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23"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24"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9"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ntuit’s QuickBase for Corporate Workgroups software service</a:t>
            </a:r>
            <a:r>
              <a:rPr b="1" lang="en-US" sz="2400" spc="-1" strike="noStrike">
                <a:solidFill>
                  <a:srgbClr val="000000"/>
                </a:solidFill>
                <a:latin typeface="Arial"/>
              </a:rPr>
              <a:t> increased efficiency and reduced errors for a fraction of what competing options cost.</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pdating traditional business processes.</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 as the focus of designing and building new information syste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2" name="Picture 2" descr=""/>
          <p:cNvPicPr/>
          <p:nvPr/>
        </p:nvPicPr>
        <p:blipFill>
          <a:blip r:embed="rId1"/>
          <a:stretch/>
        </p:blipFill>
        <p:spPr>
          <a:xfrm>
            <a:off x="228600" y="1676520"/>
            <a:ext cx="8763120" cy="4456080"/>
          </a:xfrm>
          <a:prstGeom prst="rect">
            <a:avLst/>
          </a:prstGeom>
          <a:ln w="0">
            <a:noFill/>
          </a:ln>
        </p:spPr>
      </p:pic>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65"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8"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69"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1" name="Picture 7" descr="D:\Chapter 11\fig11.01.jpg"/>
          <p:cNvPicPr/>
          <p:nvPr/>
        </p:nvPicPr>
        <p:blipFill>
          <a:blip r:embed="rId1"/>
          <a:stretch/>
        </p:blipFill>
        <p:spPr>
          <a:xfrm>
            <a:off x="2438280" y="2170080"/>
            <a:ext cx="4496040" cy="3773520"/>
          </a:xfrm>
          <a:prstGeom prst="rect">
            <a:avLst/>
          </a:prstGeom>
          <a:ln w="0">
            <a:noFill/>
          </a:ln>
        </p:spPr>
      </p:pic>
      <p:sp>
        <p:nvSpPr>
          <p:cNvPr id="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4" name="Rectangle 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8"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79" name="Rectangle 1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hs to a solution determined by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do not require an information system.</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require modification of existing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require new system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cer</cp:lastModifiedBy>
  <dcterms:modified xsi:type="dcterms:W3CDTF">2011-10-14T17:02:35Z</dcterms:modified>
  <cp:revision>812</cp:revision>
  <dc:subject/>
  <dc:title>PowerPoint Presentation</dc:title>
</cp:coreProperties>
</file>