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F5470-3A89-41CF-A800-98200B556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DB8F3-EDE7-47EB-95C5-975CF33B679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72E88-ACAF-435A-B721-598EEB702E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5B7DC-7C10-4D1B-85BD-F719FDBAC9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7DB33-9AD3-4107-A165-35BD8F77DC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63F38-6FAA-4F7A-9466-4AC816A910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C1159-5BDF-46A7-BC23-6B8C207B05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0CB65-809D-467E-9172-AFF571591D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D6E4E-F6AD-483C-971D-114D6A6536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E681E-CF21-423C-9CDD-97FD1EEB72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27DAA-D619-4795-8B2C-DA87569CAE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CF131-E122-4585-AA10-EC731B0773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2FBA0-2016-492E-BD78-E9DFE12A10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E569A-ED0E-4D3C-8BB2-03F19EF5FC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39134-6200-4454-A2B9-8ADE91EF3B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C0565-7DAF-469B-8AF7-179803F0EB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6CF81-CB8D-4276-B705-54369F30E2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19027-5C06-4E46-AF26-3C620B0C62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DECD-E400-4897-875D-2C2DF364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09480" y="385776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0D0D-D14F-4F1B-AC66-ED592697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85776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865760" y="385776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E8C4-FA5D-4916-AF8A-E97F2246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18200" y="129528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26560" y="129528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09480" y="385776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418200" y="385776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226560" y="385776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1A5A-E245-4BB4-ABBA-69316A56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1B21-F59A-40B0-BBA9-6F079200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D056-2594-4B0E-881C-E5974B49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EDF5-6C7E-4C77-87AD-12A1342D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1CED-5946-40F6-9EB5-4CA143FE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F6EF-410B-4D48-AFCC-927C6D8D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8382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C792-0935-405A-9557-6A5C5210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85776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F476-6947-427B-A956-36B9AA60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5E51-DB52-4FC0-8EB5-F3667390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65760" y="385776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724C-B2A5-42F1-935F-B932A6E1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480" y="385776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3331-65CD-4A94-8AF3-318D8DB7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09480" y="385776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6E48-E306-4338-B389-AC57481F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85776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65760" y="385776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AB32-C72C-461D-BBD2-DDC08C89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18200" y="129528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129528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09480" y="385776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18200" y="385776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26560" y="385776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A7D8-4BD0-48EA-9CD6-30244B4B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39DA-B815-41A3-8739-0B2D53A5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9E3E-267D-4C7D-89FD-33211490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BF96-E784-474E-8421-FF06DEB7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09480" y="151920"/>
            <a:ext cx="83822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A8F0-9E67-4A23-A79E-28EDC32D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85776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9669-B16F-49EF-AB59-A07F7C5F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865760" y="385776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5B2A-B878-471B-B7B2-2EC57F67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65760" y="129528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85776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D6CF-D580-4A57-8DD5-50A4B4C9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1" name="AutoShape 4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5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6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" name="Group 7"/>
          <p:cNvGrpSpPr/>
          <p:nvPr/>
        </p:nvGrpSpPr>
        <p:grpSpPr>
          <a:xfrm>
            <a:off x="77400" y="6040440"/>
            <a:ext cx="531720" cy="726840"/>
            <a:chOff x="77400" y="6040440"/>
            <a:chExt cx="531720" cy="726840"/>
          </a:xfrm>
        </p:grpSpPr>
        <p:sp>
          <p:nvSpPr>
            <p:cNvPr id="5" name="AutoShape 8"/>
            <p:cNvSpPr/>
            <p:nvPr/>
          </p:nvSpPr>
          <p:spPr>
            <a:xfrm flipH="1" rot="5400000">
              <a:off x="234000" y="5883120"/>
              <a:ext cx="2174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9"/>
            <p:cNvSpPr/>
            <p:nvPr/>
          </p:nvSpPr>
          <p:spPr>
            <a:xfrm flipH="1" rot="5400000">
              <a:off x="233280" y="6142680"/>
              <a:ext cx="21888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0"/>
            <p:cNvSpPr/>
            <p:nvPr/>
          </p:nvSpPr>
          <p:spPr>
            <a:xfrm flipH="1" rot="5400000">
              <a:off x="233280" y="6391800"/>
              <a:ext cx="21924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1219320" y="640044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. Levitin “Introduction to the Design &amp; Analysis of Algorithms,” 3rd ed., Ch. 11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7093080" y="6552720"/>
            <a:ext cx="182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56C4-EE29-4E7A-8585-419496FAD88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AutoShape 16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" name="Group 18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6" name="AutoShape 19"/>
            <p:cNvSpPr/>
            <p:nvPr/>
          </p:nvSpPr>
          <p:spPr>
            <a:xfrm rot="16200000">
              <a:off x="226080" y="5756400"/>
              <a:ext cx="2379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0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1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20" name="Group 23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1" name="AutoShape 24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5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6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Rectangle 10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Oval 11"/>
          <p:cNvSpPr/>
          <p:nvPr/>
        </p:nvSpPr>
        <p:spPr>
          <a:xfrm>
            <a:off x="4419720" y="9907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12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A. Levitin “Introduction to the Design &amp; Analysis of Algorithms,” 3rd ed., Ch. 11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B85B-0E6B-4AB2-8608-CC894C925D2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31D5-B960-45D2-8EC1-73BC17D5695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Lower Bound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Lower boun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an estimate on a minimum amount of work needed to solve a given probl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ber of comparisons needed to find the largest element in a set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numbe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ber of comparisons needed to sort an array of s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ber of comparisons necessary  for searching in a sorted arra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ber of multiplications needed to multiply tw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by-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trices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9468-FEDA-43D4-AA19-F06039B87CA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Problem Types: Optimization and Decis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266480"/>
            <a:ext cx="8534520" cy="51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Optimization probl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find a solution that maximizes or minimizes some objective func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Decision probl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answer yes/no to a ques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ny problems have decision and optimization version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.g.: traveling salesman probl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optimizat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find Hamiltonian cycle of minimum length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ecisio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find Hamiltonian cycle of length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cision problems are more convenient for formal investigation of their complexity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8BD0-D242-4034-980A-567CD1C29A0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ass </a:t>
            </a: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P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8224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the class of decision problems that are solvable in 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) time, wher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is a polynomial of problem’s input s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arching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lement uniquenes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raph connectivity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raph acyclicity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imality testing (finally proved in 2002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B449-2B7F-4AAF-B08E-7DD041BCCE2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ass </a:t>
            </a: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NP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1266480"/>
            <a:ext cx="853452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N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(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nondeterministic polynomia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: class of decision problems whose proposed solutions can be verified in polynomial time = solvable  by a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ondeterministi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olynomial algorith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nondeterministic polynomial algorith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an abstract two-stage procedure that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enerates a random string purported to solve the probl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ecks whether this solution is correct in polynomial tim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definition, it solves the problem if it’s capable of generating and verifying a solution on one of its tries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y this definition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ed to development of the rich theory called “computational complexity”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C61F-AEA8-45A7-9377-D2E3B8028C5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xample: CNF satisfiability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: Is a boolean expression in its conjunctive normal form (CNF) satisfiable, i.e., are there values of its variables that makes it true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problem is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.  Nondeterministic algorithm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uess truth assignmen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ubstitute the values into the CNF formula to see if it evaluates to tru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838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xample: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A | 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¬B 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</a:rPr>
              <a:t>| 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¬C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 &amp;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 | 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B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 &amp;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¬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B | 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¬D |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E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&amp;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¬D | ¬E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)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ruth assignments: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99"/>
                </a:solidFill>
                <a:uFillTx/>
                <a:latin typeface="Arial Unicode MS"/>
              </a:rPr>
              <a:t>A B C D 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0  0  0  0  0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.   .   .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1  1  1  1  1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hecking phase: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32C4-8CB1-4741-BE30-15D4E376054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What problems are in </a:t>
            </a: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NP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?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amiltonian circuit existence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artition problem: Is it possible to partition a set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tegers into two disjoint subsets with the same sum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cision versions of TSP, knapsack problem, graph coloring, and many other combinatorial optimization problems.  (Few exceptions include: MST, shortest paths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ll the problems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can also be solved in this manner (no guessing is necessary), so we have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</a:t>
            </a:r>
            <a:r>
              <a:rPr b="1" i="1" lang="en-US" sz="2400" spc="-1" strike="noStrike">
                <a:solidFill>
                  <a:srgbClr val="ffff99"/>
                </a:solidFill>
                <a:latin typeface="Arial Unicode MS"/>
                <a:ea typeface="Arial Unicode MS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Big question: 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ffff99"/>
                </a:solidFill>
                <a:latin typeface="Times New Roman"/>
              </a:rPr>
              <a:t>NP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?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1023-49B7-4CC7-82E3-71A2B965E08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NP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-Complete Problem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15364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decision proble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NP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-complet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f it’s as hard as any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i.e.,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very problem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polynomial-time reducible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ok’s theorem (1971): CNF-sat i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complet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61" name="Picture 4" descr="Fig 10"/>
          <p:cNvPicPr/>
          <p:nvPr/>
        </p:nvPicPr>
        <p:blipFill>
          <a:blip r:embed="rId1"/>
          <a:stretch/>
        </p:blipFill>
        <p:spPr>
          <a:xfrm>
            <a:off x="2778120" y="3048120"/>
            <a:ext cx="453708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4F4C-BE29-46B7-BC52-EC81E6F1CEB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NP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-Complete Problems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266480"/>
            <a:ext cx="8534520" cy="52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the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complete problems obtained through polynomial-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ime reductions from a know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complete probl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s: TSP, knapsack, partition, graph-coloring and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hundreds of other problems of combinatorial natur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65" name="Picture 4" descr="Fig 10"/>
          <p:cNvPicPr/>
          <p:nvPr/>
        </p:nvPicPr>
        <p:blipFill>
          <a:blip r:embed="rId1"/>
          <a:stretch/>
        </p:blipFill>
        <p:spPr>
          <a:xfrm>
            <a:off x="2778120" y="2141640"/>
            <a:ext cx="423216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869F-27EA-4448-8886-909878327C9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P  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= </a:t>
            </a: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NP 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?</a:t>
            </a: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Dilemma Revisited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ould imply that every problem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,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cluding all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lete problems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uld be solved in polynomial tim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a polynomial-time algorithm for just on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-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lete problem is discovered, then every problem i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n be solved in polynomial time, i.e.,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ost but not all researchers believe tha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i.e.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a proper subset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69" name="Picture 4" descr="Fig 10"/>
          <p:cNvPicPr/>
          <p:nvPr/>
        </p:nvPicPr>
        <p:blipFill>
          <a:blip r:embed="rId1"/>
          <a:stretch/>
        </p:blipFill>
        <p:spPr>
          <a:xfrm>
            <a:off x="2666880" y="2971800"/>
            <a:ext cx="426744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C81A-117C-4699-8EA6-8C5C1C2E5A9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Lower Bounds (cont.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wer bound can b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exact count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efficiency class (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Tigh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lower bound: there exists an algorithm with the same efficiency as the lower bound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Lower boun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ightne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rting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 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)                          y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earching in a sorted array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log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 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)                             y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lement uniqueness                              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 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)                          ye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-digit integer multiplication              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)                            unknow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ultiplication of 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-by-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atrices       </a:t>
            </a:r>
            <a:r>
              <a:rPr b="1" lang="en-US" sz="2000" spc="-1" strike="noStrike">
                <a:solidFill>
                  <a:srgbClr val="ffff99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000" spc="-1" strike="noStrike" baseline="30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)                           unknown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5C6A-4BCD-482A-8847-2CFC5C3A8F9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Methods for Establishing Lower Bound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ivial lower bound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formation-theoretic arguments (decision trees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dversary argument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 reductio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393B-6619-4EDD-9C0E-BC304D439F2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rivial Lower Bound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Trivial lower bound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based on counting the number of items that must be processed in input and generated as output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finding max element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polynomial evaluation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rting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lement uniqueness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Hamiltonian circuit existence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clusions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may and may not be useful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be careful in deciding how many elements </a:t>
            </a:r>
            <a:r>
              <a:rPr b="1" lang="en-US" sz="2000" spc="-1" strike="noStrike" u="sng">
                <a:solidFill>
                  <a:srgbClr val="ffff99"/>
                </a:solidFill>
                <a:uFillTx/>
                <a:latin typeface="Times New Roman"/>
              </a:rPr>
              <a:t>must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be processed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B5E4-D07B-412B-AD05-B2A74F10CBD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2120" y="3352680"/>
            <a:ext cx="7848360" cy="350532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Decision Tre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Decision tre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— a convenient model of algorithms involving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mparisons in which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ternal nodes represent comparis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eaves represent outcomes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cision tree for 3-element insertion sor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30" name="Picture 4" descr="Fig 10"/>
          <p:cNvPicPr/>
          <p:nvPr/>
        </p:nvPicPr>
        <p:blipFill>
          <a:blip r:embed="rId1"/>
          <a:stretch/>
        </p:blipFill>
        <p:spPr>
          <a:xfrm>
            <a:off x="1143000" y="3352680"/>
            <a:ext cx="7315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5A2B-C0EB-4ABC-8E80-517966807EA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Decision Trees and Sorting Algorithm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y comparison-based sorting algorithm can be represented by a decision tree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mber of leaves (outcomes)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!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eight of binary tree with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! leaves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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!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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Symbol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inimum number of comparisons in the worst case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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!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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for any comparison-based sorting algorithm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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!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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br>
              <a:rPr sz="2400"/>
            </a:b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s lower bound is tight (mergesort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6D9B-E64F-4063-8F8D-A4BB8C867C9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dversary Argument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Adversary argument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a method of proving a lower bound by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laying role of adversary that makes algorithm work the hardes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adjusting input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 1: “Guessing” a number between 1 an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ith yes/n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questi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dversary:  Puts the number in a larger of the two subset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generated by last question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 2:  Merging two sorted lists of siz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       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…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and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…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dversary: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i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&lt; b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j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f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utput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…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b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&lt;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1" i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requires 2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-1 comparison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f adjacent  element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FB52-9939-4028-BF63-C7E4E019530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Lower Bounds by Problem Reduction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dea: If proble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at least as hard as proble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, then a low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ound f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also a lower bound f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.        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ence, find proble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ith a known lower bound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at can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be reduced to problem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n question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is finding MST for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points in Cartesian plane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element uniqueness problem (known to be in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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g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7093080" y="6553080"/>
            <a:ext cx="182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0565-67CE-4F56-A18B-89848F5E2FB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0920" y="198000"/>
            <a:ext cx="8227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assifying Problem Complexity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the problem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tractable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.e., is there  a polynomial-time (O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) algorithm that solves it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ssible answers: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yes (give examples)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ecause it’s been proved that no algorithm exists at all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(e.g.,  Turing’s </a:t>
            </a: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halting proble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ecause it’s been be proved that any algorithm takes exponential time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nknow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Anany Levitin</dc:creator>
  <dc:description/>
  <dc:language>en-US</dc:language>
  <cp:lastModifiedBy>OUAHID</cp:lastModifiedBy>
  <dcterms:modified xsi:type="dcterms:W3CDTF">2013-06-12T07:58:41Z</dcterms:modified>
  <cp:revision>113</cp:revision>
  <dc:subject/>
  <dc:title>Chapter 11:  Limitations of Algorithm Power </dc:title>
</cp:coreProperties>
</file>