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533B1-A35D-4B4C-A946-C38553FF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5E926-B735-4EF3-812E-E1FB676E8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26652-C1CE-422B-8DCC-17BBA134CC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80BE-C44A-4A59-8EE8-AFEFF4782C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B773E-8F06-4F23-B640-22C14BFD65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2D89-4B98-4E9C-A7C5-27115E7DC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500CC-61E2-447C-8821-F10674CC1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6C23A-F50C-4788-84A0-BCF05E584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C72A0-64A1-4014-A535-E92E1E472E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61FB-B7DA-49A1-A4DD-1CBACBE674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69F8-86F8-4FB6-BA1C-BFB60B4AC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7A36C-1193-4AD3-9635-6AD517155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2323C-BDD5-4391-BB54-8CDE00231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268D-23E0-43C9-949D-B53F9703A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F858-E8C8-4F81-9705-06C98B01D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DA3BE-C5EC-4E7B-89E8-5B1BCAA19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CDC9C-D996-4C6A-8F0B-3948D297A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67044-3D72-468E-8BB6-30EF64242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354-05FD-428F-B13F-B17B7FC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67A-71B9-410E-862D-48D17C8B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A0C-0F99-490D-A8C3-566C1ED0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879-C480-4D98-AEFF-994B80B2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E2C9-5D68-4E2D-81AB-C90BA124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7B7B-4DD2-4A4C-B24A-B79D2B09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DAB-F0F9-48CF-BC80-622C08DF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EA6-E5CB-42B6-99A9-AA3C2C3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3DF-67B9-4FAF-B9C6-58BDEE98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C0AC-DEF1-4CF9-82C9-6FD5F1D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9BFB-9850-4547-B187-AD3DE68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344-8DFF-4E18-ACF5-564876B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1CC-B73F-46B8-9356-28E982B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3E45-3493-4581-B24C-F8639B8C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337-47D9-4E55-9D68-440C182B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22F6-F959-4CB5-9374-E885903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F8C0-E1B1-40DE-9D47-6ED0AAD3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05A-E0D5-4E86-9330-BF0F93FE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927-6FA2-44D5-A47B-09BFF5D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FF9-4189-4BFB-B35C-70FC83D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B41-751C-446B-B8B4-FBB444C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AD4-E8D4-48DE-9520-A6DD7E1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54B-DE38-471E-8688-010A24C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3D4-3F3B-4994-AE49-45BC216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AAB6-44CB-4345-AD56-FEE9BCC1EED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4C0-9FAD-42C1-A5EB-37C662411E7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BD1-BE54-44C2-A22A-33D87C4438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estimate on a minimum amount of work needed to solve a give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find the largest element i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sort an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cessary  for searching in a sorted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 needed to multiply tw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c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0DAB-9DB3-4C9D-8BAD-D193FC7FD2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Types: Optimization and Decis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solution that maximizes or minimizes some objective fun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swer yes/no to a ques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have decision and optimization vers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.g.: traveling salesma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minimum leng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length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problems are more convenient for formal investigation of their complexit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912-21B6-427D-8A24-E79ACB71006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822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e class of decision problems that are solvable in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time,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a polynomial of problem’s input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connectivit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acyclic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lity testing (finally proved in 200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C71-A7F4-41E4-ABF8-A4356EC0869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class of decision problems whose proposed solutions can be verified in polynomial time = solvable  by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ndeterminis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nomial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abstract two-stage procedure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tes a random string purported to solve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s whether this solution is correct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tion, it solves the problem if it’s capable of generating and verifying a solution on one of its tries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this definitio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d to development of the rich theory called “computational complexity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C1D-83E3-4C35-96A7-FA7C1A2DCE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: CNF satisfiabil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s a boolean expression in its conjunctive normal form (CNF) satisfiable, i.e., are there values of its variables that makes it tru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Nondeterministic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uess truth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e the values into the CNF formula to see if it evaluates to tr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A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B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C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 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B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 ¬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ruth assignments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 Unicode MS"/>
              </a:rPr>
              <a:t>A B C D 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0  0  0  0  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   .   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  1  1  1  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phase: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0961-AEBF-4C27-8DD6-6ABECE93055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problems are in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miltonian circuit existenc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tition problem: Is it possible to partitio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gers into two disjoint subsets with the same su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versions of TSP, knapsack problem, graph coloring, and many other combinatorial optimization problems.  (Few exceptions include: MST, shortest path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the problem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also be solved in this manner (no guessing is necessary), so we hav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</a:t>
            </a:r>
            <a:r>
              <a:rPr b="1" i="1" lang="en-US" sz="24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ig question: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946-9121-4D31-B38F-DC3D51E7FEB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1536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ecision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-comple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’s as hard as an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olynomial-time reducibl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’s theorem (1971): CNF-sat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1" name="Picture 4" descr="Fig 10"/>
          <p:cNvPicPr/>
          <p:nvPr/>
        </p:nvPicPr>
        <p:blipFill>
          <a:blip r:embed="rId1"/>
          <a:stretch/>
        </p:blipFill>
        <p:spPr>
          <a:xfrm>
            <a:off x="2778120" y="3048120"/>
            <a:ext cx="4537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83B9-AA18-4280-A5BA-389B556D848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s obtained through polynomial-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reductions from a know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TSP, knapsack, partition, graph-coloring a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hundreds of other problems of combinatorial 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5" name="Picture 4" descr="Fig 10"/>
          <p:cNvPicPr/>
          <p:nvPr/>
        </p:nvPicPr>
        <p:blipFill>
          <a:blip r:embed="rId1"/>
          <a:stretch/>
        </p:blipFill>
        <p:spPr>
          <a:xfrm>
            <a:off x="2778120" y="2141640"/>
            <a:ext cx="4232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E15D-1673-4BE1-AFC3-BDD6591FB1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 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lemma Revisite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 imply that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cluding al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s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 be solved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polynomial-time algorithm for just 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 is discovered, then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solved in polynomial time, i.e.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but not all researchers believe t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proper sub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Picture 4" descr="Fig 10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636B-B8FD-40C9-80FD-D8E8633B7B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 can b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ct coun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fficiency class 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wer bound: there exists an algorithm with the same efficiency as the lower b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ght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arching in a sorted arra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      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digit integer multiplication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plication of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trices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60A1-33EE-46D7-99BF-2AD47CD648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thods for Establishing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 lower bound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-theoretic arguments (decision trees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 argu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7ACD-4F2C-4288-BF0F-199644206A2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ivial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ivial lower bou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ased on counting the number of items that must be processed in input and generated as output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ing max elemen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lynomial evaluation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miltonian circuit exist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clusion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y and may not be useful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 careful in deciding how many elements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mu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 proces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CF2-5AA1-4F89-B9F5-4043A559386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2120" y="3352680"/>
            <a:ext cx="7848360" cy="350532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— a convenient model of algorithms involv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in which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nal nodes represent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ves represent outcome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tree for 3-element insertion 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0" name="Picture 4" descr="Fig 10"/>
          <p:cNvPicPr/>
          <p:nvPr/>
        </p:nvPicPr>
        <p:blipFill>
          <a:blip r:embed="rId1"/>
          <a:stretch/>
        </p:blipFill>
        <p:spPr>
          <a:xfrm>
            <a:off x="1143000" y="335268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680-4A67-476B-A9C5-820CFF8E677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 and Sort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comparison-based sorting algorithm can be represented by a decision tre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leaves (outcomes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 of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 leaves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Symbo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number of comparisons in the worst case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r any comparison-based sorting algorithm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lower bound is tight (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DE5-4C72-47C5-8BC7-3D2B1E55CE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dversary Argument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dversary argu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method of proving a lower bound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laying role of adversary that makes algorithm work the hard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adjusting inpu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1: “Guessing” a number between 1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yes/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es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 Puts the number in a larger of the two subset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generated by last question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2:  Merging two sorted lists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&lt;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quires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adjacent 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6D05-A7A7-4CD1-9747-D5B7AD9454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by 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a: If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t least as hard as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a l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lso a lower 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.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nce, find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a known lower boun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ca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be reduced to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question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inding MST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oints in Cartesian plan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lement uniqueness problem (known to b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EBCF-259C-4D2D-A94B-22246B2C7A5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98000"/>
            <a:ext cx="8227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ifying Problem Complex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problem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actabl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is there  a polynomial-time (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algorithm that solves i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answ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es (give example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proved that no algorithm exists at all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e.g.,  Turing’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alting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be proved that any algorithm takes exponential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8:41Z</dcterms:modified>
  <cp:revision>113</cp:revision>
  <dc:subject/>
  <dc:title>Chapter 11:  Limitations of Algorithm Power </dc:title>
</cp:coreProperties>
</file>