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B558-6BBF-427E-8805-D856AD95B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8038-A236-42FF-B4B8-70FCAB7FB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F888-D525-46DB-BAB1-D6A32018A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9B9A-0857-43DA-BBA7-9C1DE2431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87034-CE41-4E06-BBDA-9C529D281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B6727-06D6-4EAC-9310-77ECC34D0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C4B6-51F3-4415-9568-7D80FEB8A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89E38-5601-4F91-86A6-9BE7DF91C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52ACF-2C3D-4A6F-866B-82C03B1110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1392-DE0D-49B0-AE16-11D01D348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50B0D-6C20-418C-9F5F-F9D0F1D86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B9C-3145-4E64-96D7-F6BE826F3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AB418-813B-499D-8991-C5227BFBD9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82BD-462E-4191-B93C-FDE851699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1AF5-1E96-4A78-8C84-E33E33973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6A27-ED64-4EA4-B289-93427D6E6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930B-90EB-4CFE-8CCB-D0D2E4C40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1766-EBFB-4330-A614-0E845FB80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769D-754F-4C40-8562-917B16658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1E71-4154-4DDC-A583-19E682DF8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E54E-3EEB-4B47-BB91-FC5260B26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DA36-7E4C-452A-AB7A-8CAF9C965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C824-19FF-4D7A-87EC-C020BFFB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57E0-88F2-4BCC-A6C3-698E8E589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6CD0E52-DF8E-4F25-AC84-E37A2D6D7F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49A44D9-F762-4FD1-B868-0C8122EC0D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9AEA044E-6CF2-440B-A38F-B4B8E9A4CF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thesis Tests and Estim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Population Varian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522D9C5-7A37-4A94-9150-0EAAD811F5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91440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ower Tail or Two Taile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i-square Test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410080" y="22096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914400" y="22096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6781680" y="4361040"/>
            <a:ext cx="1371600" cy="21564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6772320" y="436248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553080" y="5257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609480" y="4089240"/>
            <a:ext cx="30348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609480" y="3505320"/>
            <a:ext cx="304812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61960" y="4572000"/>
            <a:ext cx="32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61960" y="3454560"/>
            <a:ext cx="144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1295280" y="487692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8380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914400" y="4876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 flipH="1">
            <a:off x="5335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0" y="4876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6858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685800" y="51055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37339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Line 34"/>
          <p:cNvSpPr/>
          <p:nvPr/>
        </p:nvSpPr>
        <p:spPr>
          <a:xfrm flipV="1">
            <a:off x="91440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V="1">
            <a:off x="541008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Freeform 40"/>
          <p:cNvSpPr/>
          <p:nvPr/>
        </p:nvSpPr>
        <p:spPr>
          <a:xfrm>
            <a:off x="5105520" y="4089240"/>
            <a:ext cx="30312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Freeform 41"/>
          <p:cNvSpPr/>
          <p:nvPr/>
        </p:nvSpPr>
        <p:spPr>
          <a:xfrm>
            <a:off x="5105520" y="3505320"/>
            <a:ext cx="30477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Line 42"/>
          <p:cNvSpPr/>
          <p:nvPr/>
        </p:nvSpPr>
        <p:spPr>
          <a:xfrm>
            <a:off x="5057640" y="4572000"/>
            <a:ext cx="324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Line 43"/>
          <p:cNvSpPr/>
          <p:nvPr/>
        </p:nvSpPr>
        <p:spPr>
          <a:xfrm flipV="1">
            <a:off x="5057640" y="345456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44"/>
          <p:cNvSpPr/>
          <p:nvPr/>
        </p:nvSpPr>
        <p:spPr>
          <a:xfrm>
            <a:off x="5638680" y="4876920"/>
            <a:ext cx="10670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Line 45"/>
          <p:cNvSpPr/>
          <p:nvPr/>
        </p:nvSpPr>
        <p:spPr>
          <a:xfrm>
            <a:off x="53341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Line 46"/>
          <p:cNvSpPr/>
          <p:nvPr/>
        </p:nvSpPr>
        <p:spPr>
          <a:xfrm>
            <a:off x="541008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Line 47"/>
          <p:cNvSpPr/>
          <p:nvPr/>
        </p:nvSpPr>
        <p:spPr>
          <a:xfrm flipH="1">
            <a:off x="50292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685800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510552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5181480" y="5257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82296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Line 52"/>
          <p:cNvSpPr/>
          <p:nvPr/>
        </p:nvSpPr>
        <p:spPr>
          <a:xfrm flipV="1">
            <a:off x="541008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71629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708624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 flipV="1">
            <a:off x="67816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 flipH="1">
            <a:off x="678168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449568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Line 58"/>
          <p:cNvSpPr/>
          <p:nvPr/>
        </p:nvSpPr>
        <p:spPr>
          <a:xfrm>
            <a:off x="4343400" y="1905120"/>
            <a:ext cx="0" cy="4343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Text Box 59"/>
          <p:cNvSpPr/>
          <p:nvPr/>
        </p:nvSpPr>
        <p:spPr>
          <a:xfrm>
            <a:off x="914400" y="1828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Text Box 60"/>
          <p:cNvSpPr/>
          <p:nvPr/>
        </p:nvSpPr>
        <p:spPr>
          <a:xfrm>
            <a:off x="5486400" y="1828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6553080" y="5715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5181480" y="5715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84666709-2D3F-4AA3-9683-9A5B86FAAF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2501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fidence Interval Estimate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41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Freeform 6"/>
          <p:cNvSpPr/>
          <p:nvPr/>
        </p:nvSpPr>
        <p:spPr>
          <a:xfrm>
            <a:off x="2438280" y="4513320"/>
            <a:ext cx="1371600" cy="21600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Freeform 7"/>
          <p:cNvSpPr/>
          <p:nvPr/>
        </p:nvSpPr>
        <p:spPr>
          <a:xfrm>
            <a:off x="2428920" y="451476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209680" y="46483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 flipV="1">
            <a:off x="1066680" y="4267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762120" y="4241880"/>
            <a:ext cx="30312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762120" y="3657600"/>
            <a:ext cx="30477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714240" y="4724280"/>
            <a:ext cx="324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 flipV="1">
            <a:off x="714240" y="360684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990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8380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38862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>
            <a:off x="2742840" y="4267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Text Box 44"/>
          <p:cNvSpPr/>
          <p:nvPr/>
        </p:nvSpPr>
        <p:spPr>
          <a:xfrm>
            <a:off x="2209680" y="5105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83808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estimate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7"/>
              <p:cNvSpPr txBox="1"/>
              <p:nvPr/>
            </p:nvSpPr>
            <p:spPr>
              <a:xfrm>
                <a:off x="4419720" y="3048120"/>
                <a:ext cx="4176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≤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48"/>
          <p:cNvSpPr/>
          <p:nvPr/>
        </p:nvSpPr>
        <p:spPr>
          <a:xfrm>
            <a:off x="4724280" y="5029200"/>
            <a:ext cx="37339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from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 with n -1 degrees of freedo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AF33EA91-25B4-4330-B006-5F79B3CB92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Picture 2" descr="j0126948[1]"/>
          <p:cNvPicPr/>
          <p:nvPr/>
        </p:nvPicPr>
        <p:blipFill>
          <a:blip r:embed="rId1"/>
          <a:stretch/>
        </p:blipFill>
        <p:spPr>
          <a:xfrm>
            <a:off x="4876920" y="3505320"/>
            <a:ext cx="3833640" cy="2768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of 16 freezers yields a sample variance of 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95% confidence interval for the population vari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2E4F3BD0-D9BA-48D1-ACA0-D2E4D3866A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hi-square table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487800" y="4952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.262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198108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  and  16 – 1 = 15  d.f.)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2181240" y="3903840"/>
            <a:ext cx="1371600" cy="21564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5" name="Freeform 32"/>
          <p:cNvSpPr/>
          <p:nvPr/>
        </p:nvSpPr>
        <p:spPr>
          <a:xfrm>
            <a:off x="2171880" y="390528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1952640" y="4038480"/>
            <a:ext cx="117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.02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V="1">
            <a:off x="80964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Freeform 35"/>
          <p:cNvSpPr/>
          <p:nvPr/>
        </p:nvSpPr>
        <p:spPr>
          <a:xfrm>
            <a:off x="504720" y="3632040"/>
            <a:ext cx="30348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Freeform 36"/>
          <p:cNvSpPr/>
          <p:nvPr/>
        </p:nvSpPr>
        <p:spPr>
          <a:xfrm>
            <a:off x="504720" y="3048120"/>
            <a:ext cx="304812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0" name="Line 37"/>
          <p:cNvSpPr/>
          <p:nvPr/>
        </p:nvSpPr>
        <p:spPr>
          <a:xfrm>
            <a:off x="457200" y="4114800"/>
            <a:ext cx="32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 flipV="1">
            <a:off x="457200" y="2997360"/>
            <a:ext cx="144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>
            <a:off x="685800" y="2971800"/>
            <a:ext cx="47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380880" y="2590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4" name="Text Box 41"/>
          <p:cNvSpPr/>
          <p:nvPr/>
        </p:nvSpPr>
        <p:spPr>
          <a:xfrm>
            <a:off x="581040" y="4038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.97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2562120" y="3276720"/>
            <a:ext cx="14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 flipH="1">
            <a:off x="248580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1952640" y="44956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581040" y="4495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Rectangle 46"/>
          <p:cNvSpPr/>
          <p:nvPr/>
        </p:nvSpPr>
        <p:spPr>
          <a:xfrm>
            <a:off x="1828800" y="4952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7.488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380880" y="4952880"/>
            <a:ext cx="2590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8"/>
              <p:cNvSpPr txBox="1"/>
              <p:nvPr/>
            </p:nvSpPr>
            <p:spPr>
              <a:xfrm>
                <a:off x="4343400" y="2666880"/>
                <a:ext cx="380988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84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2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Rectangle 49"/>
          <p:cNvSpPr/>
          <p:nvPr/>
        </p:nvSpPr>
        <p:spPr>
          <a:xfrm>
            <a:off x="4724280" y="4876920"/>
            <a:ext cx="3048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Rectangle 50"/>
          <p:cNvSpPr/>
          <p:nvPr/>
        </p:nvSpPr>
        <p:spPr>
          <a:xfrm>
            <a:off x="990720" y="5562720"/>
            <a:ext cx="7619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95% confident that the population variance is between 13.096 and 57.489 degre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Taking the square root, we are 95% confident that the population standard deviation is between 3.619 and 7.582 degrees.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Line 51"/>
          <p:cNvSpPr/>
          <p:nvPr/>
        </p:nvSpPr>
        <p:spPr>
          <a:xfrm flipV="1">
            <a:off x="2971800" y="44956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263C6BF4-3BAB-497C-ABBB-CA9CE099E5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 critical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found from the F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 two appropriate degrees of freedo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umerator) and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nomin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e populations follow the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e samples are randomly selected and independent of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atio of 2 independent chi-square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 table (Appendix H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ator degrees of freedom determine th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tor degrees of freedom determine th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 F 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E24E4BDC-1684-47A8-BE83-F5581954D3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33"/>
          <p:cNvSpPr/>
          <p:nvPr/>
        </p:nvSpPr>
        <p:spPr>
          <a:xfrm>
            <a:off x="2743200" y="2514600"/>
            <a:ext cx="18288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 Test for Difference in </a:t>
            </a:r>
            <a:r>
              <a:rPr b="0" lang="en-US" sz="4100" spc="-1" strike="noStrike" u="sng">
                <a:solidFill>
                  <a:srgbClr val="333399"/>
                </a:solidFill>
                <a:uFillTx/>
                <a:latin typeface="Arial"/>
              </a:rPr>
              <a:t>Two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Population Varia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8"/>
              <p:cNvSpPr txBox="1"/>
              <p:nvPr/>
            </p:nvSpPr>
            <p:spPr>
              <a:xfrm>
                <a:off x="2971800" y="2590920"/>
                <a:ext cx="1384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Text Box 19"/>
          <p:cNvSpPr/>
          <p:nvPr/>
        </p:nvSpPr>
        <p:spPr>
          <a:xfrm>
            <a:off x="312408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 test statistic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4478400"/>
            <a:ext cx="444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riance of Sample 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362320" y="4876920"/>
            <a:ext cx="4800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 = numerator degrees of freed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2362320" y="5715000"/>
            <a:ext cx="4952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 = denominator degrees of freed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Rectangle 30"/>
          <p:cNvSpPr/>
          <p:nvPr/>
        </p:nvSpPr>
        <p:spPr>
          <a:xfrm>
            <a:off x="1981080" y="5316480"/>
            <a:ext cx="444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riance of Sample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1"/>
              <p:cNvSpPr txBox="1"/>
              <p:nvPr/>
            </p:nvSpPr>
            <p:spPr>
              <a:xfrm>
                <a:off x="2057400" y="44020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2"/>
              <p:cNvSpPr txBox="1"/>
              <p:nvPr/>
            </p:nvSpPr>
            <p:spPr>
              <a:xfrm>
                <a:off x="2057400" y="524016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1" name="Rectangle 35"/>
          <p:cNvSpPr/>
          <p:nvPr/>
        </p:nvSpPr>
        <p:spPr>
          <a:xfrm>
            <a:off x="4952880" y="2819520"/>
            <a:ext cx="1828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F has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erator and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nominator degrees of freed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0A75C6F0-60E7-4C40-A2CD-D121567611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62120" y="3047760"/>
            <a:ext cx="8076960" cy="32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tailed test, always place the larger sample variance in the 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one-tailed test, consider the alternative hypothesis: place in the numerator the sample variance for the population that is predicted (based o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have the larger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ormulating the  F  Ratio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756240" y="1981080"/>
            <a:ext cx="433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;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5"/>
              <p:cNvSpPr txBox="1"/>
              <p:nvPr/>
            </p:nvSpPr>
            <p:spPr>
              <a:xfrm>
                <a:off x="2057400" y="167652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8A76C12-3653-45E4-9361-5C62B948E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Freeform 38"/>
          <p:cNvSpPr/>
          <p:nvPr/>
        </p:nvSpPr>
        <p:spPr>
          <a:xfrm>
            <a:off x="6851520" y="33321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Freeform 35"/>
          <p:cNvSpPr/>
          <p:nvPr/>
        </p:nvSpPr>
        <p:spPr>
          <a:xfrm>
            <a:off x="2284560" y="3200400"/>
            <a:ext cx="1701720" cy="380880"/>
          </a:xfrm>
          <a:custGeom>
            <a:avLst/>
            <a:gdLst/>
            <a:ahLst/>
            <a:rect l="l" t="t" r="r" b="b"/>
            <a:pathLst>
              <a:path w="1072" h="240">
                <a:moveTo>
                  <a:pt x="0" y="240"/>
                </a:moveTo>
                <a:lnTo>
                  <a:pt x="1" y="0"/>
                </a:lnTo>
                <a:lnTo>
                  <a:pt x="175" y="122"/>
                </a:lnTo>
                <a:lnTo>
                  <a:pt x="246" y="144"/>
                </a:lnTo>
                <a:lnTo>
                  <a:pt x="301" y="159"/>
                </a:lnTo>
                <a:lnTo>
                  <a:pt x="375" y="174"/>
                </a:lnTo>
                <a:lnTo>
                  <a:pt x="520" y="194"/>
                </a:lnTo>
                <a:lnTo>
                  <a:pt x="684" y="209"/>
                </a:lnTo>
                <a:lnTo>
                  <a:pt x="1071" y="224"/>
                </a:lnTo>
                <a:lnTo>
                  <a:pt x="1072" y="23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>
            <a:off x="228600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754200" y="1967040"/>
            <a:ext cx="351288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191120" y="3352680"/>
            <a:ext cx="53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533520" y="33526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896760" y="22860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Freeform 20"/>
          <p:cNvSpPr/>
          <p:nvPr/>
        </p:nvSpPr>
        <p:spPr>
          <a:xfrm>
            <a:off x="762120" y="19810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228600" y="4495680"/>
            <a:ext cx="2590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on regio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tail test i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Freeform 24"/>
          <p:cNvSpPr/>
          <p:nvPr/>
        </p:nvSpPr>
        <p:spPr>
          <a:xfrm>
            <a:off x="5173560" y="19670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8610480" y="3352680"/>
            <a:ext cx="533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952880" y="33526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5316480" y="22860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Freeform 28"/>
          <p:cNvSpPr/>
          <p:nvPr/>
        </p:nvSpPr>
        <p:spPr>
          <a:xfrm>
            <a:off x="5181480" y="19810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0"/>
              <p:cNvSpPr txBox="1"/>
              <p:nvPr/>
            </p:nvSpPr>
            <p:spPr>
              <a:xfrm>
                <a:off x="5867280" y="5105520"/>
                <a:ext cx="1909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1"/>
              <p:cNvSpPr txBox="1"/>
              <p:nvPr/>
            </p:nvSpPr>
            <p:spPr>
              <a:xfrm>
                <a:off x="1600200" y="5105520"/>
                <a:ext cx="1657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Rectangle 33"/>
          <p:cNvSpPr/>
          <p:nvPr/>
        </p:nvSpPr>
        <p:spPr>
          <a:xfrm>
            <a:off x="1905120" y="6172200"/>
            <a:ext cx="49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the larger sample variance in the numerator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5105520" y="4419720"/>
            <a:ext cx="25905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on region for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wo-tailed test i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6858000" y="33526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28195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2" name="Line 42"/>
          <p:cNvSpPr/>
          <p:nvPr/>
        </p:nvSpPr>
        <p:spPr>
          <a:xfrm flipH="1">
            <a:off x="739116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754380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Rectangle 44"/>
          <p:cNvSpPr/>
          <p:nvPr/>
        </p:nvSpPr>
        <p:spPr>
          <a:xfrm>
            <a:off x="2057400" y="3733920"/>
            <a:ext cx="609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Rectangle 45"/>
          <p:cNvSpPr/>
          <p:nvPr/>
        </p:nvSpPr>
        <p:spPr>
          <a:xfrm>
            <a:off x="6629400" y="3733920"/>
            <a:ext cx="838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/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Line 46"/>
          <p:cNvSpPr/>
          <p:nvPr/>
        </p:nvSpPr>
        <p:spPr>
          <a:xfrm flipV="1">
            <a:off x="2286000" y="35809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Line 47"/>
          <p:cNvSpPr/>
          <p:nvPr/>
        </p:nvSpPr>
        <p:spPr>
          <a:xfrm flipV="1">
            <a:off x="6858000" y="35809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Line 48"/>
          <p:cNvSpPr/>
          <p:nvPr/>
        </p:nvSpPr>
        <p:spPr>
          <a:xfrm flipH="1">
            <a:off x="838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Line 49"/>
          <p:cNvSpPr/>
          <p:nvPr/>
        </p:nvSpPr>
        <p:spPr>
          <a:xfrm flipH="1">
            <a:off x="22856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Line 50"/>
          <p:cNvSpPr/>
          <p:nvPr/>
        </p:nvSpPr>
        <p:spPr>
          <a:xfrm flipH="1">
            <a:off x="52574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Line 51"/>
          <p:cNvSpPr/>
          <p:nvPr/>
        </p:nvSpPr>
        <p:spPr>
          <a:xfrm flipH="1">
            <a:off x="68580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7086600" y="38098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5562720" y="3809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2590920" y="38098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1066680" y="3809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6477120" y="1523880"/>
            <a:ext cx="167616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2057400" y="1523880"/>
            <a:ext cx="161604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2362320" y="2286000"/>
            <a:ext cx="161604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Line 59"/>
          <p:cNvSpPr/>
          <p:nvPr/>
        </p:nvSpPr>
        <p:spPr>
          <a:xfrm>
            <a:off x="4724280" y="1523880"/>
            <a:ext cx="0" cy="441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9EF805B8-7502-4FED-BCD0-F5C9391818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tailed test use the table corresponding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0, use the F table with the upper tail equal to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one-tailed test, use the F table corresponding to the actual signific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, use the F table with the upper tail equal to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75427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AFAF1A7-7F73-40DD-B165-0BE4133415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3962520" y="3048120"/>
            <a:ext cx="1676160" cy="160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286000" y="3048120"/>
            <a:ext cx="1676520" cy="1600200"/>
          </a:xfrm>
          <a:prstGeom prst="rect">
            <a:avLst/>
          </a:prstGeom>
          <a:solidFill>
            <a:srgbClr val="e2e0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762120" y="3048120"/>
            <a:ext cx="15238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85800" y="4800600"/>
            <a:ext cx="46483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38360" y="1752480"/>
            <a:ext cx="7948440" cy="129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A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3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a financial analyst for a brokerage firm.  You want to compare dividend yields between stocks listed on the NYSE &amp; NASDAQ.  You collect the following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SDAQ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 d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difference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s between the NY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NASDAQ at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7" descr="j0309658[1]"/>
          <p:cNvPicPr/>
          <p:nvPr/>
        </p:nvPicPr>
        <p:blipFill>
          <a:blip r:embed="rId1"/>
          <a:stretch/>
        </p:blipFill>
        <p:spPr>
          <a:xfrm>
            <a:off x="5638680" y="3200400"/>
            <a:ext cx="32767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F07B062-3E10-49E6-8B4E-48E5591B64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nd complete hypothesis tests for a single population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ritical chi-square distribution values from the chi-squar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nd complete hypothesis tests for the difference between two population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042ABB59-DB95-44F6-B9F0-EB5FAB10FD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514600" y="5486400"/>
            <a:ext cx="25146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219320" y="2057400"/>
            <a:ext cx="1828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580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Example 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hypothe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no difference between varianc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a difference between varianc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85800" y="3200400"/>
            <a:ext cx="8077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the F critical value for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erator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21 – 1 = 2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nominator: 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25 – 1 = 24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.05/2, 20, 24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2.327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629400" y="4952880"/>
            <a:ext cx="2209680" cy="12286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Make sure the sample with the largest variance corresponds to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 flipH="1" flipV="1">
            <a:off x="5334120" y="44193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65BD705-2BAB-411A-AD1C-E41026B7D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3200400" y="2590920"/>
            <a:ext cx="990720" cy="457200"/>
          </a:xfrm>
          <a:prstGeom prst="rect">
            <a:avLst/>
          </a:prstGeom>
          <a:solidFill>
            <a:srgbClr val="b7eb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0"/>
          <p:cNvSpPr/>
          <p:nvPr/>
        </p:nvSpPr>
        <p:spPr>
          <a:xfrm>
            <a:off x="6851520" y="35607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Freeform 11"/>
          <p:cNvSpPr/>
          <p:nvPr/>
        </p:nvSpPr>
        <p:spPr>
          <a:xfrm>
            <a:off x="5173560" y="21956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4952880" y="35812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>
            <a:off x="5316480" y="25146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Freeform 14"/>
          <p:cNvSpPr/>
          <p:nvPr/>
        </p:nvSpPr>
        <p:spPr>
          <a:xfrm>
            <a:off x="5181480" y="22096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15"/>
              <p:cNvSpPr txBox="1"/>
              <p:nvPr/>
            </p:nvSpPr>
            <p:spPr>
              <a:xfrm>
                <a:off x="762120" y="2362320"/>
                <a:ext cx="3396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Line 17"/>
          <p:cNvSpPr/>
          <p:nvPr/>
        </p:nvSpPr>
        <p:spPr>
          <a:xfrm>
            <a:off x="6858000" y="35812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 flipH="1">
            <a:off x="7391160" y="350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731520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 = 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629400" y="4191120"/>
            <a:ext cx="1219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/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2.327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 flipV="1">
            <a:off x="6858000" y="3809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 flipH="1">
            <a:off x="525744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 flipH="1">
            <a:off x="6858000" y="4038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7086600" y="40384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5562720" y="40384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3" name="Rectangle 26"/>
          <p:cNvSpPr/>
          <p:nvPr/>
        </p:nvSpPr>
        <p:spPr>
          <a:xfrm>
            <a:off x="6477120" y="1828800"/>
            <a:ext cx="167616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Example 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Line 31"/>
          <p:cNvSpPr/>
          <p:nvPr/>
        </p:nvSpPr>
        <p:spPr>
          <a:xfrm>
            <a:off x="4191120" y="2895480"/>
            <a:ext cx="2057400" cy="0"/>
          </a:xfrm>
          <a:prstGeom prst="line">
            <a:avLst/>
          </a:prstGeom>
          <a:ln w="38160">
            <a:solidFill>
              <a:srgbClr val="5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6" name="Line 32"/>
          <p:cNvSpPr/>
          <p:nvPr/>
        </p:nvSpPr>
        <p:spPr>
          <a:xfrm>
            <a:off x="6248520" y="2895480"/>
            <a:ext cx="0" cy="914400"/>
          </a:xfrm>
          <a:prstGeom prst="line">
            <a:avLst/>
          </a:prstGeom>
          <a:ln w="38160">
            <a:solidFill>
              <a:srgbClr val="5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380880" y="3962520"/>
            <a:ext cx="4496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= 1.256 is not greater than the critical F value of 2.327, so w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0880" y="53341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There is no evidence of a difference in variances at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CE31E979-1D1E-4FAE-B132-FBAE75E3D9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 and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est for two vari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2ca237"/>
                </a:solidFill>
                <a:latin typeface="Arial"/>
              </a:rPr>
              <a:t>Data | Data Analysis | F-test: Two Sample for 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H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 for th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2ca237"/>
                </a:solidFill>
                <a:latin typeface="Arial"/>
              </a:rPr>
              <a:t>PHStat | One-sample Tests | Chi-square Test for th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est for two vari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2ca237"/>
                </a:solidFill>
                <a:latin typeface="Arial"/>
              </a:rPr>
              <a:t>PHStat | Two-sample Tests | F Test for Differences in Two Varian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19D8AA3-09E3-4AFF-BBAE-EB2E6C70A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chi-square tests for the variance for a singl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chi-square table to find chi-square crit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 F  tests for the difference between two population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 F  table to find  F  crit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C5A756D-D8CF-48E4-AD83-01372688F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2" name="Picture 4" descr="copyright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762120" y="457308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EEB0FB48-7735-4963-8C96-F4F55A99B5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Varia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95480" y="1676520"/>
            <a:ext cx="3429000" cy="13716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62120" y="3505320"/>
            <a:ext cx="3429000" cy="13716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a Singl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Varia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029200" y="3505320"/>
            <a:ext cx="3429000" cy="13716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Tw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2438280" y="3276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6781680" y="3276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4572000" y="3047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2438280" y="48765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6781680" y="48765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62120" y="5105520"/>
            <a:ext cx="3429000" cy="9144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5029200" y="5105520"/>
            <a:ext cx="3429000" cy="9144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687EB9A2-01B8-4C8F-9577-2AA6DFC745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Chi-Square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amily of distributions, depending on degrees of fre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.f. = n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from a norm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8088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7672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17220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143000" y="5791320"/>
            <a:ext cx="1219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886200" y="5791320"/>
            <a:ext cx="114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705720" y="5791320"/>
            <a:ext cx="1371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1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Freeform 19"/>
          <p:cNvSpPr/>
          <p:nvPr/>
        </p:nvSpPr>
        <p:spPr>
          <a:xfrm>
            <a:off x="3343320" y="4530600"/>
            <a:ext cx="2752560" cy="793800"/>
          </a:xfrm>
          <a:custGeom>
            <a:avLst/>
            <a:gdLst/>
            <a:ahLst/>
            <a:rect l="l" t="t" r="r" b="b"/>
            <a:pathLst>
              <a:path w="1734" h="500">
                <a:moveTo>
                  <a:pt x="0" y="500"/>
                </a:moveTo>
                <a:cubicBezTo>
                  <a:pt x="41" y="419"/>
                  <a:pt x="115" y="28"/>
                  <a:pt x="246" y="14"/>
                </a:cubicBezTo>
                <a:cubicBezTo>
                  <a:pt x="377" y="0"/>
                  <a:pt x="538" y="340"/>
                  <a:pt x="786" y="416"/>
                </a:cubicBezTo>
                <a:cubicBezTo>
                  <a:pt x="1034" y="492"/>
                  <a:pt x="1537" y="460"/>
                  <a:pt x="1734" y="4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6267600" y="4984920"/>
            <a:ext cx="2571480" cy="320400"/>
          </a:xfrm>
          <a:custGeom>
            <a:avLst/>
            <a:gdLst/>
            <a:ahLst/>
            <a:rect l="l" t="t" r="r" b="b"/>
            <a:pathLst>
              <a:path w="1620" h="202">
                <a:moveTo>
                  <a:pt x="0" y="202"/>
                </a:moveTo>
                <a:cubicBezTo>
                  <a:pt x="32" y="194"/>
                  <a:pt x="98" y="187"/>
                  <a:pt x="192" y="154"/>
                </a:cubicBezTo>
                <a:cubicBezTo>
                  <a:pt x="286" y="121"/>
                  <a:pt x="391" y="8"/>
                  <a:pt x="564" y="4"/>
                </a:cubicBezTo>
                <a:cubicBezTo>
                  <a:pt x="737" y="0"/>
                  <a:pt x="1054" y="101"/>
                  <a:pt x="1230" y="130"/>
                </a:cubicBezTo>
                <a:cubicBezTo>
                  <a:pt x="1406" y="159"/>
                  <a:pt x="1539" y="168"/>
                  <a:pt x="1620" y="17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484200" y="3705120"/>
            <a:ext cx="2639880" cy="1633680"/>
          </a:xfrm>
          <a:custGeom>
            <a:avLst/>
            <a:gdLst/>
            <a:ahLst/>
            <a:rect l="l" t="t" r="r" b="b"/>
            <a:pathLst>
              <a:path w="1663" h="1029">
                <a:moveTo>
                  <a:pt x="1" y="0"/>
                </a:moveTo>
                <a:cubicBezTo>
                  <a:pt x="47" y="144"/>
                  <a:pt x="0" y="699"/>
                  <a:pt x="277" y="864"/>
                </a:cubicBezTo>
                <a:cubicBezTo>
                  <a:pt x="554" y="1029"/>
                  <a:pt x="1374" y="965"/>
                  <a:pt x="1663" y="99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57200" y="5334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352680" y="53341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6248520" y="5334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45720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335268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 flipV="1">
            <a:off x="624852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571500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868680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281952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6F6DB53C-D2D5-40CF-833F-3BE6D17B31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4572000" y="4724280"/>
            <a:ext cx="4343400" cy="160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92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-squared test statistic for a Single Population Variance i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3276720" y="2590920"/>
                <a:ext cx="27414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9"/>
          <p:cNvSpPr/>
          <p:nvPr/>
        </p:nvSpPr>
        <p:spPr>
          <a:xfrm>
            <a:off x="457200" y="3886200"/>
            <a:ext cx="3809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tandardized chi-square vari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ample varianc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hypothesized varianc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4876920" y="5105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st statistic standardizes the sample variance similar to the use of z and t from previous chapter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3657600" y="35809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F84971F-E8F8-4C88-A927-8D7329EE0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4802040" y="4508640"/>
            <a:ext cx="2055960" cy="601560"/>
          </a:xfrm>
          <a:custGeom>
            <a:avLst/>
            <a:gdLst/>
            <a:ahLst/>
            <a:rect l="l" t="t" r="r" b="b"/>
            <a:pathLst>
              <a:path w="1295" h="379">
                <a:moveTo>
                  <a:pt x="0" y="372"/>
                </a:moveTo>
                <a:lnTo>
                  <a:pt x="2" y="0"/>
                </a:lnTo>
                <a:lnTo>
                  <a:pt x="97" y="97"/>
                </a:lnTo>
                <a:lnTo>
                  <a:pt x="183" y="158"/>
                </a:lnTo>
                <a:lnTo>
                  <a:pt x="306" y="207"/>
                </a:lnTo>
                <a:lnTo>
                  <a:pt x="434" y="256"/>
                </a:lnTo>
                <a:lnTo>
                  <a:pt x="640" y="295"/>
                </a:lnTo>
                <a:lnTo>
                  <a:pt x="844" y="319"/>
                </a:lnTo>
                <a:lnTo>
                  <a:pt x="1286" y="349"/>
                </a:lnTo>
                <a:lnTo>
                  <a:pt x="1295" y="379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48006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2486160" y="3505320"/>
            <a:ext cx="4829040" cy="160020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2438280" y="5105520"/>
            <a:ext cx="5062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2438280" y="34286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value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-square table (Appendix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14600" y="548640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518112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4800600" y="548640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5257800" y="548640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3341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5720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7391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4800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038480" y="16765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5715000" y="31240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63868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C01053C3-E4DF-429D-AC47-6117C74D2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 with Chi-Squar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hypotheses in term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rejection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test statisti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CECDDD2E-E805-4BD4-8BFB-7A6D6AB588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" name="Picture 14" descr="j0126948[1]"/>
          <p:cNvPicPr/>
          <p:nvPr/>
        </p:nvPicPr>
        <p:blipFill>
          <a:blip r:embed="rId1"/>
          <a:stretch/>
        </p:blipFill>
        <p:spPr>
          <a:xfrm>
            <a:off x="5029200" y="3581280"/>
            <a:ext cx="3757680" cy="2713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ercial freezer must hold the selected temperature with little variation.  Specifications call for a standard deviation of no more than 4 degrees (or variance of 16 degre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16 freezers is test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a sample var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.  Test to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he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spec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ceeded. 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8441E1A5-3B3C-4E49-BA2C-2D67A8E2F1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4419720" y="3429000"/>
            <a:ext cx="761760" cy="380880"/>
          </a:xfrm>
          <a:prstGeom prst="rect">
            <a:avLst/>
          </a:prstGeom>
          <a:solidFill>
            <a:srgbClr val="b7eb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6553080" y="5257800"/>
            <a:ext cx="1371600" cy="157320"/>
          </a:xfrm>
          <a:custGeom>
            <a:avLst/>
            <a:gdLst/>
            <a:ahLst/>
            <a:rect l="l" t="t" r="r" b="b"/>
            <a:pathLst>
              <a:path w="894" h="109">
                <a:moveTo>
                  <a:pt x="0" y="102"/>
                </a:moveTo>
                <a:lnTo>
                  <a:pt x="0" y="0"/>
                </a:lnTo>
                <a:lnTo>
                  <a:pt x="71" y="15"/>
                </a:lnTo>
                <a:lnTo>
                  <a:pt x="147" y="34"/>
                </a:lnTo>
                <a:lnTo>
                  <a:pt x="212" y="42"/>
                </a:lnTo>
                <a:lnTo>
                  <a:pt x="300" y="61"/>
                </a:lnTo>
                <a:lnTo>
                  <a:pt x="442" y="76"/>
                </a:lnTo>
                <a:lnTo>
                  <a:pt x="606" y="79"/>
                </a:lnTo>
                <a:lnTo>
                  <a:pt x="888" y="97"/>
                </a:lnTo>
                <a:lnTo>
                  <a:pt x="894" y="109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 flipV="1">
            <a:off x="6553080" y="52574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2212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4191120" y="4343400"/>
            <a:ext cx="39621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143240" y="5410080"/>
            <a:ext cx="4154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4143240" y="429264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the chi-square table to find the critical valu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219560" y="57913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6886080" y="4952880"/>
            <a:ext cx="18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6553080" y="5715000"/>
            <a:ext cx="1500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4114800" y="5715000"/>
            <a:ext cx="247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962760" y="57913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7010280" y="4648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248520" y="5867280"/>
            <a:ext cx="65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82296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6553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371600" y="19051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019200" y="63244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24.9958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98108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24.9958  (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  and  16 – 1 = 15  d.f.)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210960" y="3124080"/>
                <a:ext cx="4962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22"/>
          <p:cNvSpPr/>
          <p:nvPr/>
        </p:nvSpPr>
        <p:spPr>
          <a:xfrm>
            <a:off x="304920" y="25909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5181480" y="3657600"/>
            <a:ext cx="1067040" cy="0"/>
          </a:xfrm>
          <a:prstGeom prst="line">
            <a:avLst/>
          </a:prstGeom>
          <a:ln w="38160">
            <a:solidFill>
              <a:srgbClr val="5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6248520" y="3657600"/>
            <a:ext cx="0" cy="1752480"/>
          </a:xfrm>
          <a:prstGeom prst="line">
            <a:avLst/>
          </a:prstGeom>
          <a:ln w="38160">
            <a:solidFill>
              <a:srgbClr val="5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28600" y="4191120"/>
            <a:ext cx="3657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nce 22.5 &lt; 24.9958, do not reject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304920" y="5181480"/>
            <a:ext cx="31240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significant evidence at th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5 level that the standard deviation specification is exceede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44:32Z</dcterms:modified>
  <cp:revision>89</cp:revision>
  <dc:subject>Chapter 11</dc:subject>
  <dc:title>Business Statistics: A Decision-Making Approach, 7th edition</dc:title>
</cp:coreProperties>
</file>