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12BF-98ED-4A3A-8CA2-749CC48BF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8E7E-8D87-4149-B553-2F788942C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F810-57D1-48B0-B8CB-20D76E096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475C-1D94-49EE-A691-08C06618E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3292-8F20-4462-8EAA-BFEAEA4CC7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D1AA-70DB-47AB-A9C0-BA957531A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CC5CD-C397-45C0-9784-EBCBCD6A0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E581F-CC91-4711-AC78-73006EF7C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8D10F-DFA8-41D5-89F5-A493C3E3B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67517-19DB-45F2-98D7-6C59CB4725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DD9B-A1EB-442F-917D-6A44753331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3B4C-F585-455E-A2CA-A695BCE98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C49AC-033C-41A9-83BE-BCCAEE3E55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5ED1F-6A28-4353-A3E2-91262868B6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461AC-525E-4DEF-964E-C9B113BE5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9B78B-F609-4144-8592-A32C0A7A8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418EB-BC62-44EC-87A8-E40866BC2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C12F-79F7-4B0A-AC66-44F84E9E7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09E3-A98C-4CCE-8A37-5F5AA42BA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2082-D4C4-432D-8DFC-9BA32557C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E2AC-41B8-460C-8CC0-EE866FA6D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B877-D32B-4F8E-BCEB-52C0ED975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EFC8-53F4-41FC-B46A-28BF76A7A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7B01-EEAD-42D7-96F3-C317CB82A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FB9746B-5932-4674-A7B5-13408B5F8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F4AEA8D-C1B3-40B4-9C77-7457E4422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7EE5EB4D-D8E3-4086-A974-16B296898B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thesis Tests and Estim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Population Varian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A5DA3A58-3DEB-47D8-A8B9-05B3A0E282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91440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Lower Tail or Two Taile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i-square Test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410080" y="22096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914400" y="22096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6781680" y="4361040"/>
            <a:ext cx="1371600" cy="21564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6772320" y="436248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553080" y="5257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609480" y="4089240"/>
            <a:ext cx="30348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609480" y="3505320"/>
            <a:ext cx="304812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61960" y="4572000"/>
            <a:ext cx="32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61960" y="3454560"/>
            <a:ext cx="144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1295280" y="4876920"/>
            <a:ext cx="182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8380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914400" y="4876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 flipH="1">
            <a:off x="53352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0" y="4876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6858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685800" y="51055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37339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Line 34"/>
          <p:cNvSpPr/>
          <p:nvPr/>
        </p:nvSpPr>
        <p:spPr>
          <a:xfrm flipV="1">
            <a:off x="91440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V="1">
            <a:off x="541008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Freeform 40"/>
          <p:cNvSpPr/>
          <p:nvPr/>
        </p:nvSpPr>
        <p:spPr>
          <a:xfrm>
            <a:off x="5105520" y="4089240"/>
            <a:ext cx="30312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Freeform 41"/>
          <p:cNvSpPr/>
          <p:nvPr/>
        </p:nvSpPr>
        <p:spPr>
          <a:xfrm>
            <a:off x="5105520" y="3505320"/>
            <a:ext cx="30477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Line 42"/>
          <p:cNvSpPr/>
          <p:nvPr/>
        </p:nvSpPr>
        <p:spPr>
          <a:xfrm>
            <a:off x="5057640" y="4572000"/>
            <a:ext cx="324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Line 43"/>
          <p:cNvSpPr/>
          <p:nvPr/>
        </p:nvSpPr>
        <p:spPr>
          <a:xfrm flipV="1">
            <a:off x="5057640" y="345456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44"/>
          <p:cNvSpPr/>
          <p:nvPr/>
        </p:nvSpPr>
        <p:spPr>
          <a:xfrm>
            <a:off x="5638680" y="4876920"/>
            <a:ext cx="10670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Line 45"/>
          <p:cNvSpPr/>
          <p:nvPr/>
        </p:nvSpPr>
        <p:spPr>
          <a:xfrm>
            <a:off x="53341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Line 46"/>
          <p:cNvSpPr/>
          <p:nvPr/>
        </p:nvSpPr>
        <p:spPr>
          <a:xfrm>
            <a:off x="541008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Line 47"/>
          <p:cNvSpPr/>
          <p:nvPr/>
        </p:nvSpPr>
        <p:spPr>
          <a:xfrm flipH="1">
            <a:off x="50292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685800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510552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5181480" y="5257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822960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Line 52"/>
          <p:cNvSpPr/>
          <p:nvPr/>
        </p:nvSpPr>
        <p:spPr>
          <a:xfrm flipV="1">
            <a:off x="5410080" y="4647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71629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708624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Line 54"/>
          <p:cNvSpPr/>
          <p:nvPr/>
        </p:nvSpPr>
        <p:spPr>
          <a:xfrm flipV="1">
            <a:off x="67816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Line 55"/>
          <p:cNvSpPr/>
          <p:nvPr/>
        </p:nvSpPr>
        <p:spPr>
          <a:xfrm flipH="1">
            <a:off x="678168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449568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Line 58"/>
          <p:cNvSpPr/>
          <p:nvPr/>
        </p:nvSpPr>
        <p:spPr>
          <a:xfrm>
            <a:off x="4343400" y="1905120"/>
            <a:ext cx="0" cy="4343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Text Box 59"/>
          <p:cNvSpPr/>
          <p:nvPr/>
        </p:nvSpPr>
        <p:spPr>
          <a:xfrm>
            <a:off x="914400" y="1828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Text Box 60"/>
          <p:cNvSpPr/>
          <p:nvPr/>
        </p:nvSpPr>
        <p:spPr>
          <a:xfrm>
            <a:off x="5486400" y="1828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6553080" y="5715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5181480" y="5715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D933546B-9F34-4DC6-88DE-58B6C09988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2501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fidence Interval Estimate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lang="el-GR" sz="41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41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Freeform 6"/>
          <p:cNvSpPr/>
          <p:nvPr/>
        </p:nvSpPr>
        <p:spPr>
          <a:xfrm>
            <a:off x="2438280" y="4513320"/>
            <a:ext cx="1371600" cy="21600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Freeform 7"/>
          <p:cNvSpPr/>
          <p:nvPr/>
        </p:nvSpPr>
        <p:spPr>
          <a:xfrm>
            <a:off x="2428920" y="451476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209680" y="46483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 flipV="1">
            <a:off x="1066680" y="4267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762120" y="4241880"/>
            <a:ext cx="30312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762120" y="3657600"/>
            <a:ext cx="30477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714240" y="4724280"/>
            <a:ext cx="324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 flipV="1">
            <a:off x="714240" y="360684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990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3505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>
            <a:off x="8380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-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/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388620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>
            <a:off x="2742840" y="4267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Text Box 44"/>
          <p:cNvSpPr/>
          <p:nvPr/>
        </p:nvSpPr>
        <p:spPr>
          <a:xfrm>
            <a:off x="2209680" y="5105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83808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dence interval estimate for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7"/>
              <p:cNvSpPr txBox="1"/>
              <p:nvPr/>
            </p:nvSpPr>
            <p:spPr>
              <a:xfrm>
                <a:off x="4419720" y="3048120"/>
                <a:ext cx="417672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≤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48"/>
          <p:cNvSpPr/>
          <p:nvPr/>
        </p:nvSpPr>
        <p:spPr>
          <a:xfrm>
            <a:off x="4724280" y="5029200"/>
            <a:ext cx="37339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from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ribution with n -1 degrees of freedo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0D57268-5F24-4242-97CA-29B9CB0EA4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Picture 2" descr="j0126948[1]"/>
          <p:cNvPicPr/>
          <p:nvPr/>
        </p:nvPicPr>
        <p:blipFill>
          <a:blip r:embed="rId1"/>
          <a:stretch/>
        </p:blipFill>
        <p:spPr>
          <a:xfrm>
            <a:off x="4876920" y="3505320"/>
            <a:ext cx="3833640" cy="27684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mple of 16 freezers yields a sample variance of 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95% confidence interval for the population vari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ADCFF352-1B59-47F8-87D4-04B3510C1D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hi-square table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487800" y="4952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.262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198108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  and  16 – 1 = 15  d.f.)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2181240" y="3903840"/>
            <a:ext cx="1371600" cy="215640"/>
          </a:xfrm>
          <a:custGeom>
            <a:avLst/>
            <a:gdLst/>
            <a:ahLst/>
            <a:rect l="l" t="t" r="r" b="b"/>
            <a:pathLst>
              <a:path w="864" h="136">
                <a:moveTo>
                  <a:pt x="0" y="130"/>
                </a:moveTo>
                <a:lnTo>
                  <a:pt x="0" y="0"/>
                </a:lnTo>
                <a:lnTo>
                  <a:pt x="80" y="37"/>
                </a:lnTo>
                <a:lnTo>
                  <a:pt x="156" y="58"/>
                </a:lnTo>
                <a:lnTo>
                  <a:pt x="205" y="75"/>
                </a:lnTo>
                <a:lnTo>
                  <a:pt x="296" y="88"/>
                </a:lnTo>
                <a:lnTo>
                  <a:pt x="427" y="106"/>
                </a:lnTo>
                <a:lnTo>
                  <a:pt x="586" y="109"/>
                </a:lnTo>
                <a:lnTo>
                  <a:pt x="858" y="125"/>
                </a:lnTo>
                <a:lnTo>
                  <a:pt x="864" y="136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5" name="Freeform 32"/>
          <p:cNvSpPr/>
          <p:nvPr/>
        </p:nvSpPr>
        <p:spPr>
          <a:xfrm>
            <a:off x="2171880" y="3905280"/>
            <a:ext cx="12600" cy="209520"/>
          </a:xfrm>
          <a:custGeom>
            <a:avLst/>
            <a:gdLst/>
            <a:ahLst/>
            <a:rect l="l" t="t" r="r" b="b"/>
            <a:pathLst>
              <a:path w="8" h="132">
                <a:moveTo>
                  <a:pt x="8" y="13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1952640" y="4038480"/>
            <a:ext cx="117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.02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V="1">
            <a:off x="80964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Freeform 35"/>
          <p:cNvSpPr/>
          <p:nvPr/>
        </p:nvSpPr>
        <p:spPr>
          <a:xfrm>
            <a:off x="504720" y="3632040"/>
            <a:ext cx="303480" cy="487440"/>
          </a:xfrm>
          <a:custGeom>
            <a:avLst/>
            <a:gdLst/>
            <a:ahLst/>
            <a:rect l="l" t="t" r="r" b="b"/>
            <a:pathLst>
              <a:path w="191" h="307">
                <a:moveTo>
                  <a:pt x="189" y="304"/>
                </a:moveTo>
                <a:lnTo>
                  <a:pt x="191" y="0"/>
                </a:lnTo>
                <a:lnTo>
                  <a:pt x="177" y="15"/>
                </a:lnTo>
                <a:lnTo>
                  <a:pt x="168" y="36"/>
                </a:lnTo>
                <a:lnTo>
                  <a:pt x="149" y="67"/>
                </a:lnTo>
                <a:lnTo>
                  <a:pt x="137" y="90"/>
                </a:lnTo>
                <a:lnTo>
                  <a:pt x="111" y="126"/>
                </a:lnTo>
                <a:lnTo>
                  <a:pt x="78" y="172"/>
                </a:lnTo>
                <a:lnTo>
                  <a:pt x="62" y="214"/>
                </a:lnTo>
                <a:lnTo>
                  <a:pt x="1" y="270"/>
                </a:lnTo>
                <a:lnTo>
                  <a:pt x="0" y="30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Freeform 36"/>
          <p:cNvSpPr/>
          <p:nvPr/>
        </p:nvSpPr>
        <p:spPr>
          <a:xfrm>
            <a:off x="504720" y="3048120"/>
            <a:ext cx="304812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0" name="Line 37"/>
          <p:cNvSpPr/>
          <p:nvPr/>
        </p:nvSpPr>
        <p:spPr>
          <a:xfrm>
            <a:off x="457200" y="4114800"/>
            <a:ext cx="32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 flipV="1">
            <a:off x="457200" y="2997360"/>
            <a:ext cx="144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>
            <a:off x="685800" y="2971800"/>
            <a:ext cx="47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Text Box 40"/>
          <p:cNvSpPr/>
          <p:nvPr/>
        </p:nvSpPr>
        <p:spPr>
          <a:xfrm>
            <a:off x="380880" y="2590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4" name="Text Box 41"/>
          <p:cNvSpPr/>
          <p:nvPr/>
        </p:nvSpPr>
        <p:spPr>
          <a:xfrm>
            <a:off x="581040" y="4038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0.97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42"/>
          <p:cNvSpPr/>
          <p:nvPr/>
        </p:nvSpPr>
        <p:spPr>
          <a:xfrm>
            <a:off x="2562120" y="3276720"/>
            <a:ext cx="14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=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 flipH="1">
            <a:off x="2485800" y="3657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1952640" y="44956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581040" y="4495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Rectangle 46"/>
          <p:cNvSpPr/>
          <p:nvPr/>
        </p:nvSpPr>
        <p:spPr>
          <a:xfrm>
            <a:off x="1828800" y="4952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7.4884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380880" y="4952880"/>
            <a:ext cx="2590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8"/>
              <p:cNvSpPr txBox="1"/>
              <p:nvPr/>
            </p:nvSpPr>
            <p:spPr>
              <a:xfrm>
                <a:off x="4343400" y="2666880"/>
                <a:ext cx="380988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84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2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6</m:t>
                        </m:r>
                        <m:r>
                          <m:t xml:space="preserve">≤</m:t>
                        </m:r>
                        <m:r>
                          <m:t xml:space="preserve">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Rectangle 49"/>
          <p:cNvSpPr/>
          <p:nvPr/>
        </p:nvSpPr>
        <p:spPr>
          <a:xfrm>
            <a:off x="4724280" y="4876920"/>
            <a:ext cx="3048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Rectangle 50"/>
          <p:cNvSpPr/>
          <p:nvPr/>
        </p:nvSpPr>
        <p:spPr>
          <a:xfrm>
            <a:off x="990720" y="5562720"/>
            <a:ext cx="76197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95% confident that the population variance is between 13.096 and 57.489 degre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Taking the square root, we are 95% confident that the population standard deviation is between 3.619 and 7.582 degrees.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Line 51"/>
          <p:cNvSpPr/>
          <p:nvPr/>
        </p:nvSpPr>
        <p:spPr>
          <a:xfrm flipV="1">
            <a:off x="2971800" y="44956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FDCC9C15-E5E6-4C6A-A7F8-09297C2559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 critical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found from the F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 two appropriate degrees of freedo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umerator) and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nomin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e populations follow the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the samples are randomly selected and independent of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atio of 2 independent chi-square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 table (Appendix H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ator degrees of freedom determine the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inator degrees of freedom determine th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 F 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AF9E4AE4-5368-4C41-8C96-CD789A28AC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33"/>
          <p:cNvSpPr/>
          <p:nvPr/>
        </p:nvSpPr>
        <p:spPr>
          <a:xfrm>
            <a:off x="2743200" y="2514600"/>
            <a:ext cx="18288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 Test for Difference in </a:t>
            </a:r>
            <a:r>
              <a:rPr b="0" lang="en-US" sz="4100" spc="-1" strike="noStrike" u="sng">
                <a:solidFill>
                  <a:srgbClr val="333399"/>
                </a:solidFill>
                <a:uFillTx/>
                <a:latin typeface="Arial"/>
              </a:rPr>
              <a:t>Two</a:t>
            </a: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 Population Varia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8"/>
              <p:cNvSpPr txBox="1"/>
              <p:nvPr/>
            </p:nvSpPr>
            <p:spPr>
              <a:xfrm>
                <a:off x="2971800" y="2590920"/>
                <a:ext cx="1384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Text Box 19"/>
          <p:cNvSpPr/>
          <p:nvPr/>
        </p:nvSpPr>
        <p:spPr>
          <a:xfrm>
            <a:off x="312408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 test statistic i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4478400"/>
            <a:ext cx="444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riance of Sample 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2362320" y="4876920"/>
            <a:ext cx="4800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 = numerator degrees of freed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2362320" y="5715000"/>
            <a:ext cx="4952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 = denominator degrees of freed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Rectangle 30"/>
          <p:cNvSpPr/>
          <p:nvPr/>
        </p:nvSpPr>
        <p:spPr>
          <a:xfrm>
            <a:off x="1981080" y="5316480"/>
            <a:ext cx="444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riance of Sample 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1"/>
              <p:cNvSpPr txBox="1"/>
              <p:nvPr/>
            </p:nvSpPr>
            <p:spPr>
              <a:xfrm>
                <a:off x="2057400" y="44020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2"/>
              <p:cNvSpPr txBox="1"/>
              <p:nvPr/>
            </p:nvSpPr>
            <p:spPr>
              <a:xfrm>
                <a:off x="2057400" y="524016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1" name="Rectangle 35"/>
          <p:cNvSpPr/>
          <p:nvPr/>
        </p:nvSpPr>
        <p:spPr>
          <a:xfrm>
            <a:off x="4952880" y="2819520"/>
            <a:ext cx="1828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F has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erator and 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nominator degrees of freed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9F02FCB-F5E6-4F9E-B041-F7981B7DE3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62120" y="3047760"/>
            <a:ext cx="8076960" cy="3276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tailed test, always place the larger sample variance in the num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one-tailed test, consider the alternative hypothesis: place in the numerator the sample variance for the population that is predicted (based o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have the larger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ormulating the  F  Ratio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756240" y="1981080"/>
            <a:ext cx="433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;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5"/>
              <p:cNvSpPr txBox="1"/>
              <p:nvPr/>
            </p:nvSpPr>
            <p:spPr>
              <a:xfrm>
                <a:off x="2057400" y="167652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BBE2A609-7EF6-4600-8979-D4137B9DF0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Freeform 38"/>
          <p:cNvSpPr/>
          <p:nvPr/>
        </p:nvSpPr>
        <p:spPr>
          <a:xfrm>
            <a:off x="6851520" y="33321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Freeform 35"/>
          <p:cNvSpPr/>
          <p:nvPr/>
        </p:nvSpPr>
        <p:spPr>
          <a:xfrm>
            <a:off x="2284560" y="3200400"/>
            <a:ext cx="1701720" cy="380880"/>
          </a:xfrm>
          <a:custGeom>
            <a:avLst/>
            <a:gdLst/>
            <a:ahLst/>
            <a:rect l="l" t="t" r="r" b="b"/>
            <a:pathLst>
              <a:path w="1072" h="240">
                <a:moveTo>
                  <a:pt x="0" y="240"/>
                </a:moveTo>
                <a:lnTo>
                  <a:pt x="1" y="0"/>
                </a:lnTo>
                <a:lnTo>
                  <a:pt x="175" y="122"/>
                </a:lnTo>
                <a:lnTo>
                  <a:pt x="246" y="144"/>
                </a:lnTo>
                <a:lnTo>
                  <a:pt x="301" y="159"/>
                </a:lnTo>
                <a:lnTo>
                  <a:pt x="375" y="174"/>
                </a:lnTo>
                <a:lnTo>
                  <a:pt x="520" y="194"/>
                </a:lnTo>
                <a:lnTo>
                  <a:pt x="684" y="209"/>
                </a:lnTo>
                <a:lnTo>
                  <a:pt x="1071" y="224"/>
                </a:lnTo>
                <a:lnTo>
                  <a:pt x="1072" y="237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>
            <a:off x="228600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754200" y="1967040"/>
            <a:ext cx="351288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4191120" y="3352680"/>
            <a:ext cx="53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533520" y="33526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896760" y="22860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Freeform 20"/>
          <p:cNvSpPr/>
          <p:nvPr/>
        </p:nvSpPr>
        <p:spPr>
          <a:xfrm>
            <a:off x="762120" y="19810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228600" y="4495680"/>
            <a:ext cx="2590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on regio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one-tail test i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Freeform 24"/>
          <p:cNvSpPr/>
          <p:nvPr/>
        </p:nvSpPr>
        <p:spPr>
          <a:xfrm>
            <a:off x="5173560" y="19670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8610480" y="3352680"/>
            <a:ext cx="533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952880" y="33526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5316480" y="22860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4" name="Freeform 28"/>
          <p:cNvSpPr/>
          <p:nvPr/>
        </p:nvSpPr>
        <p:spPr>
          <a:xfrm>
            <a:off x="5181480" y="19810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30"/>
              <p:cNvSpPr txBox="1"/>
              <p:nvPr/>
            </p:nvSpPr>
            <p:spPr>
              <a:xfrm>
                <a:off x="5867280" y="5105520"/>
                <a:ext cx="1909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1"/>
              <p:cNvSpPr txBox="1"/>
              <p:nvPr/>
            </p:nvSpPr>
            <p:spPr>
              <a:xfrm>
                <a:off x="1600200" y="5105520"/>
                <a:ext cx="1657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Rectangle 33"/>
          <p:cNvSpPr/>
          <p:nvPr/>
        </p:nvSpPr>
        <p:spPr>
          <a:xfrm>
            <a:off x="1905120" y="6172200"/>
            <a:ext cx="49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the larger sample variance in the numerator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5105520" y="4419720"/>
            <a:ext cx="25905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on region for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wo-tailed test i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6858000" y="33526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2819520" y="2971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2" name="Line 42"/>
          <p:cNvSpPr/>
          <p:nvPr/>
        </p:nvSpPr>
        <p:spPr>
          <a:xfrm flipH="1">
            <a:off x="739116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7543800" y="2971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Rectangle 44"/>
          <p:cNvSpPr/>
          <p:nvPr/>
        </p:nvSpPr>
        <p:spPr>
          <a:xfrm>
            <a:off x="2057400" y="3733920"/>
            <a:ext cx="609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Rectangle 45"/>
          <p:cNvSpPr/>
          <p:nvPr/>
        </p:nvSpPr>
        <p:spPr>
          <a:xfrm>
            <a:off x="6629400" y="3733920"/>
            <a:ext cx="838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/2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Line 46"/>
          <p:cNvSpPr/>
          <p:nvPr/>
        </p:nvSpPr>
        <p:spPr>
          <a:xfrm flipV="1">
            <a:off x="2286000" y="35809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Line 47"/>
          <p:cNvSpPr/>
          <p:nvPr/>
        </p:nvSpPr>
        <p:spPr>
          <a:xfrm flipV="1">
            <a:off x="6858000" y="35809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Line 48"/>
          <p:cNvSpPr/>
          <p:nvPr/>
        </p:nvSpPr>
        <p:spPr>
          <a:xfrm flipH="1">
            <a:off x="83808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Line 49"/>
          <p:cNvSpPr/>
          <p:nvPr/>
        </p:nvSpPr>
        <p:spPr>
          <a:xfrm flipH="1">
            <a:off x="22856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Line 50"/>
          <p:cNvSpPr/>
          <p:nvPr/>
        </p:nvSpPr>
        <p:spPr>
          <a:xfrm flipH="1">
            <a:off x="5257440" y="3809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Line 51"/>
          <p:cNvSpPr/>
          <p:nvPr/>
        </p:nvSpPr>
        <p:spPr>
          <a:xfrm flipH="1">
            <a:off x="68580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7086600" y="38098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5562720" y="3809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2590920" y="38098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1066680" y="38098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6477120" y="1523880"/>
            <a:ext cx="167616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2057400" y="1523880"/>
            <a:ext cx="161604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2362320" y="2286000"/>
            <a:ext cx="161604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Line 59"/>
          <p:cNvSpPr/>
          <p:nvPr/>
        </p:nvSpPr>
        <p:spPr>
          <a:xfrm>
            <a:off x="4724280" y="1523880"/>
            <a:ext cx="0" cy="441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B6B00E7E-1F5A-4111-AF88-3F0AFFD8B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tailed test use the table corresponding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0, use the F table with the upper tail equal to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one-tailed test, use the F table corresponding to the actual significa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, use the F table with the upper tail equal to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75427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43D0BF3B-D1EC-4714-8769-9A3B23887E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3962520" y="3048120"/>
            <a:ext cx="1676160" cy="160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286000" y="3048120"/>
            <a:ext cx="1676520" cy="1600200"/>
          </a:xfrm>
          <a:prstGeom prst="rect">
            <a:avLst/>
          </a:prstGeom>
          <a:solidFill>
            <a:srgbClr val="e2e0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762120" y="3048120"/>
            <a:ext cx="152388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85800" y="4800600"/>
            <a:ext cx="46483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738360" y="1752480"/>
            <a:ext cx="7948440" cy="129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A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3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a financial analyst for a brokerage firm.  You want to compare dividend yields between stocks listed on the NYSE &amp; NASDAQ.  You collect the following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Y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SDAQ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 de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ctr" pos="509760"/>
                <a:tab algn="r" pos="2857680"/>
                <a:tab algn="r" pos="4740120"/>
                <a:tab algn="l" pos="5052960"/>
                <a:tab algn="l" pos="6737400"/>
                <a:tab algn="l" pos="8421840"/>
                <a:tab algn="l" pos="10105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difference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s between the NY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NASDAQ at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lev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7" descr="j0309658[1]"/>
          <p:cNvPicPr/>
          <p:nvPr/>
        </p:nvPicPr>
        <p:blipFill>
          <a:blip r:embed="rId1"/>
          <a:stretch/>
        </p:blipFill>
        <p:spPr>
          <a:xfrm>
            <a:off x="5638680" y="3200400"/>
            <a:ext cx="32767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CF18C210-2B62-42CB-8F07-568EAF50F5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nd complete hypothesis tests for a single population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ritical chi-square distribution values from the chi-squar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nd complete hypothesis tests for the difference between two population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111AE1EB-5B5A-4497-A0EB-80220D95FC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514600" y="5486400"/>
            <a:ext cx="25146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219320" y="2057400"/>
            <a:ext cx="1828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580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Example 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hypothe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no difference between varianc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is a difference between varianc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85800" y="3200400"/>
            <a:ext cx="8077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the F critical value for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erator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21 – 1 = 2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nominator: 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 = 25 – 1 = 24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.05/2, 20, 24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2.327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629400" y="4952880"/>
            <a:ext cx="2209680" cy="12286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Make sure the sample with the largest variance corresponds to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3" name="Line 9"/>
          <p:cNvSpPr/>
          <p:nvPr/>
        </p:nvSpPr>
        <p:spPr>
          <a:xfrm flipH="1" flipV="1">
            <a:off x="5334120" y="44193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40B2C8B3-90DA-4BE9-A416-620AAF44CA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3200400" y="2590920"/>
            <a:ext cx="990720" cy="457200"/>
          </a:xfrm>
          <a:prstGeom prst="rect">
            <a:avLst/>
          </a:prstGeom>
          <a:solidFill>
            <a:srgbClr val="b7eb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0"/>
          <p:cNvSpPr/>
          <p:nvPr/>
        </p:nvSpPr>
        <p:spPr>
          <a:xfrm>
            <a:off x="6851520" y="3560760"/>
            <a:ext cx="1555920" cy="24444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Freeform 11"/>
          <p:cNvSpPr/>
          <p:nvPr/>
        </p:nvSpPr>
        <p:spPr>
          <a:xfrm>
            <a:off x="5173560" y="2195640"/>
            <a:ext cx="3513240" cy="16142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4952880" y="35812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>
            <a:off x="5316480" y="25146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Freeform 14"/>
          <p:cNvSpPr/>
          <p:nvPr/>
        </p:nvSpPr>
        <p:spPr>
          <a:xfrm>
            <a:off x="5181480" y="2209680"/>
            <a:ext cx="3429000" cy="16210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15"/>
              <p:cNvSpPr txBox="1"/>
              <p:nvPr/>
            </p:nvSpPr>
            <p:spPr>
              <a:xfrm>
                <a:off x="762120" y="2362320"/>
                <a:ext cx="3396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Line 17"/>
          <p:cNvSpPr/>
          <p:nvPr/>
        </p:nvSpPr>
        <p:spPr>
          <a:xfrm>
            <a:off x="6858000" y="358128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 flipH="1">
            <a:off x="7391160" y="350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731520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 = 0.02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629400" y="4191120"/>
            <a:ext cx="1219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/2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2.327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 flipV="1">
            <a:off x="6858000" y="3809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 flipH="1">
            <a:off x="525744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 flipH="1">
            <a:off x="6858000" y="4038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7086600" y="403848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5562720" y="40384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3" name="Rectangle 26"/>
          <p:cNvSpPr/>
          <p:nvPr/>
        </p:nvSpPr>
        <p:spPr>
          <a:xfrm>
            <a:off x="6477120" y="1828800"/>
            <a:ext cx="1676160" cy="78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 Test: Example Sol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Line 31"/>
          <p:cNvSpPr/>
          <p:nvPr/>
        </p:nvSpPr>
        <p:spPr>
          <a:xfrm>
            <a:off x="4191120" y="2895480"/>
            <a:ext cx="2057400" cy="0"/>
          </a:xfrm>
          <a:prstGeom prst="line">
            <a:avLst/>
          </a:prstGeom>
          <a:ln w="38160">
            <a:solidFill>
              <a:srgbClr val="5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6" name="Line 32"/>
          <p:cNvSpPr/>
          <p:nvPr/>
        </p:nvSpPr>
        <p:spPr>
          <a:xfrm>
            <a:off x="6248520" y="2895480"/>
            <a:ext cx="0" cy="914400"/>
          </a:xfrm>
          <a:prstGeom prst="line">
            <a:avLst/>
          </a:prstGeom>
          <a:ln w="38160">
            <a:solidFill>
              <a:srgbClr val="5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380880" y="3962520"/>
            <a:ext cx="4496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 = 1.256 is not greater than the critical F value of 2.327, so w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0880" y="53341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There is no evidence of a difference in variances at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0D3490AC-BB82-4902-AA01-7EEFAA0F6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EXCEL and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est for two vari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2ca237"/>
                </a:solidFill>
                <a:latin typeface="Arial"/>
              </a:rPr>
              <a:t>Data | Data Analysis | F-test: Two Sample for 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H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 for th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2ca237"/>
                </a:solidFill>
                <a:latin typeface="Arial"/>
              </a:rPr>
              <a:t>PHStat | One-sample Tests | Chi-square Test for th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est for two vari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2ca237"/>
                </a:solidFill>
                <a:latin typeface="Arial"/>
              </a:rPr>
              <a:t>PHStat | Two-sample Tests | F Test for Differences in Two Varian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32138E75-1E45-4A2A-A488-66BC48FC65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chi-square tests for the variance for a singl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chi-square table to find chi-square crit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 F  tests for the difference between two population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he  F  table to find  F  critic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C03E91C6-BF58-4BBE-9A6E-5E28A09261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2" name="Picture 4" descr="copyright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762120" y="457308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B8D25A2D-1F45-443B-BF26-17C1C2FFEE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s for Varianc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95480" y="1676520"/>
            <a:ext cx="3429000" cy="13716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Test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62120" y="3505320"/>
            <a:ext cx="3429000" cy="13716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a Singl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Varia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029200" y="3505320"/>
            <a:ext cx="3429000" cy="13716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Two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Varia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2438280" y="3276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6781680" y="32763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4572000" y="3047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2438280" y="48765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6781680" y="48765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62120" y="5105520"/>
            <a:ext cx="3429000" cy="9144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5029200" y="5105520"/>
            <a:ext cx="3429000" cy="914400"/>
          </a:xfrm>
          <a:prstGeom prst="rect">
            <a:avLst/>
          </a:prstGeom>
          <a:solidFill>
            <a:srgbClr val="ab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 test statis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997F300A-6C84-476A-908A-913149EB02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Chi-Square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i-square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amily of distributions, depending on degrees of fre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.f. = n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from a norm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8088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27672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172200" y="5334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4  8  12  16  20  24  28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143000" y="5791320"/>
            <a:ext cx="1219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886200" y="5791320"/>
            <a:ext cx="1143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705720" y="5791320"/>
            <a:ext cx="1371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f. = 15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Freeform 19"/>
          <p:cNvSpPr/>
          <p:nvPr/>
        </p:nvSpPr>
        <p:spPr>
          <a:xfrm>
            <a:off x="3343320" y="4530600"/>
            <a:ext cx="2752560" cy="793800"/>
          </a:xfrm>
          <a:custGeom>
            <a:avLst/>
            <a:gdLst/>
            <a:ahLst/>
            <a:rect l="l" t="t" r="r" b="b"/>
            <a:pathLst>
              <a:path w="1734" h="500">
                <a:moveTo>
                  <a:pt x="0" y="500"/>
                </a:moveTo>
                <a:cubicBezTo>
                  <a:pt x="41" y="419"/>
                  <a:pt x="115" y="28"/>
                  <a:pt x="246" y="14"/>
                </a:cubicBezTo>
                <a:cubicBezTo>
                  <a:pt x="377" y="0"/>
                  <a:pt x="538" y="340"/>
                  <a:pt x="786" y="416"/>
                </a:cubicBezTo>
                <a:cubicBezTo>
                  <a:pt x="1034" y="492"/>
                  <a:pt x="1537" y="460"/>
                  <a:pt x="1734" y="47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Freeform 20"/>
          <p:cNvSpPr/>
          <p:nvPr/>
        </p:nvSpPr>
        <p:spPr>
          <a:xfrm>
            <a:off x="6267600" y="4984920"/>
            <a:ext cx="2571480" cy="320400"/>
          </a:xfrm>
          <a:custGeom>
            <a:avLst/>
            <a:gdLst/>
            <a:ahLst/>
            <a:rect l="l" t="t" r="r" b="b"/>
            <a:pathLst>
              <a:path w="1620" h="202">
                <a:moveTo>
                  <a:pt x="0" y="202"/>
                </a:moveTo>
                <a:cubicBezTo>
                  <a:pt x="32" y="194"/>
                  <a:pt x="98" y="187"/>
                  <a:pt x="192" y="154"/>
                </a:cubicBezTo>
                <a:cubicBezTo>
                  <a:pt x="286" y="121"/>
                  <a:pt x="391" y="8"/>
                  <a:pt x="564" y="4"/>
                </a:cubicBezTo>
                <a:cubicBezTo>
                  <a:pt x="737" y="0"/>
                  <a:pt x="1054" y="101"/>
                  <a:pt x="1230" y="130"/>
                </a:cubicBezTo>
                <a:cubicBezTo>
                  <a:pt x="1406" y="159"/>
                  <a:pt x="1539" y="168"/>
                  <a:pt x="1620" y="178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484200" y="3705120"/>
            <a:ext cx="2639880" cy="1633680"/>
          </a:xfrm>
          <a:custGeom>
            <a:avLst/>
            <a:gdLst/>
            <a:ahLst/>
            <a:rect l="l" t="t" r="r" b="b"/>
            <a:pathLst>
              <a:path w="1663" h="1029">
                <a:moveTo>
                  <a:pt x="1" y="0"/>
                </a:moveTo>
                <a:cubicBezTo>
                  <a:pt x="47" y="144"/>
                  <a:pt x="0" y="699"/>
                  <a:pt x="277" y="864"/>
                </a:cubicBezTo>
                <a:cubicBezTo>
                  <a:pt x="554" y="1029"/>
                  <a:pt x="1374" y="965"/>
                  <a:pt x="1663" y="991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57200" y="5334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352680" y="53341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6248520" y="5334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45720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335268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 flipV="1">
            <a:off x="6248520" y="37335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571500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868680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281952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FFF7B62D-DAD6-4F6B-A532-75AB75C72C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Oval 21"/>
          <p:cNvSpPr/>
          <p:nvPr/>
        </p:nvSpPr>
        <p:spPr>
          <a:xfrm>
            <a:off x="4572000" y="4724280"/>
            <a:ext cx="4343400" cy="160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i-Square Test Statistic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920" y="1905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i-squared test statistic for a Single Population Variance i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3276720" y="2590920"/>
                <a:ext cx="27414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9"/>
          <p:cNvSpPr/>
          <p:nvPr/>
        </p:nvSpPr>
        <p:spPr>
          <a:xfrm>
            <a:off x="457200" y="3886200"/>
            <a:ext cx="3809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tandardized chi-square variabl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ample varianc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hypothesized varianc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4876920" y="5105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st statistic standardizes the sample variance similar to the use of z and t from previous chapter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H="1" flipV="1">
            <a:off x="3657600" y="358092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F798D9BE-6FAA-47C5-A393-92AB8712C6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4802040" y="4508640"/>
            <a:ext cx="2055960" cy="601560"/>
          </a:xfrm>
          <a:custGeom>
            <a:avLst/>
            <a:gdLst/>
            <a:ahLst/>
            <a:rect l="l" t="t" r="r" b="b"/>
            <a:pathLst>
              <a:path w="1295" h="379">
                <a:moveTo>
                  <a:pt x="0" y="372"/>
                </a:moveTo>
                <a:lnTo>
                  <a:pt x="2" y="0"/>
                </a:lnTo>
                <a:lnTo>
                  <a:pt x="97" y="97"/>
                </a:lnTo>
                <a:lnTo>
                  <a:pt x="183" y="158"/>
                </a:lnTo>
                <a:lnTo>
                  <a:pt x="306" y="207"/>
                </a:lnTo>
                <a:lnTo>
                  <a:pt x="434" y="256"/>
                </a:lnTo>
                <a:lnTo>
                  <a:pt x="640" y="295"/>
                </a:lnTo>
                <a:lnTo>
                  <a:pt x="844" y="319"/>
                </a:lnTo>
                <a:lnTo>
                  <a:pt x="1286" y="349"/>
                </a:lnTo>
                <a:lnTo>
                  <a:pt x="1295" y="379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48006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2486160" y="3505320"/>
            <a:ext cx="4829040" cy="160020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2438280" y="5105520"/>
            <a:ext cx="5062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2438280" y="34286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value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und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-square table (Appendix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514600" y="548640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518112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4800600" y="5486400"/>
            <a:ext cx="26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5257800" y="548640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3341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5720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7391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4800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038480" y="16765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5715000" y="3124080"/>
            <a:ext cx="1828800" cy="92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63868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tail test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8B57A559-F2F4-469B-9826-B174C8316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othesis Test with Chi-Squar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hypotheses in term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rejection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test statisti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a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B63FD803-274B-4CD6-A75B-5B6D2A3C63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" name="Picture 14" descr="j0126948[1]"/>
          <p:cNvPicPr/>
          <p:nvPr/>
        </p:nvPicPr>
        <p:blipFill>
          <a:blip r:embed="rId1"/>
          <a:stretch/>
        </p:blipFill>
        <p:spPr>
          <a:xfrm>
            <a:off x="5029200" y="3581280"/>
            <a:ext cx="3757680" cy="2713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ercial freezer must hold the selected temperature with little variation.  Specifications call for a standard deviation of no more than 4 degrees (or variance of 16 degre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16 freezers is test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a sample var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.  Test to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he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spec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ceeded. 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</a:t>
            </a:r>
            <a:fld id="{5CF50F91-1981-4CEF-96FE-FFEFA5F3D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4419720" y="3429000"/>
            <a:ext cx="761760" cy="380880"/>
          </a:xfrm>
          <a:prstGeom prst="rect">
            <a:avLst/>
          </a:prstGeom>
          <a:solidFill>
            <a:srgbClr val="b7eb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6553080" y="5257800"/>
            <a:ext cx="1371600" cy="157320"/>
          </a:xfrm>
          <a:custGeom>
            <a:avLst/>
            <a:gdLst/>
            <a:ahLst/>
            <a:rect l="l" t="t" r="r" b="b"/>
            <a:pathLst>
              <a:path w="894" h="109">
                <a:moveTo>
                  <a:pt x="0" y="102"/>
                </a:moveTo>
                <a:lnTo>
                  <a:pt x="0" y="0"/>
                </a:lnTo>
                <a:lnTo>
                  <a:pt x="71" y="15"/>
                </a:lnTo>
                <a:lnTo>
                  <a:pt x="147" y="34"/>
                </a:lnTo>
                <a:lnTo>
                  <a:pt x="212" y="42"/>
                </a:lnTo>
                <a:lnTo>
                  <a:pt x="300" y="61"/>
                </a:lnTo>
                <a:lnTo>
                  <a:pt x="442" y="76"/>
                </a:lnTo>
                <a:lnTo>
                  <a:pt x="606" y="79"/>
                </a:lnTo>
                <a:lnTo>
                  <a:pt x="888" y="97"/>
                </a:lnTo>
                <a:lnTo>
                  <a:pt x="894" y="109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 flipV="1">
            <a:off x="6553080" y="52574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2212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inding the Critical Valu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Freeform 5"/>
          <p:cNvSpPr/>
          <p:nvPr/>
        </p:nvSpPr>
        <p:spPr>
          <a:xfrm>
            <a:off x="4191120" y="4343400"/>
            <a:ext cx="3962160" cy="1066680"/>
          </a:xfrm>
          <a:custGeom>
            <a:avLst/>
            <a:gdLst/>
            <a:ahLst/>
            <a:rect l="l" t="t" r="r" b="b"/>
            <a:pathLst>
              <a:path w="2610" h="685">
                <a:moveTo>
                  <a:pt x="0" y="679"/>
                </a:moveTo>
                <a:cubicBezTo>
                  <a:pt x="118" y="570"/>
                  <a:pt x="464" y="40"/>
                  <a:pt x="708" y="20"/>
                </a:cubicBezTo>
                <a:cubicBezTo>
                  <a:pt x="952" y="0"/>
                  <a:pt x="1147" y="448"/>
                  <a:pt x="1464" y="559"/>
                </a:cubicBezTo>
                <a:cubicBezTo>
                  <a:pt x="1781" y="670"/>
                  <a:pt x="2371" y="659"/>
                  <a:pt x="2610" y="685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143240" y="5410080"/>
            <a:ext cx="41547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4143240" y="4292640"/>
            <a:ext cx="1800" cy="11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the chi-square table to find the critical valu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219560" y="57913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6886080" y="4952880"/>
            <a:ext cx="18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6553080" y="5715000"/>
            <a:ext cx="1500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4114800" y="5715000"/>
            <a:ext cx="247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962760" y="57913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7010280" y="4648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248520" y="5867280"/>
            <a:ext cx="65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82296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6553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1371600" y="19051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019200" y="63244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= 24.9958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98108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24.9958  (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05  and  16 – 1 = 15  d.f.)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1"/>
              <p:cNvSpPr txBox="1"/>
              <p:nvPr/>
            </p:nvSpPr>
            <p:spPr>
              <a:xfrm>
                <a:off x="210960" y="3124080"/>
                <a:ext cx="4962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22"/>
          <p:cNvSpPr/>
          <p:nvPr/>
        </p:nvSpPr>
        <p:spPr>
          <a:xfrm>
            <a:off x="304920" y="25909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The test statistic is:</a:t>
            </a:r>
            <a:endParaRPr b="0" lang="en-US" sz="2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5181480" y="3657600"/>
            <a:ext cx="1067040" cy="0"/>
          </a:xfrm>
          <a:prstGeom prst="line">
            <a:avLst/>
          </a:prstGeom>
          <a:ln w="38160">
            <a:solidFill>
              <a:srgbClr val="5fb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6248520" y="3657600"/>
            <a:ext cx="0" cy="1752480"/>
          </a:xfrm>
          <a:prstGeom prst="line">
            <a:avLst/>
          </a:prstGeom>
          <a:ln w="38160">
            <a:solidFill>
              <a:srgbClr val="5fb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28600" y="4191120"/>
            <a:ext cx="3657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nce 22.5 &lt; 24.9958, do not reject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Arial"/>
              </a:rPr>
              <a:t>0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304920" y="5181480"/>
            <a:ext cx="312408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significant evidence at th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05 level that the standard deviation specification is exceede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7T11:44:32Z</dcterms:modified>
  <cp:revision>89</cp:revision>
  <dc:subject>Chapter 11</dc:subject>
  <dc:title>Business Statistics: A Decision-Making Approach, 7th edition</dc:title>
</cp:coreProperties>
</file>