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4" name="PlaceHolder 2"/>
          <p:cNvSpPr>
            <a:spLocks noGrp="1"/>
          </p:cNvSpPr>
          <p:nvPr>
            <p:ph type="dt" idx="2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5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5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7" name="PlaceHolder 5"/>
          <p:cNvSpPr>
            <a:spLocks noGrp="1"/>
          </p:cNvSpPr>
          <p:nvPr>
            <p:ph type="ftr" idx="2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8" name="PlaceHolder 6"/>
          <p:cNvSpPr>
            <a:spLocks noGrp="1"/>
          </p:cNvSpPr>
          <p:nvPr>
            <p:ph type="sldNum" idx="2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4CE29-D2EB-4086-922B-AE1CFA651B3A}"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6449B-CA71-4994-BF4F-64F81B800741}"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CFEC3-3880-4D1B-809A-0D424D11E75D}"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E44FF-3CA4-4423-9EB1-B900F537AF75}"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B3F5B7A-3990-42CD-93A1-5CD814EFCFA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F1A5E53-C5A0-4843-98F0-6DC1B910E03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CAEAC74-D315-4B5D-A13B-2E4F6CF2CFD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D00E2F-7731-4132-8EEA-A8B0E64E05B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BA5D3B-6373-4202-8B12-90D89ADE9F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3CC377A-92EE-4851-BF6F-2AC48E150FC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184C010-F2B1-40E1-9F05-D2D1B12E540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45F4F4E-31A3-4049-A0A3-4B1BDF84D1B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8370932-1723-44C4-9AE7-F462AAA2B4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1138DE-56ED-4CE5-8052-619D915E54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723781-0382-4612-9D12-4A50FD8ECFE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B42E5-1957-4C45-A291-A74BA25DE48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843719-9DFE-4CDD-87CB-D634560BC93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79C317-D66F-4F5A-BA30-2C08B04A6E1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318750-B009-4FA2-8A62-65DDE8F14FF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A1ECEC-16C7-4FBB-8C14-E3C0371CD7A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BCFB1-B1F0-439B-A586-0EB288004C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20EBEB-C53E-43AE-8DED-81AE4B56F10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DA63E3-2660-4163-8523-F904F866800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8FF4B7-22B0-4FE9-9A99-A2042757F2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F9051A-27EB-45B7-94CA-1609D4123D4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DBA3602-4659-4D4D-9084-FA33EE123F6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E95D2AA-9F49-40C4-96D8-95B58A99B4F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7D79AE7-79B0-4B48-A9CA-EF34091DCBF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BBB9384-2E5C-433A-BCE7-26555855217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362414-EDF7-471D-9656-C44EE8D31FC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7ADB8EE-3CA0-4204-AC5D-6F49ECCAAB4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2D26A4-D406-4780-9C1D-108143E685E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96894A2-4EAA-449E-86F7-4A8B43E9C34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018508-E783-4F67-9C4A-1CB652C68A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AE3CFD-DD46-4C2E-9596-6279C7CCE99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DC9CD7E-A31C-4E6F-B796-463B9B60ECE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27C9DF4-24E6-4332-AABF-14FA7E0611B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8BF96BA-E6EF-45A6-870E-557A056A7B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6F5010D-A9D1-42A2-8FFD-FB74C8C8D93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E16E605-A628-4EE5-A2EB-21BC39877A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6E88468-9FE1-4092-B4AB-1F99653306C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A514AC3-665E-4BC3-B9D2-EFEE7E97E79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3CFB3F0-AA80-4FF8-B380-ED9509C3A04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E44EF79-F43E-41A3-8739-2B096E22B8D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12CEB6-5F35-4E9C-A0F9-C21E2417F4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241939-D8A7-42DA-B23A-90F19F75CC3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332E18-9886-40B5-81B2-B9964718BCF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D0A3740-C01A-4820-94CC-2DB4E25CA5A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ADDF5AB-442C-4A6E-B4CA-742E28A4F9E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B7A2369-E1E2-480C-9CFB-8957E46D812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D0BC383-C771-4456-BEB1-1861BCC15E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45FB7A-701E-4219-8231-4B16711F40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BE8A76-EC26-467D-AFDA-86E517D896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386000-1EF0-455A-B9E9-96588F2982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5495E5-4A75-43F6-B0C6-B9387656A6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473247-9153-4B5F-93BC-D06A0BF37E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3ABAD7-E2F4-41F2-9346-D3318AC151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F03F54-1662-4ED5-9886-45D3380ABA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1AB147-6AC5-44A3-913F-45B13FE044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7A04A4-70B2-4D90-A649-09E887B3A6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1978D7-E886-4910-8B9D-141846DB09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4E5CD84-342F-45D8-8DF9-9E009506A3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DB1090-3880-406A-B481-51530620CF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4DAAD7-FD0A-4F04-9904-8F65DC9264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C5426B-ECE6-400B-9953-762042F98F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5406C5-40EF-4E64-A556-B24040DC4E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65856C-6C09-4377-BDB4-15DF2AFBD04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63F9DD-ECE7-4602-AAE7-5A80559280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3B4D6C-C8A1-48E3-8C0C-D12B2E67A8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41CBB4-2D99-438D-92C1-BB6A492B8B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5CA969-2155-49D8-A89E-A34C2758343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94E8AE4-5398-4A1C-894A-0A333D74F9B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A8847F-2EAF-45F3-B4E8-7775545F85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A765E-593D-4838-A862-50B69CD58D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D616C-05B3-4FA4-A5D0-EE4055F02C3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59822-C04D-4B42-AA5E-5F57E2BD01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83D50-E590-46A5-9441-5A6833610AB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0230D-483B-4031-9545-A37B057FBD1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DBA3A-906B-42B2-ADA1-DD2CCCA0973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94367-A3CF-4A04-BCE6-BEAA2D1CA3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CF625-C68B-45E3-8036-D4E093A10B9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9E2F4-3AAE-4F71-84CD-146F7CEEF88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22F1C-6995-4601-8694-1442A2A6D33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7F84A-8C21-4F5B-82C7-28592DA92D3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EBEC7-2B55-4A62-BBA5-D7DFD5653D0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933846-06AD-4019-8B86-6CEC0AB8D4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C69EBD-1134-4854-A13A-0342C2F7406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07EA04-4C53-4808-BE88-EA502D8606C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77223E-EC49-4170-845F-A40B2E605CA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19E5D4-B897-4B4A-AD06-A0EECD80BBE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7A0ADD-4EA1-46D9-AD9D-E422313519F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F916DE-EFD8-45D0-AF93-6C2C11AB081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02BA3A1-7774-44F8-A61D-0589A582ECC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8868E8-2033-4252-811D-C6780DFADBF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E84D96-A356-442B-88CC-C4A6A05BB71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46E8EF1-0573-43C5-8DF1-18FC5559A6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E91777-3EBC-4D20-AC72-2B1FD5E59CB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C78F2EC-D6A1-4DC0-91A1-C10CF4978AA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A690320-42FC-4049-9B77-591A7E42BCE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C0DB93C-4016-426A-A9DB-44A3299EDAA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27CE9CD-DB81-4A4F-94F3-B1227455375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E38700F-D58E-481B-8AF3-DE3E0F477C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74BDE2D-D7BA-4E93-B295-A3FC655C3E1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39156BC-78D6-4A08-8857-B8D80CADBB4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7CE77D-898F-48A2-B016-FB6EEDE80F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2C5D7AB-A872-4BDD-8717-CD235C8021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B964981-4128-4C42-9A18-1924897E32C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1AFF510-F5C3-4D32-88B7-9B4559513DE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A26A04F-52FB-4B67-927B-12D62026E8A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FEAF88-FFA2-457D-99CE-FA129F25303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AFEFB3-55BC-45E9-B01A-9DDF5243917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CE199-7615-4A9F-9E01-D7EAD8E9F8D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A6F871-1E21-47F8-9DD4-93A8DBF104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D0D968-CCDA-4B1C-9980-493D2015FC2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3CC99E-6DE6-4A9F-8D5B-42D2D28B704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757CC4-3563-4C25-BFA4-D17C06623D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B17DE-AE1D-4AE4-BB42-0D148B4D72E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98F07-771E-449C-9574-374B1043CB6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63B4B4-554F-46DB-ACA1-0FC164BE637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4616C1-82BD-4AF0-A187-6F429A61FA9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5664C1-D01A-4D21-84FA-2125E5E7986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B97DF1C-5346-4690-A8FC-38B14AFAF62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ECF669E-4E5E-4F97-B2BA-716F15534A0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722F0D5-73E0-4A59-85BE-F2BDD0B191C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7A3018-9E25-4F1B-94AB-1252AC714D4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43BF14-28DB-4798-B1A3-1F709BA89E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38E348-35D1-46D0-AD6B-262FCCE19FA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423576-B5DF-432D-986E-CE3B47A4D5C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4FCDFE-09B5-4057-B3B3-F1CFD080CD1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55A04B-1123-40F3-A183-9059B942E86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95BFA0-491B-437A-B564-F5E2518EAF1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7417B5A-BDF6-419D-A11A-08C3BD2C161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70302A-0EF3-4006-AC69-71DB9BA6A3E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9062E65-B10E-4230-B09A-EB2AB546E1D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106A874-2FFA-47AD-8E9A-AF94321518C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FC06BD6-6FEA-4224-9F08-15459EED2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Box 7"/>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 name="TextBox 8"/>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49EA49FA-4284-4A06-93D8-CD5B493A0D5C}"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400062BF-2895-4167-893B-251AD48CDBCB}"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377"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1" name="PlaceHolder 4"/>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F0A4E-85CE-4DBB-95F5-44C4F3BD3DC3}"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F213162B-F5AA-4642-9DB7-BBCDFE551441}"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19"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23" name="PlaceHolder 4"/>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43227-26E7-4B81-916C-F4C889A772D4}"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AF8DE66A-8071-4EA4-9700-7B20BF1488E9}"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6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5"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C0F51-EE73-453C-A38A-B268D2F740F1}"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934E1822-D13A-4588-88A7-568AFEF5D50F}"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6D93D-C963-43E3-9E08-D5C291288DF9}"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7DB6DEA3-0CEE-413C-9D11-D251799B7395}"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83"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5D4A6-B783-408A-8C04-555F2F872C56}"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E0835F3A-A039-4A54-AA29-4C9729CC37A5}"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125"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75103-FACB-4B81-B25D-E7F858EA0B02}"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6155B403-67A6-4A8D-82BD-BCA5BA325190}"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167"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7EC9E-EA81-42E0-8411-8732D0A4EA98}"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629B028C-53C8-4C1B-B155-1D761EF08382}"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09"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49158-67C9-4BEA-B041-8CCDDC170AFF}"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E3A5DFF6-E029-4A9E-BC41-8F9BAC4D6120}"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5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5" name="PlaceHolder 4"/>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61C27-DC2D-493D-A8AC-02B95219AC4A}"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689068C5-4FB5-49CF-B08D-CF1D125B77A1}"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93"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7"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2C375-29A2-444F-B80D-C4ED12D23340}"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B608103E-CBC2-4670-85F1-AFF35B024FE4}"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335"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9"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F19C5-03D5-48B8-A953-1E076DAB8F52}"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ＭＳ Ｐゴシック"/>
              </a:rPr>
              <a:t>Problem S11.7</a:t>
            </a:r>
            <a:endParaRPr b="1" lang="en-US" sz="4000" spc="-1" strike="noStrike">
              <a:solidFill>
                <a:srgbClr val="000000"/>
              </a:solidFill>
              <a:latin typeface="Arial"/>
            </a:endParaRPr>
          </a:p>
        </p:txBody>
      </p:sp>
      <p:sp>
        <p:nvSpPr>
          <p:cNvPr id="510" name=""/>
          <p:cNvSpPr txBox="1"/>
          <p:nvPr/>
        </p:nvSpPr>
        <p:spPr>
          <a:xfrm>
            <a:off x="457200" y="1600200"/>
            <a:ext cx="8229600" cy="4525920"/>
          </a:xfrm>
          <a:prstGeom prst="rect">
            <a:avLst/>
          </a:prstGeom>
          <a:noFill/>
          <a:ln w="0">
            <a:noFill/>
          </a:ln>
        </p:spPr>
        <p:txBody>
          <a:bodyPr anchor="t">
            <a:normAutofit/>
          </a:bodyPr>
          <a:p>
            <a:pP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ice Technologies, a California-based high-tech manufacturer, is considering outsourcing some of its electronics production. Four firms have responded to its request for bids, and CEO Willard Price has started to perform an analysis on the scores his OM team has entered in the table below</a:t>
            </a:r>
            <a:endParaRPr b="0" lang="en-US" sz="2000" spc="-1" strike="noStrike">
              <a:solidFill>
                <a:srgbClr val="000000"/>
              </a:solidFill>
              <a:latin typeface="Arial"/>
            </a:endParaRPr>
          </a:p>
        </p:txBody>
      </p:sp>
      <p:graphicFrame>
        <p:nvGraphicFramePr>
          <p:cNvPr id="511" name=""/>
          <p:cNvGraphicFramePr/>
          <p:nvPr/>
        </p:nvGraphicFramePr>
        <p:xfrm>
          <a:off x="758880" y="3193920"/>
          <a:ext cx="7385040" cy="2683080"/>
        </p:xfrm>
        <a:graphic>
          <a:graphicData uri="http://schemas.openxmlformats.org/drawingml/2006/table">
            <a:tbl>
              <a:tblPr/>
              <a:tblGrid>
                <a:gridCol w="2305080"/>
                <a:gridCol w="1015920"/>
                <a:gridCol w="1015920"/>
                <a:gridCol w="1015920"/>
                <a:gridCol w="1016280"/>
                <a:gridCol w="1015920"/>
              </a:tblGrid>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Fac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Weigh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B</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3320"/>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ab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dcc"/>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Quality Procedur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Logistics Syste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i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rustworthin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echnology in Pla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8e7"/>
                    </a:solid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anagement te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dcc"/>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ＭＳ Ｐゴシック"/>
              </a:rPr>
              <a:t>Problem S11.7</a:t>
            </a:r>
            <a:endParaRPr b="1" lang="en-US" sz="4000" spc="-1" strike="noStrike">
              <a:solidFill>
                <a:srgbClr val="000000"/>
              </a:solidFill>
              <a:latin typeface="Arial"/>
            </a:endParaRPr>
          </a:p>
        </p:txBody>
      </p:sp>
      <p:sp>
        <p:nvSpPr>
          <p:cNvPr id="513" name=""/>
          <p:cNvSpPr txBox="1"/>
          <p:nvPr/>
        </p:nvSpPr>
        <p:spPr>
          <a:xfrm>
            <a:off x="457200" y="1600200"/>
            <a:ext cx="8229600" cy="4525920"/>
          </a:xfrm>
          <a:prstGeom prst="rect">
            <a:avLst/>
          </a:prstGeom>
          <a:noFill/>
          <a:ln w="0">
            <a:noFill/>
          </a:ln>
        </p:spPr>
        <p:txBody>
          <a:bodyPr anchor="t">
            <a:normAutofit/>
          </a:bodyPr>
          <a:p>
            <a:pP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eights are on a scale from 1 through 30, and the outsourcing provider scores are on a scale of 1 through 5. The weight for the labor factor is shown as a w because Rao’s OM team cannot agree on a value for this weight. For what range of values of w, if any, is company C a recommended outsourcing provider, according to the factor- rating method?</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ea typeface="ＭＳ Ｐゴシック"/>
              </a:rPr>
              <a:t>Problem S11.7</a:t>
            </a:r>
            <a:endParaRPr b="1" lang="en-US" sz="4000" spc="-1" strike="noStrike">
              <a:solidFill>
                <a:srgbClr val="000000"/>
              </a:solidFill>
              <a:latin typeface="Arial"/>
            </a:endParaRPr>
          </a:p>
        </p:txBody>
      </p:sp>
      <p:pic>
        <p:nvPicPr>
          <p:cNvPr id="515" name="Picture 1" descr="Screen Shot 2015-12-12 at 8.36.59 AM.png"/>
          <p:cNvPicPr/>
          <p:nvPr/>
        </p:nvPicPr>
        <p:blipFill>
          <a:blip r:embed="rId1"/>
          <a:stretch/>
        </p:blipFill>
        <p:spPr>
          <a:xfrm>
            <a:off x="622440" y="1893960"/>
            <a:ext cx="7920000" cy="3832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8T10:33:31Z</dcterms:created>
  <dc:creator>Jeff Heyl</dc:creator>
  <dc:description/>
  <cp:keywords/>
  <dc:language>en-US</dc:language>
  <cp:lastModifiedBy>Moaad</cp:lastModifiedBy>
  <dcterms:modified xsi:type="dcterms:W3CDTF">2015-12-12T05:39:15Z</dcterms:modified>
  <cp:revision>698</cp:revision>
  <dc:subject>Chapter 12 - Inventory Management</dc:subject>
  <dc:title>Heizer/Render 11e</dc:title>
</cp:coreProperties>
</file>