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2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5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7" name="PlaceHolder 5"/>
          <p:cNvSpPr>
            <a:spLocks noGrp="1"/>
          </p:cNvSpPr>
          <p:nvPr>
            <p:ph type="ftr" idx="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2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1A282-2FBD-4350-8591-DD1A4AA73DB7}"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4051E-1D05-464C-981A-A6124E3A019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2A307-6CB4-471E-BD18-F0C9347D4970}"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EFFE5-B7F9-4BFC-8FF3-B9625057F5F7}"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9A2F8B-E934-430A-B7DF-0638341F98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7C47530-7159-4666-99C2-321C7E58A1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7E0831A-78FE-4672-A469-CD1CA02E44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8572B8-26AD-40C4-8FE0-4CA186767B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C6340A-535F-4AD2-A5C7-A8DE2CA5BF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315F79-E9D4-453F-BE11-7E1E322ABD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5765C8-12F4-402C-A823-1BBA31D8F6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43F1556-B64B-4F7F-A540-DDEA236EBE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B412483-9CA1-4416-A0C3-F4FC95FC3D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03A530-8369-43B5-831C-624BF9BB3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AFF3AC-F469-4E01-95A5-9D146350F7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39529-A7EF-4B0A-896B-0F04EB75E0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56831-AA28-4E1E-8DC7-71B925DC46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456C3-0BEE-41E5-9345-EE89777C2DD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CB4F5-B6D0-4544-AADD-57095A33AB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10AD9-4152-4679-B8B1-62BAA47C0D3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ABF47-AB5A-4580-8E9F-55B5A960BA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D8764-C999-4B68-9025-3BAD2897BB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650DEB-E5D6-48B5-A41E-E7232354B4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28C20F-4CE2-46C4-B5EC-1CC879D76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1C52A0-11EB-46BF-A6F8-F6C00996A28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ED75C57-6DF0-4FAC-AC51-5E569BB455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6887CA5-DFDD-405E-8FA9-35E8ABA83A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2FE9DC-1890-459F-B45F-E768AC6F90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CA6D98-0619-445D-9F0E-2959F75E67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F934892-91F7-46A1-8EBE-D7A6AC0CE9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1121B8-56CE-4F11-8E57-390F09AB61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861425-093A-4F6B-A385-C27D6EEDDF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74B4FE-DC2B-4FD4-B21F-AA46E7243F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703AD8-086F-483F-A65A-367547F9F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B577DF-E7D4-4B37-BCD9-5925AE8F898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49C62A-0D58-475F-89A2-CF0DE1B7D82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464460C-6D22-4AD6-B6F0-965E3EE707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3C5D838-DC16-4AF3-BFFA-1A39107568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711510F-123F-46F6-B3DD-683385DB52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2378F93-488D-45CF-91E3-0E35ADA762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9DA6639-0F0F-4F56-941B-4FEF2D20D3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046B30D-469F-49AA-82EF-4B3B860B6F3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3253C3-86DF-4954-A710-D3B2C1AE155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4E997AF-6723-4E45-A3DE-52500775D7E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A2EC80C-C38E-4A77-ADC5-E55DDF50E7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EA133-DAC6-4C33-AE7A-4418BBA174C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94BF86-482C-4FE6-A10D-B7FDAC3A899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96B0C3-DFC9-46EE-B847-3C4373B2955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E7BE46-3B43-4A23-8F8A-F8D9CACBF0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CB42DE4-8FCB-42C2-BECC-95058F907F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E8BAB20-A8A6-4C02-BF3D-BC616018DE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EAB9A7-A853-44BA-AB5B-CF29C04B15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A05C8-BB62-4081-B868-A08ECD550F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DAAA6-0C9B-4020-A2B7-F1CDE6DC0E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735D0C-4793-4EAF-A371-C89F681C7B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66D9E-B674-4908-8586-03B93B3CFD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18DE9-9382-4D76-A440-C9A4E4DC39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224B2-64C8-4299-92E4-FF31C708E9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0827EF-EBB7-4C9F-BFCE-1EF637E88B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85EDB1-CD46-4E54-BA68-6A6E2AC3E4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933C7-0B4E-49FB-91B2-8908BE9B0E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6EDE32-CEC2-4B3B-A7F5-85A021595D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1ABF48-AB60-4207-ADC8-31A4ED0212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0F964C-DD3C-4A67-9F29-1F4D273DC3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EE967A-EA47-40BE-BA68-A6AB714A8B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16E705-5184-458A-9CE3-0B2CCBCD2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637A6B-9CCF-4AEB-9A16-82CCA08FC0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35926B-F15E-4CD0-886D-1C185C51A7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7AD199-916B-4187-8010-3FDC9E95A4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C84390-F36C-4F1E-A1B0-592FBE9239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6C0406-2AE4-4901-8C58-69E1A697B3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99003B-72A4-4AE3-8A56-0E52DC8648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E8083C-0BD4-4855-A94E-19162EF117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60687-4B40-4504-88AA-610154F8D9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C3B84-7C73-448F-98B7-97FC17B1B7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F0383-494E-4799-963E-55C6A578E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107DA-B3B5-4C97-96A1-6F1223127C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A5723-0A3A-4A64-BDE6-E3506D1A2A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8D936-1650-4FF7-B9B6-45996B7CA7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8647-78C1-42D1-9430-B761395D01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2F12-5795-4CAE-B62B-0FFDC04669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93717-92A6-4D8F-978C-C4C55B60B2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2833C-2CDA-4243-B2EE-D133CCD51C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28D43-DF2E-44A0-87A1-B9665081EC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06354-B670-40AE-938B-0B854200F6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2B7983-98AF-4CDC-AB7F-CDF0971DBB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CC8824-6CD7-4138-A5ED-266B51AD01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9A9A80-ED8E-4DDF-B94A-B7AE70CBE72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EB2A1A-68D3-4BF4-9F4C-897E59EDE2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A59B6D-34A7-4CC8-BFE5-9948EC8401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B0BF45-240E-4E76-A979-FE425B418F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FADA34-067C-40E8-A457-FB4738C70EA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78D446-F303-41B4-BAF3-F9584FE31C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566F72-D9ED-4A8E-8DC6-4E77821BD2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29D790-8A4D-4572-B726-C34D8CE3C60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2AB5C1-D8BF-44F3-A53A-EF654AF8A1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57AA0A-AFB0-46F8-BF01-9A38AD801F3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3840085-6A33-48EA-B34E-8559804562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0F184F7-1ED7-43FC-A960-920A3E1729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F9B7316-8D59-4A03-82C6-4EC390AC72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A66D69-A834-4C18-BA03-29CD8EE3B9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2EEA416-B515-45BB-B779-CF14D00C1D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0B9386-9A19-429E-A942-ED01A0EDC7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AA8830-BEE4-45AA-9FAC-1EAD82BCBA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9F2419-6821-4215-A00B-7904E2C983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C03A1E-B3F3-4F6D-A181-CE1795B18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D9ACE6-E09B-412B-8C24-39D592FD0D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5E92F48-A5F1-4CCB-AFA6-E59812571B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B22427E-2F59-4629-BBD9-D904C27CB3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41E49B-6FDF-49C2-8B57-F40D65B0FB6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A147D-A0D0-401C-A0BC-1FD267FD37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C1BA2-BA78-4C4E-AB50-35FA7CB07D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A625A-C938-46F7-950D-3C46C16ABD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2A275-3612-4690-826A-C1ACCDDE8EA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79EFC-D39F-4209-A2B8-C5602E1B6A3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CAB49-FA3D-45A5-A679-F36C59AB61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B4ABB-069F-4128-BFFE-906FD5F3B8B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39343-16A1-49A9-BE20-326EE1E320A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137B5-3390-4AAB-AAB5-E0C1AAB4B31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A9089-C7AC-43EA-86BA-5E7AA0D4DF0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98CB23-F0BB-4FF8-A12F-72938911366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116097-5612-47D5-B042-392B233DD3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A95C2F-BCE0-4F5B-AD2B-A7D4B88CAB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5DDFD0-2EDC-444B-B33A-6AE791D68F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0AB2F8-D1D5-4997-AF88-E48FBEC6C1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E86E24-7F8C-4503-93B5-005C77883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A47A2BC-F828-48DB-8919-8C5FB380E2F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3F98AD-604B-4F19-910A-CD634BEA4A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B49E74-5BE9-43BD-8F29-6857CC77DC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B609DA-183F-4109-B1A3-5482560783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398933-E4A0-4A2F-933C-3619842573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1110B28-5BB9-4C97-8185-9D1D1ED0A9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4A98531-DBD3-422D-8A64-FC19906037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8DB09A3-260D-47EC-A0D0-A189DC0561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43A1B81-A3C1-46CA-8BC0-64D4D0379C7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047441B-A573-42C6-ACFE-F2E40BC23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Box 7"/>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 name="TextBox 8"/>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DF0E969A-2ED9-4CF6-B489-BD4765A035AC}"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8250B6BB-A6F0-4C3E-A373-7B0DB883F45D}"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7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64CFD-1FF1-4363-BA10-3F4BB3638FE0}"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4C161DE0-BFCE-44B2-9352-EF635FFA7012}"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PlaceHolder 4"/>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48D3B-6A5C-4C4E-9A6B-04F8C441BE38}"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1AA0B13A-C6C6-4F64-9543-7648DFF38716}"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6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1B43F-FEF2-47FA-83BB-FEFC4AC79071}"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CA650CC1-4AB0-4BA1-A91A-19769EB368F6}"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A9468-BC00-4A0A-B147-8FD4C17CC45D}"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B2A4A6FB-80A8-4C3C-82FE-BD27173ED652}"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8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D40A9-2569-4101-B74E-E62C09CB87F4}"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3EFFB50-5870-4670-A429-F9944ED9766A}"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2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66FD7-3890-4D98-9EDC-0DEC4A9C7257}"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820B331-399D-4076-9948-C41C70D61134}"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6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87EEE-0412-4ACD-AADD-21611C2F185B}"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C726FDF7-E201-453D-929E-F5701E304809}"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0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7779B-03F3-4050-8296-7CC63BBADBDB}"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CC03BC1F-8AD8-4200-BA26-2C1D4D108E97}"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5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01230-AD99-44B3-BAA2-3BEF7368A20C}"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FDC96A14-5D04-4669-8C59-D8414BF286D9}"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9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7"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318B2-3A90-485E-A1F8-3AE6F0A2D5CC}"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D0865C80-FDB2-4E22-8042-A1ADC28DE800}"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3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21588-7DE5-4ABC-B6B4-CA6D1EE7BA36}"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a:bodyPr>
          <a:p>
            <a:pP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ice Technologies, a California-based high-tech manufacturer, is considering outsourcing some of its electronics production. Four firms have responded to its request for bids, and CEO Willard Price has started to perform an analysis on the scores his OM team has entered in the table below</a:t>
            </a:r>
            <a:endParaRPr b="0" lang="en-US" sz="2000" spc="-1" strike="noStrike">
              <a:solidFill>
                <a:srgbClr val="000000"/>
              </a:solidFill>
              <a:latin typeface="Arial"/>
            </a:endParaRPr>
          </a:p>
        </p:txBody>
      </p:sp>
      <p:graphicFrame>
        <p:nvGraphicFramePr>
          <p:cNvPr id="511" name=""/>
          <p:cNvGraphicFramePr/>
          <p:nvPr/>
        </p:nvGraphicFramePr>
        <p:xfrm>
          <a:off x="758880" y="3193920"/>
          <a:ext cx="7385040" cy="2683080"/>
        </p:xfrm>
        <a:graphic>
          <a:graphicData uri="http://schemas.openxmlformats.org/drawingml/2006/table">
            <a:tbl>
              <a:tblPr/>
              <a:tblGrid>
                <a:gridCol w="2305080"/>
                <a:gridCol w="1015920"/>
                <a:gridCol w="1015920"/>
                <a:gridCol w="1015920"/>
                <a:gridCol w="1016280"/>
                <a:gridCol w="1015920"/>
              </a:tblGrid>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Fac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Weigh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ab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Quality Procedur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ogistics Sys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ustworthin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echnology in Pl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nagement te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ights are on a scale from 1 through 30, and the outsourcing provider scores are on a scale of 1 through 5. The weight for the labor factor is shown as a w because Rao’s OM team cannot agree on a value for this weight. For what range of values of w, if any, is company C a recommended outsourcing provider, according to the factor- rating method?</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pic>
        <p:nvPicPr>
          <p:cNvPr id="515" name="Picture 1" descr="Screen Shot 2015-12-12 at 8.36.59 AM.png"/>
          <p:cNvPicPr/>
          <p:nvPr/>
        </p:nvPicPr>
        <p:blipFill>
          <a:blip r:embed="rId1"/>
          <a:stretch/>
        </p:blipFill>
        <p:spPr>
          <a:xfrm>
            <a:off x="622440" y="1893960"/>
            <a:ext cx="7920000" cy="3832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0:33:31Z</dcterms:created>
  <dc:creator>Jeff Heyl</dc:creator>
  <dc:description/>
  <cp:keywords/>
  <dc:language>en-US</dc:language>
  <cp:lastModifiedBy>Moaad</cp:lastModifiedBy>
  <dcterms:modified xsi:type="dcterms:W3CDTF">2015-12-12T05:39:15Z</dcterms:modified>
  <cp:revision>698</cp:revision>
  <dc:subject>Chapter 12 - Inventory Management</dc:subject>
  <dc:title>Heizer/Render 11e</dc:title>
</cp:coreProperties>
</file>