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CB4F8-B628-4818-860F-3DDEDD824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DF209-C9A7-4B42-B5FC-F9A02F5BEF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1035F-328B-43D4-AD22-7901B36050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85AA9-6152-44A9-9C45-94E37981F8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20A29-EA1E-4708-92A3-FEC8E06F29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2827D-48E2-49BA-B022-B661AD78EA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DBDD6-E88E-439B-B9E8-57CC16A273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95914-064A-4365-B125-F83DA597C6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94B96-1509-4927-8D73-E9857E4416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F8A4C-FE81-476C-B1B5-1EC91133BC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91D0B-0234-494F-82EB-54BB2BB5E4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18941-B68E-4E99-A01F-C5DB82E73A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09222-B797-44CC-9A98-34813EAF62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293CA-C9CA-48D6-8F45-DA1416A311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69FF8-47A0-4C59-85BE-A15239B6F7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53B3D-19AF-471A-B486-8F07D679DF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475EA-CA39-4DC1-A514-6243A03FD5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0C3CF-FC0A-4B37-B5C7-B74D78D7E3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9AB17-7143-4300-BE72-57E8AC6456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6B7B1-A7E7-43FE-B41A-2024D26B45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4D463-DA62-4F33-8C4E-5FCCA0AB54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99BCE-78DA-4996-9CC6-C0C0934C44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B3220-8ECA-4B61-A742-B46FFA61EC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CA3E2-A936-4CC9-B940-71887F2C23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50BA4-83A6-4CAE-9876-431622ADEC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8B7A0-EAB2-4EC7-99C0-989B789B6D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49A17B-B694-425D-B28B-44A3EE4156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1E434-19D1-4BDA-84F8-8A9099D163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AED57-EC0F-483E-85DB-71F9B05CD4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8F990-F330-4460-B06A-4BA6859E4B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B3401-4BDB-44F8-90BF-D5F01B046A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30703-F1F2-47AF-853A-F25766B22C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076CC4-34C5-4861-8F74-8B8D59906AA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29670E-4EC3-4B5E-86FD-5366B37F250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E2AD2-A558-446C-920F-9B62E5608B8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EB6EC5-F25B-4613-9607-F610D3E063D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D30DEF-3F65-43C4-B7E7-54172A3E981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69E394-646B-420E-AFED-6089CCC31C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148466-E874-4439-A038-6DF9F150FA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1ED0F-0A70-452E-8FAD-0CD3C5FB8A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743665-1DF2-4984-A8E1-1F63989D2D2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E3FF-3505-4720-8EC5-2FB898D87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7E423-73A5-4F7E-8E89-F882D8CE310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AE42-2E34-4BC8-9177-AFE0223A77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29B6-CB2F-4623-BA17-CBC524E31F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82AA9-3645-412C-B00E-CF1A6E297A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9DF07-531D-4397-9BE5-0520AF7E28B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9D6A-4381-4F9D-850F-39F56346441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45E57-0A39-41BA-B7C6-E62D0A157AF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8108A-AC45-4915-AB59-82BC64E8CD3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6B37F-4E15-4107-985A-85A81A0CD66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1BE55-FF5B-416B-BBAB-DFF5F78D9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14BA8-AC0F-4C1D-8457-A8DBBC7D7BF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F39E0-D23A-4EA0-BDF8-2AF0A7CAC6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8F01D-698D-4E58-AD1E-8E13CEECBAF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84ECD-7B26-4AE8-9899-F2FC6DAD98E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BB988-0DC5-4B27-B320-B0B8BD436F2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0E50C-0CE5-49B8-BC5C-74FC4FAAA69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BE669-7179-4A39-890D-5BECE94529C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ACD250-ADD3-4918-9EE1-D638BDDF6AB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5B774A-7DAE-44E7-93E7-D6E9C2DF1FE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3FD4A-AC3B-4EC4-8B7D-4A5B692DE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572C-17B1-4242-8067-80605A2B703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6010B-20F0-4501-83BD-B055A0613C5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ABED5-0B8D-47F3-8530-763B4BD8EAC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795617-E4F6-4664-806D-39EE8BAB145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0D50BF-FB44-45B7-83EF-CF2E40E7507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25B285-18E5-4EE5-994E-3C0D541C58A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BBE715-47DF-4B75-A9DA-E251BA3852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A45810-D0AA-484E-ACF8-0B427278E5F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C6FB1E-5E39-49C0-8001-5696D58E820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D92AA0-11C4-4299-AED2-FC89BE74EA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5F3B79-50DE-47EC-AFC6-745094F9DB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31D1-A345-4EB0-8372-E82E1AFAE80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DFB5E1-7367-4D0C-B5BC-B1169DE227E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B6AEB1-69AB-4171-900D-8C9C7E61EDE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E784E1-C398-49D2-8A18-BB8B54F4B0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E9C02E-35B6-4804-A4B5-9CCFECA5F49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876744-5A01-4DCD-AD50-8671F4E11F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922A-DDE9-4B52-967E-94A289F0B7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F473-008C-49FB-ABBA-A3F82E0C68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8C4A4-5908-4C45-AB9A-D9A6173C6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0FEE1-68BE-4480-9DAA-00ED825B10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EC97-B1DA-433A-8B68-E3FB9C3EAD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61BB-2BF3-4B43-BBFA-1DC9C3F496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CA05-E8D4-46F2-B98F-4278B9AB6D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A552-648A-460B-8C92-0F9A8A6468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412F-2EEF-4E55-9188-9EC4DE1FAB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89C8-F93C-43EC-9E0F-A3BC6DC4BF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8641C-DC6E-43F6-A6DB-8A331B027C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C6C69-96B1-44E0-9F10-7BBC75C760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8DFAA-3476-4BFB-BC60-51060C26D7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47AE6-424F-4759-BBA6-10BBAB31AE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221E2-5FAE-4038-9E2F-50F3B20BE8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0C1D5-0643-4CF8-9723-AB80DB5135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E2527-5563-4AF2-AC24-30988731A9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3F9DC-6A16-4BA4-8FD7-1B4D736D80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9C1EC-0C6C-496F-A968-6379670F1D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223CB-1D63-4EF8-B07D-6FB33B3975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904B7-5711-41A4-9DC8-05F37CE0A0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3EDB0-E452-40EE-A16A-196F19E5BC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1FA2-F990-47E1-A0D2-3650E204AD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D9A-4C74-44EA-9991-F79FB68629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D2D4-27A6-4F0A-9C37-70C60F969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2FE0-B15A-4F5F-A92C-5B5CDFFC1D7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EABA-308C-475B-AE64-2DB0B16C52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153A-E0EA-424E-8072-975BF30821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4948-0FE4-4E36-B1A0-D24FB627DA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4A00-3F02-4837-AB2F-1F29BF4248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63C1-67BD-4003-9328-392881C8C8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D999-62F6-4222-8A1D-5950051FAE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0CFE-594C-44F9-8A46-D751CED272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D911-0164-43EC-96F5-ED7F4E5A48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664C7-D2F4-4E56-9CB7-229A0A469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3D911-1D22-4F3F-B1DE-448C8B6FA10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E4F5A-B089-499F-A171-B390166918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47AA9-FE2C-4715-94F2-A1639303EF7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78960-0558-46BF-974E-E2D7AA2ACE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B8975-9309-41A6-948E-451099E5D79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8B6A0-1AF1-4C99-BC75-78D5C6FA91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86341-A92E-44F8-9F32-CE49EC7B07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1B9DC-C5E4-4877-885C-ED16EA7497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3F6F2-7430-444E-8693-E2A4AFF041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5877A-0F69-4426-8530-949B90C1A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7C857-C81A-4A1C-B2F4-AD4F9916F3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9019B-E9A1-478B-BE9F-0B9F82ABC2B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80DF51-3D7F-4A07-98CE-0D4FB6110B1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E7970-6275-42C0-9F4A-B57F6E66A0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FF8B5-86EC-4C4E-ACF5-9F7E95B248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98A4AC-ABB0-4B97-BEDC-E7EEE34E4B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AE0F1-113D-46DB-BD51-B6FD371740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50D76-FC1A-46B5-A49B-031BBA62E64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E6311-9775-4CD9-8812-1561EF37F4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F7AF7-00AB-4990-916E-44C2DB5BE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833BB-4627-42FB-9B5E-6CE7AE353C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AD9CA-446B-4007-97AF-24A78A9C03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4467B-BF9B-4BA5-8F37-1C4B7AD4BEF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C3483-9ACD-4083-83F3-31FE9A4107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AC82-6295-40C5-8FA1-931209E590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F159-0D7B-410A-9B35-BC6034C7DA9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5D8C-418C-40E7-B4E3-FA28EAF3D0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FF385-0540-42F1-ABB6-B782BDBA776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36D7-F611-497E-8739-8DCEEA36A8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5B44-B2B5-4D54-B5AB-D579B204C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0046-7283-4469-BF35-B4B58B95BC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56BBB-2BF6-4F98-8428-59B3AA3E7E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F1121-6B64-4770-8CAE-5DD9BF25D9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6616-914F-444D-A3D8-5E04B091A5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6370-A515-401E-968C-0CF795B28D4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E90EA-62B6-461E-85B7-3409513DBAD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7C33E-7B8F-4CA9-B897-07FBEDD593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E29CA-FB5C-4095-BE8F-F58EA7F7A9A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91D39-0300-4EDF-A233-43DE3359C8F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952B8-CA00-4ED1-9EA8-80450FE83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DD022-042D-4789-8FF2-B4683261EEE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39C91-9807-49F3-B441-1740CA566FA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4DE4D-C1D4-4B21-BC71-15C8BEAD5D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D2A9A-5EEC-468C-AD4E-6CCC8179376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1395E-2D12-450E-9EB5-FF0303333BC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2AF35-F789-409E-B964-6CFABB7837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68E50-5800-4D25-B8BD-FCA9E0AA1F0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790993-5073-4DCC-A423-184506B71D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1F4F2C-1AFB-4227-B3C2-878A49DD227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82B1EC-4DAE-4B4A-A977-D4A97D09D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7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8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7199ADBE-A8B9-468F-AA60-1CF46DEB8F9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C01BA6C0-1B31-4AD2-90AC-5F348199929B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7AC92-3A5A-4246-9D41-44933A0902A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678E4BC8-11B0-4293-B8D1-BF70C1002966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7400C-6FEC-417F-A15B-001F988DB17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3A86F275-8A05-4E7B-824F-BD2C34BAFA98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C942E-D01A-496F-AEBC-04CC0C399C4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DB531737-64C3-4E59-9F20-BB90856BEA2D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A0080-38D7-4D55-BD05-7B228634495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1981E950-1E5E-48F7-95E8-5E525DD06C54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98E49-A9E7-48DF-8424-E6587810722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BAAD5B24-B9D0-4778-8692-0BE94931CE05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7DAD8-EC7F-4F4A-8823-63A43FD3EB8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40BC5304-6BC8-4D0D-AEFD-C88FA4C8D274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62F1F-DA27-4084-994C-300355FC887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18BE0B90-F9ED-41DD-9CAD-5AB99762F0FE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F9B54-6A7B-4040-973F-1FB7BC8391F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02F2BC13-7AE0-4A12-8073-BBF9809E6BFC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4FD0E-F687-4409-BDC4-D70A0B0CC41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2712E341-FED5-4485-9CA5-673DA4C1C60E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F20B9-DB9C-4297-9953-F650CA9594C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5"/>
          <p:cNvSpPr/>
          <p:nvPr/>
        </p:nvSpPr>
        <p:spPr>
          <a:xfrm>
            <a:off x="7701480" y="638496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12 - </a:t>
            </a:r>
            <a:fld id="{E145A010-C25D-47D3-9D10-25D0C432F550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4507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a6a6a6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37668-6A63-4627-9B2F-F48E6A7E934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3" descr="scm title photo.jpg"/>
          <p:cNvPicPr/>
          <p:nvPr/>
        </p:nvPicPr>
        <p:blipFill>
          <a:blip r:embed="rId1"/>
          <a:srcRect l="6176" t="622" r="4825" b="0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1"/>
          <p:cNvSpPr/>
          <p:nvPr/>
        </p:nvSpPr>
        <p:spPr>
          <a:xfrm>
            <a:off x="6838920" y="1109520"/>
            <a:ext cx="1708200" cy="1667160"/>
          </a:xfrm>
          <a:prstGeom prst="rect">
            <a:avLst/>
          </a:prstGeom>
          <a:solidFill>
            <a:srgbClr val="bfbfb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2"/>
          <p:cNvGrpSpPr/>
          <p:nvPr/>
        </p:nvGrpSpPr>
        <p:grpSpPr>
          <a:xfrm>
            <a:off x="368280" y="638280"/>
            <a:ext cx="6732720" cy="2363760"/>
            <a:chOff x="368280" y="638280"/>
            <a:chExt cx="6732720" cy="2363760"/>
          </a:xfrm>
        </p:grpSpPr>
        <p:sp>
          <p:nvSpPr>
            <p:cNvPr id="513" name="Rectangle 4"/>
            <p:cNvSpPr/>
            <p:nvPr/>
          </p:nvSpPr>
          <p:spPr>
            <a:xfrm>
              <a:off x="6702840" y="903240"/>
              <a:ext cx="398160" cy="2098800"/>
            </a:xfrm>
            <a:custGeom>
              <a:avLst/>
              <a:gdLst/>
              <a:ahLst/>
              <a:rect l="l" t="t" r="r" b="b"/>
              <a:pathLst>
                <a:path w="443441" h="1159933">
                  <a:moveTo>
                    <a:pt x="0" y="0"/>
                  </a:moveTo>
                  <a:lnTo>
                    <a:pt x="443441" y="0"/>
                  </a:lnTo>
                  <a:lnTo>
                    <a:pt x="262467" y="583670"/>
                  </a:lnTo>
                  <a:lnTo>
                    <a:pt x="443441" y="1159933"/>
                  </a:lnTo>
                  <a:lnTo>
                    <a:pt x="0" y="11599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5898"/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4"/>
            <p:cNvSpPr/>
            <p:nvPr/>
          </p:nvSpPr>
          <p:spPr>
            <a:xfrm>
              <a:off x="368280" y="638280"/>
              <a:ext cx="6471000" cy="2098800"/>
            </a:xfrm>
            <a:prstGeom prst="rect">
              <a:avLst/>
            </a:prstGeom>
            <a:solidFill>
              <a:srgbClr val="255898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5"/>
            <p:cNvSpPr/>
            <p:nvPr/>
          </p:nvSpPr>
          <p:spPr>
            <a:xfrm>
              <a:off x="6701040" y="2732400"/>
              <a:ext cx="133200" cy="258480"/>
            </a:xfrm>
            <a:custGeom>
              <a:avLst/>
              <a:gdLst/>
              <a:ahLst/>
              <a:rect l="l" t="t" r="r" b="b"/>
              <a:pathLst>
                <a:path w="149225" h="142875">
                  <a:moveTo>
                    <a:pt x="149225" y="0"/>
                  </a:moveTo>
                  <a:lnTo>
                    <a:pt x="0" y="142875"/>
                  </a:lnTo>
                  <a:lnTo>
                    <a:pt x="6350" y="0"/>
                  </a:lnTo>
                  <a:lnTo>
                    <a:pt x="14922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itle 1"/>
          <p:cNvSpPr/>
          <p:nvPr/>
        </p:nvSpPr>
        <p:spPr>
          <a:xfrm>
            <a:off x="660240" y="574560"/>
            <a:ext cx="591840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706320" y="3944880"/>
            <a:ext cx="659628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PowerPoint presentation to accomp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eizer and Re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Operations Management, Eleven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Principles of Operations Management, Nin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PowerPoint slides by Jeff He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8"/>
          <p:cNvSpPr/>
          <p:nvPr/>
        </p:nvSpPr>
        <p:spPr>
          <a:xfrm>
            <a:off x="6670800" y="874800"/>
            <a:ext cx="19332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679320" y="6384960"/>
            <a:ext cx="23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6d6d6d"/>
                </a:solidFill>
                <a:latin typeface="Arial"/>
              </a:rPr>
              <a:t>© 2014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-1079640" y="3149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EOQ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701640" y="2089080"/>
            <a:ext cx="791856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is known, constant, and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ime is known and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pt of inventory is instantaneous and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y discounts are no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variable costs are setup (or ordering) and 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ckouts can be completely avo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747720" y="1387440"/>
            <a:ext cx="4916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ventory Usage Over Ti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711360" y="15080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2933640" y="3327480"/>
            <a:ext cx="1435320" cy="2336760"/>
          </a:xfrm>
          <a:prstGeom prst="rtTriangle">
            <a:avLst/>
          </a:prstGeom>
          <a:solidFill>
            <a:srgbClr val="9fa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5"/>
          <p:cNvGrpSpPr/>
          <p:nvPr/>
        </p:nvGrpSpPr>
        <p:grpSpPr>
          <a:xfrm>
            <a:off x="4381560" y="3327480"/>
            <a:ext cx="2971800" cy="2336760"/>
            <a:chOff x="4381560" y="3327480"/>
            <a:chExt cx="2971800" cy="2336760"/>
          </a:xfrm>
        </p:grpSpPr>
        <p:sp>
          <p:nvSpPr>
            <p:cNvPr id="570" name="AutoShape 6"/>
            <p:cNvSpPr/>
            <p:nvPr/>
          </p:nvSpPr>
          <p:spPr>
            <a:xfrm>
              <a:off x="5842080" y="3327480"/>
              <a:ext cx="1511280" cy="2336760"/>
            </a:xfrm>
            <a:prstGeom prst="rtTriangle">
              <a:avLst/>
            </a:prstGeom>
            <a:solidFill>
              <a:srgbClr val="9f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7"/>
            <p:cNvSpPr/>
            <p:nvPr/>
          </p:nvSpPr>
          <p:spPr>
            <a:xfrm>
              <a:off x="4381560" y="3327480"/>
              <a:ext cx="1454040" cy="2336760"/>
            </a:xfrm>
            <a:prstGeom prst="rtTriangle">
              <a:avLst/>
            </a:prstGeom>
            <a:solidFill>
              <a:srgbClr val="9fa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Freeform 8"/>
          <p:cNvSpPr/>
          <p:nvPr/>
        </p:nvSpPr>
        <p:spPr>
          <a:xfrm>
            <a:off x="4381560" y="3289320"/>
            <a:ext cx="2946240" cy="2387520"/>
          </a:xfrm>
          <a:custGeom>
            <a:avLst/>
            <a:gdLst>
              <a:gd name="textAreaLeft" fmla="*/ 0 w 2946240"/>
              <a:gd name="textAreaRight" fmla="*/ 2946600 w 2946240"/>
              <a:gd name="textAreaTop" fmla="*/ 0 h 2387520"/>
              <a:gd name="textAreaBottom" fmla="*/ 2387880 h 2387520"/>
            </a:gdLst>
            <a:ahLst/>
            <a:rect l="textAreaLeft" t="textAreaTop" r="textAreaRight" b="textAreaBottom"/>
            <a:pathLst>
              <a:path w="1856" h="1504">
                <a:moveTo>
                  <a:pt x="0" y="1504"/>
                </a:moveTo>
                <a:lnTo>
                  <a:pt x="0" y="0"/>
                </a:lnTo>
                <a:lnTo>
                  <a:pt x="920" y="1504"/>
                </a:lnTo>
                <a:lnTo>
                  <a:pt x="920" y="0"/>
                </a:lnTo>
                <a:lnTo>
                  <a:pt x="1856" y="1496"/>
                </a:lnTo>
              </a:path>
            </a:pathLst>
          </a:custGeom>
          <a:noFill/>
          <a:ln w="76320">
            <a:solidFill>
              <a:srgbClr val="bf0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9"/>
          <p:cNvSpPr/>
          <p:nvPr/>
        </p:nvSpPr>
        <p:spPr>
          <a:xfrm>
            <a:off x="1076400" y="2639880"/>
            <a:ext cx="178596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quantity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aximum inventory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0"/>
          <p:cNvSpPr/>
          <p:nvPr/>
        </p:nvSpPr>
        <p:spPr>
          <a:xfrm>
            <a:off x="2921040" y="3301920"/>
            <a:ext cx="1460520" cy="2374920"/>
          </a:xfrm>
          <a:prstGeom prst="line">
            <a:avLst/>
          </a:prstGeom>
          <a:ln w="76320">
            <a:solidFill>
              <a:srgbClr val="bf09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11"/>
          <p:cNvGrpSpPr/>
          <p:nvPr/>
        </p:nvGrpSpPr>
        <p:grpSpPr>
          <a:xfrm>
            <a:off x="5663160" y="2716200"/>
            <a:ext cx="1427400" cy="941400"/>
            <a:chOff x="5663160" y="2716200"/>
            <a:chExt cx="1427400" cy="941400"/>
          </a:xfrm>
        </p:grpSpPr>
        <p:sp>
          <p:nvSpPr>
            <p:cNvPr id="576" name="Rectangle 12"/>
            <p:cNvSpPr/>
            <p:nvPr/>
          </p:nvSpPr>
          <p:spPr>
            <a:xfrm>
              <a:off x="5663160" y="271620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age 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3"/>
            <p:cNvSpPr/>
            <p:nvPr/>
          </p:nvSpPr>
          <p:spPr>
            <a:xfrm flipH="1">
              <a:off x="6197400" y="3098880"/>
              <a:ext cx="266400" cy="55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14"/>
          <p:cNvGrpSpPr/>
          <p:nvPr/>
        </p:nvGrpSpPr>
        <p:grpSpPr>
          <a:xfrm>
            <a:off x="2895480" y="2449440"/>
            <a:ext cx="5640480" cy="1995480"/>
            <a:chOff x="2895480" y="2449440"/>
            <a:chExt cx="5640480" cy="1995480"/>
          </a:xfrm>
        </p:grpSpPr>
        <p:sp>
          <p:nvSpPr>
            <p:cNvPr id="579" name="Line 15"/>
            <p:cNvSpPr/>
            <p:nvPr/>
          </p:nvSpPr>
          <p:spPr>
            <a:xfrm>
              <a:off x="2895480" y="4444920"/>
              <a:ext cx="4927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0" name="Group 16"/>
            <p:cNvGrpSpPr/>
            <p:nvPr/>
          </p:nvGrpSpPr>
          <p:grpSpPr>
            <a:xfrm>
              <a:off x="7020000" y="2449440"/>
              <a:ext cx="1515960" cy="1919160"/>
              <a:chOff x="7020000" y="2449440"/>
              <a:chExt cx="1515960" cy="1919160"/>
            </a:xfrm>
          </p:grpSpPr>
          <p:sp>
            <p:nvSpPr>
              <p:cNvPr id="581" name="Rectangle 17"/>
              <p:cNvSpPr/>
              <p:nvPr/>
            </p:nvSpPr>
            <p:spPr>
              <a:xfrm>
                <a:off x="7020000" y="2449440"/>
                <a:ext cx="1515960" cy="151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verage inventory on h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spcBef>
                    <a:spcPts val="4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8"/>
              <p:cNvSpPr/>
              <p:nvPr/>
            </p:nvSpPr>
            <p:spPr>
              <a:xfrm>
                <a:off x="7607160" y="3619440"/>
                <a:ext cx="36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9"/>
              <p:cNvSpPr/>
              <p:nvPr/>
            </p:nvSpPr>
            <p:spPr>
              <a:xfrm flipH="1">
                <a:off x="7454520" y="3975120"/>
                <a:ext cx="26676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3"/>
          <p:cNvGrpSpPr/>
          <p:nvPr/>
        </p:nvGrpSpPr>
        <p:grpSpPr>
          <a:xfrm>
            <a:off x="600120" y="2374920"/>
            <a:ext cx="7769160" cy="3737160"/>
            <a:chOff x="600120" y="2374920"/>
            <a:chExt cx="7769160" cy="3737160"/>
          </a:xfrm>
        </p:grpSpPr>
        <p:sp>
          <p:nvSpPr>
            <p:cNvPr id="585" name="Rectangle 21"/>
            <p:cNvSpPr/>
            <p:nvPr/>
          </p:nvSpPr>
          <p:spPr>
            <a:xfrm>
              <a:off x="1228680" y="5205600"/>
              <a:ext cx="1417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inimum inven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23"/>
            <p:cNvGrpSpPr/>
            <p:nvPr/>
          </p:nvGrpSpPr>
          <p:grpSpPr>
            <a:xfrm>
              <a:off x="600120" y="2374920"/>
              <a:ext cx="7769160" cy="3737160"/>
              <a:chOff x="600120" y="2374920"/>
              <a:chExt cx="7769160" cy="3737160"/>
            </a:xfrm>
          </p:grpSpPr>
          <p:grpSp>
            <p:nvGrpSpPr>
              <p:cNvPr id="587" name="Group 24"/>
              <p:cNvGrpSpPr/>
              <p:nvPr/>
            </p:nvGrpSpPr>
            <p:grpSpPr>
              <a:xfrm>
                <a:off x="600120" y="2374920"/>
                <a:ext cx="7769160" cy="3737160"/>
                <a:chOff x="600120" y="2374920"/>
                <a:chExt cx="7769160" cy="3737160"/>
              </a:xfrm>
            </p:grpSpPr>
            <p:sp>
              <p:nvSpPr>
                <p:cNvPr id="588" name="Rectangle 25"/>
                <p:cNvSpPr/>
                <p:nvPr/>
              </p:nvSpPr>
              <p:spPr>
                <a:xfrm rot="16200000">
                  <a:off x="-111960" y="3623040"/>
                  <a:ext cx="1823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nventory level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26"/>
                <p:cNvSpPr/>
                <p:nvPr/>
              </p:nvSpPr>
              <p:spPr>
                <a:xfrm>
                  <a:off x="5164920" y="5713200"/>
                  <a:ext cx="746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27"/>
                <p:cNvSpPr/>
                <p:nvPr/>
              </p:nvSpPr>
              <p:spPr>
                <a:xfrm>
                  <a:off x="2921040" y="2374920"/>
                  <a:ext cx="5448240" cy="3301920"/>
                </a:xfrm>
                <a:custGeom>
                  <a:avLst/>
                  <a:gdLst>
                    <a:gd name="textAreaLeft" fmla="*/ 0 w 5448240"/>
                    <a:gd name="textAreaRight" fmla="*/ 5448600 w 5448240"/>
                    <a:gd name="textAreaTop" fmla="*/ 0 h 3301920"/>
                    <a:gd name="textAreaBottom" fmla="*/ 3302280 h 3301920"/>
                  </a:gdLst>
                  <a:ahLst/>
                  <a:rect l="textAreaLeft" t="textAreaTop" r="textAreaRight" b="textAreaBottom"/>
                  <a:pathLst>
                    <a:path w="3432" h="2080">
                      <a:moveTo>
                        <a:pt x="0" y="0"/>
                      </a:moveTo>
                      <a:lnTo>
                        <a:pt x="0" y="2080"/>
                      </a:lnTo>
                      <a:lnTo>
                        <a:pt x="3432" y="208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Text Box 28"/>
              <p:cNvSpPr/>
              <p:nvPr/>
            </p:nvSpPr>
            <p:spPr>
              <a:xfrm>
                <a:off x="2601720" y="5459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" name="Group 2"/>
          <p:cNvGrpSpPr/>
          <p:nvPr/>
        </p:nvGrpSpPr>
        <p:grpSpPr>
          <a:xfrm>
            <a:off x="3565080" y="1974960"/>
            <a:ext cx="2446920" cy="1163520"/>
            <a:chOff x="3565080" y="1974960"/>
            <a:chExt cx="2446920" cy="1163520"/>
          </a:xfrm>
        </p:grpSpPr>
        <p:sp>
          <p:nvSpPr>
            <p:cNvPr id="593" name="TextBox 1"/>
            <p:cNvSpPr/>
            <p:nvPr/>
          </p:nvSpPr>
          <p:spPr>
            <a:xfrm>
              <a:off x="3565080" y="1974960"/>
              <a:ext cx="24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tal order receiv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3"/>
            <p:cNvSpPr/>
            <p:nvPr/>
          </p:nvSpPr>
          <p:spPr>
            <a:xfrm flipH="1">
              <a:off x="4381560" y="2374920"/>
              <a:ext cx="266400" cy="76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mizing Co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682560" y="1301760"/>
            <a:ext cx="6292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 minimize tot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7226640" y="168264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4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5"/>
          <p:cNvGrpSpPr/>
          <p:nvPr/>
        </p:nvGrpSpPr>
        <p:grpSpPr>
          <a:xfrm>
            <a:off x="955800" y="2108160"/>
            <a:ext cx="6486480" cy="4049640"/>
            <a:chOff x="955800" y="2108160"/>
            <a:chExt cx="6486480" cy="4049640"/>
          </a:xfrm>
        </p:grpSpPr>
        <p:sp>
          <p:nvSpPr>
            <p:cNvPr id="599" name="Freeform 6"/>
            <p:cNvSpPr/>
            <p:nvPr/>
          </p:nvSpPr>
          <p:spPr>
            <a:xfrm>
              <a:off x="2324160" y="2108160"/>
              <a:ext cx="5118120" cy="3644640"/>
            </a:xfrm>
            <a:custGeom>
              <a:avLst/>
              <a:gdLst>
                <a:gd name="textAreaLeft" fmla="*/ 0 w 5118120"/>
                <a:gd name="textAreaRight" fmla="*/ 5118480 w 5118120"/>
                <a:gd name="textAreaTop" fmla="*/ 0 h 3644640"/>
                <a:gd name="textAreaBottom" fmla="*/ 3645000 h 3644640"/>
              </a:gdLst>
              <a:ahLst/>
              <a:rect l="textAreaLeft" t="textAreaTop" r="textAreaRight" b="textAreaBottom"/>
              <a:pathLst>
                <a:path w="3224" h="2296">
                  <a:moveTo>
                    <a:pt x="8" y="0"/>
                  </a:moveTo>
                  <a:cubicBezTo>
                    <a:pt x="5" y="765"/>
                    <a:pt x="0" y="2296"/>
                    <a:pt x="0" y="2296"/>
                  </a:cubicBezTo>
                  <a:lnTo>
                    <a:pt x="3224" y="2296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7"/>
            <p:cNvSpPr/>
            <p:nvPr/>
          </p:nvSpPr>
          <p:spPr>
            <a:xfrm rot="16200000">
              <a:off x="433080" y="4425840"/>
              <a:ext cx="13723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nual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8"/>
            <p:cNvSpPr/>
            <p:nvPr/>
          </p:nvSpPr>
          <p:spPr>
            <a:xfrm>
              <a:off x="5772960" y="5789520"/>
              <a:ext cx="16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 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9"/>
          <p:cNvGrpSpPr/>
          <p:nvPr/>
        </p:nvGrpSpPr>
        <p:grpSpPr>
          <a:xfrm>
            <a:off x="2844720" y="2216160"/>
            <a:ext cx="4254480" cy="1272960"/>
            <a:chOff x="2844720" y="2216160"/>
            <a:chExt cx="4254480" cy="1272960"/>
          </a:xfrm>
        </p:grpSpPr>
        <p:grpSp>
          <p:nvGrpSpPr>
            <p:cNvPr id="603" name="Group 10"/>
            <p:cNvGrpSpPr/>
            <p:nvPr/>
          </p:nvGrpSpPr>
          <p:grpSpPr>
            <a:xfrm>
              <a:off x="2844720" y="2216160"/>
              <a:ext cx="4254480" cy="1272960"/>
              <a:chOff x="2844720" y="2216160"/>
              <a:chExt cx="4254480" cy="1272960"/>
            </a:xfrm>
          </p:grpSpPr>
          <p:sp>
            <p:nvSpPr>
              <p:cNvPr id="604" name="Freeform 11"/>
              <p:cNvSpPr/>
              <p:nvPr/>
            </p:nvSpPr>
            <p:spPr>
              <a:xfrm>
                <a:off x="2844720" y="2495520"/>
                <a:ext cx="4254480" cy="993600"/>
              </a:xfrm>
              <a:custGeom>
                <a:avLst/>
                <a:gdLst>
                  <a:gd name="textAreaLeft" fmla="*/ 0 w 4254480"/>
                  <a:gd name="textAreaRight" fmla="*/ 4254480 w 4254480"/>
                  <a:gd name="textAreaTop" fmla="*/ 0 h 993600"/>
                  <a:gd name="textAreaBottom" fmla="*/ 993960 h 993600"/>
                </a:gdLst>
                <a:ahLst/>
                <a:rect l="textAreaLeft" t="textAreaTop" r="textAreaRight" b="textAreaBottom"/>
                <a:pathLst>
                  <a:path w="2680" h="626">
                    <a:moveTo>
                      <a:pt x="0" y="0"/>
                    </a:moveTo>
                    <a:cubicBezTo>
                      <a:pt x="74" y="111"/>
                      <a:pt x="148" y="223"/>
                      <a:pt x="252" y="312"/>
                    </a:cubicBezTo>
                    <a:cubicBezTo>
                      <a:pt x="356" y="401"/>
                      <a:pt x="517" y="483"/>
                      <a:pt x="624" y="532"/>
                    </a:cubicBezTo>
                    <a:cubicBezTo>
                      <a:pt x="731" y="581"/>
                      <a:pt x="761" y="597"/>
                      <a:pt x="892" y="608"/>
                    </a:cubicBezTo>
                    <a:cubicBezTo>
                      <a:pt x="1023" y="619"/>
                      <a:pt x="1240" y="626"/>
                      <a:pt x="1412" y="596"/>
                    </a:cubicBezTo>
                    <a:cubicBezTo>
                      <a:pt x="1584" y="566"/>
                      <a:pt x="1769" y="487"/>
                      <a:pt x="1924" y="428"/>
                    </a:cubicBezTo>
                    <a:cubicBezTo>
                      <a:pt x="2079" y="369"/>
                      <a:pt x="2218" y="297"/>
                      <a:pt x="2344" y="240"/>
                    </a:cubicBezTo>
                    <a:cubicBezTo>
                      <a:pt x="2470" y="183"/>
                      <a:pt x="2610" y="116"/>
                      <a:pt x="2680" y="84"/>
                    </a:cubicBezTo>
                  </a:path>
                </a:pathLst>
              </a:custGeom>
              <a:noFill/>
              <a:ln w="76320">
                <a:solidFill>
                  <a:srgbClr val="d333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2"/>
              <p:cNvSpPr/>
              <p:nvPr/>
            </p:nvSpPr>
            <p:spPr>
              <a:xfrm>
                <a:off x="4035600" y="2216160"/>
                <a:ext cx="189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otal cost of holding and setup (orde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Line 13"/>
            <p:cNvSpPr/>
            <p:nvPr/>
          </p:nvSpPr>
          <p:spPr>
            <a:xfrm>
              <a:off x="5753160" y="2781000"/>
              <a:ext cx="228600" cy="33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14"/>
          <p:cNvGrpSpPr/>
          <p:nvPr/>
        </p:nvGrpSpPr>
        <p:grpSpPr>
          <a:xfrm>
            <a:off x="2965320" y="3263760"/>
            <a:ext cx="4378320" cy="2178000"/>
            <a:chOff x="2965320" y="3263760"/>
            <a:chExt cx="4378320" cy="2178000"/>
          </a:xfrm>
        </p:grpSpPr>
        <p:grpSp>
          <p:nvGrpSpPr>
            <p:cNvPr id="608" name="Group 15"/>
            <p:cNvGrpSpPr/>
            <p:nvPr/>
          </p:nvGrpSpPr>
          <p:grpSpPr>
            <a:xfrm>
              <a:off x="2965320" y="3263760"/>
              <a:ext cx="4378320" cy="2178000"/>
              <a:chOff x="2965320" y="3263760"/>
              <a:chExt cx="4378320" cy="2178000"/>
            </a:xfrm>
          </p:grpSpPr>
          <p:sp>
            <p:nvSpPr>
              <p:cNvPr id="609" name="Line 16"/>
              <p:cNvSpPr/>
              <p:nvPr/>
            </p:nvSpPr>
            <p:spPr>
              <a:xfrm flipV="1">
                <a:off x="2965320" y="3263760"/>
                <a:ext cx="4241880" cy="2178000"/>
              </a:xfrm>
              <a:prstGeom prst="line">
                <a:avLst/>
              </a:prstGeom>
              <a:ln w="76320">
                <a:solidFill>
                  <a:srgbClr val="2558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7"/>
              <p:cNvSpPr/>
              <p:nvPr/>
            </p:nvSpPr>
            <p:spPr>
              <a:xfrm>
                <a:off x="5648400" y="4070160"/>
                <a:ext cx="169524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olding cos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Line 18"/>
            <p:cNvSpPr/>
            <p:nvPr/>
          </p:nvSpPr>
          <p:spPr>
            <a:xfrm flipH="1" flipV="1">
              <a:off x="6451200" y="3746160"/>
              <a:ext cx="88920" cy="35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9"/>
          <p:cNvGrpSpPr/>
          <p:nvPr/>
        </p:nvGrpSpPr>
        <p:grpSpPr>
          <a:xfrm>
            <a:off x="2787480" y="2622600"/>
            <a:ext cx="4546800" cy="2828520"/>
            <a:chOff x="2787480" y="2622600"/>
            <a:chExt cx="4546800" cy="2828520"/>
          </a:xfrm>
        </p:grpSpPr>
        <p:grpSp>
          <p:nvGrpSpPr>
            <p:cNvPr id="613" name="Group 20"/>
            <p:cNvGrpSpPr/>
            <p:nvPr/>
          </p:nvGrpSpPr>
          <p:grpSpPr>
            <a:xfrm>
              <a:off x="2787480" y="2622600"/>
              <a:ext cx="4546800" cy="2828520"/>
              <a:chOff x="2787480" y="2622600"/>
              <a:chExt cx="4546800" cy="2828520"/>
            </a:xfrm>
          </p:grpSpPr>
          <p:sp>
            <p:nvSpPr>
              <p:cNvPr id="614" name="Freeform 21"/>
              <p:cNvSpPr/>
              <p:nvPr/>
            </p:nvSpPr>
            <p:spPr>
              <a:xfrm>
                <a:off x="2787480" y="2622600"/>
                <a:ext cx="4546800" cy="2419200"/>
              </a:xfrm>
              <a:custGeom>
                <a:avLst/>
                <a:gdLst>
                  <a:gd name="textAreaLeft" fmla="*/ 0 w 4546800"/>
                  <a:gd name="textAreaRight" fmla="*/ 4547160 w 4546800"/>
                  <a:gd name="textAreaTop" fmla="*/ 0 h 2419200"/>
                  <a:gd name="textAreaBottom" fmla="*/ 2419560 h 2419200"/>
                </a:gdLst>
                <a:ahLst/>
                <a:rect l="textAreaLeft" t="textAreaTop" r="textAreaRight" b="textAreaBottom"/>
                <a:pathLst>
                  <a:path w="2864" h="1524">
                    <a:moveTo>
                      <a:pt x="0" y="0"/>
                    </a:moveTo>
                    <a:cubicBezTo>
                      <a:pt x="34" y="199"/>
                      <a:pt x="69" y="399"/>
                      <a:pt x="192" y="572"/>
                    </a:cubicBezTo>
                    <a:cubicBezTo>
                      <a:pt x="315" y="745"/>
                      <a:pt x="511" y="911"/>
                      <a:pt x="740" y="1036"/>
                    </a:cubicBezTo>
                    <a:cubicBezTo>
                      <a:pt x="969" y="1161"/>
                      <a:pt x="1290" y="1251"/>
                      <a:pt x="1564" y="1324"/>
                    </a:cubicBezTo>
                    <a:cubicBezTo>
                      <a:pt x="1838" y="1397"/>
                      <a:pt x="2167" y="1443"/>
                      <a:pt x="2384" y="1476"/>
                    </a:cubicBezTo>
                    <a:cubicBezTo>
                      <a:pt x="2601" y="1509"/>
                      <a:pt x="2732" y="1516"/>
                      <a:pt x="2864" y="1524"/>
                    </a:cubicBezTo>
                  </a:path>
                </a:pathLst>
              </a:custGeom>
              <a:noFill/>
              <a:ln w="76320">
                <a:solidFill>
                  <a:srgbClr val="24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22"/>
              <p:cNvSpPr/>
              <p:nvPr/>
            </p:nvSpPr>
            <p:spPr>
              <a:xfrm>
                <a:off x="5127480" y="5124240"/>
                <a:ext cx="205128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up (order) cos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Line 23"/>
            <p:cNvSpPr/>
            <p:nvPr/>
          </p:nvSpPr>
          <p:spPr>
            <a:xfrm flipV="1">
              <a:off x="5727600" y="4889160"/>
              <a:ext cx="0" cy="26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24"/>
          <p:cNvGrpSpPr/>
          <p:nvPr/>
        </p:nvGrpSpPr>
        <p:grpSpPr>
          <a:xfrm>
            <a:off x="974880" y="3181320"/>
            <a:ext cx="4552920" cy="3188520"/>
            <a:chOff x="974880" y="3181320"/>
            <a:chExt cx="4552920" cy="3188520"/>
          </a:xfrm>
        </p:grpSpPr>
        <p:sp>
          <p:nvSpPr>
            <p:cNvPr id="618" name="Freeform 25"/>
            <p:cNvSpPr/>
            <p:nvPr/>
          </p:nvSpPr>
          <p:spPr>
            <a:xfrm>
              <a:off x="2336760" y="3466800"/>
              <a:ext cx="2349720" cy="2273400"/>
            </a:xfrm>
            <a:custGeom>
              <a:avLst/>
              <a:gdLst>
                <a:gd name="textAreaLeft" fmla="*/ 0 w 2349720"/>
                <a:gd name="textAreaRight" fmla="*/ 2350080 w 2349720"/>
                <a:gd name="textAreaTop" fmla="*/ 0 h 2273400"/>
                <a:gd name="textAreaBottom" fmla="*/ 2273760 h 2273400"/>
              </a:gdLst>
              <a:ahLst/>
              <a:rect l="textAreaLeft" t="textAreaTop" r="textAreaRight" b="textAreaBottom"/>
              <a:pathLst>
                <a:path w="1480" h="1432">
                  <a:moveTo>
                    <a:pt x="0" y="0"/>
                  </a:moveTo>
                  <a:lnTo>
                    <a:pt x="1480" y="0"/>
                  </a:lnTo>
                  <a:lnTo>
                    <a:pt x="1480" y="143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974880" y="3181320"/>
              <a:ext cx="14032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um total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7"/>
            <p:cNvSpPr/>
            <p:nvPr/>
          </p:nvSpPr>
          <p:spPr>
            <a:xfrm>
              <a:off x="3832200" y="5810040"/>
              <a:ext cx="16956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mal order quantity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mizing Co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383840"/>
            <a:ext cx="7531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pieces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ptimal number of pieces per order (EO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nual demand in units for the inventory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up or ordering cost for each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Holding or carrying cost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1112400" y="3656160"/>
            <a:ext cx="66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4256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setup cost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umber of orders placed per yea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568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Setup or order cost per or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5"/>
          <p:cNvGrpSpPr/>
          <p:nvPr/>
        </p:nvGrpSpPr>
        <p:grpSpPr>
          <a:xfrm>
            <a:off x="1447200" y="4484520"/>
            <a:ext cx="6247440" cy="825480"/>
            <a:chOff x="1447200" y="4484520"/>
            <a:chExt cx="6247440" cy="825480"/>
          </a:xfrm>
        </p:grpSpPr>
        <p:grpSp>
          <p:nvGrpSpPr>
            <p:cNvPr id="625" name="Group 6"/>
            <p:cNvGrpSpPr/>
            <p:nvPr/>
          </p:nvGrpSpPr>
          <p:grpSpPr>
            <a:xfrm>
              <a:off x="1841760" y="4484520"/>
              <a:ext cx="3771720" cy="825480"/>
              <a:chOff x="1841760" y="4484520"/>
              <a:chExt cx="3771720" cy="825480"/>
            </a:xfrm>
          </p:grpSpPr>
          <p:sp>
            <p:nvSpPr>
              <p:cNvPr id="626" name="Rectangle 7"/>
              <p:cNvSpPr/>
              <p:nvPr/>
            </p:nvSpPr>
            <p:spPr>
              <a:xfrm>
                <a:off x="1968840" y="4484520"/>
                <a:ext cx="3535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nnual 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umber of units in each or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8"/>
              <p:cNvSpPr/>
              <p:nvPr/>
            </p:nvSpPr>
            <p:spPr>
              <a:xfrm>
                <a:off x="1905120" y="4914720"/>
                <a:ext cx="364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utoShape 9"/>
              <p:cNvSpPr/>
              <p:nvPr/>
            </p:nvSpPr>
            <p:spPr>
              <a:xfrm>
                <a:off x="1841760" y="4584600"/>
                <a:ext cx="3771720" cy="69840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"/>
            <p:cNvGrpSpPr/>
            <p:nvPr/>
          </p:nvGrpSpPr>
          <p:grpSpPr>
            <a:xfrm>
              <a:off x="5635800" y="4582800"/>
              <a:ext cx="2058840" cy="703800"/>
              <a:chOff x="5635800" y="4582800"/>
              <a:chExt cx="2058840" cy="703800"/>
            </a:xfrm>
          </p:grpSpPr>
          <p:sp>
            <p:nvSpPr>
              <p:cNvPr id="630" name="Rectangle 11"/>
              <p:cNvSpPr/>
              <p:nvPr/>
            </p:nvSpPr>
            <p:spPr>
              <a:xfrm>
                <a:off x="5635800" y="4582800"/>
                <a:ext cx="20588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etup or order cost per or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2"/>
              <p:cNvSpPr/>
              <p:nvPr/>
            </p:nvSpPr>
            <p:spPr>
              <a:xfrm>
                <a:off x="5702400" y="4584600"/>
                <a:ext cx="1955880" cy="69840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Rectangle 13"/>
            <p:cNvSpPr/>
            <p:nvPr/>
          </p:nvSpPr>
          <p:spPr>
            <a:xfrm>
              <a:off x="1447200" y="47224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3" name="Object 156"/>
              <p:cNvSpPr txBox="1"/>
              <p:nvPr/>
            </p:nvSpPr>
            <p:spPr>
              <a:xfrm>
                <a:off x="1521000" y="5403960"/>
                <a:ext cx="952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4" name="Group 13"/>
          <p:cNvGrpSpPr/>
          <p:nvPr/>
        </p:nvGrpSpPr>
        <p:grpSpPr>
          <a:xfrm>
            <a:off x="5489640" y="150840"/>
            <a:ext cx="3479760" cy="1468440"/>
            <a:chOff x="5489640" y="150840"/>
            <a:chExt cx="3479760" cy="1468440"/>
          </a:xfrm>
        </p:grpSpPr>
        <p:sp>
          <p:nvSpPr>
            <p:cNvPr id="635" name="Rectangle 14"/>
            <p:cNvSpPr/>
            <p:nvPr/>
          </p:nvSpPr>
          <p:spPr>
            <a:xfrm>
              <a:off x="5489640" y="150840"/>
              <a:ext cx="3479760" cy="1468440"/>
            </a:xfrm>
            <a:prstGeom prst="rect">
              <a:avLst/>
            </a:prstGeom>
            <a:solidFill>
              <a:srgbClr val="bdd6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6" name="Object 157"/>
                <p:cNvSpPr txBox="1"/>
                <p:nvPr/>
              </p:nvSpPr>
              <p:spPr>
                <a:xfrm>
                  <a:off x="6010200" y="311040"/>
                  <a:ext cx="25401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nnual setup cost = 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9"/>
          <p:cNvSpPr/>
          <p:nvPr/>
        </p:nvSpPr>
        <p:spPr>
          <a:xfrm>
            <a:off x="457200" y="1384200"/>
            <a:ext cx="75693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pieces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ptimal number of pieces per order (EO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nual demand in units for the inventory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up or ordering cost for each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Holding or carrying cost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mizing Co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103400" y="3656160"/>
            <a:ext cx="639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5146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holding cost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verage inventory lev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Holding cost per unit per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1751760" y="4484520"/>
            <a:ext cx="6083640" cy="825480"/>
            <a:chOff x="1751760" y="4484520"/>
            <a:chExt cx="6083640" cy="825480"/>
          </a:xfrm>
        </p:grpSpPr>
        <p:grpSp>
          <p:nvGrpSpPr>
            <p:cNvPr id="641" name="Group 6"/>
            <p:cNvGrpSpPr/>
            <p:nvPr/>
          </p:nvGrpSpPr>
          <p:grpSpPr>
            <a:xfrm>
              <a:off x="2146320" y="4484520"/>
              <a:ext cx="1929960" cy="825480"/>
              <a:chOff x="2146320" y="4484520"/>
              <a:chExt cx="1929960" cy="825480"/>
            </a:xfrm>
          </p:grpSpPr>
          <p:sp>
            <p:nvSpPr>
              <p:cNvPr id="642" name="Rectangle 7"/>
              <p:cNvSpPr/>
              <p:nvPr/>
            </p:nvSpPr>
            <p:spPr>
              <a:xfrm>
                <a:off x="2164320" y="4484520"/>
                <a:ext cx="1794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rder 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8"/>
              <p:cNvSpPr/>
              <p:nvPr/>
            </p:nvSpPr>
            <p:spPr>
              <a:xfrm>
                <a:off x="2209320" y="491472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9"/>
              <p:cNvSpPr/>
              <p:nvPr/>
            </p:nvSpPr>
            <p:spPr>
              <a:xfrm>
                <a:off x="2146320" y="4584600"/>
                <a:ext cx="1929960" cy="69840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Rectangle 11"/>
            <p:cNvSpPr/>
            <p:nvPr/>
          </p:nvSpPr>
          <p:spPr>
            <a:xfrm>
              <a:off x="3971880" y="4697280"/>
              <a:ext cx="38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Holding cost per unit per yea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3"/>
            <p:cNvSpPr/>
            <p:nvPr/>
          </p:nvSpPr>
          <p:spPr>
            <a:xfrm>
              <a:off x="1751760" y="47224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7" name="Object 179"/>
              <p:cNvSpPr txBox="1"/>
              <p:nvPr/>
            </p:nvSpPr>
            <p:spPr>
              <a:xfrm>
                <a:off x="1822320" y="5433840"/>
                <a:ext cx="10033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8" name="Group 6"/>
          <p:cNvGrpSpPr/>
          <p:nvPr/>
        </p:nvGrpSpPr>
        <p:grpSpPr>
          <a:xfrm>
            <a:off x="5460840" y="270000"/>
            <a:ext cx="3480120" cy="1473120"/>
            <a:chOff x="5460840" y="270000"/>
            <a:chExt cx="3480120" cy="1473120"/>
          </a:xfrm>
        </p:grpSpPr>
        <p:sp>
          <p:nvSpPr>
            <p:cNvPr id="649" name="Rectangle 14"/>
            <p:cNvSpPr/>
            <p:nvPr/>
          </p:nvSpPr>
          <p:spPr>
            <a:xfrm>
              <a:off x="5460840" y="270000"/>
              <a:ext cx="3480120" cy="1473120"/>
            </a:xfrm>
            <a:prstGeom prst="rect">
              <a:avLst/>
            </a:prstGeom>
            <a:solidFill>
              <a:srgbClr val="bdd6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Object 180"/>
                <p:cNvSpPr txBox="1"/>
                <p:nvPr/>
              </p:nvSpPr>
              <p:spPr>
                <a:xfrm>
                  <a:off x="5981400" y="430200"/>
                  <a:ext cx="25401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nnual setup cost = 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51" name="Object 181"/>
              <p:cNvSpPr txBox="1"/>
              <p:nvPr/>
            </p:nvSpPr>
            <p:spPr>
              <a:xfrm>
                <a:off x="5816520" y="1020600"/>
                <a:ext cx="27561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nual holding cost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mizing Cos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247"/>
              <p:cNvSpPr txBox="1"/>
              <p:nvPr/>
            </p:nvSpPr>
            <p:spPr>
              <a:xfrm>
                <a:off x="1441440" y="4863960"/>
                <a:ext cx="1536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angle 4"/>
          <p:cNvSpPr/>
          <p:nvPr/>
        </p:nvSpPr>
        <p:spPr>
          <a:xfrm>
            <a:off x="1077840" y="3720960"/>
            <a:ext cx="6988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257796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order quantity is found when annual setup cost equals annual hold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3"/>
          <p:cNvSpPr/>
          <p:nvPr/>
        </p:nvSpPr>
        <p:spPr>
          <a:xfrm>
            <a:off x="3886920" y="466416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48"/>
              <p:cNvSpPr txBox="1"/>
              <p:nvPr/>
            </p:nvSpPr>
            <p:spPr>
              <a:xfrm>
                <a:off x="6026040" y="4664160"/>
                <a:ext cx="133344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7" name="TextBox 11"/>
          <p:cNvSpPr/>
          <p:nvPr/>
        </p:nvSpPr>
        <p:spPr>
          <a:xfrm>
            <a:off x="457200" y="1384200"/>
            <a:ext cx="75693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pieces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Optimal number of pieces per order (EO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nnual demand in units for the inventory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etup or ordering cost for each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Holding or carrying cost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53352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12"/>
          <p:cNvGrpSpPr/>
          <p:nvPr/>
        </p:nvGrpSpPr>
        <p:grpSpPr>
          <a:xfrm>
            <a:off x="5460840" y="274680"/>
            <a:ext cx="3480120" cy="1473120"/>
            <a:chOff x="5460840" y="274680"/>
            <a:chExt cx="3480120" cy="1473120"/>
          </a:xfrm>
        </p:grpSpPr>
        <p:sp>
          <p:nvSpPr>
            <p:cNvPr id="659" name="Rectangle 14"/>
            <p:cNvSpPr/>
            <p:nvPr/>
          </p:nvSpPr>
          <p:spPr>
            <a:xfrm>
              <a:off x="5460840" y="274680"/>
              <a:ext cx="3480120" cy="1473120"/>
            </a:xfrm>
            <a:prstGeom prst="rect">
              <a:avLst/>
            </a:prstGeom>
            <a:solidFill>
              <a:srgbClr val="bdd6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0" name="Object 249"/>
                <p:cNvSpPr txBox="1"/>
                <p:nvPr/>
              </p:nvSpPr>
              <p:spPr>
                <a:xfrm>
                  <a:off x="5981400" y="434880"/>
                  <a:ext cx="25401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nnual setup cost = 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61" name="Object 250"/>
              <p:cNvSpPr txBox="1"/>
              <p:nvPr/>
            </p:nvSpPr>
            <p:spPr>
              <a:xfrm>
                <a:off x="5816520" y="1025640"/>
                <a:ext cx="2756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nual holding cost = 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1180440" y="1650960"/>
            <a:ext cx="678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lang="en-US" sz="2400" spc="-1" strike="noStrike">
                <a:solidFill>
                  <a:srgbClr val="d33320"/>
                </a:solidFill>
                <a:latin typeface="Arial"/>
              </a:rPr>
              <a:t>optimal number of needles to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89"/>
              <p:cNvSpPr txBox="1"/>
              <p:nvPr/>
            </p:nvSpPr>
            <p:spPr>
              <a:xfrm>
                <a:off x="1778040" y="3638520"/>
                <a:ext cx="15746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90"/>
              <p:cNvSpPr txBox="1"/>
              <p:nvPr/>
            </p:nvSpPr>
            <p:spPr>
              <a:xfrm>
                <a:off x="1778040" y="4788000"/>
                <a:ext cx="57402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 uni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1179720" y="1650960"/>
            <a:ext cx="62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lang="en-US" sz="2400" spc="-1" strike="noStrike">
                <a:solidFill>
                  <a:srgbClr val="d33320"/>
                </a:solidFill>
                <a:latin typeface="Arial"/>
              </a:rPr>
              <a:t>expected number of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5"/>
          <p:cNvGrpSpPr/>
          <p:nvPr/>
        </p:nvGrpSpPr>
        <p:grpSpPr>
          <a:xfrm>
            <a:off x="3430080" y="4645080"/>
            <a:ext cx="3922200" cy="780120"/>
            <a:chOff x="3430080" y="4645080"/>
            <a:chExt cx="3922200" cy="780120"/>
          </a:xfrm>
        </p:grpSpPr>
        <p:sp>
          <p:nvSpPr>
            <p:cNvPr id="669" name="Rectangle 14"/>
            <p:cNvSpPr/>
            <p:nvPr/>
          </p:nvSpPr>
          <p:spPr>
            <a:xfrm>
              <a:off x="3430080" y="4848120"/>
              <a:ext cx="392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               = 5 orders per yea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Group 4"/>
            <p:cNvGrpSpPr/>
            <p:nvPr/>
          </p:nvGrpSpPr>
          <p:grpSpPr>
            <a:xfrm>
              <a:off x="4051080" y="4645080"/>
              <a:ext cx="876240" cy="780120"/>
              <a:chOff x="4051080" y="4645080"/>
              <a:chExt cx="876240" cy="780120"/>
            </a:xfrm>
          </p:grpSpPr>
          <p:sp>
            <p:nvSpPr>
              <p:cNvPr id="671" name="Rectangle 16"/>
              <p:cNvSpPr/>
              <p:nvPr/>
            </p:nvSpPr>
            <p:spPr>
              <a:xfrm>
                <a:off x="4080240" y="4645080"/>
                <a:ext cx="81792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7"/>
              <p:cNvSpPr/>
              <p:nvPr/>
            </p:nvSpPr>
            <p:spPr>
              <a:xfrm>
                <a:off x="4051080" y="5062320"/>
                <a:ext cx="87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Group 3"/>
          <p:cNvGrpSpPr/>
          <p:nvPr/>
        </p:nvGrpSpPr>
        <p:grpSpPr>
          <a:xfrm>
            <a:off x="1584360" y="3621240"/>
            <a:ext cx="5089320" cy="870480"/>
            <a:chOff x="1584360" y="3621240"/>
            <a:chExt cx="5089320" cy="870480"/>
          </a:xfrm>
        </p:grpSpPr>
        <p:sp>
          <p:nvSpPr>
            <p:cNvPr id="674" name="Rectangle 5"/>
            <p:cNvSpPr/>
            <p:nvPr/>
          </p:nvSpPr>
          <p:spPr>
            <a:xfrm>
              <a:off x="3238560" y="3849480"/>
              <a:ext cx="304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                            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"/>
            <p:cNvSpPr/>
            <p:nvPr/>
          </p:nvSpPr>
          <p:spPr>
            <a:xfrm>
              <a:off x="1584360" y="3621240"/>
              <a:ext cx="189864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ected number of 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2"/>
            <p:cNvGrpSpPr/>
            <p:nvPr/>
          </p:nvGrpSpPr>
          <p:grpSpPr>
            <a:xfrm>
              <a:off x="4046400" y="3654360"/>
              <a:ext cx="1794600" cy="764280"/>
              <a:chOff x="4046400" y="3654360"/>
              <a:chExt cx="1794600" cy="764280"/>
            </a:xfrm>
          </p:grpSpPr>
          <p:sp>
            <p:nvSpPr>
              <p:cNvPr id="677" name="Rectangle 8"/>
              <p:cNvSpPr/>
              <p:nvPr/>
            </p:nvSpPr>
            <p:spPr>
              <a:xfrm>
                <a:off x="4046400" y="3654360"/>
                <a:ext cx="1794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man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rder quantit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9"/>
              <p:cNvSpPr/>
              <p:nvPr/>
            </p:nvSpPr>
            <p:spPr>
              <a:xfrm>
                <a:off x="4047480" y="4063680"/>
                <a:ext cx="179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79" name="Object 75"/>
                <p:cNvSpPr txBox="1"/>
                <p:nvPr/>
              </p:nvSpPr>
              <p:spPr>
                <a:xfrm>
                  <a:off x="6305400" y="3689280"/>
                  <a:ext cx="368280" cy="74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sSup>
                            <m:e>
                              <m:r>
                                <m:t xml:space="preserve">Q</m:t>
                              </m:r>
                            </m:e>
                            <m:sup/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1181160" y="1650960"/>
            <a:ext cx="68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lang="en-US" sz="2400" spc="-1" strike="noStrike">
                <a:solidFill>
                  <a:srgbClr val="d33320"/>
                </a:solidFill>
                <a:latin typeface="Arial"/>
              </a:rPr>
              <a:t>optimal time between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 orders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Group 5"/>
          <p:cNvGrpSpPr/>
          <p:nvPr/>
        </p:nvGrpSpPr>
        <p:grpSpPr>
          <a:xfrm>
            <a:off x="3403800" y="4649760"/>
            <a:ext cx="4603320" cy="780120"/>
            <a:chOff x="3403800" y="4649760"/>
            <a:chExt cx="4603320" cy="780120"/>
          </a:xfrm>
        </p:grpSpPr>
        <p:sp>
          <p:nvSpPr>
            <p:cNvPr id="683" name="Rectangle 14"/>
            <p:cNvSpPr/>
            <p:nvPr/>
          </p:nvSpPr>
          <p:spPr>
            <a:xfrm>
              <a:off x="3403800" y="4839840"/>
              <a:ext cx="460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               = 50 days between 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3940200" y="4649760"/>
              <a:ext cx="876240" cy="780120"/>
              <a:chOff x="3940200" y="4649760"/>
              <a:chExt cx="876240" cy="780120"/>
            </a:xfrm>
          </p:grpSpPr>
          <p:sp>
            <p:nvSpPr>
              <p:cNvPr id="685" name="Rectangle 16"/>
              <p:cNvSpPr/>
              <p:nvPr/>
            </p:nvSpPr>
            <p:spPr>
              <a:xfrm>
                <a:off x="4075200" y="4649760"/>
                <a:ext cx="60588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7"/>
              <p:cNvSpPr/>
              <p:nvPr/>
            </p:nvSpPr>
            <p:spPr>
              <a:xfrm>
                <a:off x="3940200" y="5054040"/>
                <a:ext cx="87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7" name="Group 7"/>
          <p:cNvGrpSpPr/>
          <p:nvPr/>
        </p:nvGrpSpPr>
        <p:grpSpPr>
          <a:xfrm>
            <a:off x="1266840" y="3621240"/>
            <a:ext cx="6613560" cy="870480"/>
            <a:chOff x="1266840" y="3621240"/>
            <a:chExt cx="6613560" cy="870480"/>
          </a:xfrm>
        </p:grpSpPr>
        <p:sp>
          <p:nvSpPr>
            <p:cNvPr id="688" name="Rectangle 5"/>
            <p:cNvSpPr/>
            <p:nvPr/>
          </p:nvSpPr>
          <p:spPr>
            <a:xfrm>
              <a:off x="3058560" y="384948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6"/>
            <p:cNvSpPr/>
            <p:nvPr/>
          </p:nvSpPr>
          <p:spPr>
            <a:xfrm>
              <a:off x="1266840" y="3621240"/>
              <a:ext cx="179064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ected time between or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6"/>
            <p:cNvGrpSpPr/>
            <p:nvPr/>
          </p:nvGrpSpPr>
          <p:grpSpPr>
            <a:xfrm>
              <a:off x="3912480" y="3632040"/>
              <a:ext cx="3967920" cy="780120"/>
              <a:chOff x="3912480" y="3632040"/>
              <a:chExt cx="3967920" cy="780120"/>
            </a:xfrm>
          </p:grpSpPr>
          <p:sp>
            <p:nvSpPr>
              <p:cNvPr id="691" name="Rectangle 8"/>
              <p:cNvSpPr/>
              <p:nvPr/>
            </p:nvSpPr>
            <p:spPr>
              <a:xfrm>
                <a:off x="3929040" y="3632040"/>
                <a:ext cx="393444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umber of working days per ye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Aft>
                    <a:spcPts val="6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ected number of ord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3912480" y="4053960"/>
                <a:ext cx="396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1181160" y="1650960"/>
            <a:ext cx="68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</a:t>
            </a:r>
            <a:r>
              <a:rPr b="1" lang="en-US" sz="2400" spc="-1" strike="noStrike">
                <a:solidFill>
                  <a:srgbClr val="d33320"/>
                </a:solidFill>
                <a:latin typeface="Arial"/>
              </a:rPr>
              <a:t>total annu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 orders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0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1188720" y="3452760"/>
            <a:ext cx="53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nnual cost = Setup cost + Hold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Object 72"/>
              <p:cNvSpPr txBox="1"/>
              <p:nvPr/>
            </p:nvSpPr>
            <p:spPr>
              <a:xfrm>
                <a:off x="2832120" y="4000680"/>
                <a:ext cx="33019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 inventory into three classes based on annual dollar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A - high annual dolla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B - medium annual dolla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C - low annual dolla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establish policies that focus on the few critical parts and not the many trivial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OQ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1165320" y="1650960"/>
            <a:ext cx="56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ncluding actual cost of materi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1009080" y="2662200"/>
            <a:ext cx="70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nnual cost = Setup cost + Holding cost + Produc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72"/>
              <p:cNvSpPr txBox="1"/>
              <p:nvPr/>
            </p:nvSpPr>
            <p:spPr>
              <a:xfrm>
                <a:off x="3213000" y="3371760"/>
                <a:ext cx="2718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bust Mod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2396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OQ model is 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rks even if all parameters and assumptions are not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tal cost curve is relatively flat in the area of the EO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OQ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"/>
          <p:cNvSpPr/>
          <p:nvPr/>
        </p:nvSpPr>
        <p:spPr>
          <a:xfrm>
            <a:off x="1181160" y="1650960"/>
            <a:ext cx="681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optimal number of needles to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0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00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10 per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 orders/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$.50 per unit per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0 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134"/>
              <p:cNvSpPr txBox="1"/>
              <p:nvPr/>
            </p:nvSpPr>
            <p:spPr>
              <a:xfrm>
                <a:off x="1012680" y="3606840"/>
                <a:ext cx="33274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6" name="Group 20"/>
          <p:cNvGrpSpPr/>
          <p:nvPr/>
        </p:nvGrpSpPr>
        <p:grpSpPr>
          <a:xfrm>
            <a:off x="1714680" y="2021040"/>
            <a:ext cx="3303360" cy="459720"/>
            <a:chOff x="1714680" y="2021040"/>
            <a:chExt cx="3303360" cy="459720"/>
          </a:xfrm>
        </p:grpSpPr>
        <p:sp>
          <p:nvSpPr>
            <p:cNvPr id="707" name="Line 21"/>
            <p:cNvSpPr/>
            <p:nvPr/>
          </p:nvSpPr>
          <p:spPr>
            <a:xfrm>
              <a:off x="1714680" y="2159280"/>
              <a:ext cx="1663920" cy="203040"/>
            </a:xfrm>
            <a:prstGeom prst="line">
              <a:avLst/>
            </a:prstGeom>
            <a:ln w="5724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2"/>
            <p:cNvSpPr/>
            <p:nvPr/>
          </p:nvSpPr>
          <p:spPr>
            <a:xfrm>
              <a:off x="3346920" y="2021040"/>
              <a:ext cx="16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,500 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9" name="Object 135"/>
              <p:cNvSpPr txBox="1"/>
              <p:nvPr/>
            </p:nvSpPr>
            <p:spPr>
              <a:xfrm>
                <a:off x="4805280" y="4362480"/>
                <a:ext cx="3645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(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=</m:t>
                        </m:r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23"/>
          <p:cNvSpPr/>
          <p:nvPr/>
        </p:nvSpPr>
        <p:spPr>
          <a:xfrm>
            <a:off x="5243400" y="1525680"/>
            <a:ext cx="3422880" cy="2329560"/>
          </a:xfrm>
          <a:prstGeom prst="rect">
            <a:avLst/>
          </a:prstGeom>
          <a:solidFill>
            <a:srgbClr val="bdd6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342000" bIns="342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2% less than the total cost of $125 when the order quantity was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order Poi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417320"/>
            <a:ext cx="8229600" cy="18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OQ answers th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es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order point (ROP) tells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time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is the time between placing and receiving an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4"/>
          <p:cNvGrpSpPr/>
          <p:nvPr/>
        </p:nvGrpSpPr>
        <p:grpSpPr>
          <a:xfrm>
            <a:off x="1638720" y="3416400"/>
            <a:ext cx="5861880" cy="716760"/>
            <a:chOff x="1638720" y="3416400"/>
            <a:chExt cx="5861880" cy="716760"/>
          </a:xfrm>
        </p:grpSpPr>
        <p:sp>
          <p:nvSpPr>
            <p:cNvPr id="714" name="Rectangle 5"/>
            <p:cNvSpPr/>
            <p:nvPr/>
          </p:nvSpPr>
          <p:spPr>
            <a:xfrm>
              <a:off x="1638720" y="355932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OP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Group 6"/>
            <p:cNvGrpSpPr/>
            <p:nvPr/>
          </p:nvGrpSpPr>
          <p:grpSpPr>
            <a:xfrm>
              <a:off x="2663640" y="3416400"/>
              <a:ext cx="4836960" cy="716760"/>
              <a:chOff x="2663640" y="3416400"/>
              <a:chExt cx="4836960" cy="716760"/>
            </a:xfrm>
          </p:grpSpPr>
          <p:grpSp>
            <p:nvGrpSpPr>
              <p:cNvPr id="716" name="Group 7"/>
              <p:cNvGrpSpPr/>
              <p:nvPr/>
            </p:nvGrpSpPr>
            <p:grpSpPr>
              <a:xfrm>
                <a:off x="4238280" y="3416400"/>
                <a:ext cx="3262320" cy="715320"/>
                <a:chOff x="4238280" y="3416400"/>
                <a:chExt cx="3262320" cy="715320"/>
              </a:xfrm>
            </p:grpSpPr>
            <p:sp>
              <p:nvSpPr>
                <p:cNvPr id="717" name="Rectangle 8"/>
                <p:cNvSpPr/>
                <p:nvPr/>
              </p:nvSpPr>
              <p:spPr>
                <a:xfrm>
                  <a:off x="4238280" y="3416400"/>
                  <a:ext cx="3262320" cy="71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Lead time for a new order in day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AutoShape 9"/>
                <p:cNvSpPr/>
                <p:nvPr/>
              </p:nvSpPr>
              <p:spPr>
                <a:xfrm>
                  <a:off x="4376520" y="3459240"/>
                  <a:ext cx="2976480" cy="60012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Group 10"/>
              <p:cNvGrpSpPr/>
              <p:nvPr/>
            </p:nvGrpSpPr>
            <p:grpSpPr>
              <a:xfrm>
                <a:off x="2663640" y="3417840"/>
                <a:ext cx="1820880" cy="715320"/>
                <a:chOff x="2663640" y="3417840"/>
                <a:chExt cx="1820880" cy="715320"/>
              </a:xfrm>
            </p:grpSpPr>
            <p:sp>
              <p:nvSpPr>
                <p:cNvPr id="720" name="Rectangle 11"/>
                <p:cNvSpPr/>
                <p:nvPr/>
              </p:nvSpPr>
              <p:spPr>
                <a:xfrm>
                  <a:off x="2663640" y="3417840"/>
                  <a:ext cx="1820880" cy="71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Demand per da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12"/>
                <p:cNvSpPr/>
                <p:nvPr/>
              </p:nvSpPr>
              <p:spPr>
                <a:xfrm>
                  <a:off x="2857320" y="3458880"/>
                  <a:ext cx="1384560" cy="60012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2" name="Rectangle 13"/>
          <p:cNvSpPr/>
          <p:nvPr/>
        </p:nvSpPr>
        <p:spPr>
          <a:xfrm>
            <a:off x="2427480" y="4510080"/>
            <a:ext cx="10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14"/>
          <p:cNvGrpSpPr/>
          <p:nvPr/>
        </p:nvGrpSpPr>
        <p:grpSpPr>
          <a:xfrm>
            <a:off x="2116440" y="5064120"/>
            <a:ext cx="5371200" cy="825480"/>
            <a:chOff x="2116440" y="5064120"/>
            <a:chExt cx="5371200" cy="825480"/>
          </a:xfrm>
        </p:grpSpPr>
        <p:sp>
          <p:nvSpPr>
            <p:cNvPr id="724" name="Rectangle 15"/>
            <p:cNvSpPr/>
            <p:nvPr/>
          </p:nvSpPr>
          <p:spPr>
            <a:xfrm>
              <a:off x="2116440" y="52164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Group 16"/>
            <p:cNvGrpSpPr/>
            <p:nvPr/>
          </p:nvGrpSpPr>
          <p:grpSpPr>
            <a:xfrm>
              <a:off x="2765520" y="5064120"/>
              <a:ext cx="4722120" cy="825480"/>
              <a:chOff x="2765520" y="5064120"/>
              <a:chExt cx="4722120" cy="825480"/>
            </a:xfrm>
          </p:grpSpPr>
          <p:sp>
            <p:nvSpPr>
              <p:cNvPr id="726" name="Rectangle 17"/>
              <p:cNvSpPr/>
              <p:nvPr/>
            </p:nvSpPr>
            <p:spPr>
              <a:xfrm>
                <a:off x="2765520" y="5064120"/>
                <a:ext cx="472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umber of working days in a 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8"/>
              <p:cNvSpPr/>
              <p:nvPr/>
            </p:nvSpPr>
            <p:spPr>
              <a:xfrm>
                <a:off x="2803320" y="5481720"/>
                <a:ext cx="468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47560" y="531720"/>
            <a:ext cx="804888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order Point Cur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"/>
          <p:cNvSpPr/>
          <p:nvPr/>
        </p:nvSpPr>
        <p:spPr>
          <a:xfrm>
            <a:off x="4000680" y="2082960"/>
            <a:ext cx="1803240" cy="3632040"/>
          </a:xfrm>
          <a:prstGeom prst="line">
            <a:avLst/>
          </a:prstGeom>
          <a:ln w="76320">
            <a:solidFill>
              <a:srgbClr val="d33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2209320" y="1890720"/>
            <a:ext cx="1803600" cy="3836880"/>
            <a:chOff x="2209320" y="1890720"/>
            <a:chExt cx="1803600" cy="3836880"/>
          </a:xfrm>
        </p:grpSpPr>
        <p:sp>
          <p:nvSpPr>
            <p:cNvPr id="731" name="Line 5"/>
            <p:cNvSpPr/>
            <p:nvPr/>
          </p:nvSpPr>
          <p:spPr>
            <a:xfrm>
              <a:off x="2730240" y="2057400"/>
              <a:ext cx="1257480" cy="0"/>
            </a:xfrm>
            <a:prstGeom prst="line">
              <a:avLst/>
            </a:prstGeom>
            <a:ln w="57240">
              <a:solidFill>
                <a:srgbClr val="25589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6"/>
            <p:cNvSpPr/>
            <p:nvPr/>
          </p:nvSpPr>
          <p:spPr>
            <a:xfrm>
              <a:off x="4012920" y="2082600"/>
              <a:ext cx="0" cy="3645000"/>
            </a:xfrm>
            <a:prstGeom prst="line">
              <a:avLst/>
            </a:prstGeom>
            <a:ln w="57240">
              <a:solidFill>
                <a:srgbClr val="255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7"/>
            <p:cNvSpPr/>
            <p:nvPr/>
          </p:nvSpPr>
          <p:spPr>
            <a:xfrm>
              <a:off x="2209320" y="18907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8"/>
          <p:cNvGrpSpPr/>
          <p:nvPr/>
        </p:nvGrpSpPr>
        <p:grpSpPr>
          <a:xfrm>
            <a:off x="1762200" y="4113360"/>
            <a:ext cx="3368160" cy="1601280"/>
            <a:chOff x="1762200" y="4113360"/>
            <a:chExt cx="3368160" cy="1601280"/>
          </a:xfrm>
        </p:grpSpPr>
        <p:sp>
          <p:nvSpPr>
            <p:cNvPr id="735" name="Freeform 9"/>
            <p:cNvSpPr/>
            <p:nvPr/>
          </p:nvSpPr>
          <p:spPr>
            <a:xfrm>
              <a:off x="2705040" y="4343400"/>
              <a:ext cx="2425320" cy="1371240"/>
            </a:xfrm>
            <a:custGeom>
              <a:avLst/>
              <a:gdLst>
                <a:gd name="textAreaLeft" fmla="*/ 0 w 2425320"/>
                <a:gd name="textAreaRight" fmla="*/ 2425680 w 242532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1528" h="864">
                  <a:moveTo>
                    <a:pt x="0" y="0"/>
                  </a:moveTo>
                  <a:lnTo>
                    <a:pt x="1528" y="0"/>
                  </a:lnTo>
                  <a:lnTo>
                    <a:pt x="1528" y="864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0"/>
            <p:cNvSpPr/>
            <p:nvPr/>
          </p:nvSpPr>
          <p:spPr>
            <a:xfrm>
              <a:off x="1762200" y="4113360"/>
              <a:ext cx="9838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P (unit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11"/>
          <p:cNvGrpSpPr/>
          <p:nvPr/>
        </p:nvGrpSpPr>
        <p:grpSpPr>
          <a:xfrm>
            <a:off x="1454040" y="1663560"/>
            <a:ext cx="6536520" cy="4506840"/>
            <a:chOff x="1454040" y="1663560"/>
            <a:chExt cx="6536520" cy="4506840"/>
          </a:xfrm>
        </p:grpSpPr>
        <p:sp>
          <p:nvSpPr>
            <p:cNvPr id="738" name="Freeform 12"/>
            <p:cNvSpPr/>
            <p:nvPr/>
          </p:nvSpPr>
          <p:spPr>
            <a:xfrm>
              <a:off x="2692440" y="1663560"/>
              <a:ext cx="4902120" cy="40766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4076640"/>
                <a:gd name="textAreaBottom" fmla="*/ 4076640 h 4076640"/>
              </a:gdLst>
              <a:ahLst/>
              <a:rect l="textAreaLeft" t="textAreaTop" r="textAreaRight" b="textAreaBottom"/>
              <a:pathLst>
                <a:path w="3088" h="2568">
                  <a:moveTo>
                    <a:pt x="0" y="0"/>
                  </a:moveTo>
                  <a:cubicBezTo>
                    <a:pt x="5" y="856"/>
                    <a:pt x="10" y="1712"/>
                    <a:pt x="16" y="2568"/>
                  </a:cubicBezTo>
                  <a:lnTo>
                    <a:pt x="3088" y="2568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3"/>
            <p:cNvSpPr/>
            <p:nvPr/>
          </p:nvSpPr>
          <p:spPr>
            <a:xfrm rot="16200000">
              <a:off x="463320" y="3166560"/>
              <a:ext cx="23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ntory level (unit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4"/>
            <p:cNvSpPr/>
            <p:nvPr/>
          </p:nvSpPr>
          <p:spPr>
            <a:xfrm>
              <a:off x="6604200" y="580212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(day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Rectangle 15"/>
          <p:cNvSpPr/>
          <p:nvPr/>
        </p:nvSpPr>
        <p:spPr>
          <a:xfrm>
            <a:off x="573120" y="14778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16"/>
          <p:cNvGrpSpPr/>
          <p:nvPr/>
        </p:nvGrpSpPr>
        <p:grpSpPr>
          <a:xfrm>
            <a:off x="4679640" y="5835600"/>
            <a:ext cx="1570320" cy="563400"/>
            <a:chOff x="4679640" y="5835600"/>
            <a:chExt cx="1570320" cy="563400"/>
          </a:xfrm>
        </p:grpSpPr>
        <p:sp>
          <p:nvSpPr>
            <p:cNvPr id="743" name="Rectangle 17"/>
            <p:cNvSpPr/>
            <p:nvPr/>
          </p:nvSpPr>
          <p:spPr>
            <a:xfrm>
              <a:off x="4679640" y="6030720"/>
              <a:ext cx="157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d time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18"/>
            <p:cNvSpPr/>
            <p:nvPr/>
          </p:nvSpPr>
          <p:spPr>
            <a:xfrm rot="5400000">
              <a:off x="5365440" y="5607000"/>
              <a:ext cx="216000" cy="6732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17280 h 673200"/>
                <a:gd name="textAreaBottom" fmla="*/ 655920 h 67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9"/>
          <p:cNvGrpSpPr/>
          <p:nvPr/>
        </p:nvGrpSpPr>
        <p:grpSpPr>
          <a:xfrm>
            <a:off x="4825800" y="2986200"/>
            <a:ext cx="2923920" cy="582120"/>
            <a:chOff x="4825800" y="2986200"/>
            <a:chExt cx="2923920" cy="582120"/>
          </a:xfrm>
        </p:grpSpPr>
        <p:sp>
          <p:nvSpPr>
            <p:cNvPr id="746" name="Rectangle 20"/>
            <p:cNvSpPr/>
            <p:nvPr/>
          </p:nvSpPr>
          <p:spPr>
            <a:xfrm>
              <a:off x="5435280" y="298620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lope = units/day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21"/>
            <p:cNvSpPr/>
            <p:nvPr/>
          </p:nvSpPr>
          <p:spPr>
            <a:xfrm flipH="1">
              <a:off x="4825800" y="3187440"/>
              <a:ext cx="596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Text Box 22"/>
          <p:cNvSpPr/>
          <p:nvPr/>
        </p:nvSpPr>
        <p:spPr>
          <a:xfrm>
            <a:off x="4517640" y="2147760"/>
            <a:ext cx="39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pply takes place as order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3"/>
          <p:cNvSpPr/>
          <p:nvPr/>
        </p:nvSpPr>
        <p:spPr>
          <a:xfrm flipH="1">
            <a:off x="4102200" y="2451240"/>
            <a:ext cx="457200" cy="48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47560" y="531720"/>
            <a:ext cx="804888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order Point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824040" y="14493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= 8,000 iPods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working day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ime for orders is 3 working days, may tak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1536480" y="4522680"/>
            <a:ext cx="18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P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5"/>
          <p:cNvGrpSpPr/>
          <p:nvPr/>
        </p:nvGrpSpPr>
        <p:grpSpPr>
          <a:xfrm>
            <a:off x="1935720" y="2786040"/>
            <a:ext cx="5677920" cy="934920"/>
            <a:chOff x="1935720" y="2786040"/>
            <a:chExt cx="5677920" cy="934920"/>
          </a:xfrm>
        </p:grpSpPr>
        <p:sp>
          <p:nvSpPr>
            <p:cNvPr id="754" name="Rectangle 6"/>
            <p:cNvSpPr/>
            <p:nvPr/>
          </p:nvSpPr>
          <p:spPr>
            <a:xfrm>
              <a:off x="1935720" y="302112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7"/>
            <p:cNvGrpSpPr/>
            <p:nvPr/>
          </p:nvGrpSpPr>
          <p:grpSpPr>
            <a:xfrm>
              <a:off x="2660400" y="2786040"/>
              <a:ext cx="4953240" cy="934920"/>
              <a:chOff x="2660400" y="2786040"/>
              <a:chExt cx="4953240" cy="934920"/>
            </a:xfrm>
          </p:grpSpPr>
          <p:sp>
            <p:nvSpPr>
              <p:cNvPr id="756" name="Rectangle 8"/>
              <p:cNvSpPr/>
              <p:nvPr/>
            </p:nvSpPr>
            <p:spPr>
              <a:xfrm>
                <a:off x="2762280" y="2786040"/>
                <a:ext cx="4720680" cy="93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umber of working days in a 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>
                <a:off x="2660400" y="3260880"/>
                <a:ext cx="495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Rectangle 10"/>
          <p:cNvSpPr/>
          <p:nvPr/>
        </p:nvSpPr>
        <p:spPr>
          <a:xfrm>
            <a:off x="2235600" y="384804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,000/250 = 32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2257560" y="510696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2 units per day x 3 days = 96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1"/>
          <p:cNvSpPr/>
          <p:nvPr/>
        </p:nvSpPr>
        <p:spPr>
          <a:xfrm>
            <a:off x="2246040" y="5613480"/>
            <a:ext cx="54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2 units per day x 4 days = 128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293760" y="1511280"/>
            <a:ext cx="8705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 Henry's machine shop uses 2500 brackets during the course of a year. these brackets are purchased from a supplier 90 miles away. The following information is known about the brac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Demand: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ing Cost per bracket per year: $1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 cost per order: $18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 Time: 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days per year: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) Given the above information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would be the economic order quantity (EOQ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) Given the EOQ, what would b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erage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What would b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nual inventory holding c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) Given the EOQ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w many orders would be made each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would be the annual order c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) Given the EOQ, what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total annual cost of managing the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is the time between or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is the reorder point (R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1" descr="Screen Shot 2015-11-14 at 10.28.47 PM.png"/>
          <p:cNvPicPr/>
          <p:nvPr/>
        </p:nvPicPr>
        <p:blipFill>
          <a:blip r:embed="rId1"/>
          <a:stretch/>
        </p:blipFill>
        <p:spPr>
          <a:xfrm>
            <a:off x="1084320" y="1724040"/>
            <a:ext cx="627228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3" descr="Screen Shot 2015-11-14 at 10.32.32 PM.png"/>
          <p:cNvPicPr/>
          <p:nvPr/>
        </p:nvPicPr>
        <p:blipFill>
          <a:blip r:embed="rId1"/>
          <a:stretch/>
        </p:blipFill>
        <p:spPr>
          <a:xfrm>
            <a:off x="1073160" y="1833480"/>
            <a:ext cx="6365880" cy="41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799920" y="1434960"/>
            <a:ext cx="7543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inventory builds up over a period of time after an order is pla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units are produced and sold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2"/>
          <p:cNvSpPr/>
          <p:nvPr/>
        </p:nvSpPr>
        <p:spPr>
          <a:xfrm flipH="1">
            <a:off x="1886040" y="5003640"/>
            <a:ext cx="691920" cy="1028880"/>
          </a:xfrm>
          <a:prstGeom prst="rtTriangle">
            <a:avLst/>
          </a:prstGeom>
          <a:solidFill>
            <a:srgbClr val="255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"/>
          <p:cNvSpPr/>
          <p:nvPr/>
        </p:nvSpPr>
        <p:spPr>
          <a:xfrm>
            <a:off x="2571840" y="4971960"/>
            <a:ext cx="2197080" cy="1073160"/>
          </a:xfrm>
          <a:prstGeom prst="rtTriangle">
            <a:avLst/>
          </a:prstGeom>
          <a:solidFill>
            <a:srgbClr val="9fa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5"/>
          <p:cNvSpPr/>
          <p:nvPr/>
        </p:nvSpPr>
        <p:spPr>
          <a:xfrm flipV="1">
            <a:off x="1879560" y="4965480"/>
            <a:ext cx="711360" cy="1066680"/>
          </a:xfrm>
          <a:prstGeom prst="line">
            <a:avLst/>
          </a:prstGeom>
          <a:ln w="57240">
            <a:solidFill>
              <a:srgbClr val="d33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6"/>
          <p:cNvSpPr/>
          <p:nvPr/>
        </p:nvSpPr>
        <p:spPr>
          <a:xfrm>
            <a:off x="2571840" y="4984920"/>
            <a:ext cx="2133360" cy="1035000"/>
          </a:xfrm>
          <a:prstGeom prst="line">
            <a:avLst/>
          </a:prstGeom>
          <a:ln w="57240">
            <a:solidFill>
              <a:srgbClr val="d33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2571840" y="4978440"/>
            <a:ext cx="0" cy="1054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Group 8" descr=""/>
          <p:cNvPicPr/>
          <p:nvPr/>
        </p:nvPicPr>
        <p:blipFill>
          <a:blip r:embed="rId1"/>
          <a:stretch/>
        </p:blipFill>
        <p:spPr>
          <a:xfrm>
            <a:off x="4675320" y="4937040"/>
            <a:ext cx="3603600" cy="112248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19"/>
          <p:cNvGrpSpPr/>
          <p:nvPr/>
        </p:nvGrpSpPr>
        <p:grpSpPr>
          <a:xfrm>
            <a:off x="466560" y="3878280"/>
            <a:ext cx="8061480" cy="2508120"/>
            <a:chOff x="466560" y="3878280"/>
            <a:chExt cx="8061480" cy="2508120"/>
          </a:xfrm>
        </p:grpSpPr>
        <p:sp>
          <p:nvSpPr>
            <p:cNvPr id="776" name="Freeform 20"/>
            <p:cNvSpPr/>
            <p:nvPr/>
          </p:nvSpPr>
          <p:spPr>
            <a:xfrm>
              <a:off x="1866960" y="3878280"/>
              <a:ext cx="6661080" cy="2166840"/>
            </a:xfrm>
            <a:custGeom>
              <a:avLst/>
              <a:gdLst>
                <a:gd name="textAreaLeft" fmla="*/ 0 w 6661080"/>
                <a:gd name="textAreaRight" fmla="*/ 6661440 w 6661080"/>
                <a:gd name="textAreaTop" fmla="*/ 0 h 2166840"/>
                <a:gd name="textAreaBottom" fmla="*/ 2167200 h 2166840"/>
              </a:gdLst>
              <a:ahLst/>
              <a:rect l="textAreaLeft" t="textAreaTop" r="textAreaRight" b="textAreaBottom"/>
              <a:pathLst>
                <a:path w="4128" h="1744">
                  <a:moveTo>
                    <a:pt x="0" y="0"/>
                  </a:moveTo>
                  <a:cubicBezTo>
                    <a:pt x="2" y="581"/>
                    <a:pt x="5" y="1162"/>
                    <a:pt x="8" y="1744"/>
                  </a:cubicBezTo>
                  <a:lnTo>
                    <a:pt x="4128" y="17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21"/>
            <p:cNvSpPr/>
            <p:nvPr/>
          </p:nvSpPr>
          <p:spPr>
            <a:xfrm rot="16200000">
              <a:off x="-195480" y="4552920"/>
              <a:ext cx="16513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ntory 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2"/>
            <p:cNvSpPr/>
            <p:nvPr/>
          </p:nvSpPr>
          <p:spPr>
            <a:xfrm>
              <a:off x="7832880" y="60181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23"/>
          <p:cNvGrpSpPr/>
          <p:nvPr/>
        </p:nvGrpSpPr>
        <p:grpSpPr>
          <a:xfrm>
            <a:off x="4076280" y="4368960"/>
            <a:ext cx="3327840" cy="1282320"/>
            <a:chOff x="4076280" y="4368960"/>
            <a:chExt cx="3327840" cy="1282320"/>
          </a:xfrm>
        </p:grpSpPr>
        <p:sp>
          <p:nvSpPr>
            <p:cNvPr id="780" name="Rectangle 24"/>
            <p:cNvSpPr/>
            <p:nvPr/>
          </p:nvSpPr>
          <p:spPr>
            <a:xfrm>
              <a:off x="4314960" y="4368960"/>
              <a:ext cx="30891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mand part of cycle with no production (only usag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5"/>
            <p:cNvSpPr/>
            <p:nvPr/>
          </p:nvSpPr>
          <p:spPr>
            <a:xfrm flipH="1">
              <a:off x="4076280" y="4938840"/>
              <a:ext cx="692280" cy="71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26"/>
          <p:cNvGrpSpPr/>
          <p:nvPr/>
        </p:nvGrpSpPr>
        <p:grpSpPr>
          <a:xfrm>
            <a:off x="1928880" y="3747960"/>
            <a:ext cx="4078080" cy="1382760"/>
            <a:chOff x="1928880" y="3747960"/>
            <a:chExt cx="4078080" cy="1382760"/>
          </a:xfrm>
        </p:grpSpPr>
        <p:sp>
          <p:nvSpPr>
            <p:cNvPr id="783" name="Rectangle 27"/>
            <p:cNvSpPr/>
            <p:nvPr/>
          </p:nvSpPr>
          <p:spPr>
            <a:xfrm>
              <a:off x="1928880" y="3747960"/>
              <a:ext cx="40780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 of inventory cycle during which production (and usage) is taking pl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122560" y="4317840"/>
              <a:ext cx="328680" cy="81288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207" h="608">
                  <a:moveTo>
                    <a:pt x="207" y="0"/>
                  </a:moveTo>
                  <a:cubicBezTo>
                    <a:pt x="183" y="24"/>
                    <a:pt x="96" y="97"/>
                    <a:pt x="63" y="144"/>
                  </a:cubicBezTo>
                  <a:cubicBezTo>
                    <a:pt x="30" y="191"/>
                    <a:pt x="14" y="235"/>
                    <a:pt x="7" y="280"/>
                  </a:cubicBezTo>
                  <a:cubicBezTo>
                    <a:pt x="0" y="325"/>
                    <a:pt x="0" y="361"/>
                    <a:pt x="23" y="416"/>
                  </a:cubicBezTo>
                  <a:cubicBezTo>
                    <a:pt x="46" y="471"/>
                    <a:pt x="118" y="568"/>
                    <a:pt x="143" y="6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Group 29"/>
          <p:cNvGrpSpPr/>
          <p:nvPr/>
        </p:nvGrpSpPr>
        <p:grpSpPr>
          <a:xfrm>
            <a:off x="1879560" y="6067440"/>
            <a:ext cx="698400" cy="326880"/>
            <a:chOff x="1879560" y="6067440"/>
            <a:chExt cx="698400" cy="326880"/>
          </a:xfrm>
        </p:grpSpPr>
        <p:sp>
          <p:nvSpPr>
            <p:cNvPr id="786" name="Rectangle 30"/>
            <p:cNvSpPr/>
            <p:nvPr/>
          </p:nvSpPr>
          <p:spPr>
            <a:xfrm>
              <a:off x="2100960" y="6067440"/>
              <a:ext cx="244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>
              <a:off x="1879560" y="6114960"/>
              <a:ext cx="6480" cy="2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>
              <a:off x="2577960" y="6114960"/>
              <a:ext cx="0" cy="2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>
              <a:off x="1892160" y="6230880"/>
              <a:ext cx="2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2305080" y="6230880"/>
              <a:ext cx="2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35"/>
          <p:cNvGrpSpPr/>
          <p:nvPr/>
        </p:nvGrpSpPr>
        <p:grpSpPr>
          <a:xfrm>
            <a:off x="593640" y="4781520"/>
            <a:ext cx="1476360" cy="507240"/>
            <a:chOff x="593640" y="4781520"/>
            <a:chExt cx="1476360" cy="507240"/>
          </a:xfrm>
        </p:grpSpPr>
        <p:sp>
          <p:nvSpPr>
            <p:cNvPr id="792" name="Rectangle 36"/>
            <p:cNvSpPr/>
            <p:nvPr/>
          </p:nvSpPr>
          <p:spPr>
            <a:xfrm>
              <a:off x="593640" y="4781520"/>
              <a:ext cx="14032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ximum invent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>
              <a:off x="1879560" y="499104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Rectangle 15"/>
          <p:cNvSpPr/>
          <p:nvPr/>
        </p:nvSpPr>
        <p:spPr>
          <a:xfrm>
            <a:off x="7401600" y="31543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85800" y="1447920"/>
          <a:ext cx="7883640" cy="4659120"/>
        </p:xfrm>
        <a:graphic>
          <a:graphicData uri="http://schemas.openxmlformats.org/drawingml/2006/table">
            <a:tbl>
              <a:tblPr/>
              <a:tblGrid>
                <a:gridCol w="914400"/>
                <a:gridCol w="952560"/>
                <a:gridCol w="927000"/>
                <a:gridCol w="330120"/>
                <a:gridCol w="825480"/>
                <a:gridCol w="317520"/>
                <a:gridCol w="254160"/>
                <a:gridCol w="927000"/>
                <a:gridCol w="241200"/>
                <a:gridCol w="851040"/>
                <a:gridCol w="635040"/>
                <a:gridCol w="708120"/>
              </a:tblGrid>
              <a:tr h="283320">
                <a:tc gridSpan="12"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BC Calc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solidFill>
                      <a:srgbClr val="d33320"/>
                    </a:solidFill>
                  </a:tcPr>
                </a:tc>
              </a:tr>
              <a:tr h="9126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TEM STOCK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ERCENT OF NUMBER OF ITEMS STOC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NUAL VOLUME (UN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NIT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NNUAL DOLLAR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ERCENT OF ANNUAL DOLLAR VOLU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0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 9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 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15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2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,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0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2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,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25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 14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 8,5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4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01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01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05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,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232,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>
                      <a:noFill/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5" name="Group 1"/>
          <p:cNvGrpSpPr/>
          <p:nvPr/>
        </p:nvGrpSpPr>
        <p:grpSpPr>
          <a:xfrm>
            <a:off x="7201080" y="3052800"/>
            <a:ext cx="662040" cy="2720880"/>
            <a:chOff x="7201080" y="3052800"/>
            <a:chExt cx="662040" cy="2720880"/>
          </a:xfrm>
        </p:grpSpPr>
        <p:grpSp>
          <p:nvGrpSpPr>
            <p:cNvPr id="526" name="Group 80"/>
            <p:cNvGrpSpPr/>
            <p:nvPr/>
          </p:nvGrpSpPr>
          <p:grpSpPr>
            <a:xfrm>
              <a:off x="7201080" y="3052800"/>
              <a:ext cx="656280" cy="1272240"/>
              <a:chOff x="7201080" y="3052800"/>
              <a:chExt cx="656280" cy="1272240"/>
            </a:xfrm>
          </p:grpSpPr>
          <p:sp>
            <p:nvSpPr>
              <p:cNvPr id="527" name="AutoShape 81"/>
              <p:cNvSpPr/>
              <p:nvPr/>
            </p:nvSpPr>
            <p:spPr>
              <a:xfrm>
                <a:off x="7201080" y="3052800"/>
                <a:ext cx="152640" cy="47592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16920 h 475920"/>
                  <a:gd name="textAreaBottom" fmla="*/ 459000 h 47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248"/>
                      <a:pt x="10800" y="2496"/>
                    </a:cubicBezTo>
                    <a:lnTo>
                      <a:pt x="10800" y="8304"/>
                    </a:lnTo>
                    <a:cubicBezTo>
                      <a:pt x="10800" y="9552"/>
                      <a:pt x="16200" y="10800"/>
                      <a:pt x="21600" y="10800"/>
                    </a:cubicBezTo>
                    <a:cubicBezTo>
                      <a:pt x="16200" y="10800"/>
                      <a:pt x="10800" y="12048"/>
                      <a:pt x="10800" y="13296"/>
                    </a:cubicBezTo>
                    <a:lnTo>
                      <a:pt x="10800" y="19104"/>
                    </a:lnTo>
                    <a:cubicBezTo>
                      <a:pt x="10800" y="20352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82"/>
              <p:cNvSpPr/>
              <p:nvPr/>
            </p:nvSpPr>
            <p:spPr>
              <a:xfrm>
                <a:off x="7201080" y="3614400"/>
                <a:ext cx="152640" cy="71064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8800 h 710640"/>
                  <a:gd name="textAreaBottom" fmla="*/ 681840 h 710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402"/>
                      <a:pt x="10800" y="2804"/>
                    </a:cubicBezTo>
                    <a:lnTo>
                      <a:pt x="10800" y="7996"/>
                    </a:lnTo>
                    <a:cubicBezTo>
                      <a:pt x="10800" y="9398"/>
                      <a:pt x="16200" y="10800"/>
                      <a:pt x="21600" y="10800"/>
                    </a:cubicBezTo>
                    <a:cubicBezTo>
                      <a:pt x="16200" y="10800"/>
                      <a:pt x="10800" y="12202"/>
                      <a:pt x="10800" y="13604"/>
                    </a:cubicBezTo>
                    <a:lnTo>
                      <a:pt x="10800" y="18796"/>
                    </a:lnTo>
                    <a:cubicBezTo>
                      <a:pt x="10800" y="20198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83"/>
              <p:cNvSpPr/>
              <p:nvPr/>
            </p:nvSpPr>
            <p:spPr>
              <a:xfrm>
                <a:off x="7319880" y="313812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2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84"/>
              <p:cNvSpPr/>
              <p:nvPr/>
            </p:nvSpPr>
            <p:spPr>
              <a:xfrm>
                <a:off x="7319880" y="381564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3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92"/>
            <p:cNvGrpSpPr/>
            <p:nvPr/>
          </p:nvGrpSpPr>
          <p:grpSpPr>
            <a:xfrm>
              <a:off x="7201080" y="4464000"/>
              <a:ext cx="662040" cy="1309680"/>
              <a:chOff x="7201080" y="4464000"/>
              <a:chExt cx="662040" cy="1309680"/>
            </a:xfrm>
          </p:grpSpPr>
          <p:sp>
            <p:nvSpPr>
              <p:cNvPr id="532" name="AutoShape 93"/>
              <p:cNvSpPr/>
              <p:nvPr/>
            </p:nvSpPr>
            <p:spPr>
              <a:xfrm>
                <a:off x="7201080" y="4464000"/>
                <a:ext cx="152640" cy="130968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33840 h 1309680"/>
                  <a:gd name="textAreaBottom" fmla="*/ 1275840 h 13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 Box 94"/>
              <p:cNvSpPr/>
              <p:nvPr/>
            </p:nvSpPr>
            <p:spPr>
              <a:xfrm>
                <a:off x="7425000" y="4968360"/>
                <a:ext cx="43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3"/>
          <p:cNvSpPr/>
          <p:nvPr/>
        </p:nvSpPr>
        <p:spPr>
          <a:xfrm>
            <a:off x="487440" y="1951200"/>
            <a:ext cx="795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ieces per 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produ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ing cost per unit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demand/usag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the production run in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11"/>
          <p:cNvGrpSpPr/>
          <p:nvPr/>
        </p:nvGrpSpPr>
        <p:grpSpPr>
          <a:xfrm>
            <a:off x="860400" y="3213000"/>
            <a:ext cx="7445160" cy="559800"/>
            <a:chOff x="860400" y="3213000"/>
            <a:chExt cx="7445160" cy="559800"/>
          </a:xfrm>
        </p:grpSpPr>
        <p:sp>
          <p:nvSpPr>
            <p:cNvPr id="797" name="Rectangle 5"/>
            <p:cNvSpPr/>
            <p:nvPr/>
          </p:nvSpPr>
          <p:spPr>
            <a:xfrm>
              <a:off x="2941200" y="3330720"/>
              <a:ext cx="3285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(Average inventory level)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Group 9"/>
            <p:cNvGrpSpPr/>
            <p:nvPr/>
          </p:nvGrpSpPr>
          <p:grpSpPr>
            <a:xfrm>
              <a:off x="860400" y="3213000"/>
              <a:ext cx="2127240" cy="559800"/>
              <a:chOff x="860400" y="3213000"/>
              <a:chExt cx="2127240" cy="559800"/>
            </a:xfrm>
          </p:grpSpPr>
          <p:sp>
            <p:nvSpPr>
              <p:cNvPr id="799" name="Rectangle 4"/>
              <p:cNvSpPr/>
              <p:nvPr/>
            </p:nvSpPr>
            <p:spPr>
              <a:xfrm>
                <a:off x="860400" y="3213000"/>
                <a:ext cx="212724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nual inventory holding cos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7"/>
              <p:cNvSpPr/>
              <p:nvPr/>
            </p:nvSpPr>
            <p:spPr>
              <a:xfrm>
                <a:off x="920880" y="3244680"/>
                <a:ext cx="2006640" cy="49536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Group 10"/>
            <p:cNvGrpSpPr/>
            <p:nvPr/>
          </p:nvGrpSpPr>
          <p:grpSpPr>
            <a:xfrm>
              <a:off x="6181560" y="3213000"/>
              <a:ext cx="2124000" cy="559800"/>
              <a:chOff x="6181560" y="3213000"/>
              <a:chExt cx="2124000" cy="559800"/>
            </a:xfrm>
          </p:grpSpPr>
          <p:sp>
            <p:nvSpPr>
              <p:cNvPr id="802" name="Rectangle 6"/>
              <p:cNvSpPr/>
              <p:nvPr/>
            </p:nvSpPr>
            <p:spPr>
              <a:xfrm>
                <a:off x="6181560" y="3213000"/>
                <a:ext cx="212400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olding cost 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er unit per ye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AutoShape 8"/>
              <p:cNvSpPr/>
              <p:nvPr/>
            </p:nvSpPr>
            <p:spPr>
              <a:xfrm>
                <a:off x="6240240" y="3244680"/>
                <a:ext cx="2006640" cy="49536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Group 20"/>
          <p:cNvGrpSpPr/>
          <p:nvPr/>
        </p:nvGrpSpPr>
        <p:grpSpPr>
          <a:xfrm>
            <a:off x="860400" y="4210200"/>
            <a:ext cx="5530320" cy="559800"/>
            <a:chOff x="860400" y="4210200"/>
            <a:chExt cx="5530320" cy="559800"/>
          </a:xfrm>
        </p:grpSpPr>
        <p:sp>
          <p:nvSpPr>
            <p:cNvPr id="805" name="Rectangle 13"/>
            <p:cNvSpPr/>
            <p:nvPr/>
          </p:nvSpPr>
          <p:spPr>
            <a:xfrm>
              <a:off x="2951640" y="4327560"/>
              <a:ext cx="3439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(Maximum inventory level)/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14"/>
            <p:cNvGrpSpPr/>
            <p:nvPr/>
          </p:nvGrpSpPr>
          <p:grpSpPr>
            <a:xfrm>
              <a:off x="860400" y="4210200"/>
              <a:ext cx="2127240" cy="559800"/>
              <a:chOff x="860400" y="4210200"/>
              <a:chExt cx="2127240" cy="559800"/>
            </a:xfrm>
          </p:grpSpPr>
          <p:sp>
            <p:nvSpPr>
              <p:cNvPr id="807" name="Rectangle 15"/>
              <p:cNvSpPr/>
              <p:nvPr/>
            </p:nvSpPr>
            <p:spPr>
              <a:xfrm>
                <a:off x="860400" y="4210200"/>
                <a:ext cx="212724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nual inventory lev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16"/>
              <p:cNvSpPr/>
              <p:nvPr/>
            </p:nvSpPr>
            <p:spPr>
              <a:xfrm>
                <a:off x="920880" y="4241880"/>
                <a:ext cx="2006640" cy="49536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Group 41"/>
          <p:cNvGrpSpPr/>
          <p:nvPr/>
        </p:nvGrpSpPr>
        <p:grpSpPr>
          <a:xfrm>
            <a:off x="860400" y="5207040"/>
            <a:ext cx="7481880" cy="950760"/>
            <a:chOff x="860400" y="5207040"/>
            <a:chExt cx="7481880" cy="950760"/>
          </a:xfrm>
        </p:grpSpPr>
        <p:grpSp>
          <p:nvGrpSpPr>
            <p:cNvPr id="810" name="Group 39"/>
            <p:cNvGrpSpPr/>
            <p:nvPr/>
          </p:nvGrpSpPr>
          <p:grpSpPr>
            <a:xfrm>
              <a:off x="860400" y="5207040"/>
              <a:ext cx="7481880" cy="559800"/>
              <a:chOff x="860400" y="5207040"/>
              <a:chExt cx="7481880" cy="559800"/>
            </a:xfrm>
          </p:grpSpPr>
          <p:sp>
            <p:nvSpPr>
              <p:cNvPr id="811" name="Rectangle 22"/>
              <p:cNvSpPr/>
              <p:nvPr/>
            </p:nvSpPr>
            <p:spPr>
              <a:xfrm>
                <a:off x="2687040" y="5322960"/>
                <a:ext cx="332172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                                            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2" name="Group 29"/>
              <p:cNvGrpSpPr/>
              <p:nvPr/>
            </p:nvGrpSpPr>
            <p:grpSpPr>
              <a:xfrm>
                <a:off x="860400" y="5207040"/>
                <a:ext cx="1835280" cy="559800"/>
                <a:chOff x="860400" y="5207040"/>
                <a:chExt cx="1835280" cy="559800"/>
              </a:xfrm>
            </p:grpSpPr>
            <p:sp>
              <p:nvSpPr>
                <p:cNvPr id="813" name="Rectangle 24"/>
                <p:cNvSpPr/>
                <p:nvPr/>
              </p:nvSpPr>
              <p:spPr>
                <a:xfrm>
                  <a:off x="860400" y="5207040"/>
                  <a:ext cx="18352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aximum inventory leve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AutoShape 25"/>
                <p:cNvSpPr/>
                <p:nvPr/>
              </p:nvSpPr>
              <p:spPr>
                <a:xfrm>
                  <a:off x="882720" y="5238720"/>
                  <a:ext cx="1790640" cy="4953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33"/>
              <p:cNvGrpSpPr/>
              <p:nvPr/>
            </p:nvGrpSpPr>
            <p:grpSpPr>
              <a:xfrm>
                <a:off x="2928960" y="5207040"/>
                <a:ext cx="2771640" cy="559800"/>
                <a:chOff x="2928960" y="5207040"/>
                <a:chExt cx="2771640" cy="559800"/>
              </a:xfrm>
            </p:grpSpPr>
            <p:sp>
              <p:nvSpPr>
                <p:cNvPr id="816" name="Rectangle 31"/>
                <p:cNvSpPr/>
                <p:nvPr/>
              </p:nvSpPr>
              <p:spPr>
                <a:xfrm>
                  <a:off x="2928960" y="5207040"/>
                  <a:ext cx="277164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tal produced during the production 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AutoShape 32"/>
                <p:cNvSpPr/>
                <p:nvPr/>
              </p:nvSpPr>
              <p:spPr>
                <a:xfrm>
                  <a:off x="3019320" y="5239080"/>
                  <a:ext cx="2590920" cy="49500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37"/>
              <p:cNvGrpSpPr/>
              <p:nvPr/>
            </p:nvGrpSpPr>
            <p:grpSpPr>
              <a:xfrm>
                <a:off x="6027840" y="5207040"/>
                <a:ext cx="2314440" cy="559800"/>
                <a:chOff x="6027840" y="5207040"/>
                <a:chExt cx="2314440" cy="559800"/>
              </a:xfrm>
            </p:grpSpPr>
            <p:sp>
              <p:nvSpPr>
                <p:cNvPr id="819" name="Rectangle 35"/>
                <p:cNvSpPr/>
                <p:nvPr/>
              </p:nvSpPr>
              <p:spPr>
                <a:xfrm>
                  <a:off x="6027840" y="5207040"/>
                  <a:ext cx="231444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tal used during the production 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AutoShape 36"/>
                <p:cNvSpPr/>
                <p:nvPr/>
              </p:nvSpPr>
              <p:spPr>
                <a:xfrm>
                  <a:off x="6054480" y="5238720"/>
                  <a:ext cx="2260440" cy="4953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1" name="Rectangle 40"/>
            <p:cNvSpPr/>
            <p:nvPr/>
          </p:nvSpPr>
          <p:spPr>
            <a:xfrm>
              <a:off x="2684520" y="57895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pt – 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"/>
          <p:cNvSpPr/>
          <p:nvPr/>
        </p:nvSpPr>
        <p:spPr>
          <a:xfrm>
            <a:off x="487440" y="1951200"/>
            <a:ext cx="795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ieces per 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produ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ing cost per unit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demand/usag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the production run in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36"/>
          <p:cNvGrpSpPr/>
          <p:nvPr/>
        </p:nvGrpSpPr>
        <p:grpSpPr>
          <a:xfrm>
            <a:off x="830160" y="3094200"/>
            <a:ext cx="7481880" cy="950760"/>
            <a:chOff x="830160" y="3094200"/>
            <a:chExt cx="7481880" cy="950760"/>
          </a:xfrm>
        </p:grpSpPr>
        <p:grpSp>
          <p:nvGrpSpPr>
            <p:cNvPr id="825" name="Group 35"/>
            <p:cNvGrpSpPr/>
            <p:nvPr/>
          </p:nvGrpSpPr>
          <p:grpSpPr>
            <a:xfrm>
              <a:off x="830160" y="3094200"/>
              <a:ext cx="7481880" cy="559800"/>
              <a:chOff x="830160" y="3094200"/>
              <a:chExt cx="7481880" cy="559800"/>
            </a:xfrm>
          </p:grpSpPr>
          <p:sp>
            <p:nvSpPr>
              <p:cNvPr id="826" name="Rectangle 19"/>
              <p:cNvSpPr/>
              <p:nvPr/>
            </p:nvSpPr>
            <p:spPr>
              <a:xfrm>
                <a:off x="2656800" y="3209760"/>
                <a:ext cx="332172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                                            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20"/>
              <p:cNvGrpSpPr/>
              <p:nvPr/>
            </p:nvGrpSpPr>
            <p:grpSpPr>
              <a:xfrm>
                <a:off x="830160" y="3094200"/>
                <a:ext cx="1835280" cy="559800"/>
                <a:chOff x="830160" y="3094200"/>
                <a:chExt cx="1835280" cy="559800"/>
              </a:xfrm>
            </p:grpSpPr>
            <p:sp>
              <p:nvSpPr>
                <p:cNvPr id="828" name="Rectangle 21"/>
                <p:cNvSpPr/>
                <p:nvPr/>
              </p:nvSpPr>
              <p:spPr>
                <a:xfrm>
                  <a:off x="830160" y="3094200"/>
                  <a:ext cx="18352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aximum inventory leve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AutoShape 22"/>
                <p:cNvSpPr/>
                <p:nvPr/>
              </p:nvSpPr>
              <p:spPr>
                <a:xfrm>
                  <a:off x="852480" y="3125880"/>
                  <a:ext cx="1790640" cy="4953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Group 23"/>
              <p:cNvGrpSpPr/>
              <p:nvPr/>
            </p:nvGrpSpPr>
            <p:grpSpPr>
              <a:xfrm>
                <a:off x="2898720" y="3094200"/>
                <a:ext cx="2771640" cy="559800"/>
                <a:chOff x="2898720" y="3094200"/>
                <a:chExt cx="2771640" cy="559800"/>
              </a:xfrm>
            </p:grpSpPr>
            <p:sp>
              <p:nvSpPr>
                <p:cNvPr id="831" name="Rectangle 24"/>
                <p:cNvSpPr/>
                <p:nvPr/>
              </p:nvSpPr>
              <p:spPr>
                <a:xfrm>
                  <a:off x="2898720" y="3094200"/>
                  <a:ext cx="277164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tal produced during the production 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AutoShape 25"/>
                <p:cNvSpPr/>
                <p:nvPr/>
              </p:nvSpPr>
              <p:spPr>
                <a:xfrm>
                  <a:off x="2989080" y="3126240"/>
                  <a:ext cx="2590920" cy="49500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Group 26"/>
              <p:cNvGrpSpPr/>
              <p:nvPr/>
            </p:nvGrpSpPr>
            <p:grpSpPr>
              <a:xfrm>
                <a:off x="5997600" y="3094200"/>
                <a:ext cx="2314440" cy="559800"/>
                <a:chOff x="5997600" y="3094200"/>
                <a:chExt cx="2314440" cy="559800"/>
              </a:xfrm>
            </p:grpSpPr>
            <p:sp>
              <p:nvSpPr>
                <p:cNvPr id="834" name="Rectangle 27"/>
                <p:cNvSpPr/>
                <p:nvPr/>
              </p:nvSpPr>
              <p:spPr>
                <a:xfrm>
                  <a:off x="5997600" y="3094200"/>
                  <a:ext cx="231444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otal used during the production ru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AutoShape 28"/>
                <p:cNvSpPr/>
                <p:nvPr/>
              </p:nvSpPr>
              <p:spPr>
                <a:xfrm>
                  <a:off x="6024240" y="3125880"/>
                  <a:ext cx="2260440" cy="4953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6" name="Rectangle 29"/>
            <p:cNvSpPr/>
            <p:nvPr/>
          </p:nvSpPr>
          <p:spPr>
            <a:xfrm>
              <a:off x="2654280" y="367668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pt – d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30"/>
          <p:cNvSpPr/>
          <p:nvPr/>
        </p:nvSpPr>
        <p:spPr>
          <a:xfrm>
            <a:off x="858240" y="4087800"/>
            <a:ext cx="58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Q = total produced = pt ; thus t = Q/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57"/>
          <p:cNvGrpSpPr/>
          <p:nvPr/>
        </p:nvGrpSpPr>
        <p:grpSpPr>
          <a:xfrm>
            <a:off x="830160" y="4683240"/>
            <a:ext cx="5189400" cy="642600"/>
            <a:chOff x="830160" y="4683240"/>
            <a:chExt cx="5189400" cy="642600"/>
          </a:xfrm>
        </p:grpSpPr>
        <p:grpSp>
          <p:nvGrpSpPr>
            <p:cNvPr id="839" name="Group 32"/>
            <p:cNvGrpSpPr/>
            <p:nvPr/>
          </p:nvGrpSpPr>
          <p:grpSpPr>
            <a:xfrm>
              <a:off x="830160" y="4724280"/>
              <a:ext cx="1834920" cy="559800"/>
              <a:chOff x="830160" y="4724280"/>
              <a:chExt cx="1834920" cy="559800"/>
            </a:xfrm>
          </p:grpSpPr>
          <p:sp>
            <p:nvSpPr>
              <p:cNvPr id="840" name="Rectangle 33"/>
              <p:cNvSpPr/>
              <p:nvPr/>
            </p:nvSpPr>
            <p:spPr>
              <a:xfrm>
                <a:off x="830160" y="4724280"/>
                <a:ext cx="1834920" cy="55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ximum inventory lev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AutoShape 34"/>
              <p:cNvSpPr/>
              <p:nvPr/>
            </p:nvSpPr>
            <p:spPr>
              <a:xfrm>
                <a:off x="852120" y="4755960"/>
                <a:ext cx="1790280" cy="49536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Rectangle 37"/>
            <p:cNvSpPr/>
            <p:nvPr/>
          </p:nvSpPr>
          <p:spPr>
            <a:xfrm>
              <a:off x="2646720" y="4819680"/>
              <a:ext cx="29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p          – d          =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Q  1 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46"/>
            <p:cNvGrpSpPr/>
            <p:nvPr/>
          </p:nvGrpSpPr>
          <p:grpSpPr>
            <a:xfrm>
              <a:off x="4140000" y="4683240"/>
              <a:ext cx="457200" cy="642600"/>
              <a:chOff x="4140000" y="4683240"/>
              <a:chExt cx="457200" cy="642600"/>
            </a:xfrm>
          </p:grpSpPr>
          <p:grpSp>
            <p:nvGrpSpPr>
              <p:cNvPr id="844" name="Group 40"/>
              <p:cNvGrpSpPr/>
              <p:nvPr/>
            </p:nvGrpSpPr>
            <p:grpSpPr>
              <a:xfrm>
                <a:off x="4162680" y="4683240"/>
                <a:ext cx="358920" cy="642600"/>
                <a:chOff x="4162680" y="4683240"/>
                <a:chExt cx="358920" cy="642600"/>
              </a:xfrm>
            </p:grpSpPr>
            <p:sp>
              <p:nvSpPr>
                <p:cNvPr id="845" name="Rectangle 38"/>
                <p:cNvSpPr/>
                <p:nvPr/>
              </p:nvSpPr>
              <p:spPr>
                <a:xfrm>
                  <a:off x="4162680" y="4683240"/>
                  <a:ext cx="358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Line 39"/>
                <p:cNvSpPr/>
                <p:nvPr/>
              </p:nvSpPr>
              <p:spPr>
                <a:xfrm>
                  <a:off x="4212720" y="50274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AutoShape 44"/>
              <p:cNvSpPr/>
              <p:nvPr/>
            </p:nvSpPr>
            <p:spPr>
              <a:xfrm>
                <a:off x="4140000" y="4706640"/>
                <a:ext cx="457200" cy="59652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Group 47"/>
            <p:cNvGrpSpPr/>
            <p:nvPr/>
          </p:nvGrpSpPr>
          <p:grpSpPr>
            <a:xfrm>
              <a:off x="3149280" y="4683240"/>
              <a:ext cx="457200" cy="642600"/>
              <a:chOff x="3149280" y="4683240"/>
              <a:chExt cx="457200" cy="642600"/>
            </a:xfrm>
          </p:grpSpPr>
          <p:grpSp>
            <p:nvGrpSpPr>
              <p:cNvPr id="849" name="Group 48"/>
              <p:cNvGrpSpPr/>
              <p:nvPr/>
            </p:nvGrpSpPr>
            <p:grpSpPr>
              <a:xfrm>
                <a:off x="3171960" y="4683240"/>
                <a:ext cx="358920" cy="642600"/>
                <a:chOff x="3171960" y="4683240"/>
                <a:chExt cx="358920" cy="642600"/>
              </a:xfrm>
            </p:grpSpPr>
            <p:sp>
              <p:nvSpPr>
                <p:cNvPr id="850" name="Rectangle 49"/>
                <p:cNvSpPr/>
                <p:nvPr/>
              </p:nvSpPr>
              <p:spPr>
                <a:xfrm>
                  <a:off x="3171960" y="4683240"/>
                  <a:ext cx="358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"/>
                <p:cNvSpPr/>
                <p:nvPr/>
              </p:nvSpPr>
              <p:spPr>
                <a:xfrm>
                  <a:off x="3222000" y="502740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AutoShape 51"/>
              <p:cNvSpPr/>
              <p:nvPr/>
            </p:nvSpPr>
            <p:spPr>
              <a:xfrm>
                <a:off x="3149280" y="4706640"/>
                <a:ext cx="457200" cy="596520"/>
              </a:xfrm>
              <a:prstGeom prst="bracketPair">
                <a:avLst>
                  <a:gd name="adj" fmla="val 17129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Group 54"/>
            <p:cNvGrpSpPr/>
            <p:nvPr/>
          </p:nvGrpSpPr>
          <p:grpSpPr>
            <a:xfrm>
              <a:off x="5624640" y="4683240"/>
              <a:ext cx="320760" cy="642600"/>
              <a:chOff x="5624640" y="4683240"/>
              <a:chExt cx="320760" cy="642600"/>
            </a:xfrm>
          </p:grpSpPr>
          <p:sp>
            <p:nvSpPr>
              <p:cNvPr id="854" name="Rectangle 52"/>
              <p:cNvSpPr/>
              <p:nvPr/>
            </p:nvSpPr>
            <p:spPr>
              <a:xfrm>
                <a:off x="5624640" y="4683240"/>
                <a:ext cx="32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Line 53"/>
              <p:cNvSpPr/>
              <p:nvPr/>
            </p:nvSpPr>
            <p:spPr>
              <a:xfrm>
                <a:off x="5638320" y="5014800"/>
                <a:ext cx="29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AutoShape 55"/>
            <p:cNvSpPr/>
            <p:nvPr/>
          </p:nvSpPr>
          <p:spPr>
            <a:xfrm>
              <a:off x="5130360" y="4711680"/>
              <a:ext cx="889200" cy="5842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77"/>
          <p:cNvGrpSpPr/>
          <p:nvPr/>
        </p:nvGrpSpPr>
        <p:grpSpPr>
          <a:xfrm>
            <a:off x="816120" y="5616720"/>
            <a:ext cx="7178760" cy="724680"/>
            <a:chOff x="816120" y="5616720"/>
            <a:chExt cx="7178760" cy="724680"/>
          </a:xfrm>
        </p:grpSpPr>
        <p:sp>
          <p:nvSpPr>
            <p:cNvPr id="858" name="Rectangle 58"/>
            <p:cNvSpPr/>
            <p:nvPr/>
          </p:nvSpPr>
          <p:spPr>
            <a:xfrm>
              <a:off x="816120" y="5796000"/>
              <a:ext cx="71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olding cost =                                               (H) =          1 –           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Group 76"/>
            <p:cNvGrpSpPr/>
            <p:nvPr/>
          </p:nvGrpSpPr>
          <p:grpSpPr>
            <a:xfrm>
              <a:off x="6139440" y="5621400"/>
              <a:ext cx="1439280" cy="714240"/>
              <a:chOff x="6139440" y="5621400"/>
              <a:chExt cx="1439280" cy="714240"/>
            </a:xfrm>
          </p:grpSpPr>
          <p:grpSp>
            <p:nvGrpSpPr>
              <p:cNvPr id="860" name="Group 65"/>
              <p:cNvGrpSpPr/>
              <p:nvPr/>
            </p:nvGrpSpPr>
            <p:grpSpPr>
              <a:xfrm>
                <a:off x="7030800" y="5657760"/>
                <a:ext cx="457200" cy="642600"/>
                <a:chOff x="7030800" y="5657760"/>
                <a:chExt cx="457200" cy="642600"/>
              </a:xfrm>
            </p:grpSpPr>
            <p:grpSp>
              <p:nvGrpSpPr>
                <p:cNvPr id="861" name="Group 61"/>
                <p:cNvGrpSpPr/>
                <p:nvPr/>
              </p:nvGrpSpPr>
              <p:grpSpPr>
                <a:xfrm>
                  <a:off x="7072560" y="5657760"/>
                  <a:ext cx="335880" cy="642600"/>
                  <a:chOff x="7072560" y="5657760"/>
                  <a:chExt cx="335880" cy="642600"/>
                </a:xfrm>
              </p:grpSpPr>
              <p:sp>
                <p:nvSpPr>
                  <p:cNvPr id="862" name="Rectangle 62"/>
                  <p:cNvSpPr/>
                  <p:nvPr/>
                </p:nvSpPr>
                <p:spPr>
                  <a:xfrm>
                    <a:off x="7072560" y="5657760"/>
                    <a:ext cx="3207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63"/>
                  <p:cNvSpPr/>
                  <p:nvPr/>
                </p:nvSpPr>
                <p:spPr>
                  <a:xfrm>
                    <a:off x="7103520" y="600156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4" name="AutoShape 64"/>
                <p:cNvSpPr/>
                <p:nvPr/>
              </p:nvSpPr>
              <p:spPr>
                <a:xfrm>
                  <a:off x="7030800" y="5681160"/>
                  <a:ext cx="457200" cy="596160"/>
                </a:xfrm>
                <a:prstGeom prst="bracketPair">
                  <a:avLst>
                    <a:gd name="adj" fmla="val 17129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67"/>
              <p:cNvGrpSpPr/>
              <p:nvPr/>
            </p:nvGrpSpPr>
            <p:grpSpPr>
              <a:xfrm>
                <a:off x="6139440" y="5657760"/>
                <a:ext cx="358920" cy="642600"/>
                <a:chOff x="6139440" y="5657760"/>
                <a:chExt cx="358920" cy="642600"/>
              </a:xfrm>
            </p:grpSpPr>
            <p:sp>
              <p:nvSpPr>
                <p:cNvPr id="866" name="Rectangle 59"/>
                <p:cNvSpPr/>
                <p:nvPr/>
              </p:nvSpPr>
              <p:spPr>
                <a:xfrm>
                  <a:off x="6139440" y="5657760"/>
                  <a:ext cx="358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6"/>
                <p:cNvSpPr/>
                <p:nvPr/>
              </p:nvSpPr>
              <p:spPr>
                <a:xfrm>
                  <a:off x="6167520" y="5976360"/>
                  <a:ext cx="291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8" name="Freeform 70"/>
              <p:cNvSpPr/>
              <p:nvPr/>
            </p:nvSpPr>
            <p:spPr>
              <a:xfrm>
                <a:off x="7486560" y="5621400"/>
                <a:ext cx="92160" cy="714240"/>
              </a:xfrm>
              <a:custGeom>
                <a:avLst/>
                <a:gdLst/>
                <a:ahLst/>
                <a:rect l="l" t="t" r="r" b="b"/>
                <a:pathLst>
                  <a:path w="58" h="496">
                    <a:moveTo>
                      <a:pt x="2" y="0"/>
                    </a:moveTo>
                    <a:lnTo>
                      <a:pt x="58" y="0"/>
                    </a:lnTo>
                    <a:lnTo>
                      <a:pt x="58" y="496"/>
                    </a:lnTo>
                    <a:lnTo>
                      <a:pt x="0" y="49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71"/>
              <p:cNvSpPr/>
              <p:nvPr/>
            </p:nvSpPr>
            <p:spPr>
              <a:xfrm flipH="1">
                <a:off x="6550920" y="5621400"/>
                <a:ext cx="91800" cy="714240"/>
              </a:xfrm>
              <a:custGeom>
                <a:avLst/>
                <a:gdLst/>
                <a:ahLst/>
                <a:rect l="l" t="t" r="r" b="b"/>
                <a:pathLst>
                  <a:path w="58" h="496">
                    <a:moveTo>
                      <a:pt x="2" y="0"/>
                    </a:moveTo>
                    <a:lnTo>
                      <a:pt x="58" y="0"/>
                    </a:lnTo>
                    <a:lnTo>
                      <a:pt x="58" y="496"/>
                    </a:lnTo>
                    <a:lnTo>
                      <a:pt x="0" y="49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75"/>
            <p:cNvGrpSpPr/>
            <p:nvPr/>
          </p:nvGrpSpPr>
          <p:grpSpPr>
            <a:xfrm>
              <a:off x="2564280" y="5616720"/>
              <a:ext cx="2898000" cy="724680"/>
              <a:chOff x="2564280" y="5616720"/>
              <a:chExt cx="2898000" cy="724680"/>
            </a:xfrm>
          </p:grpSpPr>
          <p:sp>
            <p:nvSpPr>
              <p:cNvPr id="871" name="Rectangle 73"/>
              <p:cNvSpPr/>
              <p:nvPr/>
            </p:nvSpPr>
            <p:spPr>
              <a:xfrm>
                <a:off x="2564280" y="5616720"/>
                <a:ext cx="289800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aximum inventory lev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1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74"/>
              <p:cNvSpPr/>
              <p:nvPr/>
            </p:nvSpPr>
            <p:spPr>
              <a:xfrm>
                <a:off x="2629080" y="6007320"/>
                <a:ext cx="276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3" name="Rectangle 2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3"/>
          <p:cNvSpPr/>
          <p:nvPr/>
        </p:nvSpPr>
        <p:spPr>
          <a:xfrm>
            <a:off x="487440" y="1951200"/>
            <a:ext cx="795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ieces per 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produc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 cost per unit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demand/usa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53"/>
          <p:cNvSpPr/>
          <p:nvPr/>
        </p:nvSpPr>
        <p:spPr>
          <a:xfrm>
            <a:off x="2225520" y="2952720"/>
            <a:ext cx="4740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r" pos="2197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tup cost 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D/Q)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r" pos="21970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lding cost 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/2 HQ[1 - (d/p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4"/>
          <p:cNvSpPr/>
          <p:nvPr/>
        </p:nvSpPr>
        <p:spPr>
          <a:xfrm>
            <a:off x="2714400" y="411624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/Q)S = 1/2 HQ[1 - (d/p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59"/>
          <p:cNvGrpSpPr/>
          <p:nvPr/>
        </p:nvGrpSpPr>
        <p:grpSpPr>
          <a:xfrm>
            <a:off x="3322800" y="4675320"/>
            <a:ext cx="2534040" cy="825480"/>
            <a:chOff x="3322800" y="4675320"/>
            <a:chExt cx="2534040" cy="825480"/>
          </a:xfrm>
        </p:grpSpPr>
        <p:sp>
          <p:nvSpPr>
            <p:cNvPr id="878" name="Rectangle 55"/>
            <p:cNvSpPr/>
            <p:nvPr/>
          </p:nvSpPr>
          <p:spPr>
            <a:xfrm>
              <a:off x="3322800" y="4878360"/>
              <a:ext cx="78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9" name="Group 58"/>
            <p:cNvGrpSpPr/>
            <p:nvPr/>
          </p:nvGrpSpPr>
          <p:grpSpPr>
            <a:xfrm>
              <a:off x="4149000" y="4675320"/>
              <a:ext cx="1707840" cy="825480"/>
              <a:chOff x="4149000" y="4675320"/>
              <a:chExt cx="1707840" cy="825480"/>
            </a:xfrm>
          </p:grpSpPr>
          <p:sp>
            <p:nvSpPr>
              <p:cNvPr id="880" name="Rectangle 56"/>
              <p:cNvSpPr/>
              <p:nvPr/>
            </p:nvSpPr>
            <p:spPr>
              <a:xfrm>
                <a:off x="4149000" y="4675320"/>
                <a:ext cx="1707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[1 - (d/p)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57"/>
              <p:cNvSpPr/>
              <p:nvPr/>
            </p:nvSpPr>
            <p:spPr>
              <a:xfrm>
                <a:off x="4216320" y="5092560"/>
                <a:ext cx="158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2" name="Group 66"/>
          <p:cNvGrpSpPr/>
          <p:nvPr/>
        </p:nvGrpSpPr>
        <p:grpSpPr>
          <a:xfrm>
            <a:off x="3315960" y="5665680"/>
            <a:ext cx="2843640" cy="825480"/>
            <a:chOff x="3315960" y="5665680"/>
            <a:chExt cx="2843640" cy="825480"/>
          </a:xfrm>
        </p:grpSpPr>
        <p:sp>
          <p:nvSpPr>
            <p:cNvPr id="883" name="Rectangle 61"/>
            <p:cNvSpPr/>
            <p:nvPr/>
          </p:nvSpPr>
          <p:spPr>
            <a:xfrm>
              <a:off x="3315960" y="5869080"/>
              <a:ext cx="8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Q*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Group 62"/>
            <p:cNvGrpSpPr/>
            <p:nvPr/>
          </p:nvGrpSpPr>
          <p:grpSpPr>
            <a:xfrm>
              <a:off x="4339440" y="5665680"/>
              <a:ext cx="1707840" cy="825480"/>
              <a:chOff x="4339440" y="5665680"/>
              <a:chExt cx="1707840" cy="825480"/>
            </a:xfrm>
          </p:grpSpPr>
          <p:sp>
            <p:nvSpPr>
              <p:cNvPr id="885" name="Rectangle 63"/>
              <p:cNvSpPr/>
              <p:nvPr/>
            </p:nvSpPr>
            <p:spPr>
              <a:xfrm>
                <a:off x="4339440" y="5665680"/>
                <a:ext cx="1707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H[1 - (d/p)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64"/>
              <p:cNvSpPr/>
              <p:nvPr/>
            </p:nvSpPr>
            <p:spPr>
              <a:xfrm>
                <a:off x="4406760" y="6082920"/>
                <a:ext cx="1587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Freeform 65"/>
            <p:cNvSpPr/>
            <p:nvPr/>
          </p:nvSpPr>
          <p:spPr>
            <a:xfrm>
              <a:off x="4140360" y="5715000"/>
              <a:ext cx="2019240" cy="736560"/>
            </a:xfrm>
            <a:custGeom>
              <a:avLst/>
              <a:gdLst/>
              <a:ahLst/>
              <a:rect l="l" t="t" r="r" b="b"/>
              <a:pathLst>
                <a:path w="1272" h="464">
                  <a:moveTo>
                    <a:pt x="0" y="352"/>
                  </a:moveTo>
                  <a:lnTo>
                    <a:pt x="64" y="304"/>
                  </a:lnTo>
                  <a:lnTo>
                    <a:pt x="80" y="464"/>
                  </a:lnTo>
                  <a:lnTo>
                    <a:pt x="160" y="0"/>
                  </a:lnTo>
                  <a:lnTo>
                    <a:pt x="12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3"/>
          <p:cNvSpPr/>
          <p:nvPr/>
        </p:nvSpPr>
        <p:spPr>
          <a:xfrm>
            <a:off x="792000" y="1938240"/>
            <a:ext cx="754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000 un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unit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units pe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200"/>
                <a:tab algn="l" pos="762120"/>
                <a:tab algn="r" pos="4863960"/>
                <a:tab algn="l" pos="495288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0.50 per unit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11"/>
          <p:cNvGrpSpPr/>
          <p:nvPr/>
        </p:nvGrpSpPr>
        <p:grpSpPr>
          <a:xfrm>
            <a:off x="2248920" y="3481560"/>
            <a:ext cx="2843640" cy="825480"/>
            <a:chOff x="2248920" y="3481560"/>
            <a:chExt cx="2843640" cy="825480"/>
          </a:xfrm>
        </p:grpSpPr>
        <p:sp>
          <p:nvSpPr>
            <p:cNvPr id="892" name="Rectangle 12"/>
            <p:cNvSpPr/>
            <p:nvPr/>
          </p:nvSpPr>
          <p:spPr>
            <a:xfrm>
              <a:off x="2248920" y="3684600"/>
              <a:ext cx="8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*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Group 13"/>
            <p:cNvGrpSpPr/>
            <p:nvPr/>
          </p:nvGrpSpPr>
          <p:grpSpPr>
            <a:xfrm>
              <a:off x="3305880" y="3481560"/>
              <a:ext cx="1640880" cy="825480"/>
              <a:chOff x="3305880" y="3481560"/>
              <a:chExt cx="1640880" cy="825480"/>
            </a:xfrm>
          </p:grpSpPr>
          <p:sp>
            <p:nvSpPr>
              <p:cNvPr id="894" name="Rectangle 14"/>
              <p:cNvSpPr/>
              <p:nvPr/>
            </p:nvSpPr>
            <p:spPr>
              <a:xfrm>
                <a:off x="3305880" y="3481560"/>
                <a:ext cx="1640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[1 - (d/p)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5"/>
              <p:cNvSpPr/>
              <p:nvPr/>
            </p:nvSpPr>
            <p:spPr>
              <a:xfrm>
                <a:off x="3339720" y="3898800"/>
                <a:ext cx="1587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Freeform 16"/>
            <p:cNvSpPr/>
            <p:nvPr/>
          </p:nvSpPr>
          <p:spPr>
            <a:xfrm>
              <a:off x="3073320" y="3530520"/>
              <a:ext cx="2019240" cy="736200"/>
            </a:xfrm>
            <a:custGeom>
              <a:avLst/>
              <a:gdLst/>
              <a:ahLst/>
              <a:rect l="l" t="t" r="r" b="b"/>
              <a:pathLst>
                <a:path w="1272" h="464">
                  <a:moveTo>
                    <a:pt x="0" y="352"/>
                  </a:moveTo>
                  <a:lnTo>
                    <a:pt x="64" y="304"/>
                  </a:lnTo>
                  <a:lnTo>
                    <a:pt x="80" y="464"/>
                  </a:lnTo>
                  <a:lnTo>
                    <a:pt x="160" y="0"/>
                  </a:lnTo>
                  <a:lnTo>
                    <a:pt x="1272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26"/>
          <p:cNvGrpSpPr/>
          <p:nvPr/>
        </p:nvGrpSpPr>
        <p:grpSpPr>
          <a:xfrm>
            <a:off x="2257200" y="4603680"/>
            <a:ext cx="4982760" cy="1572480"/>
            <a:chOff x="2257200" y="4603680"/>
            <a:chExt cx="4982760" cy="1572480"/>
          </a:xfrm>
        </p:grpSpPr>
        <p:sp>
          <p:nvSpPr>
            <p:cNvPr id="898" name="Rectangle 23"/>
            <p:cNvSpPr/>
            <p:nvPr/>
          </p:nvSpPr>
          <p:spPr>
            <a:xfrm>
              <a:off x="2706480" y="5716440"/>
              <a:ext cx="33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282.8 or 283 hubc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9" name="Group 25"/>
            <p:cNvGrpSpPr/>
            <p:nvPr/>
          </p:nvGrpSpPr>
          <p:grpSpPr>
            <a:xfrm>
              <a:off x="2257200" y="4603680"/>
              <a:ext cx="4982760" cy="971640"/>
              <a:chOff x="2257200" y="4603680"/>
              <a:chExt cx="4982760" cy="971640"/>
            </a:xfrm>
          </p:grpSpPr>
          <p:sp>
            <p:nvSpPr>
              <p:cNvPr id="900" name="Rectangle 18"/>
              <p:cNvSpPr/>
              <p:nvPr/>
            </p:nvSpPr>
            <p:spPr>
              <a:xfrm>
                <a:off x="2257200" y="4865400"/>
                <a:ext cx="498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Q* =                               =     80,0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20"/>
              <p:cNvSpPr/>
              <p:nvPr/>
            </p:nvSpPr>
            <p:spPr>
              <a:xfrm>
                <a:off x="3312000" y="4603680"/>
                <a:ext cx="201420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(1,000)(10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50[1 - (4/8)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21"/>
              <p:cNvSpPr/>
              <p:nvPr/>
            </p:nvSpPr>
            <p:spPr>
              <a:xfrm>
                <a:off x="3377880" y="5130720"/>
                <a:ext cx="19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3073320" y="4673520"/>
                <a:ext cx="2286000" cy="825480"/>
              </a:xfrm>
              <a:custGeom>
                <a:avLst/>
                <a:gdLst/>
                <a:ahLst/>
                <a:rect l="l" t="t" r="r" b="b"/>
                <a:pathLst>
                  <a:path w="1440" h="520">
                    <a:moveTo>
                      <a:pt x="0" y="394"/>
                    </a:moveTo>
                    <a:lnTo>
                      <a:pt x="64" y="341"/>
                    </a:lnTo>
                    <a:lnTo>
                      <a:pt x="80" y="520"/>
                    </a:lnTo>
                    <a:lnTo>
                      <a:pt x="160" y="0"/>
                    </a:lnTo>
                    <a:lnTo>
                      <a:pt x="144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4"/>
              <p:cNvSpPr/>
              <p:nvPr/>
            </p:nvSpPr>
            <p:spPr>
              <a:xfrm>
                <a:off x="5943240" y="4914720"/>
                <a:ext cx="1168560" cy="330120"/>
              </a:xfrm>
              <a:custGeom>
                <a:avLst/>
                <a:gdLst/>
                <a:ahLst/>
                <a:rect l="l" t="t" r="r" b="b"/>
                <a:pathLst>
                  <a:path w="736" h="208">
                    <a:moveTo>
                      <a:pt x="0" y="144"/>
                    </a:moveTo>
                    <a:lnTo>
                      <a:pt x="40" y="120"/>
                    </a:lnTo>
                    <a:lnTo>
                      <a:pt x="64" y="208"/>
                    </a:lnTo>
                    <a:lnTo>
                      <a:pt x="120" y="0"/>
                    </a:lnTo>
                    <a:lnTo>
                      <a:pt x="73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tion Order Quantity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685800" y="1511280"/>
            <a:ext cx="7772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ovilsky Manufacturing Company, in Hayward. California. makes flashing lights for toys. The company operates its production facil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 days per 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t has orders for abo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,000 flashing lights per ye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has the capability of produc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per d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ting up the light production costs $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of each light is $1 The holding cost is $0.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light per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What is the optimal size of the production r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What is the average holding cost per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What is the average setup cost per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What is the total cost per year, including the cost of the ligh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Screen Shot 2015-11-14 at 10.45.40 PM.png"/>
          <p:cNvPicPr/>
          <p:nvPr/>
        </p:nvPicPr>
        <p:blipFill>
          <a:blip r:embed="rId1"/>
          <a:stretch/>
        </p:blipFill>
        <p:spPr>
          <a:xfrm>
            <a:off x="685800" y="1432080"/>
            <a:ext cx="56768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1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2" descr="Screen Shot 2015-11-14 at 10.46.16 PM.png"/>
          <p:cNvPicPr/>
          <p:nvPr/>
        </p:nvPicPr>
        <p:blipFill>
          <a:blip r:embed="rId1"/>
          <a:stretch/>
        </p:blipFill>
        <p:spPr>
          <a:xfrm>
            <a:off x="685800" y="1384200"/>
            <a:ext cx="6467400" cy="500544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5" descr="Screen Shot 2015-11-14 at 10.48.39 PM.png"/>
          <p:cNvPicPr/>
          <p:nvPr/>
        </p:nvPicPr>
        <p:blipFill>
          <a:blip r:embed="rId2"/>
          <a:stretch/>
        </p:blipFill>
        <p:spPr>
          <a:xfrm>
            <a:off x="7153200" y="1166760"/>
            <a:ext cx="1936800" cy="231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Mod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57200" y="1536840"/>
            <a:ext cx="822960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prices are often available when larger quantities are purch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-off is between reduced product cost and increased hold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717480" y="3809880"/>
          <a:ext cx="7842240" cy="1960560"/>
        </p:xfrm>
        <a:graphic>
          <a:graphicData uri="http://schemas.openxmlformats.org/drawingml/2006/table">
            <a:tbl>
              <a:tblPr/>
              <a:tblGrid>
                <a:gridCol w="1492200"/>
                <a:gridCol w="393840"/>
                <a:gridCol w="2432160"/>
                <a:gridCol w="1942920"/>
                <a:gridCol w="1581120"/>
              </a:tblGrid>
              <a:tr h="33840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ABLE 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Quantity Discount Schedu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PRICE (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to 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is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 to 1,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 and 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Mod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Object 103"/>
              <p:cNvSpPr txBox="1"/>
              <p:nvPr/>
            </p:nvSpPr>
            <p:spPr>
              <a:xfrm>
                <a:off x="3778200" y="4419720"/>
                <a:ext cx="13334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18" name="Rectangle 4"/>
          <p:cNvSpPr/>
          <p:nvPr/>
        </p:nvSpPr>
        <p:spPr>
          <a:xfrm>
            <a:off x="937440" y="1595520"/>
            <a:ext cx="70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annual cost = Setup cost + Holding cost + Produc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Object 104"/>
              <p:cNvSpPr txBox="1"/>
              <p:nvPr/>
            </p:nvSpPr>
            <p:spPr>
              <a:xfrm>
                <a:off x="3213000" y="2254320"/>
                <a:ext cx="2718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0" name="TextBox 10"/>
          <p:cNvSpPr/>
          <p:nvPr/>
        </p:nvSpPr>
        <p:spPr>
          <a:xfrm>
            <a:off x="902520" y="3213000"/>
            <a:ext cx="740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r" pos="990720"/>
                <a:tab algn="l" pos="1079640"/>
                <a:tab algn="r" pos="4305240"/>
                <a:tab algn="l" pos="43941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Quantity ord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Price per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990720"/>
                <a:tab algn="l" pos="1079640"/>
                <a:tab algn="r" pos="4305240"/>
                <a:tab algn="l" pos="43941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Annual demand in uni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Holding cost per unit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990720"/>
                <a:tab algn="l" pos="1079640"/>
                <a:tab algn="r" pos="4305240"/>
                <a:tab algn="l" pos="43941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Ordering or setup cost per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1"/>
          <p:cNvSpPr/>
          <p:nvPr/>
        </p:nvSpPr>
        <p:spPr>
          <a:xfrm>
            <a:off x="1676520" y="549900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unit price varies, holding cost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expressed as a percent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unit pric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Mod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3"/>
          <p:cNvSpPr/>
          <p:nvPr/>
        </p:nvSpPr>
        <p:spPr>
          <a:xfrm>
            <a:off x="1803240" y="2730600"/>
            <a:ext cx="1098720" cy="5871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88" h="370">
                <a:moveTo>
                  <a:pt x="0" y="0"/>
                </a:moveTo>
                <a:cubicBezTo>
                  <a:pt x="12" y="33"/>
                  <a:pt x="47" y="142"/>
                  <a:pt x="72" y="196"/>
                </a:cubicBezTo>
                <a:cubicBezTo>
                  <a:pt x="97" y="250"/>
                  <a:pt x="119" y="295"/>
                  <a:pt x="152" y="324"/>
                </a:cubicBezTo>
                <a:cubicBezTo>
                  <a:pt x="185" y="353"/>
                  <a:pt x="229" y="366"/>
                  <a:pt x="268" y="368"/>
                </a:cubicBezTo>
                <a:cubicBezTo>
                  <a:pt x="307" y="370"/>
                  <a:pt x="351" y="361"/>
                  <a:pt x="388" y="336"/>
                </a:cubicBezTo>
                <a:cubicBezTo>
                  <a:pt x="425" y="311"/>
                  <a:pt x="455" y="269"/>
                  <a:pt x="488" y="220"/>
                </a:cubicBezTo>
                <a:cubicBezTo>
                  <a:pt x="521" y="171"/>
                  <a:pt x="567" y="78"/>
                  <a:pt x="588" y="40"/>
                </a:cubicBezTo>
              </a:path>
            </a:pathLst>
          </a:custGeom>
          <a:noFill/>
          <a:ln w="76320">
            <a:solidFill>
              <a:srgbClr val="1750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4"/>
          <p:cNvSpPr/>
          <p:nvPr/>
        </p:nvSpPr>
        <p:spPr>
          <a:xfrm>
            <a:off x="3990960" y="2336760"/>
            <a:ext cx="1063800" cy="132228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670" h="833">
                <a:moveTo>
                  <a:pt x="30" y="780"/>
                </a:moveTo>
                <a:cubicBezTo>
                  <a:pt x="15" y="806"/>
                  <a:pt x="0" y="833"/>
                  <a:pt x="62" y="772"/>
                </a:cubicBezTo>
                <a:cubicBezTo>
                  <a:pt x="124" y="711"/>
                  <a:pt x="301" y="545"/>
                  <a:pt x="402" y="416"/>
                </a:cubicBezTo>
                <a:cubicBezTo>
                  <a:pt x="503" y="287"/>
                  <a:pt x="586" y="143"/>
                  <a:pt x="670" y="0"/>
                </a:cubicBezTo>
              </a:path>
            </a:pathLst>
          </a:custGeom>
          <a:noFill/>
          <a:ln w="76320">
            <a:solidFill>
              <a:srgbClr val="24bd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5"/>
          <p:cNvGrpSpPr/>
          <p:nvPr/>
        </p:nvGrpSpPr>
        <p:grpSpPr>
          <a:xfrm>
            <a:off x="2475720" y="1816200"/>
            <a:ext cx="750600" cy="4189320"/>
            <a:chOff x="2475720" y="1816200"/>
            <a:chExt cx="750600" cy="4189320"/>
          </a:xfrm>
        </p:grpSpPr>
        <p:sp>
          <p:nvSpPr>
            <p:cNvPr id="926" name="Line 6"/>
            <p:cNvSpPr/>
            <p:nvPr/>
          </p:nvSpPr>
          <p:spPr>
            <a:xfrm>
              <a:off x="2857320" y="1816200"/>
              <a:ext cx="0" cy="3784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7"/>
            <p:cNvSpPr/>
            <p:nvPr/>
          </p:nvSpPr>
          <p:spPr>
            <a:xfrm>
              <a:off x="2475720" y="56372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8"/>
          <p:cNvGrpSpPr/>
          <p:nvPr/>
        </p:nvGrpSpPr>
        <p:grpSpPr>
          <a:xfrm>
            <a:off x="3644280" y="1828800"/>
            <a:ext cx="750600" cy="4176720"/>
            <a:chOff x="3644280" y="1828800"/>
            <a:chExt cx="750600" cy="4176720"/>
          </a:xfrm>
        </p:grpSpPr>
        <p:sp>
          <p:nvSpPr>
            <p:cNvPr id="929" name="Line 9"/>
            <p:cNvSpPr/>
            <p:nvPr/>
          </p:nvSpPr>
          <p:spPr>
            <a:xfrm>
              <a:off x="4013280" y="1828800"/>
              <a:ext cx="0" cy="3784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0"/>
            <p:cNvSpPr/>
            <p:nvPr/>
          </p:nvSpPr>
          <p:spPr>
            <a:xfrm>
              <a:off x="3644280" y="563724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11"/>
          <p:cNvGrpSpPr/>
          <p:nvPr/>
        </p:nvGrpSpPr>
        <p:grpSpPr>
          <a:xfrm>
            <a:off x="1173240" y="1790640"/>
            <a:ext cx="6319800" cy="4557600"/>
            <a:chOff x="1173240" y="1790640"/>
            <a:chExt cx="6319800" cy="4557600"/>
          </a:xfrm>
        </p:grpSpPr>
        <p:sp>
          <p:nvSpPr>
            <p:cNvPr id="932" name="Freeform 12"/>
            <p:cNvSpPr/>
            <p:nvPr/>
          </p:nvSpPr>
          <p:spPr>
            <a:xfrm>
              <a:off x="1650960" y="1790640"/>
              <a:ext cx="5842080" cy="3822480"/>
            </a:xfrm>
            <a:custGeom>
              <a:avLst/>
              <a:gdLst>
                <a:gd name="textAreaLeft" fmla="*/ 0 w 5842080"/>
                <a:gd name="textAreaRight" fmla="*/ 5842440 w 5842080"/>
                <a:gd name="textAreaTop" fmla="*/ 0 h 3822480"/>
                <a:gd name="textAreaBottom" fmla="*/ 3822840 h 3822480"/>
              </a:gdLst>
              <a:ahLst/>
              <a:rect l="textAreaLeft" t="textAreaTop" r="textAreaRight" b="textAreaBottom"/>
              <a:pathLst>
                <a:path w="3392" h="2408">
                  <a:moveTo>
                    <a:pt x="8" y="0"/>
                  </a:moveTo>
                  <a:cubicBezTo>
                    <a:pt x="5" y="802"/>
                    <a:pt x="0" y="2408"/>
                    <a:pt x="0" y="2408"/>
                  </a:cubicBezTo>
                  <a:lnTo>
                    <a:pt x="3392" y="2408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3"/>
            <p:cNvSpPr/>
            <p:nvPr/>
          </p:nvSpPr>
          <p:spPr>
            <a:xfrm rot="16200000">
              <a:off x="676440" y="341424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cost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4"/>
            <p:cNvSpPr/>
            <p:nvPr/>
          </p:nvSpPr>
          <p:spPr>
            <a:xfrm>
              <a:off x="1357560" y="563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5"/>
            <p:cNvSpPr/>
            <p:nvPr/>
          </p:nvSpPr>
          <p:spPr>
            <a:xfrm>
              <a:off x="3817440" y="5979960"/>
              <a:ext cx="16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der qua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6"/>
          <p:cNvGrpSpPr/>
          <p:nvPr/>
        </p:nvGrpSpPr>
        <p:grpSpPr>
          <a:xfrm>
            <a:off x="1695600" y="2260440"/>
            <a:ext cx="2393280" cy="1838160"/>
            <a:chOff x="1695600" y="2260440"/>
            <a:chExt cx="2393280" cy="1838160"/>
          </a:xfrm>
        </p:grpSpPr>
        <p:sp>
          <p:nvSpPr>
            <p:cNvPr id="937" name="Freeform 17"/>
            <p:cNvSpPr/>
            <p:nvPr/>
          </p:nvSpPr>
          <p:spPr>
            <a:xfrm>
              <a:off x="2857320" y="2260440"/>
              <a:ext cx="1231560" cy="1633320"/>
            </a:xfrm>
            <a:custGeom>
              <a:avLst/>
              <a:gdLst>
                <a:gd name="textAreaLeft" fmla="*/ 0 w 1231560"/>
                <a:gd name="textAreaRight" fmla="*/ 1231920 w 1231560"/>
                <a:gd name="textAreaTop" fmla="*/ 0 h 1633320"/>
                <a:gd name="textAreaBottom" fmla="*/ 1633680 h 1633320"/>
              </a:gdLst>
              <a:ahLst/>
              <a:rect l="textAreaLeft" t="textAreaTop" r="textAreaRight" b="textAreaBottom"/>
              <a:pathLst>
                <a:path w="776" h="1029">
                  <a:moveTo>
                    <a:pt x="0" y="1029"/>
                  </a:moveTo>
                  <a:cubicBezTo>
                    <a:pt x="23" y="1010"/>
                    <a:pt x="63" y="992"/>
                    <a:pt x="136" y="916"/>
                  </a:cubicBezTo>
                  <a:cubicBezTo>
                    <a:pt x="209" y="840"/>
                    <a:pt x="359" y="677"/>
                    <a:pt x="440" y="572"/>
                  </a:cubicBezTo>
                  <a:cubicBezTo>
                    <a:pt x="522" y="467"/>
                    <a:pt x="568" y="379"/>
                    <a:pt x="624" y="284"/>
                  </a:cubicBezTo>
                  <a:cubicBezTo>
                    <a:pt x="680" y="189"/>
                    <a:pt x="730" y="96"/>
                    <a:pt x="776" y="0"/>
                  </a:cubicBezTo>
                </a:path>
              </a:pathLst>
            </a:custGeom>
            <a:noFill/>
            <a:ln w="76320">
              <a:solidFill>
                <a:srgbClr val="bf09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8"/>
            <p:cNvSpPr/>
            <p:nvPr/>
          </p:nvSpPr>
          <p:spPr>
            <a:xfrm>
              <a:off x="1695600" y="3308040"/>
              <a:ext cx="1174320" cy="790560"/>
            </a:xfrm>
            <a:custGeom>
              <a:avLst/>
              <a:gdLst>
                <a:gd name="textAreaLeft" fmla="*/ 0 w 1174320"/>
                <a:gd name="textAreaRight" fmla="*/ 1174680 w 11743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740" h="498">
                  <a:moveTo>
                    <a:pt x="0" y="0"/>
                  </a:moveTo>
                  <a:cubicBezTo>
                    <a:pt x="70" y="135"/>
                    <a:pt x="141" y="271"/>
                    <a:pt x="215" y="352"/>
                  </a:cubicBezTo>
                  <a:cubicBezTo>
                    <a:pt x="289" y="433"/>
                    <a:pt x="367" y="478"/>
                    <a:pt x="443" y="488"/>
                  </a:cubicBezTo>
                  <a:cubicBezTo>
                    <a:pt x="519" y="498"/>
                    <a:pt x="628" y="436"/>
                    <a:pt x="671" y="412"/>
                  </a:cubicBezTo>
                  <a:cubicBezTo>
                    <a:pt x="714" y="388"/>
                    <a:pt x="726" y="383"/>
                    <a:pt x="740" y="375"/>
                  </a:cubicBezTo>
                </a:path>
              </a:pathLst>
            </a:custGeom>
            <a:noFill/>
            <a:ln w="76320">
              <a:solidFill>
                <a:srgbClr val="bf0922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Group 19"/>
          <p:cNvGrpSpPr/>
          <p:nvPr/>
        </p:nvGrpSpPr>
        <p:grpSpPr>
          <a:xfrm>
            <a:off x="2253240" y="3808440"/>
            <a:ext cx="6557400" cy="916560"/>
            <a:chOff x="2253240" y="3808440"/>
            <a:chExt cx="6557400" cy="916560"/>
          </a:xfrm>
        </p:grpSpPr>
        <p:grpSp>
          <p:nvGrpSpPr>
            <p:cNvPr id="940" name="Group 20"/>
            <p:cNvGrpSpPr/>
            <p:nvPr/>
          </p:nvGrpSpPr>
          <p:grpSpPr>
            <a:xfrm>
              <a:off x="2253240" y="3808440"/>
              <a:ext cx="6557400" cy="916560"/>
              <a:chOff x="2253240" y="3808440"/>
              <a:chExt cx="6557400" cy="916560"/>
            </a:xfrm>
          </p:grpSpPr>
          <p:sp>
            <p:nvSpPr>
              <p:cNvPr id="941" name="Rectangle 21"/>
              <p:cNvSpPr/>
              <p:nvPr/>
            </p:nvSpPr>
            <p:spPr>
              <a:xfrm>
                <a:off x="3146400" y="4217760"/>
                <a:ext cx="5664240" cy="50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Q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* for discount 2 is below the allowable range at point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and must be adjusted upward to 1,000 units at point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Rectangle 22"/>
              <p:cNvSpPr/>
              <p:nvPr/>
            </p:nvSpPr>
            <p:spPr>
              <a:xfrm>
                <a:off x="2253240" y="41130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23"/>
              <p:cNvSpPr/>
              <p:nvPr/>
            </p:nvSpPr>
            <p:spPr>
              <a:xfrm>
                <a:off x="2875680" y="3808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Oval 24"/>
              <p:cNvSpPr/>
              <p:nvPr/>
            </p:nvSpPr>
            <p:spPr>
              <a:xfrm>
                <a:off x="2781360" y="3809880"/>
                <a:ext cx="165240" cy="164520"/>
              </a:xfrm>
              <a:prstGeom prst="ellipse">
                <a:avLst/>
              </a:prstGeom>
              <a:solidFill>
                <a:srgbClr val="bf0922"/>
              </a:solidFill>
              <a:ln w="936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Oval 25"/>
              <p:cNvSpPr/>
              <p:nvPr/>
            </p:nvSpPr>
            <p:spPr>
              <a:xfrm>
                <a:off x="2311560" y="3987720"/>
                <a:ext cx="164880" cy="164520"/>
              </a:xfrm>
              <a:prstGeom prst="ellipse">
                <a:avLst/>
              </a:prstGeom>
              <a:solidFill>
                <a:srgbClr val="bf0922"/>
              </a:solidFill>
              <a:ln w="9360">
                <a:solidFill>
                  <a:srgbClr val="bf0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6" name="Line 26"/>
            <p:cNvSpPr/>
            <p:nvPr/>
          </p:nvSpPr>
          <p:spPr>
            <a:xfrm flipH="1" flipV="1">
              <a:off x="2425320" y="4101480"/>
              <a:ext cx="762120" cy="24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27"/>
          <p:cNvGrpSpPr/>
          <p:nvPr/>
        </p:nvGrpSpPr>
        <p:grpSpPr>
          <a:xfrm>
            <a:off x="1685880" y="4992840"/>
            <a:ext cx="1111320" cy="543960"/>
            <a:chOff x="1685880" y="4992840"/>
            <a:chExt cx="1111320" cy="543960"/>
          </a:xfrm>
        </p:grpSpPr>
        <p:sp>
          <p:nvSpPr>
            <p:cNvPr id="948" name="Rectangle 28"/>
            <p:cNvSpPr/>
            <p:nvPr/>
          </p:nvSpPr>
          <p:spPr>
            <a:xfrm>
              <a:off x="1685880" y="4992840"/>
              <a:ext cx="111132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st price bre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29"/>
            <p:cNvSpPr/>
            <p:nvPr/>
          </p:nvSpPr>
          <p:spPr>
            <a:xfrm>
              <a:off x="2374920" y="5321160"/>
              <a:ext cx="37332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30"/>
          <p:cNvGrpSpPr/>
          <p:nvPr/>
        </p:nvGrpSpPr>
        <p:grpSpPr>
          <a:xfrm>
            <a:off x="2854440" y="4992840"/>
            <a:ext cx="1164960" cy="543960"/>
            <a:chOff x="2854440" y="4992840"/>
            <a:chExt cx="1164960" cy="543960"/>
          </a:xfrm>
        </p:grpSpPr>
        <p:sp>
          <p:nvSpPr>
            <p:cNvPr id="951" name="Rectangle 31"/>
            <p:cNvSpPr/>
            <p:nvPr/>
          </p:nvSpPr>
          <p:spPr>
            <a:xfrm>
              <a:off x="2854440" y="4992840"/>
              <a:ext cx="11649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nd price brea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32"/>
            <p:cNvSpPr/>
            <p:nvPr/>
          </p:nvSpPr>
          <p:spPr>
            <a:xfrm>
              <a:off x="3555720" y="5321160"/>
              <a:ext cx="372600" cy="2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33"/>
          <p:cNvGrpSpPr/>
          <p:nvPr/>
        </p:nvGrpSpPr>
        <p:grpSpPr>
          <a:xfrm>
            <a:off x="1584360" y="1967040"/>
            <a:ext cx="1378080" cy="1220760"/>
            <a:chOff x="1584360" y="1967040"/>
            <a:chExt cx="1378080" cy="1220760"/>
          </a:xfrm>
        </p:grpSpPr>
        <p:sp>
          <p:nvSpPr>
            <p:cNvPr id="954" name="Rectangle 34"/>
            <p:cNvSpPr/>
            <p:nvPr/>
          </p:nvSpPr>
          <p:spPr>
            <a:xfrm>
              <a:off x="1584360" y="1967040"/>
              <a:ext cx="137808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cost curve for discou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2298960" y="267984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36"/>
          <p:cNvGrpSpPr/>
          <p:nvPr/>
        </p:nvGrpSpPr>
        <p:grpSpPr>
          <a:xfrm>
            <a:off x="4127040" y="1812960"/>
            <a:ext cx="3361320" cy="612360"/>
            <a:chOff x="4127040" y="1812960"/>
            <a:chExt cx="3361320" cy="612360"/>
          </a:xfrm>
        </p:grpSpPr>
        <p:sp>
          <p:nvSpPr>
            <p:cNvPr id="957" name="Rectangle 37"/>
            <p:cNvSpPr/>
            <p:nvPr/>
          </p:nvSpPr>
          <p:spPr>
            <a:xfrm>
              <a:off x="4597920" y="1812960"/>
              <a:ext cx="28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cost curve for discou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38"/>
            <p:cNvSpPr/>
            <p:nvPr/>
          </p:nvSpPr>
          <p:spPr>
            <a:xfrm flipH="1">
              <a:off x="4127040" y="2133360"/>
              <a:ext cx="74916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39"/>
          <p:cNvGrpSpPr/>
          <p:nvPr/>
        </p:nvGrpSpPr>
        <p:grpSpPr>
          <a:xfrm>
            <a:off x="4305240" y="3441600"/>
            <a:ext cx="3234240" cy="473760"/>
            <a:chOff x="4305240" y="3441600"/>
            <a:chExt cx="3234240" cy="473760"/>
          </a:xfrm>
        </p:grpSpPr>
        <p:sp>
          <p:nvSpPr>
            <p:cNvPr id="960" name="Rectangle 40"/>
            <p:cNvSpPr/>
            <p:nvPr/>
          </p:nvSpPr>
          <p:spPr>
            <a:xfrm>
              <a:off x="4649040" y="3578040"/>
              <a:ext cx="28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otal cost curve for discou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41"/>
            <p:cNvSpPr/>
            <p:nvPr/>
          </p:nvSpPr>
          <p:spPr>
            <a:xfrm flipH="1" flipV="1">
              <a:off x="4305240" y="3441600"/>
              <a:ext cx="3686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Rectangle 42"/>
          <p:cNvSpPr/>
          <p:nvPr/>
        </p:nvSpPr>
        <p:spPr>
          <a:xfrm>
            <a:off x="7083360" y="59277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"/>
          <p:cNvGrpSpPr/>
          <p:nvPr/>
        </p:nvGrpSpPr>
        <p:grpSpPr>
          <a:xfrm>
            <a:off x="1869120" y="1865160"/>
            <a:ext cx="1041840" cy="3354480"/>
            <a:chOff x="1869120" y="1865160"/>
            <a:chExt cx="1041840" cy="3354480"/>
          </a:xfrm>
        </p:grpSpPr>
        <p:sp>
          <p:nvSpPr>
            <p:cNvPr id="536" name="Rectangle 4"/>
            <p:cNvSpPr/>
            <p:nvPr/>
          </p:nvSpPr>
          <p:spPr>
            <a:xfrm>
              <a:off x="1879560" y="2260440"/>
              <a:ext cx="800280" cy="2959200"/>
            </a:xfrm>
            <a:prstGeom prst="rect">
              <a:avLst/>
            </a:prstGeom>
            <a:solidFill>
              <a:srgbClr val="25589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"/>
            <p:cNvSpPr/>
            <p:nvPr/>
          </p:nvSpPr>
          <p:spPr>
            <a:xfrm>
              <a:off x="1869120" y="186516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I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6"/>
          <p:cNvGrpSpPr/>
          <p:nvPr/>
        </p:nvGrpSpPr>
        <p:grpSpPr>
          <a:xfrm>
            <a:off x="2679840" y="4316400"/>
            <a:ext cx="1752480" cy="903240"/>
            <a:chOff x="2679840" y="4316400"/>
            <a:chExt cx="1752480" cy="903240"/>
          </a:xfrm>
        </p:grpSpPr>
        <p:sp>
          <p:nvSpPr>
            <p:cNvPr id="539" name="Rectangle 7"/>
            <p:cNvSpPr/>
            <p:nvPr/>
          </p:nvSpPr>
          <p:spPr>
            <a:xfrm>
              <a:off x="2679840" y="4711680"/>
              <a:ext cx="1752480" cy="507960"/>
            </a:xfrm>
            <a:prstGeom prst="rect">
              <a:avLst/>
            </a:prstGeom>
            <a:solidFill>
              <a:srgbClr val="f7d7a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8"/>
            <p:cNvSpPr/>
            <p:nvPr/>
          </p:nvSpPr>
          <p:spPr>
            <a:xfrm>
              <a:off x="3000240" y="431640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 I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2"/>
          <p:cNvGrpSpPr/>
          <p:nvPr/>
        </p:nvGrpSpPr>
        <p:grpSpPr>
          <a:xfrm>
            <a:off x="884160" y="1700280"/>
            <a:ext cx="7345440" cy="4450320"/>
            <a:chOff x="884160" y="1700280"/>
            <a:chExt cx="7345440" cy="4450320"/>
          </a:xfrm>
        </p:grpSpPr>
        <p:sp>
          <p:nvSpPr>
            <p:cNvPr id="542" name="Rectangle 16"/>
            <p:cNvSpPr/>
            <p:nvPr/>
          </p:nvSpPr>
          <p:spPr>
            <a:xfrm>
              <a:off x="1954080" y="4996080"/>
              <a:ext cx="591804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ctr" pos="380880"/>
                  <a:tab algn="ctr" pos="952560"/>
                  <a:tab algn="ctr" pos="1523880"/>
                  <a:tab algn="ctr" pos="2095560"/>
                  <a:tab algn="ctr" pos="2666880"/>
                  <a:tab algn="ctr" pos="3238560"/>
                  <a:tab algn="ctr" pos="3809880"/>
                  <a:tab algn="ctr" pos="4381560"/>
                  <a:tab algn="ctr" pos="4952880"/>
                  <a:tab algn="ctr" pos="5524560"/>
                  <a:tab algn="ctr" pos="63882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ctr" pos="380880"/>
                  <a:tab algn="ctr" pos="952560"/>
                  <a:tab algn="ctr" pos="1523880"/>
                  <a:tab algn="ctr" pos="2095560"/>
                  <a:tab algn="ctr" pos="2666880"/>
                  <a:tab algn="ctr" pos="3238560"/>
                  <a:tab algn="ctr" pos="3809880"/>
                  <a:tab algn="ctr" pos="4381560"/>
                  <a:tab algn="ctr" pos="4952880"/>
                  <a:tab algn="ctr" pos="5524560"/>
                  <a:tab algn="ctr" pos="63882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3"/>
            <p:cNvSpPr/>
            <p:nvPr/>
          </p:nvSpPr>
          <p:spPr>
            <a:xfrm rot="16200000">
              <a:off x="-945720" y="3530520"/>
              <a:ext cx="405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centage of annual dollar us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4"/>
            <p:cNvSpPr/>
            <p:nvPr/>
          </p:nvSpPr>
          <p:spPr>
            <a:xfrm>
              <a:off x="1866960" y="1918080"/>
              <a:ext cx="6362640" cy="3314520"/>
            </a:xfrm>
            <a:custGeom>
              <a:avLst/>
              <a:gdLst>
                <a:gd name="textAreaLeft" fmla="*/ 0 w 6362640"/>
                <a:gd name="textAreaRight" fmla="*/ 6363000 w 6362640"/>
                <a:gd name="textAreaTop" fmla="*/ 0 h 3314520"/>
                <a:gd name="textAreaBottom" fmla="*/ 3314880 h 3314520"/>
              </a:gdLst>
              <a:ahLst/>
              <a:rect l="textAreaLeft" t="textAreaTop" r="textAreaRight" b="textAreaBottom"/>
              <a:pathLst>
                <a:path w="4008" h="2080">
                  <a:moveTo>
                    <a:pt x="0" y="0"/>
                  </a:moveTo>
                  <a:lnTo>
                    <a:pt x="0" y="2080"/>
                  </a:lnTo>
                  <a:lnTo>
                    <a:pt x="4008" y="208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1338120" y="2005200"/>
              <a:ext cx="746280" cy="34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7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2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 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7"/>
            <p:cNvSpPr/>
            <p:nvPr/>
          </p:nvSpPr>
          <p:spPr>
            <a:xfrm>
              <a:off x="3063240" y="5751720"/>
              <a:ext cx="354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rcentage of inventory i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18"/>
          <p:cNvSpPr/>
          <p:nvPr/>
        </p:nvSpPr>
        <p:spPr>
          <a:xfrm>
            <a:off x="6953400" y="17334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</a:t>
            </a:r>
            <a:r>
              <a:rPr b="0" lang="en-US" sz="1600" spc="-1" strike="noStrike">
                <a:solidFill>
                  <a:srgbClr val="255898"/>
                </a:solidFill>
                <a:latin typeface="Arial"/>
              </a:rPr>
              <a:t>1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9"/>
          <p:cNvGrpSpPr/>
          <p:nvPr/>
        </p:nvGrpSpPr>
        <p:grpSpPr>
          <a:xfrm>
            <a:off x="4432320" y="4632480"/>
            <a:ext cx="3124080" cy="586800"/>
            <a:chOff x="4432320" y="4632480"/>
            <a:chExt cx="3124080" cy="586800"/>
          </a:xfrm>
        </p:grpSpPr>
        <p:sp>
          <p:nvSpPr>
            <p:cNvPr id="549" name="Rectangle 10"/>
            <p:cNvSpPr/>
            <p:nvPr/>
          </p:nvSpPr>
          <p:spPr>
            <a:xfrm>
              <a:off x="4432320" y="5016240"/>
              <a:ext cx="3124080" cy="203040"/>
            </a:xfrm>
            <a:prstGeom prst="rect">
              <a:avLst/>
            </a:prstGeom>
            <a:solidFill>
              <a:srgbClr val="24bd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1"/>
            <p:cNvSpPr/>
            <p:nvPr/>
          </p:nvSpPr>
          <p:spPr>
            <a:xfrm>
              <a:off x="5378400" y="46324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 I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47560" y="608040"/>
            <a:ext cx="804888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3"/>
          <p:cNvSpPr/>
          <p:nvPr/>
        </p:nvSpPr>
        <p:spPr>
          <a:xfrm>
            <a:off x="550800" y="1754280"/>
            <a:ext cx="562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or every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Group 13"/>
          <p:cNvGrpSpPr/>
          <p:nvPr/>
        </p:nvGrpSpPr>
        <p:grpSpPr>
          <a:xfrm>
            <a:off x="1474920" y="2743200"/>
            <a:ext cx="6275160" cy="1074600"/>
            <a:chOff x="1474920" y="2743200"/>
            <a:chExt cx="6275160" cy="1074600"/>
          </a:xfrm>
        </p:grpSpPr>
        <p:sp>
          <p:nvSpPr>
            <p:cNvPr id="966" name="Rectangle 14"/>
            <p:cNvSpPr/>
            <p:nvPr/>
          </p:nvSpPr>
          <p:spPr>
            <a:xfrm>
              <a:off x="1474920" y="298908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00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5"/>
            <p:cNvSpPr/>
            <p:nvPr/>
          </p:nvSpPr>
          <p:spPr>
            <a:xfrm>
              <a:off x="2441520" y="279396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6"/>
            <p:cNvSpPr/>
            <p:nvPr/>
          </p:nvSpPr>
          <p:spPr>
            <a:xfrm>
              <a:off x="2687400" y="274320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5.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17"/>
            <p:cNvSpPr/>
            <p:nvPr/>
          </p:nvSpPr>
          <p:spPr>
            <a:xfrm>
              <a:off x="2778120" y="334008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18"/>
          <p:cNvGrpSpPr/>
          <p:nvPr/>
        </p:nvGrpSpPr>
        <p:grpSpPr>
          <a:xfrm>
            <a:off x="1474920" y="3981600"/>
            <a:ext cx="6275160" cy="1074600"/>
            <a:chOff x="1474920" y="3981600"/>
            <a:chExt cx="6275160" cy="1074600"/>
          </a:xfrm>
        </p:grpSpPr>
        <p:sp>
          <p:nvSpPr>
            <p:cNvPr id="971" name="Rectangle 19"/>
            <p:cNvSpPr/>
            <p:nvPr/>
          </p:nvSpPr>
          <p:spPr>
            <a:xfrm>
              <a:off x="1474920" y="422748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14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0"/>
            <p:cNvSpPr/>
            <p:nvPr/>
          </p:nvSpPr>
          <p:spPr>
            <a:xfrm>
              <a:off x="2441520" y="403236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21"/>
            <p:cNvSpPr/>
            <p:nvPr/>
          </p:nvSpPr>
          <p:spPr>
            <a:xfrm>
              <a:off x="2687400" y="398160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4.8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2"/>
            <p:cNvSpPr/>
            <p:nvPr/>
          </p:nvSpPr>
          <p:spPr>
            <a:xfrm>
              <a:off x="2778120" y="457848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23"/>
          <p:cNvGrpSpPr/>
          <p:nvPr/>
        </p:nvGrpSpPr>
        <p:grpSpPr>
          <a:xfrm>
            <a:off x="1474920" y="5219640"/>
            <a:ext cx="6275160" cy="1074600"/>
            <a:chOff x="1474920" y="5219640"/>
            <a:chExt cx="6275160" cy="1074600"/>
          </a:xfrm>
        </p:grpSpPr>
        <p:sp>
          <p:nvSpPr>
            <p:cNvPr id="976" name="Rectangle 24"/>
            <p:cNvSpPr/>
            <p:nvPr/>
          </p:nvSpPr>
          <p:spPr>
            <a:xfrm>
              <a:off x="1474920" y="546552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18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5"/>
            <p:cNvSpPr/>
            <p:nvPr/>
          </p:nvSpPr>
          <p:spPr>
            <a:xfrm>
              <a:off x="2441520" y="527040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26"/>
            <p:cNvSpPr/>
            <p:nvPr/>
          </p:nvSpPr>
          <p:spPr>
            <a:xfrm>
              <a:off x="2687400" y="521964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4.7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27"/>
            <p:cNvSpPr/>
            <p:nvPr/>
          </p:nvSpPr>
          <p:spPr>
            <a:xfrm>
              <a:off x="2778120" y="581652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1"/>
          <p:cNvGrpSpPr/>
          <p:nvPr/>
        </p:nvGrpSpPr>
        <p:grpSpPr>
          <a:xfrm>
            <a:off x="6159600" y="1460520"/>
            <a:ext cx="2628720" cy="1346040"/>
            <a:chOff x="6159600" y="1460520"/>
            <a:chExt cx="2628720" cy="1346040"/>
          </a:xfrm>
        </p:grpSpPr>
        <p:sp>
          <p:nvSpPr>
            <p:cNvPr id="981" name="Rectangle 5"/>
            <p:cNvSpPr/>
            <p:nvPr/>
          </p:nvSpPr>
          <p:spPr>
            <a:xfrm>
              <a:off x="6159600" y="1460520"/>
              <a:ext cx="2628720" cy="1346040"/>
            </a:xfrm>
            <a:prstGeom prst="rect">
              <a:avLst/>
            </a:prstGeom>
            <a:solidFill>
              <a:srgbClr val="9fac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2" name="Object 49"/>
                <p:cNvSpPr txBox="1"/>
                <p:nvPr/>
              </p:nvSpPr>
              <p:spPr>
                <a:xfrm>
                  <a:off x="6592680" y="1650960"/>
                  <a:ext cx="175248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Q</m:t>
                          </m:r>
                        </m:e>
                        <m:sup/>
                      </m:sSu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S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IP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47560" y="608040"/>
            <a:ext cx="804888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3"/>
          <p:cNvSpPr/>
          <p:nvPr/>
        </p:nvSpPr>
        <p:spPr>
          <a:xfrm>
            <a:off x="550800" y="1754280"/>
            <a:ext cx="562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for every dis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5"/>
          <p:cNvSpPr/>
          <p:nvPr/>
        </p:nvSpPr>
        <p:spPr>
          <a:xfrm>
            <a:off x="6159600" y="1460520"/>
            <a:ext cx="2628720" cy="1346040"/>
          </a:xfrm>
          <a:prstGeom prst="rect">
            <a:avLst/>
          </a:prstGeom>
          <a:solidFill>
            <a:srgbClr val="9fac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13"/>
          <p:cNvGrpSpPr/>
          <p:nvPr/>
        </p:nvGrpSpPr>
        <p:grpSpPr>
          <a:xfrm>
            <a:off x="1474920" y="2743200"/>
            <a:ext cx="6275160" cy="1074600"/>
            <a:chOff x="1474920" y="2743200"/>
            <a:chExt cx="6275160" cy="1074600"/>
          </a:xfrm>
        </p:grpSpPr>
        <p:sp>
          <p:nvSpPr>
            <p:cNvPr id="987" name="Rectangle 14"/>
            <p:cNvSpPr/>
            <p:nvPr/>
          </p:nvSpPr>
          <p:spPr>
            <a:xfrm>
              <a:off x="1474920" y="298908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00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"/>
            <p:cNvSpPr/>
            <p:nvPr/>
          </p:nvSpPr>
          <p:spPr>
            <a:xfrm>
              <a:off x="2441520" y="279396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16"/>
            <p:cNvSpPr/>
            <p:nvPr/>
          </p:nvSpPr>
          <p:spPr>
            <a:xfrm>
              <a:off x="2687400" y="274320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5.0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7"/>
            <p:cNvSpPr/>
            <p:nvPr/>
          </p:nvSpPr>
          <p:spPr>
            <a:xfrm>
              <a:off x="2778120" y="334008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Group 18"/>
          <p:cNvGrpSpPr/>
          <p:nvPr/>
        </p:nvGrpSpPr>
        <p:grpSpPr>
          <a:xfrm>
            <a:off x="1474920" y="3981600"/>
            <a:ext cx="6275160" cy="1074600"/>
            <a:chOff x="1474920" y="3981600"/>
            <a:chExt cx="6275160" cy="1074600"/>
          </a:xfrm>
        </p:grpSpPr>
        <p:sp>
          <p:nvSpPr>
            <p:cNvPr id="992" name="Rectangle 19"/>
            <p:cNvSpPr/>
            <p:nvPr/>
          </p:nvSpPr>
          <p:spPr>
            <a:xfrm>
              <a:off x="1474920" y="422748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14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0"/>
            <p:cNvSpPr/>
            <p:nvPr/>
          </p:nvSpPr>
          <p:spPr>
            <a:xfrm>
              <a:off x="2441520" y="403236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21"/>
            <p:cNvSpPr/>
            <p:nvPr/>
          </p:nvSpPr>
          <p:spPr>
            <a:xfrm>
              <a:off x="2687400" y="398160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4.8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22"/>
            <p:cNvSpPr/>
            <p:nvPr/>
          </p:nvSpPr>
          <p:spPr>
            <a:xfrm>
              <a:off x="2778120" y="457848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23"/>
          <p:cNvGrpSpPr/>
          <p:nvPr/>
        </p:nvGrpSpPr>
        <p:grpSpPr>
          <a:xfrm>
            <a:off x="1474920" y="5219640"/>
            <a:ext cx="6275160" cy="1074600"/>
            <a:chOff x="1474920" y="5219640"/>
            <a:chExt cx="6275160" cy="1074600"/>
          </a:xfrm>
        </p:grpSpPr>
        <p:sp>
          <p:nvSpPr>
            <p:cNvPr id="997" name="Rectangle 24"/>
            <p:cNvSpPr/>
            <p:nvPr/>
          </p:nvSpPr>
          <p:spPr>
            <a:xfrm>
              <a:off x="1474920" y="5465520"/>
              <a:ext cx="6275160" cy="6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 =                           = 718 cars/ord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5"/>
            <p:cNvSpPr/>
            <p:nvPr/>
          </p:nvSpPr>
          <p:spPr>
            <a:xfrm>
              <a:off x="2441520" y="5270400"/>
              <a:ext cx="2308320" cy="91440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454" h="576">
                  <a:moveTo>
                    <a:pt x="0" y="396"/>
                  </a:moveTo>
                  <a:lnTo>
                    <a:pt x="56" y="344"/>
                  </a:lnTo>
                  <a:lnTo>
                    <a:pt x="108" y="576"/>
                  </a:lnTo>
                  <a:lnTo>
                    <a:pt x="164" y="0"/>
                  </a:lnTo>
                  <a:lnTo>
                    <a:pt x="145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26"/>
            <p:cNvSpPr/>
            <p:nvPr/>
          </p:nvSpPr>
          <p:spPr>
            <a:xfrm>
              <a:off x="2687400" y="5219640"/>
              <a:ext cx="21420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(5,000)(49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.2)(4.7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7"/>
            <p:cNvSpPr/>
            <p:nvPr/>
          </p:nvSpPr>
          <p:spPr>
            <a:xfrm>
              <a:off x="2778120" y="5816520"/>
              <a:ext cx="19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1" name="Object 49"/>
              <p:cNvSpPr txBox="1"/>
              <p:nvPr/>
            </p:nvSpPr>
            <p:spPr>
              <a:xfrm>
                <a:off x="6593040" y="1650960"/>
                <a:ext cx="17524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02" name="Group 28"/>
          <p:cNvGrpSpPr/>
          <p:nvPr/>
        </p:nvGrpSpPr>
        <p:grpSpPr>
          <a:xfrm>
            <a:off x="5118120" y="4343400"/>
            <a:ext cx="3080880" cy="814320"/>
            <a:chOff x="5118120" y="4343400"/>
            <a:chExt cx="3080880" cy="814320"/>
          </a:xfrm>
        </p:grpSpPr>
        <p:sp>
          <p:nvSpPr>
            <p:cNvPr id="1003" name="Rectangle 29"/>
            <p:cNvSpPr/>
            <p:nvPr/>
          </p:nvSpPr>
          <p:spPr>
            <a:xfrm>
              <a:off x="5226480" y="463716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,000 — adjus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30"/>
            <p:cNvSpPr/>
            <p:nvPr/>
          </p:nvSpPr>
          <p:spPr>
            <a:xfrm>
              <a:off x="5118120" y="4343400"/>
              <a:ext cx="876240" cy="343080"/>
            </a:xfrm>
            <a:prstGeom prst="line">
              <a:avLst/>
            </a:prstGeom>
            <a:ln w="7632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31"/>
          <p:cNvGrpSpPr/>
          <p:nvPr/>
        </p:nvGrpSpPr>
        <p:grpSpPr>
          <a:xfrm>
            <a:off x="5130720" y="5600880"/>
            <a:ext cx="3068280" cy="788760"/>
            <a:chOff x="5130720" y="5600880"/>
            <a:chExt cx="3068280" cy="788760"/>
          </a:xfrm>
        </p:grpSpPr>
        <p:sp>
          <p:nvSpPr>
            <p:cNvPr id="1006" name="Rectangle 32"/>
            <p:cNvSpPr/>
            <p:nvPr/>
          </p:nvSpPr>
          <p:spPr>
            <a:xfrm>
              <a:off x="5226480" y="5869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,000 — adjus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33"/>
            <p:cNvSpPr/>
            <p:nvPr/>
          </p:nvSpPr>
          <p:spPr>
            <a:xfrm>
              <a:off x="5130720" y="5600880"/>
              <a:ext cx="876240" cy="342720"/>
            </a:xfrm>
            <a:prstGeom prst="line">
              <a:avLst/>
            </a:prstGeom>
            <a:ln w="76320">
              <a:solidFill>
                <a:srgbClr val="bf09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47560" y="608040"/>
            <a:ext cx="804888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ntity Discount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546120" y="2031840"/>
          <a:ext cx="8051760" cy="1805040"/>
        </p:xfrm>
        <a:graphic>
          <a:graphicData uri="http://schemas.openxmlformats.org/drawingml/2006/table">
            <a:tbl>
              <a:tblPr/>
              <a:tblGrid>
                <a:gridCol w="1181160"/>
                <a:gridCol w="342720"/>
                <a:gridCol w="470160"/>
                <a:gridCol w="1231920"/>
                <a:gridCol w="1155600"/>
                <a:gridCol w="1270080"/>
                <a:gridCol w="1143000"/>
                <a:gridCol w="1257120"/>
              </a:tblGrid>
              <a:tr h="2844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MS PGothic"/>
                        </a:rPr>
                        <a:t>TABLE 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 Computations for Wohl</a:t>
                      </a: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Discount S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OUNT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 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ER QUANT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UAL PRODUCT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UAL ORDERING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UAL HOLDING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</a:tr>
              <a:tr h="284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863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5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863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7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.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r" pos="863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700"/>
                        </a:spcAft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82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0" name="Rectangle 44"/>
          <p:cNvSpPr/>
          <p:nvPr/>
        </p:nvSpPr>
        <p:spPr>
          <a:xfrm>
            <a:off x="1417680" y="4281480"/>
            <a:ext cx="63072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price and quantity that gives the lowest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1,000 units at $4.80 per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45"/>
          <p:cNvSpPr/>
          <p:nvPr/>
        </p:nvSpPr>
        <p:spPr>
          <a:xfrm>
            <a:off x="7201080" y="3184560"/>
            <a:ext cx="1295280" cy="473040"/>
          </a:xfrm>
          <a:prstGeom prst="ellipse">
            <a:avLst/>
          </a:prstGeom>
          <a:noFill/>
          <a:ln w="76320">
            <a:solidFill>
              <a:srgbClr val="d33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2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3"/>
          <p:cNvSpPr/>
          <p:nvPr/>
        </p:nvSpPr>
        <p:spPr>
          <a:xfrm>
            <a:off x="685800" y="15112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380880"/>
                <a:tab algn="l" pos="571680"/>
                <a:tab algn="r" pos="43815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g Distributors has an annual demand for an airport metal detector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400 un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cost of a typical detector to Wang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arrying cost is estimate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of the unit co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ordering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5 per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If Ping Wang, the owner, orders in quantiti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 or more, he can get a 5% discou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cost of the detectors. Should Wang take the quantity dis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2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1" descr="Screen Shot 2015-11-14 at 10.56.57 PM.png"/>
          <p:cNvPicPr/>
          <p:nvPr/>
        </p:nvPicPr>
        <p:blipFill>
          <a:blip r:embed="rId1"/>
          <a:srcRect l="0" t="1879" r="0" b="0"/>
          <a:stretch/>
        </p:blipFill>
        <p:spPr>
          <a:xfrm>
            <a:off x="685800" y="1490760"/>
            <a:ext cx="685476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863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12.2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2" descr="Screen Shot 2015-11-14 at 10.58.08 PM.png"/>
          <p:cNvPicPr/>
          <p:nvPr/>
        </p:nvPicPr>
        <p:blipFill>
          <a:blip r:embed="rId1"/>
          <a:stretch/>
        </p:blipFill>
        <p:spPr>
          <a:xfrm>
            <a:off x="776160" y="1384200"/>
            <a:ext cx="6129360" cy="50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Analy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riteria than annual dollar volume may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hortage or holding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d engineering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556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cle Coun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282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are counted and records updated on a periodic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with ABC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several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shutdowns and inter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annual inventory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d personnel audit inventory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causes of errors to be identified and corr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Aft>
                <a:spcPts val="1400"/>
              </a:spcAft>
              <a:buClr>
                <a:srgbClr val="bf0922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accurate inventory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82760"/>
            <a:ext cx="7772400" cy="86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ycle Counting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789120" y="1616040"/>
            <a:ext cx="75643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000 items in inventory, 500 A items, 1,750 B items, 2,750 C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is to count A items every month (20 working days), B items every quarter (60 days), and C items every six months (12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797040" y="3416400"/>
          <a:ext cx="7467480" cy="2568600"/>
        </p:xfrm>
        <a:graphic>
          <a:graphicData uri="http://schemas.openxmlformats.org/drawingml/2006/table">
            <a:tbl>
              <a:tblPr/>
              <a:tblGrid>
                <a:gridCol w="1019160"/>
                <a:gridCol w="1485720"/>
                <a:gridCol w="2070360"/>
                <a:gridCol w="1612800"/>
                <a:gridCol w="1028520"/>
                <a:gridCol w="250920"/>
              </a:tblGrid>
              <a:tr h="7905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TEM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YCLE COUNTING 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UMBER OF ITEMS COUNTED PER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solidFill>
                      <a:srgbClr val="d3332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ach 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/20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ach 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,750/60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9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,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very 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,750/120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3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fbfbf"/>
                      </a:solidFill>
                    </a:lnL>
                    <a:lnR>
                      <a:noFill/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7/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Aft>
                          <a:spcPts val="9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fbfb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tory Mode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33320"/>
                </a:solidFill>
                <a:latin typeface="Arial"/>
              </a:rPr>
              <a:t>Holding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costs of holding 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entory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33320"/>
                </a:solidFill>
                <a:latin typeface="Arial"/>
              </a:rPr>
              <a:t>Ordering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costs of placing an order and receiv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33320"/>
                </a:solidFill>
                <a:latin typeface="Arial"/>
              </a:rPr>
              <a:t>Setup co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st to prepare a machine or process for manufacturing a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highly correlated with </a:t>
            </a:r>
            <a:r>
              <a:rPr b="1" lang="en-US" sz="2800" spc="-1" strike="noStrike">
                <a:solidFill>
                  <a:srgbClr val="255898"/>
                </a:solidFill>
                <a:latin typeface="Arial"/>
              </a:rPr>
              <a:t>setu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d33320"/>
              </a:buClr>
              <a:buFont typeface="Arial Unicode MS"/>
              <a:buChar char="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ventory Models for Independent De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511280" y="1943280"/>
            <a:ext cx="61214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d33320"/>
                </a:solidFill>
                <a:latin typeface="Arial"/>
              </a:rPr>
              <a:t>Need to determine when and how much to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1204920" y="3370320"/>
            <a:ext cx="673416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Aft>
                <a:spcPts val="15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economic order quantity (EOQ)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15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order quant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Aft>
                <a:spcPts val="1599"/>
              </a:spcAft>
              <a:buClr>
                <a:srgbClr val="d3332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y discou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33:31Z</dcterms:created>
  <dc:creator>Jeff Heyl</dc:creator>
  <dc:description/>
  <cp:keywords/>
  <dc:language>en-US</dc:language>
  <cp:lastModifiedBy>Moaad</cp:lastModifiedBy>
  <dcterms:modified xsi:type="dcterms:W3CDTF">2015-11-14T20:07:24Z</dcterms:modified>
  <cp:revision>684</cp:revision>
  <dc:subject>Chapter 12 - Inventory Management</dc:subject>
  <dc:title>Heizer/Render 11e</dc:title>
</cp:coreProperties>
</file>