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FF78-6AEF-445C-BC4C-AD0F213861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BC7FB-8C6D-4297-ADF7-D9B828D9AE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panic Americans are younger: In 2006, when almost 34% of Hispanics were under 18 years of age, only 25% of the U.S. population was under 18. The median age for Hispanics is 27 years of age, whereas the median age for all of America is 36 years. Hispanic Americans have larger families, and many live in extended family households consisting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generations of family members. Hispanic households have more children than black or non-Hispanic American white families that contain children, and spend more time caring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7% live in the 7 states that have a Hispanic population of 1 million or more (California, Texas, New York, Flor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linois, Arizona, and New Jersey).  Still further, while Hispanics represented 42% of New Mexico’s total population, the highest percentage of any state, some counties in North Carolina, Georgia, Iowa, Arkansas, Minnesota, and Nebraska are between 6 and 25% Hispan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12 distinct Hispanic subgroups - The three largest Hispanic subcultural groups are Mexican Americans (about 67% of America’s Latinos), Puerto Ricans (8%), and Cubans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panic consumers have a strong preference for well-established brands, and traditionally prefer to shop at smaller stores. However, as Hispanics acculturate, they become less brand loyal and shop differently than they used to. </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1B2BF-59E6-4E69-8BA7-9BA9C7B097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appeals to the unique identity and ancestry of Hispanics and creates a bond between the legacy of Jeep and the Hispanic subculture.</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E1BC-0363-4476-9F4C-9FA605AA16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interesting consumption patterns include a preference for brand names and more spending on hair care, telephone services and clothing than other segments. Because of the importance of “black media” to African American consumers, many marketers supplement their general advertising expenditures with ads placed in magazines, newspapers, and other media directed specifically to African Americans.</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1312-D45F-4D55-8E8B-62549D42F9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Asian</a:t>
            </a:r>
            <a:r>
              <a:rPr b="0" lang="en-US" sz="1200" spc="-1" strike="noStrike">
                <a:solidFill>
                  <a:srgbClr val="000000"/>
                </a:solidFill>
                <a:latin typeface="Calibri"/>
              </a:rPr>
              <a:t> market is a challenge for marketers because it is so diverse and there are so many languages spoken.  It is hard to determine whether to run an ad to this target in their native language or in Engl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must take into account ethnicities’ media usage patterns. One study showed discovered pronounced differences in TV viewing.</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BCCB-8C3E-4137-8077-E9B32EDC72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12.1 indicates that there are significant differences among Anglo-white, African American, and Hispanic American consumers in the purchase, ownership, and use of several product categories. These findings support the value of using nationality and ethnicity as segmentation bases.</a:t>
            </a: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1F99-3DFF-4781-95C6-E65A01BB5D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reportedly has more than 200 different organized religious affiliations (or subcultures).  Of this number, Protestant denominations, Roman Catholicism, Islam, and Judaism are the principal organized religious faiths. The members of all these religious groups at times are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 decisions that are influenced by their religious identity. Commonly, consumer behavior is directly affected by religion in terms of products that are symbolically and ritualistically associated with the celebration of various religious holidays.</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7E2F-6CF3-40F2-A681-AA715EF0EC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rn-again Christians are the fastest-growing religious affiliation in America (they make up about 72 million of the 235 million Christians in the United States). From a marketer’s perspective, born-again Christians are fiercely loyal to a brand that supports their causes and view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of Jewish consumers found no significant differences with respect to brand loyalty and word-of-mouth between American Jews and non-Jews. Religious requirements or practices do, however, sometimes take on an expanded meaning. The </a:t>
            </a:r>
            <a:r>
              <a:rPr b="0" i="1" lang="en-US" sz="1200" spc="-1" strike="noStrike">
                <a:solidFill>
                  <a:srgbClr val="000000"/>
                </a:solidFill>
                <a:latin typeface="Calibri"/>
              </a:rPr>
              <a:t>U </a:t>
            </a:r>
            <a:r>
              <a:rPr b="0" lang="en-US" sz="1200" spc="-1" strike="noStrike">
                <a:solidFill>
                  <a:srgbClr val="000000"/>
                </a:solidFill>
                <a:latin typeface="Calibri"/>
              </a:rPr>
              <a:t>and </a:t>
            </a:r>
            <a:r>
              <a:rPr b="0" i="1" lang="en-US" sz="1200" spc="-1" strike="noStrike">
                <a:solidFill>
                  <a:srgbClr val="000000"/>
                </a:solidFill>
                <a:latin typeface="Calibri"/>
              </a:rPr>
              <a:t>K </a:t>
            </a:r>
            <a:r>
              <a:rPr b="0" lang="en-US" sz="1200" spc="-1" strike="noStrike">
                <a:solidFill>
                  <a:srgbClr val="000000"/>
                </a:solidFill>
                <a:latin typeface="Calibri"/>
              </a:rPr>
              <a:t>marks on food packaging are symbols that the food meets Jewish dietary laws.</a:t>
            </a: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EFF7F-77FB-404A-AA36-31A4D670DE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ted States is a large country, one that includes a wide range of climatic and geographic conditions.  Given the country’s size and physical diversity, it is only natural that many Americans have a sense of “regional identification” when comparing and describing themselves to others.</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A2109-3AC6-40E9-A162-FAE2CB25C9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New Y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energy dri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frozen yog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York metropolitan area ranked first in ordering anything from catalog, mail order, phone, and use of Internet for shopp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Bos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massage past six mon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frozen piz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oston metropolitan area ranked seventh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Chica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the lowest in any of the categories exam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energy drinks, board games, making a spee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cago metropolitan area ranked four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Atlan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adult education cou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mouthwa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lanta metropolitan area ranked six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San Francis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board games and vide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massage in past six months; recycle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an Francisco metropolitan area ranked seven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Los Ange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west purchase/usage of energy dri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ghest purchase/usage of frozen yog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os Angeles metropolitan area ranked ninth in terms of ordering anything from catalog, mail order, phone, and Inter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t>
            </a:r>
            <a:r>
              <a:rPr b="1" lang="en-US" sz="1200" spc="-1" strike="noStrike">
                <a:solidFill>
                  <a:srgbClr val="000000"/>
                </a:solidFill>
                <a:latin typeface="Calibri"/>
              </a:rPr>
              <a:t>national brand </a:t>
            </a:r>
            <a:r>
              <a:rPr b="0" lang="en-US" sz="1200" spc="-1" strike="noStrike">
                <a:solidFill>
                  <a:srgbClr val="000000"/>
                </a:solidFill>
                <a:latin typeface="Calibri"/>
              </a:rPr>
              <a:t>is a brand that is available in all fifty states, although the market shares of most brands vary among geographic regions.</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3E51-9083-4852-8266-21825B55BC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ubculture is a group that shares certain beliefs, values, and customs and exists within a larger society. A subculture can stem from a person’s ethnicity, religion, geographic location, age, or gender.</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A9B3-4FF1-48E9-B6C9-0F3923B3DA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generation is a distinct subculture and market segment, because its members have unique priorities and purchase patterns.</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C61F-7C07-4710-8342-95B5F2EAB6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pter discusses the following age (or generational) subcultures: Generation Z, Generation Y, Generation X, baby boomers, and older Americans.</a:t>
            </a: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7CA4A-0BC2-45C4-B347-B966FFE2CF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ort of people born from 1997 to the present day.  Members of Gen Z have had lifelong exposure to and use of communication and media technology like the Internet, instant messaging, text messaging, MP3 players, and mobile phones. Generally, Gen Z are the children of Generation X, although some of the oldest may be the children of baby boomers; the youngest members can also be children of Generation Y. Gen Z is the most diverse American generation ever, consisting of 54% Caucasian, 24% Hispanic, 14% African American, 4% Asian, and 4% mixed race/other. Experts expect G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Z members to be the first generation to earn less than their parents, because they are growing up in a period of economic decline.</a:t>
            </a:r>
            <a:endParaRPr b="0" lang="en-US" sz="1200" spc="-1" strike="noStrike">
              <a:solidFill>
                <a:srgbClr val="000000"/>
              </a:solidFill>
              <a:latin typeface="Calibri"/>
            </a:endParaRPr>
          </a:p>
        </p:txBody>
      </p:sp>
      <p:sp>
        <p:nvSpPr>
          <p:cNvPr id="5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F871C-22F0-4BB6-86DB-B1DF5361AC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on Z consists of two markets: </a:t>
            </a:r>
            <a:r>
              <a:rPr b="1" lang="en-US" sz="1200" spc="-1" strike="noStrike">
                <a:solidFill>
                  <a:srgbClr val="000000"/>
                </a:solidFill>
                <a:latin typeface="Calibri"/>
              </a:rPr>
              <a:t>teens </a:t>
            </a:r>
            <a:r>
              <a:rPr b="0" lang="en-US" sz="1200" spc="-1" strike="noStrike">
                <a:solidFill>
                  <a:srgbClr val="000000"/>
                </a:solidFill>
                <a:latin typeface="Calibri"/>
              </a:rPr>
              <a:t>are those aged 13 to 17 and </a:t>
            </a:r>
            <a:r>
              <a:rPr b="1" lang="en-US" sz="1200" spc="-1" strike="noStrike">
                <a:solidFill>
                  <a:srgbClr val="000000"/>
                </a:solidFill>
                <a:latin typeface="Calibri"/>
              </a:rPr>
              <a:t>tweens </a:t>
            </a:r>
            <a:r>
              <a:rPr b="0" lang="en-US" sz="1200" spc="-1" strike="noStrike">
                <a:solidFill>
                  <a:srgbClr val="000000"/>
                </a:solidFill>
                <a:latin typeface="Calibri"/>
              </a:rPr>
              <a:t>are aged 8 to 12. Marketing to teens and tweens means targ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ucrative, elusive, and fickle customers. Teens are more independent in their behavior and less reliant on their parents than tweens are for day-to-day decisions. Teens are beginning to develop the characteristics and behaviors of adulthood, while tweens still share many traits with their younger siblings.  Families are more important to tweens in terms of their social lives as we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arketers have alienated them, most often by talking down to them. Teens and tweens like companies whose messages are tailored directly to them. Marketers who effectively tailor products and brands to the needs and desires of this target market will succeed in making them customers. Tweens tend to be more brand loyal and teens more brand skeptic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 is the center of both groups’ lives and they fully accept technological innovation and obsolescence. Among teens and young adults, surfing the Internet is the primary leisure activity.  </a:t>
            </a:r>
            <a:endParaRPr b="0" lang="en-US" sz="1200" spc="-1" strike="noStrike">
              <a:solidFill>
                <a:srgbClr val="000000"/>
              </a:solidFill>
              <a:latin typeface="Calibri"/>
            </a:endParaRPr>
          </a:p>
        </p:txBody>
      </p:sp>
      <p:sp>
        <p:nvSpPr>
          <p:cNvPr id="5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F27AA-022A-47E0-B149-C220484DD2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tion Y (Echo Boomers, Millennials) </a:t>
            </a:r>
            <a:r>
              <a:rPr b="0" lang="en-US" sz="1200" spc="-1" strike="noStrike">
                <a:solidFill>
                  <a:srgbClr val="000000"/>
                </a:solidFill>
                <a:latin typeface="Calibri"/>
              </a:rPr>
              <a:t>are people born between 1980 and 1996. However, some include people born in the late 1970s and late 1990s in this cohort. Gen Y members grew up with technology and embraced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more confident than other generations were at their age, because of growing up in child-centric households, a youth-oriented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 American emphasis on self-esteem. Many want to design their own products, get involved with messaging through their own networks, and rate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e 12.11 shows the primary online activities of Gen Y.</a:t>
            </a:r>
            <a:endParaRPr b="0" lang="en-US" sz="1200" spc="-1" strike="noStrike">
              <a:solidFill>
                <a:srgbClr val="000000"/>
              </a:solidFill>
              <a:latin typeface="Calibri"/>
            </a:endParaRPr>
          </a:p>
        </p:txBody>
      </p:sp>
      <p:sp>
        <p:nvSpPr>
          <p:cNvPr id="5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B7B0-F1D0-436A-B947-19571F9B28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Hip-ennials: They believe that they can have an impact on the world and make it better. They are aware of what’s going on globally, give to charity, and search for information regularly. Although they read social media content, they do not produc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Millennial Moms: They enjoy traveling, getting in shape, and treating their “children” as they were treated (pampered). They are confident, very family oriented, and proficient in technology. They participate in social networks online and are very attached to their peer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Anti-Millennials: They care mostly about their businesses and their families, in contravention of the Millennial “norms.” They do not buy green products like most Millennials do. They seek comfort instead of change, whereas most Millennials embrace different activities to make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Gadget Gurus: They are always looking for the next big gadgets, usually from Apple, and will stand in line to get them first. They are highly egotistical, wired, free spirited, and laid back. They often create content online and tweet continuously. Gadget Gurus are male dominated and single because they live in their own wor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Clean and Green Millennials: They take care of themselves and support others. They are driven by social causes, ecological issues, philanthropy, and positive outlooks o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Old-School Millennials: They did not adopt many of the typical Millennial rituals, like updating their Facebook pages during meals. They would rather meet people in person than online or through text, and read books instead of blogs. They are independent and self-directed, whereas most Millennials wants mentors and constant feedback from their managers.</a:t>
            </a:r>
            <a:endParaRPr b="0" lang="en-US" sz="1200" spc="-1" strike="noStrike">
              <a:solidFill>
                <a:srgbClr val="000000"/>
              </a:solidFill>
              <a:latin typeface="Calibri"/>
            </a:endParaRPr>
          </a:p>
        </p:txBody>
      </p:sp>
      <p:sp>
        <p:nvSpPr>
          <p:cNvPr id="5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2828-965F-45E8-9C88-B4E2AA0226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eneration X (Xers) </a:t>
            </a:r>
            <a:r>
              <a:rPr b="0" lang="en-US" sz="1200" spc="-1" strike="noStrike">
                <a:solidFill>
                  <a:srgbClr val="000000"/>
                </a:solidFill>
                <a:latin typeface="Calibri"/>
              </a:rPr>
              <a:t>consists of about 50 million individuals born between 1965 and 1979. As consumers, they represent a market with a spending power in excess of $1 trillion. They do not like labels, are cynical, and generally do not want to be singled out and marketed to. Unlike their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y boomers, they are in no rush to marry, start a family, or work excessive hours to earn high salaries. For Generation X consumers, job satisfaction is typically more important than salary, they do not neglect their families while striving to secure higher salaries and care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ancement, and they are not loyal to employ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mbers of Generation X are sophisticated consumers. Although many claim that they are not materialistic, they purchase prestigious and pricey brands, but not necessarily designer labels. They want to be recognized by marketers as a group in their own right and not as mini–baby boo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dvertisements targeted to this audience must focus on their style in music, fashions, and language. One key for marketers appears to be sincerity. Xers are not against advertising, but strongly oppose insincerity.  Baby boomer media do not work for Generation X memb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grew-up with the various advantages of computer technology and most specifically with a number of ways to search for information of impor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the user. Spending time online comes naturally to their psyches. They see computers and cell phones and technology as “friendly tools” for making contact and gaining knowledge.</a:t>
            </a:r>
            <a:endParaRPr b="0" lang="en-US" sz="1200" spc="-1" strike="noStrike">
              <a:solidFill>
                <a:srgbClr val="000000"/>
              </a:solidFill>
              <a:latin typeface="Calibri"/>
            </a:endParaRPr>
          </a:p>
        </p:txBody>
      </p:sp>
      <p:sp>
        <p:nvSpPr>
          <p:cNvPr id="5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C4A6-0D25-44D6-884C-F1D60558FB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rm </a:t>
            </a:r>
            <a:r>
              <a:rPr b="1" lang="en-US" sz="1200" spc="-1" strike="noStrike">
                <a:solidFill>
                  <a:srgbClr val="000000"/>
                </a:solidFill>
                <a:latin typeface="Calibri"/>
              </a:rPr>
              <a:t>Baby Boomers </a:t>
            </a:r>
            <a:r>
              <a:rPr b="0" lang="en-US" sz="1200" spc="-1" strike="noStrike">
                <a:solidFill>
                  <a:srgbClr val="000000"/>
                </a:solidFill>
                <a:latin typeface="Calibri"/>
              </a:rPr>
              <a:t>refers 78 million people that were born between 1946 and 1964. They make up 50% of all those in professional and managerial occupations, they frequently make similar purchase decisions that influence entire categories of consumer goods, the segment includes trendsetting, upwardly mobile professionals who have influenced the consumer tastes of all age segments, they account for nearly half of consumer packaged goods spending and control between 65% and 75% of the disposable income in the United States.  They want to look and feel young.  They enjoy buying for themselves, for their residences, and for oth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uppies – the younger segment among the baby boomers that includes urban, upwardly mobile persons -- are the most sought-after subgroup of baby boomers. They are well off financially, well educated, and in professional or managerial careers. Many buy status brand names, such as BMWs or Lexus hybrid cars, Prada shoes and clothing, Rolex watches, expensive adventurous vacations, and scores of pricey gadgets.</a:t>
            </a:r>
            <a:endParaRPr b="0" lang="en-US" sz="1200" spc="-1" strike="noStrike">
              <a:solidFill>
                <a:srgbClr val="000000"/>
              </a:solidFill>
              <a:latin typeface="Calibri"/>
            </a:endParaRPr>
          </a:p>
        </p:txBody>
      </p:sp>
      <p:sp>
        <p:nvSpPr>
          <p:cNvPr id="5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BA595-3443-4EC2-980F-EB362F6456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any yuppies are maturing, they are shifting their attention away from expensive status-type possessions to travel, physical fitness, planning for second careers, or some other form of new life directions. People’s outlooks about retiring are related to their levels of fulfillment during their professional careers, their accumulated financial resources, and their health status. Some researchers examine the relationship between baby boomers’ job satisfaction and attitudes toward retirement, as in the segmentation results in Table 12.2.</a:t>
            </a:r>
            <a:endParaRPr b="0" lang="en-US" sz="1200" spc="-1" strike="noStrike">
              <a:solidFill>
                <a:srgbClr val="000000"/>
              </a:solidFill>
              <a:latin typeface="Calibri"/>
            </a:endParaRPr>
          </a:p>
        </p:txBody>
      </p:sp>
      <p:sp>
        <p:nvSpPr>
          <p:cNvPr id="5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7840E-D858-4F1B-BB7D-5461C26CE4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jecting ahead to the year 2050, it is anticipated that more than 88 million Americans (20% of the total population) will be 65 years of age or 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ving the growth of the elderly population are three factors: the declining birthrate, the aging of the huge baby boomer segment, and improved medical diagnoses and treatment. In the United States, “old age” is officially assumed to begin with a person’s sixty-fifth birthday (or when the individual qualifies for full Social Security and Medicare). However, people over age 60 view themselves as being 15 years younger than their chronological 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age </a:t>
            </a:r>
            <a:r>
              <a:rPr b="0" lang="en-US" sz="1200" spc="-1" strike="noStrike">
                <a:solidFill>
                  <a:srgbClr val="000000"/>
                </a:solidFill>
                <a:latin typeface="Calibri"/>
              </a:rPr>
              <a:t>is a person’s perception of how old he or she is. Marketers realize that people’s perceptions of their ages are more important in determining behavior than their chronological 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study identified several dimensions of cognitive 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Feel Age </a:t>
            </a:r>
            <a:r>
              <a:rPr b="0" lang="en-US" sz="1200" spc="-1" strike="noStrike">
                <a:solidFill>
                  <a:srgbClr val="000000"/>
                </a:solidFill>
                <a:latin typeface="Calibri"/>
              </a:rPr>
              <a:t>—how old one fe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Look Age </a:t>
            </a:r>
            <a:r>
              <a:rPr b="0" lang="en-US" sz="1200" spc="-1" strike="noStrike">
                <a:solidFill>
                  <a:srgbClr val="000000"/>
                </a:solidFill>
                <a:latin typeface="Calibri"/>
              </a:rPr>
              <a:t>—how old one l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i="1" lang="en-US" sz="1200" spc="-1" strike="noStrike">
                <a:solidFill>
                  <a:srgbClr val="000000"/>
                </a:solidFill>
                <a:latin typeface="Calibri"/>
              </a:rPr>
              <a:t>Do Age </a:t>
            </a:r>
            <a:r>
              <a:rPr b="0" lang="en-US" sz="1200" spc="-1" strike="noStrike">
                <a:solidFill>
                  <a:srgbClr val="000000"/>
                </a:solidFill>
                <a:latin typeface="Calibri"/>
              </a:rPr>
              <a:t>—how involved a person is in activities favored by his or her age group coh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i="1" lang="en-US" sz="1200" spc="-1" strike="noStrike">
                <a:solidFill>
                  <a:srgbClr val="000000"/>
                </a:solidFill>
                <a:latin typeface="Calibri"/>
              </a:rPr>
              <a:t>Interest Age </a:t>
            </a:r>
            <a:r>
              <a:rPr b="0" lang="en-US" sz="1200" spc="-1" strike="noStrike">
                <a:solidFill>
                  <a:srgbClr val="000000"/>
                </a:solidFill>
                <a:latin typeface="Calibri"/>
              </a:rPr>
              <a:t>—how similar a person’s interests are to those of others in his or her age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ults indicated that the majority of older consumers perceived themselves as younger (cognitive age) than their chronological age. For marketers, these findings underscore the importance of looking beyond chronological age to perceived or cognitive age when appealing to mature consumers and to the possibility that cognitive age might be used to segment the mature mark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er consumers are not a homogeneous subcultural grou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a:t>
            </a:r>
            <a:r>
              <a:rPr b="0" i="1" lang="en-US" sz="1200" spc="-1" strike="noStrike">
                <a:solidFill>
                  <a:srgbClr val="000000"/>
                </a:solidFill>
                <a:latin typeface="Calibri"/>
              </a:rPr>
              <a:t>young-old </a:t>
            </a:r>
            <a:r>
              <a:rPr b="0" lang="en-US" sz="1200" spc="-1" strike="noStrike">
                <a:solidFill>
                  <a:srgbClr val="000000"/>
                </a:solidFill>
                <a:latin typeface="Calibri"/>
              </a:rPr>
              <a:t>– age 65 to 7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a:t>
            </a:r>
            <a:r>
              <a:rPr b="0" i="1" lang="en-US" sz="1200" spc="-1" strike="noStrike">
                <a:solidFill>
                  <a:srgbClr val="000000"/>
                </a:solidFill>
                <a:latin typeface="Calibri"/>
              </a:rPr>
              <a:t>old </a:t>
            </a:r>
            <a:r>
              <a:rPr b="0" lang="en-US" sz="1200" spc="-1" strike="noStrike">
                <a:solidFill>
                  <a:srgbClr val="000000"/>
                </a:solidFill>
                <a:latin typeface="Calibri"/>
              </a:rPr>
              <a:t>– age 75 to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a:t>
            </a:r>
            <a:r>
              <a:rPr b="0" i="1" lang="en-US" sz="1200" spc="-1" strike="noStrike">
                <a:solidFill>
                  <a:srgbClr val="000000"/>
                </a:solidFill>
                <a:latin typeface="Calibri"/>
              </a:rPr>
              <a:t>old-old </a:t>
            </a:r>
            <a:r>
              <a:rPr b="0" lang="en-US" sz="1200" spc="-1" strike="noStrike">
                <a:solidFill>
                  <a:srgbClr val="000000"/>
                </a:solidFill>
                <a:latin typeface="Calibri"/>
              </a:rPr>
              <a:t>– age 85 and ol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udy of elderly consumers’ “quality-of-life orientation” identified a distinct group of older persons, which the researchers named the “new-age  elderly.” The new-age elderly are individuals who feel, think, and do according to a cognitive age that is younger than their chronological age.  They retire later than other elderly and feel more in control of their lives. They are self-confident in making consumer decisions and view themselves as more knowledgeable and alert consumers. Many are “selectively innovative” and only adopt innovations that truly enhance their l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6954-D065-4E4A-91A9-545E350F7A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5C723-8A9E-4A9E-BDE4-D921D3CCB6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iors often want to be identified not for what they did in the past but by what they would personally like to accomplish in the future. They have a strong commitment to remaining functionally young. Research has found that when considering how to advertise to seniors, older adults have a higher liking for and better recall of emotional appeals (younger consumers have a higher liking for and recall of rational app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er Internet users (aged 65 and older) are the fastest-growing demographic group with respect to the U.S. Internet market. Having a computer and modem “empowers” older consumers, allowing them to regain some of the control that was lost due to the physical and/or social deterioration in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2A8C-AA82-443C-AA64-02EC0669AD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answer this question, visualize a grocery store and the variety of food categories.  Where might you find the three groups of seniors?  What about dining out?  What are their intere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cognitive age, consider the different dimensions of cognitive age and how feeling younger might affect consumption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59AF6-629B-42B0-AAA8-9885176F23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and men respond differently to messages and products.  Sex roles affect consumption behavior.</a:t>
            </a:r>
            <a:endParaRPr b="0" lang="en-US" sz="1200" spc="-1" strike="noStrike">
              <a:solidFill>
                <a:srgbClr val="000000"/>
              </a:solidFill>
              <a:latin typeface="Calibri"/>
            </a:endParaRPr>
          </a:p>
        </p:txBody>
      </p:sp>
      <p:sp>
        <p:nvSpPr>
          <p:cNvPr id="5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DD6F-C6A5-4BDF-8CA9-82C1794DE8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show superior affect and purchase intention toward ads that are verbal, harmonious, complex, and category oriented. In contrast, men exhibit superior affect and purchase intention toward ads that are comparative, simple, and attribute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 shoppers tend to be more prone to such shopping motives as uniqueness and assortment seeking, social interaction, and browsing. Women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loyal to local merchants than their male counter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men control a substantial portion of the a household’s expenditures and the family’s spending. Because of this, women are frequently a household’s “chief purchasing officer” or “chief financial officer.”</a:t>
            </a:r>
            <a:endParaRPr b="0" lang="en-US" sz="1200" spc="-1" strike="noStrike">
              <a:solidFill>
                <a:srgbClr val="000000"/>
              </a:solidFill>
              <a:latin typeface="Calibri"/>
            </a:endParaRPr>
          </a:p>
        </p:txBody>
      </p:sp>
      <p:sp>
        <p:nvSpPr>
          <p:cNvPr id="5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C432-4C5C-47E0-925E-AC71AFE532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every society, it is quite common to find products that are either exclusively or strongly associated with the members of one se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omen feel that the media and advertising create an expectation of beauty that most women can never achie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gments of working women are somewhat self-explanatory, but there is an important distinction between “just-a-job” and “career-oriented” working women.  “Just-a-job” women” work because the family requires the additional income, whereas “career-oriented” women are driven more by a need to achieve and succeed in their chosen care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 women have also been segmented 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E (INDEPENDENT) WOMAN (Single, 28 to 34 years old, with a median income of $33,200 and college degree; busy building her career and loves it; outs off marriage and having kinds because she does not want to have obligations to others; likes to work late, go out late, and come and go as she pleases; aspires to buy luxury brands across categories like travel, clothes, jewelry, and automobiles (e.g., Chanel, Prada, Ritz-Carlton and BMW) but loves to shop for bargains; considers virtual image as important as her real-world one; heavy social media user, mostly via mobile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M ACHIEVER (Working mother, 35 to 45 years old, with a median income of $75,000; highly driven, has advanced degrees, and earned executive jobs; applies her professional knowledge and ethics to being a mom; has a hard time leaving her job behind; would choose a 50% pay raise over 50% more time with her kids; spends a lot of money on herself, mostly on prestige beauty products and services; spends little time on research before buying high-end products, but is also thrifty and looks for discount web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PHA GODDESS (Working mother, 55-to-64-year-old, with a median income of $69,000;  knows what she wants and has the resources to get it; loves to lavish gifts on her family, but her top purchases are for herself (e.g., luxury cars, travel, prescription drugs); buys expensive fragrances and is influenced by celebrity endorsements; confident in her relationships; receptive to new technologies; watches more TV than other age groups, but is not a captive audience; unlikely to compromise on either love or sexual attractiveness in order to have a committed relationship.</a:t>
            </a:r>
            <a:endParaRPr b="0" lang="en-US" sz="1200" spc="-1" strike="noStrike">
              <a:solidFill>
                <a:srgbClr val="000000"/>
              </a:solidFill>
              <a:latin typeface="Calibri"/>
            </a:endParaRPr>
          </a:p>
        </p:txBody>
      </p:sp>
      <p:sp>
        <p:nvSpPr>
          <p:cNvPr id="5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3DFAA-F16E-48D7-9C88-8E645592AA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E53B-516C-479B-A232-B9592C8410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vvy companies have been adapting their products to the specific needs of older persons. For example, Kohler—a marketer of bathroom and kitchen products—introduced Elevance—a line of products designed to provide greater safety and independence (Figure 12.1). </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4DB00-22D0-49DC-A4FD-2421AE6ED0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ltures are based on sociocultural and demographic variables, such as nationality, religion, geographic locality, ethnicity, age, and gender. When marketers single out a particular subculture that they wish to target, they must often modify the product to better meet the needs of the targeted consumers and also change the marketing message to suit the subculture’s values and tastes.</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845C-01AD-44EA-B3D0-8D2579AF23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67AD8-9D2D-45AD-8B15-1AEF393275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ciety’s cultural profile includes two elements: (1) the unique beliefs, values, and customs of specific subcultures; and (2) the central or core cultural values and customs that are shared by most of the population, regardless of specific subcultural memberships. Figure 12.2 presents a model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lationship between two subcultural groups (Hispanic Americans and Asian Americans) and the larger or “more general” culture. As the figure shows, each subculture has its own unique traits, yet both groups share the dominant traits of the overall American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ericans belong to more than one cultural group. Subcultural analysis enables marketers to identify the size of subculture segments, but subcultures are dynamic so analysis is ongoing.</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909B-06DD-433E-96B7-C84643C4A1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you belong to lifestyle, age, religious or ethnic subcultures.  Do these affect your grocery decisions, for in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C033-DA8A-449B-AC5C-1BA7F94B80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s immigrants brought with them cultural values and lifestyles that blended into the American culture (i.e., the “melting pot” concept). Each cultural ancestry has blended, to some extent, into America’s diversity, which many believe to be the country’s key strength.</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B449-4D19-447C-BD24-F2D0981D43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B97AD194-17E9-48AB-9E9D-7D24853CFCE2}"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EF8A110-519C-49C4-A2CE-2A65525CC87F}"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FB6EFBAF-165E-4131-AECC-8EB458F02DB0}"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58BACFA-2752-42B4-B136-26444546DC3F}"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3152A13-69E2-484C-AB99-E93C4710D602}"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2D7F0979-FFBF-49DE-BD1A-3032346C8B9E}"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5C469BE-0576-4CE9-A347-4395D7957D63}"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0F40AFAE-8DFB-49E2-926A-E1F3B0E00C25}"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2</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3927600"/>
            <a:ext cx="3962520" cy="2066760"/>
          </a:xfrm>
          <a:prstGeom prst="rect">
            <a:avLst/>
          </a:prstGeom>
          <a:ln w="0">
            <a:noFill/>
          </a:ln>
        </p:spPr>
      </p:pic>
      <p:pic>
        <p:nvPicPr>
          <p:cNvPr id="365" name="Picture 1" descr=""/>
          <p:cNvPicPr/>
          <p:nvPr/>
        </p:nvPicPr>
        <p:blipFill>
          <a:blip r:embed="rId2"/>
          <a:stretch/>
        </p:blipFill>
        <p:spPr>
          <a:xfrm>
            <a:off x="3645000" y="304920"/>
            <a:ext cx="1990800" cy="1800000"/>
          </a:xfrm>
          <a:prstGeom prst="rect">
            <a:avLst/>
          </a:prstGeom>
          <a:ln w="0">
            <a:noFill/>
          </a:ln>
        </p:spPr>
      </p:pic>
      <p:pic>
        <p:nvPicPr>
          <p:cNvPr id="366" name="Picture 2" descr=""/>
          <p:cNvPicPr/>
          <p:nvPr/>
        </p:nvPicPr>
        <p:blipFill>
          <a:blip r:embed="rId3"/>
          <a:stretch/>
        </p:blipFill>
        <p:spPr>
          <a:xfrm>
            <a:off x="1004760" y="3138480"/>
            <a:ext cx="7134480" cy="581040"/>
          </a:xfrm>
          <a:prstGeom prst="rect">
            <a:avLst/>
          </a:prstGeom>
          <a:ln w="0">
            <a:noFill/>
          </a:ln>
        </p:spPr>
      </p:pic>
      <p:sp>
        <p:nvSpPr>
          <p:cNvPr id="367" name="TextBox 1"/>
          <p:cNvSpPr/>
          <p:nvPr/>
        </p:nvSpPr>
        <p:spPr>
          <a:xfrm>
            <a:off x="304920" y="6477120"/>
            <a:ext cx="59436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Growing population (30% of the U.S. population by 2050; 133 mill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rchasing power of $1.2 trillion in 2011</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Young with large famil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77% of Latino Americans live in 7 state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 distinct Hispanic sub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oyal to well-established brands and smaller stores</a:t>
            </a:r>
            <a:endParaRPr b="0" lang="en-US" sz="3200" spc="-1" strike="noStrike">
              <a:solidFill>
                <a:srgbClr val="000000"/>
              </a:solidFill>
              <a:latin typeface="Calibri"/>
            </a:endParaRPr>
          </a:p>
        </p:txBody>
      </p:sp>
      <p:sp>
        <p:nvSpPr>
          <p:cNvPr id="38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atino (Hispanic)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Content Placeholder 3" descr=""/>
          <p:cNvPicPr/>
          <p:nvPr/>
        </p:nvPicPr>
        <p:blipFill>
          <a:blip r:embed="rId1"/>
          <a:stretch/>
        </p:blipFill>
        <p:spPr>
          <a:xfrm>
            <a:off x="380880" y="1066680"/>
            <a:ext cx="8458200" cy="5486400"/>
          </a:xfrm>
          <a:prstGeom prst="rect">
            <a:avLst/>
          </a:prstGeom>
          <a:ln w="0">
            <a:noFill/>
          </a:ln>
        </p:spPr>
      </p:pic>
      <p:sp>
        <p:nvSpPr>
          <p:cNvPr id="39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argeting Hispanic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frican American Consumers</a:t>
            </a:r>
            <a:endParaRPr b="0" lang="en-US" sz="4400" spc="-1" strike="noStrike">
              <a:solidFill>
                <a:srgbClr val="000000"/>
              </a:solidFill>
              <a:latin typeface="Calibri"/>
            </a:endParaRPr>
          </a:p>
        </p:txBody>
      </p:sp>
      <p:sp>
        <p:nvSpPr>
          <p:cNvPr id="393" name="PlaceHolder 2"/>
          <p:cNvSpPr>
            <a:spLocks noGrp="1"/>
          </p:cNvSpPr>
          <p:nvPr>
            <p:ph/>
          </p:nvPr>
        </p:nvSpPr>
        <p:spPr>
          <a:xfrm>
            <a:off x="456840" y="1752120"/>
            <a:ext cx="746748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rchasing power of $1 trill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Young – &gt; 50% less than 35 years ol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efer leading brands over private-label brands/ brand loyal</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pend more then other segments on hair, clothing and telephone services</a:t>
            </a:r>
            <a:endParaRPr b="0" lang="en-US" sz="3200" spc="-1" strike="noStrike">
              <a:solidFill>
                <a:srgbClr val="000000"/>
              </a:solidFill>
              <a:latin typeface="Calibri"/>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sian American Consumers</a:t>
            </a:r>
            <a:endParaRPr b="0" lang="en-US" sz="4400" spc="-1" strike="noStrike">
              <a:solidFill>
                <a:srgbClr val="000000"/>
              </a:solidFill>
              <a:latin typeface="Calibri"/>
            </a:endParaRPr>
          </a:p>
        </p:txBody>
      </p:sp>
      <p:sp>
        <p:nvSpPr>
          <p:cNvPr id="395" name="PlaceHolder 2"/>
          <p:cNvSpPr>
            <a:spLocks noGrp="1"/>
          </p:cNvSpPr>
          <p:nvPr>
            <p:ph/>
          </p:nvPr>
        </p:nvSpPr>
        <p:spPr>
          <a:xfrm>
            <a:off x="457200" y="1752120"/>
            <a:ext cx="7772400" cy="437364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Fastest growing racial seg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verse group including 6 major ethniciti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inese, Filipino, Indian, Vietnamese, Korean, and Japanese</a:t>
            </a:r>
            <a:r>
              <a:rPr b="0" lang="en-US" sz="2800" spc="-1" strike="noStrike">
                <a:solidFill>
                  <a:srgbClr val="000000"/>
                </a:solidFill>
                <a:latin typeface="Candara"/>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95% live in metropolitan area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usiness ownership and educational attainment are high</a:t>
            </a:r>
            <a:endParaRPr b="0" lang="en-US" sz="3200" spc="-1" strike="noStrike">
              <a:solidFill>
                <a:srgbClr val="000000"/>
              </a:solidFill>
              <a:latin typeface="Calibri"/>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Content Placeholder 3" descr=""/>
          <p:cNvPicPr/>
          <p:nvPr/>
        </p:nvPicPr>
        <p:blipFill>
          <a:blip r:embed="rId1"/>
          <a:stretch/>
        </p:blipFill>
        <p:spPr>
          <a:xfrm>
            <a:off x="762120" y="1295280"/>
            <a:ext cx="7732440" cy="5105520"/>
          </a:xfrm>
          <a:prstGeom prst="rect">
            <a:avLst/>
          </a:prstGeom>
          <a:ln w="0">
            <a:noFill/>
          </a:ln>
        </p:spPr>
      </p:pic>
      <p:sp>
        <p:nvSpPr>
          <p:cNvPr id="39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V Viewing Habits by Ethnic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Content Placeholder 3" descr=""/>
          <p:cNvPicPr/>
          <p:nvPr/>
        </p:nvPicPr>
        <p:blipFill>
          <a:blip r:embed="rId1"/>
          <a:stretch/>
        </p:blipFill>
        <p:spPr>
          <a:xfrm>
            <a:off x="1371600" y="1066680"/>
            <a:ext cx="5715000" cy="5421600"/>
          </a:xfrm>
          <a:prstGeom prst="rect">
            <a:avLst/>
          </a:prstGeom>
          <a:ln w="0">
            <a:noFill/>
          </a:ln>
        </p:spPr>
      </p:pic>
      <p:sp>
        <p:nvSpPr>
          <p:cNvPr id="39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duct Usage by Segme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3</a:t>
            </a:r>
            <a:endParaRPr b="0" lang="en-US" sz="4400" spc="-1" strike="noStrike">
              <a:solidFill>
                <a:srgbClr val="000000"/>
              </a:solidFill>
              <a:latin typeface="Calibri"/>
            </a:endParaRPr>
          </a:p>
        </p:txBody>
      </p:sp>
      <p:sp>
        <p:nvSpPr>
          <p:cNvPr id="401"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3 To understand the impact of religiou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ffiliation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orn-again Christians –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stest-growing</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yal to brands that support their causes/view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Jewish consumers – dietary laws</a:t>
            </a:r>
            <a:endParaRPr b="0" lang="en-US" sz="3200" spc="-1" strike="noStrike">
              <a:solidFill>
                <a:srgbClr val="000000"/>
              </a:solidFill>
              <a:latin typeface="Calibri"/>
            </a:endParaRPr>
          </a:p>
        </p:txBody>
      </p:sp>
      <p:sp>
        <p:nvSpPr>
          <p:cNvPr id="40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ligion and Consumer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4</a:t>
            </a:r>
            <a:endParaRPr b="0" lang="en-US" sz="4400" spc="-1" strike="noStrike">
              <a:solidFill>
                <a:srgbClr val="000000"/>
              </a:solidFill>
              <a:latin typeface="Calibri"/>
            </a:endParaRPr>
          </a:p>
        </p:txBody>
      </p:sp>
      <p:sp>
        <p:nvSpPr>
          <p:cNvPr id="405"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4 To understand the influence of regional characteristic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371240"/>
            <a:ext cx="8229600" cy="487692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New York – Highest purchase/usage of frozen yogurt and catalog/Internet orders</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oston – Highest purchase/usage of frozen pizza</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hicago – Highest purchase/usage of energy drinks and board games</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tlanta – Highest purchase/usage of mouthwash</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an Francisco – Highest purchase/usage of massage and highest recycling</a:t>
            </a:r>
            <a:endParaRPr b="0" lang="en-US" sz="2800" spc="-1" strike="noStrike">
              <a:solidFill>
                <a:srgbClr val="000000"/>
              </a:solidFill>
              <a:latin typeface="Calibri"/>
            </a:endParaRPr>
          </a:p>
          <a:p>
            <a:pPr marL="325800" indent="-3258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s Angeles – Highest purchase/usage of frozen yogurt</a:t>
            </a:r>
            <a:endParaRPr b="0" lang="en-US" sz="2800" spc="-1" strike="noStrike">
              <a:solidFill>
                <a:srgbClr val="000000"/>
              </a:solidFill>
              <a:latin typeface="Calibri"/>
            </a:endParaRPr>
          </a:p>
        </p:txBody>
      </p:sp>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argeting Urban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2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1 To understand the subcultures within the United States and their relationships to American culture.</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2 To understand the influence of nationalit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nd ethnicity subcultures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3 To understand the impact of religiou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ffiliations on consumer behavior.</a:t>
            </a:r>
            <a:endParaRPr b="0" lang="en-US" sz="3200" spc="-1" strike="noStrike">
              <a:solidFill>
                <a:srgbClr val="000000"/>
              </a:solidFill>
              <a:latin typeface="Calibri"/>
            </a:endParaRPr>
          </a:p>
        </p:txBody>
      </p:sp>
      <p:pic>
        <p:nvPicPr>
          <p:cNvPr id="370" name="Picture 1" descr=""/>
          <p:cNvPicPr/>
          <p:nvPr/>
        </p:nvPicPr>
        <p:blipFill>
          <a:blip r:embed="rId1"/>
          <a:stretch/>
        </p:blipFill>
        <p:spPr>
          <a:xfrm>
            <a:off x="8001000" y="14400"/>
            <a:ext cx="995400" cy="90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5</a:t>
            </a:r>
            <a:endParaRPr b="0" lang="en-US" sz="4400" spc="-1" strike="noStrike">
              <a:solidFill>
                <a:srgbClr val="000000"/>
              </a:solidFill>
              <a:latin typeface="Calibri"/>
            </a:endParaRPr>
          </a:p>
        </p:txBody>
      </p:sp>
      <p:sp>
        <p:nvSpPr>
          <p:cNvPr id="409"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5 To understand age and generation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luence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Content Placeholder 3" descr=""/>
          <p:cNvPicPr/>
          <p:nvPr/>
        </p:nvPicPr>
        <p:blipFill>
          <a:blip r:embed="rId1"/>
          <a:stretch/>
        </p:blipFill>
        <p:spPr>
          <a:xfrm>
            <a:off x="838080" y="1600200"/>
            <a:ext cx="7029720" cy="4343400"/>
          </a:xfrm>
          <a:prstGeom prst="rect">
            <a:avLst/>
          </a:prstGeom>
          <a:ln w="0">
            <a:noFill/>
          </a:ln>
        </p:spPr>
      </p:pic>
      <p:sp>
        <p:nvSpPr>
          <p:cNvPr id="41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al Subcultur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lso known as Digital Natives or the Homeland Gener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ighly connect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st are children of Generation X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ost diverse American generation ever</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pected to earn less than their parents</a:t>
            </a:r>
            <a:endParaRPr b="0" lang="en-US" sz="3200" spc="-1" strike="noStrike">
              <a:solidFill>
                <a:srgbClr val="000000"/>
              </a:solidFill>
              <a:latin typeface="Calibri"/>
            </a:endParaRPr>
          </a:p>
        </p:txBody>
      </p:sp>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 Z</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eens</a:t>
            </a:r>
            <a:endParaRPr b="0" lang="en-US" sz="2400" spc="-1" strike="noStrike">
              <a:solidFill>
                <a:srgbClr val="000000"/>
              </a:solidFill>
              <a:latin typeface="Calibri"/>
            </a:endParaRPr>
          </a:p>
        </p:txBody>
      </p:sp>
      <p:sp>
        <p:nvSpPr>
          <p:cNvPr id="415"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ged 13-17</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More independent in their behavior</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lienated by marketers who talk down to them</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rf the Internet, create content</a:t>
            </a:r>
            <a:endParaRPr b="0" lang="en-US" sz="2400" spc="-1" strike="noStrike">
              <a:solidFill>
                <a:srgbClr val="000000"/>
              </a:solidFill>
              <a:latin typeface="Calibri"/>
            </a:endParaRPr>
          </a:p>
        </p:txBody>
      </p:sp>
      <p:sp>
        <p:nvSpPr>
          <p:cNvPr id="416"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Tweens</a:t>
            </a:r>
            <a:endParaRPr b="0" lang="en-US" sz="2400" spc="-1" strike="noStrike">
              <a:solidFill>
                <a:srgbClr val="000000"/>
              </a:solidFill>
              <a:latin typeface="Calibri"/>
            </a:endParaRPr>
          </a:p>
        </p:txBody>
      </p:sp>
      <p:sp>
        <p:nvSpPr>
          <p:cNvPr id="417" name=""/>
          <p:cNvSpPr txBox="1"/>
          <p:nvPr/>
        </p:nvSpPr>
        <p:spPr>
          <a:xfrm>
            <a:off x="4644720" y="2174760"/>
            <a:ext cx="404172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Aged 8-12</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hare many traits with younger sibling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amilies important to tweens in terms of social lives</a:t>
            </a:r>
            <a:endParaRPr b="0" lang="en-US" sz="2400" spc="-1" strike="noStrike">
              <a:solidFill>
                <a:srgbClr val="000000"/>
              </a:solidFill>
              <a:latin typeface="Calibri"/>
            </a:endParaRPr>
          </a:p>
        </p:txBody>
      </p:sp>
      <p:sp>
        <p:nvSpPr>
          <p:cNvPr id="418"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eens and Tweens</a:t>
            </a:r>
            <a:endParaRPr b="0" lang="en-US" sz="4400" spc="-1" strike="noStrike">
              <a:solidFill>
                <a:srgbClr val="000000"/>
              </a:solidFill>
              <a:latin typeface="Calibri"/>
            </a:endParaRPr>
          </a:p>
        </p:txBody>
      </p:sp>
      <p:sp>
        <p:nvSpPr>
          <p:cNvPr id="419" name="Rectangle 6"/>
          <p:cNvSpPr/>
          <p:nvPr/>
        </p:nvSpPr>
        <p:spPr>
          <a:xfrm>
            <a:off x="135720" y="1143000"/>
            <a:ext cx="687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ckle customers and changing lifesty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mbrace technology</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fiden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ant fast product turnover, personally relevant promotions and interactive marketing platform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1" name="Content Placeholder 5" descr=""/>
          <p:cNvPicPr/>
          <p:nvPr/>
        </p:nvPicPr>
        <p:blipFill>
          <a:blip r:embed="rId1"/>
          <a:stretch/>
        </p:blipFill>
        <p:spPr>
          <a:xfrm>
            <a:off x="4648320" y="2057400"/>
            <a:ext cx="4370400" cy="3017880"/>
          </a:xfrm>
          <a:prstGeom prst="rect">
            <a:avLst/>
          </a:prstGeom>
          <a:ln w="0">
            <a:noFill/>
          </a:ln>
        </p:spPr>
      </p:pic>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 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Hip-enn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illenial Mom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nti-Millenials</a:t>
            </a:r>
            <a:endParaRPr b="0" lang="en-US" sz="2800" spc="-1" strike="noStrike">
              <a:solidFill>
                <a:srgbClr val="000000"/>
              </a:solidFill>
              <a:latin typeface="Calibri"/>
            </a:endParaRPr>
          </a:p>
        </p:txBody>
      </p:sp>
      <p:sp>
        <p:nvSpPr>
          <p:cNvPr id="424" name=""/>
          <p:cNvSpPr txBox="1"/>
          <p:nvPr/>
        </p:nvSpPr>
        <p:spPr>
          <a:xfrm>
            <a:off x="4419720" y="1600200"/>
            <a:ext cx="44956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adget Guru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lean and Green Millenia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ld-School Millenials</a:t>
            </a:r>
            <a:endParaRPr b="0" lang="en-US" sz="2800" spc="-1" strike="noStrike">
              <a:solidFill>
                <a:srgbClr val="000000"/>
              </a:solidFill>
              <a:latin typeface="Calibri"/>
            </a:endParaRPr>
          </a:p>
        </p:txBody>
      </p:sp>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ix Segments of Millenial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pending power &gt; $1 trill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ynical; do not like to be singled out/ marketed to</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o not like label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urchase prestigious and pricey bran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ppose insincerity</a:t>
            </a:r>
            <a:endParaRPr b="0" lang="en-US" sz="2800" spc="-1" strike="noStrike">
              <a:solidFill>
                <a:srgbClr val="000000"/>
              </a:solidFill>
              <a:latin typeface="Calibri"/>
            </a:endParaRPr>
          </a:p>
        </p:txBody>
      </p:sp>
      <p:pic>
        <p:nvPicPr>
          <p:cNvPr id="427" name="Content Placeholder 5" descr=""/>
          <p:cNvPicPr/>
          <p:nvPr/>
        </p:nvPicPr>
        <p:blipFill>
          <a:blip r:embed="rId1"/>
          <a:stretch/>
        </p:blipFill>
        <p:spPr>
          <a:xfrm>
            <a:off x="4648320" y="2406600"/>
            <a:ext cx="4375080" cy="3156120"/>
          </a:xfrm>
          <a:prstGeom prst="rect">
            <a:avLst/>
          </a:prstGeom>
          <a:ln w="0">
            <a:noFill/>
          </a:ln>
        </p:spPr>
      </p:pic>
      <p:sp>
        <p:nvSpPr>
          <p:cNvPr id="42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neration X</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457200" y="1599840"/>
            <a:ext cx="4038480" cy="4724280"/>
          </a:xfrm>
          <a:prstGeom prst="rect">
            <a:avLst/>
          </a:prstGeom>
          <a:noFill/>
          <a:ln w="0">
            <a:noFill/>
          </a:ln>
        </p:spPr>
        <p:txBody>
          <a:bodyPr lIns="90000" rIns="90000" tIns="46800" bIns="46800" anchor="t">
            <a:normAutofit fontScale="93000"/>
          </a:bodyPr>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gt; 40% of the U.S. adult population</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ption oriented and influential</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65-75% of disposable income in the U.S.</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ant to look and feel young</a:t>
            </a:r>
            <a:endParaRPr b="0" lang="en-US" sz="2800" spc="-1" strike="noStrike">
              <a:solidFill>
                <a:srgbClr val="000000"/>
              </a:solidFill>
              <a:latin typeface="Calibri"/>
            </a:endParaRPr>
          </a:p>
          <a:p>
            <a:pPr marL="318960" indent="-31896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Yuppies = status brand consumers</a:t>
            </a:r>
            <a:endParaRPr b="0" lang="en-US" sz="2800" spc="-1" strike="noStrike">
              <a:solidFill>
                <a:srgbClr val="000000"/>
              </a:solidFill>
              <a:latin typeface="Calibri"/>
            </a:endParaRPr>
          </a:p>
        </p:txBody>
      </p:sp>
      <p:pic>
        <p:nvPicPr>
          <p:cNvPr id="430" name="Content Placeholder 6" descr=""/>
          <p:cNvPicPr/>
          <p:nvPr/>
        </p:nvPicPr>
        <p:blipFill>
          <a:blip r:embed="rId1"/>
          <a:stretch/>
        </p:blipFill>
        <p:spPr>
          <a:xfrm>
            <a:off x="4648320" y="2093760"/>
            <a:ext cx="4343400" cy="3805560"/>
          </a:xfrm>
          <a:prstGeom prst="rect">
            <a:avLst/>
          </a:prstGeom>
          <a:ln w="0">
            <a:noFill/>
          </a:ln>
        </p:spPr>
      </p:pic>
      <p:sp>
        <p:nvSpPr>
          <p:cNvPr id="43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aby Boo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457200" y="2063880"/>
            <a:ext cx="8229600" cy="3598560"/>
          </a:xfrm>
          <a:prstGeom prst="rect">
            <a:avLst/>
          </a:prstGeom>
          <a:ln w="0">
            <a:noFill/>
          </a:ln>
        </p:spPr>
      </p:pic>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ostretirement Segme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gnitive age</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eel 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Look 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o 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terest age</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hronological age categor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New-age elderl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lder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2 Learning Objectives</a:t>
            </a:r>
            <a:endParaRPr b="0" lang="en-US" sz="4400" spc="-1" strike="noStrike">
              <a:solidFill>
                <a:srgbClr val="000000"/>
              </a:solidFill>
              <a:latin typeface="Calibri"/>
            </a:endParaRPr>
          </a:p>
        </p:txBody>
      </p:sp>
      <p:sp>
        <p:nvSpPr>
          <p:cNvPr id="37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4 To understand the influence of regional characteristics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5 To understand age and generational</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luences on consumer behavior.</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6 To understand the influence of gender on consumer behavior.</a:t>
            </a:r>
            <a:endParaRPr b="0" lang="en-US" sz="3200" spc="-1" strike="noStrike">
              <a:solidFill>
                <a:srgbClr val="000000"/>
              </a:solidFill>
              <a:latin typeface="Calibri"/>
            </a:endParaRPr>
          </a:p>
        </p:txBody>
      </p:sp>
      <p:pic>
        <p:nvPicPr>
          <p:cNvPr id="373" name="Picture 1" descr=""/>
          <p:cNvPicPr/>
          <p:nvPr/>
        </p:nvPicPr>
        <p:blipFill>
          <a:blip r:embed="rId1"/>
          <a:stretch/>
        </p:blipFill>
        <p:spPr>
          <a:xfrm>
            <a:off x="8001000" y="14400"/>
            <a:ext cx="995400" cy="90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motional appeal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mote the right product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se the right appeal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Focus on the futur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Use emotional appeals</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Older people and technology</a:t>
            </a:r>
            <a:endParaRPr b="0" lang="en-US" sz="2800" spc="-1" strike="noStrike">
              <a:solidFill>
                <a:srgbClr val="000000"/>
              </a:solidFill>
              <a:latin typeface="Calibri"/>
            </a:endParaRPr>
          </a:p>
        </p:txBody>
      </p:sp>
      <p:pic>
        <p:nvPicPr>
          <p:cNvPr id="437" name="Content Placeholder 4" descr=""/>
          <p:cNvPicPr/>
          <p:nvPr/>
        </p:nvPicPr>
        <p:blipFill>
          <a:blip r:embed="rId1"/>
          <a:stretch/>
        </p:blipFill>
        <p:spPr>
          <a:xfrm>
            <a:off x="4648320" y="2154240"/>
            <a:ext cx="4387680" cy="3713040"/>
          </a:xfrm>
          <a:prstGeom prst="rect">
            <a:avLst/>
          </a:prstGeom>
          <a:ln w="0">
            <a:noFill/>
          </a:ln>
        </p:spPr>
      </p:pic>
      <p:sp>
        <p:nvSpPr>
          <p:cNvPr id="43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arketing to Older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the three senior segments differ in their consumption of food produc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a marketer of a food product market differently to the three subgrou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might cognitive age affect the consumption of food products?  Explai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6</a:t>
            </a:r>
            <a:endParaRPr b="0" lang="en-US" sz="4400" spc="-1" strike="noStrike">
              <a:solidFill>
                <a:srgbClr val="000000"/>
              </a:solidFill>
              <a:latin typeface="Calibri"/>
            </a:endParaRPr>
          </a:p>
        </p:txBody>
      </p:sp>
      <p:sp>
        <p:nvSpPr>
          <p:cNvPr id="442"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6 To understand the influence of gender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Men</a:t>
            </a:r>
            <a:endParaRPr b="0" lang="en-US" sz="2400" spc="-1" strike="noStrike">
              <a:solidFill>
                <a:srgbClr val="000000"/>
              </a:solidFill>
              <a:latin typeface="Calibri"/>
            </a:endParaRPr>
          </a:p>
        </p:txBody>
      </p:sp>
      <p:sp>
        <p:nvSpPr>
          <p:cNvPr id="444"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perior affect and purchase intentions as a result of ads that are comparative, simple and attribute-orient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ss loyal to local merchants than female counterpart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5" name="PlaceHolder 2"/>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Women</a:t>
            </a:r>
            <a:endParaRPr b="0" lang="en-US" sz="2400" spc="-1" strike="noStrike">
              <a:solidFill>
                <a:srgbClr val="000000"/>
              </a:solidFill>
              <a:latin typeface="Calibri"/>
            </a:endParaRPr>
          </a:p>
        </p:txBody>
      </p:sp>
      <p:sp>
        <p:nvSpPr>
          <p:cNvPr id="446" name=""/>
          <p:cNvSpPr txBox="1"/>
          <p:nvPr/>
        </p:nvSpPr>
        <p:spPr>
          <a:xfrm>
            <a:off x="4645080" y="2174760"/>
            <a:ext cx="4270320" cy="395136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perior affect and purchase intentions as a result of ads that are verbal, harmonious, complex and category oriented.</a:t>
            </a:r>
            <a:endParaRPr b="0" lang="en-US" sz="2400" spc="-1" strike="noStrike">
              <a:solidFill>
                <a:srgbClr val="000000"/>
              </a:solidFill>
              <a:latin typeface="Calibri"/>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hopping motives</a:t>
            </a:r>
            <a:endParaRPr b="0" lang="en-US" sz="24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Uniqueness</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Assortment seeking</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Social interaction</a:t>
            </a:r>
            <a:endParaRPr b="0" lang="en-US" sz="2000" spc="-1" strike="noStrike">
              <a:solidFill>
                <a:srgbClr val="000000"/>
              </a:solidFill>
              <a:latin typeface="Calibri"/>
            </a:endParaRPr>
          </a:p>
          <a:p>
            <a:pPr lvl="1" marL="690840" indent="-265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ndara"/>
              </a:rPr>
              <a:t>Browsing</a:t>
            </a:r>
            <a:endParaRPr b="0" lang="en-US" sz="2000" spc="-1" strike="noStrike">
              <a:solidFill>
                <a:srgbClr val="000000"/>
              </a:solidFill>
              <a:latin typeface="Calibri"/>
            </a:endParaRPr>
          </a:p>
        </p:txBody>
      </p:sp>
      <p:sp>
        <p:nvSpPr>
          <p:cNvPr id="447"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Men vs. Wome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 products and sex ro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pictions of women in media and advertis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orking women</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ay-at-home housewiv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lan-to-work housewive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Just-a-job working women</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areer-oriented working women</a:t>
            </a:r>
            <a:endParaRPr b="0" lang="en-US" sz="2800" spc="-1" strike="noStrike">
              <a:solidFill>
                <a:srgbClr val="000000"/>
              </a:solidFill>
              <a:latin typeface="Calibri"/>
            </a:endParaRPr>
          </a:p>
        </p:txBody>
      </p:sp>
      <p:sp>
        <p:nvSpPr>
          <p:cNvPr id="44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ole of Gend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51" name="Picture 4" descr="cid:3287383400_2177562"/>
          <p:cNvPicPr/>
          <p:nvPr/>
        </p:nvPicPr>
        <p:blipFill>
          <a:blip r:embed="rId1"/>
          <a:stretch/>
        </p:blipFill>
        <p:spPr>
          <a:xfrm>
            <a:off x="762120" y="685800"/>
            <a:ext cx="8118360" cy="2647800"/>
          </a:xfrm>
          <a:prstGeom prst="rect">
            <a:avLst/>
          </a:prstGeom>
          <a:ln w="0">
            <a:noFill/>
          </a:ln>
        </p:spPr>
      </p:pic>
      <p:sp>
        <p:nvSpPr>
          <p:cNvPr id="452"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53"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Content Placeholder 3" descr=""/>
          <p:cNvPicPr/>
          <p:nvPr/>
        </p:nvPicPr>
        <p:blipFill>
          <a:blip r:embed="rId1"/>
          <a:stretch/>
        </p:blipFill>
        <p:spPr>
          <a:xfrm>
            <a:off x="1447920" y="1295280"/>
            <a:ext cx="6143400" cy="5105520"/>
          </a:xfrm>
          <a:prstGeom prst="rect">
            <a:avLst/>
          </a:prstGeom>
          <a:ln w="0">
            <a:noFill/>
          </a:ln>
        </p:spPr>
      </p:pic>
      <p:sp>
        <p:nvSpPr>
          <p:cNvPr id="37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pening Vignett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1</a:t>
            </a:r>
            <a:endParaRPr b="0" lang="en-US" sz="4400" spc="-1" strike="noStrike">
              <a:solidFill>
                <a:srgbClr val="000000"/>
              </a:solidFill>
              <a:latin typeface="Calibri"/>
            </a:endParaRPr>
          </a:p>
        </p:txBody>
      </p:sp>
      <p:sp>
        <p:nvSpPr>
          <p:cNvPr id="37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1 To understand the subcultures within the United States and their relationships to American cul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distinct cultural group that exists as an identifiable segment within a larger, more complex society. A subculture has beliefs, values, and customers that set them apart from the other members of the same society.</a:t>
            </a:r>
            <a:endParaRPr b="0" lang="en-US" sz="3600" spc="-1" strike="noStrike">
              <a:solidFill>
                <a:srgbClr val="000000"/>
              </a:solidFill>
              <a:latin typeface="Calibri"/>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7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Subcultur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4038480" cy="4525920"/>
          </a:xfrm>
          <a:prstGeom prst="rect">
            <a:avLst/>
          </a:prstGeom>
          <a:noFill/>
          <a:ln w="0">
            <a:noFill/>
          </a:ln>
        </p:spPr>
        <p:txBody>
          <a:bodyPr lIns="90000" rIns="90000" tIns="46800" bIns="46800" anchor="t">
            <a:normAutofit fontScale="9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wo element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nique beliefs, values and customs of specific subcultures</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entral or core cultural values and customs shared by most of the population, regardless of subcultural memberships</a:t>
            </a:r>
            <a:endParaRPr b="0" lang="en-US" sz="2800" spc="-1" strike="noStrike">
              <a:solidFill>
                <a:srgbClr val="000000"/>
              </a:solidFill>
              <a:latin typeface="Calibri"/>
            </a:endParaRPr>
          </a:p>
        </p:txBody>
      </p:sp>
      <p:pic>
        <p:nvPicPr>
          <p:cNvPr id="381" name="Content Placeholder 6" descr=""/>
          <p:cNvPicPr/>
          <p:nvPr/>
        </p:nvPicPr>
        <p:blipFill>
          <a:blip r:embed="rId1"/>
          <a:stretch/>
        </p:blipFill>
        <p:spPr>
          <a:xfrm>
            <a:off x="4714920" y="2405160"/>
            <a:ext cx="3905280" cy="2914560"/>
          </a:xfrm>
          <a:prstGeom prst="rect">
            <a:avLst/>
          </a:prstGeom>
          <a:ln w="0">
            <a:noFill/>
          </a:ln>
        </p:spPr>
      </p:pic>
      <p:sp>
        <p:nvSpPr>
          <p:cNvPr id="38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ociety’s Cultural Profi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o which subcultures do you belo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How does it affect your consumer purchas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s</a:t>
            </a:r>
            <a:endParaRPr b="0" lang="en-US" sz="4400" spc="-1" strike="noStrike">
              <a:solidFill>
                <a:srgbClr val="000000"/>
              </a:solidFill>
              <a:latin typeface="Calibri"/>
            </a:endParaRPr>
          </a:p>
        </p:txBody>
      </p:sp>
      <p:pic>
        <p:nvPicPr>
          <p:cNvPr id="385" name="Picture 2" descr="C:\Users\ashleyc\AppData\Local\Microsoft\Windows\Temporary Internet Files\Content.IE5\ECK8TAE5\MC900441498[2].png"/>
          <p:cNvPicPr/>
          <p:nvPr/>
        </p:nvPicPr>
        <p:blipFill>
          <a:blip r:embed="rId1"/>
          <a:stretch/>
        </p:blipFill>
        <p:spPr>
          <a:xfrm>
            <a:off x="3279600" y="4419720"/>
            <a:ext cx="1974960" cy="1981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2.2</a:t>
            </a:r>
            <a:endParaRPr b="0" lang="en-US" sz="4400" spc="-1" strike="noStrike">
              <a:solidFill>
                <a:srgbClr val="000000"/>
              </a:solidFill>
              <a:latin typeface="Calibri"/>
            </a:endParaRPr>
          </a:p>
        </p:txBody>
      </p:sp>
      <p:sp>
        <p:nvSpPr>
          <p:cNvPr id="387" name="PlaceHolder 2"/>
          <p:cNvSpPr>
            <a:spLocks noGrp="1"/>
          </p:cNvSpPr>
          <p:nvPr>
            <p:ph/>
          </p:nvPr>
        </p:nvSpPr>
        <p:spPr>
          <a:xfrm>
            <a:off x="456840" y="1218960"/>
            <a:ext cx="8520120" cy="516708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2.2 To understand the influence of nationality</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nd ethnicity subcultures on consumer behavi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2:33Z</dcterms:modified>
  <cp:revision>1</cp:revision>
  <dc:subject/>
  <dc:title/>
</cp:coreProperties>
</file>