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6964-7B4F-47D4-80AA-DCFB40FE563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DA64-7BBB-46E3-B8B3-093409281BD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0787-F706-4812-9606-C69ABFE53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C2AB-DF45-4730-BEDA-8A0CF3BA1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D84F-5D69-4520-A7DC-276942535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1C12-9CE8-49FB-8915-FC52308DE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6B94-CA6D-43E8-A64B-EF1E294F8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A292-0663-418E-8BB4-51D897071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5BDC-4141-4623-8798-2D86D5C40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54D1-64E7-4F63-82E0-048B17870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ED59-5D18-4EE0-AE9F-8B57EE005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64D6-BB15-4684-9466-B4EC8BAD3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FF4D-633E-4E43-AF7B-F52A55BDB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7263-819B-4D21-8DB5-7722C9990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D330-B12E-4F29-BB13-B52976F46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D2B6-1A81-490D-8AD4-CBF79D55A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7182-832F-4154-B90F-37350E8CE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6B8C-7233-455E-8EC3-84C9D2C20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4962-6B08-4AF4-8FCD-93514D2CE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6888-3F71-460F-B845-C194A4A21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1B40-B87B-4F10-97F8-9E9C9F03D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D62C-C0E8-4290-A6A6-EEA66B1F8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703A-8B5B-4593-B8FC-6A6C84DDD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EECA-79A1-48F2-BB1B-D62028A3F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E71F-5DA9-4E81-B85C-14BAD5238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AA33-77E5-4C97-95F4-362D60C6D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153F-1E0E-4B30-88EB-467368D18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5B1F-6FDA-4615-BA57-453BA3D7A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A350-8C51-4C97-9750-0BC18283F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D4FD-A2FC-48B9-9C09-AF3FB8565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DD5E-5234-4CB4-A834-2C0866FDD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13B3-7D98-4273-B928-D4C740EE1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EF99-8890-4C3D-8EE0-07D33F442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E257-7714-40C6-A2D5-8313A9202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8709216-6A8A-40E5-AB68-B49BF5D94D9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B0E945C-8E4F-4E0E-B525-22283ACEEC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D103ABC-994A-4A57-8671-ABE6F054BD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A4A5FD4-D919-4C7F-927D-6EA01F5820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ED012A14-44BB-4A4B-B5EE-3F3EA6E5163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4E140B1-C81E-4E0A-9437-2692D69B244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DD3C221-2F80-41FF-8341-FFDBFB4F85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A53C2F2-88FD-41DE-AEB8-AD460FB0FD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4C8C834-8D48-454B-A43D-A0A74A2459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84DB16A-E548-44F5-B917-7AC85FF62D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E5947D9-E0BC-4AB6-BB84-063F8C5E5B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F7C6C29-71E5-43C3-B211-5ED8067A7D0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86B0E17-F973-4E05-B0FC-264933D0221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71AF597-0E5A-47B2-B8E7-6C14EC43AB1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192D1F8-5CE0-4E35-BF93-44E05489B8B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5492FFA-682E-4B41-9A43-B1795057F4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589F21-6CF7-406E-BB20-01067947094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32D4A4-4AD0-444E-856F-21C6DF2F0FD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270721-B16C-44E2-96F9-498F3195037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C95AD78-548D-48C8-AC8E-BA630737F81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063CD8-143F-4D47-BF17-3EB412EBC93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EFF23C0-DF89-470E-A373-E68B043AEF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B59D824-2B1D-4260-95B8-15D3372B12A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B965682-F402-4E04-837A-D1F864E90D0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64D6F24-0273-4CB2-926C-90008291BED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26A1F8E-06EA-4828-A694-37F22FC2E90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9A4BF6A-9F14-4C86-A710-8511DB18AFA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0D63-8628-479C-B260-DD2B0FBF007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6BDC-CBB2-42B0-8BAF-7421D40A78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D0D86B5D-B7D7-4E3A-ACD7-9F95980964B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5172-E830-4299-BE9E-FFED9DC5839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ED96-5C1F-4017-A08F-80FF44FAFE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02D1B5E5-51DD-4C37-9ABA-C4147B0D958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1119E1F-69C4-45FF-9A28-0FECE87FB95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976F584-0948-4F38-A5F1-A78E1A5E8AA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01600C8-ADBA-4F24-AC75-AECF7F7786E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70DA300-1B1F-46B9-AF5B-9CDF1A03ECB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E7B4EB7-EB62-45C1-9978-6FC7BD97070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D6343AF-50C3-4345-A923-CC897093EEA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DD8E657E-308E-4D52-949E-AD692813B9B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312390F-E284-4866-B8C1-5D963A35484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0C61972-594F-4B01-9C44-7E4FAE74DF0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81025C6-16D7-42CD-87A8-745F98F1433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5724A66-A92B-4DFD-8D15-589F08B621E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EE20298-B8E0-4689-A890-5B424160041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FC04A01-0095-43DD-91FC-D800F52A3D3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0720" y="2127240"/>
            <a:ext cx="8242560" cy="4005360"/>
          </a:xfrm>
          <a:prstGeom prst="rect">
            <a:avLst/>
          </a:prstGeom>
          <a:ln w="0">
            <a:noFill/>
          </a:ln>
        </p:spPr>
      </p:pic>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17760" y="2120760"/>
            <a:ext cx="6046560" cy="4084920"/>
          </a:xfrm>
          <a:prstGeom prst="rect">
            <a:avLst/>
          </a:prstGeom>
          <a:ln w="0">
            <a:noFill/>
          </a:ln>
        </p:spPr>
      </p:pic>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38120" y="1901880"/>
            <a:ext cx="8352000" cy="3998880"/>
          </a:xfrm>
          <a:prstGeom prst="rect">
            <a:avLst/>
          </a:prstGeom>
          <a:ln w="0">
            <a:noFill/>
          </a:ln>
        </p:spPr>
      </p:pic>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27040" y="2438280"/>
            <a:ext cx="6212160" cy="4078440"/>
          </a:xfrm>
          <a:prstGeom prst="rect">
            <a:avLst/>
          </a:prstGeom>
          <a:ln w="0">
            <a:noFill/>
          </a:ln>
        </p:spPr>
      </p:pic>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0" name=""/>
          <p:cNvSpPr txBox="1"/>
          <p:nvPr/>
        </p:nvSpPr>
        <p:spPr>
          <a:xfrm>
            <a:off x="837720" y="2209320"/>
            <a:ext cx="762012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3" name=""/>
          <p:cNvSpPr txBox="1"/>
          <p:nvPr/>
        </p:nvSpPr>
        <p:spPr>
          <a:xfrm>
            <a:off x="685800" y="2209320"/>
            <a:ext cx="7772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in-time system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ID</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exact product loc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 shelv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ing orders automaticall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portation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8" name="Diagram 7" descr=""/>
          <p:cNvPicPr/>
          <p:nvPr/>
        </p:nvPicPr>
        <p:blipFill>
          <a:blip r:embed="rId1"/>
          <a:stretch/>
        </p:blipFill>
        <p:spPr>
          <a:xfrm>
            <a:off x="1560600" y="3505320"/>
            <a:ext cx="5297400" cy="2273040"/>
          </a:xfrm>
          <a:prstGeom prst="rect">
            <a:avLst/>
          </a:prstGeom>
          <a:ln w="0">
            <a:noFill/>
          </a:ln>
        </p:spPr>
      </p:pic>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0" name=""/>
          <p:cNvSpPr txBox="1"/>
          <p:nvPr/>
        </p:nvSpPr>
        <p:spPr>
          <a:xfrm>
            <a:off x="685800" y="1981080"/>
            <a:ext cx="777240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 (electronic data interchang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MI (vendor-managed inventory)</a:t>
            </a:r>
            <a:endParaRPr b="0" lang="en-US" sz="2800" spc="-1" strike="noStrike">
              <a:solidFill>
                <a:srgbClr val="000000"/>
              </a:solidFill>
              <a:latin typeface="Calibri"/>
            </a:endParaRPr>
          </a:p>
        </p:txBody>
      </p:sp>
      <p:sp>
        <p:nvSpPr>
          <p:cNvPr id="86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3"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party logistics</a:t>
            </a:r>
            <a:r>
              <a:rPr b="0" lang="en-US" sz="2800" spc="-1" strike="noStrike">
                <a:solidFill>
                  <a:srgbClr val="000000"/>
                </a:solidFill>
                <a:latin typeface="Calibri"/>
              </a:rPr>
              <a:t> is the outsourcing of logistics functions to third-party logistics providers (3PL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57280" y="2359080"/>
            <a:ext cx="6205680" cy="4505400"/>
          </a:xfrm>
          <a:prstGeom prst="rect">
            <a:avLst/>
          </a:prstGeom>
          <a:ln w="0">
            <a:noFill/>
          </a:ln>
        </p:spPr>
      </p:pic>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mass</cp:lastModifiedBy>
  <dcterms:modified xsi:type="dcterms:W3CDTF">2013-06-07T09:45:52Z</dcterms:modified>
  <cp:revision>56</cp:revision>
  <dc:subject/>
  <dc:title>Slide 1</dc:title>
</cp:coreProperties>
</file>