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70CA-F48B-4CDD-A17E-0B71DFB6E05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C049-F111-4B54-A22B-782D417572B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B723-53B8-4416-8A88-8096DD07D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5550-A37A-43F1-BAB8-695F689EF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719C-6103-4D8C-8C53-0E9B0FCE7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496E-3E94-4BD6-8E9E-5CAEB0B10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0600-1ABA-40D9-811A-BDF008127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A122-321B-4B1D-B353-19087179D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B001-A717-46F7-9671-66A055D86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7179-F0E1-452A-90F6-BA15BDB5F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F076-E5A3-4A04-900C-E60EAA06B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1379-A712-4941-9B8B-B38D7CE0D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14E9-9D13-44A3-87BF-BFC013892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7473-4541-4490-B516-E1270F9AE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A9C8-277E-4591-9421-98C04092B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B589-8BE5-4D4D-A5EA-2E59C551B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518B-C540-4FDD-A6B7-EEF15E209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48A4-A24A-42A6-B311-E8BCA3476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916C-5B30-427B-B583-43CC42EE1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5722-7525-403A-BD16-396A0BA34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9240-9FA6-4CB9-8C0E-3FBAE1ACB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2B76-AC27-4EA7-8763-05C8F5902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A971-C73B-4A2B-83BD-BA3DB7221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6105-2DE8-45FB-942E-2758A7F5A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DF10-3EF1-48C1-897B-DB7116C59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FBE4-A577-42C0-89F7-13B207715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2136-B875-45B8-A5E5-E6067B0A5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4D66-D702-429E-A443-205C0DB51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1C1D-A9E9-4401-A893-B41B84C72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7006-5890-48A2-83FA-DE2C80EB7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8B7F-2016-492A-910B-6D9C91F49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0C7F-88A0-4384-9B0E-FC8EBCD3E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AD81-B3FC-4889-AB27-2EAEA2DE9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A99E-104A-4B40-8A17-B12E91408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2614788-A6AD-43A9-9067-F43D800364E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1771577-0A3B-4A1A-8271-6ACDD8AC0B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CA6D9BA-52EC-40EF-B225-ABC9ABD375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677AB75-A4E7-4861-8FDA-72DC2253FC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941AB695-FA0F-4760-85D7-5F69D5004CA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486E543-0758-4111-9313-738D6E8617A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C49F450-0D78-487B-85DC-6AB26E46B6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E58A575-E6C1-4587-90A6-33777943DD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1B8FBE8-0F41-49B3-91C6-29091B5277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D6A0965-ABF0-4DC5-9DBE-A6FB16841F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D55E991-5741-4605-AA7B-567296C0F6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87B09EB-33D9-4898-A835-1585837DDE8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A45C4DA-36BA-4F61-BAC6-FE4823B2C8E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F1F90E-D586-4B45-8C6D-201F8EC798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FD1C76A-D595-4175-AF72-EB8709E004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FAF034-5618-482C-B7B0-5E7930558D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B79D727-DA71-4BC2-8C17-44F7987DE9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4DECB81-6F2C-49E2-B47C-E099EB2ADA6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E43589-CD9A-44B8-8782-642E3F713A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F6F499-EC8D-491C-B2B4-8093179F5D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CE8ECC-B239-4F72-83A8-6BA8E522325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9098036-B9F1-4DFB-A226-0803829224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241259F-18F1-4715-BA75-B272F6AEC86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091F41B-DD01-42D3-8C33-E8EEFEC8454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A04CB9D-CC8A-4D49-889F-2CCDF07EFC3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2E309B7-5547-4928-B15E-EBBFB449857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7240EF9-9FF4-486A-8854-CB1AB1AF2F8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FB9B-8F7C-4F38-A1DB-F366A9C6BB2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06D7-C012-44CA-ADAA-0BFBD5E0C6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7738E61-193B-41BE-B71F-8EBF6A88FE5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0EBE-622E-4307-8661-010F08F6188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B61F-CD03-496B-A0DE-1F5D8E8A72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F5ABA919-1E8A-411F-8DEA-FF47B98AB59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6812049-CF44-44B1-9450-0F0280FBCA1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3FA1D2E-8CF7-4F3D-AB19-DF89173B600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C659B45-5595-44B7-8D17-F2F8D1D72BD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6F9C02A-23CF-4B8D-85E0-96589FC7E55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F4E0CBF-2E03-4AE3-909F-358575F4C1C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EC8838D-82BE-491B-A333-AE83AA37C6E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334E5F4B-C4D9-4A9A-9DE6-30631C5F105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D829EF0-74A7-4915-BD04-7A7BB0F40B5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9495AF9-FDC0-40CC-B02D-2D91404A632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87DB09D-CB05-440E-9EC2-45DE2B16896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98143D8-95BA-4076-BCE9-0F06DDDE4E0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F268112-0DBE-44CB-BAAA-96B2476E432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9E2D226-4361-4D61-AA4F-25A01647828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3"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8" name="Diagram 7" descr=""/>
          <p:cNvPicPr/>
          <p:nvPr/>
        </p:nvPicPr>
        <p:blipFill>
          <a:blip r:embed="rId1"/>
          <a:stretch/>
        </p:blipFill>
        <p:spPr>
          <a:xfrm>
            <a:off x="1560600" y="3505320"/>
            <a:ext cx="5297400" cy="227304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0"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ass</cp:lastModifiedBy>
  <dcterms:modified xsi:type="dcterms:W3CDTF">2013-06-07T09:45:52Z</dcterms:modified>
  <cp:revision>56</cp:revision>
  <dc:subject/>
  <dc:title>Slide 1</dc:title>
</cp:coreProperties>
</file>