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8E12-65AB-4A72-A947-2F0B883A624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CA8E-FBD0-40F3-8968-6D2FA4B3F3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C703-1A53-416E-A204-F228D3191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1F60-F8D6-49D4-B6F5-7E685C8F2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504F-301A-4BF4-B4D1-1EC620C36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DCAF-6244-41C8-BE9A-EC6468C4D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F089-E6BC-4C9F-8575-2792915C4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1F2D-78C6-420F-8C5E-A3F03FFCB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9005-9B8D-4DF9-BC5C-EDC4AB89D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4935-3522-4E77-9D70-DA7860083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9D84-5B0D-4C91-84F3-2A5A4552C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82FC-CC16-45A0-8E07-10A09FF5C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5A30-A093-449A-87DD-365F92716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61E3-5DCB-4665-8DA6-54D5E39B0F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170D-9056-4C2C-89CA-55A6F0E70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61A4-60D1-43BE-A1C5-8F26505AE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5BC4-1FF1-4C4D-B49A-2181EFC46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C97D-F147-4D33-869B-3CC55CF12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8FA0-F06B-4D7D-90E8-A30321271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1030-2167-4BF6-AC7B-6EE35EC35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5AAC-B538-4919-BAA2-D70FB5291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DD40-F30F-4982-BDAE-34C04F422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 centers</a:t>
            </a:r>
            <a:r>
              <a:rPr b="0" lang="en-US" sz="1200" spc="-1" strike="noStrike">
                <a:solidFill>
                  <a:srgbClr val="000000"/>
                </a:solidFill>
                <a:latin typeface="Calibri"/>
              </a:rPr>
              <a:t> are designed to move goods rather than just store them. They are large and highly automated warehouses designed to receive goods from various plants and suppliers, take orders, fill them efficiently, and deliver goods to customers as quickly as possible.  For example, Wal‑Mart operates a network of 112 huge U.S. distribution centers and another 57 around the globe. A single center, serves the daily needs of 75 to 100 Wal-Mart stores, typically contains some 1 million square feet of space (about 20 football fields) under a single roof. </a:t>
            </a: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42BE-9211-496E-91DD-DBDBA90CE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F7F8-1283-4035-94B2-45AEF0462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2BAC-1A6F-44F7-8139-1DA24E00C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8FFD-9039-493E-B8F0-4F6A272A2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29F4-BE16-4D22-AE79-D6F7DFBE0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A5B4-99D6-4C6E-BF61-28EE6F5F4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730D-6A5F-41D2-AEEC-BD9B4A7E5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5204-9DEF-4038-B27F-5E7C116C0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0954-3A42-48E9-9BC3-C33161A5C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DAB3-350A-4638-B587-167F53CE6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401A-578F-419B-B116-8322C39E0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A420-D31A-454A-94B4-7B7BCAD98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31C0-4A02-4286-8E93-9FF7CC675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918CA7B-73C2-46C9-8FDD-4CCDE0373FC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E5449F2-542A-4499-9B52-5CF00A9937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8A66E7D-93E3-4F56-A115-2E7F18FB68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38273AB-A825-41D3-A42F-F5A421FA28E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30D6B1B1-C9DE-40CA-9687-E3D1B0F078E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EBD7269-FF7C-4767-991A-157C34FAE65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BF75254-8451-477A-BFF4-17E488AE6D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1069E0A-CA0F-4CB7-846E-5C2EF86A5D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AE19129-5D4E-42A7-BBC2-52DE98D32F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022F590-8D68-4DB7-97FC-BD681CA81B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1A6D9E4-9669-4884-8938-F191150DFF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7A39E54-91A0-4C62-9C79-566DEC239F8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3FCA0E5-AB4E-49D5-A524-F5243F8022A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BA71B9A-28C8-418B-A3D1-E25C750917D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3C1C968-2367-4955-97F0-51214F2A7C1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7A2120-F30D-4512-A08F-9FE0B1BCAF6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4A8D039-CCB6-4E40-9C7C-7F65DCBD22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A55EB2A-3D13-4CFF-A220-36262CAEC44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9C67F7-36D9-4B86-8847-CE5341EF75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7089E9-9A9B-4192-9560-7CF3321419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53298D-E077-4B73-A377-406199C4595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6B04B9-8C4C-40D6-8FC6-ADDD8F4E13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ECE237-71D5-4EB4-B0C5-3CC4DB30818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63420DA-2AB2-484D-987E-7FA207392B1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D364C1F8-2AFB-41A4-B377-4B9AA5EC482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B20186D-38F4-460B-B154-294F99154A8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337B8BC-0949-4ADB-9399-AA276842FAE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B9E1-064E-4110-9DCF-4E3F44E2B01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14C1-4481-42B2-B15C-6E0297F16F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C6738F0-0D80-4469-B789-94ADCC6058E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8142-A972-4875-9615-D8FB8A0BE55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FEBA-EFF5-472B-8143-156CB26CA7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6F4BFC3D-6D7C-4D55-A4F2-627C306CB29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1911FA2-504C-4429-9DE1-F830971FD0F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3BCCC7F-64FB-4CC4-9D0E-57C4BDC4D76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FD03EC9-8777-40A4-9837-624ECB19305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079EB4D-186D-430A-BA25-A40E5102E00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481ED40-D5FF-42F5-8AEE-4E329C5C41A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06A46E1-0A2B-47F4-B991-75B25518B79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39FC388F-08CF-461A-A907-276E8E20690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C7200A6-4830-41F5-9AFB-AA2CA0E5A7D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294E035-C877-4349-8543-D0D4712F93F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1AA06FE-B318-41FF-8AF0-87C8A54CFC5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4293BCE6-E822-4D27-A837-E799FAF628A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CA0C8B9-BB64-4E48-BA97-80CB425D926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32A4F95-966A-4467-9B18-1A4A98E0550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o locat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ehous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3"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9"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1" name="Diagram 7" descr=""/>
          <p:cNvPicPr/>
          <p:nvPr/>
        </p:nvPicPr>
        <p:blipFill>
          <a:blip r:embed="rId1"/>
          <a:stretch/>
        </p:blipFill>
        <p:spPr>
          <a:xfrm>
            <a:off x="1560600" y="3505320"/>
            <a:ext cx="5297400" cy="2273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6"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aldarrab</cp:lastModifiedBy>
  <dcterms:modified xsi:type="dcterms:W3CDTF">2012-12-08T09:53:39Z</dcterms:modified>
  <cp:revision>52</cp:revision>
  <dc:subject/>
  <dc:title>Slide 1</dc:title>
</cp:coreProperties>
</file>