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FB04-C786-4748-8C27-EDE787D5BF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D029-E536-4603-92DC-840CF698C0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frameworks for assessing consumption-related cultural differences. One study identified the dimensions that cross-cultural studies should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Judgments regarding the quality of a country’s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Willingness to buy a country’s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Ethnocentrism—willingness to buy foreign-made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Perceptions of a country’s consumption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Acculturation—identification with a country’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Ethnic self-iden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National self-identification</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8206-57B3-482C-8D65-3C879AE35D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Entertainment: </a:t>
            </a:r>
            <a:r>
              <a:rPr b="0" lang="en-US" sz="1200" spc="-1" strike="noStrike">
                <a:solidFill>
                  <a:srgbClr val="000000"/>
                </a:solidFill>
                <a:latin typeface="Calibri"/>
              </a:rPr>
              <a:t>“I enjoy entertainment that I think is popular in many countries around the world more than traditional entertainment that is popular in my own country.” “I enjoy traditional entertainment that is popular in my own country as well as entertainment that I think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Furnishings: </a:t>
            </a:r>
            <a:r>
              <a:rPr b="0" lang="en-US" sz="1200" spc="-1" strike="noStrike">
                <a:solidFill>
                  <a:srgbClr val="000000"/>
                </a:solidFill>
                <a:latin typeface="Calibri"/>
              </a:rPr>
              <a:t>“I prefer to have home furnishings that are traditional in my country rather than furnishings that I think are popular in many countries around the world.” “I don’t really like my own country’s traditional home furnishings or furnishings that I think are 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Food: </a:t>
            </a:r>
            <a:r>
              <a:rPr b="0" lang="en-US" sz="1200" spc="-1" strike="noStrike">
                <a:solidFill>
                  <a:srgbClr val="000000"/>
                </a:solidFill>
                <a:latin typeface="Calibri"/>
              </a:rPr>
              <a:t>“I enjoy foods that I think are popular in many countries around the world more than my own country’s traditional foods.” “I enjoy my own country’s traditional foods as well as foods that I think are 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Lifestyles: </a:t>
            </a:r>
            <a:r>
              <a:rPr b="0" lang="en-US" sz="1200" spc="-1" strike="noStrike">
                <a:solidFill>
                  <a:srgbClr val="000000"/>
                </a:solidFill>
                <a:latin typeface="Calibri"/>
              </a:rPr>
              <a:t>“I prefer to have a lifestyle that is traditional in my own country rather than one that I think is similar to the lifestyle of consumers in many countries around the world.” “To be honest, I don’t find the traditional lifestyle in my own country or the consumer lifestyle that is similar in many countries around the world very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Brands: </a:t>
            </a:r>
            <a:r>
              <a:rPr b="0" lang="en-US" sz="1200" spc="-1" strike="noStrike">
                <a:solidFill>
                  <a:srgbClr val="000000"/>
                </a:solidFill>
                <a:latin typeface="Calibri"/>
              </a:rPr>
              <a:t>“I prefer to buy brands that I think are bought by consumers in many countries around the world rather than local brands that are sold only in my country.” “I prefer to buy both local brands that are sold only in my country and brands that I think are bought by consumers in many countries around the world.”</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D523-ECE4-4B29-81D3-6997B9D043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identified personal cultural orientations that can be used in cross-cultural measurement (two key statements for an “agree”/“disagree” scale are listed for each dim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Independence: </a:t>
            </a:r>
            <a:r>
              <a:rPr b="0" lang="en-US" sz="1200" spc="-1" strike="noStrike">
                <a:solidFill>
                  <a:srgbClr val="000000"/>
                </a:solidFill>
                <a:latin typeface="Calibri"/>
              </a:rPr>
              <a:t>“I would rather depend on myself than others.” “My personal identity, independent of others, is important to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terdependence: </a:t>
            </a:r>
            <a:r>
              <a:rPr b="0" lang="en-US" sz="1200" spc="-1" strike="noStrike">
                <a:solidFill>
                  <a:srgbClr val="000000"/>
                </a:solidFill>
                <a:latin typeface="Calibri"/>
              </a:rPr>
              <a:t>“The well-being of my group members is important for me.” “I feel good when I cooperate with my group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Power: </a:t>
            </a:r>
            <a:r>
              <a:rPr b="0" lang="en-US" sz="1200" spc="-1" strike="noStrike">
                <a:solidFill>
                  <a:srgbClr val="000000"/>
                </a:solidFill>
                <a:latin typeface="Calibri"/>
              </a:rPr>
              <a:t>“I easily conform to the wishes of someone in a higher position than mine.” “It is difficult for me to refuse a request if someone senior ask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Social Inequality: </a:t>
            </a:r>
            <a:r>
              <a:rPr b="0" lang="en-US" sz="1200" spc="-1" strike="noStrike">
                <a:solidFill>
                  <a:srgbClr val="000000"/>
                </a:solidFill>
                <a:latin typeface="Calibri"/>
              </a:rPr>
              <a:t>“A person’s social status reflects his or her place in the society.” “It is important for everyone to know their rightful place in the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Risk Aversion: </a:t>
            </a:r>
            <a:r>
              <a:rPr b="0" lang="en-US" sz="1200" spc="-1" strike="noStrike">
                <a:solidFill>
                  <a:srgbClr val="000000"/>
                </a:solidFill>
                <a:latin typeface="Calibri"/>
              </a:rPr>
              <a:t>“I tend to avoid talking to strangers.” “I prefer a routine way of life to an unpredictable one full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mbiguity Tolerance: </a:t>
            </a:r>
            <a:r>
              <a:rPr b="0" lang="en-US" sz="1200" spc="-1" strike="noStrike">
                <a:solidFill>
                  <a:srgbClr val="000000"/>
                </a:solidFill>
                <a:latin typeface="Calibri"/>
              </a:rPr>
              <a:t>“I find it difficult to function without clear directions and instructions.” “I prefer specific instructions to broad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Masculinity: </a:t>
            </a:r>
            <a:r>
              <a:rPr b="0" lang="en-US" sz="1200" spc="-1" strike="noStrike">
                <a:solidFill>
                  <a:srgbClr val="000000"/>
                </a:solidFill>
                <a:latin typeface="Calibri"/>
              </a:rPr>
              <a:t>“Women are generally more caring than men.” “Men are generally physically stronger th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Gender Equality: </a:t>
            </a:r>
            <a:r>
              <a:rPr b="0" lang="en-US" sz="1200" spc="-1" strike="noStrike">
                <a:solidFill>
                  <a:srgbClr val="000000"/>
                </a:solidFill>
                <a:latin typeface="Calibri"/>
              </a:rPr>
              <a:t>“It is OK for men to be emotional sometimes.” “Men do not have to be the sole breadwinner in a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Tradition: </a:t>
            </a:r>
            <a:r>
              <a:rPr b="0" lang="en-US" sz="1200" spc="-1" strike="noStrike">
                <a:solidFill>
                  <a:srgbClr val="000000"/>
                </a:solidFill>
                <a:latin typeface="Calibri"/>
              </a:rPr>
              <a:t>“I am proud of my culture.” “Respect for tradition is important for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Prudence: </a:t>
            </a:r>
            <a:r>
              <a:rPr b="0" lang="en-US" sz="1200" spc="-1" strike="noStrike">
                <a:solidFill>
                  <a:srgbClr val="000000"/>
                </a:solidFill>
                <a:latin typeface="Calibri"/>
              </a:rPr>
              <a:t>“I believe in planning for the long term.” “I work hard for success in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 Consumer Ethnocentrism: </a:t>
            </a:r>
            <a:r>
              <a:rPr b="0" lang="en-US" sz="1200" spc="-1" strike="noStrike">
                <a:solidFill>
                  <a:srgbClr val="000000"/>
                </a:solidFill>
                <a:latin typeface="Calibri"/>
              </a:rPr>
              <a:t>“We should not buy foreign products, because it hurts our economy.” “Only products that are unavailable in our country should be im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2. Consumer Innovativeness: </a:t>
            </a:r>
            <a:r>
              <a:rPr b="0" lang="en-US" sz="1200" spc="-1" strike="noStrike">
                <a:solidFill>
                  <a:srgbClr val="000000"/>
                </a:solidFill>
                <a:latin typeface="Calibri"/>
              </a:rPr>
              <a:t>“I am more interested in buying new than known products.” “I like to buy new and different products.”</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5A65-EBEA-4622-ABE7-793F1F0DDC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DAA8-2D0F-44FC-9B2A-699E8206A0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culturation </a:t>
            </a:r>
            <a:r>
              <a:rPr b="0" lang="en-US" sz="1200" spc="-1" strike="noStrike">
                <a:solidFill>
                  <a:srgbClr val="000000"/>
                </a:solidFill>
                <a:latin typeface="Calibri"/>
              </a:rPr>
              <a:t>is a dual learning process: First, marketers must learn everything that is relevant to the product and product category in the society in which they plan to market; then they must persuade, or “teach,” the members of that society to break with their traditional ways of doing things and adopt the new produ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ain acceptance for a culturally new product in a foreign society, marketers must develop a strategy that encourages members of that society to modify or even break with their own traditions (to change their attitudes and possibly alter their behavior). </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B37F-96EA-4D35-8490-0CCC563372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ltural analysis is very difficult for many reasons.  This chart gives some examples of the basic issues that multinational marketers must consider when planning cross-cultural research. Conducting consumer research studies in other foreign countries is often difficult. For instanc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to conduct Western-style market research in the Islamic countries of the Middle East. In Saudi Arabia, for instance, it is illegal to stop people on the streets, and focus groups are impractical because most gatherings of four or more people (with the exception of family and religious gathe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outlawed. American firms desiring to do business in Russia have found a limited amount of information regarding consumer and market statistics. Similarly, marketing research information on China is generally inadequate, and surveys that ask personal questions arouse suspicion.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ried other ways to elicit the data they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ssue in international marketing research concerns scales of measurement. In the United States, a 5- or 7-point scale may be adequate, but in other countries, a 10- or even 20-point scale may be needed. Still further, research facilities, such as telephone interviewing services, may or may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vailable in particular countries or areas of the world. </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39E3-179E-4801-AEAA-C398081A60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companies marketing overseas can adapt their offerings in other nations or market them the same way they do at hom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E17C-6443-447F-95C8-14A59EA808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nald McDonald that we all know has been renamed Donald McDonald in Japan, because the Japanese language does not contain the </a:t>
            </a:r>
            <a:r>
              <a:rPr b="0" i="1" lang="en-US" sz="1200" spc="-1" strike="noStrike">
                <a:solidFill>
                  <a:srgbClr val="000000"/>
                </a:solidFill>
                <a:latin typeface="Calibri"/>
              </a:rPr>
              <a:t>R </a:t>
            </a:r>
            <a:r>
              <a:rPr b="0" lang="en-US" sz="1200" spc="-1" strike="noStrike">
                <a:solidFill>
                  <a:srgbClr val="000000"/>
                </a:solidFill>
                <a:latin typeface="Calibri"/>
              </a:rPr>
              <a:t>sound. Additionally, the McDonald’s menu in Japan has been localized to include corn soup and green tea milkshak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weden, McDonald’s developed a new package using woodcut illustrations and a softer design to appeal to the consumers’ interest in food value and the outd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French person eats about 150 grams of bread a day, or roughly 55 kilograms a year. The French eat some form of bread with all meals, viewing bread as an extension of the knife and fork for pushing food around on the plate. In France, McDonald’s introduced McBaguette, a traditional French bread with a burger made from France’s famed Charolais beef and topped with French-made Emmental cheese and must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ipinos like their dried chicken with either rice or spaghetti, and both KFC and McDonald’s are serving them such dish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zza Hut introduced Pizza Hut Casual Dining in China, a chain that more closely resembles a Cheesecake Factory in terms of menu and motif, with a vast selection of American fare, including ribs, spaghetti, and steak, as well as café latte. However, Domino’s was not interested in offering table service, even if that was what locals were used to. The company entered the new market with a tried-and-true business model of delivery and carryout pizza that it deploy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bucks changed its offerings in Europe to accommodate local tastes and need for takeawa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lasses are being made with technical tweaks to better suit Asian facial characteristics, such as a lower nose saddle, where glasses rest on the face, and prominent cheekbones. Ray-Ban, Oakley, and Vogue have also rolled out special Asian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ay also vary their offerings for legal reasons.</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9C39-F567-4976-AEA9-FD48D1D5C6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logan “Chevy Runs Deep” did not translate well in some languages. The company replaced it with the slogan “Find New Roads” because the car represents different things to different people, a theme that resonates with consumer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When General Motors introduced the Chevy Nova in South America, it was apparently unaware that “no va” means “it won’t go.” After the company figured out why it was not selling any of these cars, it renamed the car in its Spanish markets as the Ca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hen Parker Pen marketed a ballpoint pen in Mexico, its ads were supposed to say “It won’t leak in your pocket and embarrass you.” However, the company mistakenly thought the Spanish word “embarazar” meant “embarrass.” Instead the ads said that “It won’t leak in your pocket and make you preg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When Vicks first introduced its cough drops on the German market, it was chagrined to learn that the German pronunciation of “v” is f—making its name in German the guttural equivalent of “sexual pene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In Taiwan, the translation of the Pepsi slogan “Come alive with the Pepsi Generation” came out as “Pepsi will bring your ancestors back from the d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ly growing Chinese market represents an enormously difficult cultural and linguistic challenge. The name </a:t>
            </a:r>
            <a:r>
              <a:rPr b="0" i="1" lang="en-US" sz="1200" spc="-1" strike="noStrike">
                <a:solidFill>
                  <a:srgbClr val="000000"/>
                </a:solidFill>
                <a:latin typeface="Calibri"/>
              </a:rPr>
              <a:t>Coca-Cola </a:t>
            </a:r>
            <a:r>
              <a:rPr b="0" lang="en-US" sz="1200" spc="-1" strike="noStrike">
                <a:solidFill>
                  <a:srgbClr val="000000"/>
                </a:solidFill>
                <a:latin typeface="Calibri"/>
              </a:rPr>
              <a:t>in China was first rendered as </a:t>
            </a:r>
            <a:r>
              <a:rPr b="0" i="1" lang="en-US" sz="1200" spc="-1" strike="noStrike">
                <a:solidFill>
                  <a:srgbClr val="000000"/>
                </a:solidFill>
                <a:latin typeface="Calibri"/>
              </a:rPr>
              <a:t>Ke-kou-ke-la</a:t>
            </a:r>
            <a:r>
              <a:rPr b="0" lang="en-US" sz="1200" spc="-1" strike="noStrike">
                <a:solidFill>
                  <a:srgbClr val="000000"/>
                </a:solidFill>
                <a:latin typeface="Calibri"/>
              </a:rPr>
              <a:t>. Unfortunately, the Coke company did not discover until after thousands of signs had been printed that the phrase means “bite the wax tadpole” or “female horse stuffed with wax” (depending on the dialect). Coke then researched 40,000 Chinese characters and found a close phonetic equivalent, </a:t>
            </a:r>
            <a:r>
              <a:rPr b="0" i="1" lang="en-US" sz="1200" spc="-1" strike="noStrike">
                <a:solidFill>
                  <a:srgbClr val="000000"/>
                </a:solidFill>
                <a:latin typeface="Calibri"/>
              </a:rPr>
              <a:t>ko-kou-ko-le</a:t>
            </a:r>
            <a:r>
              <a:rPr b="0" lang="en-US" sz="1200" spc="-1" strike="noStrike">
                <a:solidFill>
                  <a:srgbClr val="000000"/>
                </a:solidFill>
                <a:latin typeface="Calibri"/>
              </a:rPr>
              <a:t>, which can be loosely translated as “happiness in the mouth.”</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0CE0-3B32-418E-863F-AC8ABF31AC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ands, like Cadillac (</a:t>
            </a:r>
            <a:r>
              <a:rPr b="0" i="1" lang="en-US" sz="1200" spc="-1" strike="noStrike">
                <a:solidFill>
                  <a:srgbClr val="000000"/>
                </a:solidFill>
                <a:latin typeface="Calibri"/>
              </a:rPr>
              <a:t>Ka di la ke</a:t>
            </a:r>
            <a:r>
              <a:rPr b="0" lang="en-US" sz="1200" spc="-1" strike="noStrike">
                <a:solidFill>
                  <a:srgbClr val="000000"/>
                </a:solidFill>
                <a:latin typeface="Calibri"/>
              </a:rPr>
              <a:t>), or Hilton (</a:t>
            </a:r>
            <a:r>
              <a:rPr b="0" i="1" lang="en-US" sz="1200" spc="-1" strike="noStrike">
                <a:solidFill>
                  <a:srgbClr val="000000"/>
                </a:solidFill>
                <a:latin typeface="Calibri"/>
              </a:rPr>
              <a:t>Xi er dun</a:t>
            </a:r>
            <a:r>
              <a:rPr b="0" lang="en-US" sz="1200" spc="-1" strike="noStrike">
                <a:solidFill>
                  <a:srgbClr val="000000"/>
                </a:solidFill>
                <a:latin typeface="Calibri"/>
              </a:rPr>
              <a:t>), are phonetic translations that mean nothing in Chinese. Nevertheless, a genuine Chinese name can say a lot about the product’s characteristics and result in consumer attachment to the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Snickers’ Chinese name is </a:t>
            </a:r>
            <a:r>
              <a:rPr b="0" i="1" lang="en-US" sz="1200" spc="-1" strike="noStrike">
                <a:solidFill>
                  <a:srgbClr val="000000"/>
                </a:solidFill>
                <a:latin typeface="Calibri"/>
              </a:rPr>
              <a:t>Shi Li Jia</a:t>
            </a:r>
            <a:r>
              <a:rPr b="0" lang="en-US" sz="1200" spc="-1" strike="noStrike">
                <a:solidFill>
                  <a:srgbClr val="000000"/>
                </a:solidFill>
                <a:latin typeface="Calibri"/>
              </a:rPr>
              <a:t>, which literally means “honorary powerful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ide detergent is called </a:t>
            </a:r>
            <a:r>
              <a:rPr b="0" i="1" lang="en-US" sz="1200" spc="-1" strike="noStrike">
                <a:solidFill>
                  <a:srgbClr val="000000"/>
                </a:solidFill>
                <a:latin typeface="Calibri"/>
              </a:rPr>
              <a:t>Tai Zi</a:t>
            </a:r>
            <a:r>
              <a:rPr b="0" lang="en-US" sz="1200" spc="-1" strike="noStrike">
                <a:solidFill>
                  <a:srgbClr val="000000"/>
                </a:solidFill>
                <a:latin typeface="Calibri"/>
              </a:rPr>
              <a:t>, which, in addition to resembling the name </a:t>
            </a:r>
            <a:r>
              <a:rPr b="0" i="1" lang="en-US" sz="1200" spc="-1" strike="noStrike">
                <a:solidFill>
                  <a:srgbClr val="000000"/>
                </a:solidFill>
                <a:latin typeface="Calibri"/>
              </a:rPr>
              <a:t>Tide </a:t>
            </a:r>
            <a:r>
              <a:rPr b="0" lang="en-US" sz="1200" spc="-1" strike="noStrike">
                <a:solidFill>
                  <a:srgbClr val="000000"/>
                </a:solidFill>
                <a:latin typeface="Calibri"/>
              </a:rPr>
              <a:t>phonetically, also means “gets rid of di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olgate is </a:t>
            </a:r>
            <a:r>
              <a:rPr b="0" i="1" lang="en-US" sz="1200" spc="-1" strike="noStrike">
                <a:solidFill>
                  <a:srgbClr val="000000"/>
                </a:solidFill>
                <a:latin typeface="Calibri"/>
              </a:rPr>
              <a:t>Gao Lu Jie</a:t>
            </a:r>
            <a:r>
              <a:rPr b="0" lang="en-US" sz="1200" spc="-1" strike="noStrike">
                <a:solidFill>
                  <a:srgbClr val="000000"/>
                </a:solidFill>
                <a:latin typeface="Calibri"/>
              </a:rPr>
              <a:t>, meaning “revealing superior cleanl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r. Muscle is </a:t>
            </a:r>
            <a:r>
              <a:rPr b="0" i="1" lang="en-US" sz="1200" spc="-1" strike="noStrike">
                <a:solidFill>
                  <a:srgbClr val="000000"/>
                </a:solidFill>
                <a:latin typeface="Calibri"/>
              </a:rPr>
              <a:t>Wei Meng Xian Sheng</a:t>
            </a:r>
            <a:r>
              <a:rPr b="0" lang="en-US" sz="1200" spc="-1" strike="noStrike">
                <a:solidFill>
                  <a:srgbClr val="000000"/>
                </a:solidFill>
                <a:latin typeface="Calibri"/>
              </a:rPr>
              <a:t>, which literally means “Mr. Power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itibank is </a:t>
            </a:r>
            <a:r>
              <a:rPr b="0" i="1" lang="en-US" sz="1200" spc="-1" strike="noStrike">
                <a:solidFill>
                  <a:srgbClr val="000000"/>
                </a:solidFill>
                <a:latin typeface="Calibri"/>
              </a:rPr>
              <a:t>Hua Qi Yinhang</a:t>
            </a:r>
            <a:r>
              <a:rPr b="0" lang="en-US" sz="1200" spc="-1" strike="noStrike">
                <a:solidFill>
                  <a:srgbClr val="000000"/>
                </a:solidFill>
                <a:latin typeface="Calibri"/>
              </a:rPr>
              <a:t>, which literally means “star-spangled banner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Lay’s is called </a:t>
            </a:r>
            <a:r>
              <a:rPr b="0" i="1" lang="en-US" sz="1200" spc="-1" strike="noStrike">
                <a:solidFill>
                  <a:srgbClr val="000000"/>
                </a:solidFill>
                <a:latin typeface="Calibri"/>
              </a:rPr>
              <a:t>Le Shi</a:t>
            </a:r>
            <a:r>
              <a:rPr b="0" lang="en-US" sz="1200" spc="-1" strike="noStrike">
                <a:solidFill>
                  <a:srgbClr val="000000"/>
                </a:solidFill>
                <a:latin typeface="Calibri"/>
              </a:rPr>
              <a:t>, meaning “happ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AD8D-8572-4E76-B49E-9639E9B353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explores consumer behavior across cultures and effective strategies for appealing to consumers around the globe.</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F301-DD30-4007-9E87-9E6ED3E5C4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K, riskier, more aggressive, and affective humorous advertisements are used. In contrast, Greeks preferred neutral humorous advertisements whose appeal was not perceived as very offensive; these were considered more sui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showed that many fragrance ads shown in Western countries featured overt sexual appeals. However, in Asian countries, particularly those that are predominately Muslim or Buddhist, advertisers should not portray women in sexual 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South Asian cultures, one study discovered that Australian, Chinese, and U.S. consumers form significantly different attitudes regarding the same ad. However, buying intentions toward the advertised brand are not significantly different. Despite the general assumption that Chines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ht react least favorably to sex-appeal ads, the study found that they hold similar attitudes toward such ads as U.S. consumers and even more favorable attitudes than Australian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Chinese Generation-X consumers, aged 18 to 35, with high income and high education, found that they were equally persuaded by individualistic and collectivistic ad appeals, whereas their older counterparts were more persuaded by collectivistic than individualistic ad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advertising has been used more in the United States than in other countries. However, one study of American and Thai consumers discovered that the persuasive ability of comparative ads among both groups was related to the two personality traits: </a:t>
            </a:r>
            <a:r>
              <a:rPr b="1" lang="en-US" sz="1200" spc="-1" strike="noStrike">
                <a:solidFill>
                  <a:srgbClr val="000000"/>
                </a:solidFill>
                <a:latin typeface="Calibri"/>
              </a:rPr>
              <a:t>self-construal</a:t>
            </a:r>
            <a:r>
              <a:rPr b="0" lang="en-US" sz="1200" spc="-1" strike="noStrike">
                <a:solidFill>
                  <a:srgbClr val="000000"/>
                </a:solidFill>
                <a:latin typeface="Calibri"/>
              </a:rPr>
              <a:t>, which refers to how individuals perceive, comprehend, and interpret the world around them, particularly the behavior or action of others towards themselves, and </a:t>
            </a:r>
            <a:r>
              <a:rPr b="1" lang="en-US" sz="1200" spc="-1" strike="noStrike">
                <a:solidFill>
                  <a:srgbClr val="000000"/>
                </a:solidFill>
                <a:latin typeface="Calibri"/>
              </a:rPr>
              <a:t>need for cognition</a:t>
            </a:r>
            <a:r>
              <a:rPr b="0" lang="en-US" sz="1200" spc="-1" strike="noStrike">
                <a:solidFill>
                  <a:srgbClr val="000000"/>
                </a:solidFill>
                <a:latin typeface="Calibri"/>
              </a:rPr>
              <a:t>. Another study compared American and Korean consumers and demonstrated that cultural values were more important in influencing reactions to comparative ads than reactions to non-comparative ads, and that need for cognition had an impact on the persuasiveness of comparative ads for both groups. </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33F2-C4F8-4710-90F3-E724C32BBF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Quality Signal: </a:t>
            </a:r>
            <a:r>
              <a:rPr b="0" lang="en-US" sz="1200" spc="-1" strike="noStrike">
                <a:solidFill>
                  <a:srgbClr val="000000"/>
                </a:solidFill>
                <a:latin typeface="Calibri"/>
              </a:rPr>
              <a:t>Consumers believe that the more people who purchase a brand, the higher the brand’s quality (which often results in a global brand being able to command a premium price).  Furthermore, consumers worldwide believe that global brands develop new products and break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ies at a faster pace than loc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Global Myth: </a:t>
            </a:r>
            <a:r>
              <a:rPr b="0" lang="en-US" sz="1200" spc="-1" strike="noStrike">
                <a:solidFill>
                  <a:srgbClr val="000000"/>
                </a:solidFill>
                <a:latin typeface="Calibri"/>
              </a:rPr>
              <a:t>Consumers view global brands as a kind of “cultural ideal”; their purchase and use make consumers feel like citizens of the world, and give them an identity (i.e., “</a:t>
            </a:r>
            <a:r>
              <a:rPr b="0" i="1" lang="en-US" sz="1200" spc="-1" strike="noStrike">
                <a:solidFill>
                  <a:srgbClr val="000000"/>
                </a:solidFill>
                <a:latin typeface="Calibri"/>
              </a:rPr>
              <a:t>Local brands show what we are; global brands show what we want to b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Social Responsibility: </a:t>
            </a:r>
            <a:r>
              <a:rPr b="0" lang="en-US" sz="1200" spc="-1" strike="noStrike">
                <a:solidFill>
                  <a:srgbClr val="000000"/>
                </a:solidFill>
                <a:latin typeface="Calibri"/>
              </a:rPr>
              <a:t>Global companies are held to a higher level of corporate social responsibility than local brands, and are expected to respond to social problems associated with what they s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12-nation study, the importance of these three dimensions was consistent, and the insights revealed by the research accounted for more than 60% of the variation in the overall brand preferences. The study also identified intracountry segments with respect to how a country’s citizens 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Global Citizens </a:t>
            </a:r>
            <a:r>
              <a:rPr b="0" lang="en-US" sz="1200" spc="-1" strike="noStrike">
                <a:solidFill>
                  <a:srgbClr val="000000"/>
                </a:solidFill>
                <a:latin typeface="Calibri"/>
              </a:rPr>
              <a:t>(55% of the total respondents) use a company’s global success as an indication of product quality and innovativeness, and are concerned that the firm acts in a socially responsible m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Global Dreamers </a:t>
            </a:r>
            <a:r>
              <a:rPr b="0" lang="en-US" sz="1200" spc="-1" strike="noStrike">
                <a:solidFill>
                  <a:srgbClr val="000000"/>
                </a:solidFill>
                <a:latin typeface="Calibri"/>
              </a:rPr>
              <a:t>(23%) view global brands as quality products, and are not particularly concerned about social responsibility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ntiglobals </a:t>
            </a:r>
            <a:r>
              <a:rPr b="0" lang="en-US" sz="1200" spc="-1" strike="noStrike">
                <a:solidFill>
                  <a:srgbClr val="000000"/>
                </a:solidFill>
                <a:latin typeface="Calibri"/>
              </a:rPr>
              <a:t>(13%) feel that global brands are higher quality than local brands, but they dislike brands that preach U.S. values and do not trust global companies to act responsibly. Generally, they try to avoid purchasing glob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Global Agnostics </a:t>
            </a:r>
            <a:r>
              <a:rPr b="0" lang="en-US" sz="1200" spc="-1" strike="noStrike">
                <a:solidFill>
                  <a:srgbClr val="000000"/>
                </a:solidFill>
                <a:latin typeface="Calibri"/>
              </a:rPr>
              <a:t>(8%) evaluate global brands in the same way they evaluate local brands.</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E279-9F03-4142-8721-6B7E20D411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3.2 shows four ads for the Patek Philippe watch illustrating a global brand.</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FE4A-89A7-45CA-ADCF-099AAC32D4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4BB4-89FB-403B-9214-43CC2AD0E0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11CF-1900-4B14-B216-2E51441A6E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continuously monitor their brand shares in domestic and foreign markets. Euromonitor International is the most prominent database of brand shares in virtually all product categories around the world. For example, Table 13.8 illustrates that Procter &amp; Gamble and Unilever have successfully penetrated four important shampoo markets. In both the United States and China—the world’s largest markets—Head &amp; Shoulders dominates the shampoo sector, and other Procter &amp; Gamble brands have significant presence. In contrast, in Germany, a local brand has the largest market share and Procter and Gamble’s shampoo has had limited success. Interestingly, in each of the four countries, a large portion of the market represents lesser-known brands.</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1420-A700-46E2-B73F-B6589F0B93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ms are increasingly selling their products worldwide, for a variety of reasons. </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AED8-2AF9-435F-AD0C-0A54BAE178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has been an ongoing buildup of “multinational fever,” and the general attractiveness of multinational markets, products, or services originating in one country means that they are increasingly being sought out by consumers in countries in other parts of the world. Second, many firms have learned that overseas markets represent an important opportunity for their future growth when their home markets reach maturity. This realization is propelling them to expand their horizons and seek consumers in markets all over the world. Moreover, consumers around the globe are eager to try “foreign” products that are popular in different and far-off places.</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5B59-E3DD-44AF-ACBE-5B47288CE3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criterion for identifying global marketing opportunities is a country’s consumer spending and its growth prospects. Figure 13.3 shows consumer gross income, disposable income, and consumer expenditures in numerous countries. Although Norway had the highest gross in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wegians’ disposable income is not that much higher than that of Americans, because Norway’s tax rates are much higher than those in the United States. The small gap between disposable income and consumer expenditures in the United States reflects the nation’s modest savings rate. In Gre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expenditures are slightly higher than disposable income, which indicates that Greeks have been “living beyond their mean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470D-1BD9-443E-9BAD-AEAE66174C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teenagers (and their somewhat older brothers and sisters, the “young adult” segment) appear to have quite similar interests, desires, and consumption behavior no matter where they live. Therefore, in response to this perspective, consumer researchers have explored the makeup, composition, and behavior of this segment. </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2CE4-CCC9-4CF6-8ED1-B6FE03DBB7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ek Philippe created a global campaign, where the advertising copy is in different languages, but the message the ads communicate is the same: Patek Philippe is not only a unique watch, but also an heirloom. It is a timeless artifact passed on from one generation to the next. It is exclusive, indispensible, and represents parents’ deep and forever lasting bonds with their children, which are universal and cross-cultural truths. Like all of Patek Philippe’s ad campaigns, the tagline “Begin your own tradition” originates from the brand’s foundation: “You never really own a Patek Philippe. You merely look after it for the next generation.”</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22F9-E37E-429D-88A1-44AA3044BC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990s, according to the BBDO research, the “coolest” teens were found in the United States. Currently, though, the “coolest” teen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ives, </a:t>
            </a:r>
            <a:r>
              <a:rPr b="0" lang="en-US" sz="1200" spc="-1" strike="noStrike">
                <a:solidFill>
                  <a:srgbClr val="000000"/>
                </a:solidFill>
                <a:latin typeface="Calibri"/>
              </a:rPr>
              <a:t>can be found in all of the 13 countries examined in the research. The Creatives represent about 30% of all teenagers, and are especially numerous in Western Europe (some 23% of U.S. teens are Creatives).  </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0E54-ACF5-42A5-8C9F-CBC2D15262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5C90-6CF1-48F8-B77E-73A585F9FC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Japan, businesses use the Japan-VALS framework to monitor Japan’s consumer environment; generate new product ideas; segment Japanese consumers into potential target markets; differentiate brands; and develop effective pricing, distribution, and promotional strategies. The Japan-VALS segments stem from consumers’ </a:t>
            </a:r>
            <a:r>
              <a:rPr b="0" i="1" lang="en-US" sz="1200" spc="-1" strike="noStrike">
                <a:solidFill>
                  <a:srgbClr val="000000"/>
                </a:solidFill>
                <a:latin typeface="Calibri"/>
              </a:rPr>
              <a:t>primary motivations </a:t>
            </a:r>
            <a:r>
              <a:rPr b="0" lang="en-US" sz="1200" spc="-1" strike="noStrike">
                <a:solidFill>
                  <a:srgbClr val="000000"/>
                </a:solidFill>
                <a:latin typeface="Calibri"/>
              </a:rPr>
              <a:t>and </a:t>
            </a:r>
            <a:r>
              <a:rPr b="0" i="1" lang="en-US" sz="1200" spc="-1" strike="noStrike">
                <a:solidFill>
                  <a:srgbClr val="000000"/>
                </a:solidFill>
                <a:latin typeface="Calibri"/>
              </a:rPr>
              <a:t>degree of innovativeness</a:t>
            </a:r>
            <a:r>
              <a:rPr b="0" lang="en-US" sz="1200" spc="-1" strike="noStrike">
                <a:solidFill>
                  <a:srgbClr val="000000"/>
                </a:solidFill>
                <a:latin typeface="Calibri"/>
              </a:rPr>
              <a:t>, where innovativeness is measured as attitudes toward social change. Primary motivations include tradition, achievement, and self-expression. As illustrated in Figure 13.6. Japanese consumers are classified within these three factors according to their degree of innovativeness, where Integrators are the most innovative and Sustainers the least. </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4291-E42F-412D-86D4-FF6C1B811F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per Starch Worldwide interviewed 35,000 consumers in 35 countries in order to identify shared values, irrespective of national borders. The research sought to uncover the bedrock values in peoples’ lives so as to understand the motivations that drive both attitudes and behavior. After completing the interviews in North and South America, Asia, and Europe, six global value groups were unco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Strivers</a:t>
            </a:r>
            <a:r>
              <a:rPr b="0" lang="en-US" sz="1200" spc="-1" strike="noStrike">
                <a:solidFill>
                  <a:srgbClr val="000000"/>
                </a:solidFill>
                <a:latin typeface="Calibri"/>
              </a:rPr>
              <a:t>—ambitious and material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Devouts</a:t>
            </a:r>
            <a:r>
              <a:rPr b="0" lang="en-US" sz="1200" spc="-1" strike="noStrike">
                <a:solidFill>
                  <a:srgbClr val="000000"/>
                </a:solidFill>
                <a:latin typeface="Calibri"/>
              </a:rPr>
              <a:t>—responsible, respectful, and conserv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ltruists</a:t>
            </a:r>
            <a:r>
              <a:rPr b="0" lang="en-US" sz="1200" spc="-1" strike="noStrike">
                <a:solidFill>
                  <a:srgbClr val="000000"/>
                </a:solidFill>
                <a:latin typeface="Calibri"/>
              </a:rPr>
              <a:t>—unselfish in their concern for others, society, and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Intimates</a:t>
            </a:r>
            <a:r>
              <a:rPr b="0" lang="en-US" sz="1200" spc="-1" strike="noStrike">
                <a:solidFill>
                  <a:srgbClr val="000000"/>
                </a:solidFill>
                <a:latin typeface="Calibri"/>
              </a:rPr>
              <a:t>—focus on social relationships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Fun Seekers</a:t>
            </a:r>
            <a:r>
              <a:rPr b="0" lang="en-US" sz="1200" spc="-1" strike="noStrike">
                <a:solidFill>
                  <a:srgbClr val="000000"/>
                </a:solidFill>
                <a:latin typeface="Calibri"/>
              </a:rPr>
              <a:t>—young in age and outlook, value adventure and good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Creatives</a:t>
            </a:r>
            <a:r>
              <a:rPr b="0" lang="en-US" sz="1200" spc="-1" strike="noStrike">
                <a:solidFill>
                  <a:srgbClr val="000000"/>
                </a:solidFill>
                <a:latin typeface="Calibri"/>
              </a:rPr>
              <a:t>—seek knowledge and insight, and have a keen interest in books and new media.</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1588-4A98-4B0D-BB17-42BE51D0F2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6C05-5165-429F-82A9-ADF8E026F7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obal marketing strategy consists of selling the same product using the same positioning approach and communications globally.  A local marketing strategy consists of customizing both the product and the communications program for each unique market. Within this continuum are two hybrid marketing strategies, which consist of standardizing the product or advertising message (but not both), while customizing the other one. Marketers must conduct cross-cultural consumer analysis to obtain consumer reactions to alternative product and promotional executions, in order to choose the best strategy.</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3E56-2AA3-4D95-927F-F233256A17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ltural analysis can provide marketers with an understanding of the psychological, social, and cultural characteristics of the foreign consumers they wish to target, so that they can design effective marketing strategies for the specific national markets involved.</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E7B5-14C5-4459-863A-5044BD6D0E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A04B-0915-4691-93D2-554994D5FE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3.2 lists the research issues that should be considered in cross-cultural analysis. Cross-cultural consumer analysis might also include a comparison of subcultural groups within a single country.</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3FB8-C8B1-453D-B6D2-46AA2219DC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cross-cultural consumer analysis is to determine how consumers in two or more societies are similar and how they are different. For instance, Table 13.3 presents the differences between Chinese and American cultural traits. Countries like China and Mexico are “collectivistic” (“we”) cultures, whereas the United States and the United Kingdom are “individualistic” (“I”) cultures. Collectivists rely more on word-of-mouth, preferring information from trusted, familiar sources when forming their expectations regarding airline travel. Individualists, in contrast, rely on unambiguous verbal or written communication, and attach more importance to explicit and implicit promises and third parti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8D97-612B-45E6-A223-C956247336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in four countries (United States, United Kingdom, France, and Germany) examined whether there were differences in terms of “consumer style” (i.e., how a consumer approaches the purchase and consumption experience, including attitudes, beliefs, and decision rules about price, value, etc.). Table 13.4 presents some of the consumer style differences among subject participants from the four countries. Based on consumer style, the researchers were able to segment these consumers into four clusters: (1) price-sensitive consumers, (2) variety-seeking consumers, (3) brand-loyal consumers, and (4) information-seeking consumers, which are described in Table 13.5. Because German consumers, for example, tend to be less brand loyal and more price sensitive than their counterparts from the other three nations in the study, it is not surprising that German participants are underrepresented in the brand-loyal consumer cluster and overrepresented in the price-sensitive cluster.</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BDC1-F6E5-405D-B3E3-39A8FF6C80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FE77F80-E3B0-431E-A9BC-CF30EDB30D94}"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412C982-C312-4617-8D35-68E30C10881F}"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D7578C6-BAB6-4B13-88FB-D28D0633397D}"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7A8793A-011D-415E-996F-ABC1DA656194}"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5F25146-39A7-4064-B9B3-08785A085E16}"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3E226DD-850B-4DCC-8F84-590D981EF808}"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1067A5F-5DCE-4F8B-A012-17D1A2D5F85A}"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A44849E-D8F0-42BF-B3E2-07DA4E4022AA}"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3</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sp>
        <p:nvSpPr>
          <p:cNvPr id="365" name="TextBox 1"/>
          <p:cNvSpPr/>
          <p:nvPr/>
        </p:nvSpPr>
        <p:spPr>
          <a:xfrm>
            <a:off x="304920" y="6477120"/>
            <a:ext cx="5943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pic>
        <p:nvPicPr>
          <p:cNvPr id="366" name="Picture 2" descr=""/>
          <p:cNvPicPr/>
          <p:nvPr/>
        </p:nvPicPr>
        <p:blipFill>
          <a:blip r:embed="rId2"/>
          <a:stretch/>
        </p:blipFill>
        <p:spPr>
          <a:xfrm>
            <a:off x="3733920" y="762120"/>
            <a:ext cx="1689120" cy="1600200"/>
          </a:xfrm>
          <a:prstGeom prst="rect">
            <a:avLst/>
          </a:prstGeom>
          <a:ln w="0">
            <a:noFill/>
          </a:ln>
        </p:spPr>
      </p:pic>
      <p:sp>
        <p:nvSpPr>
          <p:cNvPr id="367" name="TextBox 3"/>
          <p:cNvSpPr/>
          <p:nvPr/>
        </p:nvSpPr>
        <p:spPr>
          <a:xfrm flipH="1">
            <a:off x="1371600" y="304020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ross –Cultural Consumer Behavi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 judgm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llingness to buy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ocentris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erceptions of consumption cul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cultu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ic self-identific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ational self-identification</a:t>
            </a:r>
            <a:endParaRPr b="0" lang="en-US" sz="3200" spc="-1" strike="noStrike">
              <a:solidFill>
                <a:srgbClr val="000000"/>
              </a:solidFill>
              <a:latin typeface="Calibri"/>
            </a:endParaRPr>
          </a:p>
        </p:txBody>
      </p:sp>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143000"/>
            <a:ext cx="8229600" cy="5410080"/>
          </a:xfrm>
          <a:prstGeom prst="rect">
            <a:avLst/>
          </a:prstGeom>
          <a:noFill/>
          <a:ln w="0">
            <a:noFill/>
          </a:ln>
        </p:spPr>
        <p:txBody>
          <a:bodyPr lIns="90000" rIns="90000" tIns="46800" bIns="46800" anchor="t">
            <a:normAutofit fontScale="9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Attitudes toward local and global products </a:t>
            </a:r>
            <a:r>
              <a:rPr b="0" lang="en-US" sz="1800" spc="-1" strike="noStrike">
                <a:solidFill>
                  <a:srgbClr val="000000"/>
                </a:solidFill>
                <a:latin typeface="Candara"/>
              </a:rPr>
              <a:t>(Agree/Disagree)</a:t>
            </a:r>
            <a:endParaRPr b="0" lang="en-US" sz="18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Entertainment</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enjoy entertainment that I think is popular in many countries around the world more than traditional entertainment that is popular in my own country. </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Furnishing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have home furnishings that are traditional in my country rather than furnishings that I think are popular in many countries around the world.</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Food</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enjoy foods that I think are popular in many countries around the world more than my own country’s traditional foods.</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Lifestyle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have a lifestyle that is traditional in my own country rather than one that I think is similar to the lifestyle of consumers in many countries around the world.</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Brand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buy brands that I think are bought by consumers in many countries around the world rather than local brands that are sold only in my countr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depen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depen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w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inequa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isk avers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biguity tolerance</a:t>
            </a:r>
            <a:endParaRPr b="0" lang="en-US" sz="2800" spc="-1" strike="noStrike">
              <a:solidFill>
                <a:srgbClr val="000000"/>
              </a:solidFill>
              <a:latin typeface="Calibri"/>
            </a:endParaRPr>
          </a:p>
        </p:txBody>
      </p:sp>
      <p:sp>
        <p:nvSpPr>
          <p:cNvPr id="39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asculin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der equa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u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thnocentris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veness</a:t>
            </a:r>
            <a:endParaRPr b="0" lang="en-US" sz="2800" spc="-1" strike="noStrike">
              <a:solidFill>
                <a:srgbClr val="000000"/>
              </a:solidFill>
              <a:latin typeface="Calibri"/>
            </a:endParaRPr>
          </a:p>
        </p:txBody>
      </p:sp>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process by which marketers learn—via cross-cultural analysis—about the values, beliefs, and customs of other cultures and then apply this knowledge to marketing products internationally</a:t>
            </a:r>
            <a:endParaRPr b="0" lang="en-US" sz="3600" spc="-1" strike="noStrike">
              <a:solidFill>
                <a:srgbClr val="000000"/>
              </a:solidFill>
              <a:latin typeface="Calibri"/>
            </a:endParaRPr>
          </a:p>
        </p:txBody>
      </p:sp>
      <p:sp>
        <p:nvSpPr>
          <p:cNvPr id="39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ccultu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8229600" cy="4525920"/>
          </a:xfrm>
          <a:prstGeom prst="rect">
            <a:avLst/>
          </a:prstGeom>
          <a:noFill/>
          <a:ln w="0">
            <a:noFill/>
          </a:ln>
        </p:spPr>
        <p:txBody>
          <a:bodyPr lIns="90000" rIns="90000" tIns="46800" bIns="46800" anchor="t">
            <a:normAutofit/>
          </a:bodyPr>
          <a:p>
            <a:pPr marL="514440" indent="-51444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ers learn everything relevant about the product/product category in the chosen market</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ers must persuade/teach members of the chosen market to change traditional ways of doing things and adopt the new product</a:t>
            </a:r>
            <a:endParaRPr b="0" lang="en-US" sz="32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cculturation: Dual Learning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Research Difficulties</a:t>
            </a:r>
            <a:endParaRPr b="0" lang="en-US" sz="4400" spc="-1" strike="noStrike">
              <a:solidFill>
                <a:srgbClr val="000000"/>
              </a:solidFill>
              <a:latin typeface="Calibri"/>
            </a:endParaRPr>
          </a:p>
        </p:txBody>
      </p:sp>
      <p:graphicFrame>
        <p:nvGraphicFramePr>
          <p:cNvPr id="398" name=""/>
          <p:cNvGraphicFramePr/>
          <p:nvPr/>
        </p:nvGraphicFramePr>
        <p:xfrm>
          <a:off x="152280" y="1447920"/>
          <a:ext cx="8839440" cy="4984560"/>
        </p:xfrm>
        <a:graphic>
          <a:graphicData uri="http://schemas.openxmlformats.org/drawingml/2006/table">
            <a:tbl>
              <a:tblPr/>
              <a:tblGrid>
                <a:gridCol w="4419720"/>
                <a:gridCol w="4419720"/>
              </a:tblGrid>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ACTOR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XAMPLE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cult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to stop people on streets and focus groups impractical in Saudi Arab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marketing research inform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ssia and China have limited information regarding consumer statistic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1263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appropriate scales of measurem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10- or 20- point scale may be needed in other countries (vs. 5 to 7- point scale in the U. 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the availability of research facilitie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ephone interviewing services may not be available in particular countries of the worl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2</a:t>
            </a:r>
            <a:endParaRPr b="0" lang="en-US" sz="4400" spc="-1" strike="noStrike">
              <a:solidFill>
                <a:srgbClr val="000000"/>
              </a:solidFill>
              <a:latin typeface="Calibri"/>
            </a:endParaRPr>
          </a:p>
        </p:txBody>
      </p:sp>
      <p:sp>
        <p:nvSpPr>
          <p:cNvPr id="40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2 To understand how to decide whether to customize products for global markets or to sell standardized o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95288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cDonald’s</a:t>
            </a:r>
            <a:endParaRPr b="0" lang="en-US" sz="32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pan: Donald McDonald vs. Ronald McDonald</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pan: Corn soup and green tea milkshakes</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weden: Softer design and woodcut packaging</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ance: McBaguet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ilippines: Rice and spaghetti as side dishes</a:t>
            </a:r>
            <a:endParaRPr b="0" lang="en-US" sz="28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izza Hut Casual Dining in China</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arbucks coffee in Europe</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nglasses for Chinese people</a:t>
            </a: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stomization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eral Motors</a:t>
            </a:r>
            <a:endParaRPr b="0" lang="en-US" sz="28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evy Runs Deep </a:t>
            </a:r>
            <a:r>
              <a:rPr b="0" lang="en-US" sz="2400" spc="-1" strike="noStrike">
                <a:solidFill>
                  <a:srgbClr val="000000"/>
                </a:solidFill>
                <a:latin typeface="Wingdings"/>
                <a:ea typeface="Wingdings"/>
              </a:rPr>
              <a:t></a:t>
            </a:r>
            <a:r>
              <a:rPr b="0" lang="en-US" sz="2400" spc="-1" strike="noStrike">
                <a:solidFill>
                  <a:srgbClr val="000000"/>
                </a:solidFill>
                <a:latin typeface="Candara"/>
              </a:rPr>
              <a:t> Find New Road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va “No Go” (Spanish) </a:t>
            </a:r>
            <a:r>
              <a:rPr b="0" lang="en-US" sz="2400" spc="-1" strike="noStrike">
                <a:solidFill>
                  <a:srgbClr val="000000"/>
                </a:solidFill>
                <a:latin typeface="Wingdings"/>
                <a:ea typeface="Wingdings"/>
              </a:rPr>
              <a:t></a:t>
            </a:r>
            <a:r>
              <a:rPr b="0" lang="en-US" sz="2400" spc="-1" strike="noStrike">
                <a:solidFill>
                  <a:srgbClr val="000000"/>
                </a:solidFill>
                <a:latin typeface="Candara"/>
              </a:rPr>
              <a:t> Caribe</a:t>
            </a:r>
            <a:endParaRPr b="0" lang="en-US" sz="24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ker Pens (Mexico): “It won’t leak in your pocket and make you pregnant” </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cks cough drops (Germany): sexual penetr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psi (Taiwan): bring ancestors back from the dead</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c-Cola (China): Ke-kou-ke-la = bite the wax tadpole or female horse stuffed with wax </a:t>
            </a:r>
            <a:r>
              <a:rPr b="0" lang="en-US" sz="2800" spc="-1" strike="noStrike">
                <a:solidFill>
                  <a:srgbClr val="000000"/>
                </a:solidFill>
                <a:latin typeface="Wingdings"/>
                <a:ea typeface="Wingdings"/>
              </a:rPr>
              <a:t></a:t>
            </a:r>
            <a:r>
              <a:rPr b="0" lang="en-US" sz="2800" spc="-1" strike="noStrike">
                <a:solidFill>
                  <a:srgbClr val="000000"/>
                </a:solidFill>
                <a:latin typeface="Candara"/>
              </a:rPr>
              <a:t> Ko-kou-ko-le = happiness in the mouth</a:t>
            </a:r>
            <a:endParaRPr b="0" lang="en-US" sz="28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inguistic Barri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adillac (Ka di la ke) and Hilton (Xi er dun) = phonetic translations; mean nothing</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nickers’ (Shi Li Jia) = “honorary powerful support”</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ide (Tai Zi) = “gets rid of dirt”</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olgate (Gao Lu Jie) = “revealing superior cleanliness”</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itibank (Hua Qi Yihang) = “star-spangled banner bank”</a:t>
            </a:r>
            <a:endParaRPr b="0" lang="en-US" sz="3000" spc="-1" strike="noStrike">
              <a:solidFill>
                <a:srgbClr val="000000"/>
              </a:solidFill>
              <a:latin typeface="Calibri"/>
            </a:endParaRPr>
          </a:p>
        </p:txBody>
      </p:sp>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inese Names: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3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1 To understand how to study the values and customs of different cultures in order to develop effective marketing strategi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2 To understand how to decide whether to customize products for global markets or to sell standardized on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3 To understand how to identify global marketing opportuniti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4 To understand how to apply psychographic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segmenting multinational markets.</a:t>
            </a:r>
            <a:endParaRPr b="0" lang="en-US" sz="3200" spc="-1" strike="noStrike">
              <a:solidFill>
                <a:srgbClr val="000000"/>
              </a:solidFill>
              <a:latin typeface="Calibri"/>
            </a:endParaRPr>
          </a:p>
        </p:txBody>
      </p:sp>
      <p:pic>
        <p:nvPicPr>
          <p:cNvPr id="370" name="Picture 2" descr=""/>
          <p:cNvPicPr/>
          <p:nvPr/>
        </p:nvPicPr>
        <p:blipFill>
          <a:blip r:embed="rId1"/>
          <a:stretch/>
        </p:blipFill>
        <p:spPr>
          <a:xfrm>
            <a:off x="8001000" y="28440"/>
            <a:ext cx="942840" cy="89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morous advertising: UK vs. Gree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xual appeals: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stern country vs. Muslim or Buddhist countr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uth Asian cultures vs. the U.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llectivist vs. individualistic ad appe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rative advertis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constru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cognit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motion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aracteristic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ality Sign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Myth</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Responsibilit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racountry consumer segment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Citizen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Dream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tiglobal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Agnostics</a:t>
            </a:r>
            <a:endParaRPr b="0" lang="en-US" sz="2800" spc="-1" strike="noStrike">
              <a:solidFill>
                <a:srgbClr val="000000"/>
              </a:solidFill>
              <a:latin typeface="Calibri"/>
            </a:endParaRPr>
          </a:p>
        </p:txBody>
      </p:sp>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lobal Bra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3" descr=""/>
          <p:cNvPicPr/>
          <p:nvPr/>
        </p:nvPicPr>
        <p:blipFill>
          <a:blip r:embed="rId1"/>
          <a:stretch/>
        </p:blipFill>
        <p:spPr>
          <a:xfrm>
            <a:off x="2362320" y="1014480"/>
            <a:ext cx="4114800" cy="5527440"/>
          </a:xfrm>
          <a:prstGeom prst="rect">
            <a:avLst/>
          </a:prstGeom>
          <a:ln w="0">
            <a:noFill/>
          </a:ln>
        </p:spPr>
      </p:pic>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xample of a Global Br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Content Placeholder 3" descr=""/>
          <p:cNvPicPr/>
          <p:nvPr/>
        </p:nvPicPr>
        <p:blipFill>
          <a:blip r:embed="rId1"/>
          <a:stretch/>
        </p:blipFill>
        <p:spPr>
          <a:xfrm>
            <a:off x="457200" y="1719360"/>
            <a:ext cx="8229600" cy="4287600"/>
          </a:xfrm>
          <a:prstGeom prst="rect">
            <a:avLst/>
          </a:prstGeom>
          <a:ln w="0">
            <a:noFill/>
          </a:ln>
        </p:spPr>
      </p:pic>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p Global Brands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Content Placeholder 3" descr=""/>
          <p:cNvPicPr/>
          <p:nvPr/>
        </p:nvPicPr>
        <p:blipFill>
          <a:blip r:embed="rId1"/>
          <a:stretch/>
        </p:blipFill>
        <p:spPr>
          <a:xfrm>
            <a:off x="457200" y="1143000"/>
            <a:ext cx="8153280" cy="49896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p Global Brand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Content Placeholder 3" descr=""/>
          <p:cNvPicPr/>
          <p:nvPr/>
        </p:nvPicPr>
        <p:blipFill>
          <a:blip r:embed="rId1"/>
          <a:stretch/>
        </p:blipFill>
        <p:spPr>
          <a:xfrm>
            <a:off x="1181160" y="1600200"/>
            <a:ext cx="6781680" cy="4525920"/>
          </a:xfrm>
          <a:prstGeom prst="rect">
            <a:avLst/>
          </a:prstGeom>
          <a:ln w="0">
            <a:noFill/>
          </a:ln>
        </p:spPr>
      </p:pic>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Sha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3</a:t>
            </a:r>
            <a:endParaRPr b="0" lang="en-US" sz="4400" spc="-1" strike="noStrike">
              <a:solidFill>
                <a:srgbClr val="000000"/>
              </a:solidFill>
              <a:latin typeface="Calibri"/>
            </a:endParaRPr>
          </a:p>
        </p:txBody>
      </p:sp>
      <p:sp>
        <p:nvSpPr>
          <p:cNvPr id="42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3 To understand how to identify global marketing opportun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ultinational fever – attractive multinational markets, products, or ser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verseas markets offer future growth when home markets ma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around the globe eager to try “foreign” products</a:t>
            </a:r>
            <a:endParaRPr b="0" lang="en-US" sz="32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Reasons to Pursue Global Marke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457200" y="1969920"/>
            <a:ext cx="8229600" cy="3786480"/>
          </a:xfrm>
          <a:prstGeom prst="rect">
            <a:avLst/>
          </a:prstGeom>
          <a:ln w="0">
            <a:noFill/>
          </a:ln>
        </p:spPr>
      </p:pic>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pending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iddle Class growth</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0, the middle class will grow from 30% to 52% of the world’s popula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5, China will have the world’s largest middle cla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5, India’s middle class will be 10 times larger than it currently i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lobal Teen Market – similar interests, desires and consumption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iddle Class &amp; Teen Mar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5" descr=""/>
          <p:cNvPicPr/>
          <p:nvPr/>
        </p:nvPicPr>
        <p:blipFill>
          <a:blip r:embed="rId1"/>
          <a:stretch/>
        </p:blipFill>
        <p:spPr>
          <a:xfrm>
            <a:off x="1981080" y="1066680"/>
            <a:ext cx="4994280" cy="541044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3" descr=""/>
          <p:cNvPicPr/>
          <p:nvPr/>
        </p:nvPicPr>
        <p:blipFill>
          <a:blip r:embed="rId1"/>
          <a:stretch/>
        </p:blipFill>
        <p:spPr>
          <a:xfrm>
            <a:off x="1295280" y="1523880"/>
            <a:ext cx="6429600" cy="315288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lobal Teen Market: Creatives</a:t>
            </a:r>
            <a:endParaRPr b="0" lang="en-US" sz="4400" spc="-1" strike="noStrike">
              <a:solidFill>
                <a:srgbClr val="000000"/>
              </a:solidFill>
              <a:latin typeface="Calibri"/>
            </a:endParaRPr>
          </a:p>
        </p:txBody>
      </p:sp>
      <p:sp>
        <p:nvSpPr>
          <p:cNvPr id="429" name="TextBox 4"/>
          <p:cNvSpPr/>
          <p:nvPr/>
        </p:nvSpPr>
        <p:spPr>
          <a:xfrm>
            <a:off x="228600" y="472428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 you think the ways Creatives are different from other teen consumers affect Creatives’ consumption behavi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4</a:t>
            </a:r>
            <a:endParaRPr b="0" lang="en-US" sz="4400" spc="-1" strike="noStrike">
              <a:solidFill>
                <a:srgbClr val="000000"/>
              </a:solidFill>
              <a:latin typeface="Calibri"/>
            </a:endParaRPr>
          </a:p>
        </p:txBody>
      </p:sp>
      <p:sp>
        <p:nvSpPr>
          <p:cNvPr id="431"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4 To understand how to apply psychographic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segmenting multinational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466560" y="1820880"/>
            <a:ext cx="8210880" cy="408636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sychographic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river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vout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truist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imate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un Seeker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reatives</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How do you think these global values affect consumption behavior?</a:t>
            </a:r>
            <a:endParaRPr b="0" lang="en-US" sz="32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x Global Valu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7" name="Picture 4" descr="cid:3287383400_2177562"/>
          <p:cNvPicPr/>
          <p:nvPr/>
        </p:nvPicPr>
        <p:blipFill>
          <a:blip r:embed="rId1"/>
          <a:stretch/>
        </p:blipFill>
        <p:spPr>
          <a:xfrm>
            <a:off x="762120" y="685800"/>
            <a:ext cx="8118360" cy="2647800"/>
          </a:xfrm>
          <a:prstGeom prst="rect">
            <a:avLst/>
          </a:prstGeom>
          <a:ln w="0">
            <a:noFill/>
          </a:ln>
        </p:spPr>
      </p:pic>
      <p:sp>
        <p:nvSpPr>
          <p:cNvPr id="438"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9"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Content Placeholder 3" descr=""/>
          <p:cNvPicPr/>
          <p:nvPr/>
        </p:nvPicPr>
        <p:blipFill>
          <a:blip r:embed="rId1"/>
          <a:stretch/>
        </p:blipFill>
        <p:spPr>
          <a:xfrm>
            <a:off x="533520" y="2057400"/>
            <a:ext cx="8196120" cy="2666880"/>
          </a:xfrm>
          <a:prstGeom prst="rect">
            <a:avLst/>
          </a:prstGeom>
          <a:ln w="0">
            <a:noFill/>
          </a:ln>
        </p:spPr>
      </p:pic>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 Growth Opport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1</a:t>
            </a:r>
            <a:endParaRPr b="0" lang="en-US" sz="4400" spc="-1" strike="noStrike">
              <a:solidFill>
                <a:srgbClr val="000000"/>
              </a:solidFill>
              <a:latin typeface="Calibri"/>
            </a:endParaRPr>
          </a:p>
        </p:txBody>
      </p:sp>
      <p:sp>
        <p:nvSpPr>
          <p:cNvPr id="376"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1 To understand how to study the values and customs of different cultures in order to develop effective marketing strateg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nalysis that determines the extent to which the consumers of two or more nations are similar or different</a:t>
            </a:r>
            <a:endParaRPr b="0" lang="en-US" sz="3600" spc="-1" strike="noStrike">
              <a:solidFill>
                <a:srgbClr val="000000"/>
              </a:solidFill>
              <a:latin typeface="Calibri"/>
            </a:endParaRPr>
          </a:p>
        </p:txBody>
      </p:sp>
      <p:sp>
        <p:nvSpPr>
          <p:cNvPr id="37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Cross-cultural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
          <p:cNvPicPr/>
          <p:nvPr/>
        </p:nvPicPr>
        <p:blipFill>
          <a:blip r:embed="rId1"/>
          <a:stretch/>
        </p:blipFill>
        <p:spPr>
          <a:xfrm>
            <a:off x="457200" y="1922400"/>
            <a:ext cx="8229600" cy="388152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ross-cultural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3" descr=""/>
          <p:cNvPicPr/>
          <p:nvPr/>
        </p:nvPicPr>
        <p:blipFill>
          <a:blip r:embed="rId1"/>
          <a:stretch/>
        </p:blipFill>
        <p:spPr>
          <a:xfrm>
            <a:off x="457200" y="2273400"/>
            <a:ext cx="8229600" cy="31795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milarities and Differ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3" descr=""/>
          <p:cNvPicPr/>
          <p:nvPr/>
        </p:nvPicPr>
        <p:blipFill>
          <a:blip r:embed="rId1"/>
          <a:stretch/>
        </p:blipFill>
        <p:spPr>
          <a:xfrm>
            <a:off x="1676520" y="1066680"/>
            <a:ext cx="5267160" cy="3353040"/>
          </a:xfrm>
          <a:prstGeom prst="rect">
            <a:avLst/>
          </a:prstGeom>
          <a:ln w="0">
            <a:noFill/>
          </a:ln>
        </p:spPr>
      </p:pic>
      <p:pic>
        <p:nvPicPr>
          <p:cNvPr id="384" name="Content Placeholder 6" descr=""/>
          <p:cNvPicPr/>
          <p:nvPr/>
        </p:nvPicPr>
        <p:blipFill>
          <a:blip r:embed="rId2"/>
          <a:stretch/>
        </p:blipFill>
        <p:spPr>
          <a:xfrm>
            <a:off x="1676520" y="4648320"/>
            <a:ext cx="5292720" cy="167616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ty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2:46Z</dcterms:modified>
  <cp:revision>1</cp:revision>
  <dc:subject/>
  <dc:title/>
</cp:coreProperties>
</file>