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D976-FC10-45B2-BD09-DA2167AB1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055B-BACA-4A34-AE93-134B7946F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4FE8-D1A8-4F86-89A5-3A0F769F2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D1AD-42B4-4856-A819-5E06958BB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7BC46-10E1-402C-9109-DDB353D6CE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7E5C9-D362-4F34-BFF3-B8C18A508E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6FFD3-7051-4BED-975C-275436363B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76097-92EC-4047-8DED-1E927F6316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F56BA-40C5-4A39-80FC-396EC90C6F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49B98-9F99-4AC0-B2F8-268A799684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32A40-D54C-4F3A-B4F6-DB636211A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9EAD-87C7-4DD7-B6CA-89C6DA165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C261C-C837-4C24-BD88-2E0F2E0129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F59A7-DBC9-494F-8671-661DC8B61A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EE9B9-39A5-4DBA-BFA6-A54FB92294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18470-3821-4D0A-B96B-31FEBCAD0E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6F391-B00C-48F1-A584-545230FED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36B5-C894-43D2-ABE1-0B4616B56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F529-BDAA-4653-AB82-DC98A674F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77E2-47BC-4213-B377-39CD66CC0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82A0-3946-40D9-A2D3-278B54FF7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B0AA-26D2-445E-AECA-995E15BC0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FA02-42CB-441D-8ACB-411C3BBCA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3D1F-8EA9-4112-A44C-3B3EC4C5F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BAF3396-9762-4FD0-AA05-C205B4E0065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7B5AE93-D06D-4883-968C-823354A5DC9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357648AA-5839-4E83-BBD2-14D54FFE06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oodness-of-Fit Test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ingency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2804480B-0D02-48B6-BBF4-55673E5BFE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420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asurements from a production process follow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samp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sample results into classes (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ected cell frequency must be at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or each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actual cell frequencies with expected ce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4AE90538-817D-43E6-8045-A97F48E8C9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2362320"/>
          <a:ext cx="2057400" cy="3767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81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Sample Measuremen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5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648320" y="2362320"/>
          <a:ext cx="3429000" cy="380988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</a:tblGrid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7" name="AutoShape 85"/>
          <p:cNvSpPr/>
          <p:nvPr/>
        </p:nvSpPr>
        <p:spPr>
          <a:xfrm>
            <a:off x="380988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6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data and values grouped into class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FD6B17D6-FB40-4C7E-9D46-CF50AC543E7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pected frequ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se classes for a normal distribu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05120" y="2362320"/>
          <a:ext cx="5105160" cy="409392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676160"/>
              </a:tblGrid>
              <a:tr h="670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751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66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Normal Distribution Examp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43DA9C59-FF0C-47EF-AB25-C0B600DCEAE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57"/>
          <p:cNvSpPr/>
          <p:nvPr/>
        </p:nvSpPr>
        <p:spPr>
          <a:xfrm>
            <a:off x="6019920" y="1676520"/>
            <a:ext cx="2819160" cy="16761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4"/>
          <p:cNvSpPr/>
          <p:nvPr/>
        </p:nvSpPr>
        <p:spPr>
          <a:xfrm>
            <a:off x="2819520" y="2514600"/>
            <a:ext cx="99036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2"/>
          <p:cNvSpPr/>
          <p:nvPr/>
        </p:nvSpPr>
        <p:spPr>
          <a:xfrm>
            <a:off x="4495680" y="2514600"/>
            <a:ext cx="990720" cy="304920"/>
          </a:xfrm>
          <a:prstGeom prst="rect">
            <a:avLst/>
          </a:prstGeom>
          <a:solidFill>
            <a:srgbClr val="c1b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ected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752480"/>
          <a:ext cx="5029200" cy="409896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600200"/>
              </a:tblGrid>
              <a:tr h="670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u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X &lt; value)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ed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1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7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7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1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84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8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246"/>
          <p:cNvSpPr/>
          <p:nvPr/>
        </p:nvSpPr>
        <p:spPr>
          <a:xfrm>
            <a:off x="6019920" y="1676520"/>
            <a:ext cx="2819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frequenci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 a sample of size n=1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rom a normal distribution with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50,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49"/>
              <p:cNvSpPr txBox="1"/>
              <p:nvPr/>
            </p:nvSpPr>
            <p:spPr>
              <a:xfrm>
                <a:off x="6121440" y="3921120"/>
                <a:ext cx="253836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5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51"/>
              <p:cNvSpPr txBox="1"/>
              <p:nvPr/>
            </p:nvSpPr>
            <p:spPr>
              <a:xfrm>
                <a:off x="6324480" y="5638680"/>
                <a:ext cx="2286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Line 253"/>
          <p:cNvSpPr/>
          <p:nvPr/>
        </p:nvSpPr>
        <p:spPr>
          <a:xfrm>
            <a:off x="5486400" y="2819520"/>
            <a:ext cx="60948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5"/>
          <p:cNvSpPr/>
          <p:nvPr/>
        </p:nvSpPr>
        <p:spPr>
          <a:xfrm>
            <a:off x="38098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4404A77-CCF8-4E86-A260-D7C1106886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1828800"/>
          <a:ext cx="5334120" cy="421488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905120"/>
              </a:tblGrid>
              <a:tr h="7102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bserved, o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Frequency,  e</a:t>
                      </a:r>
                      <a:r>
                        <a:rPr b="1" lang="en-US" sz="19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than 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but &lt; 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but &lt; 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but &lt; 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but &lt; 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but &lt; 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but &lt; 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956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5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or ov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175"/>
          <p:cNvSpPr/>
          <p:nvPr/>
        </p:nvSpPr>
        <p:spPr>
          <a:xfrm>
            <a:off x="6019920" y="4114800"/>
            <a:ext cx="259056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19560" y="411480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77"/>
              <p:cNvSpPr txBox="1"/>
              <p:nvPr/>
            </p:nvSpPr>
            <p:spPr>
              <a:xfrm>
                <a:off x="6019920" y="2438280"/>
                <a:ext cx="2517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78"/>
              <p:cNvSpPr txBox="1"/>
              <p:nvPr/>
            </p:nvSpPr>
            <p:spPr>
              <a:xfrm>
                <a:off x="6553080" y="4648320"/>
                <a:ext cx="1447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7" name="Rectangle 179"/>
          <p:cNvSpPr/>
          <p:nvPr/>
        </p:nvSpPr>
        <p:spPr>
          <a:xfrm>
            <a:off x="5867280" y="17524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est statistic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0"/>
          <p:cNvSpPr/>
          <p:nvPr/>
        </p:nvSpPr>
        <p:spPr>
          <a:xfrm>
            <a:off x="5638680" y="5562720"/>
            <a:ext cx="3276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(with  k – 1 degrees of freedo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AD0D038C-32F7-4458-AA5C-E5B660ED15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Rejection Reg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95280" y="3124080"/>
                <a:ext cx="718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6"/>
          <p:cNvSpPr/>
          <p:nvPr/>
        </p:nvSpPr>
        <p:spPr>
          <a:xfrm>
            <a:off x="1828800" y="1523880"/>
            <a:ext cx="594360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values is norm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does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ve this distrib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6394320" y="552924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4716360" y="416412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495680" y="554976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4859280" y="44830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724280" y="417816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6400800" y="554976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 flipH="1">
            <a:off x="6781680" y="5410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678168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V="1">
            <a:off x="6400800" y="577836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4800240" y="60069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6400800" y="60069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6629400" y="600696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5105520" y="60069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8153280" y="563868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152280" y="4038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3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 classes so use 7 d.f.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990720" y="4419720"/>
            <a:ext cx="228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4.06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304920" y="5029200"/>
            <a:ext cx="39621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clusion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2.097 &lt;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4.0671 s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6172200" y="45720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5867280" y="6248520"/>
            <a:ext cx="1905120" cy="435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14.06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6172200" y="4572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3"/>
          <p:cNvSpPr/>
          <p:nvPr/>
        </p:nvSpPr>
        <p:spPr>
          <a:xfrm flipV="1">
            <a:off x="80010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7543800" y="3276720"/>
            <a:ext cx="9144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3F0F8011-F10D-4476-9DAE-EDDAB16E701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366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involving multiple population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lassify sample observations according to two or mor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a crosstabulation t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332DD577-4829-421F-B97E-8C22B13BD1B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4038120"/>
            <a:ext cx="8077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Hand preference is independent of gen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Hand preference is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dependent of gen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219320" y="1752480"/>
            <a:ext cx="647676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ft-Handed vs.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Hand:  Left vs.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:  Male vs.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160E69AD-37D6-4529-B822-9332F199968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Tab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mple results organized in a contingency tab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05320" y="2666880"/>
          <a:ext cx="5105160" cy="3094200"/>
        </p:xfrm>
        <a:graphic>
          <a:graphicData uri="http://schemas.openxmlformats.org/drawingml/2006/table">
            <a:tbl>
              <a:tblPr/>
              <a:tblGrid>
                <a:gridCol w="1371600"/>
                <a:gridCol w="1349280"/>
                <a:gridCol w="1317600"/>
                <a:gridCol w="1066680"/>
              </a:tblGrid>
              <a:tr h="442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187"/>
          <p:cNvSpPr/>
          <p:nvPr/>
        </p:nvSpPr>
        <p:spPr>
          <a:xfrm>
            <a:off x="152280" y="3505320"/>
            <a:ext cx="28958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8"/>
          <p:cNvSpPr/>
          <p:nvPr/>
        </p:nvSpPr>
        <p:spPr>
          <a:xfrm>
            <a:off x="304812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0"/>
          <p:cNvSpPr/>
          <p:nvPr/>
        </p:nvSpPr>
        <p:spPr>
          <a:xfrm>
            <a:off x="0" y="29718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size = n = 300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E02DBCE3-D619-4551-B978-14F59E8AFA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gic of the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, then the proportion of left-handed females should be the same as the proportion of left-handed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proportions above should be the same as the proportion of left-handed people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295280" y="1523880"/>
            <a:ext cx="693432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Hand preference is independent of g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Hand preference i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dependent of ge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EFF8F513-63C6-445A-9097-71B01AEFC0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the chi-square goodness-of-fit test to determine whether data fits a specified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 up a contingency analysis table and perform a chi-square test of independ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CC35BA50-A3F3-4BE9-B7D5-85A09F4DE55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Expected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297180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Overall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(Left Hand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36/300 = .1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371600" y="1600200"/>
            <a:ext cx="289548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20 Females, 12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80 Males, 24 were left han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09480" y="3479760"/>
            <a:ext cx="81536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f independent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Left Handed | Female) = P(Left Handed | Male) = 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we would expect 12% of the 120 females and 12% of the 180 males to be left hande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.e., we would expect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120)(.12) = 14.4 fe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180)(.12) = 21.6 males to be left h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4419720" y="23623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6705720" y="281952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7162920" y="3505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685800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985D99F5-E723-4EF7-B503-444ECB9631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pected Cell Frequenc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cted cell frequenc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1143000" y="2438280"/>
                <a:ext cx="65977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Row total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olumn tota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ample si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2454120" y="4565520"/>
                <a:ext cx="41277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7"/>
          <p:cNvSpPr/>
          <p:nvPr/>
        </p:nvSpPr>
        <p:spPr>
          <a:xfrm>
            <a:off x="1219320" y="4038480"/>
            <a:ext cx="480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CAD9930E-7671-477C-ACAA-4F93142143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3"/>
          <p:cNvSpPr/>
          <p:nvPr/>
        </p:nvSpPr>
        <p:spPr>
          <a:xfrm>
            <a:off x="2362320" y="48006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2"/>
          <p:cNvSpPr/>
          <p:nvPr/>
        </p:nvSpPr>
        <p:spPr>
          <a:xfrm>
            <a:off x="2362320" y="388620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1"/>
          <p:cNvSpPr/>
          <p:nvPr/>
        </p:nvSpPr>
        <p:spPr>
          <a:xfrm>
            <a:off x="2362320" y="434340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0"/>
          <p:cNvSpPr/>
          <p:nvPr/>
        </p:nvSpPr>
        <p:spPr>
          <a:xfrm>
            <a:off x="2362320" y="342900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served frequencies vs. expected frequenc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85800" y="2514600"/>
          <a:ext cx="7924680" cy="3419640"/>
        </p:xfrm>
        <a:graphic>
          <a:graphicData uri="http://schemas.openxmlformats.org/drawingml/2006/table">
            <a:tbl>
              <a:tblPr/>
              <a:tblGrid>
                <a:gridCol w="1676520"/>
                <a:gridCol w="2547720"/>
                <a:gridCol w="2633760"/>
                <a:gridCol w="1066680"/>
              </a:tblGrid>
              <a:tr h="442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E009C459-7E2F-4646-9CE9-35D247813D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4190760"/>
            <a:ext cx="5105520" cy="1904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observed frequency in cell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, 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expected frequency in cell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, 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 = number of ro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 = number of colum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752480" y="2666880"/>
                <a:ext cx="334512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1" name="Rectangle 5"/>
          <p:cNvSpPr/>
          <p:nvPr/>
        </p:nvSpPr>
        <p:spPr>
          <a:xfrm>
            <a:off x="914040" y="1854360"/>
            <a:ext cx="70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-square contingency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5562720" y="3124080"/>
                <a:ext cx="259056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3B9DEA20-D5C6-42A7-BA10-F6584785CB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2362320" y="380988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362320" y="2895480"/>
            <a:ext cx="518148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362320" y="335268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362320" y="2438280"/>
            <a:ext cx="5181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85800" y="1523880"/>
          <a:ext cx="7924680" cy="3419640"/>
        </p:xfrm>
        <a:graphic>
          <a:graphicData uri="http://schemas.openxmlformats.org/drawingml/2006/table">
            <a:tbl>
              <a:tblPr/>
              <a:tblGrid>
                <a:gridCol w="1676520"/>
                <a:gridCol w="2547720"/>
                <a:gridCol w="2633760"/>
                <a:gridCol w="1066680"/>
              </a:tblGrid>
              <a:tr h="442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d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 Preferen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4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05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21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 = 15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xpected = 158.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51"/>
              <p:cNvSpPr txBox="1"/>
              <p:nvPr/>
            </p:nvSpPr>
            <p:spPr>
              <a:xfrm>
                <a:off x="304920" y="5638680"/>
                <a:ext cx="86868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AutoShape 52"/>
          <p:cNvSpPr/>
          <p:nvPr/>
        </p:nvSpPr>
        <p:spPr>
          <a:xfrm>
            <a:off x="4724280" y="5181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EEDDC15C-F420-4337-8620-A4784CF8D64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3581280" y="4813200"/>
            <a:ext cx="2210040" cy="292320"/>
          </a:xfrm>
          <a:custGeom>
            <a:avLst/>
            <a:gdLst/>
            <a:ahLst/>
            <a:rect l="l" t="t" r="r" b="b"/>
            <a:pathLst>
              <a:path w="1392" h="184">
                <a:moveTo>
                  <a:pt x="0" y="184"/>
                </a:moveTo>
                <a:lnTo>
                  <a:pt x="0" y="0"/>
                </a:lnTo>
                <a:lnTo>
                  <a:pt x="240" y="40"/>
                </a:lnTo>
                <a:lnTo>
                  <a:pt x="460" y="62"/>
                </a:lnTo>
                <a:lnTo>
                  <a:pt x="728" y="78"/>
                </a:lnTo>
                <a:lnTo>
                  <a:pt x="868" y="86"/>
                </a:lnTo>
                <a:lnTo>
                  <a:pt x="1104" y="88"/>
                </a:lnTo>
                <a:cubicBezTo>
                  <a:pt x="1173" y="91"/>
                  <a:pt x="1161" y="89"/>
                  <a:pt x="1230" y="92"/>
                </a:cubicBezTo>
                <a:cubicBezTo>
                  <a:pt x="1251" y="93"/>
                  <a:pt x="1312" y="96"/>
                  <a:pt x="1312" y="96"/>
                </a:cubicBezTo>
                <a:cubicBezTo>
                  <a:pt x="1330" y="100"/>
                  <a:pt x="1349" y="99"/>
                  <a:pt x="1370" y="98"/>
                </a:cubicBezTo>
                <a:lnTo>
                  <a:pt x="1392" y="98"/>
                </a:lnTo>
                <a:lnTo>
                  <a:pt x="1392" y="184"/>
                </a:lnTo>
                <a:lnTo>
                  <a:pt x="0" y="184"/>
                </a:lnTo>
                <a:close/>
              </a:path>
            </a:pathLst>
          </a:custGeom>
          <a:solidFill>
            <a:srgbClr val="ffd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tingency Analysi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3522600" y="2838600"/>
            <a:ext cx="18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680724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648180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615312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582768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5562720" y="4952880"/>
            <a:ext cx="6094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2895480" y="5105520"/>
            <a:ext cx="1828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.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3.8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838080" y="510552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 flipV="1">
            <a:off x="838080" y="25142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3891600" y="5617080"/>
            <a:ext cx="124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4419720" y="4495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4419720" y="41900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4267080" y="2538720"/>
            <a:ext cx="4572000" cy="1292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3.841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0"/>
          <p:cNvSpPr/>
          <p:nvPr/>
        </p:nvSpPr>
        <p:spPr>
          <a:xfrm>
            <a:off x="990720" y="2438280"/>
            <a:ext cx="4800600" cy="2541600"/>
          </a:xfrm>
          <a:custGeom>
            <a:avLst/>
            <a:gdLst/>
            <a:ahLst/>
            <a:rect l="l" t="t" r="r" b="b"/>
            <a:pathLst>
              <a:path w="3935" h="1601">
                <a:moveTo>
                  <a:pt x="0" y="0"/>
                </a:moveTo>
                <a:cubicBezTo>
                  <a:pt x="12" y="224"/>
                  <a:pt x="24" y="448"/>
                  <a:pt x="96" y="624"/>
                </a:cubicBezTo>
                <a:cubicBezTo>
                  <a:pt x="168" y="800"/>
                  <a:pt x="248" y="936"/>
                  <a:pt x="432" y="1056"/>
                </a:cubicBezTo>
                <a:cubicBezTo>
                  <a:pt x="616" y="1176"/>
                  <a:pt x="864" y="1264"/>
                  <a:pt x="1200" y="1344"/>
                </a:cubicBezTo>
                <a:cubicBezTo>
                  <a:pt x="1536" y="1424"/>
                  <a:pt x="1992" y="1493"/>
                  <a:pt x="2448" y="1536"/>
                </a:cubicBezTo>
                <a:cubicBezTo>
                  <a:pt x="2904" y="1579"/>
                  <a:pt x="3625" y="1587"/>
                  <a:pt x="3935" y="160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358128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2"/>
              <p:cNvSpPr txBox="1"/>
              <p:nvPr/>
            </p:nvSpPr>
            <p:spPr>
              <a:xfrm>
                <a:off x="762120" y="1828800"/>
                <a:ext cx="7315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48</m:t>
                    </m:r>
                    <m:r>
                      <m:rPr>
                        <m:lit/>
                        <m:nor/>
                      </m:rPr>
                      <m:t xml:space="preserve">     with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-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-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Line 23"/>
          <p:cNvSpPr/>
          <p:nvPr/>
        </p:nvSpPr>
        <p:spPr>
          <a:xfrm>
            <a:off x="3581280" y="54864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3581280" y="57150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914400" y="571500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1298880" y="5617080"/>
            <a:ext cx="196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6248520" y="3857760"/>
            <a:ext cx="2743200" cy="270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848 &lt; 3.841, so w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lude that gender and hand preference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9"/>
          <p:cNvSpPr/>
          <p:nvPr/>
        </p:nvSpPr>
        <p:spPr>
          <a:xfrm>
            <a:off x="1600200" y="2286000"/>
            <a:ext cx="0" cy="2819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"/>
          <p:cNvSpPr/>
          <p:nvPr/>
        </p:nvSpPr>
        <p:spPr>
          <a:xfrm>
            <a:off x="1447920" y="1905120"/>
            <a:ext cx="12189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93F98922-BCAB-4064-9122-ACD34F4F1A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68580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he chi-square goodness-of-fit test to determine whether data fits a specified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of a discrete distribution (unifor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of a continuous distribution (norma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contingency tables to perform a chi-square test of independ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ared observed cell frequencies to expected cell frequenc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64CEFBF2-DFC7-4280-8864-4AA8E084485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es sample data conform to a hypothesized distribut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05000"/>
              </a:lnSpc>
              <a:spcBef>
                <a:spcPts val="104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echnical support calls equal across all days of the week? (i.e., do calls follow a uniform distributi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05000"/>
              </a:lnSpc>
              <a:spcBef>
                <a:spcPts val="104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easurements from a production process follow a normal distrib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A4B3AE5B-9B64-4D54-B23D-1D2E3E8525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057400" y="2971800"/>
            <a:ext cx="5181480" cy="3505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327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echnical support calls equal across all days of the week? (i.e., do calls follow a uniform distributio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for 10 days per day of w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m of calls for this 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76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800600" y="5943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7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525780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B15D8A88-6956-41AF-A777-583873DBAE9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21932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gic of Goodness-of-Fit Tes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68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al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ly distributed, the 1722 calls would be expected to be equally divided across the 7 d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i-Square Goodness-of-Fit Te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est to see if the sample results are consistent with th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914400" y="3200400"/>
                <a:ext cx="76183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6   expected calls per day if unifor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4D176AE0-7E62-4581-88E7-7C83280B8E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Observed vs. Expected Frequenci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600200"/>
          <a:ext cx="6096240" cy="4376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3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3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3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98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6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C93D2767-559E-4D59-BC5E-DADE8659837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3047760"/>
            <a:ext cx="365760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est statistic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1655640" y="3581280"/>
                <a:ext cx="64454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here  df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5"/>
          <p:cNvSpPr/>
          <p:nvPr/>
        </p:nvSpPr>
        <p:spPr>
          <a:xfrm>
            <a:off x="1295280" y="4952880"/>
            <a:ext cx="69343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number of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bserved cell frequency for categor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xpected cell frequency for categor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828800" y="1523880"/>
            <a:ext cx="594360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A6DA3177-57F4-43C6-A36F-73C8D4D60A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152280" y="4191120"/>
            <a:ext cx="40388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Rejection Reg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434340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0" lang="en-US" sz="27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i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819520" y="2971800"/>
                <a:ext cx="2517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Rectangle 6"/>
          <p:cNvSpPr/>
          <p:nvPr/>
        </p:nvSpPr>
        <p:spPr>
          <a:xfrm>
            <a:off x="1828800" y="1523880"/>
            <a:ext cx="594360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11040" indent="-31104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2590920" y="4191120"/>
                <a:ext cx="14475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7" name="Freeform 8"/>
          <p:cNvSpPr/>
          <p:nvPr/>
        </p:nvSpPr>
        <p:spPr>
          <a:xfrm>
            <a:off x="6394320" y="552924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"/>
          <p:cNvSpPr/>
          <p:nvPr/>
        </p:nvSpPr>
        <p:spPr>
          <a:xfrm>
            <a:off x="4716360" y="416412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495680" y="554976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859280" y="44830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4724280" y="417816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6400800" y="554976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6781680" y="5410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781680" y="5029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6172200" y="6095880"/>
            <a:ext cx="609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 flipV="1">
            <a:off x="6400800" y="57780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>
            <a:off x="4800240" y="60069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 flipH="1">
            <a:off x="6400800" y="60069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6629400" y="600696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105520" y="60069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380880" y="525780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(with  k – 1 degrees of freedo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8153280" y="563868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2-</a:t>
            </a:r>
            <a:fld id="{20F9C15C-C3AB-4D15-AA17-390C6241E8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838080" y="2895480"/>
                <a:ext cx="7391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28"/>
          <p:cNvSpPr/>
          <p:nvPr/>
        </p:nvSpPr>
        <p:spPr>
          <a:xfrm>
            <a:off x="7391520" y="3048120"/>
            <a:ext cx="83808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i-Squar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981080" y="1600200"/>
            <a:ext cx="50292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11040" indent="-311040"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 The distribution of calls is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30000"/>
              </a:lnSpc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ver days of the we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 The distribution of calls is not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8"/>
          <p:cNvSpPr/>
          <p:nvPr/>
        </p:nvSpPr>
        <p:spPr>
          <a:xfrm>
            <a:off x="6394320" y="538956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"/>
          <p:cNvSpPr/>
          <p:nvPr/>
        </p:nvSpPr>
        <p:spPr>
          <a:xfrm>
            <a:off x="4716360" y="402444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4495680" y="54100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4859280" y="43434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2"/>
          <p:cNvSpPr/>
          <p:nvPr/>
        </p:nvSpPr>
        <p:spPr>
          <a:xfrm>
            <a:off x="4724280" y="403848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6400800" y="54100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H="1">
            <a:off x="6705360" y="5181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629400" y="48769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6400800" y="56383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 flipH="1">
            <a:off x="4800240" y="586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 flipH="1">
            <a:off x="640080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6629400" y="579132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5105520" y="579132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7848720" y="35053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8153280" y="5486400"/>
            <a:ext cx="60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152280" y="380988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3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 – 1 = 6  (7 days of the week) so use 6 degrees of freedom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990720" y="4419720"/>
            <a:ext cx="228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2.59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5715000" y="6324480"/>
            <a:ext cx="1905120" cy="435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.0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12.5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304920" y="5029200"/>
            <a:ext cx="39621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clusion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38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23.05 &gt;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12.5916 so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conclude that the distribution is not uni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7T11:56:53Z</dcterms:modified>
  <cp:revision>77</cp:revision>
  <dc:subject>Chapter 12</dc:subject>
  <dc:title>Business Statistics: A Decision-Making Approach, 6th edition</dc:title>
</cp:coreProperties>
</file>