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3F5F-C9AC-4A28-B6AE-1DF0838E3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56B5-6049-4451-919A-E838CA163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854B-E1AF-496F-9DBB-89DA26E70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997C-7B61-4F75-8B88-B5D8959F5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D8525-093B-4BF8-BDB0-6ED7A543FF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D0EA-B06A-4092-8AC4-12233C246C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16BEA-0141-43AC-B7F8-5B67E4685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2970B-043E-4889-BC24-748D34DA32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5B876-AC95-4DB4-ABA8-CC8BA1706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4C0E-A39F-4EE2-839F-7F579A3EB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4EBA2-E536-4FDD-AC93-6F3C5BF65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CA8B-F5A4-4A31-8CC6-70ED2A0DA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C7B5-29E7-4AC5-9DBD-CBF47F61BF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8855-7C78-4C20-A4AE-8E1A830EFA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D18DE-41FD-4334-B136-A8FCCB386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497C8-B93B-4B5A-8BFA-0FDD4BFCE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651D3-5066-4F34-880F-32F8E66EE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4835-8BCD-481A-9FE9-706454398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6D86-770B-4EE9-A2E9-B2C2BD2FA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6FD8-C652-4485-9561-491F68470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F688-2CDF-4BE0-B55F-BA354790D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8314-6DAA-4A50-9102-90FF7ACA8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2D7C-6BB6-45A9-99B9-A39352484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9634-A356-4071-80E0-A832D21BE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37CA0C5-EE85-4450-B430-625277D73E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55ECD3BE-32C6-428A-B95D-CBF5853824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A0CC391-1365-4F30-B4ED-DAA2033D83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ness-of-Fit Test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ngency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B5AD0F3-3AFA-4A87-B57E-E613CDC0E2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2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ample results into classes (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ected cell frequency must be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or each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ctual cell frequencies with expected ce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72883DDC-6502-41DE-B9F1-56C3703BB4C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362320"/>
          <a:ext cx="2057400" cy="3767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81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Sample Measu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5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48320" y="2362320"/>
          <a:ext cx="3429000" cy="38098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7" name="AutoShape 85"/>
          <p:cNvSpPr/>
          <p:nvPr/>
        </p:nvSpPr>
        <p:spPr>
          <a:xfrm>
            <a:off x="38098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6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data and values grouped into clas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80FE8C9F-3BFB-456C-8638-B63963F395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frequ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se classes for a normal distribu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5120" y="2362320"/>
          <a:ext cx="5105160" cy="40939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76160"/>
              </a:tblGrid>
              <a:tr h="670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75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66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DD0EE4F-E01D-493E-9F87-0FA1D31C22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7"/>
          <p:cNvSpPr/>
          <p:nvPr/>
        </p:nvSpPr>
        <p:spPr>
          <a:xfrm>
            <a:off x="6019920" y="1676520"/>
            <a:ext cx="2819160" cy="16761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4"/>
          <p:cNvSpPr/>
          <p:nvPr/>
        </p:nvSpPr>
        <p:spPr>
          <a:xfrm>
            <a:off x="2819520" y="2514600"/>
            <a:ext cx="99036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2"/>
          <p:cNvSpPr/>
          <p:nvPr/>
        </p:nvSpPr>
        <p:spPr>
          <a:xfrm>
            <a:off x="4495680" y="2514600"/>
            <a:ext cx="990720" cy="304920"/>
          </a:xfrm>
          <a:prstGeom prst="rect">
            <a:avLst/>
          </a:pr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752480"/>
          <a:ext cx="5029200" cy="40989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</a:tblGrid>
              <a:tr h="670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X &lt; value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8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46"/>
          <p:cNvSpPr/>
          <p:nvPr/>
        </p:nvSpPr>
        <p:spPr>
          <a:xfrm>
            <a:off x="6019920" y="167652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frequenci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a sample of size n=1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a normal distribution with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50,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9"/>
              <p:cNvSpPr txBox="1"/>
              <p:nvPr/>
            </p:nvSpPr>
            <p:spPr>
              <a:xfrm>
                <a:off x="6121440" y="3921120"/>
                <a:ext cx="253836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5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51"/>
              <p:cNvSpPr txBox="1"/>
              <p:nvPr/>
            </p:nvSpPr>
            <p:spPr>
              <a:xfrm>
                <a:off x="6324480" y="5638680"/>
                <a:ext cx="2286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Line 253"/>
          <p:cNvSpPr/>
          <p:nvPr/>
        </p:nvSpPr>
        <p:spPr>
          <a:xfrm>
            <a:off x="54864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5"/>
          <p:cNvSpPr/>
          <p:nvPr/>
        </p:nvSpPr>
        <p:spPr>
          <a:xfrm>
            <a:off x="38098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275AF9F-EDA6-4129-A4E9-145AC4EE3F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828800"/>
          <a:ext cx="5334120" cy="421488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05120"/>
              </a:tblGrid>
              <a:tr h="7102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bserved, 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,  e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175"/>
          <p:cNvSpPr/>
          <p:nvPr/>
        </p:nvSpPr>
        <p:spPr>
          <a:xfrm>
            <a:off x="6019920" y="4114800"/>
            <a:ext cx="259056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956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77"/>
              <p:cNvSpPr txBox="1"/>
              <p:nvPr/>
            </p:nvSpPr>
            <p:spPr>
              <a:xfrm>
                <a:off x="6019920" y="243828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8"/>
              <p:cNvSpPr txBox="1"/>
              <p:nvPr/>
            </p:nvSpPr>
            <p:spPr>
              <a:xfrm>
                <a:off x="6553080" y="4648320"/>
                <a:ext cx="1447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7" name="Rectangle 179"/>
          <p:cNvSpPr/>
          <p:nvPr/>
        </p:nvSpPr>
        <p:spPr>
          <a:xfrm>
            <a:off x="5867280" y="1752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0"/>
          <p:cNvSpPr/>
          <p:nvPr/>
        </p:nvSpPr>
        <p:spPr>
          <a:xfrm>
            <a:off x="5638680" y="5562720"/>
            <a:ext cx="327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DE1EB6D-5C79-4757-8B5F-C24D88E212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95280" y="3124080"/>
                <a:ext cx="718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1828800" y="1523880"/>
            <a:ext cx="594360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values is norm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does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is distrib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678168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6400800" y="577836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52280" y="4038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 classes so use 7 d.f.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097 &l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4.0671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6172200" y="45720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5867280" y="624852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6172200" y="4572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80010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7543800" y="3276720"/>
            <a:ext cx="9144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C4E099F-C02C-4830-9EE6-B8947C4706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66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involving multiple population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crosstabulation t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98882E3-2746-435B-894D-B7992F39F7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077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19320" y="1752480"/>
            <a:ext cx="64767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Hand: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AE36427-9D1F-4C4E-A0B7-DBAD266BC9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187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8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0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E9DBCE9-9631-4219-8D2A-7033027FD1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the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295280" y="1523880"/>
            <a:ext cx="6934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D3CE44C-585D-4097-8319-C1F0944FB1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up a contingency analysis table and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0ADB6619-5510-43D0-B0B8-552BE70689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29718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veral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Left Hand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6/300 = .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371600" y="1600200"/>
            <a:ext cx="28954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09480" y="3479760"/>
            <a:ext cx="8153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independent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would expect 12% of the 120 females and 12% of the 180 males to be left hand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20)(.12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80)(.12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419720" y="2362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6705720" y="2819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7162920" y="3505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4406088-3AE0-43B1-8DC0-F0D217795E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Cell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43000" y="2438280"/>
                <a:ext cx="6597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ow total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olumn tota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454120" y="4565520"/>
                <a:ext cx="41277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7"/>
          <p:cNvSpPr/>
          <p:nvPr/>
        </p:nvSpPr>
        <p:spPr>
          <a:xfrm>
            <a:off x="121932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7E91231-CA60-4FDD-99A1-2E21B92904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3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rved frequencies vs. expected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AFB904E-CC54-42A2-8B84-FDAF486BB4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41907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observ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expect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 = number of ro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= number of colum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752480" y="2666880"/>
                <a:ext cx="33451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Rectangle 5"/>
          <p:cNvSpPr/>
          <p:nvPr/>
        </p:nvSpPr>
        <p:spPr>
          <a:xfrm>
            <a:off x="914040" y="185436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contingency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5562720" y="3124080"/>
                <a:ext cx="25905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6620EB9C-17D2-4944-9289-6039B0C495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362320" y="38098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362320" y="28954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362320" y="33526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362320" y="24382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52388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51"/>
              <p:cNvSpPr txBox="1"/>
              <p:nvPr/>
            </p:nvSpPr>
            <p:spPr>
              <a:xfrm>
                <a:off x="304920" y="5638680"/>
                <a:ext cx="8686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AutoShape 52"/>
          <p:cNvSpPr/>
          <p:nvPr/>
        </p:nvSpPr>
        <p:spPr>
          <a:xfrm>
            <a:off x="4724280" y="5181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F9C076A-8D8E-4F50-92A4-A64CF6470B8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3581280" y="4813200"/>
            <a:ext cx="2210040" cy="292320"/>
          </a:xfrm>
          <a:custGeom>
            <a:avLst/>
            <a:gdLst/>
            <a:ahLst/>
            <a:rect l="l" t="t" r="r" b="b"/>
            <a:pathLst>
              <a:path w="1392" h="184">
                <a:moveTo>
                  <a:pt x="0" y="184"/>
                </a:moveTo>
                <a:lnTo>
                  <a:pt x="0" y="0"/>
                </a:lnTo>
                <a:lnTo>
                  <a:pt x="240" y="40"/>
                </a:lnTo>
                <a:lnTo>
                  <a:pt x="460" y="62"/>
                </a:lnTo>
                <a:lnTo>
                  <a:pt x="728" y="78"/>
                </a:lnTo>
                <a:lnTo>
                  <a:pt x="868" y="86"/>
                </a:lnTo>
                <a:lnTo>
                  <a:pt x="1104" y="88"/>
                </a:lnTo>
                <a:cubicBezTo>
                  <a:pt x="1173" y="91"/>
                  <a:pt x="1161" y="89"/>
                  <a:pt x="1230" y="92"/>
                </a:cubicBezTo>
                <a:cubicBezTo>
                  <a:pt x="1251" y="93"/>
                  <a:pt x="1312" y="96"/>
                  <a:pt x="1312" y="96"/>
                </a:cubicBezTo>
                <a:cubicBezTo>
                  <a:pt x="1330" y="100"/>
                  <a:pt x="1349" y="99"/>
                  <a:pt x="1370" y="98"/>
                </a:cubicBezTo>
                <a:lnTo>
                  <a:pt x="1392" y="98"/>
                </a:lnTo>
                <a:lnTo>
                  <a:pt x="1392" y="184"/>
                </a:lnTo>
                <a:lnTo>
                  <a:pt x="0" y="184"/>
                </a:lnTo>
                <a:close/>
              </a:path>
            </a:pathLst>
          </a:custGeom>
          <a:solidFill>
            <a:srgbClr val="ffd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522600" y="2838600"/>
            <a:ext cx="18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582768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562720" y="4952880"/>
            <a:ext cx="609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895480" y="510552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.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838080" y="51055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838080" y="25142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3891600" y="5617080"/>
            <a:ext cx="124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4419720" y="4495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4419720" y="4190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267080" y="2538720"/>
            <a:ext cx="4572000" cy="1292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>
            <a:off x="990720" y="2438280"/>
            <a:ext cx="4800600" cy="2541600"/>
          </a:xfrm>
          <a:custGeom>
            <a:avLst/>
            <a:gdLst/>
            <a:ahLst/>
            <a:rect l="l" t="t" r="r" b="b"/>
            <a:pathLst>
              <a:path w="3935" h="1601">
                <a:moveTo>
                  <a:pt x="0" y="0"/>
                </a:moveTo>
                <a:cubicBezTo>
                  <a:pt x="12" y="224"/>
                  <a:pt x="24" y="448"/>
                  <a:pt x="96" y="624"/>
                </a:cubicBezTo>
                <a:cubicBezTo>
                  <a:pt x="168" y="800"/>
                  <a:pt x="248" y="936"/>
                  <a:pt x="432" y="1056"/>
                </a:cubicBezTo>
                <a:cubicBezTo>
                  <a:pt x="616" y="1176"/>
                  <a:pt x="864" y="1264"/>
                  <a:pt x="1200" y="1344"/>
                </a:cubicBezTo>
                <a:cubicBezTo>
                  <a:pt x="1536" y="1424"/>
                  <a:pt x="1992" y="1493"/>
                  <a:pt x="2448" y="1536"/>
                </a:cubicBezTo>
                <a:cubicBezTo>
                  <a:pt x="2904" y="1579"/>
                  <a:pt x="3625" y="1587"/>
                  <a:pt x="3935" y="160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35812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762120" y="1828800"/>
                <a:ext cx="7315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  <m:r>
                      <m:rPr>
                        <m:lit/>
                        <m:nor/>
                      </m:rPr>
                      <m:t xml:space="preserve">     with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>
            <a:off x="3581280" y="5486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3581280" y="57150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914400" y="57150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1298880" y="5617080"/>
            <a:ext cx="196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248520" y="3857760"/>
            <a:ext cx="2743200" cy="270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848 &lt; 3.841, so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gender and hand preference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1600200" y="22860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447920" y="1905120"/>
            <a:ext cx="12189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8EF1B00D-4FBF-4EEF-9328-992FC0AF8E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discrete distribution (unifor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continuous distribution (norma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contingency tables to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d observed cell frequencies to expected cell frequen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7D2A01B-10A6-4326-A003-CFE5F2DC34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sample data conform to a hypothesized distribu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normal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1DF3B56-8839-4B9A-8946-D35B2AC55A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057400" y="2971800"/>
            <a:ext cx="5181480" cy="3505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327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for 10 days per day of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m of calls for this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0060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57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8D8FB92-8EF6-4C26-85E0-188473E438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68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a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distributed, the 1722 calls would be expected to be equally divided across the 7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Goodness-of-Fit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st to see if the sample results are consistent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914400" y="3200400"/>
                <a:ext cx="7618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6   expected calls per day if uni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8AEFFDBE-2B5F-46AD-9772-D485A75698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s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600200"/>
          <a:ext cx="6096240" cy="437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8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63CEC83-133D-4A32-867D-F9CF13CE6C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655640" y="3581280"/>
                <a:ext cx="6445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here  d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1295280" y="4952880"/>
            <a:ext cx="6934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28800" y="1523880"/>
            <a:ext cx="5943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778B4AAF-9681-4479-BBE9-A22B3E3992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52280" y="4191120"/>
            <a:ext cx="40388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43434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819520" y="297180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1828800" y="1523880"/>
            <a:ext cx="59436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590920" y="4191120"/>
                <a:ext cx="1447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7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81680" y="5029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172200" y="6095880"/>
            <a:ext cx="60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6400800" y="57780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80880" y="52578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5924B79D-4F58-457B-99FE-34C238667CB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838080" y="2895480"/>
                <a:ext cx="7391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28"/>
          <p:cNvSpPr/>
          <p:nvPr/>
        </p:nvSpPr>
        <p:spPr>
          <a:xfrm>
            <a:off x="7391520" y="3048120"/>
            <a:ext cx="8380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981080" y="1600200"/>
            <a:ext cx="5029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3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6394320" y="53895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716360" y="40244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495680" y="54100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4859280" y="43434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4724280" y="40384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400800" y="54100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6705360" y="5181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629400" y="4876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6400800" y="5638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480024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H="1">
            <a:off x="64008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629400" y="579132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105520" y="579132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7848720" y="35053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8153280" y="548640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152280" y="38098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– 1 = 6  (7 days of the week) so use 6 degrees of freed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5715000" y="632448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3.05 &g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5916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conclude that the distribution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56:53Z</dcterms:modified>
  <cp:revision>77</cp:revision>
  <dc:subject>Chapter 12</dc:subject>
  <dc:title>Business Statistics: A Decision-Making Approach, 6th edition</dc:title>
</cp:coreProperties>
</file>