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0E46B-A930-419E-926D-E669DADFD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B0405-66DD-4E05-B1D5-FE8275CBF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510DB-BE23-48C3-A750-C5D167F11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29536-9AA7-4344-B0F2-9FD98AF823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5E8C4-7ABF-430C-9139-8F1736C262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F1AA4-FDCD-4291-9087-6C8A3F55CF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E02D3-42F0-443D-846C-9DD785FD6E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9A895-635B-4FCE-9599-81C6FE5B34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F1EDF-8E01-4DBE-B8DB-E7A10B8242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18729-1B66-4A3D-A99C-EEF4EDA1D0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D6120-DE7E-41F5-ADDD-A4D49255C5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F4254-23F3-449B-95D0-C78D4FB47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E5B61-F514-4935-9D12-97600A8995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6F187-F39D-425C-A99E-2D0B6CBC0D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AEF5F-F57B-42D6-B2C9-BD664AFE47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5C6FD-8FDF-4124-9230-D9B330EEE1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198B5-69BD-4E5A-9584-E575BBF272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4692F-2E6A-4BA9-955C-814E8B1A4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35E54-EB37-4780-A504-FDA3D1D0CF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5AB64-E2DB-4768-AE90-6F54F6925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67733-852C-446F-BADF-25E7F2E1B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3D593-91F4-4355-A094-6066DCF619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CD8DF-AD42-4DCF-919C-447670BE2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C15C6-B310-4BB2-9813-97A856B03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5A09974F-727F-4551-8163-912FE56FE7C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5111BE38-DFD1-488F-9628-97E5A99A94E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8580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0902E5BB-8D19-40D8-BF71-07037E13FC0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123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1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oodness-of-Fit Tests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ingency Analysi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156E820B-1E3E-4C61-AB75-72C3884134F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7696080" cy="4420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measurements from a production process follow 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50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samp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sample results into classes (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pected cell frequency must be at le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for each c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actual cell frequencies with expected cell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219320" y="45720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Normal Distribution Exampl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E9F3058A-F0AA-4E62-82A4-9CA6EC55F33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219320" y="45720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Normal Distribution Exampl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3880" y="2362320"/>
          <a:ext cx="2057400" cy="37670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81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Sample Measurement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5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648320" y="2362320"/>
          <a:ext cx="3429000" cy="380988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</a:tblGrid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than 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but &lt; 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but &lt; 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but &lt; 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 but &lt; 7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 but &lt; 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but &lt; 9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or ove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77" name="AutoShape 85"/>
          <p:cNvSpPr/>
          <p:nvPr/>
        </p:nvSpPr>
        <p:spPr>
          <a:xfrm>
            <a:off x="3809880" y="4038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6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mple data and values grouped into class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711BACA0-C362-4C39-960F-B6920BCF131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pected frequenc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ese classes for a normal distribution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= 50 and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= 15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905120" y="2362320"/>
          <a:ext cx="5105160" cy="409392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  <a:gridCol w="1676160"/>
              </a:tblGrid>
              <a:tr h="672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ed 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than 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but &lt; 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77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but &lt; 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but &lt; 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 but &lt; 7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 but &lt; 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but &lt; 9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or ove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85" name="Rectangle 66"/>
          <p:cNvSpPr/>
          <p:nvPr/>
        </p:nvSpPr>
        <p:spPr>
          <a:xfrm>
            <a:off x="1219320" y="45720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Normal Distribution Exampl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0D92F09C-A5D9-4ACF-93EB-FADD4F57A6D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57"/>
          <p:cNvSpPr/>
          <p:nvPr/>
        </p:nvSpPr>
        <p:spPr>
          <a:xfrm>
            <a:off x="6019920" y="1676520"/>
            <a:ext cx="2819160" cy="167616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4"/>
          <p:cNvSpPr/>
          <p:nvPr/>
        </p:nvSpPr>
        <p:spPr>
          <a:xfrm>
            <a:off x="2819520" y="2514600"/>
            <a:ext cx="99036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52"/>
          <p:cNvSpPr/>
          <p:nvPr/>
        </p:nvSpPr>
        <p:spPr>
          <a:xfrm>
            <a:off x="4495680" y="2514600"/>
            <a:ext cx="990720" cy="304920"/>
          </a:xfrm>
          <a:prstGeom prst="rect">
            <a:avLst/>
          </a:prstGeom>
          <a:solidFill>
            <a:srgbClr val="c1b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pected Frequenc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752480"/>
          <a:ext cx="5029200" cy="409896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  <a:gridCol w="1600200"/>
              </a:tblGrid>
              <a:tr h="672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u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(X &lt; value)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cted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than 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91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6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but &lt; 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1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but &lt; 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75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.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but &lt; 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75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.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 but &lt; 7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1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 but &lt; 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84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but &lt; 9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89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or ove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38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0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.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246"/>
          <p:cNvSpPr/>
          <p:nvPr/>
        </p:nvSpPr>
        <p:spPr>
          <a:xfrm>
            <a:off x="6019920" y="1676520"/>
            <a:ext cx="2819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cted frequencie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 a sample of size n=15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rom a normal distribution with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50,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49"/>
              <p:cNvSpPr txBox="1"/>
              <p:nvPr/>
            </p:nvSpPr>
            <p:spPr>
              <a:xfrm>
                <a:off x="6121440" y="3921120"/>
                <a:ext cx="2538360" cy="14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&lt;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33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25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51"/>
              <p:cNvSpPr txBox="1"/>
              <p:nvPr/>
            </p:nvSpPr>
            <p:spPr>
              <a:xfrm>
                <a:off x="6324480" y="5638680"/>
                <a:ext cx="22860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1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Line 253"/>
          <p:cNvSpPr/>
          <p:nvPr/>
        </p:nvSpPr>
        <p:spPr>
          <a:xfrm>
            <a:off x="5486400" y="2819520"/>
            <a:ext cx="60948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5"/>
          <p:cNvSpPr/>
          <p:nvPr/>
        </p:nvSpPr>
        <p:spPr>
          <a:xfrm>
            <a:off x="3809880" y="2666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2A96575C-2348-498F-8B88-10B29A5D60D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Test Statistic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80880" y="1828800"/>
          <a:ext cx="5334120" cy="4214880"/>
        </p:xfrm>
        <a:graphic>
          <a:graphicData uri="http://schemas.openxmlformats.org/drawingml/2006/table">
            <a:tbl>
              <a:tblPr/>
              <a:tblGrid>
                <a:gridCol w="1676520"/>
                <a:gridCol w="1752480"/>
                <a:gridCol w="1905120"/>
              </a:tblGrid>
              <a:tr h="71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observed, 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ed Frequency,  e</a:t>
                      </a:r>
                      <a:r>
                        <a:rPr b="1" lang="en-US" sz="1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than 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6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but &lt; 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but &lt; 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but &lt; 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 but &lt; 7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 but &lt; 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but &lt; 9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or ove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.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175"/>
          <p:cNvSpPr/>
          <p:nvPr/>
        </p:nvSpPr>
        <p:spPr>
          <a:xfrm>
            <a:off x="6019920" y="4114800"/>
            <a:ext cx="2590560" cy="13716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19560" y="4114800"/>
            <a:ext cx="243828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2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77"/>
              <p:cNvSpPr txBox="1"/>
              <p:nvPr/>
            </p:nvSpPr>
            <p:spPr>
              <a:xfrm>
                <a:off x="6019920" y="2438280"/>
                <a:ext cx="25174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78"/>
              <p:cNvSpPr txBox="1"/>
              <p:nvPr/>
            </p:nvSpPr>
            <p:spPr>
              <a:xfrm>
                <a:off x="6553080" y="4648320"/>
                <a:ext cx="14479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07" name="Rectangle 179"/>
          <p:cNvSpPr/>
          <p:nvPr/>
        </p:nvSpPr>
        <p:spPr>
          <a:xfrm>
            <a:off x="5867280" y="17524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test statistic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80"/>
          <p:cNvSpPr/>
          <p:nvPr/>
        </p:nvSpPr>
        <p:spPr>
          <a:xfrm>
            <a:off x="5638680" y="5562720"/>
            <a:ext cx="3276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(with  k – 1 degrees of freedom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1A0CC431-D457-4410-8FB2-D5EBE000C75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Rejection Reg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5"/>
              <p:cNvSpPr txBox="1"/>
              <p:nvPr/>
            </p:nvSpPr>
            <p:spPr>
              <a:xfrm>
                <a:off x="1295280" y="3124080"/>
                <a:ext cx="718992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Rectangle 6"/>
          <p:cNvSpPr/>
          <p:nvPr/>
        </p:nvSpPr>
        <p:spPr>
          <a:xfrm>
            <a:off x="1828800" y="1523880"/>
            <a:ext cx="5943600" cy="160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 The distribution of values is norm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= 50 and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= 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 The distribution of calls does n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ave this distribu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8"/>
          <p:cNvSpPr/>
          <p:nvPr/>
        </p:nvSpPr>
        <p:spPr>
          <a:xfrm>
            <a:off x="6394320" y="5529240"/>
            <a:ext cx="1555920" cy="244440"/>
          </a:xfrm>
          <a:custGeom>
            <a:avLst/>
            <a:gdLst/>
            <a:ahLst/>
            <a:rect l="l" t="t" r="r" b="b"/>
            <a:pathLst>
              <a:path w="980" h="154">
                <a:moveTo>
                  <a:pt x="4" y="154"/>
                </a:moveTo>
                <a:lnTo>
                  <a:pt x="0" y="0"/>
                </a:lnTo>
                <a:lnTo>
                  <a:pt x="83" y="39"/>
                </a:lnTo>
                <a:lnTo>
                  <a:pt x="154" y="61"/>
                </a:lnTo>
                <a:lnTo>
                  <a:pt x="209" y="76"/>
                </a:lnTo>
                <a:lnTo>
                  <a:pt x="283" y="91"/>
                </a:lnTo>
                <a:lnTo>
                  <a:pt x="428" y="111"/>
                </a:lnTo>
                <a:lnTo>
                  <a:pt x="592" y="126"/>
                </a:lnTo>
                <a:lnTo>
                  <a:pt x="979" y="141"/>
                </a:lnTo>
                <a:lnTo>
                  <a:pt x="980" y="154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9"/>
          <p:cNvSpPr/>
          <p:nvPr/>
        </p:nvSpPr>
        <p:spPr>
          <a:xfrm>
            <a:off x="4716360" y="4164120"/>
            <a:ext cx="3513240" cy="1614240"/>
          </a:xfrm>
          <a:custGeom>
            <a:avLst/>
            <a:gdLst/>
            <a:ahLst/>
            <a:rect l="l" t="t" r="r" b="b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495680" y="554976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4859280" y="448308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2"/>
          <p:cNvSpPr/>
          <p:nvPr/>
        </p:nvSpPr>
        <p:spPr>
          <a:xfrm>
            <a:off x="4724280" y="4178160"/>
            <a:ext cx="3429000" cy="1621080"/>
          </a:xfrm>
          <a:custGeom>
            <a:avLst/>
            <a:gdLst/>
            <a:ahLst/>
            <a:rect l="l" t="t" r="r" b="b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6400800" y="554976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4"/>
          <p:cNvSpPr/>
          <p:nvPr/>
        </p:nvSpPr>
        <p:spPr>
          <a:xfrm flipH="1">
            <a:off x="6781680" y="54100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6781680" y="5029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7"/>
          <p:cNvSpPr/>
          <p:nvPr/>
        </p:nvSpPr>
        <p:spPr>
          <a:xfrm flipV="1">
            <a:off x="6400800" y="5778360"/>
            <a:ext cx="0" cy="470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4800240" y="600696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6400800" y="600696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6629400" y="6006960"/>
            <a:ext cx="9907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1"/>
          <p:cNvSpPr/>
          <p:nvPr/>
        </p:nvSpPr>
        <p:spPr>
          <a:xfrm>
            <a:off x="5105520" y="600696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8153280" y="5638680"/>
            <a:ext cx="60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6"/>
          <p:cNvSpPr/>
          <p:nvPr/>
        </p:nvSpPr>
        <p:spPr>
          <a:xfrm>
            <a:off x="152280" y="40384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213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 classes so use 7 d.f.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7"/>
          <p:cNvSpPr/>
          <p:nvPr/>
        </p:nvSpPr>
        <p:spPr>
          <a:xfrm>
            <a:off x="990720" y="4419720"/>
            <a:ext cx="228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.0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14.06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8"/>
          <p:cNvSpPr/>
          <p:nvPr/>
        </p:nvSpPr>
        <p:spPr>
          <a:xfrm>
            <a:off x="304920" y="5029200"/>
            <a:ext cx="3962160" cy="137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lnSpc>
                <a:spcPct val="130000"/>
              </a:lnSpc>
              <a:spcBef>
                <a:spcPts val="238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clusion: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238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12.097 &lt;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14.0671 so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9"/>
          <p:cNvSpPr/>
          <p:nvPr/>
        </p:nvSpPr>
        <p:spPr>
          <a:xfrm>
            <a:off x="6172200" y="45720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0"/>
          <p:cNvSpPr/>
          <p:nvPr/>
        </p:nvSpPr>
        <p:spPr>
          <a:xfrm>
            <a:off x="5867280" y="6248520"/>
            <a:ext cx="1905120" cy="435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.0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= 14.06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6172200" y="4572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3"/>
          <p:cNvSpPr/>
          <p:nvPr/>
        </p:nvSpPr>
        <p:spPr>
          <a:xfrm flipV="1">
            <a:off x="80010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5"/>
          <p:cNvSpPr/>
          <p:nvPr/>
        </p:nvSpPr>
        <p:spPr>
          <a:xfrm>
            <a:off x="7543800" y="3276720"/>
            <a:ext cx="9144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0410ACAB-B2EF-480C-869F-81D1140469E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tingency Tab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3669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ingency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s involving multiple population propo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classify sample observations according to two or mor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lled a crosstabulation tabl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F0639398-A4FC-4195-B610-C9AC5DE62D4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tingency Table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4038120"/>
            <a:ext cx="807732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Hand preference is independent of gend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Hand preference is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no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ndependent of gend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219320" y="1752480"/>
            <a:ext cx="6476760" cy="18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ft-Handed vs. G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inant Hand:  Left vs.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:  Male vs. Fe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2F409F48-7D54-4FC0-A8F9-490B6150A4F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tingency Table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mple results organized in a contingency tabl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505320" y="2666880"/>
          <a:ext cx="5105160" cy="3094200"/>
        </p:xfrm>
        <a:graphic>
          <a:graphicData uri="http://schemas.openxmlformats.org/drawingml/2006/table">
            <a:tbl>
              <a:tblPr/>
              <a:tblGrid>
                <a:gridCol w="1371600"/>
                <a:gridCol w="1349280"/>
                <a:gridCol w="1317600"/>
                <a:gridCol w="1066680"/>
              </a:tblGrid>
              <a:tr h="444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d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 Preferenc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187"/>
          <p:cNvSpPr/>
          <p:nvPr/>
        </p:nvSpPr>
        <p:spPr>
          <a:xfrm>
            <a:off x="152280" y="3505320"/>
            <a:ext cx="289584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11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20 Females, 12 were left hand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80 Males, 24 were left hand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88"/>
          <p:cNvSpPr/>
          <p:nvPr/>
        </p:nvSpPr>
        <p:spPr>
          <a:xfrm>
            <a:off x="3048120" y="43434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90"/>
          <p:cNvSpPr/>
          <p:nvPr/>
        </p:nvSpPr>
        <p:spPr>
          <a:xfrm>
            <a:off x="0" y="297180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mple size = n = 300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C2802BDD-1895-4026-9262-D86BA755223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ogic of the Tes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8076960" cy="297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, then the proportion of left-handed females should be the same as the proportion of left-handed 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wo proportions above should be the same as the proportion of left-handed people over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1295280" y="1523880"/>
            <a:ext cx="693432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Hand preference is independent of gend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Hand preference is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no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ndependent of gend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CBC2EFC4-718D-43CC-9748-0358F10AAC8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the chi-square goodness-of-fit test to determine whether data fits a specified distrib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t up a contingency analysis table and perform a chi-square test of independ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35C2769B-0D91-46A1-A004-CD14E3C1427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inding Expected Frequenc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52520" y="1600200"/>
            <a:ext cx="2971800" cy="1752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Overall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(Left Hande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36/300 = .1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1371600" y="1600200"/>
            <a:ext cx="289548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43080" indent="-3430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20 Females, 12 were left hand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80 Males, 24 were left hand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609480" y="3479760"/>
            <a:ext cx="815364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f independent,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Left Handed | Female) = P(Left Handed | Male) = .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we would expect 12% of the 120 females and 12% of the 180 males to be left hande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.e., we would expect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(120)(.12) = 14.4 females to be left h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(180)(.12) = 21.6 males to be left h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4419720" y="23623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7"/>
          <p:cNvSpPr/>
          <p:nvPr/>
        </p:nvSpPr>
        <p:spPr>
          <a:xfrm>
            <a:off x="6705720" y="2819520"/>
            <a:ext cx="9144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7162920" y="35053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"/>
          <p:cNvSpPr/>
          <p:nvPr/>
        </p:nvSpPr>
        <p:spPr>
          <a:xfrm>
            <a:off x="6858000" y="3886200"/>
            <a:ext cx="60948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F476FA8F-1EE7-4EA0-8753-C621CC30748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pected Cell Frequenc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480060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pected cell frequenci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5"/>
              <p:cNvSpPr txBox="1"/>
              <p:nvPr/>
            </p:nvSpPr>
            <p:spPr>
              <a:xfrm>
                <a:off x="1143000" y="2438280"/>
                <a:ext cx="659772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Row total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Column total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sample siz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6"/>
              <p:cNvSpPr txBox="1"/>
              <p:nvPr/>
            </p:nvSpPr>
            <p:spPr>
              <a:xfrm>
                <a:off x="2454120" y="4565520"/>
                <a:ext cx="412776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Rectangle 7"/>
          <p:cNvSpPr/>
          <p:nvPr/>
        </p:nvSpPr>
        <p:spPr>
          <a:xfrm>
            <a:off x="1219320" y="4038480"/>
            <a:ext cx="480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Exampl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EC55A4B5-E3CD-48F8-9E4D-9F81FBBFD6D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3"/>
          <p:cNvSpPr/>
          <p:nvPr/>
        </p:nvSpPr>
        <p:spPr>
          <a:xfrm>
            <a:off x="2362320" y="4800600"/>
            <a:ext cx="5181480" cy="457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2"/>
          <p:cNvSpPr/>
          <p:nvPr/>
        </p:nvSpPr>
        <p:spPr>
          <a:xfrm>
            <a:off x="2362320" y="3886200"/>
            <a:ext cx="5181480" cy="457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1"/>
          <p:cNvSpPr/>
          <p:nvPr/>
        </p:nvSpPr>
        <p:spPr>
          <a:xfrm>
            <a:off x="2362320" y="4343400"/>
            <a:ext cx="518148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0"/>
          <p:cNvSpPr/>
          <p:nvPr/>
        </p:nvSpPr>
        <p:spPr>
          <a:xfrm>
            <a:off x="2362320" y="3429000"/>
            <a:ext cx="518148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Observed v. Expected Frequencie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bserved frequencies vs. expected frequenci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685800" y="2514600"/>
          <a:ext cx="7924680" cy="3419640"/>
        </p:xfrm>
        <a:graphic>
          <a:graphicData uri="http://schemas.openxmlformats.org/drawingml/2006/table">
            <a:tbl>
              <a:tblPr/>
              <a:tblGrid>
                <a:gridCol w="1676520"/>
                <a:gridCol w="2547720"/>
                <a:gridCol w="2633760"/>
                <a:gridCol w="1066680"/>
              </a:tblGrid>
              <a:tr h="444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d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 Preferenc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4.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0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05.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2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21.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5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58.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9B55F3B9-51EF-4D66-8CD0-AA32457C555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Chi-Square Test Statistic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71600" y="4190760"/>
            <a:ext cx="5105520" cy="1904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observed frequency in cell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, j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expected frequency in cell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, j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 = number of row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 = number of colum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4"/>
              <p:cNvSpPr txBox="1"/>
              <p:nvPr/>
            </p:nvSpPr>
            <p:spPr>
              <a:xfrm>
                <a:off x="1752480" y="2666880"/>
                <a:ext cx="334512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1" name="Rectangle 5"/>
          <p:cNvSpPr/>
          <p:nvPr/>
        </p:nvSpPr>
        <p:spPr>
          <a:xfrm>
            <a:off x="914040" y="1854360"/>
            <a:ext cx="70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i-square contingency test statistic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6"/>
              <p:cNvSpPr txBox="1"/>
              <p:nvPr/>
            </p:nvSpPr>
            <p:spPr>
              <a:xfrm>
                <a:off x="5562720" y="3124080"/>
                <a:ext cx="259056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ith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325332E5-ECF7-4CF7-8659-673245B0A5F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2362320" y="3809880"/>
            <a:ext cx="5181480" cy="457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2362320" y="2895480"/>
            <a:ext cx="5181480" cy="457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2362320" y="3352680"/>
            <a:ext cx="518148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2362320" y="2438280"/>
            <a:ext cx="518148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Observed v. Expected Frequencie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85800" y="1523880"/>
          <a:ext cx="7924680" cy="3419640"/>
        </p:xfrm>
        <a:graphic>
          <a:graphicData uri="http://schemas.openxmlformats.org/drawingml/2006/table">
            <a:tbl>
              <a:tblPr/>
              <a:tblGrid>
                <a:gridCol w="1676520"/>
                <a:gridCol w="2547720"/>
                <a:gridCol w="2633760"/>
                <a:gridCol w="1066680"/>
              </a:tblGrid>
              <a:tr h="444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d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 Preferenc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4.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0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05.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2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21.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5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58.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01" name="Object 51"/>
              <p:cNvSpPr txBox="1"/>
              <p:nvPr/>
            </p:nvSpPr>
            <p:spPr>
              <a:xfrm>
                <a:off x="304920" y="5638680"/>
                <a:ext cx="86868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AutoShape 52"/>
          <p:cNvSpPr/>
          <p:nvPr/>
        </p:nvSpPr>
        <p:spPr>
          <a:xfrm>
            <a:off x="4724280" y="51814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2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560206CD-D9F7-4CEE-BED4-56FB4027850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28"/>
          <p:cNvSpPr/>
          <p:nvPr/>
        </p:nvSpPr>
        <p:spPr>
          <a:xfrm>
            <a:off x="3581280" y="4813200"/>
            <a:ext cx="2210040" cy="292320"/>
          </a:xfrm>
          <a:custGeom>
            <a:avLst/>
            <a:gdLst/>
            <a:ahLst/>
            <a:rect l="l" t="t" r="r" b="b"/>
            <a:pathLst>
              <a:path w="1392" h="184">
                <a:moveTo>
                  <a:pt x="0" y="184"/>
                </a:moveTo>
                <a:lnTo>
                  <a:pt x="0" y="0"/>
                </a:lnTo>
                <a:lnTo>
                  <a:pt x="240" y="40"/>
                </a:lnTo>
                <a:lnTo>
                  <a:pt x="460" y="62"/>
                </a:lnTo>
                <a:lnTo>
                  <a:pt x="728" y="78"/>
                </a:lnTo>
                <a:lnTo>
                  <a:pt x="868" y="86"/>
                </a:lnTo>
                <a:lnTo>
                  <a:pt x="1104" y="88"/>
                </a:lnTo>
                <a:cubicBezTo>
                  <a:pt x="1173" y="91"/>
                  <a:pt x="1161" y="89"/>
                  <a:pt x="1230" y="92"/>
                </a:cubicBezTo>
                <a:cubicBezTo>
                  <a:pt x="1251" y="93"/>
                  <a:pt x="1312" y="96"/>
                  <a:pt x="1312" y="96"/>
                </a:cubicBezTo>
                <a:cubicBezTo>
                  <a:pt x="1330" y="100"/>
                  <a:pt x="1349" y="99"/>
                  <a:pt x="1370" y="98"/>
                </a:cubicBezTo>
                <a:lnTo>
                  <a:pt x="1392" y="98"/>
                </a:lnTo>
                <a:lnTo>
                  <a:pt x="1392" y="184"/>
                </a:lnTo>
                <a:lnTo>
                  <a:pt x="0" y="184"/>
                </a:lnTo>
                <a:close/>
              </a:path>
            </a:pathLst>
          </a:custGeom>
          <a:solidFill>
            <a:srgbClr val="ffd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tingency Analysi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Line 4"/>
          <p:cNvSpPr/>
          <p:nvPr/>
        </p:nvSpPr>
        <p:spPr>
          <a:xfrm>
            <a:off x="3522600" y="2838600"/>
            <a:ext cx="180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6807240" y="4535640"/>
            <a:ext cx="0" cy="936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6481800" y="4535640"/>
            <a:ext cx="0" cy="936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7"/>
          <p:cNvSpPr/>
          <p:nvPr/>
        </p:nvSpPr>
        <p:spPr>
          <a:xfrm>
            <a:off x="6153120" y="4535640"/>
            <a:ext cx="0" cy="936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8"/>
          <p:cNvSpPr/>
          <p:nvPr/>
        </p:nvSpPr>
        <p:spPr>
          <a:xfrm>
            <a:off x="5827680" y="4535640"/>
            <a:ext cx="0" cy="936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5562720" y="4952880"/>
            <a:ext cx="60948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9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2895480" y="5105520"/>
            <a:ext cx="18288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.0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3.84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1"/>
          <p:cNvSpPr/>
          <p:nvPr/>
        </p:nvSpPr>
        <p:spPr>
          <a:xfrm>
            <a:off x="838080" y="5105520"/>
            <a:ext cx="4953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 flipV="1">
            <a:off x="838080" y="251424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3891600" y="5617080"/>
            <a:ext cx="124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6"/>
          <p:cNvSpPr/>
          <p:nvPr/>
        </p:nvSpPr>
        <p:spPr>
          <a:xfrm flipH="1">
            <a:off x="4419720" y="4495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4419720" y="419004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9"/>
          <p:cNvSpPr/>
          <p:nvPr/>
        </p:nvSpPr>
        <p:spPr>
          <a:xfrm>
            <a:off x="4267080" y="2538720"/>
            <a:ext cx="4572000" cy="12920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cision R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3.841,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therwise, do not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20"/>
          <p:cNvSpPr/>
          <p:nvPr/>
        </p:nvSpPr>
        <p:spPr>
          <a:xfrm>
            <a:off x="990720" y="2438280"/>
            <a:ext cx="4800600" cy="2541600"/>
          </a:xfrm>
          <a:custGeom>
            <a:avLst/>
            <a:gdLst/>
            <a:ahLst/>
            <a:rect l="l" t="t" r="r" b="b"/>
            <a:pathLst>
              <a:path w="3935" h="1601">
                <a:moveTo>
                  <a:pt x="0" y="0"/>
                </a:moveTo>
                <a:cubicBezTo>
                  <a:pt x="12" y="224"/>
                  <a:pt x="24" y="448"/>
                  <a:pt x="96" y="624"/>
                </a:cubicBezTo>
                <a:cubicBezTo>
                  <a:pt x="168" y="800"/>
                  <a:pt x="248" y="936"/>
                  <a:pt x="432" y="1056"/>
                </a:cubicBezTo>
                <a:cubicBezTo>
                  <a:pt x="616" y="1176"/>
                  <a:pt x="864" y="1264"/>
                  <a:pt x="1200" y="1344"/>
                </a:cubicBezTo>
                <a:cubicBezTo>
                  <a:pt x="1536" y="1424"/>
                  <a:pt x="1992" y="1493"/>
                  <a:pt x="2448" y="1536"/>
                </a:cubicBezTo>
                <a:cubicBezTo>
                  <a:pt x="2904" y="1579"/>
                  <a:pt x="3625" y="1587"/>
                  <a:pt x="3935" y="1601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3581280" y="4800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22"/>
              <p:cNvSpPr txBox="1"/>
              <p:nvPr/>
            </p:nvSpPr>
            <p:spPr>
              <a:xfrm>
                <a:off x="762120" y="1828800"/>
                <a:ext cx="7315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48</m:t>
                    </m:r>
                    <m:r>
                      <m:rPr>
                        <m:lit/>
                        <m:nor/>
                      </m:rPr>
                      <m:t xml:space="preserve">     with   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-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-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Line 23"/>
          <p:cNvSpPr/>
          <p:nvPr/>
        </p:nvSpPr>
        <p:spPr>
          <a:xfrm>
            <a:off x="3581280" y="5486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4"/>
          <p:cNvSpPr/>
          <p:nvPr/>
        </p:nvSpPr>
        <p:spPr>
          <a:xfrm>
            <a:off x="3581280" y="5715000"/>
            <a:ext cx="2362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5"/>
          <p:cNvSpPr/>
          <p:nvPr/>
        </p:nvSpPr>
        <p:spPr>
          <a:xfrm flipH="1">
            <a:off x="914400" y="5715000"/>
            <a:ext cx="2666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6"/>
          <p:cNvSpPr/>
          <p:nvPr/>
        </p:nvSpPr>
        <p:spPr>
          <a:xfrm>
            <a:off x="1298880" y="5617080"/>
            <a:ext cx="1960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7"/>
          <p:cNvSpPr/>
          <p:nvPr/>
        </p:nvSpPr>
        <p:spPr>
          <a:xfrm>
            <a:off x="6248520" y="3857760"/>
            <a:ext cx="2743200" cy="270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6848 &lt; 3.841, so w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o not reject H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onclude that gender and hand preference are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9"/>
          <p:cNvSpPr/>
          <p:nvPr/>
        </p:nvSpPr>
        <p:spPr>
          <a:xfrm>
            <a:off x="1600200" y="2286000"/>
            <a:ext cx="0" cy="2819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0"/>
          <p:cNvSpPr/>
          <p:nvPr/>
        </p:nvSpPr>
        <p:spPr>
          <a:xfrm>
            <a:off x="1447920" y="1905120"/>
            <a:ext cx="12189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9C73F459-1068-4453-8E04-28980A27621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685800" y="1752480"/>
            <a:ext cx="8153280" cy="45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d the chi-square goodness-of-fit test to determine whether data fits a specified distrib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ample of a discrete distribution (uniform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ample of a continuous distribution (normal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d contingency tables to perform a chi-square test of independ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pared observed cell frequencies to expected cell frequenc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71F34148-82CB-4CDF-B208-FB7377FF3D8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es sample data conform to a hypothesized distributio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Exampl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lnSpc>
                <a:spcPct val="105000"/>
              </a:lnSpc>
              <a:spcBef>
                <a:spcPts val="104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echnical support calls equal across all days of the week? (i.e., do calls follow a uniform distribution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lnSpc>
                <a:spcPct val="105000"/>
              </a:lnSpc>
              <a:spcBef>
                <a:spcPts val="104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measurements from a production process follow a normal distrib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219320" y="45720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i-Square Goodness-of-Fit Tes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BF7F1F5A-506B-4D8A-B97F-719A9E6DFF4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2057400" y="2971800"/>
            <a:ext cx="5181480" cy="3505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3275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echnical support calls equal across all days of the week? (i.e., do calls follow a uniform distribution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data for 10 days per day of we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0"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um of calls for this 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76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2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76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76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dnes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2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76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rs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2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76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2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76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ur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2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76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1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219320" y="45720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i-Square Goodness-of-Fit Tes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800600" y="59436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7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5257800" y="5943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17C25C84-03D4-4AAA-81EF-81C74E951D5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219320" y="45720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ogic of Goodness-of-Fit Tes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68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all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iformly distributed, the 1722 calls would be expected to be equally divided across the 7 d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7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7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hi-Square Goodness-of-Fit Tes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est to see if the sample results are consistent with the expec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0"/>
              <p:cNvSpPr txBox="1"/>
              <p:nvPr/>
            </p:nvSpPr>
            <p:spPr>
              <a:xfrm>
                <a:off x="914400" y="3200400"/>
                <a:ext cx="761832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2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6   expected calls per day if unifor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AFD0883D-57EF-47D3-AD05-8C17E624995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Observed vs. Expected Frequencie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3880" y="1600200"/>
          <a:ext cx="6096240" cy="43768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3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ed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3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9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sda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nesda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sda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da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da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da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9A4991A1-FA10-44A6-86EF-728B51576BE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i-Square Test Statistic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3047760"/>
            <a:ext cx="3657600" cy="533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test statistic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1655640" y="3581280"/>
                <a:ext cx="644544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where  df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Rectangle 5"/>
          <p:cNvSpPr/>
          <p:nvPr/>
        </p:nvSpPr>
        <p:spPr>
          <a:xfrm>
            <a:off x="1295280" y="4952880"/>
            <a:ext cx="693432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= number of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observed cell frequency for category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expected cell frequency for category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828800" y="1523880"/>
            <a:ext cx="594360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 The distribution of calls is unifor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ver days of the we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 The distribution of calls is not unifor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234BA1C5-9BD9-4FAD-9047-0B2A68C3C25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5"/>
          <p:cNvSpPr/>
          <p:nvPr/>
        </p:nvSpPr>
        <p:spPr>
          <a:xfrm>
            <a:off x="152280" y="4191120"/>
            <a:ext cx="403884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Rejection Reg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4343400"/>
            <a:ext cx="243828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5000"/>
          </a:bodyPr>
          <a:p>
            <a:pPr marL="304560" indent="-3045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Reject H</a:t>
            </a:r>
            <a:r>
              <a:rPr b="0" lang="en-US" sz="27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 i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2819520" y="2971800"/>
                <a:ext cx="25174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5" name="Rectangle 6"/>
          <p:cNvSpPr/>
          <p:nvPr/>
        </p:nvSpPr>
        <p:spPr>
          <a:xfrm>
            <a:off x="1828800" y="1523880"/>
            <a:ext cx="5943600" cy="1295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 The distribution of calls is unifor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ver days of the we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 The distribution of calls is not unifor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7"/>
              <p:cNvSpPr txBox="1"/>
              <p:nvPr/>
            </p:nvSpPr>
            <p:spPr>
              <a:xfrm>
                <a:off x="2590920" y="4191120"/>
                <a:ext cx="14475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7" name="Freeform 8"/>
          <p:cNvSpPr/>
          <p:nvPr/>
        </p:nvSpPr>
        <p:spPr>
          <a:xfrm>
            <a:off x="6394320" y="5529240"/>
            <a:ext cx="1555920" cy="244440"/>
          </a:xfrm>
          <a:custGeom>
            <a:avLst/>
            <a:gdLst/>
            <a:ahLst/>
            <a:rect l="l" t="t" r="r" b="b"/>
            <a:pathLst>
              <a:path w="980" h="154">
                <a:moveTo>
                  <a:pt x="4" y="154"/>
                </a:moveTo>
                <a:lnTo>
                  <a:pt x="0" y="0"/>
                </a:lnTo>
                <a:lnTo>
                  <a:pt x="83" y="39"/>
                </a:lnTo>
                <a:lnTo>
                  <a:pt x="154" y="61"/>
                </a:lnTo>
                <a:lnTo>
                  <a:pt x="209" y="76"/>
                </a:lnTo>
                <a:lnTo>
                  <a:pt x="283" y="91"/>
                </a:lnTo>
                <a:lnTo>
                  <a:pt x="428" y="111"/>
                </a:lnTo>
                <a:lnTo>
                  <a:pt x="592" y="126"/>
                </a:lnTo>
                <a:lnTo>
                  <a:pt x="979" y="141"/>
                </a:lnTo>
                <a:lnTo>
                  <a:pt x="980" y="154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9"/>
          <p:cNvSpPr/>
          <p:nvPr/>
        </p:nvSpPr>
        <p:spPr>
          <a:xfrm>
            <a:off x="4716360" y="4164120"/>
            <a:ext cx="3513240" cy="1614240"/>
          </a:xfrm>
          <a:custGeom>
            <a:avLst/>
            <a:gdLst/>
            <a:ahLst/>
            <a:rect l="l" t="t" r="r" b="b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4495680" y="554976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4859280" y="448308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2"/>
          <p:cNvSpPr/>
          <p:nvPr/>
        </p:nvSpPr>
        <p:spPr>
          <a:xfrm>
            <a:off x="4724280" y="4178160"/>
            <a:ext cx="3429000" cy="1621080"/>
          </a:xfrm>
          <a:custGeom>
            <a:avLst/>
            <a:gdLst/>
            <a:ahLst/>
            <a:rect l="l" t="t" r="r" b="b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6400800" y="554976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 flipH="1">
            <a:off x="6781680" y="54100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6781680" y="5029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6172200" y="6095880"/>
            <a:ext cx="609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 flipV="1">
            <a:off x="6400800" y="577800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8"/>
          <p:cNvSpPr/>
          <p:nvPr/>
        </p:nvSpPr>
        <p:spPr>
          <a:xfrm flipH="1">
            <a:off x="4800240" y="600696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9"/>
          <p:cNvSpPr/>
          <p:nvPr/>
        </p:nvSpPr>
        <p:spPr>
          <a:xfrm flipH="1">
            <a:off x="6400800" y="600696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6629400" y="6006960"/>
            <a:ext cx="9907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5105520" y="600696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380880" y="525780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(with  k – 1 degrees of freedom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8153280" y="5638680"/>
            <a:ext cx="60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18021472-3DC3-4F1A-BE9D-7E2852D1E98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838080" y="2895480"/>
                <a:ext cx="73915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9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Rectangle 28"/>
          <p:cNvSpPr/>
          <p:nvPr/>
        </p:nvSpPr>
        <p:spPr>
          <a:xfrm>
            <a:off x="7391520" y="3048120"/>
            <a:ext cx="83808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i-Square Test Statistic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981080" y="1600200"/>
            <a:ext cx="50292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8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 The distribution of calls is unifo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30000"/>
              </a:lnSpc>
              <a:spcBef>
                <a:spcPts val="8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ver days of the wee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 The distribution of calls is not unifo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8"/>
          <p:cNvSpPr/>
          <p:nvPr/>
        </p:nvSpPr>
        <p:spPr>
          <a:xfrm>
            <a:off x="6394320" y="5389560"/>
            <a:ext cx="1555920" cy="244440"/>
          </a:xfrm>
          <a:custGeom>
            <a:avLst/>
            <a:gdLst/>
            <a:ahLst/>
            <a:rect l="l" t="t" r="r" b="b"/>
            <a:pathLst>
              <a:path w="980" h="154">
                <a:moveTo>
                  <a:pt x="4" y="154"/>
                </a:moveTo>
                <a:lnTo>
                  <a:pt x="0" y="0"/>
                </a:lnTo>
                <a:lnTo>
                  <a:pt x="83" y="39"/>
                </a:lnTo>
                <a:lnTo>
                  <a:pt x="154" y="61"/>
                </a:lnTo>
                <a:lnTo>
                  <a:pt x="209" y="76"/>
                </a:lnTo>
                <a:lnTo>
                  <a:pt x="283" y="91"/>
                </a:lnTo>
                <a:lnTo>
                  <a:pt x="428" y="111"/>
                </a:lnTo>
                <a:lnTo>
                  <a:pt x="592" y="126"/>
                </a:lnTo>
                <a:lnTo>
                  <a:pt x="979" y="141"/>
                </a:lnTo>
                <a:lnTo>
                  <a:pt x="980" y="154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9"/>
          <p:cNvSpPr/>
          <p:nvPr/>
        </p:nvSpPr>
        <p:spPr>
          <a:xfrm>
            <a:off x="4716360" y="4024440"/>
            <a:ext cx="3513240" cy="1614240"/>
          </a:xfrm>
          <a:custGeom>
            <a:avLst/>
            <a:gdLst/>
            <a:ahLst/>
            <a:rect l="l" t="t" r="r" b="b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4495680" y="541008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>
            <a:off x="4859280" y="434340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2"/>
          <p:cNvSpPr/>
          <p:nvPr/>
        </p:nvSpPr>
        <p:spPr>
          <a:xfrm>
            <a:off x="4724280" y="4038480"/>
            <a:ext cx="3429000" cy="1621080"/>
          </a:xfrm>
          <a:custGeom>
            <a:avLst/>
            <a:gdLst/>
            <a:ahLst/>
            <a:rect l="l" t="t" r="r" b="b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6400800" y="541008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4"/>
          <p:cNvSpPr/>
          <p:nvPr/>
        </p:nvSpPr>
        <p:spPr>
          <a:xfrm flipH="1">
            <a:off x="6705360" y="51814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6629400" y="48769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7"/>
          <p:cNvSpPr/>
          <p:nvPr/>
        </p:nvSpPr>
        <p:spPr>
          <a:xfrm flipV="1">
            <a:off x="6400800" y="563832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8"/>
          <p:cNvSpPr/>
          <p:nvPr/>
        </p:nvSpPr>
        <p:spPr>
          <a:xfrm flipH="1">
            <a:off x="4800240" y="5867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9"/>
          <p:cNvSpPr/>
          <p:nvPr/>
        </p:nvSpPr>
        <p:spPr>
          <a:xfrm flipH="1">
            <a:off x="6400800" y="5867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0"/>
          <p:cNvSpPr/>
          <p:nvPr/>
        </p:nvSpPr>
        <p:spPr>
          <a:xfrm>
            <a:off x="6629400" y="5791320"/>
            <a:ext cx="9907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1"/>
          <p:cNvSpPr/>
          <p:nvPr/>
        </p:nvSpPr>
        <p:spPr>
          <a:xfrm>
            <a:off x="5105520" y="579132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2"/>
          <p:cNvSpPr/>
          <p:nvPr/>
        </p:nvSpPr>
        <p:spPr>
          <a:xfrm>
            <a:off x="7848720" y="35053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4"/>
          <p:cNvSpPr/>
          <p:nvPr/>
        </p:nvSpPr>
        <p:spPr>
          <a:xfrm>
            <a:off x="8153280" y="5486400"/>
            <a:ext cx="60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5"/>
          <p:cNvSpPr/>
          <p:nvPr/>
        </p:nvSpPr>
        <p:spPr>
          <a:xfrm>
            <a:off x="152280" y="3809880"/>
            <a:ext cx="3962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213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k – 1 = 6  (7 days of the week) so use 6 degrees of freedom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6"/>
          <p:cNvSpPr/>
          <p:nvPr/>
        </p:nvSpPr>
        <p:spPr>
          <a:xfrm>
            <a:off x="990720" y="4419720"/>
            <a:ext cx="228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.0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12.59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7"/>
          <p:cNvSpPr/>
          <p:nvPr/>
        </p:nvSpPr>
        <p:spPr>
          <a:xfrm>
            <a:off x="5715000" y="6324480"/>
            <a:ext cx="1905120" cy="435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.0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= 12.59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9"/>
          <p:cNvSpPr/>
          <p:nvPr/>
        </p:nvSpPr>
        <p:spPr>
          <a:xfrm>
            <a:off x="304920" y="5029200"/>
            <a:ext cx="3962160" cy="137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238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clusion: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238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23.05 &gt;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12.5916 so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nd conclude that the distribution is not unifo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user</cp:lastModifiedBy>
  <cp:lastPrinted>1998-11-22T23:37:53Z</cp:lastPrinted>
  <dcterms:modified xsi:type="dcterms:W3CDTF">2016-09-06T21:59:56Z</dcterms:modified>
  <cp:revision>77</cp:revision>
  <dc:subject>Chapter 12</dc:subject>
  <dc:title>Business Statistics: A Decision-Making Approach, 6th edition</dc:title>
</cp:coreProperties>
</file>