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2B74-8BB4-4432-AE5A-151099709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22D9-2266-4BE1-AF6C-242F8776CB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ften thought that because consumers have limited information-processing capacity, they must develop a choice strategy based on both individual factors (e.g., knowledge, personality traits, demographics) and contextual factors (characteristics of the decision tasks). The three major contextual factors that have been researche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Task Complexity </a:t>
            </a:r>
            <a:r>
              <a:rPr b="0" lang="en-US" sz="1200" spc="-1" strike="noStrike">
                <a:solidFill>
                  <a:srgbClr val="000000"/>
                </a:solidFill>
                <a:latin typeface="Calibri"/>
              </a:rPr>
              <a:t>– the number of alternatives and amount of information available for each altern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formation Organization </a:t>
            </a:r>
            <a:r>
              <a:rPr b="0" lang="en-US" sz="1200" spc="-1" strike="noStrike">
                <a:solidFill>
                  <a:srgbClr val="000000"/>
                </a:solidFill>
                <a:latin typeface="Calibri"/>
              </a:rPr>
              <a:t>– the presentation, format, and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Time Constraint </a:t>
            </a:r>
            <a:r>
              <a:rPr b="0" lang="en-US" sz="1200" spc="-1" strike="noStrike">
                <a:solidFill>
                  <a:srgbClr val="000000"/>
                </a:solidFill>
                <a:latin typeface="Calibri"/>
              </a:rPr>
              <a:t>– the amount of time the consumer has to decide.</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8DF5-A594-4F7D-830D-C44790DBA4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ontext of consumer decision-making, the </a:t>
            </a:r>
            <a:r>
              <a:rPr b="1" lang="en-US" sz="1200" spc="-1" strike="noStrike">
                <a:solidFill>
                  <a:srgbClr val="000000"/>
                </a:solidFill>
                <a:latin typeface="Calibri"/>
              </a:rPr>
              <a:t>evoked set (consideration set) </a:t>
            </a:r>
            <a:r>
              <a:rPr b="0" lang="en-US" sz="1200" spc="-1" strike="noStrike">
                <a:solidFill>
                  <a:srgbClr val="000000"/>
                </a:solidFill>
                <a:latin typeface="Calibri"/>
              </a:rPr>
              <a:t>refers to the specific brands (or models) a consumer considers in making a purchase within a particular product category. An </a:t>
            </a:r>
            <a:r>
              <a:rPr b="1" lang="en-US" sz="1200" spc="-1" strike="noStrike">
                <a:solidFill>
                  <a:srgbClr val="000000"/>
                </a:solidFill>
                <a:latin typeface="Calibri"/>
              </a:rPr>
              <a:t>inept set </a:t>
            </a:r>
            <a:r>
              <a:rPr b="0" lang="en-US" sz="1200" spc="-1" strike="noStrike">
                <a:solidFill>
                  <a:srgbClr val="000000"/>
                </a:solidFill>
                <a:latin typeface="Calibri"/>
              </a:rPr>
              <a:t>consists of brands (or models) that the consumer excludes from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ation because they are unacceptable(or they are seen as inferior. An </a:t>
            </a:r>
            <a:r>
              <a:rPr b="1" lang="en-US" sz="1200" spc="-1" strike="noStrike">
                <a:solidFill>
                  <a:srgbClr val="000000"/>
                </a:solidFill>
                <a:latin typeface="Calibri"/>
              </a:rPr>
              <a:t>inert set </a:t>
            </a:r>
            <a:r>
              <a:rPr b="0" lang="en-US" sz="1200" spc="-1" strike="noStrike">
                <a:solidFill>
                  <a:srgbClr val="000000"/>
                </a:solidFill>
                <a:latin typeface="Calibri"/>
              </a:rPr>
              <a:t>consists of brands (or models) the consumer is indifferent toward because they are perceived as not having any particular advantages. Regardless of the total number of brands (or models) in a product category,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evoked set tends to be quite small on average, often consisting of only three to five brands (or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voked set consists of the small number of brands the consumer is familiar with, remembers, and finds accep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evoked set as a subset of all available brands in a product category. As the figure indicates, it is essential that a product be part of a consumer’s evoked set if it is to be considered at all. Excluded product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known brands or models because of the consumer’s selective exposure to advertising media and selective perception of advertising stimu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Unacceptable brands of poor quality or attributes or inappropriate positioning in either advertising or product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Brands that are perceived as not having any special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Overlooked brands that have not been clearly posi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Brands that are not selected because they do not satisfy perceiv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is not in a consumer’s evoked set, promotional techniques should be designed to impart a more favorable, and perhaps more relevant, product image to the target consumer. This may also require a change in product features or attributes (more or better features). An alternative strategy is to invite consumers in a particular target segment to consider a specific offering and possibly put it in their evoked set.</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CDE4-1B74-4E7A-9967-34EF50B119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price, examples of product attributes that consumers have used while evaluating produc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eReaders: size, weight, touch screen, battery life, memory size, and the compatibility with a cell phon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range juice: amount of pulp, degree of sweetness, weakness or strength of flavor, color, and packa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ristwatches: alarm features, water resistance, quartz movement, and size of d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sometimes advertise in a way that recommends the criteria consumers should use to assess product or service options. Interestingly, research shows that when consumers discuss such “right” products, there is little or no mention of price; brand names are not often uppermost in consumers’ minds; items often reflect personality characteristics or childhood experiences; and it is often “love at first sight. Three factors that affect a brand’s credibility are: the perceived quality of the brand, the perceived risk associated with the brand, and the information costs saved with that brand (due to the time and effort saved by not having to shop around).</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0726-C0C8-4158-A687-63175F9EF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 rules are procedures that consumers use to facilitate brand (or other consumption-related) choices. These rules reduce the burden of making complex decisions by providing guidelines or routines that make the process less tax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nsatory decision rules </a:t>
            </a:r>
            <a:r>
              <a:rPr b="0" lang="en-US" sz="1200" spc="-1" strike="noStrike">
                <a:solidFill>
                  <a:srgbClr val="000000"/>
                </a:solidFill>
                <a:latin typeface="Calibri"/>
              </a:rPr>
              <a:t>come into play when a consumer evaluates brand or model options in terms of each relevant attribute and computes a weighted or summated score for each brand - the assumption is that the consumer will select the brand that scores highest among the alternatives evaluated. </a:t>
            </a:r>
            <a:r>
              <a:rPr b="1" lang="en-US" sz="1200" spc="-1" strike="noStrike">
                <a:solidFill>
                  <a:srgbClr val="000000"/>
                </a:solidFill>
                <a:latin typeface="Calibri"/>
              </a:rPr>
              <a:t>Noncompensatory decision rules </a:t>
            </a:r>
            <a:r>
              <a:rPr b="0" lang="en-US" sz="1200" spc="-1" strike="noStrike">
                <a:solidFill>
                  <a:srgbClr val="000000"/>
                </a:solidFill>
                <a:latin typeface="Calibri"/>
              </a:rPr>
              <a:t>do not allow consumers to balance positive evaluations of a brand on one attribute against a negative evaluation on some other attrib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oncompensatory rules. In following a </a:t>
            </a:r>
            <a:r>
              <a:rPr b="1" lang="en-US" sz="1200" spc="-1" strike="noStrike">
                <a:solidFill>
                  <a:srgbClr val="000000"/>
                </a:solidFill>
                <a:latin typeface="Calibri"/>
              </a:rPr>
              <a:t>conjunctive decision rule</a:t>
            </a:r>
            <a:r>
              <a:rPr b="0" lang="en-US" sz="1200" spc="-1" strike="noStrike">
                <a:solidFill>
                  <a:srgbClr val="000000"/>
                </a:solidFill>
                <a:latin typeface="Calibri"/>
              </a:rPr>
              <a:t>, the consumer establishes a separate, minimally acceptable level as a cutoff point for each attribute. If any particular brand or model falls below the cutoff point on any one attribute, that option is elim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further consideration. A </a:t>
            </a:r>
            <a:r>
              <a:rPr b="1" lang="en-US" sz="1200" spc="-1" strike="noStrike">
                <a:solidFill>
                  <a:srgbClr val="000000"/>
                </a:solidFill>
                <a:latin typeface="Calibri"/>
              </a:rPr>
              <a:t>lexicographic decision rule</a:t>
            </a:r>
            <a:r>
              <a:rPr b="0" lang="en-US" sz="1200" spc="-1" strike="noStrike">
                <a:solidFill>
                  <a:srgbClr val="000000"/>
                </a:solidFill>
                <a:latin typeface="Calibri"/>
              </a:rPr>
              <a:t> is when the consumer ranks the attributes in terms of perceived relevance or importance. The consumer then compares the various alternatives in terms of the single attribute that is considered most important. If one option scores sufficiently high on thistop-ranked attribute (regardless of the score on any of other attributes), it is selected and the process ends. With the lexicographic rule, the highest-ranked attribute (the one applied first) may reveal something about the individual’s basic consumer (or shopping) orientation. For instance, a “buy the best” rule might indicate that the consumer is </a:t>
            </a:r>
            <a:r>
              <a:rPr b="0" i="1" lang="en-US" sz="1200" spc="-1" strike="noStrike">
                <a:solidFill>
                  <a:srgbClr val="000000"/>
                </a:solidFill>
                <a:latin typeface="Calibri"/>
              </a:rPr>
              <a:t>quality oriented</a:t>
            </a:r>
            <a:r>
              <a:rPr b="0" lang="en-US" sz="1200" spc="-1" strike="noStrike">
                <a:solidFill>
                  <a:srgbClr val="000000"/>
                </a:solidFill>
                <a:latin typeface="Calibri"/>
              </a:rPr>
              <a:t>; a “buy the most prestigious brand” rule might indicate that the consumer is </a:t>
            </a:r>
            <a:r>
              <a:rPr b="0" i="1" lang="en-US" sz="1200" spc="-1" strike="noStrike">
                <a:solidFill>
                  <a:srgbClr val="000000"/>
                </a:solidFill>
                <a:latin typeface="Calibri"/>
              </a:rPr>
              <a:t>status oriented</a:t>
            </a:r>
            <a:r>
              <a:rPr b="0" lang="en-US" sz="1200" spc="-1" strike="noStrike">
                <a:solidFill>
                  <a:srgbClr val="000000"/>
                </a:solidFill>
                <a:latin typeface="Calibri"/>
              </a:rPr>
              <a:t>; a “buy the least expensive” rule might reveal that the consumer is </a:t>
            </a:r>
            <a:r>
              <a:rPr b="0" i="1" lang="en-US" sz="1200" spc="-1" strike="noStrike">
                <a:solidFill>
                  <a:srgbClr val="000000"/>
                </a:solidFill>
                <a:latin typeface="Calibri"/>
              </a:rPr>
              <a:t>economy minded</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ikely that, for many purchase decisions, consumers maintain in long-term memory overall evaluations of the brands in their evoked sets. This would make assessment by individual attributes unnecessary. Instead, using the </a:t>
            </a:r>
            <a:r>
              <a:rPr b="1" lang="en-US" sz="1200" spc="-1" strike="noStrike">
                <a:solidFill>
                  <a:srgbClr val="000000"/>
                </a:solidFill>
                <a:latin typeface="Calibri"/>
              </a:rPr>
              <a:t>affect referral decision rule</a:t>
            </a:r>
            <a:r>
              <a:rPr b="0" lang="en-US" sz="1200" spc="-1" strike="noStrike">
                <a:solidFill>
                  <a:srgbClr val="000000"/>
                </a:solidFill>
                <a:latin typeface="Calibri"/>
              </a:rPr>
              <a:t>, the consumer selects the brand with the highest perceived overall rating. This type of synthesized decision rule may represent the simplest of all rules. </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2232-5CD8-4A08-A4EB-DCD7123A73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shows how different decision rules might be applied in the context of an eReader purchase.</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C605-3477-4959-BC09-F580EBED2A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Practical Loyalists</a:t>
            </a:r>
            <a:r>
              <a:rPr b="0" lang="en-US" sz="1200" spc="-1" strike="noStrike">
                <a:solidFill>
                  <a:srgbClr val="000000"/>
                </a:solidFill>
                <a:latin typeface="Calibri"/>
              </a:rPr>
              <a:t>—those who look for ways to save on the brands and products they would buy any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Bottom-Line Price Shoppers</a:t>
            </a:r>
            <a:r>
              <a:rPr b="0" lang="en-US" sz="1200" spc="-1" strike="noStrike">
                <a:solidFill>
                  <a:srgbClr val="000000"/>
                </a:solidFill>
                <a:latin typeface="Calibri"/>
              </a:rPr>
              <a:t>—those who buy the lowest-priced item with little or no regard for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Opportunistic Switchers</a:t>
            </a:r>
            <a:r>
              <a:rPr b="0" lang="en-US" sz="1200" spc="-1" strike="noStrike">
                <a:solidFill>
                  <a:srgbClr val="000000"/>
                </a:solidFill>
                <a:latin typeface="Calibri"/>
              </a:rPr>
              <a:t>—those who use coupons or sales to decide among brands and products that fall within their evoked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Deal Hunters</a:t>
            </a:r>
            <a:r>
              <a:rPr b="0" lang="en-US" sz="1200" spc="-1" strike="noStrike">
                <a:solidFill>
                  <a:srgbClr val="000000"/>
                </a:solidFill>
                <a:latin typeface="Calibri"/>
              </a:rPr>
              <a:t>—those who look for the best bargain and are not brand loyal.</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C03A-3814-4D95-AB36-A2B5B37C60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formation may result from advertisements or packaging that mention only certain attributes, the consumer’s own imperfect memory of attributes for no present alternatives, or because some attributes are experiential and can only be evaluated after product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Consumers may delay the decision until missing informatio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onsumers may ignore missing information and decide to continue with the current decision rule using the available attribut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onsumers may change the customarily used decision strategy to one that better accommodates missing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Consumers may infer (“construct”) the missing informati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0283-5B31-4BC6-9D0E-C8C8FF74D6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make three types of purchases. When a consumer purchases a product (or brand) for the first time and buys a smaller quantity than usual, the purchase is a trial. Thus, a trial is the exploratory phase of purchase behavior in which consumers attempt to evaluate a product through direct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brand in an established product category (cookies, cold cereal, yogurt) is found by trial to be more satisfactory or better than other brands, consumers are likely to repeat the purchase.  Repeat purchase behavior represents </a:t>
            </a:r>
            <a:r>
              <a:rPr b="1" lang="en-US" sz="1200" spc="-1" strike="noStrike">
                <a:solidFill>
                  <a:srgbClr val="000000"/>
                </a:solidFill>
                <a:latin typeface="Calibri"/>
              </a:rPr>
              <a:t>brand loyalty</a:t>
            </a:r>
            <a:r>
              <a:rPr b="0" lang="en-US" sz="1200" spc="-1" strike="noStrike">
                <a:solidFill>
                  <a:srgbClr val="000000"/>
                </a:solidFill>
                <a:latin typeface="Calibri"/>
              </a:rPr>
              <a:t>, which most firms try to encourage becaus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s to greater stability in the marke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ll further, post-purchase evaluation occurs after consumers have used the product, and in the context of their expectations. When a product’s performance matches expectations, consumers feel neutral. </a:t>
            </a:r>
            <a:r>
              <a:rPr b="1" lang="en-US" sz="1200" spc="-1" strike="noStrike">
                <a:solidFill>
                  <a:srgbClr val="000000"/>
                </a:solidFill>
                <a:latin typeface="Calibri"/>
              </a:rPr>
              <a:t>Positive disconfirmation of expectations </a:t>
            </a:r>
            <a:r>
              <a:rPr b="0" lang="en-US" sz="1200" spc="-1" strike="noStrike">
                <a:solidFill>
                  <a:srgbClr val="000000"/>
                </a:solidFill>
                <a:latin typeface="Calibri"/>
              </a:rPr>
              <a:t>occurs when the product’s performance exceeds expectations and the consumer is satisfied and </a:t>
            </a:r>
            <a:r>
              <a:rPr b="1" lang="en-US" sz="1200" spc="-1" strike="noStrike">
                <a:solidFill>
                  <a:srgbClr val="000000"/>
                </a:solidFill>
                <a:latin typeface="Calibri"/>
              </a:rPr>
              <a:t>negative disconfirmation of expectations </a:t>
            </a:r>
            <a:r>
              <a:rPr b="0" lang="en-US" sz="1200" spc="-1" strike="noStrike">
                <a:solidFill>
                  <a:srgbClr val="000000"/>
                </a:solidFill>
                <a:latin typeface="Calibri"/>
              </a:rPr>
              <a:t>occurs when performance is below expectations and the consumer is dissatis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dissonance </a:t>
            </a:r>
            <a:r>
              <a:rPr b="0" lang="en-US" sz="1200" spc="-1" strike="noStrike">
                <a:solidFill>
                  <a:srgbClr val="000000"/>
                </a:solidFill>
                <a:latin typeface="Calibri"/>
              </a:rPr>
              <a:t>occurs when tension arises after a purchase decision.  Consumers try to reassure themselves that they made wise choices to resolve the tension. In doing so, they may rationalize the decision as being wise; seek advertisements that support their choice and avoid those of competitive brands; attempt to persuade friends or neighbors to buy the same brand (and thereby confirm their own choice); or turn to other satis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rs for reassurance.</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E629-9914-4A38-9D0B-E66FF4BDF9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fts are a particularly interesting part of consumer decision-making behavior. Gifts represent more than ordinary, “everyday” purchases, because they are symbolic, and mostly associated with important events (e.g., Mother’s Day, births and birthdays, engagements, weddings, graduations, and m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ccomplishments and milestone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414D-96FE-4105-B680-6ECC3AED90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D395-AF0E-4189-AE7C-70A8A00A2E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integrates ideas about how consumers make decisions, including how their decision-making affects the diffusion of innovations.</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5DD4-F97D-44DE-901A-559CD2683D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gif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Intergroup Gifting </a:t>
            </a:r>
            <a:r>
              <a:rPr b="0" lang="en-US" sz="1200" spc="-1" strike="noStrike">
                <a:solidFill>
                  <a:srgbClr val="000000"/>
                </a:solidFill>
                <a:latin typeface="Calibri"/>
              </a:rPr>
              <a:t>occurs whenever one group exchanges gifts with another group (such as one family with another). Similarly, gifts given to families will be different than those given to individual family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Intercategory Gifting </a:t>
            </a:r>
            <a:r>
              <a:rPr b="0" lang="en-US" sz="1200" spc="-1" strike="noStrike">
                <a:solidFill>
                  <a:srgbClr val="000000"/>
                </a:solidFill>
                <a:latin typeface="Calibri"/>
              </a:rPr>
              <a:t>takes place when either an individual is giving a gift to a group (a single friend is giving a couple an anniversary gift) or a group is giving an individual a gift (friends chip in and give another friend a joint birthday gift). The gift selection strategies “buy for joint recipients” or “buy with someone” are especially useful when it comes to a difficult recipient situation (when “nothing seems to satisfy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agroup Gifting </a:t>
            </a:r>
            <a:r>
              <a:rPr b="0" lang="en-US" sz="1200" spc="-1" strike="noStrike">
                <a:solidFill>
                  <a:srgbClr val="000000"/>
                </a:solidFill>
                <a:latin typeface="Calibri"/>
              </a:rPr>
              <a:t>is characterized by the sentiment “we gave this to ourselves”; that is, a group gives a gift to itself or its memb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apersonal gifting</a:t>
            </a:r>
            <a:r>
              <a:rPr b="0" lang="en-US" sz="1200" spc="-1" strike="noStrike">
                <a:solidFill>
                  <a:srgbClr val="000000"/>
                </a:solidFill>
                <a:latin typeface="Calibri"/>
              </a:rPr>
              <a:t>, or a self-gift, occurs when the giver and the receiver are the same individua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fting process starts with the question: “Should I give a gift to X?” The answer can be yes or no depending on a variety of factors (e.g., relationship, occa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nswer is yes, the gift giver continues by asking: “What shall I give X as a gi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ads to the next question: “Do I want to give X something that X desires (i.e., do I want to put in some real effort researching the gi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nswer is yes, the gift giver is then faced with the question: “How do I learn what X desires as a gift?” Here there are two choices: predicting the preferences of the recipient or asking the recipient what he or she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sumer answers no to the question, “Do I want to give X something that X desires?” then the gift giver has two choices (according to the model): (1) to give a gift that he or she would like (i.e., “To you for me”), or (2) to give a gift that attempts to alter or improve the gift receiver to the gift giver’s liking (i.e., “Identify impositi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F787-07D1-46C2-B903-1E644FC4AA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ance of an innovation (i.e., a new product, new service, new idea, or new practice) takes place among members of a social system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segments), over time.</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F36C-7687-49DE-AA3C-383885899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2A3A-6E5C-401A-8B25-7AAEBFD106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cess includes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innovation (i.e., new product, model,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channels of communication (informal or formal, impersonal or persona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social system (a market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Time.</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3D2A-FD26-4C1F-B359-F5C69B29EE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65BF-2ED8-4B4F-93CC-FF906E4A4F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consumer perspective, an </a:t>
            </a:r>
            <a:r>
              <a:rPr b="1" lang="en-US" sz="1200" spc="-1" strike="noStrike">
                <a:solidFill>
                  <a:srgbClr val="000000"/>
                </a:solidFill>
                <a:latin typeface="Calibri"/>
              </a:rPr>
              <a:t>innovation </a:t>
            </a:r>
            <a:r>
              <a:rPr b="0" lang="en-US" sz="1200" spc="-1" strike="noStrike">
                <a:solidFill>
                  <a:srgbClr val="000000"/>
                </a:solidFill>
                <a:latin typeface="Calibri"/>
              </a:rPr>
              <a:t>represents any item that the consumer perceives as new.  Many marketers maintain that new products should be classified into three categories reflecting the extent to which they require consumers to change existing consumption behavior or buying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A </a:t>
            </a:r>
            <a:r>
              <a:rPr b="1" lang="en-US" sz="1200" spc="-1" strike="noStrike">
                <a:solidFill>
                  <a:srgbClr val="000000"/>
                </a:solidFill>
                <a:latin typeface="Calibri"/>
              </a:rPr>
              <a:t>continuous innovation </a:t>
            </a:r>
            <a:r>
              <a:rPr b="0" lang="en-US" sz="1200" spc="-1" strike="noStrike">
                <a:solidFill>
                  <a:srgbClr val="000000"/>
                </a:solidFill>
                <a:latin typeface="Calibri"/>
              </a:rPr>
              <a:t>has the least disruptive influence on established patterns. It involves the introduction of a modified product rather than a totally new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A </a:t>
            </a:r>
            <a:r>
              <a:rPr b="1" lang="en-US" sz="1200" spc="-1" strike="noStrike">
                <a:solidFill>
                  <a:srgbClr val="000000"/>
                </a:solidFill>
                <a:latin typeface="Calibri"/>
              </a:rPr>
              <a:t>dynamically continuous innovation </a:t>
            </a:r>
            <a:r>
              <a:rPr b="0" lang="en-US" sz="1200" spc="-1" strike="noStrike">
                <a:solidFill>
                  <a:srgbClr val="000000"/>
                </a:solidFill>
                <a:latin typeface="Calibri"/>
              </a:rPr>
              <a:t>is somewhat more disruptive than a continuous innovation but still does not alter established behavior patterns. It may involve the creation of a new product or the modification of an existing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 </a:t>
            </a:r>
            <a:r>
              <a:rPr b="1" lang="en-US" sz="1200" spc="-1" strike="noStrike">
                <a:solidFill>
                  <a:srgbClr val="000000"/>
                </a:solidFill>
                <a:latin typeface="Calibri"/>
              </a:rPr>
              <a:t>discontinuous innovation </a:t>
            </a:r>
            <a:r>
              <a:rPr b="0" lang="en-US" sz="1200" spc="-1" strike="noStrike">
                <a:solidFill>
                  <a:srgbClr val="000000"/>
                </a:solidFill>
                <a:latin typeface="Calibri"/>
              </a:rPr>
              <a:t>requires consumers to adopt new behavior patter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l Cold &amp; Sinus is a continuous innovation.</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E2A1-F63B-40FD-ACA9-7CE6FF6339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ative advantage </a:t>
            </a:r>
            <a:r>
              <a:rPr b="0" lang="en-US" sz="1200" spc="-1" strike="noStrike">
                <a:solidFill>
                  <a:srgbClr val="000000"/>
                </a:solidFill>
                <a:latin typeface="Calibri"/>
              </a:rPr>
              <a:t>is the degree to which potential customers perceive a new product as superior to existing substit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atibility </a:t>
            </a:r>
            <a:r>
              <a:rPr b="0" lang="en-US" sz="1200" spc="-1" strike="noStrike">
                <a:solidFill>
                  <a:srgbClr val="000000"/>
                </a:solidFill>
                <a:latin typeface="Calibri"/>
              </a:rPr>
              <a:t>is the degree to which potential consumers feel a new product is consistent with their present needs, values, and practices. Compatibility varies across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lexity</a:t>
            </a:r>
            <a:r>
              <a:rPr b="0" lang="en-US" sz="1200" spc="-1" strike="noStrike">
                <a:solidFill>
                  <a:srgbClr val="000000"/>
                </a:solidFill>
                <a:latin typeface="Calibri"/>
              </a:rPr>
              <a:t>—the degree to which a new product is difficult to understand or use—affects product acceptance. Clearly, the easier it is to understand and use a product, the more likely that product is to be accep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of complexity is especially important when attempting to gain market acceptance for high-tech consumer products. Four predominant types of “technological fear” act as barriers to new product acceptance: (1) fear of technical complexity, (2) fear of rapid obsolescence, (3) fear of so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ection, and (4) fear of physical harm. Of the four, technological complexity was the most widespread concern of consumer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ial-ability </a:t>
            </a:r>
            <a:r>
              <a:rPr b="0" lang="en-US" sz="1200" spc="-1" strike="noStrike">
                <a:solidFill>
                  <a:srgbClr val="000000"/>
                </a:solidFill>
                <a:latin typeface="Calibri"/>
              </a:rPr>
              <a:t>refers to the degree to which a new product can be tried on a limited basis. The greater the opportunity to try a new product, the easier it is for consumers to evaluate the product and ultimately adopt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bility (communicability) </a:t>
            </a:r>
            <a:r>
              <a:rPr b="0" lang="en-US" sz="1200" spc="-1" strike="noStrike">
                <a:solidFill>
                  <a:srgbClr val="000000"/>
                </a:solidFill>
                <a:latin typeface="Calibri"/>
              </a:rPr>
              <a:t>is the ease with which a product’s benefits or attributes can be observed, imagined, or described to potential consumers. Products that have a high degree of social visibility, such as fashion items, are more easily diffused than products that are used in private, such as a new type of deodorant. Similarly, a tangible product is promoted more easily than an intangible product (such as a service).</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06A7-58B8-4926-BB56-3151AE0650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wareness</a:t>
            </a:r>
            <a:r>
              <a:rPr b="0" lang="en-US" sz="1200" spc="-1" strike="noStrike">
                <a:solidFill>
                  <a:srgbClr val="000000"/>
                </a:solidFill>
                <a:latin typeface="Calibri"/>
              </a:rPr>
              <a:t>: The consumer first becomes aware that an innovation ex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terest</a:t>
            </a:r>
            <a:r>
              <a:rPr b="0" lang="en-US" sz="1200" spc="-1" strike="noStrike">
                <a:solidFill>
                  <a:srgbClr val="000000"/>
                </a:solidFill>
                <a:latin typeface="Calibri"/>
              </a:rPr>
              <a:t>: The consumer becomes interested in the innovative product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Evaluation</a:t>
            </a:r>
            <a:r>
              <a:rPr b="0" lang="en-US" sz="1200" spc="-1" strike="noStrike">
                <a:solidFill>
                  <a:srgbClr val="000000"/>
                </a:solidFill>
                <a:latin typeface="Calibri"/>
              </a:rPr>
              <a:t>: The consumer undertakes a “mental trial” of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Trial</a:t>
            </a:r>
            <a:r>
              <a:rPr b="0" lang="en-US" sz="1200" spc="-1" strike="noStrike">
                <a:solidFill>
                  <a:srgbClr val="000000"/>
                </a:solidFill>
                <a:latin typeface="Calibri"/>
              </a:rPr>
              <a:t>: The consumer tries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doption</a:t>
            </a:r>
            <a:r>
              <a:rPr b="0" lang="en-US" sz="1200" spc="-1" strike="noStrike">
                <a:solidFill>
                  <a:srgbClr val="000000"/>
                </a:solidFill>
                <a:latin typeface="Calibri"/>
              </a:rPr>
              <a:t>: If satisfied, the consumer decides to regularly use the innovation or not use it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oes not adequately acknowledge that quite often, consumers face a need or problem-recognition stage before acquiring an awareness of potential options or solutions (a need recognition preceding the awareness stage). Moreover, the adoption process model does not adequately provide for the possibility of evaluation and rejection of a new product or service after each stage, especially after trial (i.e., a consumer may reject the product after trial or never use the product on a continuous basis). Finally, it does not explicitly include post-adoption or post-purchase evaluation, which can lead to a strengthened commitment or to a decision to discontinue use.</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8448-69E9-4CC0-9117-8CDE312921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F870-8DBA-4B67-A3BF-92D33A2BF4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featured in Figure 14.1 is by the Gemological Institute of America (GIA), a nonprofit educational institute of the jewelry industry. In consumer decision-making terms, purchasing a diamond represents extensive problem solving because consumers buy diamonds infrequently and have no established criteria for evaluating them. The GIA ad tells buyers what to look for in a diamond: carat weight, clarity, color, cutting style, and other features. In contrast, the Advil ad in Figure 14.2 represents routinized response behavior, because consumers have experience with over-the-counter pain relievers and do not need to establish the criteria for evaluating them. the Advil brand has a quality reputation and is instantly recognized by millions of consumers around the world, so consumers reach for Advil without much thought.</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464B-75BA-49EB-81CA-0F6895AE54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consumer decision-making situations are the same and marketers generally put them into these three groups.  At one extreme is </a:t>
            </a:r>
            <a:r>
              <a:rPr b="1" lang="en-US" sz="1200" spc="-1" strike="noStrike">
                <a:solidFill>
                  <a:srgbClr val="000000"/>
                </a:solidFill>
                <a:latin typeface="Calibri"/>
              </a:rPr>
              <a:t>extensive problem solving </a:t>
            </a:r>
            <a:r>
              <a:rPr b="0" lang="en-US" sz="1200" spc="-1" strike="noStrike">
                <a:solidFill>
                  <a:srgbClr val="000000"/>
                </a:solidFill>
                <a:latin typeface="Calibri"/>
              </a:rPr>
              <a:t>which</a:t>
            </a:r>
            <a:r>
              <a:rPr b="1" lang="en-US" sz="1200" spc="-1" strike="noStrike">
                <a:solidFill>
                  <a:srgbClr val="000000"/>
                </a:solidFill>
                <a:latin typeface="Calibri"/>
              </a:rPr>
              <a:t> </a:t>
            </a:r>
            <a:r>
              <a:rPr b="0" lang="en-US" sz="1200" spc="-1" strike="noStrike">
                <a:solidFill>
                  <a:srgbClr val="000000"/>
                </a:solidFill>
                <a:latin typeface="Calibri"/>
              </a:rPr>
              <a:t>usually involves a lot of information, whereas </a:t>
            </a:r>
            <a:r>
              <a:rPr b="1" lang="en-US" sz="1200" spc="-1" strike="noStrike">
                <a:solidFill>
                  <a:srgbClr val="000000"/>
                </a:solidFill>
                <a:latin typeface="Calibri"/>
              </a:rPr>
              <a:t>routinized response behavior </a:t>
            </a:r>
            <a:r>
              <a:rPr b="0" lang="en-US" sz="1200" spc="-1" strike="noStrike">
                <a:solidFill>
                  <a:srgbClr val="000000"/>
                </a:solidFill>
                <a:latin typeface="Calibri"/>
              </a:rPr>
              <a:t>usually requires little or no information.  </a:t>
            </a:r>
            <a:r>
              <a:rPr b="1" lang="en-US" sz="1200" spc="-1" strike="noStrike">
                <a:solidFill>
                  <a:srgbClr val="000000"/>
                </a:solidFill>
                <a:latin typeface="Calibri"/>
              </a:rPr>
              <a:t>Limited problem solving </a:t>
            </a:r>
            <a:r>
              <a:rPr b="0" lang="en-US" sz="1200" spc="-1" strike="noStrike">
                <a:solidFill>
                  <a:srgbClr val="000000"/>
                </a:solidFill>
                <a:latin typeface="Calibri"/>
              </a:rPr>
              <a:t>lies in the middle of these two extremes where new information is often added and a criterion for evaluation is formed.  Consumers tend to have little experience with the product category when engaging in extensive problem solving as opposed to being very familiar with a routinized purchase.</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04CB-92F2-41CC-9E14-84496AE388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 decision making model includes three components: input, process, and output.</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B089-3C1F-4D81-A787-EFCF6D536C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of consumer decision-making ties together the ideas on consumer decision-making and consumption behavior discussed throughout the book. It is designed to synthesize and coordinate relevant concepts into a significant whole.</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BC8E-8967-4C4E-83EE-99C6DE68D7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put component of the consumer decision-making model includes three types of external infl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marketing mix consists of strategies designed to reach, inform, and persuade consumers to buy the marketer’s products repeatedly. They include the product, advertising and other promotional efforts, pricing policy, and the distribution channels that move the product from the manufacturer to the consu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sociocultural influences include the consumer’s family, peers, social class, reference groups, culture, and, if applicable, sub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input also includes communications, which are the mechanisms that “deliver” the marketing mix and sociocultural influences to consumer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AD5E-719E-4821-A041-11BA8181F0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component of the model is concerned with how consumers make decisions. The model’s </a:t>
            </a:r>
            <a:r>
              <a:rPr b="0" i="1" lang="en-US" sz="1200" spc="-1" strike="noStrike">
                <a:solidFill>
                  <a:srgbClr val="000000"/>
                </a:solidFill>
                <a:latin typeface="Calibri"/>
              </a:rPr>
              <a:t>psychological field </a:t>
            </a:r>
            <a:r>
              <a:rPr b="0" lang="en-US" sz="1200" spc="-1" strike="noStrike">
                <a:solidFill>
                  <a:srgbClr val="000000"/>
                </a:solidFill>
                <a:latin typeface="Calibri"/>
              </a:rPr>
              <a:t>consists of the internal influences (motivation, perception, learning, personality, and attitudes) that affect consumers’ decision-making processes (what they need or want, their awareness of various product choices, their information-gathering activities,  and their evaluation of altern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 the three stages in the process part of the model is need recognition. </a:t>
            </a:r>
            <a:r>
              <a:rPr b="1" lang="en-US" sz="1200" spc="-1" strike="noStrike">
                <a:solidFill>
                  <a:srgbClr val="000000"/>
                </a:solidFill>
                <a:latin typeface="Calibri"/>
              </a:rPr>
              <a:t>Need recognition </a:t>
            </a:r>
            <a:r>
              <a:rPr b="0" lang="en-US" sz="1200" spc="-1" strike="noStrike">
                <a:solidFill>
                  <a:srgbClr val="000000"/>
                </a:solidFill>
                <a:latin typeface="Calibri"/>
              </a:rPr>
              <a:t>occurs when a consumer is faced with a “problem.” Some needs are </a:t>
            </a:r>
            <a:r>
              <a:rPr b="0" i="1" lang="en-US" sz="1200" spc="-1" strike="noStrike">
                <a:solidFill>
                  <a:srgbClr val="000000"/>
                </a:solidFill>
                <a:latin typeface="Calibri"/>
              </a:rPr>
              <a:t>actual state </a:t>
            </a:r>
            <a:r>
              <a:rPr b="0" lang="en-US" sz="1200" spc="-1" strike="noStrike">
                <a:solidFill>
                  <a:srgbClr val="000000"/>
                </a:solidFill>
                <a:latin typeface="Calibri"/>
              </a:rPr>
              <a:t>types, who perceive that they have a problem when a product fails to perform satisfactorily (e.g., a cordless telephone that develops constant static). Some needs are </a:t>
            </a:r>
            <a:r>
              <a:rPr b="0" i="1" lang="en-US" sz="1200" spc="-1" strike="noStrike">
                <a:solidFill>
                  <a:srgbClr val="000000"/>
                </a:solidFill>
                <a:latin typeface="Calibri"/>
              </a:rPr>
              <a:t>desired state </a:t>
            </a:r>
            <a:r>
              <a:rPr b="0" lang="en-US" sz="1200" spc="-1" strike="noStrike">
                <a:solidFill>
                  <a:srgbClr val="000000"/>
                </a:solidFill>
                <a:latin typeface="Calibri"/>
              </a:rPr>
              <a:t>types, for whom the desire for something new may trigger the decision process.</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04BD-5F1D-4EC9-B679-9887EB3CAF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urchase search </a:t>
            </a:r>
            <a:r>
              <a:rPr b="0" lang="en-US" sz="1200" spc="-1" strike="noStrike">
                <a:solidFill>
                  <a:srgbClr val="000000"/>
                </a:solidFill>
                <a:latin typeface="Calibri"/>
              </a:rPr>
              <a:t>begins when a consumer perceives a need that might be satisfied by the purchase and consumption of a product. Sometimes recalling past purchases provides the consumer with adequate information to make the present choice. However, when the consumer has had no p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 he or she may have to engage in an extensive search of the outside environment for useful information on which to base a choice. Table 14.1 notes the factors that increase pre-purchase informa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nsumer decisions are based on a combination of previous experience (internal sources) and marketing and noncommercial information (external sources). The degree of perceived risk can also influence this stage of the decision process – in high-risk situations, consumers are likely to engage in complex and extensive information search (including shopping, on the Internet) and evaluation; in low-risk situations, they are likely to use very simple or limited search and evaluation tactic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D284-3040-4BA7-9856-227FB93D10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03F33C8-AE13-4A27-BD69-5C64F706BF56}"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1996C24-17C3-4723-BD56-7C37340EA8E1}"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805F1E4-9EE7-466C-A488-20D05E921A46}"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26DEC66-9F2E-4EFA-8D33-197B506A2312}"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191EF01-C1AF-4E39-A0F5-4A4F4AC9D07F}"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9AE6726-601A-4BBB-920C-BB66F8CF89F4}"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0BA8A26-F07C-4D43-BB4C-FA1FB13FA2B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452A0E5-826B-4634-82B3-A32EDD373DF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4</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91120"/>
            <a:ext cx="3962520" cy="2066760"/>
          </a:xfrm>
          <a:prstGeom prst="rect">
            <a:avLst/>
          </a:prstGeom>
          <a:ln w="0">
            <a:noFill/>
          </a:ln>
        </p:spPr>
      </p:pic>
      <p:pic>
        <p:nvPicPr>
          <p:cNvPr id="365" name="Picture 5" descr=""/>
          <p:cNvPicPr/>
          <p:nvPr/>
        </p:nvPicPr>
        <p:blipFill>
          <a:blip r:embed="rId2"/>
          <a:stretch/>
        </p:blipFill>
        <p:spPr>
          <a:xfrm>
            <a:off x="3720960" y="154080"/>
            <a:ext cx="1838520" cy="1743120"/>
          </a:xfrm>
          <a:prstGeom prst="rect">
            <a:avLst/>
          </a:prstGeom>
          <a:ln w="0">
            <a:noFill/>
          </a:ln>
        </p:spPr>
      </p:pic>
      <p:pic>
        <p:nvPicPr>
          <p:cNvPr id="366" name="Picture 7" descr=""/>
          <p:cNvPicPr/>
          <p:nvPr/>
        </p:nvPicPr>
        <p:blipFill>
          <a:blip r:embed="rId3"/>
          <a:stretch/>
        </p:blipFill>
        <p:spPr>
          <a:xfrm>
            <a:off x="1776240" y="2843280"/>
            <a:ext cx="5591520" cy="1171440"/>
          </a:xfrm>
          <a:prstGeom prst="rect">
            <a:avLst/>
          </a:prstGeom>
          <a:ln w="0">
            <a:noFill/>
          </a:ln>
        </p:spPr>
      </p:pic>
      <p:sp>
        <p:nvSpPr>
          <p:cNvPr id="367" name="TextBox 2"/>
          <p:cNvSpPr/>
          <p:nvPr/>
        </p:nvSpPr>
        <p:spPr>
          <a:xfrm>
            <a:off x="609480" y="6540480"/>
            <a:ext cx="5272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sk complex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ormation organiz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 constrai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have limited information-processing capacity</a:t>
            </a:r>
            <a:endParaRPr b="0" lang="en-US" sz="3200" spc="-1" strike="noStrike">
              <a:solidFill>
                <a:srgbClr val="000000"/>
              </a:solidFill>
              <a:latin typeface="Calibri"/>
            </a:endParaRPr>
          </a:p>
        </p:txBody>
      </p:sp>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Information Search: Contextual Fac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voked set (consideration s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ept s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ert s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89" name="Content Placeholder 5" descr=""/>
          <p:cNvPicPr/>
          <p:nvPr/>
        </p:nvPicPr>
        <p:blipFill>
          <a:blip r:embed="rId1"/>
          <a:stretch/>
        </p:blipFill>
        <p:spPr>
          <a:xfrm>
            <a:off x="4648320" y="2590920"/>
            <a:ext cx="4475160" cy="2819160"/>
          </a:xfrm>
          <a:prstGeom prst="rect">
            <a:avLst/>
          </a:prstGeom>
          <a:ln w="0">
            <a:noFill/>
          </a:ln>
        </p:spPr>
      </p:pic>
      <p:sp>
        <p:nvSpPr>
          <p:cNvPr id="39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Evaluation of Alternatives: Brand-se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attribute exampl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iz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eigh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weetn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l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ackaging</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eria to assess product may be advertised</a:t>
            </a:r>
            <a:endParaRPr b="0" lang="en-US" sz="2800" spc="-1" strike="noStrike">
              <a:solidFill>
                <a:srgbClr val="000000"/>
              </a:solidFill>
              <a:latin typeface="Calibri"/>
            </a:endParaRPr>
          </a:p>
        </p:txBody>
      </p:sp>
      <p:sp>
        <p:nvSpPr>
          <p:cNvPr id="39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 less important when products are “righ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nd credibility is affected b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ceived quality</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formation costs sav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ceived risk</a:t>
            </a:r>
            <a:endParaRPr b="0" lang="en-US" sz="24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Evaluation of Alternatives: Attribu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Compensatory decision rules</a:t>
            </a:r>
            <a:endParaRPr b="0" lang="en-US" sz="2400" spc="-1" strike="noStrike">
              <a:solidFill>
                <a:srgbClr val="000000"/>
              </a:solidFill>
              <a:latin typeface="Calibri"/>
            </a:endParaRPr>
          </a:p>
        </p:txBody>
      </p:sp>
      <p:sp>
        <p:nvSpPr>
          <p:cNvPr id="395"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ach relevant attribute weigh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mmated score for each brand</a:t>
            </a:r>
            <a:endParaRPr b="0" lang="en-US" sz="2400" spc="-1" strike="noStrike">
              <a:solidFill>
                <a:srgbClr val="000000"/>
              </a:solidFill>
              <a:latin typeface="Calibri"/>
            </a:endParaRPr>
          </a:p>
        </p:txBody>
      </p:sp>
      <p:sp>
        <p:nvSpPr>
          <p:cNvPr id="396" name="PlaceHolder 2"/>
          <p:cNvSpPr>
            <a:spLocks noGrp="1"/>
          </p:cNvSpPr>
          <p:nvPr>
            <p:ph/>
          </p:nvPr>
        </p:nvSpPr>
        <p:spPr>
          <a:xfrm>
            <a:off x="4644720" y="1534680"/>
            <a:ext cx="449892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oncompensatory decision rules</a:t>
            </a:r>
            <a:endParaRPr b="0" lang="en-US" sz="2400" spc="-1" strike="noStrike">
              <a:solidFill>
                <a:srgbClr val="000000"/>
              </a:solidFill>
              <a:latin typeface="Calibri"/>
            </a:endParaRPr>
          </a:p>
        </p:txBody>
      </p:sp>
      <p:sp>
        <p:nvSpPr>
          <p:cNvPr id="397" name=""/>
          <p:cNvSpPr txBox="1"/>
          <p:nvPr/>
        </p:nvSpPr>
        <p:spPr>
          <a:xfrm>
            <a:off x="4644720" y="2174760"/>
            <a:ext cx="442260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jun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xicographi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isjun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Affect Referral </a:t>
            </a:r>
            <a:r>
              <a:rPr b="0" lang="en-US" sz="2400" spc="-1" strike="noStrike">
                <a:solidFill>
                  <a:srgbClr val="000000"/>
                </a:solidFill>
                <a:latin typeface="Candara"/>
              </a:rPr>
              <a:t>– no assessment of individual attributes</a:t>
            </a:r>
            <a:endParaRPr b="0" lang="en-US" sz="2400" spc="-1" strike="noStrike">
              <a:solidFill>
                <a:srgbClr val="000000"/>
              </a:solidFill>
              <a:latin typeface="Calibri"/>
            </a:endParaRPr>
          </a:p>
        </p:txBody>
      </p:sp>
      <p:sp>
        <p:nvSpPr>
          <p:cNvPr id="39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ision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Content Placeholder 3" descr=""/>
          <p:cNvPicPr/>
          <p:nvPr/>
        </p:nvPicPr>
        <p:blipFill>
          <a:blip r:embed="rId1"/>
          <a:stretch/>
        </p:blipFill>
        <p:spPr>
          <a:xfrm>
            <a:off x="762120" y="1828800"/>
            <a:ext cx="7742160" cy="3124080"/>
          </a:xfrm>
          <a:prstGeom prst="rect">
            <a:avLst/>
          </a:prstGeom>
          <a:ln w="0">
            <a:noFill/>
          </a:ln>
        </p:spPr>
      </p:pic>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of Decision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actical Loyalis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ottom-Line Price Shopp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pportunistic Switch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al Hunters</a:t>
            </a: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Segmentation by Shopping Strate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lay the decision until information is obtain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gnore missing inform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ange the decision strategy to accommodate missing inform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a:r>
            <a:r>
              <a:rPr b="0" lang="en-US" sz="3200" spc="-1" strike="noStrike">
                <a:solidFill>
                  <a:srgbClr val="000000"/>
                </a:solidFill>
                <a:latin typeface="Candara"/>
              </a:rPr>
              <a:t>Construct” the missing information</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ping with Incomplete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295280"/>
            <a:ext cx="8229600" cy="5105520"/>
          </a:xfrm>
          <a:prstGeom prst="rect">
            <a:avLst/>
          </a:prstGeom>
          <a:noFill/>
          <a:ln w="0">
            <a:noFill/>
          </a:ln>
        </p:spPr>
        <p:txBody>
          <a:bodyPr lIns="90000" rIns="90000" tIns="46800" bIns="46800"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ree types of output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al</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peat purchase/brand loyalty</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t-purchase evaluation</a:t>
            </a:r>
            <a:endParaRPr b="0" lang="en-US" sz="32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itive/negative disconfirmation of expectation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gnitive dissonance</a:t>
            </a:r>
            <a:endParaRPr b="0" lang="en-US" sz="28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How do consumers cope with cognitive dissonance?</a:t>
            </a:r>
            <a:endParaRPr b="0" lang="en-US" sz="32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ision Making: Out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2</a:t>
            </a:r>
            <a:endParaRPr b="0" lang="en-US" sz="4400" spc="-1" strike="noStrike">
              <a:solidFill>
                <a:srgbClr val="000000"/>
              </a:solidFill>
              <a:latin typeface="Calibri"/>
            </a:endParaRPr>
          </a:p>
        </p:txBody>
      </p:sp>
      <p:sp>
        <p:nvSpPr>
          <p:cNvPr id="408"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2 To understand the dynamics of buying gif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3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gift exchange that takes place between a giver and a recipient. The definition is broad in nature and embraces gifts given voluntarily, gifts that are an obligation, gifts given to (and received from) others and gifts to oneself (“self-gifts”). </a:t>
            </a:r>
            <a:endParaRPr b="0" lang="en-US" sz="3600" spc="-1" strike="noStrike">
              <a:solidFill>
                <a:srgbClr val="000000"/>
              </a:solidFill>
              <a:latin typeface="Calibri"/>
            </a:endParaRPr>
          </a:p>
        </p:txBody>
      </p:sp>
      <p:sp>
        <p:nvSpPr>
          <p:cNvPr id="41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Gifting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4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1 To understand the consumer’s decision-making proces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2 To understand the dynamics of buying gift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3 To understand how innovative offerings gain acceptance within market segments and how individual consumers adopt or reject new products and services.</a:t>
            </a:r>
            <a:endParaRPr b="0" lang="en-US" sz="3200" spc="-1" strike="noStrike">
              <a:solidFill>
                <a:srgbClr val="000000"/>
              </a:solidFill>
              <a:latin typeface="Calibri"/>
            </a:endParaRPr>
          </a:p>
        </p:txBody>
      </p:sp>
      <p:pic>
        <p:nvPicPr>
          <p:cNvPr id="370" name="Picture 3" descr=""/>
          <p:cNvPicPr/>
          <p:nvPr/>
        </p:nvPicPr>
        <p:blipFill>
          <a:blip r:embed="rId1"/>
          <a:stretch/>
        </p:blipFill>
        <p:spPr>
          <a:xfrm>
            <a:off x="8077320" y="39600"/>
            <a:ext cx="923760" cy="8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group Gift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category Gift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group Gift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personal Gifting</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questions might one ask during the gifting process?</a:t>
            </a:r>
            <a:endParaRPr b="0" lang="en-US" sz="3200" spc="-1" strike="noStrike">
              <a:solidFill>
                <a:srgbClr val="000000"/>
              </a:solidFill>
              <a:latin typeface="Calibri"/>
            </a:endParaRPr>
          </a:p>
        </p:txBody>
      </p:sp>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ypes of Gif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3</a:t>
            </a:r>
            <a:endParaRPr b="0" lang="en-US" sz="4400" spc="-1" strike="noStrike">
              <a:solidFill>
                <a:srgbClr val="000000"/>
              </a:solidFill>
              <a:latin typeface="Calibri"/>
            </a:endParaRPr>
          </a:p>
        </p:txBody>
      </p:sp>
      <p:sp>
        <p:nvSpPr>
          <p:cNvPr id="414"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3 To understand how innovative offerings gain acceptance within market segments and how individual consumers adopt or reject new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macro process by which the acceptance of an innovation (i.e., a new product, new service, new idea, or new practice) takes place among members of a social system (or market segments), over time.</a:t>
            </a:r>
            <a:endParaRPr b="0" lang="en-US" sz="3600" spc="-1" strike="noStrike">
              <a:solidFill>
                <a:srgbClr val="000000"/>
              </a:solidFill>
              <a:latin typeface="Calibri"/>
            </a:endParaRPr>
          </a:p>
        </p:txBody>
      </p:sp>
      <p:sp>
        <p:nvSpPr>
          <p:cNvPr id="41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iffusion of Inno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process includes four element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innovat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channels of communicat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social system</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a:t>
            </a:r>
            <a:endParaRPr b="0" lang="en-US" sz="32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ffusion of Inno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a:t>
            </a:r>
            <a:r>
              <a:rPr b="1" lang="en-US" sz="3600" spc="-1" strike="noStrike">
                <a:solidFill>
                  <a:srgbClr val="000000"/>
                </a:solidFill>
                <a:latin typeface="Candara"/>
              </a:rPr>
              <a:t> </a:t>
            </a:r>
            <a:r>
              <a:rPr b="0" lang="en-US" sz="3600" spc="-1" strike="noStrike">
                <a:solidFill>
                  <a:srgbClr val="000000"/>
                </a:solidFill>
                <a:latin typeface="Candara"/>
              </a:rPr>
              <a:t>micro process that focuses on the stages through which an individual consumer passes when deciding to accept or reject a new product</a:t>
            </a:r>
            <a:endParaRPr b="0" lang="en-US" sz="3600" spc="-1" strike="noStrike">
              <a:solidFill>
                <a:srgbClr val="000000"/>
              </a:solidFill>
              <a:latin typeface="Calibri"/>
            </a:endParaRPr>
          </a:p>
        </p:txBody>
      </p:sp>
      <p:sp>
        <p:nvSpPr>
          <p:cNvPr id="42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ion Adop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inuous innov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ynamically continuous innov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ontinuous innov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What type of innovation is Advil Cold &amp; Sinus?  </a:t>
            </a: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2" name="Content Placeholder 5" descr=""/>
          <p:cNvPicPr/>
          <p:nvPr/>
        </p:nvPicPr>
        <p:blipFill>
          <a:blip r:embed="rId1"/>
          <a:srcRect l="0" t="0" r="0" b="8033"/>
          <a:stretch/>
        </p:blipFill>
        <p:spPr>
          <a:xfrm>
            <a:off x="5410080" y="1143000"/>
            <a:ext cx="2667240" cy="500688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ypes of Inno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371240"/>
            <a:ext cx="8229600" cy="47242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lative Advantage</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t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lexity</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echnical fear most widespread concern of innovators</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pid obsolescence, social rejection and physical harm are other fears</a:t>
            </a:r>
            <a:endParaRPr b="0" lang="en-US" sz="28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al-a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bservability (communicability)</a:t>
            </a:r>
            <a:endParaRPr b="0" lang="en-US" sz="32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roduct Features That Affect Adop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warenes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es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valuation</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al</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doption</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What is missing from the model of Consumer Adoption?</a:t>
            </a:r>
            <a:endParaRPr b="0" lang="en-US" sz="3200" spc="-1" strike="noStrike">
              <a:solidFill>
                <a:srgbClr val="000000"/>
              </a:solidFill>
              <a:latin typeface="Calibri"/>
            </a:endParaRPr>
          </a:p>
        </p:txBody>
      </p:sp>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Adop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9" name="Picture 4" descr="cid:3287383400_2177562"/>
          <p:cNvPicPr/>
          <p:nvPr/>
        </p:nvPicPr>
        <p:blipFill>
          <a:blip r:embed="rId1"/>
          <a:stretch/>
        </p:blipFill>
        <p:spPr>
          <a:xfrm>
            <a:off x="762120" y="685800"/>
            <a:ext cx="8118360" cy="2647800"/>
          </a:xfrm>
          <a:prstGeom prst="rect">
            <a:avLst/>
          </a:prstGeom>
          <a:ln w="0">
            <a:noFill/>
          </a:ln>
        </p:spPr>
      </p:pic>
      <p:sp>
        <p:nvSpPr>
          <p:cNvPr id="43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4" descr=""/>
          <p:cNvPicPr/>
          <p:nvPr/>
        </p:nvPicPr>
        <p:blipFill>
          <a:blip r:embed="rId1"/>
          <a:stretch/>
        </p:blipFill>
        <p:spPr>
          <a:xfrm>
            <a:off x="457200" y="1722600"/>
            <a:ext cx="4572000" cy="4846320"/>
          </a:xfrm>
          <a:prstGeom prst="rect">
            <a:avLst/>
          </a:prstGeom>
          <a:ln w="0">
            <a:noFill/>
          </a:ln>
        </p:spPr>
      </p:pic>
      <p:pic>
        <p:nvPicPr>
          <p:cNvPr id="372" name="Content Placeholder 5" descr=""/>
          <p:cNvPicPr/>
          <p:nvPr/>
        </p:nvPicPr>
        <p:blipFill>
          <a:blip r:embed="rId2"/>
          <a:stretch/>
        </p:blipFill>
        <p:spPr>
          <a:xfrm>
            <a:off x="5559480" y="1141560"/>
            <a:ext cx="2670120" cy="5451480"/>
          </a:xfrm>
          <a:prstGeom prst="rect">
            <a:avLst/>
          </a:prstGeom>
          <a:ln w="0">
            <a:noFill/>
          </a:ln>
        </p:spPr>
      </p:pic>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tensive Problem Solving vs. Routinized Response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Levels of Consumer Decision Making</a:t>
            </a:r>
            <a:endParaRPr b="0" lang="en-US" sz="4000" spc="-1" strike="noStrike">
              <a:solidFill>
                <a:srgbClr val="000000"/>
              </a:solidFill>
              <a:latin typeface="Calibri"/>
            </a:endParaRPr>
          </a:p>
        </p:txBody>
      </p:sp>
      <p:sp>
        <p:nvSpPr>
          <p:cNvPr id="375" name="PlaceHolder 2"/>
          <p:cNvSpPr>
            <a:spLocks noGrp="1"/>
          </p:cNvSpPr>
          <p:nvPr>
            <p:ph/>
          </p:nvPr>
        </p:nvSpPr>
        <p:spPr>
          <a:xfrm>
            <a:off x="457200" y="1447920"/>
            <a:ext cx="8305920" cy="48765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tensive Problem Solving</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lot of information needed</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st establish a set of criteria for evaluation</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imited Problem Solving</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eria for evaluation established</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ne tuning with additional information</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outinized Response Behavior</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ually make decisions based on what they already know</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equent, low risk purchases</a:t>
            </a:r>
            <a:endParaRPr b="0" lang="en-US" sz="2800" spc="-1" strike="noStrike">
              <a:solidFill>
                <a:srgbClr val="000000"/>
              </a:solidFill>
              <a:latin typeface="Calibri"/>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1</a:t>
            </a:r>
            <a:endParaRPr b="0" lang="en-US" sz="4400" spc="-1" strike="noStrike">
              <a:solidFill>
                <a:srgbClr val="000000"/>
              </a:solidFill>
              <a:latin typeface="Calibri"/>
            </a:endParaRPr>
          </a:p>
        </p:txBody>
      </p:sp>
      <p:sp>
        <p:nvSpPr>
          <p:cNvPr id="37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1 To understand the consumer’s decision-making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
          <p:cNvPicPr/>
          <p:nvPr/>
        </p:nvPicPr>
        <p:blipFill>
          <a:blip r:embed="rId1"/>
          <a:stretch/>
        </p:blipFill>
        <p:spPr>
          <a:xfrm>
            <a:off x="2971800" y="1219320"/>
            <a:ext cx="3276720" cy="5352840"/>
          </a:xfrm>
          <a:prstGeom prst="rect">
            <a:avLst/>
          </a:prstGeom>
          <a:ln w="0">
            <a:noFill/>
          </a:ln>
        </p:spPr>
      </p:pic>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ision-Making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ing mix</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ocultural influenc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cla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ference group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lture/subcultur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munication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put: External Influ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294920"/>
            <a:ext cx="8229600" cy="483084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tual state need recognition</a:t>
            </a:r>
            <a:endParaRPr b="0" lang="en-US" sz="3200" spc="-1" strike="noStrike">
              <a:solidFill>
                <a:srgbClr val="000000"/>
              </a:solidFill>
              <a:latin typeface="Calibri"/>
            </a:endParaRPr>
          </a:p>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ired state need recognition</a:t>
            </a:r>
            <a:endParaRPr b="0" lang="en-US" sz="32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Provide an example of when you experienced actual state need recognition.  Provide an example of when you experienced desired state need recognition.  How did you respond to each need?</a:t>
            </a:r>
            <a:endParaRPr b="0" lang="en-US" sz="3200" spc="-1" strike="noStrike">
              <a:solidFill>
                <a:srgbClr val="000000"/>
              </a:solidFill>
              <a:latin typeface="Calibri"/>
            </a:endParaRPr>
          </a:p>
        </p:txBody>
      </p:sp>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cess: Need Recogn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cess: Pre-Purchase Search</a:t>
            </a:r>
            <a:endParaRPr b="0" lang="en-US" sz="4400" spc="-1" strike="noStrike">
              <a:solidFill>
                <a:srgbClr val="000000"/>
              </a:solidFill>
              <a:latin typeface="Calibri"/>
            </a:endParaRPr>
          </a:p>
        </p:txBody>
      </p:sp>
      <p:pic>
        <p:nvPicPr>
          <p:cNvPr id="385" name="Content Placeholder 5" descr=""/>
          <p:cNvPicPr/>
          <p:nvPr/>
        </p:nvPicPr>
        <p:blipFill>
          <a:blip r:embed="rId1"/>
          <a:stretch/>
        </p:blipFill>
        <p:spPr>
          <a:xfrm>
            <a:off x="457200" y="1974960"/>
            <a:ext cx="8229600" cy="37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3:03Z</dcterms:modified>
  <cp:revision>1</cp:revision>
  <dc:subject/>
  <dc:title/>
</cp:coreProperties>
</file>