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3.jpeg" ContentType="image/jpeg"/>
  <Override PartName="/ppt/media/image9.jpeg" ContentType="image/jpeg"/>
  <Override PartName="/ppt/media/image12.jpeg" ContentType="image/jpeg"/>
  <Override PartName="/ppt/media/image16.png" ContentType="image/pn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C1C22-5FFD-4CB3-9690-8671651E47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35A8F-BE55-4C9B-9F3C-4AAFB4C2DF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ertising to children is of particular concern because kids tend to imitate behavior and are not old enough to correctly process and evaluate the information they see.  These guidelines are constantly under review and there has been a particular concern with advertising of food to children and increases in childhood obesity.</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B79E-FB0A-4629-AE35-01961163D6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proposed by the Obama administration, which would take effect in 2016, would only allow foods that contain no trans fat and not more than 1 gram of saturated fat and 13 grams of added sugar per “eating occasion” to be marketed to children. Also, the foods could not contain more th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0 milligrams of sodium per serving. The sodium restrictions would tighten by 2021. In a concession to industry, the rules do not include “naturally occurring” nutrients. Additionally, the foods must provide a “meaningful contribution to a healthful diet,” including from at least one major healt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group such as fruit, vegetables, whole grain, fish, eggs, and beans. The proposed guidelines also expand the traditional definition of “children” in these matters from kids under the age of 12 to children aged 2 through 17, although the final rules for teenagers will likely be “narrower in scope and possibly limited to in-school marketing activities and social media, such as online social networking web sites.  While some experts say that the guidelines do not go far enough, advertisers have been fighting them aggressively and it is unlikely that all will be mandated legally.</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FCD47-1B1A-4FDF-8089-D3FE6511C5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de by side with overeating, children’s lack of physical activity greatly contributes to children’s high rates of overweight and obesity. The message from the Ad Council in Figure 15.3 addresses this issue.</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15052-B44A-4E4B-BB0D-DADAB9A0A3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understand how to persuade consumers.  The examples who that marketers sometimes encourage consumers to spend or eat more than they might want/need to.</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50C2-0B89-4F30-8893-CDFF1FB0B3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Both children and adults consume more juice when the product is presented in short, wide glasses than in tall slender glas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Candies placed in clear jars were eaten much quicker than those presented in opaque j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Sandwiches in transparent wrap generated more consumption than those in opaque wra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The visibility and aroma of tempting foods generated greater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Presenting foods in an organized manner, such as mixed assortments in bowls (or “grab bags”), buffets, potlucks, or dinner-table settings leads to more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Assortment size or duplication, in forms such as multiple product tastings, multiple offerings of party snacks, duplicate buffet lines, and family dinners with multiple dishes, stimulate e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lang="en-US" sz="1200" spc="-1" strike="noStrike">
                <a:solidFill>
                  <a:srgbClr val="000000"/>
                </a:solidFill>
                <a:latin typeface="Calibri"/>
              </a:rPr>
              <a:t>Minimal variations in the size of serving bowls whenever multiple options and sizes are present lead to eating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lang="en-US" sz="1200" spc="-1" strike="noStrike">
                <a:solidFill>
                  <a:srgbClr val="000000"/>
                </a:solidFill>
                <a:latin typeface="Calibri"/>
              </a:rPr>
              <a:t>People generally do not keep track of how much food they consume. When told, they are often surprised at how much they have consu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a:t>
            </a:r>
            <a:r>
              <a:rPr b="0" lang="en-US" sz="1200" spc="-1" strike="noStrike">
                <a:solidFill>
                  <a:srgbClr val="000000"/>
                </a:solidFill>
                <a:latin typeface="Calibri"/>
              </a:rPr>
              <a:t>Large inventories of foods at home increase the quantity believed to be appropriate for a given m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 </a:t>
            </a:r>
            <a:r>
              <a:rPr b="0" lang="en-US" sz="1200" spc="-1" strike="noStrike">
                <a:solidFill>
                  <a:srgbClr val="000000"/>
                </a:solidFill>
                <a:latin typeface="Calibri"/>
              </a:rPr>
              <a:t>Small packages do not necessarily decrease consumption and can sometimes actually increase it. Responsible companies should sell small packages individually, rather than bundling them together in a larger container, because the availability of multiple small packages leads to overconsumption.</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DE1A-3B06-48B0-8443-513C3BD6FC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utritional labels are misleading (presenting information for a small serving size) or uninformative (using words like natural that do not mean anything. The design in Figure 15.5 replaces serving size calories with total calories per package or bottle. It represents food ingredients using bold, colorful rectangles showing how much of which ingredients are in the food. A green, yellow, and red color-coding system denotes reasonable, questionable, or unhealthy amounts of carbohydrates or f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interesting labeling battle revolves around bioengineering companies like Monsanto and DuPont, which have spent millions of dollars to fight a California ballot initiative aimed at requiring the labeling of genetically modified foods. Strangely, marketers of the biggest organic brands 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untry—Kashi, Cascadian Farm, Horizon Organic—also have joined the antilabeling effort and contributed a lot of money to the effort to defeat the initiative. In contrast, the smaller, independent businesses and farms that most shoppers envision when they buy an organic peach or shampo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like Nature’s Path, one of Kashi’s largest competitors—have been strongly supporting the labeling initiative.</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91D21-9572-48FC-9E8A-72DE3AA003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ing that direct-to-consumer advertising has become too aggressive since it was legalized in 1997, the pharmaceutical industry has developed voluntary restrictions regarding this marketing method. The Senate majority leader has called for a two-year moratorium on advertising new dru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sumers; one major pharmaceutical company has volunteered not to advertise new drugs to consumers during their first year on the market. Online search engines further complicate the direct selling of medications to consumers. The FDA urged pharmaceutical companies to include ris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about drugs in the companies’ search advertisements, that is, the short text that appears besides the results of one’s Google search; because Google limits such ads to 95 characters, it is unclear how this can be done. Because they can market products directly to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armaceutical companies are more eager than ever to “extend the life” of products that have become consumer favorites, as the dates for patent expiration and the availability of generic versions of these products near.</a:t>
            </a: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DD4C7-F558-43C2-BBF6-11B87E01DF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can manipulate consumers’ interpretations of marketing stimuli through the context in which those stimuli are featured.</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1E0FC-BF04-4597-A620-237086BA0F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variety of tactics that marketers can use to change consumers’ perceptions.  This is often done in pricing of products and product lines.  Consumers tend to base pricing on a reference point that has been placed in their mind.  Marketers can move this reference price up and consumers will often pay more for produ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consumers block out more messages, marketers look for alternative ways to market. Covert/stealth marketing often uses posers, people of similar demographics, to market to people their own age.  Liquor companies have sent people to bars and phone companies have couples masked as tourists asking people to use their phone to take a pi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can be unaware that they are even watching a paid advertisement.  This is often the case in product placement when a product is featured in a television show or movie.  Advertorials are found in print media, whereas infomercials are commonly found on television and often look like documenta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AB42-93F8-4AAC-9DD2-C92B7AA290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find yourself disagreeing with classmates on whether covert and masked marketing are wrong.</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14C8C-0CD6-4E64-B0A5-49B0AFA421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that is allowed is in the best interest of society or, for that matter, marketers’ goals.  Chapter 15 is critical of amoral marketing strategies and strategies that go against societal interest, which may lead to embarrassment, lost customers, decreased profits, increased regulation and diminished consumer confidence in promotional messages and products.</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996B-549E-4556-BDD6-7B8E33FE6A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accuracy, a toothpaste ad stating that “brand A is the best” is considered an acceptable form of advertising “puffery” because consumers generally understand that there is no credible way to determine what “best” means. </a:t>
            </a:r>
            <a:r>
              <a:rPr b="1" lang="en-US" sz="1200" spc="-1" strike="noStrike">
                <a:solidFill>
                  <a:srgbClr val="000000"/>
                </a:solidFill>
                <a:latin typeface="Calibri"/>
              </a:rPr>
              <a:t>Truth-in-advertising laws </a:t>
            </a:r>
            <a:r>
              <a:rPr b="0" lang="en-US" sz="1200" spc="-1" strike="noStrike">
                <a:solidFill>
                  <a:srgbClr val="000000"/>
                </a:solidFill>
                <a:latin typeface="Calibri"/>
              </a:rPr>
              <a:t>protect consumers from false advertisements. Over time, the F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s developed guidelines as to what constitutes </a:t>
            </a:r>
            <a:r>
              <a:rPr b="1" lang="en-US" sz="1200" spc="-1" strike="noStrike">
                <a:solidFill>
                  <a:srgbClr val="000000"/>
                </a:solidFill>
                <a:latin typeface="Calibri"/>
              </a:rPr>
              <a:t>deceptive advertising</a:t>
            </a:r>
            <a:r>
              <a:rPr b="0" lang="en-US" sz="1200" spc="-1" strike="noStrike">
                <a:solidFill>
                  <a:srgbClr val="000000"/>
                </a:solidFill>
                <a:latin typeface="Calibri"/>
              </a:rPr>
              <a:t>, and it holds marketers respon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determining their ads’ potential to mislead consumers. The FTC encourages and investigates complaints by consumers and companies regarding false or misleading ads. The FTC can also require companie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misled consumers through their advertising to run </a:t>
            </a:r>
            <a:r>
              <a:rPr b="1" lang="en-US" sz="1200" spc="-1" strike="noStrike">
                <a:solidFill>
                  <a:srgbClr val="000000"/>
                </a:solidFill>
                <a:latin typeface="Calibri"/>
              </a:rPr>
              <a:t>corrective advertising</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the FTC, there is the National Advertising Review Council (NARC), a self-regulatory group that monitors complaints from companies and consumers regarding truth in advertising and often determines what ads can or cannot sta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arge number of promotional violations occur in the marketing of drugs. One study identified the three major categories of such vio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Unsubstantiated effectiveness claims: Representing the drug as more effective than the evidence available suggests; representing the drug as useful in a broader scope than the research evidence indic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Omitted risk information: Failure to reveal risks resulting from using the drug correctly; failure to present information on side effects; stating the risks in unclear langu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Unsubstantiated superiority claims: Presenting the drug as more effective or safer than others in spite of the fact that there is no evidence supporting such a claim.</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32CB-A213-4BF3-9737-72D0276A86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5.2 gives examples of false or deceptive promotions</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4EF0-8C14-45AD-A848-A8AC98AEC1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F8AB9-486B-40B3-8C0D-02A929B121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udies have focused on the use of objectionable themes in advertising. Although marketers continuously sponsor ads portraying values or behaviors that some (or many) consumers find distasteful or wrong, the importance of public scrutiny must not be underestimated.</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4AE2-E2F1-444A-99E3-A378C09FE8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loss of privacy is an increasingly problematic ethical issue, as marketers identify and reach out to increasingly smaller audiences through innovative media and more sophisticated tracking.  The collection and dissemination of this information raises many privacy issues and various governmental bodies have proposed measures to ensure consumers’ privacy.</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18736-278B-47F5-8A19-420DF547C2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tailers started testing new technology that allowed them to track customers’ movements by following the Wi-Fi signals from customers’ smartphones. The retailers gather data about in-store shoppers’ behavior and moods, using video surveillance and signals from their cellphones and apps to identify customers’ genders, how many minutes they spend in the candy aisle and how long they look at merchandise before buying it. Retailers can also identify returning shoppers, because mobile devices send unique identification codes when they search for networks. Thus, stores can t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peat customers behave and the average time between visits. When customers found out about being tracked, many complained and said that they felt “stalked” and “creepy” while shopping under surveill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e-score </a:t>
            </a:r>
            <a:r>
              <a:rPr b="0" lang="en-US" sz="1200" spc="-1" strike="noStrike">
                <a:solidFill>
                  <a:srgbClr val="000000"/>
                </a:solidFill>
                <a:latin typeface="Calibri"/>
              </a:rPr>
              <a:t>is a digital calculation that evaluates people’s buying power and value as consumers. However, these scores are largely invisible to the public. Fueled by Google Analytics, this digital ranking of American society is unlike anything that came before it. Nevertheless, unlike personal credit reports, consumers cannot find out what their e-scor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deral Trade Commission recommended a “do not track” mechanism that is similar to the national “do not call” registry. It also proposed legislation regulating so-called data brokers, which compile and trade a wide range of personal and financial data about millions of consumers from online and offline sources. The suggested legislation would give consumers access to information collected about them and allow them to correct and update such data. Another proposal is to let consumers choose whether they want their Internet browsing and buying habits monitor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gital Advertising Alliance—a group of digital advertising trade organizations—designed a turquoise triangle in the upper right-hand corner of banner ads. The AdChoices icon allows users who click on the turquoise triangle to opt out of having their behavior tracked online. </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8832B-E275-4E92-8AD0-491C6F23BA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1BF4-3E7C-42F3-9AD0-4AE1C25093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not-for-profit organizations, including consumer advocacy groups, exist primarily to promote socially beneficial behaviors such as contributing to charity or using energy responsibly, and reducing such negative behaviors as abusing drugs, discriminating on the basis of race or sexual orientation, and driving while texting or drunk. Many companies try to increase their credibility by being “good corporate citizens” and integrating socially desirable practices into their operations.</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264D-CFD3-4DCA-85B2-A06AA89B71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objective of many not-for-profit organizations is to promote socially desirable behaviors and discourage ones that produce negative outcomes. Sometimes, even government organizations try to induce public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they see fit, as shown in Figure 15.7.  </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5F6B6-7F10-4DBC-8A3A-68D706EADD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5.4 includes a list of recent promotions of lesser-known socially beneficial causes.</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4A905-51B6-4A5F-8741-EE556CBDE0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FC99-877C-440D-8979-24AB16C286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D13C-5536-42D8-8E18-854E9080B6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ertz ad is an example of cause-related marketing.</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0FB0-8489-456C-A17C-A668CB9C9A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focused on measuring consumers’ views and perceptions of companies that tackle such issues as explo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the Third World, animal testing, damage to the environment, and recycling developed the scale shown in Table 15.5.</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33C5-132F-49F1-8578-565EA92248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stores started charging restocking fees, limiting return policies, and tracking abnormal return patterns becaus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ers who bought items, used them, and then returned them for a refund (some stores encountered shoplifters who tried to return stolen merchand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in the digital world, software piracy is a major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1356-243E-4381-9D47-95E81EE187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1748D-09C1-445E-AA8E-398DD9A78E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TA (People for the Ethical Treatment of Animals) has campaigned against furriers and fashion designers that use fur and leather, discouraged consumers from wearing furs and using cosmetics manufactured with animal testing, and encouraged people to choose humane, nonlethal solutions when they find mice, squirrels, raccoons, and other wild animals in their yards and homes. Figure 15.1 portrays two PETA ads promoting humans’ loving coexistence with animals.</a:t>
            </a: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8B87-5C21-471C-A55C-7285257CEB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sence of marketing is fulfilling the needs of target consumer markets more effectively than competitors. Given the fact that all companies prosper when society prospers, companies should integrate social responsibility into every marketing decision. </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935F-E401-4769-B280-DCE0B85877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F32C-625E-4299-AE79-361CCC78EF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companies also recognize that socially responsible activities improve their image among consumers, stockholders, the financial community, and other relevant publics. They have found that ethical and socially responsible practices are simply good business, resulting not only in a favo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but also ultimately in increased sales. The converse is also true: Perceptions of a company’s lack of social responsibility or unethical marketing strategies negatively affect consumer purchase decisions.  Figure 15.2 is a letter from a Customer Advocacy Group to McDonald’s that may have negatively affected consumer purchase decisions.</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1B5F-294F-47F1-A5CB-5B300DEE03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re are many targetable segments that can be easily exploited because they are more vulnerable than most other consumers (because of less education, old age, low income, and no political power) the forms of exploitive marketing examined in this chapter are targeting children and encouraging overeating and irresponsible buying.</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5481-8505-43F0-8BB6-2EE96C7AB2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umer socialization </a:t>
            </a:r>
            <a:r>
              <a:rPr b="0" lang="en-US" sz="1200" spc="-1" strike="noStrike">
                <a:solidFill>
                  <a:srgbClr val="000000"/>
                </a:solidFill>
                <a:latin typeface="Calibri"/>
              </a:rPr>
              <a:t>is the processes by which young people acquire skills, knowledge, and attitudes relevant to their functioning as consumers in the marketplace. A comprehensive review of twenty-five years of research on consumer socialization identified three st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a:t>
            </a:r>
            <a:r>
              <a:rPr b="0" i="1" lang="en-US" sz="1200" spc="-1" strike="noStrike">
                <a:solidFill>
                  <a:srgbClr val="000000"/>
                </a:solidFill>
                <a:latin typeface="Calibri"/>
              </a:rPr>
              <a:t>perceptual stage </a:t>
            </a:r>
            <a:r>
              <a:rPr b="0" lang="en-US" sz="1200" spc="-1" strike="noStrike">
                <a:solidFill>
                  <a:srgbClr val="000000"/>
                </a:solidFill>
                <a:latin typeface="Calibri"/>
              </a:rPr>
              <a:t>(3–7 years old), during which children begin to distinguish ads from programs, associate brand names with product categories, and understand the basic script of consum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a:t>
            </a:r>
            <a:r>
              <a:rPr b="0" i="1" lang="en-US" sz="1200" spc="-1" strike="noStrike">
                <a:solidFill>
                  <a:srgbClr val="000000"/>
                </a:solidFill>
                <a:latin typeface="Calibri"/>
              </a:rPr>
              <a:t>analytical stage </a:t>
            </a:r>
            <a:r>
              <a:rPr b="0" lang="en-US" sz="1200" spc="-1" strike="noStrike">
                <a:solidFill>
                  <a:srgbClr val="000000"/>
                </a:solidFill>
                <a:latin typeface="Calibri"/>
              </a:rPr>
              <a:t>(7–11 years old), during which children capture the persuasive intent of ads, begin to process functional cues regarding products, and develop purchase influence and negotiation strateg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a:t>
            </a:r>
            <a:r>
              <a:rPr b="0" i="1" lang="en-US" sz="1200" spc="-1" strike="noStrike">
                <a:solidFill>
                  <a:srgbClr val="000000"/>
                </a:solidFill>
                <a:latin typeface="Calibri"/>
              </a:rPr>
              <a:t>reflective stage </a:t>
            </a:r>
            <a:r>
              <a:rPr b="0" lang="en-US" sz="1200" spc="-1" strike="noStrike">
                <a:solidFill>
                  <a:srgbClr val="000000"/>
                </a:solidFill>
                <a:latin typeface="Calibri"/>
              </a:rPr>
              <a:t>(11–16 years old), when children understand advertising tactics and appeals, become skeptical about ads, understand complex shopping scripts, and become capable at influencing purc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become brand aware as they age and begin to prefer brands more than non-branded items. Brand knowledge starts with child-oriented product categories such as toys and food, and by age 8 children can name multiple products in categories targeted to them. Children’s consumption requests start with food-related items and grow to include toys, clothing, sporting goods, and video games as children age. Children have the most influence over child-related items and children from higher socioeconomic classes influence parents more than those of lower socioeconomic stat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ing advertising to children, there is a consensus that even if children understand the purpose of promotional messages, marketers must take special care in advertising to them because of the amount of time kids spend viewing TV and online. </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EE82-2C66-46A5-9CD7-73747A800C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E2CDB90-59E7-4677-8F60-FD942BBD1D22}"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9DC11F6-C59C-419D-A86E-09355816DAB7}"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0267D75-6CAF-4B8F-B773-92628099582B}"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9D52497-9EE9-46EA-B41A-862C49E96063}"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07BEA11-205E-4EA0-A5CD-CDB9FEC6608D}"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BFE5758-D155-4EF8-85AD-4369B83F3A97}"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75A7DBC-F553-4710-9E4C-F816C9F69666}"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A0A5827-A7E9-44E9-8D9D-FB79C8DD605B}" type="slidenum">
              <a:rPr b="0" lang="en-US" sz="900" spc="-1" strike="noStrike">
                <a:solidFill>
                  <a:srgbClr val="1d1000"/>
                </a:solidFill>
                <a:latin typeface="Calibri"/>
              </a:rPr>
              <a:t>&lt;number&gt;</a:t>
            </a:fld>
            <a:r>
              <a:rPr b="0" lang="en-US" sz="900" spc="-1" strike="noStrike">
                <a:solidFill>
                  <a:srgbClr val="1d1000"/>
                </a:solidFill>
                <a:latin typeface="Calibri"/>
              </a:rPr>
              <a:t> of 34</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5</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033800"/>
            <a:ext cx="3962520" cy="2067120"/>
          </a:xfrm>
          <a:prstGeom prst="rect">
            <a:avLst/>
          </a:prstGeom>
          <a:ln w="0">
            <a:noFill/>
          </a:ln>
        </p:spPr>
      </p:pic>
      <p:pic>
        <p:nvPicPr>
          <p:cNvPr id="365" name="Picture 8" descr=""/>
          <p:cNvPicPr/>
          <p:nvPr/>
        </p:nvPicPr>
        <p:blipFill>
          <a:blip r:embed="rId2"/>
          <a:stretch/>
        </p:blipFill>
        <p:spPr>
          <a:xfrm>
            <a:off x="3664080" y="152280"/>
            <a:ext cx="1952640" cy="1828800"/>
          </a:xfrm>
          <a:prstGeom prst="rect">
            <a:avLst/>
          </a:prstGeom>
          <a:ln w="0">
            <a:noFill/>
          </a:ln>
        </p:spPr>
      </p:pic>
      <p:pic>
        <p:nvPicPr>
          <p:cNvPr id="366" name="Picture 9" descr=""/>
          <p:cNvPicPr/>
          <p:nvPr/>
        </p:nvPicPr>
        <p:blipFill>
          <a:blip r:embed="rId3"/>
          <a:stretch/>
        </p:blipFill>
        <p:spPr>
          <a:xfrm>
            <a:off x="2462040" y="2824200"/>
            <a:ext cx="4219920" cy="1209600"/>
          </a:xfrm>
          <a:prstGeom prst="rect">
            <a:avLst/>
          </a:prstGeom>
          <a:ln w="0">
            <a:noFill/>
          </a:ln>
        </p:spPr>
      </p:pic>
      <p:sp>
        <p:nvSpPr>
          <p:cNvPr id="367" name="TextBox 1"/>
          <p:cNvSpPr/>
          <p:nvPr/>
        </p:nvSpPr>
        <p:spPr>
          <a:xfrm>
            <a:off x="525600" y="6488280"/>
            <a:ext cx="4267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to Children</a:t>
            </a:r>
            <a:endParaRPr b="0" lang="en-US" sz="4400" spc="-1" strike="noStrike">
              <a:solidFill>
                <a:srgbClr val="000000"/>
              </a:solidFill>
              <a:latin typeface="Calibri"/>
            </a:endParaRPr>
          </a:p>
        </p:txBody>
      </p:sp>
      <p:sp>
        <p:nvSpPr>
          <p:cNvPr id="387" name=""/>
          <p:cNvSpPr txBox="1"/>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ndara"/>
              </a:rPr>
              <a:t>Guidelines by Children’s Advertising Review Unit (CARU)</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ndara"/>
              </a:rPr>
              <a:t>Guidelines includ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 misleading claims about product’s performance or benefi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ust not exploit children’s imagin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an not create unrealistic expect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ducts must be shown in safe situ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o encouragement of inappropriate behavio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void ads that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encourage children to pressure their parents to buy the products advertis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lead children to feel that ownership of a given product will make them more accepted by peer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cern over link with obes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Voluntary restrictions to avoid legisl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ules opposed by the Obama administration</a:t>
            </a:r>
            <a:endParaRPr b="0" lang="en-US" sz="32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Foods to Childr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2819520" y="1066680"/>
            <a:ext cx="3706560" cy="548028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moting Physical Activ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6320"/>
            <a:ext cx="82296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spiring Overeating and Irresponsible Spending</a:t>
            </a:r>
            <a:endParaRPr b="0" lang="en-US" sz="3200" spc="-1" strike="noStrike">
              <a:solidFill>
                <a:srgbClr val="000000"/>
              </a:solidFill>
              <a:latin typeface="Calibri"/>
            </a:endParaRPr>
          </a:p>
        </p:txBody>
      </p:sp>
      <p:sp>
        <p:nvSpPr>
          <p:cNvPr id="39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ld grocery stor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ving displays to encourage wander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argeting online shoppers who have been drink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signing foods that encourage overea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anting easy credi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hort, wide glass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ear candy ja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ransparent sandwich wrap</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isible, aromatic food</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rganized food presentation</a:t>
            </a:r>
            <a:endParaRPr b="0" lang="en-US" sz="2800" spc="-1" strike="noStrike">
              <a:solidFill>
                <a:srgbClr val="000000"/>
              </a:solidFill>
              <a:latin typeface="Calibri"/>
            </a:endParaRPr>
          </a:p>
        </p:txBody>
      </p:sp>
      <p:sp>
        <p:nvSpPr>
          <p:cNvPr id="39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ultiple offering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inimal variations in serving bowl siz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ot tracking consump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arge inventori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undling small packages</a:t>
            </a:r>
            <a:endParaRPr b="0" lang="en-US" sz="2800" spc="-1" strike="noStrike">
              <a:solidFill>
                <a:srgbClr val="000000"/>
              </a:solidFill>
              <a:latin typeface="Calibri"/>
            </a:endParaRPr>
          </a:p>
        </p:txBody>
      </p:sp>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ackaging to Increase Consump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Content Placeholder 3" descr=""/>
          <p:cNvPicPr/>
          <p:nvPr/>
        </p:nvPicPr>
        <p:blipFill>
          <a:blip r:embed="rId1"/>
          <a:stretch/>
        </p:blipFill>
        <p:spPr>
          <a:xfrm>
            <a:off x="1523880" y="1371600"/>
            <a:ext cx="6205680" cy="4952880"/>
          </a:xfrm>
          <a:prstGeom prst="rect">
            <a:avLst/>
          </a:prstGeom>
          <a:ln w="0">
            <a:noFill/>
          </a:ln>
        </p:spPr>
      </p:pic>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Nutritional Label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599840"/>
            <a:ext cx="8229600" cy="4800600"/>
          </a:xfrm>
          <a:prstGeom prst="rect">
            <a:avLst/>
          </a:prstGeom>
          <a:noFill/>
          <a:ln w="0">
            <a:noFill/>
          </a:ln>
        </p:spPr>
        <p:txBody>
          <a:bodyPr lIns="90000" rIns="90000" tIns="46800" bIns="46800" anchor="t">
            <a:normAutofit fontScale="98000"/>
          </a:bodyPr>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Voluntary restrictions – Direct-to-Consumer</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wo-year moratorium proposed in Senate</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Online search engine complications (risk information)</a:t>
            </a:r>
            <a:endParaRPr b="0" lang="en-US" sz="3000" spc="-1" strike="noStrike">
              <a:solidFill>
                <a:srgbClr val="000000"/>
              </a:solidFill>
              <a:latin typeface="Calibri"/>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Extending life of favorite products</a:t>
            </a:r>
            <a:endParaRPr b="0" lang="en-US" sz="3000" spc="-1" strike="noStrike">
              <a:solidFill>
                <a:srgbClr val="000000"/>
              </a:solidFill>
              <a:latin typeface="Calibri"/>
            </a:endParaRPr>
          </a:p>
          <a:p>
            <a:pPr marL="335880" indent="-3358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Discussion Question:</a:t>
            </a:r>
            <a:endParaRPr b="0" lang="en-US" sz="3000" spc="-1" strike="noStrike">
              <a:solidFill>
                <a:srgbClr val="000000"/>
              </a:solidFill>
              <a:latin typeface="Calibri"/>
            </a:endParaRPr>
          </a:p>
          <a:p>
            <a:pPr marL="335880" indent="-335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ndara"/>
              </a:rPr>
              <a:t>What are the advantages and disadvantages of marketing pharmaceuticals directly to consumers?</a:t>
            </a:r>
            <a:endParaRPr b="0" lang="en-US" sz="3000" spc="-1" strike="noStrike">
              <a:solidFill>
                <a:srgbClr val="000000"/>
              </a:solidFill>
              <a:latin typeface="Calibri"/>
            </a:endParaRPr>
          </a:p>
        </p:txBody>
      </p:sp>
      <p:sp>
        <p:nvSpPr>
          <p:cNvPr id="40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harmaceutical Advertising</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3</a:t>
            </a:r>
            <a:endParaRPr b="0" lang="en-US" sz="4400" spc="-1" strike="noStrike">
              <a:solidFill>
                <a:srgbClr val="000000"/>
              </a:solidFill>
              <a:latin typeface="Calibri"/>
            </a:endParaRPr>
          </a:p>
        </p:txBody>
      </p:sp>
      <p:sp>
        <p:nvSpPr>
          <p:cNvPr id="402"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3 To understand ethically questionable practices such as covert marketing, manipulative exposure to advertising, and truth-in advertising issu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text effects, JN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vert market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t placement, advertorials and infomercials</a:t>
            </a:r>
            <a:endParaRPr b="0" lang="en-US" sz="32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Manipulating Products and Messag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sp>
        <p:nvSpPr>
          <p:cNvPr id="40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o you think covert marketing is wro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y might others have a different opinion from you?</a:t>
            </a:r>
            <a:endParaRPr b="0" lang="en-US" sz="3200" spc="-1" strike="noStrike">
              <a:solidFill>
                <a:srgbClr val="000000"/>
              </a:solidFill>
              <a:latin typeface="Calibri"/>
            </a:endParaRPr>
          </a:p>
        </p:txBody>
      </p:sp>
      <p:pic>
        <p:nvPicPr>
          <p:cNvPr id="407" name="Picture 2" descr="C:\Users\ashleyc\AppData\Local\Microsoft\Windows\Temporary Internet Files\Content.IE5\ECK8TAE5\MC900441498[3].png"/>
          <p:cNvPicPr/>
          <p:nvPr/>
        </p:nvPicPr>
        <p:blipFill>
          <a:blip r:embed="rId1"/>
          <a:stretch/>
        </p:blipFill>
        <p:spPr>
          <a:xfrm>
            <a:off x="3876840" y="4041720"/>
            <a:ext cx="1523880" cy="151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5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fontScale="8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1 To understand the meaning and importance of marketing ethics and social responsibilit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2 To understand how marketers can exploit consumers by targeting children and encouraging overeating and other forms of irresponsible buying.</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3 To understand ethically questionable practices such as covert marketing, manipulative exposure to advertising, and truth-in advertising issues.</a:t>
            </a:r>
            <a:endParaRPr b="0" lang="en-US" sz="3200" spc="-1" strike="noStrike">
              <a:solidFill>
                <a:srgbClr val="000000"/>
              </a:solidFill>
              <a:latin typeface="Calibri"/>
            </a:endParaRPr>
          </a:p>
        </p:txBody>
      </p:sp>
      <p:pic>
        <p:nvPicPr>
          <p:cNvPr id="370" name="Picture 4" descr=""/>
          <p:cNvPicPr/>
          <p:nvPr/>
        </p:nvPicPr>
        <p:blipFill>
          <a:blip r:embed="rId1"/>
          <a:stretch/>
        </p:blipFill>
        <p:spPr>
          <a:xfrm>
            <a:off x="8029440" y="76320"/>
            <a:ext cx="916200" cy="85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ffer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uth-in-advertising law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ceptive advertising; FTC guideline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rrective advertising</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motional violations in drug marketing</a:t>
            </a:r>
            <a:endParaRPr b="0" lang="en-US" sz="32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substantiated effectiveness claims</a:t>
            </a:r>
            <a:endParaRPr b="0" lang="en-US" sz="28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mitted risk information</a:t>
            </a:r>
            <a:endParaRPr b="0" lang="en-US" sz="28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substantiated superiority claims</a:t>
            </a:r>
            <a:endParaRPr b="0" lang="en-US" sz="28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lse or Misleading Adverti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846000" y="1066680"/>
            <a:ext cx="7209000" cy="541044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ceptive Claim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4</a:t>
            </a:r>
            <a:endParaRPr b="0" lang="en-US" sz="4400" spc="-1" strike="noStrike">
              <a:solidFill>
                <a:srgbClr val="000000"/>
              </a:solidFill>
              <a:latin typeface="Calibri"/>
            </a:endParaRPr>
          </a:p>
        </p:txBody>
      </p:sp>
      <p:sp>
        <p:nvSpPr>
          <p:cNvPr id="413"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4 To understand the nature and consequences of provocative advertise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Content Placeholder 3" descr=""/>
          <p:cNvPicPr/>
          <p:nvPr/>
        </p:nvPicPr>
        <p:blipFill>
          <a:blip r:embed="rId1"/>
          <a:stretch/>
        </p:blipFill>
        <p:spPr>
          <a:xfrm>
            <a:off x="457200" y="1685880"/>
            <a:ext cx="8229600" cy="4354560"/>
          </a:xfrm>
          <a:prstGeom prst="rect">
            <a:avLst/>
          </a:prstGeom>
          <a:ln w="0">
            <a:noFill/>
          </a:ln>
        </p:spPr>
      </p:pic>
      <p:sp>
        <p:nvSpPr>
          <p:cNvPr id="41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vocative Marketing Examp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5</a:t>
            </a:r>
            <a:endParaRPr b="0" lang="en-US" sz="4400" spc="-1" strike="noStrike">
              <a:solidFill>
                <a:srgbClr val="000000"/>
              </a:solidFill>
              <a:latin typeface="Calibri"/>
            </a:endParaRPr>
          </a:p>
        </p:txBody>
      </p:sp>
      <p:sp>
        <p:nvSpPr>
          <p:cNvPr id="417"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5 To understand how marketers abuse consumers’ privacy and the measures that can stop such pract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Using Wi-Fi signals from smartphones to track consumers in stores</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E-Scores: undisclosed digital calculations of people’s buying power and value as consumers</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FTC “do not track” mechanism</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 </a:t>
            </a:r>
            <a:r>
              <a:rPr b="0" lang="en-US" sz="3000" spc="-1" strike="noStrike">
                <a:solidFill>
                  <a:srgbClr val="000000"/>
                </a:solidFill>
                <a:latin typeface="Candara"/>
              </a:rPr>
              <a:t>Regulation of data brokers</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Opt-in for monitoring</a:t>
            </a:r>
            <a:endParaRPr b="0" lang="en-US" sz="3000" spc="-1" strike="noStrike">
              <a:solidFill>
                <a:srgbClr val="000000"/>
              </a:solidFill>
              <a:latin typeface="Calibri"/>
            </a:endParaRPr>
          </a:p>
          <a:p>
            <a:pPr marL="329040" indent="-32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Turquoise triangle </a:t>
            </a:r>
            <a:endParaRPr b="0" lang="en-US" sz="3000" spc="-1" strike="noStrike">
              <a:solidFill>
                <a:srgbClr val="000000"/>
              </a:solidFill>
              <a:latin typeface="Calibri"/>
            </a:endParaRPr>
          </a:p>
        </p:txBody>
      </p:sp>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ivacy Issu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uld online privacy by self-regulated or governed by legislation?  Why or why no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uld stores be allowed to track your emotions and behavior using your smartphone?  Why or why not?</a:t>
            </a:r>
            <a:endParaRPr b="0" lang="en-US" sz="3200" spc="-1" strike="noStrike">
              <a:solidFill>
                <a:srgbClr val="000000"/>
              </a:solidFill>
              <a:latin typeface="Calibri"/>
            </a:endParaRPr>
          </a:p>
        </p:txBody>
      </p:sp>
      <p:sp>
        <p:nvSpPr>
          <p:cNvPr id="42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422" name="Picture 2" descr="C:\Users\ashleyc\AppData\Local\Microsoft\Windows\Temporary Internet Files\Content.IE5\ECK8TAE5\MC900441498[3].png"/>
          <p:cNvPicPr/>
          <p:nvPr/>
        </p:nvPicPr>
        <p:blipFill>
          <a:blip r:embed="rId1"/>
          <a:stretch/>
        </p:blipFill>
        <p:spPr>
          <a:xfrm>
            <a:off x="3584520" y="4803840"/>
            <a:ext cx="1596960" cy="159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6</a:t>
            </a:r>
            <a:endParaRPr b="0" lang="en-US" sz="4400" spc="-1" strike="noStrike">
              <a:solidFill>
                <a:srgbClr val="000000"/>
              </a:solidFill>
              <a:latin typeface="Calibri"/>
            </a:endParaRPr>
          </a:p>
        </p:txBody>
      </p:sp>
      <p:sp>
        <p:nvSpPr>
          <p:cNvPr id="424"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6 To understand how marketers can advance society’s interests by advocating socially beneficial conduct and discouraging adverse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Content Placeholder 3" descr=""/>
          <p:cNvPicPr/>
          <p:nvPr/>
        </p:nvPicPr>
        <p:blipFill>
          <a:blip r:embed="rId1"/>
          <a:stretch/>
        </p:blipFill>
        <p:spPr>
          <a:xfrm>
            <a:off x="3048120" y="1050840"/>
            <a:ext cx="3917880" cy="5502240"/>
          </a:xfrm>
          <a:prstGeom prst="rect">
            <a:avLst/>
          </a:prstGeom>
          <a:ln w="0">
            <a:noFill/>
          </a:ln>
        </p:spPr>
      </p:pic>
      <p:sp>
        <p:nvSpPr>
          <p:cNvPr id="42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dvocating Beneficial Conduc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Content Placeholder 3" descr=""/>
          <p:cNvPicPr/>
          <p:nvPr/>
        </p:nvPicPr>
        <p:blipFill>
          <a:blip r:embed="rId1"/>
          <a:stretch/>
        </p:blipFill>
        <p:spPr>
          <a:xfrm>
            <a:off x="457200" y="1941480"/>
            <a:ext cx="8229600" cy="384336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romotions of Socially Beneficial Caus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5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fontScale="96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4 To understand the nature and consequences of provocative advertisement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5 To understand how marketers abuse consumers’ privacy and the measures that can stop such practice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6 To understand how marketers can advance society’s interests by advocating socially beneficial conduct and discouraging adverse behavior.</a:t>
            </a:r>
            <a:endParaRPr b="0" lang="en-US" sz="3200" spc="-1" strike="noStrike">
              <a:solidFill>
                <a:srgbClr val="000000"/>
              </a:solidFill>
              <a:latin typeface="Calibri"/>
            </a:endParaRPr>
          </a:p>
        </p:txBody>
      </p:sp>
      <p:pic>
        <p:nvPicPr>
          <p:cNvPr id="373" name="Picture 4" descr=""/>
          <p:cNvPicPr/>
          <p:nvPr/>
        </p:nvPicPr>
        <p:blipFill>
          <a:blip r:embed="rId1"/>
          <a:stretch/>
        </p:blipFill>
        <p:spPr>
          <a:xfrm>
            <a:off x="8029440" y="76320"/>
            <a:ext cx="916200" cy="85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Firms contribute a portion of the revenues they receive from selling certain products to causes that are socially desirable and supported by the American public.</a:t>
            </a:r>
            <a:endParaRPr b="0" lang="en-US" sz="3600" spc="-1" strike="noStrike">
              <a:solidFill>
                <a:srgbClr val="000000"/>
              </a:solidFill>
              <a:latin typeface="Calibri"/>
            </a:endParaRPr>
          </a:p>
        </p:txBody>
      </p:sp>
      <p:sp>
        <p:nvSpPr>
          <p:cNvPr id="43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Cause-Related Mark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Content Placeholder 5" descr=""/>
          <p:cNvPicPr/>
          <p:nvPr/>
        </p:nvPicPr>
        <p:blipFill>
          <a:blip r:embed="rId1"/>
          <a:stretch/>
        </p:blipFill>
        <p:spPr>
          <a:xfrm>
            <a:off x="3419640" y="1066680"/>
            <a:ext cx="2752560" cy="5405400"/>
          </a:xfrm>
          <a:prstGeom prst="rect">
            <a:avLst/>
          </a:prstGeom>
          <a:ln w="0">
            <a:noFill/>
          </a:ln>
        </p:spPr>
      </p:pic>
      <p:sp>
        <p:nvSpPr>
          <p:cNvPr id="43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ause-Related Marketing Exampl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Content Placeholder 3" descr=""/>
          <p:cNvPicPr/>
          <p:nvPr/>
        </p:nvPicPr>
        <p:blipFill>
          <a:blip r:embed="rId1"/>
          <a:stretch/>
        </p:blipFill>
        <p:spPr>
          <a:xfrm>
            <a:off x="2130480" y="1066680"/>
            <a:ext cx="5052960" cy="5410440"/>
          </a:xfrm>
          <a:prstGeom prst="rect">
            <a:avLst/>
          </a:prstGeom>
          <a:ln w="0">
            <a:noFill/>
          </a:ln>
        </p:spPr>
      </p:pic>
      <p:sp>
        <p:nvSpPr>
          <p:cNvPr id="43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Ethical Awaren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 retur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ftware pirac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o you think creative consumer practices that avoid baggage fees and charge airlines falsely are ethical?  Why or why not?</a:t>
            </a:r>
            <a:endParaRPr b="0" lang="en-US" sz="3200" spc="-1" strike="noStrike">
              <a:solidFill>
                <a:srgbClr val="000000"/>
              </a:solidFill>
              <a:latin typeface="Calibri"/>
            </a:endParaRPr>
          </a:p>
        </p:txBody>
      </p:sp>
      <p:sp>
        <p:nvSpPr>
          <p:cNvPr id="43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Eth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8" name="Picture 4" descr="cid:3287383400_2177562"/>
          <p:cNvPicPr/>
          <p:nvPr/>
        </p:nvPicPr>
        <p:blipFill>
          <a:blip r:embed="rId1"/>
          <a:stretch/>
        </p:blipFill>
        <p:spPr>
          <a:xfrm>
            <a:off x="762120" y="685800"/>
            <a:ext cx="8118360" cy="2647800"/>
          </a:xfrm>
          <a:prstGeom prst="rect">
            <a:avLst/>
          </a:prstGeom>
          <a:ln w="0">
            <a:noFill/>
          </a:ln>
        </p:spPr>
      </p:pic>
      <p:sp>
        <p:nvSpPr>
          <p:cNvPr id="439"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40"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Content Placeholder 3" descr=""/>
          <p:cNvPicPr/>
          <p:nvPr/>
        </p:nvPicPr>
        <p:blipFill>
          <a:blip r:embed="rId1"/>
          <a:stretch/>
        </p:blipFill>
        <p:spPr>
          <a:xfrm>
            <a:off x="692280" y="1143000"/>
            <a:ext cx="7716600" cy="5410080"/>
          </a:xfrm>
          <a:prstGeom prst="rect">
            <a:avLst/>
          </a:prstGeom>
          <a:ln w="0">
            <a:noFill/>
          </a:ln>
        </p:spPr>
      </p:pic>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TA (Non-Profit) A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1</a:t>
            </a:r>
            <a:endParaRPr b="0" lang="en-US" sz="4400" spc="-1" strike="noStrike">
              <a:solidFill>
                <a:srgbClr val="000000"/>
              </a:solidFill>
              <a:latin typeface="Calibri"/>
            </a:endParaRPr>
          </a:p>
        </p:txBody>
      </p:sp>
      <p:sp>
        <p:nvSpPr>
          <p:cNvPr id="377"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1 To understand the meaning and importance of marketing ethics and social responsibilit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fontScale="98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alls upon all marketers to satisfy the needs and wants of their target markets in ways that preserve and enhance the well-being of consumers and society as a whole, while also fulfilling the profit objectives of their organizations.</a:t>
            </a:r>
            <a:endParaRPr b="0" lang="en-US" sz="3600" spc="-1" strike="noStrike">
              <a:solidFill>
                <a:srgbClr val="000000"/>
              </a:solidFill>
              <a:latin typeface="Calibri"/>
            </a:endParaRPr>
          </a:p>
        </p:txBody>
      </p:sp>
      <p:sp>
        <p:nvSpPr>
          <p:cNvPr id="37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ocietal Marketing Concep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3" descr=""/>
          <p:cNvPicPr/>
          <p:nvPr/>
        </p:nvPicPr>
        <p:blipFill>
          <a:blip r:embed="rId1"/>
          <a:stretch/>
        </p:blipFill>
        <p:spPr>
          <a:xfrm>
            <a:off x="2895480" y="1082520"/>
            <a:ext cx="3276720" cy="5435640"/>
          </a:xfrm>
          <a:prstGeom prst="rect">
            <a:avLst/>
          </a:prstGeom>
          <a:ln w="0">
            <a:noFill/>
          </a:ln>
        </p:spPr>
      </p:pic>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Letter from Customer Advocacy Group</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5.2</a:t>
            </a:r>
            <a:endParaRPr b="0" lang="en-US" sz="4400" spc="-1" strike="noStrike">
              <a:solidFill>
                <a:srgbClr val="000000"/>
              </a:solidFill>
              <a:latin typeface="Calibri"/>
            </a:endParaRPr>
          </a:p>
        </p:txBody>
      </p:sp>
      <p:sp>
        <p:nvSpPr>
          <p:cNvPr id="383"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5.2 To understand how marketers can exploit consumers by targeting children and encouraging overeating and other forms of irresponsible buy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1371600"/>
            <a:ext cx="8229600" cy="510552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erceptual stage (3-7 years old)</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nalytical stage (7-11 years old)</a:t>
            </a:r>
            <a:endParaRPr b="0" lang="en-US" sz="3200" spc="-1" strike="noStrike">
              <a:solidFill>
                <a:srgbClr val="000000"/>
              </a:solidFill>
              <a:latin typeface="Calibri"/>
            </a:endParaRPr>
          </a:p>
          <a:p>
            <a:pPr marL="339480" indent="-33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flective stage (11-16 years old)</a:t>
            </a:r>
            <a:endParaRPr b="0" lang="en-US" sz="3200" spc="-1" strike="noStrike">
              <a:solidFill>
                <a:srgbClr val="000000"/>
              </a:solidFill>
              <a:latin typeface="Calibri"/>
            </a:endParaRPr>
          </a:p>
          <a:p>
            <a:pPr marL="339480" indent="-3394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At what point is it ethical for marketers to communicate with children?  Does it depend on other factors besides age (e.g. socioeconomic status; product category)?</a:t>
            </a:r>
            <a:endParaRPr b="0" lang="en-US" sz="3200" spc="-1" strike="noStrike">
              <a:solidFill>
                <a:srgbClr val="000000"/>
              </a:solidFill>
              <a:latin typeface="Calibri"/>
            </a:endParaRPr>
          </a:p>
        </p:txBody>
      </p:sp>
      <p:sp>
        <p:nvSpPr>
          <p:cNvPr id="38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onsumer Socializ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3:16Z</dcterms:modified>
  <cp:revision>1</cp:revision>
  <dc:subject/>
  <dc:title/>
</cp:coreProperties>
</file>