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7A77-5AE9-4F82-B0F9-EA31ACE4D2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EE205-CE4B-4909-A08E-2AF2F05818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taining secondary data before engaging in primary research offers several advantages. First, secondary data may provide a solution to the research problem and eliminate the need for primary research altogether. Even if this is not the case, secondary data, used in exploratory research, may help to clarify and redefine the objectives of the primary study and provide ideas for the methods to be used and the difficulties that are likely to occur during the full-scale stud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secondary information can be obtained more cheaply and quickly than primary data, it has some limitations. First, information may be categorized in units that are different from those that the researcher seeks. Some secondary data may not be accurate because of errors in gathering or analyzing the data for the original study, or because the data were collected in a biased fashion to support a particular point of view. Also, care must be taken not to use secondary data that may be outdated.</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D222-3DA1-4755-A012-C3F90C1D19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rpose is to get new ideas (e.g., for positioning or repositioning a product), a qualitative study is often undertaken; alternatively, if descriptive and quantitative information is sought, some form of a quantitative study is likely to be undertaken.</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3A619-D282-43E0-8876-F551C87364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mporary qualitative consumer research grew out of the </a:t>
            </a:r>
            <a:r>
              <a:rPr b="0" i="1" lang="en-US" sz="1200" spc="-1" strike="noStrike">
                <a:solidFill>
                  <a:srgbClr val="000000"/>
                </a:solidFill>
                <a:latin typeface="Calibri"/>
              </a:rPr>
              <a:t>rejection </a:t>
            </a:r>
            <a:r>
              <a:rPr b="0" lang="en-US" sz="1200" spc="-1" strike="noStrike">
                <a:solidFill>
                  <a:srgbClr val="000000"/>
                </a:solidFill>
                <a:latin typeface="Calibri"/>
              </a:rPr>
              <a:t>of the belief that consumer marketing was simply applied eco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tivational researchers</a:t>
            </a:r>
            <a:r>
              <a:rPr b="0" lang="en-US" sz="1200" spc="-1" strike="noStrike">
                <a:solidFill>
                  <a:srgbClr val="000000"/>
                </a:solidFill>
                <a:latin typeface="Calibri"/>
              </a:rPr>
              <a:t> suggested that consumers were not always consciously aware of why they made the decisions they did. Even when they were aware of their basic motivations, consumers were not always willing to reveal those reasons to others, or even to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sample sizes are necessarily often small, findings cannot be generalized to larger populations. Nevertheless, qualitative research contributes extensively to the initial identification and development of new promotional campaigns and new product development that can eventually be further refined through a variety of quantitative research methods.</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126C-1FFC-4A68-BEB0-D06431D937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pth interviews </a:t>
            </a:r>
            <a:r>
              <a:rPr b="0" lang="en-US" sz="1200" spc="-1" strike="noStrike">
                <a:solidFill>
                  <a:srgbClr val="000000"/>
                </a:solidFill>
                <a:latin typeface="Calibri"/>
              </a:rPr>
              <a:t>provide important information for targeting, positioning, and product redesign.  They can be as short as 20 minutes or last up to an hour.  The interview is often recorded, either with video or audio recordings so that the interviewer can play it back or transcribe the session to have all the details.  To get the most from the subject, an interviewer will usually ask probing questions in order to gain more insights from the subject.</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CDFE-399F-466A-8C6C-6E80B48A69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on-one interviews are conducted directly with the interviewer and a respondent while a </a:t>
            </a:r>
            <a:r>
              <a:rPr b="1" lang="en-US" sz="1200" spc="-1" strike="noStrike">
                <a:solidFill>
                  <a:srgbClr val="000000"/>
                </a:solidFill>
                <a:latin typeface="Calibri"/>
              </a:rPr>
              <a:t>focus group </a:t>
            </a:r>
            <a:r>
              <a:rPr b="0" lang="en-US" sz="1200" spc="-1" strike="noStrike">
                <a:solidFill>
                  <a:srgbClr val="000000"/>
                </a:solidFill>
                <a:latin typeface="Calibri"/>
              </a:rPr>
              <a:t>uses a small group of subjects for the research.  Some researchers favor this approach because the respondents interact with each other and build off of each other’s comments.  In addition, many people’s opinions are included in a shorter amount of time than individual interviews.  A disadvantage of focus groups is that participants might not always be honest and are less willing to expose private thoughts and personal views due to the presence of other members.  Researchers must balance the advantages and disadvantages of this method when deciding if it is right for their research proj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550C-F5C9-46D7-9A52-ECF701A60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C032B-79A7-45C5-B1C2-8EB3BB557B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xtremely rare for a moderator-researcher to conduct depth interviews or focus group sessions without the aid of a discussion guide. In a sense, a discussion guide is a kind of “agenda” of topics and issues to be covered over the course of each depth interview or each focus group session. How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keep in mind that qualitative research is much like jazz music: the expertise lies in the ability to improvise depending on the circumstance of the interview or the makeup of the group session.</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6D1CF-4C27-465C-B751-EF1ADBAB05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t comes to tapping into the underlying motives of individuals, </a:t>
            </a:r>
            <a:r>
              <a:rPr b="1" lang="en-US" sz="1200" spc="-1" strike="noStrike">
                <a:solidFill>
                  <a:srgbClr val="000000"/>
                </a:solidFill>
                <a:latin typeface="Calibri"/>
              </a:rPr>
              <a:t>projective techniques </a:t>
            </a:r>
            <a:r>
              <a:rPr b="0" lang="en-US" sz="1200" spc="-1" strike="noStrike">
                <a:solidFill>
                  <a:srgbClr val="000000"/>
                </a:solidFill>
                <a:latin typeface="Calibri"/>
              </a:rPr>
              <a:t>are a useful tool, borrowed from psychoanalytic theory and practice and adapted for studying the unconscious associations of consumers who may be concealing or suppressing some of their thoughts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ctions. Thus, projective exercises consist of a variety of disguised “tests” that contain ambiguous stimuli, such as incomplete sentences, untitled pictures or cartoons, word-association tests, and other person characterizations. They are all designed to make it easier for consumers to express themselves and reveal their inner motivation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46F2D-85DF-4552-B8E4-201C66EBD3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se quantitative research to understand the acceptance of various products or specific brands, as well as the impact of promotional messages on consumers. In other cases, the objectives are to assist marketers in pinpointing consumers’ level of satisfaction with a product, service, distribu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retailer, or possibly to attempt to identify areas in which the consumer has unmet needs, or even to attempt to better “predict” future consumer needs or behavior. The broad category of quantitative research includes experimentation, survey techniques, and observation. The findings are descriptive and empirical, and, if collected using appropriate sampling, can be generalized to larger populations. </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9E1E8-D3A5-493A-95C8-C5DF2D3646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ching or carefully observing consumers’ actions of purchasing and consuming, especially in realistic surroundings (e.g., in stores, in malls, watching TV, and even in their home environments), is an extremely insightful way to learn what is valuable or meaningful to consumers. Indeed, </a:t>
            </a:r>
            <a:r>
              <a:rPr b="1" lang="en-US" sz="1200" spc="-1" strike="noStrike">
                <a:solidFill>
                  <a:srgbClr val="000000"/>
                </a:solidFill>
                <a:latin typeface="Calibri"/>
              </a:rPr>
              <a:t>observati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a:t>
            </a:r>
            <a:r>
              <a:rPr b="0" lang="en-US" sz="1200" spc="-1" strike="noStrike">
                <a:solidFill>
                  <a:srgbClr val="000000"/>
                </a:solidFill>
                <a:latin typeface="Calibri"/>
              </a:rPr>
              <a:t>is an important research tool because marketers recognize that often the best way to gain an in-depth understanding of the relationship between people and products is by watching them in the process of buying and/or using the products. Observing consumers in action enables researchers to comprehend what the product symbolizes to a consumer and provides greater insight into the bond between people and products that is the essence of brand loyalty. It is also important in uncovering issues or problems with a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chanical observation </a:t>
            </a:r>
            <a:r>
              <a:rPr b="0" lang="en-US" sz="1200" spc="-1" strike="noStrike">
                <a:solidFill>
                  <a:srgbClr val="000000"/>
                </a:solidFill>
                <a:latin typeface="Calibri"/>
              </a:rPr>
              <a:t>research eliminates the need for a trained observer gathering data on behaviors.  These mechanical tools can count and record customer behavior.  Examples of mechanical observation methods are electronic traffic counters, videotape technology, and meters.  In addition, a customer’s usage of frequent shopper cards at stores will help provide data to the retailers and brand managers.  Researchers working in this area must always respect the consumer’s right to priva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physiological observation </a:t>
            </a:r>
            <a:r>
              <a:rPr b="0" lang="en-US" sz="1200" spc="-1" strike="noStrike">
                <a:solidFill>
                  <a:srgbClr val="000000"/>
                </a:solidFill>
                <a:latin typeface="Calibri"/>
              </a:rPr>
              <a:t>devices that monitor respondents’ patterns of information processing. For example, an electronic eye camera may be used to monitor the eye movements of subjects looking at a series of advertisements for various products, and electronic sens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d on the subjects’ heads can monitor their brain activity and attentiveness levels involved in viewing each adverti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EA23-344B-4132-9B24-117C02398A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begins with an examination of exploratory research and secondary data; describes primary research, defined as new research especially designed and collected for purposes of a current research problem; and the two categories of primary consumer research (qualitative and quantitative research).</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EC54C-194B-412F-BA96-C062BDA4FC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eriments (causal research) </a:t>
            </a:r>
            <a:r>
              <a:rPr b="0" lang="en-US" sz="1200" spc="-1" strike="noStrike">
                <a:solidFill>
                  <a:srgbClr val="000000"/>
                </a:solidFill>
                <a:latin typeface="Calibri"/>
              </a:rPr>
              <a:t>identify cause-and-effect relationships among factors. For instance, it is possible to test the relative sales appeal of many types of variables, such as package designs, alternative price points, or different promotional offers, by experiments designed to identify 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effect. In the simplest form of such experiments, only one variable is manipulated (called the </a:t>
            </a:r>
            <a:r>
              <a:rPr b="0" i="1" lang="en-US" sz="1200" spc="-1" strike="noStrike">
                <a:solidFill>
                  <a:srgbClr val="000000"/>
                </a:solidFill>
                <a:latin typeface="Calibri"/>
              </a:rPr>
              <a:t>independent variable</a:t>
            </a:r>
            <a:r>
              <a:rPr b="0" lang="en-US" sz="1200" spc="-1" strike="noStrike">
                <a:solidFill>
                  <a:srgbClr val="000000"/>
                </a:solidFill>
                <a:latin typeface="Calibri"/>
              </a:rPr>
              <a:t>), while all other elements are kept const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jor application of causal research is </a:t>
            </a:r>
            <a:r>
              <a:rPr b="1" lang="en-US" sz="1200" spc="-1" strike="noStrike">
                <a:solidFill>
                  <a:srgbClr val="000000"/>
                </a:solidFill>
                <a:latin typeface="Calibri"/>
              </a:rPr>
              <a:t>test marketing</a:t>
            </a:r>
            <a:r>
              <a:rPr b="0" lang="en-US" sz="1200" spc="-1" strike="noStrike">
                <a:solidFill>
                  <a:srgbClr val="000000"/>
                </a:solidFill>
                <a:latin typeface="Calibri"/>
              </a:rPr>
              <a:t>. Sometimes, even after conducting depth interviews, focus groups, and survey research, the marketing firm realizes that it still needs to secure additional real-world feedback for a new product, service, or marketing communications program that it is considering, before it commits itself to a full-scale marketing rollout. In such situations, test marketing is a logical next step. Test marketing typically includes the selection of a representative single market area and then the conduct of a market introduction (only in that market) to test actual consumer response to the marketing effort under actual marketing conditions. </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6A8C-D0FD-41AF-83A3-46D1EE53C3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sonal interview surveys </a:t>
            </a:r>
            <a:r>
              <a:rPr b="0" lang="en-US" sz="1200" spc="-1" strike="noStrike">
                <a:solidFill>
                  <a:srgbClr val="000000"/>
                </a:solidFill>
                <a:latin typeface="Calibri"/>
              </a:rPr>
              <a:t>(that are face-to-face) most often take place in a public space or a retail shopping area, such as within the public area of a mall, or a rented space within an office located in a m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elephone interview </a:t>
            </a:r>
            <a:r>
              <a:rPr b="0" lang="en-US" sz="1200" spc="-1" strike="noStrike">
                <a:solidFill>
                  <a:srgbClr val="000000"/>
                </a:solidFill>
                <a:latin typeface="Calibri"/>
              </a:rPr>
              <a:t>surveys - problems arise from the increased use of answering machines, telephone company voicemail systems, and caller ID to screen ca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surveys </a:t>
            </a:r>
            <a:r>
              <a:rPr b="0" lang="en-US" sz="1200" spc="-1" strike="noStrike">
                <a:solidFill>
                  <a:srgbClr val="000000"/>
                </a:solidFill>
                <a:latin typeface="Calibri"/>
              </a:rPr>
              <a:t>are conducted by sending questionnaires directly to individuals at their homes. One of the major problems of mail questionnaires is a low response rate, but researchers have developed a number of techniques to increase returns, such as enclosing a stamped, self-addressed enve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rovocative questionnaire, and sending notifications in advance as well as follow-up letters. Also, to deal with the ongoing problems of low response rates to unsolicited mail surveys, some consumer marketing companies are establishing their own ongoing consumer panels and period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 or e-mail a questionnaire to consumer panel participants to fill out. As a motivation to complete the task, and ensure a satisfactory response rate, it is commonplace to pay respondents a prearranged participation fee for each round of completed surveys. Sometimes panel member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sked to keep diaries of their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mail surveys </a:t>
            </a:r>
            <a:r>
              <a:rPr b="0" lang="en-US" sz="1200" spc="-1" strike="noStrike">
                <a:solidFill>
                  <a:srgbClr val="000000"/>
                </a:solidFill>
                <a:latin typeface="Calibri"/>
              </a:rPr>
              <a:t>are an increasingly popular alternative to using the postal service as a means of distributing questionnaires to target consumers. One of the key attractions of using email is that it is as easy and quick to distribute a survey around the world as it is to distribute it down the block. Moreo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n accurate list of e-mail addresses, it is very inexpensive to distribute even a large number of questionnaires. We can expect that as the world increasingly turns to the Web for many types of social communications, we will see continued growth of emailing as a way to distribute surveys. Furthermore, there has been a rapid increase in the number of consumers who are interested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icipating in </a:t>
            </a:r>
            <a:r>
              <a:rPr b="1" lang="en-US" sz="1200" spc="-1" strike="noStrike">
                <a:solidFill>
                  <a:srgbClr val="000000"/>
                </a:solidFill>
                <a:latin typeface="Calibri"/>
              </a:rPr>
              <a:t>Internet surveys</a:t>
            </a:r>
            <a:r>
              <a:rPr b="0" lang="en-US" sz="1200" spc="-1" strike="noStrike">
                <a:solidFill>
                  <a:srgbClr val="000000"/>
                </a:solidFill>
                <a:latin typeface="Calibri"/>
              </a:rPr>
              <a:t>. Potential respondents are directed to the marketer’s (or resear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s) website by online ads or targeted e-mail invitations. Often, responses to online surve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from consumer respondents who are self-selected, and therefore the results cannot be proj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larger population. Most computer polls ask respondents to complete a profile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graphic questions that enable the researchers to classify the responses to the substantiv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service question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0B17-5C6B-466B-B2E6-A0CD80FA4D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0F1D-72D4-4C51-AB81-E691134E7D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s said to have </a:t>
            </a:r>
            <a:r>
              <a:rPr b="1" lang="en-US" sz="1200" spc="-1" strike="noStrike">
                <a:solidFill>
                  <a:srgbClr val="000000"/>
                </a:solidFill>
                <a:latin typeface="Calibri"/>
              </a:rPr>
              <a:t>validity </a:t>
            </a:r>
            <a:r>
              <a:rPr b="0" lang="en-US" sz="1200" spc="-1" strike="noStrike">
                <a:solidFill>
                  <a:srgbClr val="000000"/>
                </a:solidFill>
                <a:latin typeface="Calibri"/>
              </a:rPr>
              <a:t>if it does, in fact, collect appropriate data needed to answer the questions or objectives stated in the first (objectives) stage of the research process. A study is said to have </a:t>
            </a:r>
            <a:r>
              <a:rPr b="1" lang="en-US" sz="1200" spc="-1" strike="noStrike">
                <a:solidFill>
                  <a:srgbClr val="000000"/>
                </a:solidFill>
                <a:latin typeface="Calibri"/>
              </a:rPr>
              <a:t>reliability </a:t>
            </a:r>
            <a:r>
              <a:rPr b="0" lang="en-US" sz="1200" spc="-1" strike="noStrike">
                <a:solidFill>
                  <a:srgbClr val="000000"/>
                </a:solidFill>
                <a:latin typeface="Calibri"/>
              </a:rPr>
              <a:t>if the same questions, asked of a similar sample, produce the same findings. </a:t>
            </a:r>
            <a:r>
              <a:rPr b="1" lang="en-US" sz="1200" spc="-1" strike="noStrike">
                <a:solidFill>
                  <a:srgbClr val="000000"/>
                </a:solidFill>
                <a:latin typeface="Calibri"/>
              </a:rPr>
              <a:t>1. Open-ended questions </a:t>
            </a:r>
            <a:r>
              <a:rPr b="0" lang="en-US" sz="1200" spc="-1" strike="noStrike">
                <a:solidFill>
                  <a:srgbClr val="000000"/>
                </a:solidFill>
                <a:latin typeface="Calibri"/>
              </a:rPr>
              <a:t>require answers in the respondent’s own words (e.g., essay type questions). </a:t>
            </a:r>
            <a:r>
              <a:rPr b="1" lang="en-US" sz="1200" spc="-1" strike="noStrike">
                <a:solidFill>
                  <a:srgbClr val="000000"/>
                </a:solidFill>
                <a:latin typeface="Calibri"/>
              </a:rPr>
              <a:t>2. Closed-ended questions </a:t>
            </a:r>
            <a:r>
              <a:rPr b="0" lang="en-US" sz="1200" spc="-1" strike="noStrike">
                <a:solidFill>
                  <a:srgbClr val="000000"/>
                </a:solidFill>
                <a:latin typeface="Calibri"/>
              </a:rPr>
              <a:t>require respondents to check the appropriate answer from a list of options (e.g., multiple-choice and true or false question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EA334-6C17-4074-A91C-D023935BB3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real world of consumer research, one form of consumer survey is a </a:t>
            </a:r>
            <a:r>
              <a:rPr b="1" lang="en-US" sz="1200" spc="-1" strike="noStrike">
                <a:solidFill>
                  <a:srgbClr val="000000"/>
                </a:solidFill>
                <a:latin typeface="Calibri"/>
              </a:rPr>
              <a:t>magazine readership survey</a:t>
            </a:r>
            <a:r>
              <a:rPr b="0" lang="en-US" sz="1200" spc="-1" strike="noStrike">
                <a:solidFill>
                  <a:srgbClr val="000000"/>
                </a:solidFill>
                <a:latin typeface="Calibri"/>
              </a:rPr>
              <a:t>. Such surveys are conducted to provide the publisher, editors, and circulation directors with reader feedback, as well as to provide the marketing and sales staff with information that would enable them to create a more convincing marketing package for selling adverting pages to potential advertisers and their advertising agencies. In particular, a standard use of the data secured from magazine readership surveys is preparation of a profile of a publication’s readers so that potential advertisers can determine whether the publication delivers the audience that is most likely to respond positively to their adverti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ikert scale </a:t>
            </a:r>
            <a:r>
              <a:rPr b="0" lang="en-US" sz="1200" spc="-1" strike="noStrike">
                <a:solidFill>
                  <a:srgbClr val="000000"/>
                </a:solidFill>
                <a:latin typeface="Calibri"/>
              </a:rPr>
              <a:t>is the most popular form of attitude scale because it is easy for researchers to prepare and to interpret, and simple for consumers to answer. They check or write the number corresponding to their level of “agreement” or “disagreement” with a series of stat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mantic differential scale</a:t>
            </a:r>
            <a:r>
              <a:rPr b="0" lang="en-US" sz="1200" spc="-1" strike="noStrike">
                <a:solidFill>
                  <a:srgbClr val="000000"/>
                </a:solidFill>
                <a:latin typeface="Calibri"/>
              </a:rPr>
              <a:t>, like the Likert scale, is relatively easy to construct and administer.  The scale typically consists of a series of bipolar adjectives (such as “good/bad,” “hot/cold,” “like/dislike,” or “expensive/inexpensive”) anchored at the ends of an odd-numbered (e.g., five- or seven-point) continu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behavior intention scale </a:t>
            </a:r>
            <a:r>
              <a:rPr b="0" lang="en-US" sz="1200" spc="-1" strike="noStrike">
                <a:solidFill>
                  <a:srgbClr val="000000"/>
                </a:solidFill>
                <a:latin typeface="Calibri"/>
              </a:rPr>
              <a:t>measures the likelihood that consumers will act in a certain way in the future, such as buying the product again or recommending it to a fri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t>
            </a:r>
            <a:r>
              <a:rPr b="1" lang="en-US" sz="1200" spc="-1" strike="noStrike">
                <a:solidFill>
                  <a:srgbClr val="000000"/>
                </a:solidFill>
                <a:latin typeface="Calibri"/>
              </a:rPr>
              <a:t>rank-order scales</a:t>
            </a:r>
            <a:r>
              <a:rPr b="0" lang="en-US" sz="1200" spc="-1" strike="noStrike">
                <a:solidFill>
                  <a:srgbClr val="000000"/>
                </a:solidFill>
                <a:latin typeface="Calibri"/>
              </a:rPr>
              <a:t>, subjects are asked to rank items such as products (or retail stores or websites) in order of preference in terms of some criterion, such as overall quality or value for mo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uging the level of customer satisfaction and its determinants is critical for every comp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0ACCF-622F-4961-9209-D8AD23189C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ustomer satisfaction surveys </a:t>
            </a:r>
            <a:r>
              <a:rPr b="0" lang="en-US" sz="1200" spc="-1" strike="noStrike">
                <a:solidFill>
                  <a:srgbClr val="000000"/>
                </a:solidFill>
                <a:latin typeface="Calibri"/>
              </a:rPr>
              <a:t>measure how satisfied the customers are with relevant attributes of the product or service, and the relative importance of these attributes (using an importance scale). Generally, these surveys use five-point semantic differential scales, ranging from “very dissatisfied” to “very satisfied.” Some marketers maintain that customers’ satisfaction or dissatisfaction is a function of the difference between what they had </a:t>
            </a:r>
            <a:r>
              <a:rPr b="0" i="1" lang="en-US" sz="1200" spc="-1" strike="noStrike">
                <a:solidFill>
                  <a:srgbClr val="000000"/>
                </a:solidFill>
                <a:latin typeface="Calibri"/>
              </a:rPr>
              <a:t>expected </a:t>
            </a:r>
            <a:r>
              <a:rPr b="0" lang="en-US" sz="1200" spc="-1" strike="noStrike">
                <a:solidFill>
                  <a:srgbClr val="000000"/>
                </a:solidFill>
                <a:latin typeface="Calibri"/>
              </a:rPr>
              <a:t>to get from the product or service purchased and their perceptions of what they </a:t>
            </a:r>
            <a:r>
              <a:rPr b="0" i="1" lang="en-US" sz="1200" spc="-1" strike="noStrike">
                <a:solidFill>
                  <a:srgbClr val="000000"/>
                </a:solidFill>
                <a:latin typeface="Calibri"/>
              </a:rPr>
              <a:t>received</a:t>
            </a:r>
            <a:r>
              <a:rPr b="0" lang="en-US" sz="1200" spc="-1" strike="noStrike">
                <a:solidFill>
                  <a:srgbClr val="000000"/>
                </a:solidFill>
                <a:latin typeface="Calibri"/>
              </a:rPr>
              <a:t>. A group of researchers developed a scale that measures the performance of the service received against two expectation levels: </a:t>
            </a:r>
            <a:r>
              <a:rPr b="0" i="1" lang="en-US" sz="1200" spc="-1" strike="noStrike">
                <a:solidFill>
                  <a:srgbClr val="000000"/>
                </a:solidFill>
                <a:latin typeface="Calibri"/>
              </a:rPr>
              <a:t>adequate </a:t>
            </a:r>
            <a:r>
              <a:rPr b="0" lang="en-US" sz="1200" spc="-1" strike="noStrike">
                <a:solidFill>
                  <a:srgbClr val="000000"/>
                </a:solidFill>
                <a:latin typeface="Calibri"/>
              </a:rPr>
              <a:t>service and </a:t>
            </a:r>
            <a:r>
              <a:rPr b="0" i="1" lang="en-US" sz="1200" spc="-1" strike="noStrike">
                <a:solidFill>
                  <a:srgbClr val="000000"/>
                </a:solidFill>
                <a:latin typeface="Calibri"/>
              </a:rPr>
              <a:t>desired </a:t>
            </a:r>
            <a:r>
              <a:rPr b="0" lang="en-US" sz="1200" spc="-1" strike="noStrike">
                <a:solidFill>
                  <a:srgbClr val="000000"/>
                </a:solidFill>
                <a:latin typeface="Calibri"/>
              </a:rPr>
              <a:t>service, and also measures the customers’ future intentions regarding purchase of the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ystery shoppers </a:t>
            </a:r>
            <a:r>
              <a:rPr b="0" lang="en-US" sz="1200" spc="-1" strike="noStrike">
                <a:solidFill>
                  <a:srgbClr val="000000"/>
                </a:solidFill>
                <a:latin typeface="Calibri"/>
              </a:rPr>
              <a:t>are professional observers who pose as customers and interact with and provide unbiased evaluations of the company’s service personnel in order to identify opportunities for improving productivity and efficien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a:t>
            </a:r>
            <a:r>
              <a:rPr b="1" lang="en-US" sz="1200" spc="-1" strike="noStrike">
                <a:solidFill>
                  <a:srgbClr val="000000"/>
                </a:solidFill>
                <a:latin typeface="Calibri"/>
              </a:rPr>
              <a:t>complaint analysis </a:t>
            </a:r>
            <a:r>
              <a:rPr b="0" lang="en-US" sz="1200" spc="-1" strike="noStrike">
                <a:solidFill>
                  <a:srgbClr val="000000"/>
                </a:solidFill>
                <a:latin typeface="Calibri"/>
              </a:rPr>
              <a:t>system should encourage customers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Complain about an unsatisfactory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suggestions for improvements by completing forms asking specific questions beyond the routine “how was every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stablish “listening posts” such as hotlines where specially designated employees either listen to customers’ comments or actively solicit input from them (e.g., in a hotel lobby or on checkout 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each complaint, by itself, provides little information, the company must have a system in which complaints are categorized and analyzed so that the results may be used to improve its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3318-0B27-40EF-8885-75859D27A2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sample </a:t>
            </a:r>
            <a:r>
              <a:rPr b="0" lang="en-US" sz="1200" spc="-1" strike="noStrike">
                <a:solidFill>
                  <a:srgbClr val="000000"/>
                </a:solidFill>
                <a:latin typeface="Calibri"/>
              </a:rPr>
              <a:t>is a subset of the population that is used to estimate the characteristics of the entire population. An integral component of a research design is the </a:t>
            </a:r>
            <a:r>
              <a:rPr b="1" lang="en-US" sz="1200" spc="-1" strike="noStrike">
                <a:solidFill>
                  <a:srgbClr val="000000"/>
                </a:solidFill>
                <a:latin typeface="Calibri"/>
              </a:rPr>
              <a:t>sampling plan</a:t>
            </a:r>
            <a:r>
              <a:rPr b="0" lang="en-US" sz="1200" spc="-1" strike="noStrike">
                <a:solidFill>
                  <a:srgbClr val="000000"/>
                </a:solidFill>
                <a:latin typeface="Calibri"/>
              </a:rPr>
              <a:t>. Specifically, the sampling plan addresses three questions: whom to survey (the sampling unit), how many to survey (the sample size), and how to select them (the sampling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a:t>
            </a:r>
            <a:r>
              <a:rPr b="1" lang="en-US" sz="1200" spc="-1" strike="noStrike">
                <a:solidFill>
                  <a:srgbClr val="000000"/>
                </a:solidFill>
                <a:latin typeface="Calibri"/>
              </a:rPr>
              <a:t>probability sample</a:t>
            </a:r>
            <a:r>
              <a:rPr b="0" lang="en-US" sz="1200" spc="-1" strike="noStrike">
                <a:solidFill>
                  <a:srgbClr val="000000"/>
                </a:solidFill>
                <a:latin typeface="Calibri"/>
              </a:rPr>
              <a:t>, respondents are selected in such a way that every member of the population studied has a known, nonzero chance of being selected. In a </a:t>
            </a:r>
            <a:r>
              <a:rPr b="1" lang="en-US" sz="1200" spc="-1" strike="noStrike">
                <a:solidFill>
                  <a:srgbClr val="000000"/>
                </a:solidFill>
                <a:latin typeface="Calibri"/>
              </a:rPr>
              <a:t>nonprobability sample</a:t>
            </a:r>
            <a:r>
              <a:rPr b="0" lang="en-US" sz="1200" spc="-1" strike="noStrike">
                <a:solidFill>
                  <a:srgbClr val="000000"/>
                </a:solidFill>
                <a:latin typeface="Calibri"/>
              </a:rPr>
              <a:t>, the population under study has been predetermined in a nonrandom fashion on the basis of the researcher’s judgment or decision to select a given number of respondents from a particular group.  Table 16.4 shows types of both.</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18C5-CD4A-4A38-A86B-95E3C41961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ight direct marketers test in experim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marketers often test their promotion.  For example, a catalog marketer can send one catalog that offers free shipping and another can offer 20% off.  The marketer will then see which offer is stronger and results in the most orders and the larger order siz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an they use the resul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use the results in designing future promotions and to refine their marke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6466-F593-463A-829B-264D6CCA42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frequently conduct research projects that combine both a qualitative component (often composed of focus groups and/or depth interviews) and a quantitative component (often consisting of a survey research).</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F5CDD-FC4E-43F3-B4F7-9F7C443907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frequently conduct research projects that combine both a qualitative component (often composed of focus groups and/or depth interviews) and a quantitative component (often consisting of survey research). In reality, many consumer research studies carry out—concurrently or in sequence—a series of interrelated qualitative and quantitative studies, or move back and forth between one or more rounds of qualitative research and one or more rounds of quantitative research.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F93DA-5713-477C-B7CE-B751BCB6B4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 research is the process and tools used to study consumer behavior.</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97E-CD10-45EE-8C36-CC3308AB3A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qualitative research, the moderator-researcher usually analyzes the responses received. In quantitative research, the researcher supervises the analysis: Open-ended responses are first coded and quantified (i.e., converted into numerical scores); then all the responses are tabulated and analyzed using sophisticated analytical programs that correlate the data by selected variables and cluster the data by selected demographic characteristic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8B57C-D654-4F33-8044-280D3A5927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oth qualitative and quantitative research, the research report includes a brief executive summary of the findings. Depending on the assignment from marketing management, the research report may or may not include recommendations for marketing action. The body of the report includes a f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scription of the methodology used and, for quantitative research, also includes tables and graphics to support the findings.</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247EE-8509-44F9-8636-12E31842E4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0800E-AE08-4A8F-9308-90469B86C3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nd most difficult step in the consumer research process is to accurately define the objectives of the research. Whatever the key research question, it is important for the marketing manager and the research manager to agree at the outset as to the specific purposes and objectives of the proposed consumer study. A clearly written statement of research objectives ensures that the information needed is indeed collected and costly errors are avoided.</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38DC3-7079-43B2-98B1-E4728A81AE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purpose of a study is to come up with new ideas for products or promotional themes, the researchers use qualitative research. Qualitative studies consist of focus groups and/or one-on-one depth interviews, in which sampled consumers are individually interviewed by professionally tr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ers. Alternatively, for example, if the purpose of the study is to find out how many consumers match the demographics or psychographics of the target market, or the characteristics of consumers who buy given brands and whether or not they are brand loyal, marketers conduct quantit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Commonly, marketers use qualitative research before conducting large quantitative studies, because their results enable marketers to define the research objectives of large and expensive quantitative studies more precisely.</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E31E2-0CE8-4341-9771-578B122658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ight be </a:t>
            </a:r>
            <a:r>
              <a:rPr b="0" lang="en-US" sz="1200" spc="-1" strike="noStrike">
                <a:solidFill>
                  <a:srgbClr val="cc0000"/>
                </a:solidFill>
                <a:latin typeface="Calibri"/>
              </a:rPr>
              <a:t>three objectives</a:t>
            </a:r>
            <a:r>
              <a:rPr b="0" lang="en-US" sz="1200" spc="-1" strike="noStrike">
                <a:solidFill>
                  <a:srgbClr val="000000"/>
                </a:solidFill>
                <a:latin typeface="Calibri"/>
              </a:rPr>
              <a:t> of a research plan for your new business?</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termine the target market, to set pricing strategies, and to design effective marketing messages</a:t>
            </a:r>
            <a:endParaRPr b="0" lang="en-US" sz="1200" spc="-1" strike="noStrike">
              <a:solidFill>
                <a:srgbClr val="000000"/>
              </a:solidFill>
              <a:latin typeface="Calibri"/>
            </a:endParaRPr>
          </a:p>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could you gather these data?</a:t>
            </a:r>
            <a:endParaRPr b="0" lang="en-US" sz="1200" spc="-1" strike="noStrike">
              <a:solidFill>
                <a:srgbClr val="000000"/>
              </a:solidFill>
              <a:latin typeface="Calibri"/>
            </a:endParaRPr>
          </a:p>
          <a:p>
            <a:pPr lvl="1" marL="6858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and secondary research.  Primary research might include focus groups, surveys, and observation studies of local students and their traffic patterns.</a:t>
            </a:r>
            <a:endParaRPr b="0" lang="en-US" sz="1200" spc="-1" strike="noStrike">
              <a:solidFill>
                <a:srgbClr val="000000"/>
              </a:solidFill>
              <a:latin typeface="Calibri"/>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13DA-6787-4FC1-9C11-BF624602FB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step in the consumer research process is to search for the availability of </a:t>
            </a:r>
            <a:r>
              <a:rPr b="1" lang="en-US" sz="1200" spc="-1" strike="noStrike">
                <a:solidFill>
                  <a:srgbClr val="000000"/>
                </a:solidFill>
                <a:latin typeface="Calibri"/>
              </a:rPr>
              <a:t>secondary data</a:t>
            </a:r>
            <a:r>
              <a:rPr b="0" lang="en-US" sz="1200" spc="-1" strike="noStrike">
                <a:solidFill>
                  <a:srgbClr val="000000"/>
                </a:solidFill>
                <a:latin typeface="Calibri"/>
              </a:rPr>
              <a:t>, defined as existing information that was originally gathered for a research purpose other than the present research. The rationale for secondary data searches is simply that it makes good sense to investigate whether currently available information will answer—in part or even in full—the research question at hand.</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B8080-1795-4B57-9890-908A02F742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FA19-33AA-4CDD-9830-7CA421FCFB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nformation or data could consist of previously collected in-house information that was originally used for some other purpose. It might have originally been gathered as part of a sales audit, or from past customer service calls, or letters of inquiry from customers, or collected via warranty cards. Increasingly, companies use internal secondary data to compute </a:t>
            </a:r>
            <a:r>
              <a:rPr b="1" lang="en-US" sz="1200" spc="-1" strike="noStrike">
                <a:solidFill>
                  <a:srgbClr val="000000"/>
                </a:solidFill>
                <a:latin typeface="Calibri"/>
              </a:rPr>
              <a:t>customer lifetime value profiles </a:t>
            </a:r>
            <a:r>
              <a:rPr b="0" lang="en-US" sz="1200" spc="-1" strike="noStrike">
                <a:solidFill>
                  <a:srgbClr val="000000"/>
                </a:solidFill>
                <a:latin typeface="Calibri"/>
              </a:rPr>
              <a:t>for various customer seg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secondary data come from sources outside of the firm or organization. They take many different forms. Some are free and can be found in a public library, other information is available for only a nominal fee, and still other data or information are quite expensive to sec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data are collected by government bodies or their agencies, and are generally made available for a very nominal co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siness-relevant secondary data from periodicals, newspapers, and books are readily accessible via a variety of online search eng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rcially available information about consumers is collected by syndicated research services that sell it to subscribing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consumer panels are paid for recording their purchases and/or media viewing habits in diaries that are then combined with data from thousands of households and analyzed by the data providers.</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0D054-EA47-4CD9-9E17-39622B90E1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9EA2394-06F8-411E-9CCA-6785DB7E90E9}"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1A3A981-1844-4891-958A-0D5444EF2D8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A3CE37D-DA41-4BCD-B618-155AA4CB3B1C}"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B848B4C-872B-417E-BE12-4F8ABCD63299}"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F51EB81-1E6C-4CC3-8FFB-18AFCADF4159}"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817BDC8-1F08-4A59-98A2-166A30DC9452}"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AC65981-ACAB-4112-A71F-539380BF0196}"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16B7352-1C33-44CC-9DB7-3689E45CEBF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8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6</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163440"/>
            <a:ext cx="1952640" cy="1762200"/>
          </a:xfrm>
          <a:prstGeom prst="rect">
            <a:avLst/>
          </a:prstGeom>
          <a:ln w="0">
            <a:noFill/>
          </a:ln>
        </p:spPr>
      </p:pic>
      <p:pic>
        <p:nvPicPr>
          <p:cNvPr id="366" name="Picture 11" descr=""/>
          <p:cNvPicPr/>
          <p:nvPr/>
        </p:nvPicPr>
        <p:blipFill>
          <a:blip r:embed="rId3"/>
          <a:stretch/>
        </p:blipFill>
        <p:spPr>
          <a:xfrm>
            <a:off x="2633760" y="3162240"/>
            <a:ext cx="3876480" cy="533520"/>
          </a:xfrm>
          <a:prstGeom prst="rect">
            <a:avLst/>
          </a:prstGeom>
          <a:ln w="0">
            <a:noFill/>
          </a:ln>
        </p:spPr>
      </p:pic>
      <p:sp>
        <p:nvSpPr>
          <p:cNvPr id="367" name="TextBox 1"/>
          <p:cNvSpPr/>
          <p:nvPr/>
        </p:nvSpPr>
        <p:spPr>
          <a:xfrm>
            <a:off x="609480" y="6477120"/>
            <a:ext cx="6012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6840" y="2174760"/>
            <a:ext cx="4040280" cy="395136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ay provide solution</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elps clarify and redefine objectives of the primary stud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Helps identify difficulties that are likely to occur in full-scale study</a:t>
            </a:r>
            <a:endParaRPr b="0" lang="en-US" sz="2400" spc="-1" strike="noStrike">
              <a:solidFill>
                <a:srgbClr val="000000"/>
              </a:solidFill>
              <a:latin typeface="Calibri"/>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eaper and quicker than primary data</a:t>
            </a:r>
            <a:endParaRPr b="0" lang="en-US" sz="2400" spc="-1" strike="noStrike">
              <a:solidFill>
                <a:srgbClr val="000000"/>
              </a:solidFill>
              <a:latin typeface="Calibri"/>
            </a:endParaRPr>
          </a:p>
        </p:txBody>
      </p:sp>
      <p:sp>
        <p:nvSpPr>
          <p:cNvPr id="386" name="PlaceHolder 1"/>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Limitations</a:t>
            </a:r>
            <a:endParaRPr b="0" lang="en-US" sz="2400" spc="-1" strike="noStrike">
              <a:solidFill>
                <a:srgbClr val="000000"/>
              </a:solidFill>
              <a:latin typeface="Calibri"/>
            </a:endParaRPr>
          </a:p>
        </p:txBody>
      </p:sp>
      <p:sp>
        <p:nvSpPr>
          <p:cNvPr id="38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tegorization of units may not match what researcher seek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t may not be accurate; errors may have been made in data collection and/or analysi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ata could be out of date</a:t>
            </a:r>
            <a:endParaRPr b="0" lang="en-US" sz="2400" spc="-1" strike="noStrike">
              <a:solidFill>
                <a:srgbClr val="000000"/>
              </a:solidFill>
              <a:latin typeface="Calibri"/>
            </a:endParaRPr>
          </a:p>
        </p:txBody>
      </p:sp>
      <p:sp>
        <p:nvSpPr>
          <p:cNvPr id="388" name="PlaceHolder 2"/>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condary Data</a:t>
            </a:r>
            <a:endParaRPr b="0" lang="en-US" sz="4400" spc="-1" strike="noStrike">
              <a:solidFill>
                <a:srgbClr val="000000"/>
              </a:solidFill>
              <a:latin typeface="Calibri"/>
            </a:endParaRPr>
          </a:p>
        </p:txBody>
      </p:sp>
      <p:sp>
        <p:nvSpPr>
          <p:cNvPr id="389" name="PlaceHolder 3"/>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Advanta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3</a:t>
            </a:r>
            <a:endParaRPr b="0" lang="en-US" sz="4400" spc="-1" strike="noStrike">
              <a:solidFill>
                <a:srgbClr val="000000"/>
              </a:solidFill>
              <a:latin typeface="Calibri"/>
            </a:endParaRPr>
          </a:p>
        </p:txBody>
      </p:sp>
      <p:sp>
        <p:nvSpPr>
          <p:cNvPr id="39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3 To understand qualitative and quantitative research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jects idea that consumers are rational decision maker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al researchers – consumers either unaware/unable to express motives </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mall sample sizes – not generalizable to population</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deal for initial ideas (promotional campaigns, products, positioning)</a:t>
            </a:r>
            <a:endParaRPr b="0" lang="en-US" sz="32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litative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called one-on-one interview</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ually 20 minutes to 1 hou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structur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viewer will often probe to get more feedback (see following slide for prob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ssion is usually recorded</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Qualitative Methods: Depth Interview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0 participa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spondents are recruited through a </a:t>
            </a:r>
            <a:r>
              <a:rPr b="1" lang="en-US" sz="3200" spc="-1" strike="noStrike">
                <a:solidFill>
                  <a:srgbClr val="000000"/>
                </a:solidFill>
                <a:latin typeface="Candara"/>
              </a:rPr>
              <a:t>screener </a:t>
            </a:r>
            <a:r>
              <a:rPr b="0" lang="en-US" sz="3200" spc="-1" strike="noStrike">
                <a:solidFill>
                  <a:srgbClr val="000000"/>
                </a:solidFill>
                <a:latin typeface="Candara"/>
              </a:rPr>
              <a:t>questionnai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sts about 2 hou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ways taped or videotaped to assis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ften held in front of two-way mirro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line focus groups are growing</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litative Methods: Focus Group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676520" y="1523880"/>
            <a:ext cx="5425920" cy="43434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bing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tep-by-step outline that sets out the line of questioning the researcher needs to cover with the respondent in a depth interview, or a group of respondents in the case of a focus</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01"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iscussion Guid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Content Placeholder 3" descr=""/>
          <p:cNvPicPr/>
          <p:nvPr/>
        </p:nvPicPr>
        <p:blipFill>
          <a:blip r:embed="rId1"/>
          <a:stretch/>
        </p:blipFill>
        <p:spPr>
          <a:xfrm>
            <a:off x="457200" y="1616040"/>
            <a:ext cx="8229600" cy="449424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ndara"/>
              </a:rPr>
              <a:t>Qualitative Research: Projective Techniques</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ceptance of products, brands, promotional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apture satisfaction/unmet nee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dict future needs or behavio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rimentation, surveys,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criptive and empirical; can be generalized if appropriate sample</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ntitative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uman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chanical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hysiological observation</a:t>
            </a:r>
            <a:endParaRPr b="0" lang="en-US" sz="32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ntitative Research: Observ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6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fontScale="97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1 To understand how to develop research objectiv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2 To understand how to collect secondary data</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3 To understand qualitative and quantitative research method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4 To understand how to combine qualitative and quantitative research</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5 To understand how to analyze data and report research findings</a:t>
            </a:r>
            <a:endParaRPr b="0" lang="en-US" sz="3200" spc="-1" strike="noStrike">
              <a:solidFill>
                <a:srgbClr val="000000"/>
              </a:solidFill>
              <a:latin typeface="Calibri"/>
            </a:endParaRPr>
          </a:p>
        </p:txBody>
      </p:sp>
      <p:pic>
        <p:nvPicPr>
          <p:cNvPr id="370" name="Picture 5" descr=""/>
          <p:cNvPicPr/>
          <p:nvPr/>
        </p:nvPicPr>
        <p:blipFill>
          <a:blip r:embed="rId1"/>
          <a:stretch/>
        </p:blipFill>
        <p:spPr>
          <a:xfrm>
            <a:off x="8077320" y="28440"/>
            <a:ext cx="976320" cy="8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ausal research</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lative sales of many types of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st marke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b experients</a:t>
            </a: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Quantitative Research: Experimen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ll intercep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lephone interview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il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mail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net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Quantitative Research: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Content Placeholder 3" descr=""/>
          <p:cNvPicPr/>
          <p:nvPr/>
        </p:nvPicPr>
        <p:blipFill>
          <a:blip r:embed="rId1"/>
          <a:stretch/>
        </p:blipFill>
        <p:spPr>
          <a:xfrm>
            <a:off x="1295280" y="1600200"/>
            <a:ext cx="6467760" cy="280980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urvey Advantages and Disadvantag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600200"/>
            <a:ext cx="80773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alidity and reliabil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en-ended and closed-ended ques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15" name="Content Placeholder 5" descr=""/>
          <p:cNvPicPr/>
          <p:nvPr/>
        </p:nvPicPr>
        <p:blipFill>
          <a:blip r:embed="rId1"/>
          <a:stretch/>
        </p:blipFill>
        <p:spPr>
          <a:xfrm>
            <a:off x="1066680" y="3276720"/>
            <a:ext cx="6732720" cy="2514600"/>
          </a:xfrm>
          <a:prstGeom prst="rect">
            <a:avLst/>
          </a:prstGeom>
          <a:ln w="0">
            <a:noFill/>
          </a:ln>
        </p:spPr>
      </p:pic>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ata Coll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adership and Attitudes</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gazine readership surve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titude scal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kert scal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mantic differential scal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intention scal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nk order sc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stomer satisfaction survey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ystery shopp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lai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stomer Satisfa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3" descr=""/>
          <p:cNvPicPr/>
          <p:nvPr/>
        </p:nvPicPr>
        <p:blipFill>
          <a:blip r:embed="rId1"/>
          <a:stretch/>
        </p:blipFill>
        <p:spPr>
          <a:xfrm>
            <a:off x="1371600" y="1766880"/>
            <a:ext cx="6400800" cy="419112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amp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might direct marketers test in experimen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can they use the results?</a:t>
            </a:r>
            <a:endParaRPr b="0" lang="en-US" sz="3200" spc="-1" strike="noStrike">
              <a:solidFill>
                <a:srgbClr val="000000"/>
              </a:solidFill>
              <a:latin typeface="Calibri"/>
            </a:endParaRPr>
          </a:p>
        </p:txBody>
      </p:sp>
      <p:pic>
        <p:nvPicPr>
          <p:cNvPr id="425" name="Picture 2" descr="C:\Users\ashleyc\AppData\Local\Microsoft\Windows\Temporary Internet Files\Content.IE5\LEPVZFBT\MC900441498[1].png"/>
          <p:cNvPicPr/>
          <p:nvPr/>
        </p:nvPicPr>
        <p:blipFill>
          <a:blip r:embed="rId1"/>
          <a:stretch/>
        </p:blipFill>
        <p:spPr>
          <a:xfrm>
            <a:off x="3754440" y="3809880"/>
            <a:ext cx="1981080" cy="198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4</a:t>
            </a:r>
            <a:endParaRPr b="0" lang="en-US" sz="4400" spc="-1" strike="noStrike">
              <a:solidFill>
                <a:srgbClr val="000000"/>
              </a:solidFill>
              <a:latin typeface="Calibri"/>
            </a:endParaRPr>
          </a:p>
        </p:txBody>
      </p:sp>
      <p:sp>
        <p:nvSpPr>
          <p:cNvPr id="427"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4 To understand how to combine qualitative and quantitative resear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981000" y="1600200"/>
            <a:ext cx="7182000" cy="4525920"/>
          </a:xfrm>
          <a:prstGeom prst="rect">
            <a:avLst/>
          </a:prstGeom>
          <a:ln w="0">
            <a:noFill/>
          </a:ln>
        </p:spPr>
      </p:pic>
      <p:sp>
        <p:nvSpPr>
          <p:cNvPr id="429" name="PlaceHolder 1"/>
          <p:cNvSpPr>
            <a:spLocks noGrp="1"/>
          </p:cNvSpPr>
          <p:nvPr>
            <p:ph type="title"/>
          </p:nvPr>
        </p:nvSpPr>
        <p:spPr>
          <a:xfrm>
            <a:off x="380520" y="76320"/>
            <a:ext cx="84582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bining Quantitative and Qualitative De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1676520" y="1066680"/>
            <a:ext cx="5946480" cy="545004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Research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5</a:t>
            </a:r>
            <a:endParaRPr b="0" lang="en-US" sz="4400" spc="-1" strike="noStrike">
              <a:solidFill>
                <a:srgbClr val="000000"/>
              </a:solidFill>
              <a:latin typeface="Calibri"/>
            </a:endParaRPr>
          </a:p>
        </p:txBody>
      </p:sp>
      <p:sp>
        <p:nvSpPr>
          <p:cNvPr id="431"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5 To understand how to analyze data and report research find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ecutive summar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commendation for marketing action (mayb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ull description of methodolog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bles and graphics to support the findings (maybe)</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search Report Compon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5" name="Picture 4" descr="cid:3287383400_2177562"/>
          <p:cNvPicPr/>
          <p:nvPr/>
        </p:nvPicPr>
        <p:blipFill>
          <a:blip r:embed="rId1"/>
          <a:stretch/>
        </p:blipFill>
        <p:spPr>
          <a:xfrm>
            <a:off x="762120" y="685800"/>
            <a:ext cx="8118360" cy="2647800"/>
          </a:xfrm>
          <a:prstGeom prst="rect">
            <a:avLst/>
          </a:prstGeom>
          <a:ln w="0">
            <a:noFill/>
          </a:ln>
        </p:spPr>
      </p:pic>
      <p:sp>
        <p:nvSpPr>
          <p:cNvPr id="43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1</a:t>
            </a:r>
            <a:endParaRPr b="0" lang="en-US" sz="4400" spc="-1" strike="noStrike">
              <a:solidFill>
                <a:srgbClr val="000000"/>
              </a:solidFill>
              <a:latin typeface="Calibri"/>
            </a:endParaRPr>
          </a:p>
        </p:txBody>
      </p:sp>
      <p:sp>
        <p:nvSpPr>
          <p:cNvPr id="374"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1 To understand how to develop research objectiv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371600"/>
            <a:ext cx="8229600" cy="4525920"/>
          </a:xfrm>
          <a:prstGeom prst="rect">
            <a:avLst/>
          </a:prstGeom>
          <a:noFill/>
          <a:ln w="0">
            <a:noFill/>
          </a:ln>
        </p:spPr>
        <p:txBody>
          <a:bodyPr lIns="90000" rIns="90000" tIns="46800" bIns="46800" anchor="t">
            <a:normAutofit fontScale="93000"/>
          </a:bodyPr>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Purpose: New ideas for products or promotional themes </a:t>
            </a:r>
            <a:r>
              <a:rPr b="0" lang="en-US" sz="3000" spc="-1" strike="noStrike">
                <a:solidFill>
                  <a:srgbClr val="000000"/>
                </a:solidFill>
                <a:latin typeface="Wingdings"/>
                <a:ea typeface="Wingdings"/>
              </a:rPr>
              <a:t></a:t>
            </a:r>
            <a:r>
              <a:rPr b="0" lang="en-US" sz="3000" spc="-1" strike="noStrike">
                <a:solidFill>
                  <a:srgbClr val="000000"/>
                </a:solidFill>
                <a:latin typeface="Candara"/>
              </a:rPr>
              <a:t> qualitative research (focus groups, depth interviews)</a:t>
            </a:r>
            <a:endParaRPr b="0" lang="en-US" sz="3000" spc="-1" strike="noStrike">
              <a:solidFill>
                <a:srgbClr val="000000"/>
              </a:solidFill>
              <a:latin typeface="Calibri"/>
            </a:endParaRPr>
          </a:p>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Purpose: Count number of consumers who match demographics or psychographics of target market </a:t>
            </a:r>
            <a:r>
              <a:rPr b="0" lang="en-US" sz="3000" spc="-1" strike="noStrike">
                <a:solidFill>
                  <a:srgbClr val="000000"/>
                </a:solidFill>
                <a:latin typeface="Wingdings"/>
                <a:ea typeface="Wingdings"/>
              </a:rPr>
              <a:t></a:t>
            </a:r>
            <a:r>
              <a:rPr b="0" lang="en-US" sz="3000" spc="-1" strike="noStrike">
                <a:solidFill>
                  <a:srgbClr val="000000"/>
                </a:solidFill>
                <a:latin typeface="Candara"/>
              </a:rPr>
              <a:t> quantitative research (surveys, observational studies)</a:t>
            </a:r>
            <a:endParaRPr b="0" lang="en-US" sz="3000" spc="-1" strike="noStrike">
              <a:solidFill>
                <a:srgbClr val="000000"/>
              </a:solidFill>
              <a:latin typeface="Calibri"/>
            </a:endParaRPr>
          </a:p>
          <a:p>
            <a:pPr marL="318960" indent="-3189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Qualitative research often takes place before quantitative research – helps define objectives</a:t>
            </a:r>
            <a:endParaRPr b="0" lang="en-US" sz="3000" spc="-1" strike="noStrike">
              <a:solidFill>
                <a:srgbClr val="000000"/>
              </a:solidFill>
              <a:latin typeface="Calibri"/>
            </a:endParaRPr>
          </a:p>
        </p:txBody>
      </p:sp>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Qualitative and Quantitative 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7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ssume you are planning to open a new pizza restaurant near your campus.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might be three objectives of a research plan for your new busine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could you gather these dat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6.2</a:t>
            </a:r>
            <a:endParaRPr b="0" lang="en-US" sz="4400" spc="-1" strike="noStrike">
              <a:solidFill>
                <a:srgbClr val="000000"/>
              </a:solidFill>
              <a:latin typeface="Calibri"/>
            </a:endParaRPr>
          </a:p>
        </p:txBody>
      </p:sp>
      <p:sp>
        <p:nvSpPr>
          <p:cNvPr id="380" name="PlaceHolder 2"/>
          <p:cNvSpPr>
            <a:spLocks noGrp="1"/>
          </p:cNvSpPr>
          <p:nvPr>
            <p:ph/>
          </p:nvPr>
        </p:nvSpPr>
        <p:spPr>
          <a:xfrm>
            <a:off x="456840" y="1142640"/>
            <a:ext cx="8520120" cy="52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6.2 To understand how to collect secondary dat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xisting information that was originally gathered for a research purpose other than the present research</a:t>
            </a:r>
            <a:endParaRPr b="0" lang="en-US" sz="3600" spc="-1" strike="noStrike">
              <a:solidFill>
                <a:srgbClr val="000000"/>
              </a:solidFill>
              <a:latin typeface="Calibri"/>
            </a:endParaRPr>
          </a:p>
        </p:txBody>
      </p:sp>
      <p:sp>
        <p:nvSpPr>
          <p:cNvPr id="382"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condary Dat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6840" y="1600200"/>
            <a:ext cx="84582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nal secondary data</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ternal secondary data</a:t>
            </a:r>
            <a:endParaRPr b="0" lang="en-US" sz="32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overnment secondary data</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iodicals </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yndicated market research</a:t>
            </a:r>
            <a:endParaRPr b="0" lang="en-US" sz="2800" spc="-1" strike="noStrike">
              <a:solidFill>
                <a:srgbClr val="000000"/>
              </a:solidFill>
              <a:latin typeface="Calibri"/>
            </a:endParaRPr>
          </a:p>
          <a:p>
            <a:pPr lvl="1" marL="698400" indent="-2685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 panels</a:t>
            </a:r>
            <a:endParaRPr b="0" lang="en-US" sz="2800" spc="-1" strike="noStrike">
              <a:solidFill>
                <a:srgbClr val="000000"/>
              </a:solidFill>
              <a:latin typeface="Calibri"/>
            </a:endParaRPr>
          </a:p>
          <a:p>
            <a:pPr marL="322200" indent="-322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What are the advantages and limitations of secondary data?</a:t>
            </a: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condary Researc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30Z</dcterms:modified>
  <cp:revision>1</cp:revision>
  <dc:subject/>
  <dc:title/>
</cp:coreProperties>
</file>