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27AC-E337-45A8-B5DE-00171483B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EEEA-D239-4220-88E7-14CEB83D4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7A8A-8B7E-4D28-ACC9-A3AD975DF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A93-1E8C-474F-A0A7-CA322846B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3DA6-8347-446D-8A3D-BC790D7E4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0E37-73DB-4DD2-B0A5-41CDA1148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25E9-BDD0-46C9-B179-92E97821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DDFF-4C77-4E01-BFFF-16E2C02CA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817C-34A0-4787-82E5-ED7E1D4C6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4651-0F01-4CEA-86DB-8A08DF577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19D6-AC44-4398-B924-F0F37371B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CF7C-7380-4FAC-9A77-E94250CEC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CF96-4528-4D37-AEB7-50082C367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34F4-80B5-4EC9-9A88-DAD4C9A8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3349-A4D5-4785-96B8-48963A41C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3577-13FC-40A2-95A2-9F1707F71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7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AutoShape 8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-</a:t>
            </a:r>
            <a:fld id="{90EA86C0-73F7-4E83-B480-AE301D590F2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3"/>
          <p:cNvSpPr/>
          <p:nvPr/>
        </p:nvSpPr>
        <p:spPr>
          <a:xfrm>
            <a:off x="11160" y="6583320"/>
            <a:ext cx="16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524400" y="654516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Series and Forecasting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685800" y="3714840"/>
            <a:ext cx="2895480" cy="215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ounded Rectangle 5"/>
          <p:cNvSpPr/>
          <p:nvPr/>
        </p:nvSpPr>
        <p:spPr>
          <a:xfrm>
            <a:off x="914400" y="3429000"/>
            <a:ext cx="41148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4"/>
          <p:cNvSpPr/>
          <p:nvPr/>
        </p:nvSpPr>
        <p:spPr>
          <a:xfrm>
            <a:off x="990720" y="2362320"/>
            <a:ext cx="41148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og Trend Equation – Gulf Shores Importers Examp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1219320" y="1981080"/>
                <a:ext cx="6933960" cy="43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timate the Import for the year 2013 using the linear trend</m:t>
                        </m:r>
                      </m:e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80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357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stitute into the linear equation above the cod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 2013</m:t>
                        </m:r>
                      </m:e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80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35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</m:e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758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find the antilog of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</m:lim>
                            </m:limUpp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7588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9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asonal Variation and Seasonal Index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3530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components of a time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variations are fluctuations that coincide with certain seasons and are repeated year aft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seasonal fluctuations help plan for sufficient goods and materials on hand to meet varying seasonal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seasonal fluctuations over a period of years help in evaluating current 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SONA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mber, usually expressed in percent, that expresses the relative value of a season with respect to the average for the year (10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to-moving-average meth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hod most commonly used to compute the typical season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liminates the trend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cyclical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and irregular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components from the time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1626"/>
          <p:cNvPicPr/>
          <p:nvPr/>
        </p:nvPicPr>
        <p:blipFill>
          <a:blip r:embed="rId1"/>
          <a:stretch/>
        </p:blipFill>
        <p:spPr>
          <a:xfrm>
            <a:off x="4419720" y="2743200"/>
            <a:ext cx="4267080" cy="2406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160" y="1752120"/>
            <a:ext cx="3886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below shows the quarterly sales for Toys International for the years 2001 through 2006.  The sales are reported in millions of dollars. Determine a quarterly seasonal index using the ratio-to-moving-average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33520" y="38088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Seasonal Index – An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914400" y="3048120"/>
            <a:ext cx="3200400" cy="1371600"/>
            <a:chOff x="914400" y="3048120"/>
            <a:chExt cx="3200400" cy="1371600"/>
          </a:xfrm>
        </p:grpSpPr>
        <p:pic>
          <p:nvPicPr>
            <p:cNvPr id="149" name="Picture 90" descr="1628"/>
            <p:cNvPicPr/>
            <p:nvPr/>
          </p:nvPicPr>
          <p:blipFill>
            <a:blip r:embed="rId1"/>
            <a:stretch/>
          </p:blipFill>
          <p:spPr>
            <a:xfrm>
              <a:off x="914400" y="3048120"/>
              <a:ext cx="3200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2" descr=""/>
            <p:cNvPicPr/>
            <p:nvPr/>
          </p:nvPicPr>
          <p:blipFill>
            <a:blip r:embed="rId2"/>
            <a:stretch/>
          </p:blipFill>
          <p:spPr>
            <a:xfrm>
              <a:off x="1004760" y="3336120"/>
              <a:ext cx="271440" cy="10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20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05200" cy="5333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685800" y="4724280"/>
            <a:ext cx="39625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(1) – Organize time series data in column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(2) Compute the 4-quarter moving to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(3) Compute the 4-quarter moving aver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(4) Compute the centered moving averages by getting the average of two 4-quarter moving aver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(5) Compute ratio by dividing actual sales by the centered moving aver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Seasonal Index – An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1"/>
          <a:stretch/>
        </p:blipFill>
        <p:spPr>
          <a:xfrm>
            <a:off x="687240" y="2151000"/>
            <a:ext cx="3675240" cy="1847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7"/>
          <p:cNvGrpSpPr/>
          <p:nvPr/>
        </p:nvGrpSpPr>
        <p:grpSpPr>
          <a:xfrm>
            <a:off x="763560" y="4208400"/>
            <a:ext cx="3505320" cy="914400"/>
            <a:chOff x="763560" y="4208400"/>
            <a:chExt cx="3505320" cy="914400"/>
          </a:xfrm>
        </p:grpSpPr>
        <p:pic>
          <p:nvPicPr>
            <p:cNvPr id="156" name="Picture 11" descr=""/>
            <p:cNvPicPr/>
            <p:nvPr/>
          </p:nvPicPr>
          <p:blipFill>
            <a:blip r:embed="rId2"/>
            <a:stretch/>
          </p:blipFill>
          <p:spPr>
            <a:xfrm>
              <a:off x="763560" y="4208400"/>
              <a:ext cx="350532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2" descr=""/>
            <p:cNvPicPr/>
            <p:nvPr/>
          </p:nvPicPr>
          <p:blipFill>
            <a:blip r:embed="rId3"/>
            <a:stretch/>
          </p:blipFill>
          <p:spPr>
            <a:xfrm>
              <a:off x="798840" y="4778640"/>
              <a:ext cx="3470040" cy="34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Picture 2" descr=""/>
          <p:cNvPicPr/>
          <p:nvPr/>
        </p:nvPicPr>
        <p:blipFill>
          <a:blip r:embed="rId4"/>
          <a:stretch/>
        </p:blipFill>
        <p:spPr>
          <a:xfrm>
            <a:off x="4573440" y="3751200"/>
            <a:ext cx="4265640" cy="211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6"/>
          <p:cNvSpPr/>
          <p:nvPr/>
        </p:nvSpPr>
        <p:spPr>
          <a:xfrm>
            <a:off x="609480" y="1828800"/>
            <a:ext cx="39625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ctual versus Deseasonalized Sales for Toys Internationa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asonalized Sales = Sales / Seasona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419360" cy="3940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2"/>
          <a:srcRect l="42409" t="2192" r="0" b="0"/>
          <a:stretch/>
        </p:blipFill>
        <p:spPr>
          <a:xfrm>
            <a:off x="5032440" y="2819520"/>
            <a:ext cx="4111560" cy="286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3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843440" cy="3520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asonal Index – An Example Using Exc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e deseasonalized linear equation for Toys International sales as </a:t>
            </a:r>
            <a:r>
              <a:rPr b="0" i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Ŷ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=8.109 + 0.0899</a:t>
            </a:r>
            <a:r>
              <a:rPr b="0" i="1" lang="en-US" sz="1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generate the seasonally adjusted forecast  for each of the quarters of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51"/>
          <p:cNvGrpSpPr/>
          <p:nvPr/>
        </p:nvGrpSpPr>
        <p:grpSpPr>
          <a:xfrm>
            <a:off x="1375560" y="5562720"/>
            <a:ext cx="5420880" cy="1295640"/>
            <a:chOff x="1375560" y="5562720"/>
            <a:chExt cx="5420880" cy="1295640"/>
          </a:xfrm>
        </p:grpSpPr>
        <p:sp>
          <p:nvSpPr>
            <p:cNvPr id="168" name="Oval 85"/>
            <p:cNvSpPr/>
            <p:nvPr/>
          </p:nvSpPr>
          <p:spPr>
            <a:xfrm>
              <a:off x="3429000" y="5594400"/>
              <a:ext cx="10666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>
              <a:off x="1375560" y="6581880"/>
              <a:ext cx="166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"/>
                </a:rPr>
                <a:t>Ŷ 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= 8.10 + 0.0899(28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7"/>
            <p:cNvSpPr/>
            <p:nvPr/>
          </p:nvSpPr>
          <p:spPr>
            <a:xfrm>
              <a:off x="4795920" y="632484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"/>
                </a:rPr>
                <a:t>Ŷ X SI 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= 10.62648 X 1.5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8"/>
            <p:cNvSpPr/>
            <p:nvPr/>
          </p:nvSpPr>
          <p:spPr>
            <a:xfrm>
              <a:off x="6019920" y="5562720"/>
              <a:ext cx="7617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9"/>
            <p:cNvSpPr/>
            <p:nvPr/>
          </p:nvSpPr>
          <p:spPr>
            <a:xfrm flipV="1">
              <a:off x="2666880" y="5974920"/>
              <a:ext cx="99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0"/>
            <p:cNvSpPr/>
            <p:nvPr/>
          </p:nvSpPr>
          <p:spPr>
            <a:xfrm flipV="1">
              <a:off x="5639040" y="594360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components of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ving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tren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end equ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linear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trend equation to forecast future time periods and to develop seasonally adjusted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nd interpret a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asonal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asonalize data using a seasonal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or auto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ounded Rectangle 5"/>
          <p:cNvSpPr/>
          <p:nvPr/>
        </p:nvSpPr>
        <p:spPr>
          <a:xfrm>
            <a:off x="457200" y="1752480"/>
            <a:ext cx="33526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3520" y="1828800"/>
            <a:ext cx="3276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collection of data recorded over a period of time (weekly, monthly, quarterly), an analysis of history, that can be used by management to make current decisions and plans based on long-term forecasting. It usually assumes past pattern to continue into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 of a Time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lar Trend – the smooth long term direction of a time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al Variation – the rise and fall of a time series over periods longer than on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Variation – Patterns of change in a time series within a year which tends to repeat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gular Variation – classified i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pisodic – unpredictable but identif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idual – also called chance fluctuation and unidentif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me Series and its Component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271152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2990880" cy="1380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rcRect l="14623" t="0" r="6411" b="0"/>
          <a:stretch/>
        </p:blipFill>
        <p:spPr>
          <a:xfrm>
            <a:off x="5181480" y="5029200"/>
            <a:ext cx="2362320" cy="1486080"/>
          </a:xfrm>
          <a:prstGeom prst="rect">
            <a:avLst/>
          </a:prstGeom>
          <a:ln w="0">
            <a:noFill/>
          </a:ln>
        </p:spPr>
      </p:pic>
      <p:cxnSp>
        <p:nvCxnSpPr>
          <p:cNvPr id="108" name="Straight Arrow Connector 11"/>
          <p:cNvCxnSpPr/>
          <p:nvPr/>
        </p:nvCxnSpPr>
        <p:spPr>
          <a:xfrm flipV="1">
            <a:off x="3732840" y="2590200"/>
            <a:ext cx="11437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13"/>
          <p:cNvCxnSpPr/>
          <p:nvPr/>
        </p:nvCxnSpPr>
        <p:spPr>
          <a:xfrm flipV="1">
            <a:off x="3733560" y="4195440"/>
            <a:ext cx="114372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5"/>
          <p:cNvCxnSpPr/>
          <p:nvPr/>
        </p:nvCxnSpPr>
        <p:spPr>
          <a:xfrm>
            <a:off x="3505320" y="5029200"/>
            <a:ext cx="1676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Moving Average Metho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76932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in smoothing time series to see its tr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method used in measuring seasonal flu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when time series follows fairly linear trend that have definite rhythmic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4267440" cy="226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857400" cy="272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Weighted Moving Avera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2895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-13716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moving average assign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ach observation in aver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moving average assign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igh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ach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cent observation receives the most weight, and the weight decreases for older data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ither case, the sum of the weight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dar Fair operates seven amusement parks and five separately gated water parks. Its combined attendance (in thousands) for the last 12 years is given in the following table. A partner asks you to study the trend in attendance. Compute a three-year moving average and a three-year weighted moving average with weights of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.2, 0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successive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62120" y="3200400"/>
            <a:ext cx="5790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4513320" cy="265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5518440" cy="281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5"/>
          <p:cNvSpPr/>
          <p:nvPr/>
        </p:nvSpPr>
        <p:spPr>
          <a:xfrm>
            <a:off x="533520" y="2133720"/>
            <a:ext cx="304776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Linear Tren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ong term trend of many business series often approximates a straight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762120" y="2133720"/>
                <a:ext cx="3276360" cy="23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Trend Equation:   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ead </m:t>
                        </m:r>
                        <m:r>
                          <m:rPr>
                            <m:lit/>
                            <m:nor/>
                          </m:rPr>
                          <m:t xml:space="preserve">Y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is the projected value of the </m:t>
                            </m:r>
                          </m:e>
                        </m:acc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variable for a selected value of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he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-intercep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stimated value of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when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</m:t>
                            </m:r>
                            <m:r>
                              <m:t xml:space="preserve">b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he slope of the lin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verage change in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for each unit change in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</m:t>
                            </m:r>
                          </m:e>
                          <m:lim/>
                        </m:limUp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ny value of tim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d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at is selected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4952880" cy="2011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457200" y="556272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least squares method in Simple Linear Regression (Chapter 13) to find the best linear relationship between 2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time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and use it as the independent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le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 1 for the first year, 2 for the second, and so on (if data are ann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6960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es of Jensen Foods, a small grocery chain located in southwest Texas, since 2005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33520" y="609480"/>
            <a:ext cx="7924680" cy="8384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inear Trend – Using the Least Squares Method: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2286000"/>
          <a:ext cx="1905120" cy="2016000"/>
        </p:xfrm>
        <a:graphic>
          <a:graphicData uri="http://schemas.openxmlformats.org/drawingml/2006/table">
            <a:tbl>
              <a:tblPr/>
              <a:tblGrid>
                <a:gridCol w="635040"/>
                <a:gridCol w="431640"/>
                <a:gridCol w="83844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 mil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39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841720" cy="412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Nonlinear Trend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35053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ar trend equation is used when the data are increasing (or decreasing) b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qu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linear trend equation is used when the data are increasing (or decreasing) b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creas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ount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ata increase (or decrease) by equa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cents or propor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lot will show curvilinear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graph is origina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on bottom right is the log base 10 of the original data which now is line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(Excel function:  Y = log(x) or log(x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ata Analysis in Excel, generate the linear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output shown i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53708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rcRect l="40811" t="0" r="25253" b="14058"/>
          <a:stretch/>
        </p:blipFill>
        <p:spPr>
          <a:xfrm>
            <a:off x="6324480" y="2286000"/>
            <a:ext cx="1600200" cy="2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3" descr=""/>
          <p:cNvPicPr/>
          <p:nvPr/>
        </p:nvPicPr>
        <p:blipFill>
          <a:blip r:embed="rId3"/>
          <a:stretch/>
        </p:blipFill>
        <p:spPr>
          <a:xfrm>
            <a:off x="4495680" y="4103640"/>
            <a:ext cx="4508640" cy="257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6"/>
          <p:cNvSpPr/>
          <p:nvPr/>
        </p:nvSpPr>
        <p:spPr>
          <a:xfrm>
            <a:off x="1219320" y="2286000"/>
            <a:ext cx="3352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Log Trend Equation – Gulf Shores Importers Examp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676520" y="1905120"/>
                <a:ext cx="243828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Linear Equation is:</m:t>
                        </m:r>
                      </m:e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80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357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8" name="Picture 53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662292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4:05:01Z</dcterms:created>
  <dc:creator>Rene Leo E. Ordonez</dc:creator>
  <dc:description/>
  <dc:language>en-US</dc:language>
  <cp:lastModifiedBy>User</cp:lastModifiedBy>
  <dcterms:modified xsi:type="dcterms:W3CDTF">2013-09-29T16:45:03Z</dcterms:modified>
  <cp:revision>130</cp:revision>
  <dc:subject/>
  <dc:title>Time Series and Forecasting</dc:title>
</cp:coreProperties>
</file>