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4220-B92B-472F-A87B-8885D7902D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8738-F969-4929-9159-8EF73D412DD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C0C-0F9F-40FD-9427-6CCE75D3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3F8-B036-4DB0-ADC4-9034848E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039-B66C-49AC-8518-8C59403B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C8B-8848-4084-8BB4-DB35EE06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9F75-E912-47DC-8403-AF9A963D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4A30-043E-4661-A0BD-68D5487C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F1B9-0CF7-4A84-B507-0C2BE1B5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A769-748E-41ED-ADDE-6D9EF786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C9B7-ABF1-44A5-8CB3-D4CD219A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3B31-7DE9-48FC-BCC1-F7EB8B42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8575-8A9B-4940-A6DB-90AC3054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1AB-667C-4E9D-A122-C439DAD3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95CA-3177-430D-95B0-42C3B4F6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9D02-6B48-44D3-ADAD-8DF84F8C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C61F-D0D5-4DB1-A602-9B493768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BF0E-4AC9-4998-A579-AF9005DE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7509-70A6-431C-BEB8-27D9696D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94B-7127-4BBD-85C1-640910AD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2D3-4784-4171-927A-7FD3B255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997-3298-405C-A664-0C65FAD0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220-65BB-4DF0-A32C-ADF4A727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D29-56D5-47AB-9F89-CE043DC8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7B6-0ABB-489D-B0C8-C7D5AB4B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4FC-6A2B-4F25-B59F-913FD9D5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B450-C898-4628-8A75-DBD4AF04F04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. Mohammed Gulam Aham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1665-833E-49E8-99FD-C3FAF55E47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46F6-68C1-4CD0-9B7A-9CBAE601D3AA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. Mohammed Gulam Aham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CD2E-B365-4BEF-AEFA-A43F7ACD3D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Discrete Mathematic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gic and proo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F7EB-15C7-4A11-852C-DE4F65CF219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4E6A-4002-4A9D-95BA-16793236F1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ompound statem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, q, r be simple 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form other compound statements, such 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any others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B222-8187-407F-83A8-017BBFC33AB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2645-36FA-4F92-8862-F10FF23511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truth table of (p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676520"/>
          <a:ext cx="5562720" cy="426708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220968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^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Date Placeholder 5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5261-3BC8-4FA1-9E8C-81DF057BBE7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Slide Number Placeholder 5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9CA4-81AF-444F-9BBE-6EDC3841C5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2  Conditional propositions and logical equivale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3911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osition is of the for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 then q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ymbols: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" John is a programm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= " Mary is a lawyer 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 = “If John is a programmer then Mary is a lawy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0C1A-2F34-4D96-9893-B87D93ED912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66AE-1EA1-40FC-8443-7FF0295207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of 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true when both p and q are tru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when p is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352680" y="2057400"/>
          <a:ext cx="3124440" cy="2857680"/>
        </p:xfrm>
        <a:graphic>
          <a:graphicData uri="http://schemas.openxmlformats.org/drawingml/2006/table">
            <a:tbl>
              <a:tblPr/>
              <a:tblGrid>
                <a:gridCol w="820800"/>
                <a:gridCol w="744480"/>
                <a:gridCol w="15591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A2BD-7728-45D2-8E94-72BFB735883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B2E6-A646-48A6-8398-65DAD1B8E5F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and 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4674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onditional proposition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tece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equ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"p then q" is considered logically the same as "p only if q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B419-1AEB-40BE-834D-5287E2DC15E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98FE-FD2D-43B3-AB3F-507F96F4182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ary and suffici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543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cess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ition is expressed by the conclu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ition is expressed by the hypothe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is a programm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is a lawy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condition: “Mary is a lawy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condition: “John is a programm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6001-385A-471F-ACA9-0F01EC9798F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4F90-854B-431D-BDA7-4239505B5E4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equivale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ropositions are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ly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quival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ir truth tables are identic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~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ly equival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895480"/>
          <a:ext cx="6096240" cy="24735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9AE6-3912-4E9E-A5B5-4EBFB515DBF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D085-8E4C-4DE2-B231-E43AF20A3C8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wo proposi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ically equival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362320" y="2362320"/>
          <a:ext cx="5029200" cy="2286000"/>
        </p:xfrm>
        <a:graphic>
          <a:graphicData uri="http://schemas.openxmlformats.org/drawingml/2006/table">
            <a:tbl>
              <a:tblPr/>
              <a:tblGrid>
                <a:gridCol w="1160280"/>
                <a:gridCol w="1238400"/>
                <a:gridCol w="1315800"/>
                <a:gridCol w="1314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3491-7F78-4743-89A4-6C50656D867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6ACB-496F-49B5-BE3F-7169AFC6C5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positiv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a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proposition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 ~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~p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logically equival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371600" y="2819520"/>
          <a:ext cx="6019920" cy="2288880"/>
        </p:xfrm>
        <a:graphic>
          <a:graphicData uri="http://schemas.openxmlformats.org/drawingml/2006/table">
            <a:tbl>
              <a:tblPr/>
              <a:tblGrid>
                <a:gridCol w="1030320"/>
                <a:gridCol w="1028520"/>
                <a:gridCol w="1981440"/>
                <a:gridCol w="197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q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~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2C12-DFF6-4406-B703-B9C6BE8A91F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3631-4467-47A3-9189-3A8250F225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impl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uble im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 if and only if q” is defined in symbols as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logically equivalent to (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828800" y="2743200"/>
          <a:ext cx="6324480" cy="236232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341720"/>
                <a:gridCol w="28191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) ^ (q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C1A9-B831-4045-8D7B-222517678CC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8575-D28F-4D29-B6B8-FA1026AE28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800" y="2514240"/>
            <a:ext cx="68580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= the study of correct reaso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log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thematic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e theor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uter scienc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e that programs do what they are supposed to 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7437-BEBA-406F-B5AB-FA4D63C3E53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A8E3-1BDC-45EE-91F9-787199D931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ut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osit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ut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s truth table contains only true values for every 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v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438280" y="3429000"/>
          <a:ext cx="4267440" cy="2819520"/>
        </p:xfrm>
        <a:graphic>
          <a:graphicData uri="http://schemas.openxmlformats.org/drawingml/2006/table">
            <a:tbl>
              <a:tblPr/>
              <a:tblGrid>
                <a:gridCol w="1117800"/>
                <a:gridCol w="1092240"/>
                <a:gridCol w="205740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 v q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5359-005C-49BE-B1AB-131ADB61A1A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5C35-A54B-47FC-8120-5C53BBAC1A2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di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osit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ut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s truth table contains only false values for every 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 ^ ~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343400" y="3352680"/>
          <a:ext cx="2514600" cy="1676520"/>
        </p:xfrm>
        <a:graphic>
          <a:graphicData uri="http://schemas.openxmlformats.org/drawingml/2006/table">
            <a:tbl>
              <a:tblPr/>
              <a:tblGrid>
                <a:gridCol w="876240"/>
                <a:gridCol w="16383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^ (~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Date Placeholder 19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6FD4-7888-49BD-A7C2-E9B259B42EE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Slide Number Placeholder 2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3A56-A146-4953-B72B-597CF0D91C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Morgan’s laws for 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airs of propositions are logically equivalen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(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) and (~p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q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(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) and (~p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~q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8691-46D9-4A6C-92D3-603A15D8FC2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79B3-D3CB-4179-B2B0-B487A005958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3 Quantifi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ositional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x) is a statement involving a variable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: 2x is an even inte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is an element of a set 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x is an element of the set of inte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317C-0E17-466A-A5BE-02864D10156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8E41-9BC5-4402-9B26-D0541A35B3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ain of a propositional fun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69343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ropositional fun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): “2x is an even integer”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D of P(x) must be defined,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D = {integers}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is the set where the x's come fro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5341-FB65-4F96-AFCF-54D0DF35E6C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D91E-4158-448D-B1DF-1BD9D48C070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or som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39152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tatements in mathematics and computer science use terms such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ngle T, the sum of the angles of T is 180 degre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ger n, n is less than p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me number 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517B-82FA-4C39-9BBC-CE106F5D4AD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CF33-3650-4082-AFEF-C5A321FE62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quantif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an write P(x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in a domain 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bol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versal quanti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A4F9-2A59-4C56-A953-5CC206F56C4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06D7-70DC-4B83-9085-5F2858D930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 of as propositional fun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4678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if P(x) is true for every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if P(x) is not true for some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Let P(n) be the propositional function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 is an odd integ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= {all integers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n) is true only when n is an odd integer, false if n is an even integ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605E-AD8A-4985-A58D-0F3EB4B1B7C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5D0E-E59F-4A8B-B7E4-8CA2FA0DFD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stential quantif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P(x) is true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ex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ment x in the domain D for which P(x) 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.  In symbols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mbo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istential quantifi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1B6E-70FF-4306-A0ED-15A45216396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C773-42CF-4B23-B7E8-13AD805936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versal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false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such that P(x) is fal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x that makes P(x) false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unter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(x) = "every x is a prime number", for every integer x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f x = 4 (an integer) this x is not a primer number.  Then 4 is a counterexample to P(x) being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1650-FFFE-4EB9-ABF1-86FA84AAB4C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A82A-5A63-4805-907F-088B50E965D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.1   Proposi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atement or sentence that can be determined to be either true or fal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is a programmer" is a pro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sh I were wise” is not a pro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DCF6-2563-46FC-9212-6B1846DADE8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8A42-EE08-41DB-B9A6-D2F03DE0E33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ed De Morgan’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ws for 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(x) is a propositional function, then each pair of propositions in a) and b) below have the same truth val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~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P(x))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~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t is not true that for every x, P(x) holds" is equivalent to "There exists an x for which P(x) is not true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~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P(x))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~P(x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t is not true that there exists an x for which P(x) is true" is equivalent to "For all x, P(x) is not true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C145-1C7C-465B-8409-7A2FB4A9972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C356-7AEE-4695-BA9E-F31A5E3C659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positional 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prove the universally quantified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t enough to show P(x) true for some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show P(x) is tru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prove the universally quantified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nough to exhib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 for which P(x) is 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x is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state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P(x) is 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43A1-797B-447F-B056-00C68989190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6588-F25F-4A89-979B-DC654D84A6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4   Proof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8960" y="25142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thematical syst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fined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7B40-3D8B-4168-8958-D5C2B21AE52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0ACA-D15E-4395-B609-ED9EC02366E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fined ter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defined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basic building blocks of a mathematical system.  These are words that are accepted as starting concepts of a mathematical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 Euclidean geometry we have undefined term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19360" y="2133360"/>
            <a:ext cx="38862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EAEA-DB87-4D66-AA15-5E17D0E1DF8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AAD0-6A4E-4C75-AAE4-0D5E39B29DC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6960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osition constructed from undefined terms and previously accepted concepts in order to create a new concep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.  In Euclidean geometry the following are defini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riangl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gr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ir vertices can be paired so that the corresponding sides are equal and so are the corresponding ang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angl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lement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sum of their measures is 180 degre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8A2C-D5F5-4167-83E7-24D374F798B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5A5C-731E-4199-8EF6-1EC19D7FD0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xi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osition accepted as true without proof within the mathematical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examples of axioms in mathemat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 Euclidean geometry the following are axi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wo distinct points, there is exactly one line that contains th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line and a point not on the line, there is exactly one line through the point which is parallel to the l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DB8D-A3C7-4C3A-BE15-FA1C5AD9DAF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1772-D747-4AEC-9D53-C978BAE5F71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orem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7724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osition of the form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which must be shown to be true by a sequence of logical steps that assume that p is true, and use definitions, axioms and previously proven theor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DD6C-D0E2-448D-830D-5CCF2E33908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B92C-5E3B-4310-92BB-DBA0CD4DE9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mmas and corollar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1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m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mall theorem which is used to prove a bigger theor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roll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heorem that can be proven to be a logical consequence of another theor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from Euclidean geometry:  "If the three sides of a triangle have equal length, then its angles also have equal measure.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9BA4-EF89-44FF-A008-8B49ECF523E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2C6D-3B7F-4C73-BF57-34532E36D1D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roof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ogical argument that consists of a series of steps using propositions in such a way that the truth of the theorem is establish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of: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rect method of attack that assumes the truth of proposition p, axioms and proven theorems so that the truth of proposition q is obtain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8A52-BB3B-4C70-B299-FBB53005230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BA67-CCE1-431A-ABE5-7F8800298E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rect proof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 of pro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y contradi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theorem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consists of the following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Assume p is true and q is 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how that ~p is also tr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n we have that p ^ (~p) is true.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But this is impossible, since the statement p ^ (~p) is always false. There is a contradiction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o, q cannot be false and therefore it is tr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: show th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a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~q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p) is tru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(~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p) is logically equivalent to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, then the theorem is prov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3920-5A8E-44E8-BBBD-10E3BAF987F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3312-846B-442A-A2A7-C8ADBF885E3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 and q are propositions, ne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ositions can be formed 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nectiv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onnective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ction AN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ve disjunction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 disjunction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~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im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26A3-9DFD-42EB-8651-00857B092B8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0A7A-19CE-458D-95E7-1CBEC2C8EB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 argum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ductive reas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process of reaching a conclusion q from a sequence of proposition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ition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mi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ition q that is logically obtained through the proces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lu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6598-67D5-4A02-AC64-7181BB92D79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33F6-3E09-4696-A1B8-2D4329566A0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(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0384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w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detach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us pon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76560" y="2514240"/>
            <a:ext cx="38098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Modus tol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~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157C-A651-42E0-86F6-38F6B4ADAE8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BF81-8412-430F-9304-BBDD3B18C21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ule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d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le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simpl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^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43040" y="1676160"/>
            <a:ext cx="4343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j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p ^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02BE-1ACD-4B6F-8332-90CCE060742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1332-CC53-42AD-97CA-DF9DF1CA1B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(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3716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Ru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tical syllog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Ru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junctive syllog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517D-8B04-43AC-910D-E48B3430808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7C54-2649-42BA-8629-AA3B93EC32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fied statem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44956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Universal insta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P(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Universal gener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d) for any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 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43040" y="2514240"/>
            <a:ext cx="441972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Existential insta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,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P(d) for some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Existential gener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d) for some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, 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34F3-BAC9-4532-B659-E62C4F65750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45D8-9602-4F19-B2EA-641D89E89E2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5   Resolution proof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J. A. Robinson (196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mpound statement with terms separated by “or”, and each term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ation of a single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r) is a cl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 ^ 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s) is not a cla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and conclusion are written as cla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ru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A280-838A-4F1A-B74D-5AFB97A92E1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9621-BEE6-4F67-A0AF-0EE487DECD8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6   Mathematical in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proving statements of the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  S(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N is the set of positive integers or natural number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an infinite subset of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(n) is a propositional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ABE7-080A-4283-AA11-244C1D78143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BB41-9BDC-496C-BA3F-1696AB1FAE0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Induc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 for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want to show that for each positive integer n the statement S(n) is either true or false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erify that S(1) i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et n be an arbitrary positive integer.  Let i be a positive integer such that i &lt; 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how that S(i) true implies that S(i+1) is true, i.e. show S(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(i+1)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n conclude that S(n) is true for all positive integers 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4232-9EDE-477F-BD61-F201693C0A7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C8EA-DAA8-4558-9F6E-2408CE90B8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induction: termin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step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that S(1) is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step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(i) is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 S(i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(i+1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S(n) is true for 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integers 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6A4D-5562-4216-AEC2-60145EA6548C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A732-FB5F-4919-9FC1-8DDC3EC21B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of conjun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9072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th values of compound propositions can be describ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th tab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th tab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j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^ q is true only when both p and q are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8120" y="3276720"/>
          <a:ext cx="3276360" cy="2286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^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Date Placeholder 3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8C2A-A5A3-478F-BD45-A9D3BB436B7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Slide Number Placeholder 3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84F4-0E87-4F8A-AC2E-2E6BF3060F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520" y="2437920"/>
            <a:ext cx="716292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 = “Tigers are wild animal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q = “Chicago is the capital of Illinoi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= "Tigers are wild animals and Chicago is the capital of Illinois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false.  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F8DA-0E94-4F8F-B800-4A77D4644E7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FCCC-8FA5-43EF-A32D-5F2E0D18FA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of disjun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th table of (inclusive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j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false only when both p and q are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= "John is a programmer", q = "Mary is a lawy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v q = "John is a programmer or Mary is a lawyer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343400" y="2209680"/>
          <a:ext cx="2819520" cy="2286000"/>
        </p:xfrm>
        <a:graphic>
          <a:graphicData uri="http://schemas.openxmlformats.org/drawingml/2006/table">
            <a:tbl>
              <a:tblPr/>
              <a:tblGrid>
                <a:gridCol w="687240"/>
                <a:gridCol w="825480"/>
                <a:gridCol w="130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v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A942-DB33-405E-8493-CEBFDAF3C9C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1C65-FB66-48E9-8621-AC9465E9404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lusive disjun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p or q” (but not both), in  symbols 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true only when p is true and q is false, or p is false and q is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= "John is programmer, q = "Mary is a lawy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 = "Either John is a programmer or Mary is a lawy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05520" y="2209680"/>
          <a:ext cx="2743200" cy="2286000"/>
        </p:xfrm>
        <a:graphic>
          <a:graphicData uri="http://schemas.openxmlformats.org/drawingml/2006/table">
            <a:tbl>
              <a:tblPr/>
              <a:tblGrid>
                <a:gridCol w="668160"/>
                <a:gridCol w="736560"/>
                <a:gridCol w="133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4C57-211B-413A-8CD1-EA9DCED3BAA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44A4-7521-4BA1-9FE2-BDA7AE2F72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 of p: in symbols ~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 is false when p is true, ~p is true when p is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= "John is a programm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p = "It is not true that John is a programm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419720" y="2286000"/>
          <a:ext cx="1752480" cy="1676520"/>
        </p:xfrm>
        <a:graphic>
          <a:graphicData uri="http://schemas.openxmlformats.org/drawingml/2006/table">
            <a:tbl>
              <a:tblPr/>
              <a:tblGrid>
                <a:gridCol w="880920"/>
                <a:gridCol w="8715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Date Placeholder 19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3667-3CBF-461B-8B2A-15F79DE29A5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lide Number Placeholder 2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AE33-6AD9-405A-8D9B-88BAC8FADDF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0:17:07Z</dcterms:created>
  <dc:creator>user</dc:creator>
  <dc:description/>
  <dc:language>en-US</dc:language>
  <cp:lastModifiedBy>OUAHID</cp:lastModifiedBy>
  <dcterms:modified xsi:type="dcterms:W3CDTF">2013-06-11T04:43:00Z</dcterms:modified>
  <cp:revision>138</cp:revision>
  <dc:subject/>
  <dc:title>R. Johnsonbaugh, Discrete Mathematics 5th edition, 2001</dc:title>
</cp:coreProperties>
</file>