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434D-856F-40B8-B982-A404D59CFD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FE42-1BDC-43B3-8B51-0F7D44D4B49F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B910-A080-4B72-A944-7A69CEFE3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6CCE-7DC2-4467-BC44-CB1D2E7A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CE35-45D1-459D-A8E8-89877B540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9D0F-E3A1-4A41-984F-5446BB94F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9F4E-9A4D-499C-B7FD-FAB5969FE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C654-795F-4C74-B09A-528FB59C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4B7E-8C92-4589-860B-B78A3D90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273F-3903-40BA-86C0-E5665D51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2793-DC91-449E-AE22-98516D36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61CA-27A8-4B13-B104-27668947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9CE0-1F50-417A-B95B-4A9F08CE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D423-E99D-4C4A-8247-8F121E58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100B0-A854-43C8-902F-E7DFFA82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E0E3-5242-47FD-982D-39CE6536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1601-78AF-4DBF-97BC-05023AC3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83842-A592-4D2E-9E00-AED0017FD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C158-8DA9-429D-A87B-97BBD4C25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7B79-7606-407E-96D0-FE61D0EE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3CE8-CD5F-4E80-90E8-A7B4E906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AB12-7140-4C67-A4BC-1B24868E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0205-B8C6-4CF4-8D42-9B62419D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53E3-C7C6-4EF4-BA50-25C53EA0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37D8-8374-49BC-A9AF-68C754DD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AF73-090D-4099-AE9C-A07D0831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391E-C685-4232-9AEC-1A04B058E8CE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f. Mohammed Gulam Aham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D0B9-2F00-4902-B836-01353D90D5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A24F-B421-4402-8117-C3DD31770B5C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f. Mohammed Gulam Aham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2EE5-88DA-439A-9F8B-B9651F89F9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Discrete Mathematics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038480"/>
            <a:ext cx="64008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apter 1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ogic and proof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2DD3-4E53-4C64-B8D7-C6526ED117D9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007E-CAEC-446A-834B-657BD5C45CC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compound statemen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467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p, q, r be simple stat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form other compound statements, such 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^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^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~p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~q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^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~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many others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8D22-E802-4235-A15A-E31DB24AE6DA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BDEC-0BD9-42EF-9396-2123086C2D8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truth table of (p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)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^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523880" y="1676520"/>
          <a:ext cx="5562720" cy="4267080"/>
        </p:xfrm>
        <a:graphic>
          <a:graphicData uri="http://schemas.openxmlformats.org/drawingml/2006/table">
            <a:tbl>
              <a:tblPr/>
              <a:tblGrid>
                <a:gridCol w="1067040"/>
                <a:gridCol w="1143000"/>
                <a:gridCol w="1143000"/>
                <a:gridCol w="2209680"/>
              </a:tblGrid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)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^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Date Placeholder 5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AF0F-6EDE-44E1-87B5-2E6FF2D3438A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Slide Number Placeholder 5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9A9F-7917-4AB3-A64F-3397264889F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2  Conditional propositions and logical equivalenc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360" y="2057040"/>
            <a:ext cx="739116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di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position is of the form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 then q”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ymbols: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" John is a programmer"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 = " Mary is a lawyer "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 = “If John is a programmer then Mary is a lawyer"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8D6D-A604-4EDE-B32A-10D23CAD96A5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CF70-6578-475E-B0FE-5470FDD1030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th table of p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2362320"/>
            <a:ext cx="762012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ctr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 is true when both p and q are tru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when p is fa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352680" y="2057400"/>
          <a:ext cx="3124440" cy="2857680"/>
        </p:xfrm>
        <a:graphic>
          <a:graphicData uri="http://schemas.openxmlformats.org/drawingml/2006/table">
            <a:tbl>
              <a:tblPr/>
              <a:tblGrid>
                <a:gridCol w="820800"/>
                <a:gridCol w="744480"/>
                <a:gridCol w="15591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Date Placeholder 3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FEBF-81DF-4763-A609-337AACBA6634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Slide Number Placeholder 3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3598-B85A-4712-949C-7D7F9E40131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and conclus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8960" y="2286000"/>
            <a:ext cx="746748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conditional proposition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tece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sequ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"p then q" is considered logically the same as "p only if q"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ECC6-69A7-4BFE-857B-8D3F3DE33495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7DA8-261D-4486-943E-88DD2C43491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cessary and sufficien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2640" y="1218960"/>
            <a:ext cx="75438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cess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dition is expressed by the conclu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ffici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dition is expressed by the hypothesi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is a programm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y is a lawyer"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essary condition: “Mary is a lawyer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fficient condition: “John is a programmer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E9B1-3ECA-453F-99B0-35DF8CC62728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0C72-9581-4F84-92FB-6C84D5F9E5D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al equivalenc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propositions are said to b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gically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quival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their truth tables are identic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~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gically equival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3880" y="2895480"/>
          <a:ext cx="6096240" cy="247356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p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Date Placeholder 3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CCC0-991D-432F-A629-61E249967287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Slide Number Placeholder 3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C34D-F4BA-4FB1-855C-A9D4E7E6639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s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010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ver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 is q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two proposi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gically equival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362320" y="2362320"/>
          <a:ext cx="5029200" cy="2286000"/>
        </p:xfrm>
        <a:graphic>
          <a:graphicData uri="http://schemas.openxmlformats.org/drawingml/2006/table">
            <a:tbl>
              <a:tblPr/>
              <a:tblGrid>
                <a:gridCol w="1160280"/>
                <a:gridCol w="1238400"/>
                <a:gridCol w="1315800"/>
                <a:gridCol w="13147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Date Placeholder 3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68B7-84EA-4F8F-BB29-00E5B4EB206E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Slide Number Placeholder 3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17FB-2C6A-48C3-A1C0-793CBE031C9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apositiv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traposi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proposition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 is  ~q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~p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logically equival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371600" y="2819520"/>
          <a:ext cx="6019920" cy="2288880"/>
        </p:xfrm>
        <a:graphic>
          <a:graphicData uri="http://schemas.openxmlformats.org/drawingml/2006/table">
            <a:tbl>
              <a:tblPr/>
              <a:tblGrid>
                <a:gridCol w="1030320"/>
                <a:gridCol w="1028520"/>
                <a:gridCol w="1981440"/>
                <a:gridCol w="1979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q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~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Date Placeholder 3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8BE9-608E-49D1-B4DA-093C93FF71E9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Slide Number Placeholder 3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D478-78BE-42B8-A136-D565C8DAABD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uble implic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uble impl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p if and only if q” is defined in symbols as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 is logically equivalent to (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^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q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828800" y="2743200"/>
          <a:ext cx="6324480" cy="2362320"/>
        </p:xfrm>
        <a:graphic>
          <a:graphicData uri="http://schemas.openxmlformats.org/drawingml/2006/table">
            <a:tbl>
              <a:tblPr/>
              <a:tblGrid>
                <a:gridCol w="1081080"/>
                <a:gridCol w="1082520"/>
                <a:gridCol w="1341720"/>
                <a:gridCol w="281916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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) ^ (q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Date Placeholder 3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106E-387B-4DC9-91D3-864BA88DC080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Slide Number Placeholder 3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4EE5-DD97-4C36-A3E1-0AFCE16CA17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28800" y="2514240"/>
            <a:ext cx="685800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 = the study of correct reaso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log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athematic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prove theor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mputer science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prove that programs do what they are supposed to 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AF1C-A147-4AE8-8353-7BBAEF381BA1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CB32-D026-474C-B104-DD1979E8BA0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utolog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position i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autolog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its truth table contains only true values for every c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 v 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438280" y="3429000"/>
          <a:ext cx="4267440" cy="2819520"/>
        </p:xfrm>
        <a:graphic>
          <a:graphicData uri="http://schemas.openxmlformats.org/drawingml/2006/table">
            <a:tbl>
              <a:tblPr/>
              <a:tblGrid>
                <a:gridCol w="1117800"/>
                <a:gridCol w="1092240"/>
                <a:gridCol w="205740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 v q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Date Placeholder 3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6B3D-9EB0-4081-8819-19868A2F9F1D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Slide Number Placeholder 3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4517-41FB-464E-B3AD-6990051DA56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adic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position i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autolog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its truth table contains only false values for every c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p ^ ~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343400" y="3352680"/>
          <a:ext cx="2514600" cy="1676520"/>
        </p:xfrm>
        <a:graphic>
          <a:graphicData uri="http://schemas.openxmlformats.org/drawingml/2006/table">
            <a:tbl>
              <a:tblPr/>
              <a:tblGrid>
                <a:gridCol w="876240"/>
                <a:gridCol w="1638360"/>
              </a:tblGrid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^ (~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Date Placeholder 19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69FF-0C01-41B6-814D-1496CEA9B40C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Slide Number Placeholder 2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F149-AFC9-4AB2-A19F-13A7C85F9ED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Morgan’s laws for logic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4792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pairs of propositions are logically equivalen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 (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) and (~p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^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~q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 (p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^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) and (~p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~q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B98F-79A2-4EA7-A552-85A03B295F66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9FF9-5A69-4C54-B046-EC624A413D3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3 Quantifier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769608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positional fun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(x) is a statement involving a variable 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x): 2x is an even integ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is an element of a set 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x is an element of the set of inte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m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P(x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B9B4-78EF-4086-BD0A-550145BEDE42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CA43-6E45-4A34-8FA8-69CF4BCC556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main of a propositional functio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43000" y="2362320"/>
            <a:ext cx="693432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propositional fun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(x): “2x is an even integer”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omain D of P(x) must be defined, f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nce D = {integers}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is the set where the x's come fro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7740-4920-4107-B85A-BB79F2107421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D2B5-C7BF-46E3-833E-A0561A11B07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For eve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for som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39152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statements in mathematics and computer science use terms such 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v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so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v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iangle T, the sum of the angles of T is 180 degre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v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ger n, n is less than p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so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ime number 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475A-A200-486D-A61A-371FBE9EC1E1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7548-C49D-4CF7-81BC-B2F658D1ECF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al quantifie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696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can write P(x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v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in a domain 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ymbol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P(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niversal quantifi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D012-CE03-46FC-99EE-C0E03B073FB4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FA3A-7FF4-4D51-8A69-0FF4BF4F944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th of as propositional functio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46784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me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P(x) i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e if P(x) is true for every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se if P(x) is not true for some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Let P(n) be the propositional function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n is an odd integ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 = {all integers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(n) is true only when n is an odd integer, false if n is an even integ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BD15-C87C-468D-A511-53EBFD007422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FC5C-8E66-4DA5-9725-9E6C523FB5A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istential quantifie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so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, P(x) is true i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re exis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lement x in the domain D for which P(x) i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.  In symbols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, P(x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mbo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istential quantifi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69CC-E79A-4C4E-BD9C-2D88D620F256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5461-157A-4F02-A995-81903D54883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erexamp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75438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iversal stateme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P(x) is false i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 such that P(x) is fal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x that makes P(x) false is called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unterexa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stateme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P(x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P(x) = "every x is a prime number", for every integer x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f x = 4 (an integer) this x is not a primer number.  Then 4 is a counterexample to P(x) being tru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856C-E717-4B61-B8FE-77BDBF60C93A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3ADE-8A87-4DB9-B50B-B67DD42A6EC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1.1   Propositio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1599840"/>
            <a:ext cx="754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pos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tatement or sentence that can be determined to be either true or fal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is a programmer" is a propos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ish I were wise” is not a propos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9A3B-F924-4CC2-9528-719F32A3E57B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5D08-80DA-46D3-865D-C62299CC7C4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ized De Morgan’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ws for Logic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724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(x) is a propositional function, then each pair of propositions in a) and b) below have the same truth valu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~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 P(x))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: ~P(x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It is not true that for every x, P(x) holds" is equivalent to "There exists an x for which P(x) is not true"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~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 P(x))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: ~P(x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It is not true that there exists an x for which P(x) is true" is equivalent to "For all x, P(x) is not true"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8074-951A-499C-A595-9517BFA69471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91A8-702F-40C3-9D6E-89D0449C4B7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propositional logic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prove the universally quantified stateme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P(x)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not enough to show P(x) true for some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ust show P(x) is tru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 ev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prove the universally quantified stateme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P(x)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enough to exhibi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 for which P(x) is fa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x is called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stateme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P(x) is tr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Date Placeholder 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D55A-D5C7-4F80-A42E-EAB7FEDEC28C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D470-9889-4BB1-9676-781648CDE4B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4   Proof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18960" y="2514240"/>
            <a:ext cx="7086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thematical syste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s o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fined t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xio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Date Placeholder 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B472-5531-494B-8876-2463DF536513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4DDA-A01E-41C9-B2B0-D70D673B2CB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defined term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3059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ndefined ter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the basic building blocks of a mathematical system.  These are words that are accepted as starting concepts of a mathematical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in Euclidean geometry we have undefined terms such 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419360" y="2133360"/>
            <a:ext cx="38862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Date Placeholder 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FFA4-EF67-42A7-B865-B0FDDEA9E50B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F819-D240-4BE1-896C-B78F7226E22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69608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roposition constructed from undefined terms and previously accepted concepts in order to create a new concep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.  In Euclidean geometry the following are definiti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triangles a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gru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their vertices can be paired so that the corresponding sides are equal and so are the corresponding angl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angles a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pplement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the sum of their measures is 180 degre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9887-A793-4D3A-AEF3-9C971452B8B6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3DC2-7287-4A9B-85BD-9080560C7D9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xi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roposition accepted as true without proof within the mathematical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many examples of axioms in mathematic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In Euclidean geometry the following are axio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two distinct points, there is exactly one line that contains the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a line and a point not on the line, there is exactly one line through the point which is parallel to the li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A186-70E6-4A05-BF02-2EB2E6754BB3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38FF-B3E4-4FDA-AECD-636302A46DD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orems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77724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or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roposition of the form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 which must be shown to be true by a sequence of logical steps that assume that p is true, and use definitions, axioms and previously proven theor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8AB8-3E16-40E1-A68E-AF0B4DF05820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C2C8-0524-4AEE-A86B-41405335CFA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mmas and corollar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371240" y="1599840"/>
            <a:ext cx="701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m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mall theorem which is used to prove a bigger theor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roll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theorem that can be proven to be a logical consequence of another theor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from Euclidean geometry:  "If the three sides of a triangle have equal length, then its angles also have equal measure."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Date Placeholder 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8253-543E-4015-9FA8-C3B6D5B863C0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C37D-891A-483A-9D03-66BB4F8C385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proof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9250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o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logical argument that consists of a series of steps using propositions in such a way that the truth of the theorem is establish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r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of: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rect method of attack that assumes the truth of proposition p, axioms and proven theorems so that the truth of proposition q is obtain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939A-87F6-4A29-858D-DFCDC0FA5734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0947-4EC8-454F-B4CF-9AC52482CF4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rect proof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hod of pro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y contradi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theorem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 consists of the following step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Assume p is true and q is fa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Show that ~p is also tr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Then we have that p ^ (~p) is true.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But this is impossible, since the statement p ^ (~p) is always false. There is a contradiction!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So, q cannot be false and therefore it is tr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: show that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traposi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~q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~p) is tru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(~q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~p) is logically equivalent to 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, then the theorem is prov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6164-8192-415C-83D6-44B96B1D781A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FB9D-2548-4485-B2FB-E9489025250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nectiv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 and q are propositions, new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mpou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positions can be formed by us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nectiv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 connectives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junction AN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bol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^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sive disjunction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bol 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lusive disjunction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bo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bol ~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bo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impl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bo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7517-81DC-44A8-A665-4F8ED3E6A1A8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B3A1-76EA-4313-9E2C-F9AB8FB78A9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id argumen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ductive reaso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process of reaching a conclusion q from a sequence of propositions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…,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positions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…,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mi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ypothesi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position q that is logically obtained through the process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clu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6AA4-8E98-4CD4-B7C7-A9249D1D1018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0545-E46D-48B1-9A8F-BC70A024294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 of inference (1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403848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Law of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detach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dus pone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76560" y="2514240"/>
            <a:ext cx="380988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. Modus tolle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~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Date Placeholder 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FD1A-1006-4B64-810B-22CCD53C371C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F7C0-7F5F-42BC-97E8-E6A8841BA79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 of inference (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84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Rule of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Add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Rule of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simpl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^ 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p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43040" y="1676160"/>
            <a:ext cx="4343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Rul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jun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p ^ 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Date Placeholder 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9DC7-CD7A-46FD-88B9-4387CE93B05D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39DA-3382-49C9-82AD-EAF5FF314A2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 of inference (3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1371600" y="1599840"/>
            <a:ext cx="556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Rul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ypothetical syllogis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Rul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junctive syllogis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Date Placeholder 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B7A9-7EC7-4185-9FBB-39B32C360904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BB8F-34E4-4924-9D85-AFC00613FF0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3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 of inference f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ntified statemen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8600" y="2514240"/>
            <a:ext cx="449568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Universal instanti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, P(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 P(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Universal general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d) for any 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,  P(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343040" y="2514240"/>
            <a:ext cx="441972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 Existential instanti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, P(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 P(d) for some 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Existential general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d) for some 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,  P(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Date Placeholder 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2061-4376-4656-B06A-330D21FD1E0B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A145-82E7-4D72-8007-086622B4C60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5   Resolution proof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to J. A. Robinson (1965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a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mpound statement with terms separated by “or”, and each term i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ngle vari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gation of a single vari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~r) is a clau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 ^ q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~s) is not a claus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esis and conclusion are written as clau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rul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q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1F8C-288F-4DF9-ABA4-70DB2DC9D6BE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4C56-9B2E-41A4-A249-5E67F148289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6   Mathematical induc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ful for proving statements of the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  S(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N is the set of positive integers or natural numbers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is an infinite subset of 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(n) is a propositional fun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67F8-ABB7-4D20-8D49-F535362E9AB0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8897-EA09-4BA7-AB53-A6E87E4F374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hematical Induc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ong form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we want to show that for each positive integer n the statement S(n) is either true or false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Verify that S(1) is tru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Let n be an arbitrary positive integer.  Let i be a positive integer such that i &lt; 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how that S(i) true implies that S(i+1) is true, i.e. show S(i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(i+1).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Then conclude that S(n) is true for all positive integers 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8D9F-D206-42CE-94A6-AAA291D64847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3A36-BE85-431A-AC98-89E3EEC8203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hematical induction: terminolog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s step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y that S(1) is tr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ctive step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S(i) is tr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e S(i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(i+1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S(n) is true for al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integers 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2F04-41DE-47BB-8D3C-FA9F9F7B4E78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6353-08E0-4C22-85F4-B41B323D846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th table of conjunc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90720" y="16002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ruth values of compound propositions can be describ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uth tab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th tabl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jun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^ q is true only when both p and q are tr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048120" y="3276720"/>
          <a:ext cx="3276360" cy="22860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752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^ 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Date Placeholder 3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BC55-1A84-4520-9E12-18AD7EABDAA1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Slide Number Placeholder 3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3193-9BB8-4B8D-8C76-FBAD3AF47D2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520" y="2437920"/>
            <a:ext cx="716292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p = “Tigers are wild animals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q = “Chicago is the capital of Illinois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^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 = "Tigers are wild animals and Chicago is the capital of Illinois"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^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 is false.  Wh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586B-B055-4361-9D70-CEE5FCFDEC88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A9CB-C386-4D89-81C3-C68A4EB3056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th table of disjunc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ruth table of (inclusive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jun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 is false only when both p and q are fa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p = "John is a programmer", q = "Mary is a lawyer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v q = "John is a programmer or Mary is a lawyer"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343400" y="2209680"/>
          <a:ext cx="2819520" cy="2286000"/>
        </p:xfrm>
        <a:graphic>
          <a:graphicData uri="http://schemas.openxmlformats.org/drawingml/2006/table">
            <a:tbl>
              <a:tblPr/>
              <a:tblGrid>
                <a:gridCol w="687240"/>
                <a:gridCol w="825480"/>
                <a:gridCol w="1306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v 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Date Placeholder 3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92E5-8472-4BB6-BE90-1E9716F1F45C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3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8A09-A0A9-45B3-9553-7EFD1F68141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lusive disjunc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ther p or q” (but not both), in  symbols p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 is true only when p is true and q is false, or p is false and q is tr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p = "John is programmer, q = "Mary is a lawyer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 = "Either John is a programmer or Mary is a lawyer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105520" y="2209680"/>
          <a:ext cx="2743200" cy="2286000"/>
        </p:xfrm>
        <a:graphic>
          <a:graphicData uri="http://schemas.openxmlformats.org/drawingml/2006/table">
            <a:tbl>
              <a:tblPr/>
              <a:tblGrid>
                <a:gridCol w="668160"/>
                <a:gridCol w="736560"/>
                <a:gridCol w="1338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v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Date Placeholder 3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1472-FEB5-43CA-954A-18DBBF13EF1D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Slide Number Placeholder 3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1AC9-B170-4F00-9B83-7453E0846A6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g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on of p: in symbols ~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p is false when p is true, ~p is true when p is fa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p = "John is a programmer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p = "It is not true that John is a programmer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419720" y="2286000"/>
          <a:ext cx="1752480" cy="1676520"/>
        </p:xfrm>
        <a:graphic>
          <a:graphicData uri="http://schemas.openxmlformats.org/drawingml/2006/table">
            <a:tbl>
              <a:tblPr/>
              <a:tblGrid>
                <a:gridCol w="880920"/>
                <a:gridCol w="87156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Date Placeholder 19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E891-F841-46EA-96CE-0F7068BE3772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Slide Number Placeholder 2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A03A-EBC4-4E44-87FE-285124D6ED9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2T10:17:07Z</dcterms:created>
  <dc:creator>user</dc:creator>
  <dc:description/>
  <dc:language>en-US</dc:language>
  <cp:lastModifiedBy>OUAHID</cp:lastModifiedBy>
  <dcterms:modified xsi:type="dcterms:W3CDTF">2013-06-11T04:43:00Z</dcterms:modified>
  <cp:revision>138</cp:revision>
  <dc:subject/>
  <dc:title>R. Johnsonbaugh, Discrete Mathematics 5th edition, 2001</dc:title>
</cp:coreProperties>
</file>