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8353-B570-48D4-B2A8-4337EAFE1C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46D-A1D8-4D80-9766-FED515492332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722-0D68-4F43-839A-2D5384AF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C1F-FB19-4006-B0AA-6CC8BCF1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9797-1CA5-40A9-ABE6-F5071614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371-C41B-4C90-860F-A5E5E03A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0280-9904-4941-8CEE-29CEAEC2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0F0D-5EFF-4D66-9784-92E8BD1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6FFA-C4F2-4BCA-9654-60177FEB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052F-D2F0-4A58-AEC1-B17B9E0F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F183-B597-4724-BD46-5BACC4A3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FD06-080A-46D7-BFB8-064BF20B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0FD9-B3B0-43CA-BB28-BFF66A79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1F2-CEE8-46DF-A673-6279EB9C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D4E-16F8-4750-AD4F-BAAECCF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D51D-AA8D-410D-A5F3-A870D0C1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E8AD-3C7A-4F30-976D-030C755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018F-88A6-40EC-8D35-544449C3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19AB-DBE4-46C1-AA32-9B4344B4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72A-4F48-4442-A1A1-B18B56C1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BDD-852D-48B6-A2BF-5BF279CD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A30-C2DB-4A94-9E5F-81DCF66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F60-886F-42D3-B7C9-CBECAFDE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DCA-470B-4A69-B522-29E21D8A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4D8-75AB-4044-8E4B-D264CBC7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2BE1-901D-4321-9C14-87976287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E1E1-4601-4E93-93EE-3FE7961B6D5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C1B5-26D9-437A-AA22-B509644AB7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38CB-FE47-4B29-9BBA-63BB73A589C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. Mohammed Gulam Aham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8F2E-C806-4822-B5F1-BA058ACA2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Discrete Mathematics</a:t>
            </a:r>
            <a:br>
              <a:rPr sz="5800"/>
            </a:b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apter 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ogic and proo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7CEF-2F26-4ACD-B1EF-0200D9050EF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901E-1018-47A9-A7C3-D32D6F3C00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mpoun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, q, r be simple stat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other compound statements, such 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p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~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any other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0B1E-6946-4BBC-BDA1-3DE0E207519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E2F8-7746-4136-8652-D1EE7320A3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truth table of (p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3880" y="1676520"/>
          <a:ext cx="5562720" cy="4267080"/>
        </p:xfrm>
        <a:graphic>
          <a:graphicData uri="http://schemas.openxmlformats.org/drawingml/2006/table">
            <a:tbl>
              <a:tblPr/>
              <a:tblGrid>
                <a:gridCol w="1067040"/>
                <a:gridCol w="1143000"/>
                <a:gridCol w="1143000"/>
                <a:gridCol w="220968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^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Date Placeholder 5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8DFC-5DC9-47D3-B2BA-28F5AF6586F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5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9030-FBFD-419F-B47C-6C1F56EB008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2  Conditional propositions and 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360" y="2057040"/>
            <a:ext cx="73911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di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 is of the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then q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ymbols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" John is a programm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= " Mary is a lawyer 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 = “If John is a programmer then 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0207-9D8E-4ABD-B0A0-40978045448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0D6D-FA03-43FE-A18D-0D0AD25AA8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p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when both p and q are tru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352680" y="2057400"/>
          <a:ext cx="3124440" cy="2857680"/>
        </p:xfrm>
        <a:graphic>
          <a:graphicData uri="http://schemas.openxmlformats.org/drawingml/2006/table">
            <a:tbl>
              <a:tblPr/>
              <a:tblGrid>
                <a:gridCol w="820800"/>
                <a:gridCol w="744480"/>
                <a:gridCol w="155916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F267-55BE-4099-A7E8-6480EA285D4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A0E6-1715-4C60-9C2C-D4AB425323C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and 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4674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conditional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tece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equ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"p then q" is considered logically the same as "p only if q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9637-A9D2-43EA-8D27-D9790398317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3DEE-8AFD-4192-ACD8-40554CB9BF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ary and suffici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5438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ce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ition is expressed by the 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 is a lawyer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condition: “Mary is a lawy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condition: “John is a programmer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F7CE-5542-430E-A917-EE7F5A15910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ACE8-F5B9-4067-B975-A18A2F7CB3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ropositions are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their truth tables are ident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~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ly equival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895480"/>
          <a:ext cx="6096240" cy="24735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8FDD-C231-4E5A-BC0E-6F2E64C57D7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AADA-056E-455F-A8CF-5B96371D84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wo proposi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ically equival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362320" y="2362320"/>
          <a:ext cx="5029200" cy="2286000"/>
        </p:xfrm>
        <a:graphic>
          <a:graphicData uri="http://schemas.openxmlformats.org/drawingml/2006/table">
            <a:tbl>
              <a:tblPr/>
              <a:tblGrid>
                <a:gridCol w="1160280"/>
                <a:gridCol w="1238400"/>
                <a:gridCol w="1315800"/>
                <a:gridCol w="1314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11B4-C6B2-43FE-B2E6-8C95857E8EC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EFB0-8D78-4CD2-ABAE-72516607CE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positi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proposition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 ~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~p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logically equival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71600" y="2819520"/>
          <a:ext cx="6019920" cy="2288880"/>
        </p:xfrm>
        <a:graphic>
          <a:graphicData uri="http://schemas.openxmlformats.org/drawingml/2006/table">
            <a:tbl>
              <a:tblPr/>
              <a:tblGrid>
                <a:gridCol w="1030320"/>
                <a:gridCol w="1028520"/>
                <a:gridCol w="1981440"/>
                <a:gridCol w="197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4274-DC65-410C-BA35-169527FAB43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0E7-91D2-49D7-89A2-AFBC2A77AA6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p if and only if q” is defined in symbols as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logically equivalent to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828800" y="2743200"/>
          <a:ext cx="6324480" cy="2362320"/>
        </p:xfrm>
        <a:graphic>
          <a:graphicData uri="http://schemas.openxmlformats.org/drawingml/2006/table">
            <a:tbl>
              <a:tblPr/>
              <a:tblGrid>
                <a:gridCol w="1081080"/>
                <a:gridCol w="1082520"/>
                <a:gridCol w="1341720"/>
                <a:gridCol w="28191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) ^ (q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Date Placeholder 3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8E1E-444C-4CEB-B71A-72AFCA39ED6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E784-AE3D-438A-B03D-133E6013775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514240"/>
            <a:ext cx="685800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= the study of correct reaso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log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thematic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eor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mputer scienc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e that programs do what they are supposed to 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BBEE-E2B9-4864-A155-0C63FAFB5C1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6B9F-C309-4FEF-98B8-7EF62B3238F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ut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tru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v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438280" y="3429000"/>
          <a:ext cx="4267440" cy="2819520"/>
        </p:xfrm>
        <a:graphic>
          <a:graphicData uri="http://schemas.openxmlformats.org/drawingml/2006/table">
            <a:tbl>
              <a:tblPr/>
              <a:tblGrid>
                <a:gridCol w="1117800"/>
                <a:gridCol w="1092240"/>
                <a:gridCol w="205740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v q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AF7E-5EAD-458B-9D34-0CA6D23D6CD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5C69-918A-4D84-9C61-69F22A95B8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di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position 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autolo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its truth table contains only false values for every c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 ^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343400" y="3352680"/>
          <a:ext cx="2514600" cy="1676520"/>
        </p:xfrm>
        <a:graphic>
          <a:graphicData uri="http://schemas.openxmlformats.org/drawingml/2006/table">
            <a:tbl>
              <a:tblPr/>
              <a:tblGrid>
                <a:gridCol w="876240"/>
                <a:gridCol w="163836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(~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81DF-7515-44D7-9199-71A342BE21C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C5B6-7AEE-439A-94B3-2BB82494F0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Morgan’s 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airs of propositions are logically equivalen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) and (~p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(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) and (~p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A24E-AA13-4B5E-AEA9-5FB7DF550E5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2082-049F-4A76-8736-B7A3044DEFF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3 Quantifi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al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x) is a statement involving a variable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x): 2x is an even inte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an element of a set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x is an element of the set of inte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B4C-EE10-4FAA-9501-5194520FD0E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DA57-815E-45A8-883B-568361FF0F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main of a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69343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ropositional fun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x): “2x is an even integer”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D of P(x) must be defined, fo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ce D = {integers}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the set where the x's come fro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343D-5473-4449-8503-C0EC89B77E1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7409-FA12-4BBE-B35F-FD3AB5D185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 som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39152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tatements in mathematics and computer science use terms such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ngle T, the sum of the angles of T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ger n, n is less than p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me number 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20A1-6BC7-4B74-88BB-3A5233CEEE5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4983-C91B-4C7E-B2DF-101983C8B77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write P(x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v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in a domain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ymbol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versal quant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94D-E530-4548-9F31-5F32D451D27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BEFB-0ECB-4536-8BA3-379D5214F20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 of as propositional fun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4678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if P(x) is true for every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se if P(x) is not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Let P(n) be the propositional function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 is an odd integ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= {all integers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n) is true only when n is an odd integer, false if n is an even integ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6C01-9DCB-45C8-84E1-014D387C542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AE56-59A4-4558-AD3A-634F50D737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P(x) is true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re ex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lement x in the domain D for which P(x) i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.  In symbols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mbo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istential quantif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DE1B-E206-4869-AF40-6C087C62A0E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AF51-413E-44E3-9175-EE9D4DD91F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versal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false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such that P(x) is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x that makes P(x) fals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(x) = "every x is a prime number", for every integer x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f x = 4 (an integer) this x is not a primer number.  Then 4 is a counterexample to P(x) being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0545-7D6E-435B-AB1E-BB6AE59D7FC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8034-BCF7-4F63-940C-9A8565C9F7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.1   Propos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atement or sentence that can be determined to be either true or fa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is a programmer" is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sh I were wise” is not a pro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589D-1CDD-42FE-AC5B-A7DFFE91C68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77DE-F7E1-4F3E-A5E4-95EC9411AF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ized De Morgan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ws for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7724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(x) is a propositional function, then each pair of propositions in a) and b) below have the same truth val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for every x, P(x) holds" is equivalent to "There exists an x for which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~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P(x))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 ~P(x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t is not true that there exists an x for which P(x) is true" is equivalent to "For all x, P(x) is not tru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64D2-4AA7-444C-9D10-0C4343973AE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296B-4156-4FD5-93BA-1121238E435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propositional logic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enough to show P(x) true for some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show P(x) is tru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 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prove the universally quantified stateme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P(x)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nough to exhibi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 for which P(x) is fa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x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state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P(x) is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8618-DDC9-4741-92FB-3F7E17B4C70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1DA9-81F3-4FBA-B7FE-D624680128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4  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hematical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35C-357C-4DA4-83EB-61E7C91C0B6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2F23-8373-4595-ACD7-573962A5ABC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fined ter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defined 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basic building blocks of a mathematical system.  These are words that are accepted as starting concepts of a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we have undefined term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19360" y="2133360"/>
            <a:ext cx="38862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3610-7C99-4953-B6F5-4393070CE6A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6368-39BA-4005-9652-F6A51F09943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60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constructed from undefined terms and previously accepted concepts in order to create a new concep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.  In Euclidean geometry the following are defini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ri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ir vertices can be paired so that the corresponding sides are equal and so are the corresponding ang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angl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pplement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the sum of their measures is 180 degre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FAB8-B666-465D-9987-E61C6443104E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6481-54BF-4649-917B-1F88118656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xi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accepted as true without proof within the mathematica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examples of axioms in mathematic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 Euclidean geometry the following are axi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wo distinct points, there is exactly one line that contains th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line and a point not on the line, there is exactly one line through the point which is parallel to the l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8660-CC93-4824-9AD5-B17BC178931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03D3-0347-40DA-9BC3-7B9B5319BAA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orems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roposition of the for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which must be shown to be true by a sequence of logical steps that assume that p is true, and use definitions, axioms and previously proven theor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8B4-F9AF-4FB9-8B03-A6D5681DC95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7D68-32C7-434B-9FA0-8D391866E0D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mmas and corollar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01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em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mall theorem which is used to prove a bigg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oll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theorem that can be proven to be a logical consequence of another theor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from Euclidean geometry:  "If the three sides of a triangle have equal length, then its angles also have equal measure.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BF8-8C0E-4B33-83B3-D2F12BD6183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274-B659-483B-A7E9-B7C7D0547D0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logical argument that consists of a series of steps using propositions in such a way that the truth of the theorem is establish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of: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 method of attack that assumes the truth of proposition p, axioms and proven theorems so that the truth of proposition q is obtain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20DF-0D77-4B66-913F-EB87797EE15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B28B-2686-42E3-B50C-93F4100AEAD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rect proof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of pro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y contradi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theorem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consists of the following step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Assume p is true and q is fa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Show that ~p is also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n we have that p ^ (~p) is true.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But this is impossible, since the statement p ^ (~p) is always false. There is a contradiction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o, q cannot be false and therefore it is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: show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aposi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~q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p) is tru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(~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p) is logically equivalent to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, then the theorem is prov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059-6A1D-4787-9C01-B84275FE07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38AB-3420-4C1C-B681-8254FA66D6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 and q are propositions, new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ou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ositions can be formed 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ecti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connectiv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ction AN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disjunction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~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im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8A4C-3ACA-4FE9-B7BC-B8834678EB2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8D08-EB7F-4D58-A743-FBED5A5F39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 argu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ductive reaso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process of reaching a conclusion q from a sequence of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s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mi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s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ition q that is logically obtained through the proces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5D55-C954-471B-8613-CB5783A593A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F6D5-CB86-47AE-8209-EB1A9C9E1F6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40384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w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etach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us pon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76560" y="2514240"/>
            <a:ext cx="38098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Modus tolle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~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FD2F-1818-4AF1-A171-8609BB740E7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79D5-9AAF-4CB0-BBFC-66A81057B6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8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d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Rule o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impl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43040" y="1676160"/>
            <a:ext cx="4343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p ^ 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3E90-6DCD-473B-92FF-88FBDD82C112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FE52-1C87-4682-8269-3DE60CD364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(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3716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ypothetical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Ru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ve syllog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778D-F82E-42A6-ADCF-4AC2DFBFABA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D175-CF5A-4E41-A752-772C6F9990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of inference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ntified statement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4956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Univers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Univers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any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343040" y="2514240"/>
            <a:ext cx="441972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Existential instant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,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Existential general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d) for some 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,  P(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Date Placeholder 6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8FC-EED1-4718-BC27-41C8AAE9F8A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7AE4-63C8-4C4F-82BF-D562996467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5   Resolution proof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J. A. Robinson (196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pound statement with terms separated by “or”, and each term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gation of a singl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r) is a cl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 ^ q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~s) is not a clau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and conclusion are written as cla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ru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q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2D76-2EB8-4C8B-944F-45675A2F511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FCFD-FADC-419E-80B7-BBE8EEF65C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6   Mathematical in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for proving statements of the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  S(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N is the set of positive integers or natural number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an infinite subset of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(n) is a propositional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49AB-08B7-4AD5-85B9-430D94BB3C6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0E2D-E28D-40A9-AD5D-3082A61179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for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want to show that for each positive integer n the statement S(n) is either true or false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Verify that S(1) is tru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et n be an arbitrary positive integer.  Let i be a positive integer such that i &lt; 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how that S(i) true implies that S(i+1) is true, i.e. show S(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(i+1)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en conclude that S(n) is true for all positive integers 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32B3-9700-495E-AB75-21D34BAAD3C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765B-CAF5-4DE2-9C9F-359C09A169E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al induction: termin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step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that S(1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ctive step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S(i)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 S(i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(i+1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S(n) is true for a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ntegers 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D866-5A24-43C7-9996-40F1FE05ABD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5AD9-8FB6-445B-9BD7-732C919891E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con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907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values of compound propositions can be describ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th tab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th tabl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^ q is true only when both p and q are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48120" y="3276720"/>
          <a:ext cx="3276360" cy="2286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^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Date Placeholder 3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306-0D7F-42E0-8F21-9AA2A9A981F6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3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BC9E-6D9C-47AF-9146-A804B33212E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520" y="2437920"/>
            <a:ext cx="716292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 = “Tigers are wild animal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q = “Chicago is the capital of Illinoi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= "Tigers are wild animals and Chicago is the capital of Illinois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^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.  Wh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5C5-094B-47D6-BBB9-479DC65F692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6D73-8424-4E37-AE54-064D5FB012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 of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 table of (inclusive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false only when both p and q are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v q = "John is a programmer or Mary is a lawyer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343400" y="2209680"/>
          <a:ext cx="2819520" cy="2286000"/>
        </p:xfrm>
        <a:graphic>
          <a:graphicData uri="http://schemas.openxmlformats.org/drawingml/2006/table">
            <a:tbl>
              <a:tblPr/>
              <a:tblGrid>
                <a:gridCol w="687240"/>
                <a:gridCol w="825480"/>
                <a:gridCol w="130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BE20-6459-47A2-830C-0635DE95B42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A407-9BCE-4C34-BA13-58E1167AF7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lusive disjun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p or q” (but not both), in  symbols 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 is true only when p is true and q is false, or p is false and q is tr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programmer, q = "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 = "Either John is a programmer or Mary is a lawy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5520" y="2209680"/>
          <a:ext cx="2743200" cy="2286000"/>
        </p:xfrm>
        <a:graphic>
          <a:graphicData uri="http://schemas.openxmlformats.org/drawingml/2006/table">
            <a:tbl>
              <a:tblPr/>
              <a:tblGrid>
                <a:gridCol w="668160"/>
                <a:gridCol w="736560"/>
                <a:gridCol w="133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Date Placeholder 3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156-B568-4DFE-B21E-7DB5E372F97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Slide Number Placeholder 3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1D49-3789-4E16-AA78-19CE82F503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on of p: in symbols ~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 is false when p is true, ~p is true when p is fa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p = "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p = "It is not true that John is a programm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419720" y="2286000"/>
          <a:ext cx="1752480" cy="1676520"/>
        </p:xfrm>
        <a:graphic>
          <a:graphicData uri="http://schemas.openxmlformats.org/drawingml/2006/table">
            <a:tbl>
              <a:tblPr/>
              <a:tblGrid>
                <a:gridCol w="880920"/>
                <a:gridCol w="8715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Date Placeholder 19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30C0-471F-44AD-A50C-7C27181BF6D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2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08CA-127C-4EB0-B0FA-68ADF1AE19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2T10:17:07Z</dcterms:created>
  <dc:creator>user</dc:creator>
  <dc:description/>
  <dc:language>en-US</dc:language>
  <cp:lastModifiedBy>OUAHID</cp:lastModifiedBy>
  <dcterms:modified xsi:type="dcterms:W3CDTF">2013-06-11T04:43:00Z</dcterms:modified>
  <cp:revision>138</cp:revision>
  <dc:subject/>
  <dc:title>R. Johnsonbaugh, Discrete Mathematics 5th edition, 2001</dc:title>
</cp:coreProperties>
</file>