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FC0F-C0A2-45A7-BA05-229354B000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2937-BC02-48A9-81BE-F716181E34E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DC4-EA25-48CC-AD5E-AC38FA3B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285-7CC2-4A14-8F2A-B3A9427F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5B1-46D4-4CB2-8E64-EE078349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2FD-C410-4438-9087-598328E0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B027-B051-4714-BDAF-5692BD2D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056D-D4D5-4288-BE96-023173BA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B30F-9262-44CC-9C25-0B4409E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AE0B-F8D8-4D76-AD76-87302BB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34BF-28F2-42A0-955A-CF76182E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0FA1-CBA0-4851-9AC6-804E4334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3EE4-0B0C-471F-8DC7-93127DDB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561-5208-4081-8E39-2416CED4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05DC-6954-4D4D-87EE-E20F4A88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7307-3BEC-4DE8-BF7B-E90EA6D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A886-4443-4310-9076-50201969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1649-69F1-42BE-B5ED-F524A9FA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32B9-9A05-4E9F-9C34-F3FA1232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A29-A131-4CD4-BA76-21DA8F4E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2DA-90DF-4AEC-8C5C-149D8BC0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FFA-A215-4CA4-BA26-4F3F1AAC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83A-1F32-4639-A4B9-EF4C90FA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FAD-BC58-4F62-AE81-CE6C5C3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B9A-6495-4E0E-91AF-A7F9C49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8AB-29D9-441B-AD5A-F126EFB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3A67-4EE8-432B-A4D3-D59C0C5CB0D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. Mohammed Gulam Aha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FCDC-1870-4D1C-BE87-58DADF6108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8D70-AF27-46B6-A99C-6316F6B19D3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. Mohammed Gulam Aha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5143-2046-4CC8-8BC8-1F333EA125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Discrete Mathematic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gic and proo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8796-27A6-4DA5-97AF-6CF9AD5B693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E036-E603-4B4B-B4F6-1FAD269E04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mpound state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, q, r be simple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orm other compound statements, such 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ny other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6393-9055-48E8-95BD-537D8D14F05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65AD-AEBF-4D8D-9A55-A73337679CB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truth table of (p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676520"/>
          <a:ext cx="5562720" cy="426708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220968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^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Date Placeholder 5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913-A660-43BE-A3E4-32490591214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5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806-2F36-4875-85B8-07A788132A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2  Conditional propositions and logical equival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sition is of the f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 then q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ymbols: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" John is a programm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= " Mary is a lawyer 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 = “If John is a programmer then Mary is a lawy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7683-AE72-4C71-9004-563328086D3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D5CC-3917-4F0F-B30F-5CBF7BEBBA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true when both p and q are tru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when p is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352680" y="2057400"/>
          <a:ext cx="3124440" cy="2857680"/>
        </p:xfrm>
        <a:graphic>
          <a:graphicData uri="http://schemas.openxmlformats.org/drawingml/2006/table">
            <a:tbl>
              <a:tblPr/>
              <a:tblGrid>
                <a:gridCol w="820800"/>
                <a:gridCol w="744480"/>
                <a:gridCol w="15591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7CFA-9767-4226-9E00-E2037AB46F8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0456-2AAE-4F8B-BFED-F14B93AB74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and 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467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nditional proposition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equ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"p then q" is considered logically the same as "p only if q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22FC-EBA0-479C-BF44-75DA5534D49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167D-9E9E-4306-992B-B2D6834C2B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ary and suffici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54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cess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 is expressed by the conclu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 is expressed by the hypo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a programm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is a lawy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condition: “Mary is a lawy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condition: “John is a programm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92CA-AB47-42D2-B713-65E0CABF0C6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36C4-E730-47F1-A434-A8BDE6C493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equival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opositions are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l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ir truth tables are identi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~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ly equi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95480"/>
          <a:ext cx="6096240" cy="2473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8916-61DA-45A7-A7ED-11B641DB526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073E-9207-4E17-A76F-54A5936584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wo proposi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ically equival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362320" y="2362320"/>
          <a:ext cx="5029200" cy="2286000"/>
        </p:xfrm>
        <a:graphic>
          <a:graphicData uri="http://schemas.openxmlformats.org/drawingml/2006/table">
            <a:tbl>
              <a:tblPr/>
              <a:tblGrid>
                <a:gridCol w="1160280"/>
                <a:gridCol w="1238400"/>
                <a:gridCol w="1315800"/>
                <a:gridCol w="1314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AA79-4BD7-4D9B-BF96-6070A4DA3BA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F72A-8882-4629-B5CA-1645082ED9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positiv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proposition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 ~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p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logically equival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71600" y="2819520"/>
          <a:ext cx="6019920" cy="2288880"/>
        </p:xfrm>
        <a:graphic>
          <a:graphicData uri="http://schemas.openxmlformats.org/drawingml/2006/table">
            <a:tbl>
              <a:tblPr/>
              <a:tblGrid>
                <a:gridCol w="1030320"/>
                <a:gridCol w="1028520"/>
                <a:gridCol w="1981440"/>
                <a:gridCol w="197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~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1482-DF22-4B1D-80F1-94E1581DCAC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4A78-E634-4268-801A-5972693990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 if and only if q” is defined in symbols as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logically equivalent to (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28800" y="2743200"/>
          <a:ext cx="6324480" cy="236232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341720"/>
                <a:gridCol w="28191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) ^ (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0C05-96C8-4A80-BD87-FE0C82A46A9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82EA-2390-474F-AF87-CC46971A3E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2514240"/>
            <a:ext cx="68580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= the study of correct reas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thematic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e theor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scienc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e that programs do what they are supposed to 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D92-218F-48AE-A872-C60A2456FEF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1F61-5D8D-49DE-8649-931BA7BE8F9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ut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ut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truth table contains only true values for every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v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438280" y="3429000"/>
          <a:ext cx="4267440" cy="2819520"/>
        </p:xfrm>
        <a:graphic>
          <a:graphicData uri="http://schemas.openxmlformats.org/drawingml/2006/table">
            <a:tbl>
              <a:tblPr/>
              <a:tblGrid>
                <a:gridCol w="1117800"/>
                <a:gridCol w="1092240"/>
                <a:gridCol w="205740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v q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CA8A-1A11-45F9-B3D8-3EB657D6A17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F556-FB6C-422B-BB84-2D256C4268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di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ut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truth table contains only false values for every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 ^ ~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343400" y="3352680"/>
          <a:ext cx="2514600" cy="1676520"/>
        </p:xfrm>
        <a:graphic>
          <a:graphicData uri="http://schemas.openxmlformats.org/drawingml/2006/table">
            <a:tbl>
              <a:tblPr/>
              <a:tblGrid>
                <a:gridCol w="876240"/>
                <a:gridCol w="16383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^ (~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Date Placeholder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6EE8-B40D-43B6-903C-751EDE61E9A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Slide Number Placeholder 2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E201-BF38-4FAF-B569-94185D1713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Morgan’s laws for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airs of propositions are logically equivalen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(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) and (~p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q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(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) and (~p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~q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CCF5-4C59-45DA-B3FC-A9132A7410C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E773-870C-438C-8E4C-6B6D3CB6DE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3 Quantifi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sitional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) is a statement involving a variable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: 2x is an even inte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s an element of a set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x is an element of the set of inte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CB4F-A3FF-4927-A087-5B1795475FF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163A-C6E0-46B7-89B9-78D6797399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of a propositional fun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69343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opositional fun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): “2x is an even integer”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D of P(x) must be defined,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D = {integers}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the set where the x's come fro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1E6-4CB4-4F34-9FC3-1ECB0106F5E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1015-8292-4CC4-A6D0-2EB277868AD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som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9152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tatements in mathematics and computer science use terms such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 T, the sum of the angles of T is 180 deg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er n, n is less than 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me number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3018-D607-4ED1-9A43-5F8189AA44B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69C5-FAB9-43C1-AB30-72B128C1F9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quantif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write P(x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in a domain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bol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versal quanti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739D-C848-4EE5-8E29-AA6D1338190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DA7D-C9F9-475F-9D29-7208ABB6A1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 of as propositional fun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4678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if P(x) is true for every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if P(x) is not true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Let P(n) be the propositional functio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 is an odd integ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= {all integers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n) is true only when n is an odd integer, false if n is an even integ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3598-0447-4388-8B9E-6CEAF058262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D8D3-0094-4878-80FC-6E23326DD7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ential quantif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P(x) is true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ex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ment x in the domain D for which P(x)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.  In symbols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mb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istential quantif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D5F9-0D10-48AD-9447-73182119975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084A-3E07-4153-AED4-CCE4BC16FE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versal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fals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such that P(x) is fa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x that makes P(x) false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nter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(x) = "every x is a prime number", for every integer x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x = 4 (an integer) this x is not a primer number.  Then 4 is a counterexample to P(x) being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B9BD-5771-4B04-80C8-AE83F4F4CD8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542B-47C6-4EA8-A9C3-2FB4DB227D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1   Proposi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atement or sentence that can be determined to be either true or fa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a programmer" is a pro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sh I were wise” is not a pro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358F-BC56-4FF8-B754-4B5BB1A6145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E704-F4AB-4334-A5D3-761906AD57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De Morgan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s for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(x) is a propositional function, then each pair of propositions in a) and b) below have the same truth val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~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P(x))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~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is not true that for every x, P(x) holds" is equivalent to "There exists an x for which P(x) is not tru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~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P(x))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~P(x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is not true that there exists an x for which P(x) is true" is equivalent to "For all x, P(x) is not tru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69FE-BB93-40DA-A402-89564E3376E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3E1-3A13-4947-B46A-11C8D40452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positional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rove the universally quantified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enough to show P(x) true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show P(x) is tru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rove the universally quantified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nough to exhib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 for which P(x) is 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x is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state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P(x) is 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4964-5D05-4464-A91E-07AE9A5821D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9563-E654-4318-96E5-F9685B45B3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   Proof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hematical 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fined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CCD-6267-469A-9E55-19C94C7A80B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74F7-DAB1-4998-A37D-A2BC860E44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fined ter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defined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basic building blocks of a mathematical system.  These are words that are accepted as starting concepts of a mathematica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 Euclidean geometry we have undefined term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19360" y="2133360"/>
            <a:ext cx="38862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5E3E-6C22-4ED1-B4D9-FBF5B61CD74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A4A1-3529-4CB3-B758-D5AB6361CA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60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constructed from undefined terms and previously accepted concepts in order to create a new concep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.  In Euclidean geometry the following are defini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riangl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ir vertices can be paired so that the corresponding sides are equal and so are the corresponding ang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ngl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ement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sum of their measures is 180 deg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1DA5-80F4-495B-86AA-B8E8A804282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C101-B36D-4595-8082-FD2A0B6E6B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xi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accepted as true without proof within the mathematica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examples of axioms in mathema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 Euclidean geometry the following are axi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distinct points, there is exactly one line that contains 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line and a point not on the line, there is exactly one line through the point which is parallel to the l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EF1E-6835-459E-A53B-CC6AF29847F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8471-242D-42C0-AD65-BC7A34F2AB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orem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of the form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which must be shown to be true by a sequence of logical steps that assume that p is true, and use definitions, axioms and previously proven theor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1C05-1B42-4B57-BD0D-53E165BE06B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76AC-8A11-4DD1-85C4-733EBCA959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mas and corollar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m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mall theorem which is used to prove a bigger theor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heorem that can be proven to be a logical consequence of another theor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rom Euclidean geometry:  "If the three sides of a triangle have equal length, then its angles also have equal measure.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067D-0A27-4906-AE8A-5256E7E80E7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92F8-5182-48F0-92FA-EAF1817414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o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gical argument that consists of a series of steps using propositions in such a way that the truth of the theorem is establish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of: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rect method of attack that assumes the truth of proposition p, axioms and proven theorems so that the truth of proposition q is obtain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9163-540F-4578-9F79-EE1240C8E28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2B3E-69B2-4994-955F-CCDB786558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rect proo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of pro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 contradi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theorem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consists of the following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ssume p is true and q is 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how that ~p is also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n we have that p ^ (~p) is true.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ut this is impossible, since the statement p ^ (~p) is always false. There is a contradiction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o, q cannot be false and therefore it is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: show t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~q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p) is tru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(~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p) is logically equivalent to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, then the theorem is pro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C7D1-5554-442A-9F57-9DEE101C989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1C3-52AB-4454-8BC2-FEAA711479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 and q are propositions, ne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sitions can be formed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nectiv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onnectiv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ction AN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ve disjunction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 disjunction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~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A1E2-388A-4562-A697-8063EF8CD62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63B0-6547-4C50-B879-915F499092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 argu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ductive reas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process of reaching a conclusion q from a sequence of proposition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ition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mi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ition q that is logically obtained through the proces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FA24-8FA3-4F64-9E54-402A2E3F6B3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645D-67CC-4C31-9676-1483BD19C5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0384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w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etach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s pon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76560" y="2514240"/>
            <a:ext cx="38098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Modus tol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~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97F7-670D-4BBD-BF84-CE4307D663C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094D-1E13-4539-A775-49AF1107C0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l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d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l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imp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^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43040" y="1676160"/>
            <a:ext cx="4343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^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51D5-E68F-4FCF-969C-3C26A788F2C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9C4F-921E-4982-B82D-381010D3F8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3716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tical syllog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unctive syllog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DEF5-B171-4112-8277-B2AD64FA478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3A75-D8A4-4D43-8B16-D0F504DF42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fied state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4956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iversal insta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P(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Universal 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d) for any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 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43040" y="2514240"/>
            <a:ext cx="441972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Existential insta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P(d) for some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Existential 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d) for some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, 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E37E-EF31-4282-81C1-0C67DE1EBF4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ACBF-820C-469B-A029-6765927F48B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5   Resolution proof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J. A. Robinson (196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mpound statement with terms separated by “or”, and each term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ation of a singl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r) is a cl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 ^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s) is not a cla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and conclusion are written as cla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ru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0E0D-4B74-497A-84CC-F23B528CC64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9F94-A49B-4233-85FA-A5DEFEF19C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6   Mathematical in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proving statements of the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  S(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N is the set of positive integers or natural number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an infinite subset of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(n) is a propositional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9EDA-412A-4D26-9E06-E66E0CB8EC2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EDBB-9207-4E01-9172-99EC7E8B9D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Ind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for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want to show that for each positive integer n the statement S(n) is either true or false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erify that S(1) i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et n be an arbitrary positive integer.  Let i be a positive integer such that i &lt; 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how that S(i) true implies that S(i+1) is true, i.e. show S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(i+1)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n conclude that S(n) is true for all positive integers 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6835-B11F-446F-8E3A-DF1ADC0694B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38E2-753E-4103-BD57-D4966A8785D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induction: termin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step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that S(1)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step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(i)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 S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(i+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S(n) is true for 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ntegers 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CD4D-AEC7-461F-9EE7-9DE51EA3BD9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823-A2C0-475E-8230-3C3F1E3070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con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907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 values of compound propositions can be describ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th tab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th tab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^ q is true only when both p and q are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8120" y="3276720"/>
          <a:ext cx="3276360" cy="2286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^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Date Placeholder 3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A9EC-0A36-4A98-8A8B-E6F3321FFDA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3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8EE5-CD5D-4FE9-91F5-0A3EE5EF7C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2437920"/>
            <a:ext cx="716292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 = “Tigers are wild animal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q = “Chicago is the capital of Illinoi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= "Tigers are wild animals and Chicago is the capital of Illinois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false. 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BBEB-7E9B-4C7D-8B9C-48877089389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8994-E3F5-4C3A-926A-54C21D145F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dis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 table of (inclusive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false only when both p and q are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a programmer", q = "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v q = "John is a programmer or Mary is a lawyer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343400" y="2209680"/>
          <a:ext cx="2819520" cy="2286000"/>
        </p:xfrm>
        <a:graphic>
          <a:graphicData uri="http://schemas.openxmlformats.org/drawingml/2006/table">
            <a:tbl>
              <a:tblPr/>
              <a:tblGrid>
                <a:gridCol w="687240"/>
                <a:gridCol w="825480"/>
                <a:gridCol w="130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CCDC-1C5E-40A3-A9EC-6E4FB313F58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D632-0140-443B-80F0-C12DFABD53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lusive dis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 or q” (but not both), in  symbols 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true only when p is true and q is false, or p is false and q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programmer, q = "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 = "Either John is a programmer or 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5520" y="2209680"/>
          <a:ext cx="2743200" cy="2286000"/>
        </p:xfrm>
        <a:graphic>
          <a:graphicData uri="http://schemas.openxmlformats.org/drawingml/2006/table">
            <a:tbl>
              <a:tblPr/>
              <a:tblGrid>
                <a:gridCol w="668160"/>
                <a:gridCol w="736560"/>
                <a:gridCol w="133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0C59-DECB-4A79-8DC7-F07635642B4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F042-02B8-42C7-990A-EA79BF14D6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 of p: in symbols ~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 is false when p is true, ~p is true when p is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a programm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 = "It is not true that John is a programm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419720" y="2286000"/>
          <a:ext cx="1752480" cy="1676520"/>
        </p:xfrm>
        <a:graphic>
          <a:graphicData uri="http://schemas.openxmlformats.org/drawingml/2006/table">
            <a:tbl>
              <a:tblPr/>
              <a:tblGrid>
                <a:gridCol w="880920"/>
                <a:gridCol w="8715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Date Placeholder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B5C2-B81F-43D1-B6E3-D0AE32E6CC4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2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ABE8-A2D8-4AD2-BD04-6ED2B63ADAD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0:17:07Z</dcterms:created>
  <dc:creator>user</dc:creator>
  <dc:description/>
  <dc:language>en-US</dc:language>
  <cp:lastModifiedBy>OUAHID</cp:lastModifiedBy>
  <dcterms:modified xsi:type="dcterms:W3CDTF">2013-06-11T04:43:00Z</dcterms:modified>
  <cp:revision>138</cp:revision>
  <dc:subject/>
  <dc:title>R. Johnsonbaugh, Discrete Mathematics 5th edition, 2001</dc:title>
</cp:coreProperties>
</file>