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  <p:custShowLst>
    <p:custShow name="Custom Show 1" id="0">
      <p:sldLst>
        <p:sld r:id="rId6"/>
        <p:sld r:id="rId21"/>
        <p:sld r:id="rId20"/>
        <p:sld r:id="rId13"/>
        <p:sld r:id="rId14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8E9FFF-DAE2-4144-AF0E-7985D9678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C43C1F-73F8-4FF4-81F2-FC2DC9BE8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FCA9C7-6528-4FC2-BE8A-EC2D34DD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7BADA2-6760-4403-A702-76105FF4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67A705-623B-4AC9-8251-0C20FF67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9C8E20-600E-4950-AC45-ECF533554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A20968-D31E-4C51-9B38-545C1D52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7B9B0C-AF02-4CF3-97CE-37E1FA3B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716D1D-5311-4253-B784-5176CBAF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1E75A9-DBA5-450B-9479-8EA845D5B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FDCDFE-1367-4677-86D8-639860F2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17ADC6-666A-403D-BB49-9E09AC3C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2B7711-7395-4601-855B-63965BD6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7F222A-5268-46FC-A8F2-CCB682F7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410454-2C79-402E-8DB8-677F6C9E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038791-A8A4-40DA-868E-A2B33B4B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48A036-2B56-4988-9627-B5A074D2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88D0C4-2967-45E3-B943-3D74D576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F6844B-EF36-41F4-9F5A-3AF4A019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723712-E2D9-47FB-B688-FC5A4CA2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F1F28A-E7CC-4D93-BD8F-00F310C8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E903A4-BF4F-4928-81E7-8708E99F6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4B8E-45FB-4AA9-AA2D-8B7147CFF4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6001-6CD0-4FD3-AFF0-A3694302A2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C0B7-E6FF-446E-907A-9A7DFA7809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26AA-06F8-4CD6-B875-3DA42EF2C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B6C4-AD30-4619-9989-2F2F336598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D4F3-B388-4E56-8B34-1CDAF6510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45CD-9170-47C8-8933-4CE02093C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C6E0-67BC-45E6-AC38-8242D8547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5017-E553-48FA-B972-F6ECF597A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1782-2303-4491-896C-E20849CE5A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4338-FCC4-42E3-9890-276E45DF3B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FA12-01ED-4606-9E44-3218CB340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77895D3A-C8BB-4EAB-A176-E107EB4542E6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239-DD3C-4D7F-A235-325DE7CBB43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: Introduc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also known as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a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and how to get thos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larative (nonprocedural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without specifying how to get th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4320" y="1103400"/>
            <a:ext cx="76615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L compiler generates a set of table templates stored in a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dat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 (ID uniquely identifies instruc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aint in SQ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in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ple must appear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80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240" y="1125000"/>
            <a:ext cx="84042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idely used non-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 of the instructor with ID 2222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2222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ID and building of instructors in the Physics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dept_name = department.dept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.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Physics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,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s 3, 4 an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96608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designing the general structure of the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Design –  Deciding on the database schema. Database design requires that we find a “good” collection of relation sch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decision – What attributes should we record in the data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cience decision –  What relation schemas should we have and how should the attributes be distributed among the various relation sche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sign – Deciding on the physical layout of the database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problem with this desig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"/>
          <p:cNvPicPr/>
          <p:nvPr/>
        </p:nvPicPr>
        <p:blipFill>
          <a:blip r:embed="rId1"/>
          <a:stretch/>
        </p:blipFill>
        <p:spPr>
          <a:xfrm>
            <a:off x="1224000" y="1719360"/>
            <a:ext cx="7023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n enterprise as a colle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: a “thing” or “object” in the enterprise that is distinguishable from othe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: an association among several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y-relationship dia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053440" y="532764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hat happened to dept_name of instructor and stud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1112760" y="3537000"/>
            <a:ext cx="74217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s and early 196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cessing using magnetic tapes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 provided only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ed cards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1960s and 197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s allowed direct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nd hierarchical data models in widesprea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Codd defines the relational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win the ACM Turing Award for thi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Research begins System R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 Berkeley begins Ingres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performance (for the era)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relational prototypes evolve into commerci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becomes industri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and distribu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ecision support and data-min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ulti-terabyte data 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Web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XQue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databas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t data stora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BigTable, Yahoo PNuts, Amazon,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1"/>
          <p:cNvPicPr/>
          <p:nvPr/>
        </p:nvPicPr>
        <p:blipFill>
          <a:blip r:embed="rId1"/>
          <a:stretch/>
        </p:blipFill>
        <p:spPr>
          <a:xfrm>
            <a:off x="3035160" y="1155600"/>
            <a:ext cx="3241800" cy="4792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688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881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vironment that is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retailers: order tracking, customize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can be very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"/>
          <p:cNvPicPr/>
          <p:nvPr/>
        </p:nvPicPr>
        <p:blipFill>
          <a:blip r:embed="rId1"/>
          <a:stretch/>
        </p:blipFill>
        <p:spPr>
          <a:xfrm>
            <a:off x="1789200" y="1940040"/>
            <a:ext cx="5564160" cy="2976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311120" y="1193760"/>
            <a:ext cx="7224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Database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students, instructors, and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tudents for courses, and generate class r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grades to students, compute grade point averages (GPA) and generate 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arly days, database applications were built directly on top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ys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how a record (e.g., customer) is 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g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data stored in database, and the relationships among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 programs hide details of data types.  Views can also hide information (such as an employee’s salary) for security purpo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70400" y="11754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tecture for a databas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1170000" y="1795320"/>
            <a:ext cx="7402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077480"/>
            <a:ext cx="810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m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the logical structure of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database consists of information about a set of customers and accounts and the relationship betwee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cal Data Independ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the interfaces between the various levels and components should be well defined so that changes in some parts do not seriously influence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5360" y="1091880"/>
            <a:ext cx="7435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tools for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-Relationship data model (mainly for database de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based data models (Object-oriented and Object-rel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structured data model  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lder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 (Chap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 flipH="1">
            <a:off x="6456240" y="1609560"/>
            <a:ext cx="8575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6858720" y="13222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 flipH="1">
            <a:off x="5572080" y="163836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7" descr="1"/>
          <p:cNvPicPr/>
          <p:nvPr/>
        </p:nvPicPr>
        <p:blipFill>
          <a:blip r:embed="rId1"/>
          <a:srcRect l="0" t="0" r="0" b="43331"/>
          <a:stretch/>
        </p:blipFill>
        <p:spPr>
          <a:xfrm>
            <a:off x="1614600" y="2259000"/>
            <a:ext cx="5526000" cy="374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8"/>
          <p:cNvSpPr/>
          <p:nvPr/>
        </p:nvSpPr>
        <p:spPr>
          <a:xfrm>
            <a:off x="7696440" y="2590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9"/>
          <p:cNvSpPr/>
          <p:nvPr/>
        </p:nvSpPr>
        <p:spPr>
          <a:xfrm flipH="1">
            <a:off x="7167600" y="2765520"/>
            <a:ext cx="527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 flipH="1">
            <a:off x="7180200" y="2841480"/>
            <a:ext cx="527040" cy="241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3" descr="1"/>
          <p:cNvPicPr/>
          <p:nvPr/>
        </p:nvPicPr>
        <p:blipFill>
          <a:blip r:embed="rId1"/>
          <a:stretch/>
        </p:blipFill>
        <p:spPr>
          <a:xfrm>
            <a:off x="2774880" y="1407960"/>
            <a:ext cx="41706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aleh Al-Hammami, PhD.</cp:lastModifiedBy>
  <cp:lastPrinted>2005-01-10T21:51:57Z</cp:lastPrinted>
  <dcterms:modified xsi:type="dcterms:W3CDTF">2016-01-27T08:50:20Z</dcterms:modified>
  <cp:revision>173</cp:revision>
  <dc:subject/>
  <dc:title>Chapter 1:  Introduction</dc:title>
</cp:coreProperties>
</file>