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  <p:custShowLst>
    <p:custShow name="Custom Show 1" id="0">
      <p:sldLst>
        <p:sld r:id="rId6"/>
        <p:sld r:id="rId21"/>
        <p:sld r:id="rId20"/>
        <p:sld r:id="rId13"/>
        <p:sld r:id="rId14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1040BC-F536-46DB-8040-5CC3D722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F2A7C6-746B-4B8B-9977-3644C809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B731CA-3A9A-41F5-BF29-376BCFDDA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CBD4CF-E107-4739-B3D9-6FB84411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574C66-8D42-4054-B521-E7215800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1478AA-E257-4DB9-8449-73BEB7A8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653849-3C85-42E0-AA2F-F87E6450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DBB77C-CBC6-4303-93BD-EBAE541A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B45A24-5EB9-4A21-8ACD-77D6B239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4DDA23-E099-463E-A0C8-C0B0DEB9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C0EFBC-4280-43ED-A8FD-0A993B4C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98FDBF-185B-46DC-AB21-4A84CF82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72A097-7C84-48FA-BAA3-DBC719CF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7E4E56-C35E-4164-B1A7-987F6AD1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BF9C1E-3179-483F-98AE-9F572A1B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20EEC1-0D43-4310-8BBB-C7F28E16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5F5ED4-0304-4F1B-B76C-378C48D6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56AF13-5F2A-4F0B-90DB-BBC5AF45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7E430F-AB83-476F-89CD-178A672D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9A245F-4CDC-481D-BF9C-1CCDC8D4A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017F54-C4B8-4EF7-99D5-B50468D7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07958B-97A5-4786-BA84-98D90D49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2F86-D089-41BF-81FF-A137CD4D8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D7DF-2E92-4660-A6EE-AE5C550DD6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F379-E98E-4016-9AF3-C17E3D99F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6C45-07F2-409E-A7A2-1050ED0E81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9951-6216-47E4-A842-B50CF0838B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F183-1C4C-4C47-9BE7-4A93B4B87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FD67-D4E3-49C5-8EC0-EEC41679C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3EF0-7E1D-40E7-92FC-367E8C3EC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8C25-900D-4483-A83D-AD18EFFACD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2E16-C011-44C9-A38F-7AC75A6FD9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353B-8F52-4C53-92C3-7961BA7B5E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FE83-9449-4EC5-94BA-5EAA843C1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E1460244-86AD-4A7B-B2C9-BC00A783EDED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D12-88FB-4276-847D-94027886D5F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: Introduc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also known as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a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and how to get thos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larative (nonprocedural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without specifying how to get th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4320" y="1103400"/>
            <a:ext cx="76615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L compiler generates a set of table templates stored in a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dat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 (ID uniquely identifies instruc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aint in SQ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in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ple must appear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80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240" y="1125000"/>
            <a:ext cx="84042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idely used non-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 of the instructor with ID 2222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2222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ID and building of instructors in the Physics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dept_name = department.dept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.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Physics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,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s 3, 4 an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96608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designing the general structure of the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Design –  Deciding on the database schema. Database design requires that we find a “good” collection of relation sch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decision – What attributes should we record in the data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cience decision –  What relation schemas should we have and how should the attributes be distributed among the various relation sche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sign – Deciding on the physical layout of the database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problem with this desig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"/>
          <p:cNvPicPr/>
          <p:nvPr/>
        </p:nvPicPr>
        <p:blipFill>
          <a:blip r:embed="rId1"/>
          <a:stretch/>
        </p:blipFill>
        <p:spPr>
          <a:xfrm>
            <a:off x="1224000" y="1719360"/>
            <a:ext cx="7023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n enterprise as a colle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: a “thing” or “object” in the enterprise that is distinguishable from othe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: an association among several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y-relationship dia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053440" y="532764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hat happened to dept_name of instructor and stud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1112760" y="3537000"/>
            <a:ext cx="74217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s and early 196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cessing using magnetic tapes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 provided only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ed cards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1960s and 197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s allowed direct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nd hierarchical data models in widesprea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Codd defines the relational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win the ACM Turing Award for thi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Research begins System R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 Berkeley begins Ingres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performance (for the era)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relational prototypes evolve into commerci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becomes industri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and distribu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ecision support and data-min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ulti-terabyte data 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Web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XQue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databas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t data stora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BigTable, Yahoo PNuts, Amazon,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1"/>
          <p:cNvPicPr/>
          <p:nvPr/>
        </p:nvPicPr>
        <p:blipFill>
          <a:blip r:embed="rId1"/>
          <a:stretch/>
        </p:blipFill>
        <p:spPr>
          <a:xfrm>
            <a:off x="3035160" y="1155600"/>
            <a:ext cx="3241800" cy="4792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688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881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vironment that is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retailers: order tracking, customize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can be very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"/>
          <p:cNvPicPr/>
          <p:nvPr/>
        </p:nvPicPr>
        <p:blipFill>
          <a:blip r:embed="rId1"/>
          <a:stretch/>
        </p:blipFill>
        <p:spPr>
          <a:xfrm>
            <a:off x="1789200" y="1940040"/>
            <a:ext cx="5564160" cy="2976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311120" y="1193760"/>
            <a:ext cx="7224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Database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students, instructors, and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tudents for courses, and generate class r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grades to students, compute grade point averages (GPA) and generate 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arly days, database applications were built directly on top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ys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how a record (e.g., customer) is 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g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data stored in database, and the relationships among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 programs hide details of data types.  Views can also hide information (such as an employee’s salary) for security purpo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70400" y="11754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tecture for a databas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1170000" y="1795320"/>
            <a:ext cx="7402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077480"/>
            <a:ext cx="810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m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the logical structure of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database consists of information about a set of customers and accounts and the relationship betwee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cal Data Independ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the interfaces between the various levels and components should be well defined so that changes in some parts do not seriously influence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5360" y="1091880"/>
            <a:ext cx="7435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tools for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-Relationship data model (mainly for database de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based data models (Object-oriented and Object-rel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structured data model  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lder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 (Chap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 flipH="1">
            <a:off x="6456240" y="1609560"/>
            <a:ext cx="8575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6858720" y="13222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 flipH="1">
            <a:off x="5572080" y="163836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7" descr="1"/>
          <p:cNvPicPr/>
          <p:nvPr/>
        </p:nvPicPr>
        <p:blipFill>
          <a:blip r:embed="rId1"/>
          <a:srcRect l="0" t="0" r="0" b="43331"/>
          <a:stretch/>
        </p:blipFill>
        <p:spPr>
          <a:xfrm>
            <a:off x="1614600" y="2259000"/>
            <a:ext cx="5526000" cy="374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8"/>
          <p:cNvSpPr/>
          <p:nvPr/>
        </p:nvSpPr>
        <p:spPr>
          <a:xfrm>
            <a:off x="7696440" y="2590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9"/>
          <p:cNvSpPr/>
          <p:nvPr/>
        </p:nvSpPr>
        <p:spPr>
          <a:xfrm flipH="1">
            <a:off x="7167600" y="2765520"/>
            <a:ext cx="527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 flipH="1">
            <a:off x="7180200" y="2841480"/>
            <a:ext cx="527040" cy="241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3" descr="1"/>
          <p:cNvPicPr/>
          <p:nvPr/>
        </p:nvPicPr>
        <p:blipFill>
          <a:blip r:embed="rId1"/>
          <a:stretch/>
        </p:blipFill>
        <p:spPr>
          <a:xfrm>
            <a:off x="2774880" y="1407960"/>
            <a:ext cx="41706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aleh Al-Hammami, PhD.</cp:lastModifiedBy>
  <cp:lastPrinted>2005-01-10T21:51:57Z</cp:lastPrinted>
  <dcterms:modified xsi:type="dcterms:W3CDTF">2016-01-27T08:50:20Z</dcterms:modified>
  <cp:revision>173</cp:revision>
  <dc:subject/>
  <dc:title>Chapter 1:  Introduction</dc:title>
</cp:coreProperties>
</file>