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A680-9DA6-431D-B420-35AC63DD3D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FA5C-F68C-4921-A29E-3A6D56794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6E8D-4AE7-4BEB-98F2-8CCE5B3E0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76EC-A4A7-4627-8DCF-B78986A9D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62A3-FF56-4C30-932C-723EDB58E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215F-75D4-4531-B01C-394D938E9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1828-516E-4619-879A-A08D73037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009A-F19F-4969-B6B9-E13D8FE04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2FE5-99AA-4EB3-99E7-F06A58D34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A933-B341-45A1-9A99-8E18D70D2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6E33-B954-4FBD-9C4C-79E55A3E5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76A0-3293-40DD-ADDE-D163EA2B6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CFEB-ADB3-4206-849C-3F281C420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56E4-22E4-449E-B6C0-A47447375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0C17-6000-4C54-A4B2-65DB892BD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F467-3624-4E0D-A35E-B80A16F26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065D-AC51-40B4-B3BD-0C4D23301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163C-E5AF-4777-B9AC-9B056D100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217-3299-4296-B173-CDC74857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499-CB3C-4F3E-9D44-4F74DA99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90F-34B5-4135-8F55-7BD3F7A3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F46-12FB-41EC-8A72-411E3C88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D1F-FFA0-4979-B6A5-88F42BBC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B2B-4D82-4BEE-8705-02F8B8FD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3E0-F820-4782-A1ED-724E302F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3CC8-F5A3-42DE-B48F-E7718344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E03-068C-4D79-AA46-BEE38915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D41-9E26-4208-B076-BD8202B2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3BB-ECF8-451D-9F54-99681E42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2EC-31D8-43F8-8CCB-36AF32D5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C977-3138-4773-A259-8771EA490A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0903-5020-44AD-897F-FA7715A2DD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: N.AlJaff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y: N.AlSheh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 rot="18888000">
            <a:off x="-575640" y="441000"/>
            <a:ext cx="2176200" cy="376200"/>
          </a:xfrm>
          <a:prstGeom prst="rect">
            <a:avLst/>
          </a:prstGeom>
          <a:solidFill>
            <a:srgbClr val="99cc00">
              <a:alpha val="75000"/>
            </a:srgbClr>
          </a:solidFill>
          <a:ln w="9360">
            <a:solidFill>
              <a:srgbClr val="bbe0e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Light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E775-3991-4E2E-B809-C7963F4635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large, expensive, powerful computer that can handle hundreds or thousands of connected user simultaneously through a technique called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 store a huge amounts of data, instructions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. A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system allows travel agents all over the country to make reservations using the same computer and the same flight information at the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: University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UNP01_12"/>
          <p:cNvPicPr/>
          <p:nvPr/>
        </p:nvPicPr>
        <p:blipFill>
          <a:blip r:embed="rId1"/>
          <a:stretch/>
        </p:blipFill>
        <p:spPr>
          <a:xfrm>
            <a:off x="3708360" y="1197000"/>
            <a:ext cx="4613400" cy="200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28ED-B26C-4F5F-A165-F26EBD33D5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st major corporations use mainframes for business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d by large organizations, such as banks and airlines, for big computing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rs communicate with a mainframe using a computer term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network-server-laptops.jpg"/>
          <p:cNvPicPr/>
          <p:nvPr/>
        </p:nvPicPr>
        <p:blipFill>
          <a:blip r:embed="rId1"/>
          <a:stretch/>
        </p:blipFill>
        <p:spPr>
          <a:xfrm>
            <a:off x="6300720" y="981000"/>
            <a:ext cx="2714760" cy="198612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2596-5E54-4792-B311-53E55FEC24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erv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ontrols access to HW, SW and other resources on a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rovides a centralized storage area for program, data,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upport from 2 to several thousand connected computers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eople use PC or terminals to access data, info., and programs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erminal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is a device with monitor, keyboard and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Personal Computers (PC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It’s a computer that can perform all of its inpu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rocessing, output and storage activities by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re are 2 types of person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otebook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on your hand or 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ktop Computer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entirely on or under d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صورة 10" descr="desktop-pc.jpg"/>
          <p:cNvPicPr/>
          <p:nvPr/>
        </p:nvPicPr>
        <p:blipFill>
          <a:blip r:embed="rId1"/>
          <a:stretch/>
        </p:blipFill>
        <p:spPr>
          <a:xfrm>
            <a:off x="6791400" y="4500720"/>
            <a:ext cx="1525680" cy="14493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2AC7-47B5-469D-8BB8-C87C621407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0CAAJX8TMCA1HS7SDCAR1FXRYCAOD3RBICAD03ZPCCA0YU4BQCAHH6819CA3DPM2HCA2F5W9ACAOK62SHCAXA1LTNCAI7AG7PCAHLGH6MCA6X86KUCAYXJ44ICA1WEEX9CAUS87TICADU0EZWCAE3A6M5.jpg"/>
          <p:cNvPicPr/>
          <p:nvPr/>
        </p:nvPicPr>
        <p:blipFill>
          <a:blip r:embed="rId2"/>
          <a:stretch/>
        </p:blipFill>
        <p:spPr>
          <a:xfrm>
            <a:off x="6786720" y="3143160"/>
            <a:ext cx="185724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B9CE-CDB7-49C1-847F-D055B6A3F2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obile Computers And Mobile Devi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computers is a personal computer that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arry from place to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Devices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computing device, small enough to hold in your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Usually store programs &amp; data permanently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memory inside the system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on small storage media such as memory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onnect it to PC to exchang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ome Mobiles devices are 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Internet-enabled,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s allow to connect to NET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4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8D93-7286-4D54-94F2-52859B03C8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مستطيل 4"/>
          <p:cNvSpPr/>
          <p:nvPr/>
        </p:nvSpPr>
        <p:spPr>
          <a:xfrm>
            <a:off x="3530520" y="450864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w Cen MT Condensed"/>
                <a:ea typeface="Arial"/>
              </a:rPr>
              <a:t>Mobile computers 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16" name="صورة 5" descr="Mobile computers.png"/>
          <p:cNvPicPr/>
          <p:nvPr/>
        </p:nvPicPr>
        <p:blipFill>
          <a:blip r:embed="rId1"/>
          <a:stretch/>
        </p:blipFill>
        <p:spPr>
          <a:xfrm>
            <a:off x="2700360" y="1700280"/>
            <a:ext cx="32418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0E99-FFFB-4F71-A1B7-2235260F54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igned for single-player or multiplayer video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devic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ndheld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TV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Storag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rd Disks, CDs, DVDs and memory 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icrosoft's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 Xbox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lay station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5904000" y="4214880"/>
            <a:ext cx="3097080" cy="2188800"/>
            <a:chOff x="5904000" y="4214880"/>
            <a:chExt cx="3097080" cy="2188800"/>
          </a:xfrm>
        </p:grpSpPr>
        <p:pic>
          <p:nvPicPr>
            <p:cNvPr id="122" name="Picture 6" descr="xbox"/>
            <p:cNvPicPr/>
            <p:nvPr/>
          </p:nvPicPr>
          <p:blipFill>
            <a:blip r:embed="rId1"/>
            <a:stretch/>
          </p:blipFill>
          <p:spPr>
            <a:xfrm>
              <a:off x="5904000" y="4214880"/>
              <a:ext cx="1584720" cy="21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AutoShape 7"/>
            <p:cNvSpPr/>
            <p:nvPr/>
          </p:nvSpPr>
          <p:spPr>
            <a:xfrm>
              <a:off x="7487280" y="507888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Handheld controller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4" name="AutoShape 8"/>
            <p:cNvSpPr/>
            <p:nvPr/>
          </p:nvSpPr>
          <p:spPr>
            <a:xfrm>
              <a:off x="7487280" y="435924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Game console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H="1">
              <a:off x="7004880" y="46465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H="1">
              <a:off x="7211160" y="5583960"/>
              <a:ext cx="2757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</p:grp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4D28-B2D1-4D5F-BCFD-C18D574B60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Handheld game consol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Fit in one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controls, screen and speaker built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mmunicate wirelessly with other similar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llow users to listen to music, watch movies and connect to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intendo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Game Boy Mi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ps3psp_2007_psp_overview"/>
          <p:cNvPicPr/>
          <p:nvPr/>
        </p:nvPicPr>
        <p:blipFill>
          <a:blip r:embed="rId1"/>
          <a:stretch/>
        </p:blipFill>
        <p:spPr>
          <a:xfrm>
            <a:off x="6588000" y="4365720"/>
            <a:ext cx="2287800" cy="106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B359-E8FC-406C-98F2-12632939C5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pecial – purpose computer that functions as a component in a larger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ually are small &amp; have limited hard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unctions depending on the requirements of the product in which they re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me of them designed to improve your safety, security and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9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7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C5A5-2394-4E30-A574-8CDB714291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38" name="Picture 5" descr="tesla_touchscreen.jpg"/>
          <p:cNvPicPr/>
          <p:nvPr/>
        </p:nvPicPr>
        <p:blipFill>
          <a:blip r:embed="rId1"/>
          <a:stretch/>
        </p:blipFill>
        <p:spPr>
          <a:xfrm>
            <a:off x="2556000" y="2349360"/>
            <a:ext cx="4356000" cy="2903760"/>
          </a:xfrm>
          <a:prstGeom prst="rect">
            <a:avLst/>
          </a:prstGeom>
          <a:ln w="0">
            <a:noFill/>
          </a:ln>
        </p:spPr>
      </p:pic>
      <p:sp>
        <p:nvSpPr>
          <p:cNvPr id="139" name="مستطيل 5"/>
          <p:cNvSpPr/>
          <p:nvPr/>
        </p:nvSpPr>
        <p:spPr>
          <a:xfrm>
            <a:off x="1504080" y="1357200"/>
            <a:ext cx="5807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  <a:ea typeface="ＭＳ Ｐゴシック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8097-69D2-46C6-824E-99A620CC17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What Is A Comput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puter is an </a:t>
            </a: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electronic devic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5291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  <a:ea typeface="Arial"/>
              </a:rPr>
              <a:t>USER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  <a:ea typeface="Arial"/>
              </a:rPr>
              <a:t> is anyone who communicates with a computer or utilizes the information.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50080" y="4500720"/>
            <a:ext cx="8226000" cy="52056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ll according to a series of stor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truc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7959-60D2-4117-9919-FA7EB6675D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8480" cy="4525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Reli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nsist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2920" y="1356840"/>
            <a:ext cx="4038840" cy="471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Violation of Priv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Impact on Labor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Health Ri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FE86-A188-465B-97C3-268EF779D9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47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Data 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is a collection of unprocessed item, which can include text, numbers, images, audio and video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Information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conveys meaning and useful to people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Processing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Procedures that convert input data to output information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D9D4-3142-4850-8E70-C2A25DA09D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Computers read incoming data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input , process</a:t>
            </a: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 the data, and display outgoing information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898C-D780-480F-B868-51CB13F979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omponent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43000"/>
            <a:ext cx="87487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1-Hardware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- H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 group of machines in a comput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2-Software (programs) 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– S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instructions that tell the computer what to do and how to d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FBBE-545A-4D32-BB05-4B6E79AE6F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2-Software</a:t>
            </a: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- S/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The Components of Softw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There are  two categories of softwa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System Softwar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nsists of programs that control or maintain the operations of  the computer and its devices. It’s serves as interface between the user and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Application softwar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: consists of programs designed to assist users with personal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B195-792C-4D2E-A3A6-447438CAC0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 Extra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uper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ainfr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rv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ersonal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bile Computer  And Mobile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Game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Embedded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2DA9-C6E8-4E14-8F6D-55E6848395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uper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 the fastest, most powerful computers and the most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apable of processing more than 100 trillion instructions in a singl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They are used mostly in scientific and industrial research, by the government, and by very large organizations for controlling their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Weather forecasting, oil exploration, telephone network desig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1-16"/>
          <p:cNvPicPr/>
          <p:nvPr/>
        </p:nvPicPr>
        <p:blipFill>
          <a:blip r:embed="rId1"/>
          <a:stretch/>
        </p:blipFill>
        <p:spPr>
          <a:xfrm>
            <a:off x="5522760" y="1071720"/>
            <a:ext cx="3049920" cy="19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2:25:02Z</dcterms:created>
  <dc:creator>N. AlJaffan</dc:creator>
  <dc:description/>
  <cp:keywords/>
  <dc:language>en-US</dc:language>
  <cp:lastModifiedBy>Nawal</cp:lastModifiedBy>
  <dcterms:modified xsi:type="dcterms:W3CDTF">2014-02-05T20:46:14Z</dcterms:modified>
  <cp:revision>183</cp:revision>
  <dc:subject/>
  <dc:title>Introduction to Compu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ntentTypeId">
    <vt:lpwstr>0x010100CC6BB1F00AAFA34493B35981E2967FB1</vt:lpwstr>
  </property>
</Properties>
</file>