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EF10-B0BB-474D-B4F6-C31F8DCC7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73C1-FB1C-4EF3-90C8-5209C75D1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6AFB-18C0-4E9F-98CC-D0E8FA9F7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7618-2EE7-4D6C-938C-5EA13292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248A-672F-4382-9268-1DAAD548E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3B59-FA49-4663-89CD-CCB4AB69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009B-0CEE-406A-B5B5-60C24FC0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36B9-8215-43FD-8288-FD95200A6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DC9A-F7DC-471B-AEC9-670F839A7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074B-6968-4065-990A-1BE889FF9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DFDC-3EAA-43E7-98EB-DFB057D84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D3F3-E5CB-48FC-BD6C-F3BE0C37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74DD-5A4C-4B21-8BF1-2966083F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D557-6364-423A-A700-86BB8E5F4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8C10-748D-47D5-B57F-B19288E4B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58F5-0093-4191-AFFB-A71FCF77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80BA-77B2-4BAE-8621-3F36ED204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B39-2578-4B4C-A85E-AEAC0A1F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8B8-0BF0-475F-B7C1-C810EB1A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2C4-246F-44E1-82F2-B034D958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465-5810-4F2D-93FA-038FBFC2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45B-14A3-4F0F-93F8-44857EE4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8FF-E015-4567-A1CD-8AADB6CE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C63-446A-43A2-9A16-0806EB6B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796-D1DC-4859-B266-1AD7A2B8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31D-46F3-40F9-A76C-A96DC664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0CB-1DFD-4A40-BFB1-DBEEDC5E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559-0390-4B54-A229-C1A646D0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FA7-0AC6-4959-AB38-C4ADBBBF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AB4-CBB8-4730-AF43-A756A863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8C4-2B79-41CB-B3B0-1B883437D6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FF55-ECD3-4845-B3A8-D7D6AAC405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CEE9-BFF3-4B00-BB4E-8410E26310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0E11-3828-4891-AF75-527F9B4C57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AB0B-52BF-4C66-94BB-E8F04F59A0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8936-605D-4FF1-8B9A-17834B6DDE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7E40-A776-406D-AE29-7A475E868E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313D-8C30-48A9-BC16-A484C134D3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  <a:ea typeface="Arial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صورة 5" descr="Mobile computers.png"/>
          <p:cNvPicPr/>
          <p:nvPr/>
        </p:nvPicPr>
        <p:blipFill>
          <a:blip r:embed="rId1"/>
          <a:stretch/>
        </p:blipFill>
        <p:spPr>
          <a:xfrm>
            <a:off x="2700360" y="1700280"/>
            <a:ext cx="3241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03A9-386F-4E44-98F9-B6C488CCBA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2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BCA6-A8F7-449E-AA3D-297E69EA39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38CD-3390-4094-B9CB-76C58A24C7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0804-8886-46FA-BDAC-96A173DE8F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8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39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  <a:ea typeface="ＭＳ Ｐゴシック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332D-57AD-4ED1-BA33-AF9A1057AE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  <a:ea typeface="Arial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  <a:ea typeface="Arial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9218-2553-4282-97E7-3E730A1F24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1E85-DE1E-4AAF-BBA3-C565751BD4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673C-5A02-4724-818C-B20332B27B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1EEB-AFC7-4A7D-A9E1-7BD8DE51A2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73F-8E7D-4332-9FF8-E965B1F83E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582F-87BC-411F-ADD3-4C1616C198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2088-B421-4517-A6D2-AB4BB403C9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Nawal</cp:lastModifiedBy>
  <dcterms:modified xsi:type="dcterms:W3CDTF">2014-02-05T20:46:14Z</dcterms:modified>
  <cp:revision>183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