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7800" y="748800"/>
            <a:ext cx="500076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80A0-2F02-4F85-B11E-D4631DF03B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9E20-3B9E-4BC5-8FAE-2AAF4A7891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104C-1BAA-4303-AB9C-77F74AB3B3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CE3-DE29-4F23-801A-C098A98E1C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B381-7848-4297-B4FE-DFE142A4FA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180B-6863-47E7-BAC1-70C9E2F94E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3398-59DA-4C29-8668-68798E9225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F01-28CE-4121-9C7B-E72D6691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76D-2298-41E4-8151-1E0CE3DC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243-C0C1-4F5A-85F7-1CCE368A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B16-23BA-49CB-A6F7-C99872BB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F8AE-A4C1-446D-A97C-E4E0E7CA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8F2F-F5BA-41EA-A76A-F83F9B6A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1D02-7F73-4D6E-B8A7-378A1328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C520-43B7-4646-8B32-B96DF868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BD00-5614-44AE-928A-67458AAA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8FC2-4FF2-46B6-B8B1-194F5C9D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6AA9-87F8-4FA5-B58E-36B7A9C9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4AF-6DE3-4AED-B31F-90ED3119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C494-C862-42E2-8A54-2F1FC20B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018B-34FC-47E6-BCBB-524D0D11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C990-9779-4CF1-917B-2FCDA42F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336E-507F-4C4E-99FC-F47FF75A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4765-3E50-484D-B802-A2E63F0D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CDC-0E66-47DE-8E8F-6E5B3073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BB8-5510-4FA5-BC6E-039D38CB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55B-C8E0-41F1-8FAD-956F690C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DA0-5F65-44BF-9C60-0AD1FC02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2D9-16DC-4286-99BE-CAE0274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8FC-1FA4-4850-87B9-254B5499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780-BAE0-465B-802B-AE19264E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E8A9-B6E4-4E3F-A371-05D1727E4E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37C5-A777-4E93-8EF7-7A39EC7463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9360">
            <a:solidFill>
              <a:srgbClr val="ba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D72E-49BF-4937-9A7D-FB1FC54986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0CCD-AAAB-42EE-9D31-B63ECD68BF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dition.cnn.com/2009/WORLD/europe/10/03/uk.flights.delaye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-r9cYp3tT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B9C0-D5C1-4A6B-BCCF-F318D8BAC7E2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533520"/>
            <a:ext cx="8763120" cy="40384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hapter 1: Introduction to Software Engineer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fbfbf"/>
                </a:solidFill>
                <a:latin typeface="Calibri"/>
              </a:rPr>
              <a:t>Chapter 1 in Software Engineering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45480" r="0" b="30273"/>
          <a:stretch/>
        </p:blipFill>
        <p:spPr>
          <a:xfrm>
            <a:off x="228600" y="4648320"/>
            <a:ext cx="876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9AED-F551-433A-A5D7-732B920B96A0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Cris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9"/>
          <p:cNvSpPr/>
          <p:nvPr/>
        </p:nvSpPr>
        <p:spPr>
          <a:xfrm>
            <a:off x="0" y="1905120"/>
            <a:ext cx="5181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9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ample 3: 1992, London Ambulance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sidered the largest ambulance service in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verloaded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 was unable to keep track of the ambulances and their statuses. Sending multiple units to some locations and no units to other lo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nerates  many exceptions mess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6 de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London_Ambulance_on_Hamilton_Terrace_.jpg"/>
          <p:cNvPicPr/>
          <p:nvPr/>
        </p:nvPicPr>
        <p:blipFill>
          <a:blip r:embed="rId1"/>
          <a:stretch/>
        </p:blipFill>
        <p:spPr>
          <a:xfrm>
            <a:off x="5308560" y="26668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55C1-2F15-45E3-8BB5-008E9E358827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5"/>
          <p:cNvSpPr/>
          <p:nvPr/>
        </p:nvSpPr>
        <p:spPr>
          <a:xfrm>
            <a:off x="76320" y="1295280"/>
            <a:ext cx="8762760" cy="449604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refo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 well-disciplined approach to software development and management is necessary. This is called engineer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BF22-3BD8-442A-B4C6-756B246D5FD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Engine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term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oftware engineer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irst appeared in 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968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ATO Software Engineering Conference and was meant to provoke thought regarding what was then called 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“software crisis”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 An engineering discipline that is concern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h all aspects of software p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arly stag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system specification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ing the system after it has gone into 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” </a:t>
            </a:r>
            <a:r>
              <a:rPr b="0" i="1" lang="en-US" sz="1800" spc="-1" strike="noStrike">
                <a:solidFill>
                  <a:srgbClr val="d16349"/>
                </a:solidFill>
                <a:latin typeface="Calibri"/>
              </a:rPr>
              <a:t>Sommerville, pg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Diagram 9" descr=""/>
          <p:cNvPicPr/>
          <p:nvPr/>
        </p:nvPicPr>
        <p:blipFill>
          <a:blip r:embed="rId1"/>
          <a:stretch/>
        </p:blipFill>
        <p:spPr>
          <a:xfrm>
            <a:off x="304920" y="2060640"/>
            <a:ext cx="6095880" cy="38336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E459-418E-45DF-BBFD-1219CBE0F28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5"/>
          <p:cNvGrpSpPr/>
          <p:nvPr/>
        </p:nvGrpSpPr>
        <p:grpSpPr>
          <a:xfrm>
            <a:off x="5562720" y="4572000"/>
            <a:ext cx="2286000" cy="1447920"/>
            <a:chOff x="5562720" y="4572000"/>
            <a:chExt cx="2286000" cy="1447920"/>
          </a:xfrm>
        </p:grpSpPr>
        <p:grpSp>
          <p:nvGrpSpPr>
            <p:cNvPr id="137" name="Group 10"/>
            <p:cNvGrpSpPr/>
            <p:nvPr/>
          </p:nvGrpSpPr>
          <p:grpSpPr>
            <a:xfrm>
              <a:off x="5943600" y="4572000"/>
              <a:ext cx="1905120" cy="609480"/>
              <a:chOff x="5943600" y="4572000"/>
              <a:chExt cx="1905120" cy="609480"/>
            </a:xfrm>
          </p:grpSpPr>
          <p:sp>
            <p:nvSpPr>
              <p:cNvPr id="138" name="Oval 11"/>
              <p:cNvSpPr/>
              <p:nvPr/>
            </p:nvSpPr>
            <p:spPr>
              <a:xfrm>
                <a:off x="5943600" y="4572000"/>
                <a:ext cx="1905120" cy="609480"/>
              </a:xfrm>
              <a:prstGeom prst="ellipse">
                <a:avLst/>
              </a:prstGeom>
              <a:noFill/>
              <a:ln w="25560">
                <a:solidFill>
                  <a:srgbClr val="ba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4"/>
              <p:cNvSpPr/>
              <p:nvPr/>
            </p:nvSpPr>
            <p:spPr>
              <a:xfrm>
                <a:off x="6222960" y="4660920"/>
                <a:ext cx="13464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" rIns="10080" tIns="10080" bIns="100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System Document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13"/>
            <p:cNvGrpSpPr/>
            <p:nvPr/>
          </p:nvGrpSpPr>
          <p:grpSpPr>
            <a:xfrm>
              <a:off x="6019920" y="5410440"/>
              <a:ext cx="1828800" cy="609480"/>
              <a:chOff x="6019920" y="5410440"/>
              <a:chExt cx="1828800" cy="609480"/>
            </a:xfrm>
          </p:grpSpPr>
          <p:sp>
            <p:nvSpPr>
              <p:cNvPr id="141" name="Oval 14"/>
              <p:cNvSpPr/>
              <p:nvPr/>
            </p:nvSpPr>
            <p:spPr>
              <a:xfrm>
                <a:off x="6019920" y="5410440"/>
                <a:ext cx="1828800" cy="609480"/>
              </a:xfrm>
              <a:prstGeom prst="ellipse">
                <a:avLst/>
              </a:prstGeom>
              <a:noFill/>
              <a:ln w="25560">
                <a:solidFill>
                  <a:srgbClr val="ba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4"/>
              <p:cNvSpPr/>
              <p:nvPr/>
            </p:nvSpPr>
            <p:spPr>
              <a:xfrm>
                <a:off x="6288120" y="5499360"/>
                <a:ext cx="12924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" rIns="10080" tIns="10080" bIns="100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User Document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Straight Connector 17"/>
            <p:cNvSpPr/>
            <p:nvPr/>
          </p:nvSpPr>
          <p:spPr>
            <a:xfrm flipH="1">
              <a:off x="5562720" y="4875840"/>
              <a:ext cx="380880" cy="152280"/>
            </a:xfrm>
            <a:prstGeom prst="line">
              <a:avLst/>
            </a:prstGeom>
            <a:ln w="93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20"/>
            <p:cNvSpPr/>
            <p:nvPr/>
          </p:nvSpPr>
          <p:spPr>
            <a:xfrm flipH="1" flipV="1">
              <a:off x="5562720" y="5486040"/>
              <a:ext cx="457200" cy="228600"/>
            </a:xfrm>
            <a:prstGeom prst="line">
              <a:avLst/>
            </a:prstGeom>
            <a:ln w="93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7EBC-315F-466E-95BD-C6004CE0B76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ypes of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36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ajalla UI"/>
              </a:rPr>
              <a:t>Generic produc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nd-alone systems that are marketed and sold to any customer who wishes to buy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amples – PC software such as graphics programs, project management tools; CAD software; software for specific markets such as appointments systems for dent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of what the software should do is owned by the software developer and decisions on software change are made by the develop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ajalla UI"/>
              </a:rPr>
              <a:t>Customized or bespoke product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ftware that is commissioned by a specific customer to meet their own nee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amples – embedded control systems, air traffic control software, traffic monitoring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of what the software should do is owned by the customer for the software and they make decisions on software changes that are requi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EA3A-F19E-4CFE-BB41-F0C74C04412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ftware Engineering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s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Computer Sc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tent Placeholder 9"/>
          <p:cNvSpPr/>
          <p:nvPr/>
        </p:nvSpPr>
        <p:spPr>
          <a:xfrm>
            <a:off x="1523880" y="21337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uter science is no more about computers tha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astronomy is about telescopes.”  </a:t>
            </a:r>
            <a:r>
              <a:rPr b="0" i="1" lang="en-GB" sz="2000" spc="-1" strike="noStrike">
                <a:solidFill>
                  <a:srgbClr val="d16349"/>
                </a:solidFill>
                <a:latin typeface="Calibri"/>
              </a:rPr>
              <a:t>Edsger Dijk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Diagram 8" descr=""/>
          <p:cNvPicPr/>
          <p:nvPr/>
        </p:nvPicPr>
        <p:blipFill>
          <a:blip r:embed="rId2"/>
          <a:stretch/>
        </p:blipFill>
        <p:spPr>
          <a:xfrm>
            <a:off x="933480" y="4346640"/>
            <a:ext cx="74613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5759-FE01-436E-961E-4F1FB6DC5D3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ftware Engineering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s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Systems Engine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tent Placeholder 9"/>
          <p:cNvSpPr/>
          <p:nvPr/>
        </p:nvSpPr>
        <p:spPr>
          <a:xfrm>
            <a:off x="228600" y="1981080"/>
            <a:ext cx="8839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Systems Engineering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9"/>
              </a:spcBef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rdisciplinary engineering field (computer, software, and process eng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9"/>
              </a:spcBef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cuses on how complex engineering projects should be designed and man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Diagram 8" descr=""/>
          <p:cNvPicPr/>
          <p:nvPr/>
        </p:nvPicPr>
        <p:blipFill>
          <a:blip r:embed="rId1"/>
          <a:stretch/>
        </p:blipFill>
        <p:spPr>
          <a:xfrm>
            <a:off x="858960" y="3956040"/>
            <a:ext cx="74563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E7B7-AEF9-4967-864A-B9C592734D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981080"/>
          <a:ext cx="8089920" cy="4511880"/>
        </p:xfrm>
        <a:graphic>
          <a:graphicData uri="http://schemas.openxmlformats.org/drawingml/2006/table">
            <a:tbl>
              <a:tblPr/>
              <a:tblGrid>
                <a:gridCol w="3463920"/>
                <a:gridCol w="4626000"/>
              </a:tblGrid>
              <a:tr h="47304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70956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softwar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uter programs and associated documentation. Software products may be developed for a particular customer or may be developed for a general mark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70848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attributes of good softwar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software should deliver the required functionality and performance to the user and should be maintainable, dependable and usab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software engineer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ware engineering is an engineering discipline that is concerned with all aspects of software prod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49536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fundamental software engineering activiti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ware specification, software development, software validation and software evolu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920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difference between software engineering and computer scien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uter science focuses on theory and fundamentals; software engineering is concerned with the practicalities of developing and delivering useful softwa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92160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difference between software engineering and system engineer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engineering is concerned with all aspects of computer-based systems development including hardware, software and process engineering. Software engineering is part of this more general proc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Content Placeholder 5"/>
          <p:cNvSpPr/>
          <p:nvPr/>
        </p:nvSpPr>
        <p:spPr>
          <a:xfrm>
            <a:off x="15228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requently asked questions about 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97EF-6B27-40EE-8EE6-5DBA606F83D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5"/>
          <p:cNvSpPr/>
          <p:nvPr/>
        </p:nvSpPr>
        <p:spPr>
          <a:xfrm>
            <a:off x="15228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requently asked questions about 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133720"/>
          <a:ext cx="8229600" cy="4271760"/>
        </p:xfrm>
        <a:graphic>
          <a:graphicData uri="http://schemas.openxmlformats.org/drawingml/2006/table">
            <a:tbl>
              <a:tblPr/>
              <a:tblGrid>
                <a:gridCol w="3487680"/>
                <a:gridCol w="4741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49536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key challenges facing software engineer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ing with increasing diversity, demands for reduced delivery times and developing trustworthy softwa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70848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costs of software engineer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ughly 60% of software costs are development costs, 40% are testing costs. For custom software, evolution costs often exceed development cos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56168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best software engineering techniques and method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le all software projects have to be professionally managed and developed, different techniques are appropriate for different types of system. For example, games should always be developed using a series of prototypes whereas safety critical control systems require a complete and analyzable specification to be developed. You can’t, therefore, say that one method is better than anoth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13472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ifferences has the web made to software engineer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eb has led to the availability of software services and the possibility of developing highly distributed service-based systems. Web-based systems development has led to important advances in programming languages and software reu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E4C6-66C9-4F79-9981-ED656755636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a Software Proces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and results that produce a software 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2895480"/>
          <a:ext cx="8229600" cy="3276720"/>
        </p:xfrm>
        <a:graphic>
          <a:graphicData uri="http://schemas.openxmlformats.org/drawingml/2006/table">
            <a:tbl>
              <a:tblPr/>
              <a:tblGrid>
                <a:gridCol w="2795760"/>
                <a:gridCol w="54338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W Process Activit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s going on there?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the customer ne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constraint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 &amp; programm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whether it meets requirem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ifications (e.g. customer/market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9C71-B502-48D6-8B16-2FD04CF68C9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arning Objectiv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is software engineer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y is software engineering importan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667F-BC05-4D28-9757-53AF0A66F58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a Software Process 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Model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tent Placeholder 9"/>
          <p:cNvSpPr/>
          <p:nvPr/>
        </p:nvSpPr>
        <p:spPr>
          <a:xfrm>
            <a:off x="15228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ption of the software process that represents one view, such as the activities, data or roles of peopl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3225960"/>
          <a:ext cx="8229600" cy="2962080"/>
        </p:xfrm>
        <a:graphic>
          <a:graphicData uri="http://schemas.openxmlformats.org/drawingml/2006/table">
            <a:tbl>
              <a:tblPr/>
              <a:tblGrid>
                <a:gridCol w="2590920"/>
                <a:gridCol w="5638680"/>
              </a:tblGrid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 of view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cus on…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988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f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= human act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input, output, and dependenci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f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= transformations of inform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he input is transformed into outpu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/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role of people involved in each step of the proces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AF65-700C-4EC1-A572-606B4B6655B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Process Mod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2444760"/>
          <a:ext cx="8382240" cy="334656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838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Waterfall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Iterative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Component-Based Software Engineering CB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25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assembled form existing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87440" y="3614760"/>
            <a:ext cx="2639880" cy="164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3352680" y="3657600"/>
            <a:ext cx="24321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5A6-E866-4C81-8F83-83B09163C31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Cost of Software Engine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tent Placeholder 9"/>
          <p:cNvSpPr/>
          <p:nvPr/>
        </p:nvSpPr>
        <p:spPr>
          <a:xfrm>
            <a:off x="228600" y="205740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u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of software being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generic approach has a different profile of cost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oughly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0%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costs are development costs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40%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re testing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ustom softwar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evolution costs often exceed development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3519-2963-4116-984C-7EC4348D903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st distribu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Custom software development (Bespok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56600" y="1905120"/>
            <a:ext cx="2555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Softwar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Cost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Cost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Software development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9"/>
          <p:cNvCxnSpPr/>
          <p:nvPr/>
        </p:nvCxnSpPr>
        <p:spPr>
          <a:xfrm>
            <a:off x="1828440" y="2057400"/>
            <a:ext cx="1600920" cy="2160"/>
          </a:xfrm>
          <a:prstGeom prst="straightConnector1">
            <a:avLst/>
          </a:prstGeom>
          <a:ln w="9360">
            <a:solidFill>
              <a:srgbClr val="415b5c"/>
            </a:solidFill>
            <a:miter/>
            <a:tailEnd len="med" type="arrow" w="med"/>
          </a:ln>
        </p:spPr>
      </p:cxnSp>
      <p:cxnSp>
        <p:nvCxnSpPr>
          <p:cNvPr id="190" name="Straight Arrow Connector 10"/>
          <p:cNvCxnSpPr/>
          <p:nvPr/>
        </p:nvCxnSpPr>
        <p:spPr>
          <a:xfrm>
            <a:off x="1828440" y="2286000"/>
            <a:ext cx="1600920" cy="2160"/>
          </a:xfrm>
          <a:prstGeom prst="straightConnector1">
            <a:avLst/>
          </a:prstGeom>
          <a:ln w="9360">
            <a:solidFill>
              <a:srgbClr val="415b5c"/>
            </a:solidFill>
            <a:miter/>
            <a:tailEnd len="med" type="arrow" w="med"/>
          </a:ln>
        </p:spPr>
      </p:cxnSp>
      <p:cxnSp>
        <p:nvCxnSpPr>
          <p:cNvPr id="191" name="Straight Arrow Connector 11"/>
          <p:cNvCxnSpPr/>
          <p:nvPr/>
        </p:nvCxnSpPr>
        <p:spPr>
          <a:xfrm>
            <a:off x="1828440" y="2590920"/>
            <a:ext cx="1600920" cy="2160"/>
          </a:xfrm>
          <a:prstGeom prst="straightConnector1">
            <a:avLst/>
          </a:prstGeom>
          <a:ln w="9360">
            <a:solidFill>
              <a:srgbClr val="415b5c"/>
            </a:solidFill>
            <a:miter/>
            <a:tailEnd len="med" type="arrow" w="med"/>
          </a:ln>
        </p:spPr>
      </p:cxnSp>
      <p:cxnSp>
        <p:nvCxnSpPr>
          <p:cNvPr id="192" name="Straight Arrow Connector 12"/>
          <p:cNvCxnSpPr/>
          <p:nvPr/>
        </p:nvCxnSpPr>
        <p:spPr>
          <a:xfrm>
            <a:off x="2819160" y="2895120"/>
            <a:ext cx="610200" cy="2520"/>
          </a:xfrm>
          <a:prstGeom prst="straightConnector1">
            <a:avLst/>
          </a:prstGeom>
          <a:ln w="9360">
            <a:solidFill>
              <a:srgbClr val="415b5c"/>
            </a:solidFill>
            <a:miter/>
            <a:tailEnd len="med" type="arrow" w="med"/>
          </a:ln>
        </p:spPr>
      </p:cxnSp>
      <p:graphicFrame>
        <p:nvGraphicFramePr>
          <p:cNvPr id="193" name=""/>
          <p:cNvGraphicFramePr/>
          <p:nvPr/>
        </p:nvGraphicFramePr>
        <p:xfrm>
          <a:off x="3657600" y="1884240"/>
          <a:ext cx="5257800" cy="123984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960480"/>
                <a:gridCol w="1050840"/>
                <a:gridCol w="1052640"/>
                <a:gridCol w="1050840"/>
              </a:tblGrid>
              <a:tr h="2811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Waterfall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d1d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61898a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415b5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Integration and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657600" y="3200400"/>
          <a:ext cx="5257800" cy="123336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960480"/>
                <a:gridCol w="1325520"/>
                <a:gridCol w="777960"/>
                <a:gridCol w="1050840"/>
              </a:tblGrid>
              <a:tr h="2746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Iterative 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d1d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415b5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Iterative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ystem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657600" y="4398840"/>
          <a:ext cx="5257800" cy="1233720"/>
        </p:xfrm>
        <a:graphic>
          <a:graphicData uri="http://schemas.openxmlformats.org/drawingml/2006/table">
            <a:tbl>
              <a:tblPr/>
              <a:tblGrid>
                <a:gridCol w="914400"/>
                <a:gridCol w="1219320"/>
                <a:gridCol w="457200"/>
                <a:gridCol w="1616040"/>
                <a:gridCol w="1050840"/>
              </a:tblGrid>
              <a:tr h="274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Component-based Software Engine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d1d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415b5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Integration and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657600" y="5624640"/>
          <a:ext cx="5257800" cy="1257120"/>
        </p:xfrm>
        <a:graphic>
          <a:graphicData uri="http://schemas.openxmlformats.org/drawingml/2006/table">
            <a:tbl>
              <a:tblPr/>
              <a:tblGrid>
                <a:gridCol w="1447920"/>
                <a:gridCol w="685800"/>
                <a:gridCol w="1218960"/>
                <a:gridCol w="1067040"/>
                <a:gridCol w="838080"/>
              </a:tblGrid>
              <a:tr h="274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Development and  evolution costs for  long-lifetime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6189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ystem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ystem evol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728B-3607-4291-9764-875C8159258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st distribu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Generic software developm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1752480" y="464832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5b5c"/>
                </a:solidFill>
                <a:latin typeface="Calibri"/>
              </a:rPr>
              <a:t>Product development cos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38080" y="3352680"/>
          <a:ext cx="7040520" cy="123048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533520"/>
                <a:gridCol w="1127160"/>
                <a:gridCol w="549360"/>
                <a:gridCol w="496800"/>
                <a:gridCol w="380880"/>
                <a:gridCol w="874800"/>
                <a:gridCol w="685800"/>
                <a:gridCol w="1249200"/>
              </a:tblGrid>
              <a:tr h="304920">
                <a:tc gridSpan="3">
                  <a:txBody>
                    <a:bodyPr l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r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d1d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6189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6189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 gridSpan="2">
                  <a:txBody>
                    <a:bodyPr l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ystem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BA02-7278-4FC6-8D6C-00EFB102DAF0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CA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5b5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415b5c"/>
                </a:solidFill>
                <a:latin typeface="Calibri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mputer </a:t>
            </a:r>
            <a:r>
              <a:rPr b="1" lang="en-US" sz="2800" spc="-1" strike="noStrike">
                <a:solidFill>
                  <a:srgbClr val="415b5c"/>
                </a:solidFill>
                <a:latin typeface="Calibri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d </a:t>
            </a:r>
            <a:r>
              <a:rPr b="1" lang="en-US" sz="2800" spc="-1" strike="noStrike">
                <a:solidFill>
                  <a:srgbClr val="415b5c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ftware </a:t>
            </a:r>
            <a:r>
              <a:rPr b="1" lang="en-US" sz="2800" spc="-1" strike="noStrike">
                <a:solidFill>
                  <a:srgbClr val="415b5c"/>
                </a:solidFill>
                <a:latin typeface="Calibri"/>
              </a:rPr>
              <a:t>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ginee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b5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5b5c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Programs that suppor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77840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Requirements analy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77840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System model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77840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Debugg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77840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Test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77840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1"/>
          <a:stretch/>
        </p:blipFill>
        <p:spPr>
          <a:xfrm>
            <a:off x="5105520" y="2971800"/>
            <a:ext cx="3708360" cy="2900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2874960" cy="1447920"/>
          </a:xfrm>
          <a:prstGeom prst="rect">
            <a:avLst/>
          </a:prstGeom>
          <a:ln w="9360">
            <a:solidFill>
              <a:srgbClr val="415b5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7DB8-7331-4DE9-B724-ED2BB70DCB10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ttributes of good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ctional attributes (performance; what the system do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5b5c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functional attributes (quality; how the system does 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3546360"/>
          <a:ext cx="8153280" cy="2397240"/>
        </p:xfrm>
        <a:graphic>
          <a:graphicData uri="http://schemas.openxmlformats.org/drawingml/2006/table">
            <a:tbl>
              <a:tblPr/>
              <a:tblGrid>
                <a:gridCol w="2538360"/>
                <a:gridCol w="5614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 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tion qualities such as Testability, extensibil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ability, security, safe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 time, processing time, memory utiliz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 to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ear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w to use the system by target user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fficient to us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ystem by users to accomplish a tas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atisfy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use by intended us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7AE7-C6EB-4BE1-AEEF-74CEDC8D0CE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Content Placeholder 9"/>
          <p:cNvSpPr/>
          <p:nvPr/>
        </p:nvSpPr>
        <p:spPr>
          <a:xfrm>
            <a:off x="228600" y="1981080"/>
            <a:ext cx="8763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key attributes fo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2666880"/>
          <a:ext cx="8382240" cy="384012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active g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ing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monitor in an ICU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ers, score, scenes, the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ent accounts, stocks bonds, money transf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rt rate, temperature, blood pressu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1218960" cy="609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3584520" y="4724280"/>
            <a:ext cx="1901880" cy="689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3578400" y="5334120"/>
            <a:ext cx="1957320" cy="536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4"/>
          <a:stretch/>
        </p:blipFill>
        <p:spPr>
          <a:xfrm>
            <a:off x="3584520" y="5870520"/>
            <a:ext cx="1901880" cy="47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5"/>
          <a:stretch/>
        </p:blipFill>
        <p:spPr>
          <a:xfrm>
            <a:off x="4803840" y="4194000"/>
            <a:ext cx="834840" cy="50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6"/>
          <a:srcRect l="10622" t="0" r="6882" b="0"/>
          <a:stretch/>
        </p:blipFill>
        <p:spPr>
          <a:xfrm>
            <a:off x="685800" y="4191120"/>
            <a:ext cx="2286000" cy="207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7"/>
          <a:stretch/>
        </p:blipFill>
        <p:spPr>
          <a:xfrm>
            <a:off x="6172200" y="4343400"/>
            <a:ext cx="23065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3D34-AE58-404C-8E1C-9434CC652BF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allenges facing software engine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8600" y="2286000"/>
          <a:ext cx="8686800" cy="4267080"/>
        </p:xfrm>
        <a:graphic>
          <a:graphicData uri="http://schemas.openxmlformats.org/drawingml/2006/table">
            <a:tbl>
              <a:tblPr/>
              <a:tblGrid>
                <a:gridCol w="1752480"/>
                <a:gridCol w="3810240"/>
                <a:gridCol w="3124080"/>
              </a:tblGrid>
              <a:tr h="56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Chall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noFill/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5760">
                      <a:solidFill>
                        <a:srgbClr val="88a1ad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oftware needs to 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terogene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>
                      <a:noFill/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omputers, different platforms, different support syste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5760">
                      <a:solidFill>
                        <a:srgbClr val="88a1ad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>
                      <a:noFill/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e with this variabil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>
                      <a:noFill/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</a:tr>
              <a:tr h="137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8a1a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es are more responsive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upporting software needs to evolve as rapid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5760">
                      <a:solidFill>
                        <a:srgbClr val="88a1a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delivered in shorter time without compromising qual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8a1ad"/>
                      </a:solidFill>
                    </a:lnR>
                    <a:lnT>
                      <a:noFill/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ware is a part of many aspects of our lives (work, study, leisu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5760">
                      <a:solidFill>
                        <a:srgbClr val="88a1a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 that it can be trusted by us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7AF6-1F31-44FD-B0C9-D2BB9C8A267D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ontent Placeholder 9"/>
          <p:cNvSpPr/>
          <p:nvPr/>
        </p:nvSpPr>
        <p:spPr>
          <a:xfrm>
            <a:off x="38088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304920" y="199692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PRESS&amp;SUN-BULLETIN, The Binghamton Press Co., Binghamton, NY, October 1,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Software Hell: Is there a way out?”, BUSINESS WEEK, December 6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IEEE Standards Collection: Software Engineering, IEEE standard 610.12-1990, IEEE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Sommerville, Ian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Software Engineer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”,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ajalla U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 edition, Addison-Wesl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70A8-20C6-4003-8D55-F712CB7B57B5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By the end of this chapter, you will.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derstand what software engineering 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derstand why software engineering is importa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 answers to key questions related to the software engineering discipli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ontent Placeholder 5"/>
          <p:cNvSpPr/>
          <p:nvPr/>
        </p:nvSpPr>
        <p:spPr>
          <a:xfrm>
            <a:off x="5334120" y="457200"/>
            <a:ext cx="3657600" cy="60958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F76E-5450-46D6-A105-9DD899D7222D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Areej\Pictures\1B4067.hires.jpg"/>
          <p:cNvPicPr/>
          <p:nvPr/>
        </p:nvPicPr>
        <p:blipFill>
          <a:blip r:embed="rId1"/>
          <a:stretch/>
        </p:blipFill>
        <p:spPr>
          <a:xfrm>
            <a:off x="5450040" y="573120"/>
            <a:ext cx="3425760" cy="5864040"/>
          </a:xfrm>
          <a:prstGeom prst="rect">
            <a:avLst/>
          </a:prstGeom>
          <a:ln w="0">
            <a:noFill/>
          </a:ln>
        </p:spPr>
      </p:pic>
      <p:sp>
        <p:nvSpPr>
          <p:cNvPr id="102" name="Content Placeholder 5"/>
          <p:cNvSpPr/>
          <p:nvPr/>
        </p:nvSpPr>
        <p:spPr>
          <a:xfrm>
            <a:off x="304920" y="457200"/>
            <a:ext cx="4876560" cy="60958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k about all the devices and systems that you encounter in your everyday life which have software controlling th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as many as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943600" y="220968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Virtually all countries depend on complex computer-based systems</a:t>
            </a: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503D-1301-4430-A4EF-124621A61F5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y is Software Engineering importa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ystems need a disciplined approach for designing, developing and managing th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time-cost-quality-triangle.jpg"/>
          <p:cNvPicPr/>
          <p:nvPr/>
        </p:nvPicPr>
        <p:blipFill>
          <a:blip r:embed="rId1"/>
          <a:stretch/>
        </p:blipFill>
        <p:spPr>
          <a:xfrm>
            <a:off x="2209680" y="3352680"/>
            <a:ext cx="46738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F172-19F9-4A70-B92B-70E045445E0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Development Cri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alibri"/>
                <a:ea typeface="Majalla UI"/>
              </a:rPr>
              <a:t>Projects were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La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Over budg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Unreliabl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Difficult to mainta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Performed poorly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55FC-25A4-441E-A7A1-931C16EF65BF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295280"/>
            <a:ext cx="8763120" cy="335304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errors….</a:t>
            </a: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the c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Majalla UI"/>
              </a:rPr>
              <a:t>Errors in computer software can have devastating effec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6A09-1315-4716-AC8D-854AD652A8A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Cris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9"/>
          <p:cNvSpPr/>
          <p:nvPr/>
        </p:nvSpPr>
        <p:spPr>
          <a:xfrm>
            <a:off x="0" y="1905120"/>
            <a:ext cx="5867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ample 1: 2009,Computer glitch delays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turday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October 2009-London, England (CN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zens of flights from the UK were delayed Saturday after a glitch in an air traffic control system in Scotland, but the problem was fixed a few hour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gency said it reverted to backup equipment as engineering worked on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oblem did not create a safety issue but could cause delays in fl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 more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3d6"/>
                </a:solidFill>
                <a:uFillTx/>
                <a:latin typeface="Calibri"/>
                <a:hlinkClick r:id="rId1"/>
              </a:rPr>
              <a:t>http://edition.cnn.com/2009/WORLD/europe/10/03/uk.flights.delayed</a:t>
            </a:r>
            <a:r>
              <a:rPr b="0" lang="en-US" sz="1800" spc="-1" strike="noStrike">
                <a:solidFill>
                  <a:srgbClr val="646b86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618125-virgin-blue-flight-chaos.jpg"/>
          <p:cNvPicPr/>
          <p:nvPr/>
        </p:nvPicPr>
        <p:blipFill>
          <a:blip r:embed="rId2"/>
          <a:stretch/>
        </p:blipFill>
        <p:spPr>
          <a:xfrm>
            <a:off x="5943600" y="2971800"/>
            <a:ext cx="3125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3739-F69C-4C3D-9DB9-5EEBD83F32FE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Cris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ontent Placeholder 9"/>
          <p:cNvSpPr/>
          <p:nvPr/>
        </p:nvSpPr>
        <p:spPr>
          <a:xfrm>
            <a:off x="0" y="1905120"/>
            <a:ext cx="5410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ample 2: Ariane 5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uropean Space Agency  spent 10 years and $7 billion to produce Ariane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rash after 36.7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used by an overflow error.  Trying to store a 64-bit number into a 16-bit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ch the video: </a:t>
            </a:r>
            <a:r>
              <a:rPr b="0" lang="en-US" sz="1800" spc="-1" strike="noStrike" u="sng">
                <a:solidFill>
                  <a:srgbClr val="00a3d6"/>
                </a:solidFill>
                <a:uFillTx/>
                <a:latin typeface="Calibri"/>
                <a:ea typeface="Arial"/>
                <a:hlinkClick r:id="rId1"/>
              </a:rPr>
              <a:t>http://www.youtube.com/watch?v=z-r9cYp3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ariane"/>
          <p:cNvPicPr/>
          <p:nvPr/>
        </p:nvPicPr>
        <p:blipFill>
          <a:blip r:embed="rId2"/>
          <a:stretch/>
        </p:blipFill>
        <p:spPr>
          <a:xfrm>
            <a:off x="5715000" y="2057400"/>
            <a:ext cx="3133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10:49Z</dcterms:created>
  <dc:creator>Areej</dc:creator>
  <dc:description/>
  <dc:language>en-US</dc:language>
  <cp:lastModifiedBy>Nora</cp:lastModifiedBy>
  <dcterms:modified xsi:type="dcterms:W3CDTF">2014-01-29T05:43:05Z</dcterms:modified>
  <cp:revision>138</cp:revision>
  <dc:subject/>
  <dc:title>Slide 1</dc:title>
</cp:coreProperties>
</file>